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C67-8C2B-4F62-AAA8-632C3B46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068-5763-49E3-840C-C8531021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79B-D264-4352-B4CF-D6C60646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723-2FEC-4129-B3A6-F564835C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F0181-78DF-4317-8AA4-81F08A2E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B093C-9CBE-471F-BDDE-30D4CC5E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16611-FE87-4876-B189-12F80461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9F18-9A9D-46A5-A32C-A8DFC9D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5F34F-943D-41DE-A2CE-A08C26C4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55BC3-8BED-41B8-B455-3540EB77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68499-2E5A-46C7-AC0F-E6E3E80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1AB-5633-462D-B927-11C2FD82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3F918-AF37-4AF2-A465-A44CAF42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8F3E7-38C1-449B-AD7F-3EBCC551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E36FD-A7EE-4EC9-AEAD-D090225D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A35E8-6368-4C4F-92DE-8CB2CD32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B8DA-86D2-4F5E-8FC1-0392FF2B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661D-D3EB-436B-A30F-7103660B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759A-F54F-40D2-8866-EBA069DA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2CD9-0C52-4D86-8C96-BAE084A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62EF-A539-4F21-AE85-DFDA4A60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7338-223E-4860-994E-8CB605B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45C-37D5-4749-BE13-3F3A43FC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DCBD-D8BC-4FD2-99BA-3FC3D158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3568-A696-4BC7-A1AD-B160BAE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0159-3BD2-40EC-BF1C-F837175B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D42D6-3409-4A10-B673-933A1CD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1CC52-C76F-444C-881D-6B175965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4238-B448-4E17-A874-FAE34FDB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9D08-D837-499A-A5E6-EAFFB833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B41BB-AC44-4DDD-B650-4648CB68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305B8-8CA2-48B2-B7B4-5C1ECF6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E8CD8-E7E3-4538-9823-C11B7377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B1D-BC15-4B23-B056-EA39375F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75BC2-5E48-49BD-9A09-F8349DC2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D701F-A3B5-42F5-8183-D6CCFA3D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98710-7BBD-49CF-A210-4043345D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92496-5DB2-411A-B862-CE98C602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2A25E-F41C-474B-B526-A05CC108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1D0D0-E85E-42E0-AD9D-7CF5AAA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1CDD8-246B-47B0-8F94-9846CF1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9781A-1AB0-428C-A365-6E18569C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1ADAA1-109C-4648-AE5A-8BE460BD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33B-109B-45FB-B4FE-2C84431C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70B-AF9A-42E8-A752-A29788BA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ACA-8820-49BC-9641-F32898C4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2C0-6442-4042-8982-0B1A7DD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BD2-6EF1-4F89-8227-F2C8D3D6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6F0-4C71-404F-AC7E-E1866B8F39B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E37B-2FCA-4300-8737-87A06D0FCEC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93F7-E3C5-459A-A80C-ACA6F4E5CC6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8B29-91D4-4B61-BA06-853ED2F814B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для Ирен 3"/>
          <p:cNvPicPr/>
          <p:nvPr/>
        </p:nvPicPr>
        <p:blipFill>
          <a:blip r:embed="rId1"/>
          <a:stretch/>
        </p:blipFill>
        <p:spPr>
          <a:xfrm>
            <a:off x="2916360" y="1700280"/>
            <a:ext cx="3743280" cy="487368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1042920" y="165240"/>
            <a:ext cx="7918560" cy="1809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Цель работы: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Познакомиться с православными духовными песнопениями, показать, как с помощью музыки можно приобщиться к православной культур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Задачи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1. Выявить проблемы проекта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2. Собрать необходимую информацию по теме проекта.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3. Провести анкетирование, беседы для реализации проекта.  4. Публичное выступление с теоретической частью проект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Проектным продуктом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является один из способов приобщения людей к православному искусству. Этот проект поможет достичь цель проекта, так как мы предложим удобную схему поэтапного знакомства с православной культурой благодаря музыкальным источника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Нравятся ли тебе уроки ОПК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Были ли у вашего класса экскурсии в храм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Вы слушали православную музыку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Как лучше знакомиться с православной музыко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) учитель просто рассказывает о музык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) учитель включает аудиозапись после рассказ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) учитель привел вас на концерт духовной музыки в          концертный за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) учитель привел вас в храм во время службы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5.Нужны ли уроки ОПК?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1590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Объект 3" descr=""/>
          <p:cNvPicPr/>
          <p:nvPr/>
        </p:nvPicPr>
        <p:blipFill>
          <a:blip r:embed="rId1"/>
          <a:stretch/>
        </p:blipFill>
        <p:spPr>
          <a:xfrm>
            <a:off x="406440" y="1473120"/>
            <a:ext cx="8331120" cy="4673520"/>
          </a:xfrm>
          <a:prstGeom prst="rect">
            <a:avLst/>
          </a:prstGeom>
          <a:ln w="0">
            <a:noFill/>
          </a:ln>
        </p:spPr>
      </p:pic>
      <p:pic>
        <p:nvPicPr>
          <p:cNvPr id="177" name="Заголовок 2" descr=""/>
          <p:cNvPicPr/>
          <p:nvPr/>
        </p:nvPicPr>
        <p:blipFill>
          <a:blip r:embed="rId2"/>
          <a:stretch/>
        </p:blipFill>
        <p:spPr>
          <a:xfrm>
            <a:off x="457200" y="30240"/>
            <a:ext cx="8229600" cy="1590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оставе хора 6 человек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се члены хора имеют высшее музыкальное образова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храм привела вера и любовь к духовной музык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ктический опыт пришел в ходе служ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Хор выступает с благотворительными концертами в районе, город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68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G:\проект\СКРИН МАМА.jpg"/>
          <p:cNvPicPr/>
          <p:nvPr/>
        </p:nvPicPr>
        <p:blipFill>
          <a:blip r:embed="rId2"/>
          <a:stretch/>
        </p:blipFill>
        <p:spPr>
          <a:xfrm>
            <a:off x="1714680" y="152388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200560" cy="3519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324000" y="30240"/>
            <a:ext cx="8508960" cy="159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G:\проект\я3.jpg"/>
          <p:cNvPicPr/>
          <p:nvPr/>
        </p:nvPicPr>
        <p:blipFill>
          <a:blip r:embed="rId2"/>
          <a:stretch/>
        </p:blipFill>
        <p:spPr>
          <a:xfrm>
            <a:off x="1187280" y="1341360"/>
            <a:ext cx="6762960" cy="5400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06:56Z</dcterms:created>
  <dc:creator>Ирэн</dc:creator>
  <dc:description/>
  <dc:language>en-US</dc:language>
  <cp:lastModifiedBy>Ирэна</cp:lastModifiedBy>
  <dcterms:modified xsi:type="dcterms:W3CDTF">2012-01-23T15:07:23Z</dcterms:modified>
  <cp:revision>19</cp:revision>
  <dc:subject/>
  <dc:title>Музыкальное искусство как способ приобщения к православной культуре</dc:title>
</cp:coreProperties>
</file>