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0.jpeg" ContentType="image/jpeg"/>
  <Override PartName="/ppt/media/image5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D007-9528-466A-8F88-05A3F6B86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CA24-7080-499B-986F-153932812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2148-74A6-4352-8DE1-5E95408BD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2C56-6207-4AB4-A396-89B9FABEB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CD14C9-8168-4CC1-9EB5-E83C6C558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4AF695-479C-44BA-8900-C146BBED7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7E80B3-5A0A-41B7-BFCF-8B18D33BA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A0DA73-6A9B-4A7E-81BF-D1E8AC19D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9FDFEC-CD67-4D4D-A1AC-83F2DB3D3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0E5D8B-33B8-4F46-A654-DF1A741DE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82CE96-13CC-4823-BC9B-0A2AD1FEF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9943-73EF-446A-AFFE-5032DE9D2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B37614-D5D6-48EE-8FBC-2C3C7B86D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66BFA0-A173-4D0A-82FB-E4D9DB434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9260FF-1208-4EB2-A5A4-9C2815F5A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A70AEA-0697-42FD-88E3-39CBF9691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2F1CEB-132B-41EC-B70C-BE605C654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6AAE4D-1782-494B-8F81-26675007E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2851EF-F80F-40F5-8142-26ECCFF35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732A4E-1BCE-4A7F-85B8-7DF81ACC9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04E098-8D37-4CF6-9A0E-A6FA1BC66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6E145B-E551-459C-9E36-83FFDB248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82B1-EAC7-406F-A3F1-3376FD420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63820A-1B8D-440C-BD20-CEBEAB5DD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A467C6-C22E-4DE3-ADBD-F69BAB004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36A76A-9897-4D12-9E1D-54365DD57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414B34-EF57-421F-A2FE-3744556D5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AB44DE-0FF3-4A26-B714-CC11D11D3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F92163-08CC-40A6-BBBE-D3577E3F0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C0D695-9A88-473F-BA01-16D085FD7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6CC0DC5-5329-48B1-B304-5044DB495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BAB56D4-D376-47D1-B3A8-6C7BAEA05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8A7AB30-7A7B-4A9C-99C0-67253E3D2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1FCF-E98B-4FAE-B6B4-B7390F3A4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073B018-2DDD-430E-9663-5E7F401D4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B06A0DF-5823-46C4-BF3F-C979F42EE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4BA7771-3B37-4B64-9D1D-4A23618D6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94419F1-E5DD-4C01-BD2D-43FC78594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D43894C-C57A-4B3D-BE56-E0E0E1086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7A829D0-67FE-457F-92EB-C5D0EF546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DB2084C-5EAF-4E37-AE15-76B0D79CB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218DFC1-A247-4937-8649-F80751523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3BA471A-FBA5-4872-BA8D-EAD62578A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8FC0-5094-483A-A6EE-FDAA92CB5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B368-8D37-42B7-90CB-8BE7FBCB2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4654-A4D5-4BC8-B67D-541B06DCD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258A-23CA-4028-B0D5-8BAB5A3D7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5905-AE84-4BBA-874E-BE9080A5B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17BE4-9027-46C7-9CF9-50FBC0903A55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ED240-FA73-466B-BD02-7ADDF0F69736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B33D7-6B3F-4B2E-9951-DF3C0E2DAFCB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3C374-E7A0-48FE-AEFA-34F6A27A9E2D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для Ирен 3"/>
          <p:cNvPicPr/>
          <p:nvPr/>
        </p:nvPicPr>
        <p:blipFill>
          <a:blip r:embed="rId1"/>
          <a:stretch/>
        </p:blipFill>
        <p:spPr>
          <a:xfrm>
            <a:off x="2916360" y="1700280"/>
            <a:ext cx="3743280" cy="4873680"/>
          </a:xfrm>
          <a:prstGeom prst="rect">
            <a:avLst/>
          </a:prstGeom>
          <a:ln w="0">
            <a:noFill/>
          </a:ln>
        </p:spPr>
      </p:pic>
      <p:pic>
        <p:nvPicPr>
          <p:cNvPr id="171" name="Заголовок 1" descr=""/>
          <p:cNvPicPr/>
          <p:nvPr/>
        </p:nvPicPr>
        <p:blipFill>
          <a:blip r:embed="rId2"/>
          <a:stretch/>
        </p:blipFill>
        <p:spPr>
          <a:xfrm>
            <a:off x="1042920" y="165240"/>
            <a:ext cx="7918560" cy="180972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468360" y="155736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Constantia"/>
              </a:rPr>
              <a:t>Цель работы:</a:t>
            </a: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 Познакомиться с православными духовными песнопениями, показать, как с помощью музыки можно приобщиться к православной культуре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Constantia"/>
              </a:rPr>
              <a:t>Задачи</a:t>
            </a: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: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1. Выявить проблемы проекта.</a:t>
            </a: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                            </a:t>
            </a: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        2. Собрать необходимую информацию по теме проекта.</a:t>
            </a: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                                              3. Провести анкетирование, беседы для реализации проекта.  4. Публичное выступление с теоретической частью проекта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Constantia"/>
              </a:rPr>
              <a:t>Проектным продуктом</a:t>
            </a: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 является один из способов приобщения людей к православному искусству. Этот проект поможет достичь цель проекта, так как мы предложим удобную схему поэтапного знакомства с православной культурой благодаря музыкальным источникам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3" name="Заголовок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50516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1.Нравятся ли тебе уроки ОПК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2.Были ли у вашего класса экскурсии в храм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3.Вы слушали православную музыку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4.Как лучше знакомиться с православной музыкой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а) учитель просто рассказывает о музыке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б) учитель включает аудиозапись после рассказа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) учитель привел вас на концерт духовной музыки в          концертный зал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г) учитель привел вас в храм во время службы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5.Нужны ли уроки ОПК?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5" name="Заголовок 2" descr=""/>
          <p:cNvPicPr/>
          <p:nvPr/>
        </p:nvPicPr>
        <p:blipFill>
          <a:blip r:embed="rId1"/>
          <a:stretch/>
        </p:blipFill>
        <p:spPr>
          <a:xfrm>
            <a:off x="457200" y="30240"/>
            <a:ext cx="8229600" cy="159048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Объект 3" descr=""/>
          <p:cNvPicPr/>
          <p:nvPr/>
        </p:nvPicPr>
        <p:blipFill>
          <a:blip r:embed="rId1"/>
          <a:stretch/>
        </p:blipFill>
        <p:spPr>
          <a:xfrm>
            <a:off x="406440" y="1473120"/>
            <a:ext cx="8331120" cy="4673520"/>
          </a:xfrm>
          <a:prstGeom prst="rect">
            <a:avLst/>
          </a:prstGeom>
          <a:ln w="0">
            <a:noFill/>
          </a:ln>
        </p:spPr>
      </p:pic>
      <p:pic>
        <p:nvPicPr>
          <p:cNvPr id="177" name="Заголовок 2" descr=""/>
          <p:cNvPicPr/>
          <p:nvPr/>
        </p:nvPicPr>
        <p:blipFill>
          <a:blip r:embed="rId2"/>
          <a:stretch/>
        </p:blipFill>
        <p:spPr>
          <a:xfrm>
            <a:off x="457200" y="30240"/>
            <a:ext cx="8229600" cy="159048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 составе хора 6 человек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се члены хора имеют высшее музыкальное образовани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 храм привела вера и любовь к духовной музык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рактический опыт пришел в ходе служб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Хор выступает с благотворительными концертами в районе, город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9" name="Заголовок 2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50516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Заголовок 2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4684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2" descr="G:\проект\СКРИН МАМА.jpg"/>
          <p:cNvPicPr/>
          <p:nvPr/>
        </p:nvPicPr>
        <p:blipFill>
          <a:blip r:embed="rId2"/>
          <a:stretch/>
        </p:blipFill>
        <p:spPr>
          <a:xfrm>
            <a:off x="1714680" y="1523880"/>
            <a:ext cx="5715000" cy="457200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Заголовок 2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5051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" descr=""/>
          <p:cNvPicPr/>
          <p:nvPr/>
        </p:nvPicPr>
        <p:blipFill>
          <a:blip r:embed="rId2"/>
          <a:stretch/>
        </p:blipFill>
        <p:spPr>
          <a:xfrm>
            <a:off x="1979640" y="2133720"/>
            <a:ext cx="5200560" cy="351936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5" name="Заголовок 2" descr=""/>
          <p:cNvPicPr/>
          <p:nvPr/>
        </p:nvPicPr>
        <p:blipFill>
          <a:blip r:embed="rId1"/>
          <a:stretch/>
        </p:blipFill>
        <p:spPr>
          <a:xfrm>
            <a:off x="324000" y="30240"/>
            <a:ext cx="8508960" cy="15904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2" descr="G:\проект\я3.jpg"/>
          <p:cNvPicPr/>
          <p:nvPr/>
        </p:nvPicPr>
        <p:blipFill>
          <a:blip r:embed="rId2"/>
          <a:stretch/>
        </p:blipFill>
        <p:spPr>
          <a:xfrm>
            <a:off x="1187280" y="1341360"/>
            <a:ext cx="6762960" cy="540072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8T18:06:56Z</dcterms:created>
  <dc:creator>Ирэн</dc:creator>
  <dc:description/>
  <dc:language>en-US</dc:language>
  <cp:lastModifiedBy>Ирэна</cp:lastModifiedBy>
  <dcterms:modified xsi:type="dcterms:W3CDTF">2012-01-23T15:07:23Z</dcterms:modified>
  <cp:revision>19</cp:revision>
  <dc:subject/>
  <dc:title>Музыкальное искусство как способ приобщения к православной культуре</dc:title>
</cp:coreProperties>
</file>