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B66-7414-47D6-9E77-EDD9BFD4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3D6-5BEF-49F8-8422-DD80A07F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DDE-E9FE-4482-810D-84F97D26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4E4-8EB5-4EB7-9AD9-AE718A55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0F393-383F-49A3-9868-82D0E0A4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B0564-7185-4125-8996-ACB30E93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3C8C-CAAC-4024-987D-CD835071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8FB9-06B4-4EFF-8E7E-B881EAC4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F406C-60B2-4206-B270-8585F30E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343B3-B3EA-4928-B4E8-0C6D11BB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09737-2112-497A-B1C7-F1931C6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69E-43C2-4896-BCC1-EC04BCF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FD8FD-207D-4963-A166-BAA3CA6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E9B6C-BEC3-4904-8254-605DCD18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17A7B-120F-49A1-AD27-83A0A0C2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6736A-3ACC-4679-A579-34E68ACC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9AE1A-84AE-4455-AB4B-D0921C21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76BD-FB8B-4CB9-9233-F9BE4F60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EF0F-7CED-4650-B2C4-C8C27CE2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DC5F-1ADC-4D7D-A974-4C485710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AE20-5D61-4A73-B636-A10088B4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FC0B-1EC7-41F2-9E5A-0B7977C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AB8-8EDC-47E7-ADB9-82E8A982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13A1-31DC-409F-8F84-8450AD6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45B2-E456-4096-8857-F82DDB1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497F-C8D0-4923-9EB5-CFDBA9A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4664-6F3C-4216-93C1-305A150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F01C-292A-4AEA-973F-64606487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EA46-DC58-42ED-86B0-EF3365DC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C80A-A3AB-4585-9A79-2F001EFB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7E942-24FC-4B8E-B9EC-486DD1A4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651EF-5D7D-4750-BD23-8777ED10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97485-4C92-49EC-B80E-77126009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C5F-7017-4423-821D-4A95847D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279C0-8093-4CD4-94A6-85E4D7E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7D90E-FCF8-402D-9AA3-4AD42DF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8A58D-1E9F-4AAA-8D80-C45BA1D5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EE642-064B-49C6-A1BC-7A1F67A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DFC6A-964B-49E8-BFB3-4B26BBB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53718-0274-4AE0-A204-1563249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5873F-F358-49F6-9983-93B4CA3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62A0B-0F9C-4FC4-B2ED-D11310C1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2C7894-8AB2-4C98-B95B-63FD99C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551-F15D-41B3-95EB-EE74AF2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082-9424-45DD-BEE9-FBEB5F57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00F-7141-46C5-9D59-9AB04CF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8C7-9A74-43E0-AEE8-9D5C322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46E-F890-4E26-B05C-54EBC7A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630-CB38-4143-B160-7BF0300B4AF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E74-75B9-4893-A326-6B80A9C1627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1844-12E7-4F50-9C00-EE7BD30938C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493-CC86-47DA-A89F-B95C54BDEFC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для Ирен 3"/>
          <p:cNvPicPr/>
          <p:nvPr/>
        </p:nvPicPr>
        <p:blipFill>
          <a:blip r:embed="rId1"/>
          <a:stretch/>
        </p:blipFill>
        <p:spPr>
          <a:xfrm>
            <a:off x="2916360" y="1700280"/>
            <a:ext cx="3743280" cy="487368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1042920" y="165240"/>
            <a:ext cx="7918560" cy="180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Цель работы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ознакомиться с православными духовными песнопениями, показать, как с помощью музыки можно приобщиться к православной культур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Задач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 Выявить проблемы проекта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2. Собрать необходимую информацию по теме проекта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3. Провести анкетирование, беседы для реализации проекта.  4. Публичное выступление с теоретической частью проек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роектным продукто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является один из способов приобщения людей к православному искусству. Этот проект поможет достичь цель проекта, так как мы предложим удобную схему поэтапного знакомства с православной культурой благодаря музыкальным источника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Нравятся ли тебе уроки ОП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Были ли у вашего класса экскурсии в хра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Вы слушали православную музы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Как лучше знакомиться с православной музыко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учитель просто рассказывает о музык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учитель включает аудиозапись после рассказ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учитель привел вас на концерт духовной музыки в          концертный з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) учитель привел вас в храм во время служб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.Нужны ли уроки ОПК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331120" cy="4673520"/>
          </a:xfrm>
          <a:prstGeom prst="rect">
            <a:avLst/>
          </a:prstGeom>
          <a:ln w="0">
            <a:noFill/>
          </a:ln>
        </p:spPr>
      </p:pic>
      <p:pic>
        <p:nvPicPr>
          <p:cNvPr id="177" name="Заголовок 2" descr=""/>
          <p:cNvPicPr/>
          <p:nvPr/>
        </p:nvPicPr>
        <p:blipFill>
          <a:blip r:embed="rId2"/>
          <a:stretch/>
        </p:blipFill>
        <p:spPr>
          <a:xfrm>
            <a:off x="457200" y="3024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оставе хора 6 человек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се члены хора имеют высшее музыкальное образов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храм привела вера и любовь к духовной музык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ктический опыт пришел в ходе служ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ор выступает с благотворительными концертами в районе, город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68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:\проект\СКРИН МАМА.jpg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200560" cy="3519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508960" cy="159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G:\проект\я3.jpg"/>
          <p:cNvPicPr/>
          <p:nvPr/>
        </p:nvPicPr>
        <p:blipFill>
          <a:blip r:embed="rId2"/>
          <a:stretch/>
        </p:blipFill>
        <p:spPr>
          <a:xfrm>
            <a:off x="1187280" y="1341360"/>
            <a:ext cx="6762960" cy="5400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06:56Z</dcterms:created>
  <dc:creator>Ирэн</dc:creator>
  <dc:description/>
  <dc:language>en-US</dc:language>
  <cp:lastModifiedBy>Ирэна</cp:lastModifiedBy>
  <dcterms:modified xsi:type="dcterms:W3CDTF">2012-01-23T15:07:23Z</dcterms:modified>
  <cp:revision>19</cp:revision>
  <dc:subject/>
  <dc:title>Музыкальное искусство как способ приобщения к православной культуре</dc:title>
</cp:coreProperties>
</file>