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4B4-E35E-42FC-978E-229CF6C6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3023-B784-40D1-8734-2682DE81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914-69AC-48DE-AA1E-EE582AB9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F00-1F4F-4ED5-9DC6-94A41ABE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E282-DFD8-4F2D-9381-A4E1905A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D610-26EA-40AA-907B-205B7DAA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E878-AF30-490D-A51C-23CF6A1E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156A-A6BC-4C5E-AE82-C0D11AEE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005C-4DF4-4909-A3C1-DC935B2A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7CA8-3E0E-454C-98F8-00BB7C2A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EFC8-DC91-424D-B31F-5A54CFF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46C-2DF6-4F64-8F90-5674C682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14AA-4F77-4FEA-861F-1AB45505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8300-49E8-4DBC-B49F-3180CF97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937D-D65E-4182-B2E1-C06767C8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ACE4-BEF8-41EF-8696-CE33A921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4F59-ACB4-4AB8-8B91-294C60A8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45F-6079-4F14-9165-38896235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43C-0C0A-4732-9A63-1245EFE9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BF7-F914-4E64-8352-B31393D6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74C-4268-429A-9D13-C25CB864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6F0-9F61-44A0-B771-CC703E58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DB4-AADF-4E0C-90A7-292250FE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778-D494-44B5-BBF8-E218DF1F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4EB5-2CCB-486A-84BF-5F4C7D53C2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E448-8636-449D-ACD6-C653A1F255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4952880"/>
            <a:ext cx="861048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гебуадзе Загра Омардибировна, учитель хими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У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Ш № 1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Зеленокумс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вропольский кра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1132-E240-496F-A874-9FD20F4676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ные химические свойств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–CH=O + 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-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C=O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[ O 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R-C=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                   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d4"/>
                </a:solidFill>
                <a:latin typeface="Arial"/>
              </a:rPr>
              <a:t>R-CHO +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[Ag(NH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)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 Unicode MS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]OH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  </a:t>
            </a:r>
            <a:r>
              <a:rPr b="0" lang="en-US" sz="2800" spc="-1" strike="noStrike" baseline="30000">
                <a:solidFill>
                  <a:srgbClr val="0000d4"/>
                </a:solidFill>
                <a:latin typeface="Arial Unicode MS"/>
                <a:ea typeface="Arial Unicode MS"/>
              </a:rPr>
              <a:t>t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  RCOON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4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+ 2Ag↓+ 3N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3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 +  H</a:t>
            </a:r>
            <a:r>
              <a:rPr b="0" lang="en-US" sz="2800" spc="-1" strike="noStrike" baseline="-25000">
                <a:solidFill>
                  <a:srgbClr val="0000d4"/>
                </a:solidFill>
                <a:latin typeface="Arial Unicode MS"/>
                <a:ea typeface="Arial Unicode MS"/>
              </a:rPr>
              <a:t>2</a:t>
            </a:r>
            <a:r>
              <a:rPr b="0" lang="en-US" sz="2800" spc="-1" strike="noStrike">
                <a:solidFill>
                  <a:srgbClr val="0000d4"/>
                </a:solidFill>
                <a:latin typeface="Arial Unicode MS"/>
                <a:ea typeface="Arial Unicode MS"/>
              </a:rPr>
              <a:t>O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еакция «серебряного зерка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198900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2492280"/>
            <a:ext cx="792360" cy="1116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2565360"/>
            <a:ext cx="144720" cy="21600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2637000"/>
            <a:ext cx="0" cy="21564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357336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57528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309600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4800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5229360"/>
            <a:ext cx="576360" cy="7920"/>
          </a:xfrm>
          <a:prstGeom prst="line">
            <a:avLst/>
          </a:prstGeom>
          <a:ln cap="sq" w="442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705708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4896360" y="4904640"/>
            <a:ext cx="826920" cy="755640"/>
          </a:xfrm>
          <a:prstGeom prst="hexagon">
            <a:avLst>
              <a:gd name="adj" fmla="val 27358"/>
              <a:gd name="vf" fmla="val 115470"/>
            </a:avLst>
          </a:prstGeom>
          <a:solidFill>
            <a:srgbClr val="99ccff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767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5084640"/>
            <a:ext cx="360360" cy="360360"/>
          </a:xfrm>
          <a:prstGeom prst="ellipse">
            <a:avLst/>
          </a:prstGeom>
          <a:solidFill>
            <a:srgbClr val="000066"/>
          </a:solidFill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24360" y="4868640"/>
            <a:ext cx="216000" cy="14580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04000" y="4869000"/>
            <a:ext cx="289080" cy="21564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2000" y="443700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33800" y="503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0840" y="465300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65360" y="4941720"/>
            <a:ext cx="95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9160" y="4602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d4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1920" y="5950080"/>
            <a:ext cx="42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акция  полимер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5B14-1796-4E2D-9300-A9E3BF2F35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427640" y="1773360"/>
            <a:ext cx="4518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нолформальдегид-ные см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лацет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ли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именение альдегидов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арфюм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лимер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роизводство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Загрязнители атмо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0" y="1700280"/>
            <a:ext cx="4300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анисовый, обепин – жидкость с приятным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</a:rPr>
              <a:t>запахом мим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ьдегид дециловый, деканаль – при разбавлении появляются нотки </a:t>
            </a:r>
            <a:r>
              <a:rPr b="0" lang="ru-RU" sz="2800" spc="-1" strike="noStrike">
                <a:solidFill>
                  <a:srgbClr val="0000d4"/>
                </a:solidFill>
                <a:latin typeface="Arial"/>
              </a:rPr>
              <a:t>запаха апельсиновой к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DC8-229E-40B0-AA97-913FE36DF1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6280" y="1557000"/>
            <a:ext cx="846144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3503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комиться с классом альдегидов, его свойств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d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снить области применения альдег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920" y="1673280"/>
            <a:ext cx="85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A47-C6A6-4DC3-B4A5-17896035A890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Альдегиды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– это органические вещества, молекулы, которых содержат карбонильную группу, соединенную с углеводородным радикалом и атомом водорода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28280"/>
            <a:ext cx="86104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Альдегиды (247 байт)"/>
          <p:cNvPicPr/>
          <p:nvPr/>
        </p:nvPicPr>
        <p:blipFill>
          <a:blip r:embed="rId2"/>
          <a:stretch/>
        </p:blipFill>
        <p:spPr>
          <a:xfrm>
            <a:off x="468360" y="1700280"/>
            <a:ext cx="2305080" cy="1758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1773360"/>
            <a:ext cx="1798920" cy="176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292720" y="3789360"/>
            <a:ext cx="352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льдегидная   групп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364500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щая   формула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340000" y="4510080"/>
            <a:ext cx="4824360" cy="1920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06760" y="2266920"/>
            <a:ext cx="2073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6D0-5571-485A-97FD-B9D68A6BE3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61048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24000" y="404640"/>
            <a:ext cx="50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роение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4381200" cy="501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940360" y="1700280"/>
            <a:ext cx="1727280" cy="164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20214000">
            <a:off x="5508720" y="4292640"/>
            <a:ext cx="2160360" cy="1846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7020000" y="5877000"/>
            <a:ext cx="18190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анал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48360" y="3141720"/>
            <a:ext cx="18194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таналь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170-1E5E-4796-893E-1F5E424D75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Номенклатура альдегидов</a:t>
            </a:r>
            <a:br>
              <a:rPr sz="34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международная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628640"/>
          <a:ext cx="8915400" cy="2963880"/>
        </p:xfrm>
        <a:graphic>
          <a:graphicData uri="http://schemas.openxmlformats.org/drawingml/2006/table">
            <a:tbl>
              <a:tblPr/>
              <a:tblGrid>
                <a:gridCol w="1695600"/>
                <a:gridCol w="809640"/>
                <a:gridCol w="1539720"/>
                <a:gridCol w="809640"/>
                <a:gridCol w="1538280"/>
                <a:gridCol w="809640"/>
                <a:gridCol w="762120"/>
                <a:gridCol w="9507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4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−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1" lang="en-US" sz="4000" spc="-1" strike="noStrike" baseline="-30000">
                          <a:solidFill>
                            <a:srgbClr val="3399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 txBox="1"/>
          <p:nvPr/>
        </p:nvSpPr>
        <p:spPr>
          <a:xfrm>
            <a:off x="7740720" y="2060640"/>
            <a:ext cx="133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03280" y="2060640"/>
            <a:ext cx="1713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03640" y="206064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35640" y="2060640"/>
            <a:ext cx="181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741240" y="4653000"/>
            <a:ext cx="29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c9056"/>
                </a:solidFill>
                <a:latin typeface="Times New Roman"/>
              </a:rPr>
              <a:t>3-мети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4581360"/>
            <a:ext cx="60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465300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ута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9080" y="4653000"/>
            <a:ext cx="139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ал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028000" y="2133720"/>
            <a:ext cx="36036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101080" y="2205000"/>
            <a:ext cx="36036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8027640" y="2997360"/>
            <a:ext cx="289080" cy="287280"/>
          </a:xfrm>
          <a:prstGeom prst="line">
            <a:avLst/>
          </a:prstGeom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8DD-6EC9-4E6B-9057-64A7ECB879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составить формулу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льдегида по названию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8880" y="1407960"/>
            <a:ext cx="17110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-мети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20320" y="1407960"/>
            <a:ext cx="15490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ент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68680" y="1407960"/>
            <a:ext cx="787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06640" y="2801880"/>
            <a:ext cx="686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-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9440" y="24620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  4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3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      2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45480" y="2030400"/>
            <a:ext cx="129852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756560" y="2631960"/>
            <a:ext cx="431640" cy="33984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5480" y="2749320"/>
            <a:ext cx="431640" cy="33948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56560" y="3513240"/>
            <a:ext cx="431640" cy="288720"/>
          </a:xfrm>
          <a:prstGeom prst="line">
            <a:avLst/>
          </a:prstGeom>
          <a:ln cap="sq"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9800" y="3801960"/>
            <a:ext cx="160308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d4"/>
                </a:solidFill>
                <a:latin typeface="Times New Roman"/>
              </a:rPr>
              <a:t>|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d4"/>
                </a:solidFill>
                <a:latin typeface="Times New Roman"/>
              </a:rPr>
              <a:t>CH</a:t>
            </a:r>
            <a:r>
              <a:rPr b="1" lang="en-US" sz="6000" spc="-1" strike="noStrike" baseline="-25000">
                <a:solidFill>
                  <a:srgbClr val="0000d4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7800" y="32004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8760" y="32004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3200400"/>
            <a:ext cx="596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320040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B59-B8D7-4CAD-8E0D-AD51D891C7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88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89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96,3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96,3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106" dur="500" autoRev="1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0,0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0,0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зомери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38440" y="2971800"/>
            <a:ext cx="342900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1628640"/>
          <a:ext cx="8497800" cy="4570560"/>
        </p:xfrm>
        <a:graphic>
          <a:graphicData uri="http://schemas.openxmlformats.org/drawingml/2006/table">
            <a:tbl>
              <a:tblPr/>
              <a:tblGrid>
                <a:gridCol w="2519280"/>
                <a:gridCol w="59785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изом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ы изом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d4"/>
                          </a:solidFill>
                          <a:latin typeface="Times New Roman"/>
                          <a:ea typeface="Times New Roman"/>
                        </a:rPr>
                        <a:t>По углеродному скелету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чиная с С</a:t>
                      </a: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d4"/>
                          </a:solidFill>
                          <a:latin typeface="Times New Roman"/>
                        </a:rPr>
                        <a:t>межклассовая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 кетонами, начиная с С3  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едельными спиртами и простыми эфирами (с С3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132" name="o3201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4465800" cy="113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4465800" cy="1271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492360" y="4653000"/>
            <a:ext cx="4465800" cy="14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466-84C8-40A2-A7F8-E6C5D699ED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е свойства альдегидов определяются строением карбонильной группы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&gt;C=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Водородная связ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d4"/>
                </a:solidFill>
                <a:latin typeface="Arial"/>
              </a:rPr>
              <a:t>t</a:t>
            </a:r>
            <a:r>
              <a:rPr b="1" lang="en-US" sz="4600" spc="-1" strike="noStrike" baseline="-25000">
                <a:solidFill>
                  <a:srgbClr val="0000d4"/>
                </a:solidFill>
                <a:latin typeface="Arial"/>
              </a:rPr>
              <a:t> </a:t>
            </a:r>
            <a:r>
              <a:rPr b="1" lang="ru-RU" sz="4600" spc="-1" strike="noStrike" baseline="-25000">
                <a:solidFill>
                  <a:srgbClr val="0000d4"/>
                </a:solidFill>
                <a:latin typeface="Arial"/>
              </a:rPr>
              <a:t>кип</a:t>
            </a:r>
            <a:r>
              <a:rPr b="1" lang="ru-RU" sz="4600" spc="-1" strike="noStrike">
                <a:solidFill>
                  <a:srgbClr val="0000d4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d4"/>
                </a:solidFill>
                <a:latin typeface="Arial"/>
                <a:ea typeface="Arial"/>
              </a:rPr>
              <a:t>&lt; t</a:t>
            </a:r>
            <a:r>
              <a:rPr b="1" lang="ru-RU" sz="4600" spc="-1" strike="noStrike" baseline="-25000">
                <a:solidFill>
                  <a:srgbClr val="0000d4"/>
                </a:solidFill>
                <a:latin typeface="Arial"/>
              </a:rPr>
              <a:t>кип</a:t>
            </a:r>
            <a:r>
              <a:rPr b="1" lang="ru-RU" sz="4600" spc="-1" strike="noStrike">
                <a:solidFill>
                  <a:srgbClr val="0000d4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d4"/>
                </a:solidFill>
                <a:latin typeface="Arial"/>
              </a:rPr>
              <a:t>спир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- газ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– 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– жидкост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– твердые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0920" y="1988640"/>
            <a:ext cx="5761080" cy="289080"/>
          </a:xfrm>
          <a:prstGeom prst="line">
            <a:avLst/>
          </a:prstGeom>
          <a:ln cap="sq"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Связь С=О"/>
          <p:cNvPicPr/>
          <p:nvPr/>
        </p:nvPicPr>
        <p:blipFill>
          <a:blip r:embed="rId2"/>
          <a:stretch/>
        </p:blipFill>
        <p:spPr>
          <a:xfrm>
            <a:off x="5364000" y="2565360"/>
            <a:ext cx="3478320" cy="1420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84720" y="4653000"/>
            <a:ext cx="2411640" cy="119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C82-F1EA-42C0-8944-25DC84CEBC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612720" y="260280"/>
            <a:ext cx="8096760" cy="5182200"/>
            <a:chOff x="612720" y="260280"/>
            <a:chExt cx="8096760" cy="5182200"/>
          </a:xfrm>
        </p:grpSpPr>
        <p:cxnSp>
          <p:nvCxnSpPr>
            <p:cNvPr id="141" name="_s125983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4422240" y="1896120"/>
              <a:ext cx="2453760" cy="1332360"/>
            </a:xfrm>
            <a:prstGeom prst="bentConnector3">
              <a:avLst>
                <a:gd name="adj1" fmla="val 46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125980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3875760" y="1742760"/>
              <a:ext cx="1515240" cy="700200"/>
            </a:xfrm>
            <a:prstGeom prst="bentConnector3">
              <a:avLst>
                <a:gd name="adj1" fmla="val 753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125965"/>
            <p:cNvCxnSpPr>
              <a:stCxn id="147" idx="0"/>
              <a:endCxn id="143" idx="2"/>
            </p:cNvCxnSpPr>
            <p:nvPr/>
          </p:nvCxnSpPr>
          <p:spPr>
            <a:xfrm flipV="1" rot="16200000">
              <a:off x="4195440" y="2122560"/>
              <a:ext cx="3607560" cy="2032920"/>
            </a:xfrm>
            <a:prstGeom prst="bentConnector3">
              <a:avLst>
                <a:gd name="adj1" fmla="val 316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125964"/>
            <p:cNvCxnSpPr>
              <a:stCxn id="149" idx="0"/>
              <a:endCxn id="143" idx="2"/>
            </p:cNvCxnSpPr>
            <p:nvPr/>
          </p:nvCxnSpPr>
          <p:spPr>
            <a:xfrm flipH="1" flipV="1" rot="5400000">
              <a:off x="3353760" y="360360"/>
              <a:ext cx="654480" cy="2604600"/>
            </a:xfrm>
            <a:prstGeom prst="bentConnector3">
              <a:avLst>
                <a:gd name="adj1" fmla="val 1744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125960"/>
            <p:cNvSpPr/>
            <p:nvPr/>
          </p:nvSpPr>
          <p:spPr>
            <a:xfrm>
              <a:off x="1258200" y="260280"/>
              <a:ext cx="7451280" cy="1075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2660b6"/>
              </a:solidFill>
              <a:miter/>
            </a:ln>
            <a:effectLst>
              <a:outerShdw dist="63504" dir="19383909" blurRad="0" rotWithShape="0">
                <a:srgbClr val="2660b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0000"/>
                  </a:solidFill>
                  <a:latin typeface="Times New Roman"/>
                </a:rPr>
                <a:t>Химические реакции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125961"/>
            <p:cNvSpPr/>
            <p:nvPr/>
          </p:nvSpPr>
          <p:spPr>
            <a:xfrm>
              <a:off x="612720" y="1989720"/>
              <a:ext cx="3528720" cy="577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восстановления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125962"/>
            <p:cNvSpPr/>
            <p:nvPr/>
          </p:nvSpPr>
          <p:spPr>
            <a:xfrm>
              <a:off x="5437080" y="4942800"/>
              <a:ext cx="3153240" cy="499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окисления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125979"/>
            <p:cNvSpPr/>
            <p:nvPr/>
          </p:nvSpPr>
          <p:spPr>
            <a:xfrm>
              <a:off x="2411280" y="2850480"/>
              <a:ext cx="3743640" cy="577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полимеризации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125982"/>
            <p:cNvSpPr/>
            <p:nvPr/>
          </p:nvSpPr>
          <p:spPr>
            <a:xfrm>
              <a:off x="4283640" y="3789360"/>
              <a:ext cx="4068720" cy="575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875fdf"/>
              </a:solidFill>
              <a:miter/>
            </a:ln>
            <a:effectLst>
              <a:outerShdw dist="63504" dir="19383909" blurRad="0" rotWithShape="0">
                <a:srgbClr val="875f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Times New Roman"/>
                </a:rPr>
                <a:t>присоединения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969480" y="3857760"/>
              <a:ext cx="1844280" cy="158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3E5-792C-4F73-9BA6-AA617E073B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53Z</dcterms:created>
  <dc:creator>ученик</dc:creator>
  <dc:description/>
  <cp:keywords/>
  <dc:language>en-US</dc:language>
  <cp:lastModifiedBy> СОШ №14 </cp:lastModifiedBy>
  <dcterms:modified xsi:type="dcterms:W3CDTF">2007-09-04T13:20:38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61049</vt:lpwstr>
  </property>
</Properties>
</file>