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C3C-97F9-4E3B-9DA3-C216D572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2E4-1FB3-4E7F-9714-2DDD186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98A-1911-4A4C-9D98-9EC8EED4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993-9A93-4330-8045-B123A877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8356-8003-4999-A81E-E9748EEC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639D-BAC5-4EB0-ACA7-276917F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BA24-107F-4AB7-996E-9E48B6B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9C3E-4074-4DC5-B701-66D2D424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8916-5194-4FF9-9CE6-C04F46C1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3D15-3D33-4C66-99D4-B759F49A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1DEB-7913-468F-A15F-599825AB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3AD-F0DD-4F2C-BF1B-D5A0E3B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F0BA-31F0-4D11-BE7A-E155AE8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4242-194D-4D5D-876B-2D5B0B8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9B65-BC3C-4C4B-92A4-B10F8624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2BEB-9340-4F82-BDC9-9B0A44CD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C080-0FD1-4C30-8942-D7142978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1DC-0BF4-4A4C-BDB8-BCA713E5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E62-E0F0-4E87-82C0-F80ACF6F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02E-1164-4BAD-AE72-65391794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E81-F31E-480E-ADB4-38950318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E6C-1209-44C4-8B8F-EFEFC39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D8C-B2AA-4CD1-A886-56912FF5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9A8-A849-4EAF-8A32-5C6C9C5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8BF7-F3AB-4B59-8729-417E1FAF34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82C1-C282-4887-A417-CB156ABCDD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4952880"/>
            <a:ext cx="86104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гебуадзе Загра Омардибировна, учитель хим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Ш № 1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Зеленокумс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вропольский кра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C802-4DCA-49A5-9C3A-7B1F7715CA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химические свойст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–CH=O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-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C=O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[ O 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R-C=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                  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4"/>
                </a:solidFill>
                <a:latin typeface="Arial"/>
              </a:rPr>
              <a:t>R-CHO +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[Ag(NH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)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]OH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</a:t>
            </a:r>
            <a:r>
              <a:rPr b="0" lang="en-US" sz="2800" spc="-1" strike="noStrike" baseline="30000">
                <a:solidFill>
                  <a:srgbClr val="0000d4"/>
                </a:solidFill>
                <a:latin typeface="Arial Unicode MS"/>
                <a:ea typeface="Arial Unicode MS"/>
              </a:rPr>
              <a:t>t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RCOO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2Ag↓+ 3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 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O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акция «серебряного зерк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198900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2492280"/>
            <a:ext cx="792360" cy="1116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565360"/>
            <a:ext cx="144720" cy="2160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2637000"/>
            <a:ext cx="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3573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5752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09600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5229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70570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89636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24360" y="4868640"/>
            <a:ext cx="216000" cy="1458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0" y="4869000"/>
            <a:ext cx="28908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4437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3800" y="503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0840" y="465300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65360" y="4941720"/>
            <a:ext cx="95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9160" y="460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1920" y="595008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ция  полиме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B76-8000-40EC-81DA-B0F89ED904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427640" y="1773360"/>
            <a:ext cx="451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нолформальдегид-ные 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лаце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ли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менение альдегидо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арфю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лимер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оизводство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Загрязнители атм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0" y="1700280"/>
            <a:ext cx="4300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анисовый, обепин – жидкость с приятным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ом мим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дециловый, деканаль – при разбавлении появляются нотки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а апельсиновой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2FD-85E3-40E9-B4C8-8B5D7DCCC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6280" y="1557000"/>
            <a:ext cx="84614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3503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комиться с классом альдегидов, его свойств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снить области применения альдег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920" y="1673280"/>
            <a:ext cx="85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2E3-771A-4149-9E65-A3ACF36AB8F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льдегиды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это органические вещества, молекулы, которых содержат карбонильную группу, соединенную с углеводородным радикалом и атомом водорода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8610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Альдегиды (247 байт)"/>
          <p:cNvPicPr/>
          <p:nvPr/>
        </p:nvPicPr>
        <p:blipFill>
          <a:blip r:embed="rId2"/>
          <a:stretch/>
        </p:blipFill>
        <p:spPr>
          <a:xfrm>
            <a:off x="468360" y="170028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1773360"/>
            <a:ext cx="1798920" cy="176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292720" y="3789360"/>
            <a:ext cx="352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льдегидная   групп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3645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щая   формул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340000" y="4510080"/>
            <a:ext cx="4824360" cy="1920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06760" y="2266920"/>
            <a:ext cx="207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AA5-9D3B-42B4-A094-3FFC761E49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1048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2400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381200" cy="501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940360" y="170028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20214000">
            <a:off x="5508720" y="4292640"/>
            <a:ext cx="2160360" cy="184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020000" y="5877000"/>
            <a:ext cx="1819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48360" y="3141720"/>
            <a:ext cx="1819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545-215C-4C88-AFD5-78532DBED8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Номенклатура альдегидов</a:t>
            </a:r>
            <a:br>
              <a:rPr sz="34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международная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628640"/>
          <a:ext cx="8915400" cy="2963880"/>
        </p:xfrm>
        <a:graphic>
          <a:graphicData uri="http://schemas.openxmlformats.org/drawingml/2006/table">
            <a:tbl>
              <a:tblPr/>
              <a:tblGrid>
                <a:gridCol w="1695600"/>
                <a:gridCol w="809640"/>
                <a:gridCol w="1539720"/>
                <a:gridCol w="809640"/>
                <a:gridCol w="1538280"/>
                <a:gridCol w="809640"/>
                <a:gridCol w="762120"/>
                <a:gridCol w="950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 txBox="1"/>
          <p:nvPr/>
        </p:nvSpPr>
        <p:spPr>
          <a:xfrm>
            <a:off x="7740720" y="2060640"/>
            <a:ext cx="133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2060640"/>
            <a:ext cx="171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03640" y="206064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35640" y="2060640"/>
            <a:ext cx="181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741240" y="4653000"/>
            <a:ext cx="29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c9056"/>
                </a:solidFill>
                <a:latin typeface="Times New Roman"/>
              </a:rPr>
              <a:t>3-мети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4581360"/>
            <a:ext cx="60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4653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ут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9080" y="4653000"/>
            <a:ext cx="13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28000" y="213372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101080" y="220500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8027640" y="2997360"/>
            <a:ext cx="28908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C9F-12C9-4A8E-A56E-7F2C31AFB9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составить формул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ьдегида по названию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880" y="1407960"/>
            <a:ext cx="1711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-мет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0320" y="1407960"/>
            <a:ext cx="1549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68680" y="1407960"/>
            <a:ext cx="787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6640" y="2801880"/>
            <a:ext cx="686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440" y="24620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 4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3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2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45480" y="2030400"/>
            <a:ext cx="12985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756560" y="2631960"/>
            <a:ext cx="431640" cy="33984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5480" y="2749320"/>
            <a:ext cx="431640" cy="33948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56560" y="3513240"/>
            <a:ext cx="431640" cy="28872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9800" y="3801960"/>
            <a:ext cx="16030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|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CH</a:t>
            </a:r>
            <a:r>
              <a:rPr b="1" lang="en-US" sz="6000" spc="-1" strike="noStrike" baseline="-25000">
                <a:solidFill>
                  <a:srgbClr val="0000d4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7800" y="32004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8760" y="32004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200400"/>
            <a:ext cx="596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20040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46C-8209-4010-AC0D-77FE4CE1B6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омер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8440" y="2971800"/>
            <a:ext cx="342900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628640"/>
          <a:ext cx="8497800" cy="4570560"/>
        </p:xfrm>
        <a:graphic>
          <a:graphicData uri="http://schemas.openxmlformats.org/drawingml/2006/table">
            <a:tbl>
              <a:tblPr/>
              <a:tblGrid>
                <a:gridCol w="2519280"/>
                <a:gridCol w="59785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ы изом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По углеродному скелету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чиная с С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</a:rPr>
                        <a:t>межклассов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 кетонами, начиная с С3  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едельными спиртами и простыми эфирами (с С3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32" name="o320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4465800" cy="113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4465800" cy="1271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492360" y="4653000"/>
            <a:ext cx="4465800" cy="14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67B-8491-4A57-B195-55C3E7441A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альдегидов определяются строением карбонильной группы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&gt;C=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d4"/>
                </a:solidFill>
                <a:latin typeface="Arial"/>
              </a:rPr>
              <a:t>t</a:t>
            </a:r>
            <a:r>
              <a:rPr b="1" lang="en-US" sz="4600" spc="-1" strike="noStrike" baseline="-25000">
                <a:solidFill>
                  <a:srgbClr val="0000d4"/>
                </a:solidFill>
                <a:latin typeface="Arial"/>
              </a:rPr>
              <a:t> 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d4"/>
                </a:solidFill>
                <a:latin typeface="Arial"/>
                <a:ea typeface="Arial"/>
              </a:rPr>
              <a:t>&lt; t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d4"/>
                </a:solidFill>
                <a:latin typeface="Arial"/>
              </a:rPr>
              <a:t>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- газ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жидкост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– твердые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0920" y="1988640"/>
            <a:ext cx="5761080" cy="289080"/>
          </a:xfrm>
          <a:prstGeom prst="line">
            <a:avLst/>
          </a:prstGeom>
          <a:ln cap="sq"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Связь С=О"/>
          <p:cNvPicPr/>
          <p:nvPr/>
        </p:nvPicPr>
        <p:blipFill>
          <a:blip r:embed="rId2"/>
          <a:stretch/>
        </p:blipFill>
        <p:spPr>
          <a:xfrm>
            <a:off x="5364000" y="2565360"/>
            <a:ext cx="3478320" cy="142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2411640" cy="11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783-C81E-4DE7-A77D-920DFDFAD7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12720" y="260280"/>
            <a:ext cx="8096760" cy="5182200"/>
            <a:chOff x="612720" y="260280"/>
            <a:chExt cx="8096760" cy="5182200"/>
          </a:xfrm>
        </p:grpSpPr>
        <p:cxnSp>
          <p:nvCxnSpPr>
            <p:cNvPr id="141" name="_s125983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4422240" y="1896120"/>
              <a:ext cx="2453760" cy="1332360"/>
            </a:xfrm>
            <a:prstGeom prst="bentConnector3">
              <a:avLst>
                <a:gd name="adj1" fmla="val 46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25980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875760" y="1742760"/>
              <a:ext cx="1515240" cy="700200"/>
            </a:xfrm>
            <a:prstGeom prst="bentConnector3">
              <a:avLst>
                <a:gd name="adj1" fmla="val 75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25965"/>
            <p:cNvCxnSpPr>
              <a:stCxn id="147" idx="0"/>
              <a:endCxn id="143" idx="2"/>
            </p:cNvCxnSpPr>
            <p:nvPr/>
          </p:nvCxnSpPr>
          <p:spPr>
            <a:xfrm flipV="1" rot="16200000">
              <a:off x="4195440" y="2122560"/>
              <a:ext cx="3607560" cy="2032920"/>
            </a:xfrm>
            <a:prstGeom prst="bentConnector3">
              <a:avLst>
                <a:gd name="adj1" fmla="val 31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25964"/>
            <p:cNvCxnSpPr>
              <a:stCxn id="149" idx="0"/>
              <a:endCxn id="143" idx="2"/>
            </p:cNvCxnSpPr>
            <p:nvPr/>
          </p:nvCxnSpPr>
          <p:spPr>
            <a:xfrm flipH="1" flipV="1" rot="5400000">
              <a:off x="3353760" y="360360"/>
              <a:ext cx="654480" cy="2604600"/>
            </a:xfrm>
            <a:prstGeom prst="bentConnector3">
              <a:avLst>
                <a:gd name="adj1" fmla="val 174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125960"/>
            <p:cNvSpPr/>
            <p:nvPr/>
          </p:nvSpPr>
          <p:spPr>
            <a:xfrm>
              <a:off x="1258200" y="260280"/>
              <a:ext cx="7451280" cy="1075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2660b6"/>
              </a:solidFill>
              <a:miter/>
            </a:ln>
            <a:effectLst>
              <a:outerShdw dist="63504" dir="19383909" blurRad="0" rotWithShape="0">
                <a:srgbClr val="2660b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125961"/>
            <p:cNvSpPr/>
            <p:nvPr/>
          </p:nvSpPr>
          <p:spPr>
            <a:xfrm>
              <a:off x="612720" y="1989720"/>
              <a:ext cx="3528720" cy="577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восстановл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25962"/>
            <p:cNvSpPr/>
            <p:nvPr/>
          </p:nvSpPr>
          <p:spPr>
            <a:xfrm>
              <a:off x="5437080" y="4942800"/>
              <a:ext cx="3153240" cy="499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окисл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125979"/>
            <p:cNvSpPr/>
            <p:nvPr/>
          </p:nvSpPr>
          <p:spPr>
            <a:xfrm>
              <a:off x="2411280" y="2850480"/>
              <a:ext cx="3743640" cy="577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полимеризации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25982"/>
            <p:cNvSpPr/>
            <p:nvPr/>
          </p:nvSpPr>
          <p:spPr>
            <a:xfrm>
              <a:off x="4283640" y="3789360"/>
              <a:ext cx="4068720" cy="575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присоедин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969480" y="3857760"/>
              <a:ext cx="1844280" cy="158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E34-9082-46F4-A568-36794E266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53Z</dcterms:created>
  <dc:creator>ученик</dc:creator>
  <dc:description/>
  <cp:keywords/>
  <dc:language>en-US</dc:language>
  <cp:lastModifiedBy> СОШ №14 </cp:lastModifiedBy>
  <dcterms:modified xsi:type="dcterms:W3CDTF">2007-09-04T13:20:38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49</vt:lpwstr>
  </property>
</Properties>
</file>