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97C-7FCE-4A83-BF77-398127B0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918-016E-4914-82F5-BD8FC3E5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94F-426A-479D-9175-3E4BA5E4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45B-2A71-44B9-91D7-F70DC038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274-AF70-4166-8BB9-369361FC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2CF3-6B9F-4330-92C6-B4F5DCD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BC9-9BAB-452A-AE2D-732FE13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39E-D5D0-49E5-8D78-8712D0F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420-D7DA-4504-A189-55DAB90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EE0-37CC-4B81-A9A9-1EE96B43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92C9-5BE5-40A9-893D-B1113F7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F81-9314-4094-9949-FBA085B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F83-D3A9-4380-A49F-86A1D4E7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E49-C5A6-4959-A941-25515F7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AB8F-A027-4D0B-BF8F-F88C7B4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73F-274A-46A0-B7F7-DBC90E3A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7981-0449-4847-A407-25E37695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76E-42FB-4B50-81F8-D2216735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CE7-3EF6-42F1-88A5-A6F26ED2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341-1C72-4D2E-85E7-5E0917E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963-9B2B-4B38-86F7-4365A59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F4E-3883-4F02-8C3A-8D095C9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B64-0AA8-4864-96DE-8639EDD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141-DB0A-4CF3-A9A7-C1DF367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459-1C4D-46FC-BBAF-735D2408C5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2D4-0EF5-4356-A0CA-2BDDDDD41A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104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гебуадзе Загра Омардибировна, учитель хим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Ш № 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Зеленокумс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вропольский кра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B06-15F0-4E7A-BF96-5A84DA4B10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химические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–CH=O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-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C=O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[ O 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R-C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                  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4"/>
                </a:solidFill>
                <a:latin typeface="Arial"/>
              </a:rPr>
              <a:t>R-CHO +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[Ag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]OH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</a:t>
            </a:r>
            <a:r>
              <a:rPr b="0" lang="en-US" sz="2800" spc="-1" strike="noStrike" baseline="30000">
                <a:solidFill>
                  <a:srgbClr val="0000d4"/>
                </a:solidFill>
                <a:latin typeface="Arial Unicode MS"/>
                <a:ea typeface="Arial Unicode MS"/>
              </a:rPr>
              <a:t>t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RCOO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2Ag↓+ 3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 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O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акция «серебряного зер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98900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2492280"/>
            <a:ext cx="792360" cy="1116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44720" cy="2160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2637000"/>
            <a:ext cx="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573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5752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09600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5229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70570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89636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24360" y="4868640"/>
            <a:ext cx="216000" cy="1458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4869000"/>
            <a:ext cx="28908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44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3800" y="50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0840" y="465300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65360" y="4941720"/>
            <a:ext cx="9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9160" y="460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920" y="59500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я  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D4F-4CB5-41B0-A1AB-59F51DA226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27640" y="1773360"/>
            <a:ext cx="451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лформальдегид-ные 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лаце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альдегидо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арфю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лимер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оизводство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Загрязнители атм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0" y="1700280"/>
            <a:ext cx="4300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анисовый, обепин – жидкость с приятным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ом мим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дециловый, деканаль – при разбавлении появляются нотки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а апельсиновой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F3C-C8C8-439E-923A-92D01C403C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6280" y="1557000"/>
            <a:ext cx="84614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3503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ся с классом альдегидов, его свойств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снить области применения альдег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920" y="1673280"/>
            <a:ext cx="85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74B-0C46-4EDA-BA30-9318E7C4F1A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льдегиды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это органические вещества, молекулы, которых содержат карбонильную группу, соединенную с углеводородным радикалом и атомом водорода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10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Альдегиды (247 байт)"/>
          <p:cNvPicPr/>
          <p:nvPr/>
        </p:nvPicPr>
        <p:blipFill>
          <a:blip r:embed="rId2"/>
          <a:stretch/>
        </p:blipFill>
        <p:spPr>
          <a:xfrm>
            <a:off x="468360" y="170028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1798920" cy="176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92720" y="3789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ьдегидная   групп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3645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щая   формул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340000" y="4510080"/>
            <a:ext cx="482436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6760" y="2266920"/>
            <a:ext cx="207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FAD-C073-416B-88F9-78EDDADCF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1048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2400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381200" cy="501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20214000">
            <a:off x="5508720" y="4292640"/>
            <a:ext cx="2160360" cy="18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020000" y="5877000"/>
            <a:ext cx="181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48360" y="3141720"/>
            <a:ext cx="181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983-4CB7-433E-B565-238C6EDDF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оменклатура альдегидов</a:t>
            </a:r>
            <a:br>
              <a:rPr sz="34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международная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28640"/>
          <a:ext cx="8915400" cy="2963880"/>
        </p:xfrm>
        <a:graphic>
          <a:graphicData uri="http://schemas.openxmlformats.org/drawingml/2006/table">
            <a:tbl>
              <a:tblPr/>
              <a:tblGrid>
                <a:gridCol w="1695600"/>
                <a:gridCol w="809640"/>
                <a:gridCol w="1539720"/>
                <a:gridCol w="809640"/>
                <a:gridCol w="1538280"/>
                <a:gridCol w="809640"/>
                <a:gridCol w="762120"/>
                <a:gridCol w="95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7740720" y="2060640"/>
            <a:ext cx="13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2060640"/>
            <a:ext cx="171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640" y="206064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35640" y="2060640"/>
            <a:ext cx="181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741240" y="4653000"/>
            <a:ext cx="29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9056"/>
                </a:solidFill>
                <a:latin typeface="Times New Roman"/>
              </a:rPr>
              <a:t>3-мети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4581360"/>
            <a:ext cx="6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465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ут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9080" y="4653000"/>
            <a:ext cx="13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28000" y="213372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101080" y="220500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8027640" y="2997360"/>
            <a:ext cx="28908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905-5DB3-441A-A8E9-817453204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составить формул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дегида по названию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880" y="1407960"/>
            <a:ext cx="1711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мет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0320" y="1407960"/>
            <a:ext cx="154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8680" y="1407960"/>
            <a:ext cx="787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2801880"/>
            <a:ext cx="686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440" y="24620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3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2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5480" y="2030400"/>
            <a:ext cx="12985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756560" y="2631960"/>
            <a:ext cx="431640" cy="33984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5480" y="2749320"/>
            <a:ext cx="431640" cy="33948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56560" y="3513240"/>
            <a:ext cx="431640" cy="28872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9800" y="3801960"/>
            <a:ext cx="16030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|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CH</a:t>
            </a:r>
            <a:r>
              <a:rPr b="1" lang="en-US" sz="6000" spc="-1" strike="noStrike" baseline="-25000">
                <a:solidFill>
                  <a:srgbClr val="0000d4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7800" y="32004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8760" y="32004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200400"/>
            <a:ext cx="59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20040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355-8B03-4282-9B9F-0EB8BA56F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омер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8440" y="2971800"/>
            <a:ext cx="3429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497800" cy="4570560"/>
        </p:xfrm>
        <a:graphic>
          <a:graphicData uri="http://schemas.openxmlformats.org/drawingml/2006/table">
            <a:tbl>
              <a:tblPr/>
              <a:tblGrid>
                <a:gridCol w="2519280"/>
                <a:gridCol w="59785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из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По углеродному скелету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чиная с С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</a:rPr>
                        <a:t>межклассов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кетонами, начиная с С3  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едельными спиртами и простыми эфирами (с С3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32" name="o320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4465800" cy="11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4465800" cy="1271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446580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230-6D8C-43EC-B8DD-80F900A0F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альдегидов определяются строением карбонильной группы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&gt;C=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d4"/>
                </a:solidFill>
                <a:latin typeface="Arial"/>
              </a:rPr>
              <a:t>t</a:t>
            </a:r>
            <a:r>
              <a:rPr b="1" lang="en-US" sz="4600" spc="-1" strike="noStrike" baseline="-25000">
                <a:solidFill>
                  <a:srgbClr val="0000d4"/>
                </a:solidFill>
                <a:latin typeface="Arial"/>
              </a:rPr>
              <a:t> 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d4"/>
                </a:solidFill>
                <a:latin typeface="Arial"/>
                <a:ea typeface="Arial"/>
              </a:rPr>
              <a:t>&lt; t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d4"/>
                </a:solidFill>
                <a:latin typeface="Arial"/>
              </a:rPr>
              <a:t>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- газ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жидк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– тверды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0920" y="1988640"/>
            <a:ext cx="5761080" cy="289080"/>
          </a:xfrm>
          <a:prstGeom prst="line">
            <a:avLst/>
          </a:prstGeom>
          <a:ln cap="sq"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Связь С=О"/>
          <p:cNvPicPr/>
          <p:nvPr/>
        </p:nvPicPr>
        <p:blipFill>
          <a:blip r:embed="rId2"/>
          <a:stretch/>
        </p:blipFill>
        <p:spPr>
          <a:xfrm>
            <a:off x="5364000" y="2565360"/>
            <a:ext cx="3478320" cy="142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2411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284-392E-4A6A-BEED-3723F743D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12720" y="260280"/>
            <a:ext cx="8096760" cy="5182200"/>
            <a:chOff x="612720" y="260280"/>
            <a:chExt cx="8096760" cy="5182200"/>
          </a:xfrm>
        </p:grpSpPr>
        <p:cxnSp>
          <p:nvCxnSpPr>
            <p:cNvPr id="141" name="_s125983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4422240" y="1896120"/>
              <a:ext cx="2453760" cy="1332360"/>
            </a:xfrm>
            <a:prstGeom prst="bentConnector3">
              <a:avLst>
                <a:gd name="adj1" fmla="val 46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25980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875760" y="1742760"/>
              <a:ext cx="1515240" cy="700200"/>
            </a:xfrm>
            <a:prstGeom prst="bentConnector3">
              <a:avLst>
                <a:gd name="adj1" fmla="val 75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25965"/>
            <p:cNvCxnSpPr>
              <a:stCxn id="147" idx="0"/>
              <a:endCxn id="143" idx="2"/>
            </p:cNvCxnSpPr>
            <p:nvPr/>
          </p:nvCxnSpPr>
          <p:spPr>
            <a:xfrm flipV="1" rot="16200000">
              <a:off x="4195440" y="2122560"/>
              <a:ext cx="3607560" cy="2032920"/>
            </a:xfrm>
            <a:prstGeom prst="bentConnector3">
              <a:avLst>
                <a:gd name="adj1" fmla="val 31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25964"/>
            <p:cNvCxnSpPr>
              <a:stCxn id="149" idx="0"/>
              <a:endCxn id="143" idx="2"/>
            </p:cNvCxnSpPr>
            <p:nvPr/>
          </p:nvCxnSpPr>
          <p:spPr>
            <a:xfrm flipH="1" flipV="1" rot="5400000">
              <a:off x="3353760" y="360360"/>
              <a:ext cx="654480" cy="2604600"/>
            </a:xfrm>
            <a:prstGeom prst="bentConnector3">
              <a:avLst>
                <a:gd name="adj1" fmla="val 174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25960"/>
            <p:cNvSpPr/>
            <p:nvPr/>
          </p:nvSpPr>
          <p:spPr>
            <a:xfrm>
              <a:off x="1258200" y="260280"/>
              <a:ext cx="7451280" cy="1075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2660b6"/>
              </a:solidFill>
              <a:miter/>
            </a:ln>
            <a:effectLst>
              <a:outerShdw dist="63504" dir="19383909" blurRad="0" rotWithShape="0">
                <a:srgbClr val="2660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125961"/>
            <p:cNvSpPr/>
            <p:nvPr/>
          </p:nvSpPr>
          <p:spPr>
            <a:xfrm>
              <a:off x="612720" y="1989720"/>
              <a:ext cx="3528720" cy="577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восстанов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25962"/>
            <p:cNvSpPr/>
            <p:nvPr/>
          </p:nvSpPr>
          <p:spPr>
            <a:xfrm>
              <a:off x="5437080" y="4942800"/>
              <a:ext cx="3153240" cy="499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окис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25979"/>
            <p:cNvSpPr/>
            <p:nvPr/>
          </p:nvSpPr>
          <p:spPr>
            <a:xfrm>
              <a:off x="2411280" y="2850480"/>
              <a:ext cx="3743640" cy="577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олимериза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25982"/>
            <p:cNvSpPr/>
            <p:nvPr/>
          </p:nvSpPr>
          <p:spPr>
            <a:xfrm>
              <a:off x="4283640" y="3789360"/>
              <a:ext cx="4068720" cy="575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рисоедин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969480" y="3857760"/>
              <a:ext cx="1844280" cy="15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53B-C0CB-462C-BBEE-46E7648EA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53Z</dcterms:created>
  <dc:creator>ученик</dc:creator>
  <dc:description/>
  <cp:keywords/>
  <dc:language>en-US</dc:language>
  <cp:lastModifiedBy> СОШ №14 </cp:lastModifiedBy>
  <dcterms:modified xsi:type="dcterms:W3CDTF">2007-09-04T13:20:38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