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wind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2A4-6158-4375-A6E6-2B424E3A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847-8C66-489B-892E-2CBA35E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4DF-3B8D-4F0D-9D87-DE5DAA73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626-3D1A-4535-8073-AB8777C9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64F-40FB-4548-992A-464E9BB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371-A58D-4FF0-8E40-0AA7F620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44E-15CC-408F-A893-603C5659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B18-3368-4047-A90D-95C8515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4D3-3CAD-4145-A732-DA4F1A6F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442-0A17-4774-BCB6-B84139C4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893-A18D-480F-BD08-9F51B2A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2A5-B51A-4C9B-882D-8164A1E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3EDE-72F5-48B7-A304-F45CB6049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92;&#1086;&#1090;&#1086;%20&#1083;&#1072;&#1075;&#1077;&#1088;&#1083;&#1077;&#1092;&amp;noreask=1&amp;img_url=http://valariebudayr.typepad.com/.a/6a00e54ef837538833010536035248970b-500wi&amp;pos=7&amp;rpt=simage&amp;lr=213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79280" y="1844640"/>
            <a:ext cx="266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omic Sans MS"/>
              </a:rPr>
              <a:t>СЕЛЬМА ОТТИЛИЯ ЛОВИСА ЛАГЕРЛЁ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lma Ottiliana Lovisa Lagerl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858-19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08720" y="115920"/>
            <a:ext cx="273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езентацию подгото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лнова Елена Михайл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МБОУ СОШ №46 г.Ря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selma_lagerlf.jpg"/>
          <p:cNvPicPr/>
          <p:nvPr/>
        </p:nvPicPr>
        <p:blipFill>
          <a:blip r:embed="rId2"/>
          <a:stretch/>
        </p:blipFill>
        <p:spPr>
          <a:xfrm>
            <a:off x="3017880" y="165240"/>
            <a:ext cx="5656320" cy="665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1\Downloads\DSC_0354_01.JPG"/>
          <p:cNvPicPr/>
          <p:nvPr/>
        </p:nvPicPr>
        <p:blipFill>
          <a:blip r:embed="rId2"/>
          <a:stretch/>
        </p:blipFill>
        <p:spPr>
          <a:xfrm>
            <a:off x="2556000" y="260280"/>
            <a:ext cx="42307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1280" y="1600200"/>
            <a:ext cx="4475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1\Downloads\ixrsts (1).jpg"/>
          <p:cNvPicPr/>
          <p:nvPr/>
        </p:nvPicPr>
        <p:blipFill>
          <a:blip r:embed="rId2"/>
          <a:stretch/>
        </p:blipFill>
        <p:spPr>
          <a:xfrm>
            <a:off x="762120" y="1442880"/>
            <a:ext cx="7619760" cy="39722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619280" y="620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льма Лагерлёф «Святая ночь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042920" y="5364000"/>
            <a:ext cx="8642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0" tIns="64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-7143120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50920" y="692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вайте попробуем ответить на вопросы, которые волновали маленькую девочку. Почему животные и предметы оказывали милосерд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1258920" y="170028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mic Sans MS"/>
              </a:rPr>
              <a:t>Родился Иисус Христос и вся природа радовалась этому. Даже злой пастух сжалился над Матерью и Младен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39640" y="2708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к вы думаете, ребята, зачем Господь пришел к людям на земл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1187280" y="350028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Любя людей, заботясь о них, Господь хотел показать смысл жизни и открыть путь к вечному счастью. Иисус - значит Спаситель. Христос-помазанник Бож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572040" y="49417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  А в чем, по – вашему, счаст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539640" y="544500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Счастье-это когда люди не болеют. Когда на земле нет войны – это тоже счастье.  Люди должны любить друг друга и заботиться друг о друге. Господь пришел на землю, чтобы очистить людей от грех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3187800" y="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omic Sans MS"/>
              </a:rPr>
              <a:t>Обсу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549360"/>
            <a:ext cx="80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канчивая свой рассказ, бабушка произнесла такие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свечи, ни лампады, ни солнце, ни луна не помогут человеку: только чистое сердце открывает очи, которыми может человек наслаждаться лицезрением красоты небесной”. Как вы их поним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2997360"/>
            <a:ext cx="64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те, как еще можно было озаглавить расск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92360" y="39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Рождество”. “Ночь перед Рождеством”. “Рождение Господ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1\Downloads\7469d00bbc5db9fbc2fb013182dca319.jpg"/>
          <p:cNvPicPr/>
          <p:nvPr/>
        </p:nvPicPr>
        <p:blipFill>
          <a:blip r:embed="rId2"/>
          <a:stretch/>
        </p:blipFill>
        <p:spPr>
          <a:xfrm>
            <a:off x="971640" y="3838680"/>
            <a:ext cx="2149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1628640"/>
            <a:ext cx="50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вдумчивый читатель при знакомстве с произведением открывает что-то для себ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же открытия вы сдел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784240" y="54936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1\Downloads\лагерлёф.jpg"/>
          <p:cNvPicPr/>
          <p:nvPr/>
        </p:nvPicPr>
        <p:blipFill>
          <a:blip r:embed="rId2"/>
          <a:stretch/>
        </p:blipFill>
        <p:spPr>
          <a:xfrm>
            <a:off x="5076720" y="1628640"/>
            <a:ext cx="340056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ельма Лагерлеф «Святая ноч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95280" y="4365720"/>
            <a:ext cx="842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Шведская писательница. Родилась 20 ноября 1858 года в провинции Вермланд. В 1888 году приехала в Стокгольм, чтобы приобрести профессию учителя. После завершения образования получила место в школе Ландскруна на юге Шве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mage1.horse21.net/images/Original/QI/SE043/0.jpg"/>
          <p:cNvPicPr/>
          <p:nvPr/>
        </p:nvPicPr>
        <p:blipFill>
          <a:blip r:embed="rId2"/>
          <a:stretch/>
        </p:blipFill>
        <p:spPr>
          <a:xfrm>
            <a:off x="755640" y="333360"/>
            <a:ext cx="496872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1\Downloads\th (1).jpg"/>
          <p:cNvPicPr/>
          <p:nvPr/>
        </p:nvPicPr>
        <p:blipFill>
          <a:blip r:embed="rId3"/>
          <a:stretch/>
        </p:blipFill>
        <p:spPr>
          <a:xfrm>
            <a:off x="6012000" y="549360"/>
            <a:ext cx="24080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2602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ще в Стокгольме у нее возник замысел написать книгу на основе сказок и преданий родной провинции. Книга получила название "Сага о Йёсте Берлинг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1\Downloads\th.jpg"/>
          <p:cNvPicPr/>
          <p:nvPr/>
        </p:nvPicPr>
        <p:blipFill>
          <a:blip r:embed="rId2"/>
          <a:stretch/>
        </p:blipFill>
        <p:spPr>
          <a:xfrm>
            <a:off x="5292720" y="2781360"/>
            <a:ext cx="3056040" cy="37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1\Downloads\Selma-Lagerlef.JPG"/>
          <p:cNvPicPr/>
          <p:nvPr/>
        </p:nvPicPr>
        <p:blipFill>
          <a:blip r:embed="rId3"/>
          <a:stretch/>
        </p:blipFill>
        <p:spPr>
          <a:xfrm>
            <a:off x="1619280" y="2174760"/>
            <a:ext cx="312264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012000" y="907920"/>
            <a:ext cx="266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овторимая оригинальность и богатство воображения принесли молодой писательнице мировую славу, и она решила посвятить себя творч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24saati.ge/uploads/articles/2011/12/23827_4efde28da3bb6.jpg"/>
          <p:cNvPicPr/>
          <p:nvPr/>
        </p:nvPicPr>
        <p:blipFill>
          <a:blip r:embed="rId2"/>
          <a:stretch/>
        </p:blipFill>
        <p:spPr>
          <a:xfrm>
            <a:off x="426960" y="378000"/>
            <a:ext cx="53769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1\Downloads\lagerlef_selma.jpg"/>
          <p:cNvPicPr/>
          <p:nvPr/>
        </p:nvPicPr>
        <p:blipFill>
          <a:blip r:embed="rId2"/>
          <a:stretch/>
        </p:blipFill>
        <p:spPr>
          <a:xfrm>
            <a:off x="5796000" y="189000"/>
            <a:ext cx="2755800" cy="3306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79280" y="260280"/>
            <a:ext cx="5545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ршиной творчества Лагерлёф стал роман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"Иерусалим"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— о группе шведских крестьян, эмигрировавших в Палест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убоким знанием людей и психологической проницательностью отмечены романы "Возница", "Император Португалии", "Перстень Лёвеншёльдов" , "Шарлотта Лёвеншёльд" и многие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6" descr="1234000351_legendy-o-xriste.jpg"/>
          <p:cNvPicPr/>
          <p:nvPr/>
        </p:nvPicPr>
        <p:blipFill>
          <a:blip r:embed="rId3"/>
          <a:stretch/>
        </p:blipFill>
        <p:spPr>
          <a:xfrm>
            <a:off x="6084720" y="3687840"/>
            <a:ext cx="211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509732.jpg"/>
          <p:cNvPicPr/>
          <p:nvPr/>
        </p:nvPicPr>
        <p:blipFill>
          <a:blip r:embed="rId2"/>
          <a:stretch/>
        </p:blipFill>
        <p:spPr>
          <a:xfrm>
            <a:off x="324000" y="784080"/>
            <a:ext cx="3790800" cy="5559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284720" y="1628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ская книга "Чудесное путешествие Нильса Хольгерссона" переведена на многие я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1\Downloads\th (2).jpg"/>
          <p:cNvPicPr/>
          <p:nvPr/>
        </p:nvPicPr>
        <p:blipFill>
          <a:blip r:embed="rId4"/>
          <a:stretch/>
        </p:blipFill>
        <p:spPr>
          <a:xfrm>
            <a:off x="7308720" y="18900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1\Downloads\95645f6212488344e184dd2a7fb8e274.jpg"/>
          <p:cNvPicPr/>
          <p:nvPr/>
        </p:nvPicPr>
        <p:blipFill>
          <a:blip r:embed="rId5"/>
          <a:stretch/>
        </p:blipFill>
        <p:spPr>
          <a:xfrm>
            <a:off x="6948360" y="4246560"/>
            <a:ext cx="1652760" cy="25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1\Downloads\chudesnoe_puteshestvie_nilsa_s_dikimi_gusjami.jpg"/>
          <p:cNvPicPr/>
          <p:nvPr/>
        </p:nvPicPr>
        <p:blipFill>
          <a:blip r:embed="rId6"/>
          <a:stretch/>
        </p:blipFill>
        <p:spPr>
          <a:xfrm>
            <a:off x="4572000" y="472428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02labqs5t1252720464.jpg"/>
          <p:cNvPicPr/>
          <p:nvPr/>
        </p:nvPicPr>
        <p:blipFill>
          <a:blip r:embed="rId2"/>
          <a:stretch/>
        </p:blipFill>
        <p:spPr>
          <a:xfrm rot="21226800">
            <a:off x="855720" y="999720"/>
            <a:ext cx="3930480" cy="51260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fc2ccac4d0d74e97097a711b343d669.jpg"/>
          <p:cNvPicPr/>
          <p:nvPr/>
        </p:nvPicPr>
        <p:blipFill>
          <a:blip r:embed="rId3"/>
          <a:stretch/>
        </p:blipFill>
        <p:spPr>
          <a:xfrm rot="583200">
            <a:off x="4789080" y="900000"/>
            <a:ext cx="3595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572000" y="260280"/>
            <a:ext cx="4392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09 году Сельма Лагерлёф получила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Нобелевскую премию по литерату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14 году была избрана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членом Шведской академ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льма Лагерлёф умерла в своем имении Морбакка в Вермланде 16 марта 1940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im5-tub-ru.yandex.net/i?id=64062225-04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4221000"/>
            <a:ext cx="222732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2-tub-ru.yandex.net/i?id=450512275-59-72&amp;n=21"/>
          <p:cNvPicPr/>
          <p:nvPr/>
        </p:nvPicPr>
        <p:blipFill>
          <a:blip r:embed="rId4"/>
          <a:stretch/>
        </p:blipFill>
        <p:spPr>
          <a:xfrm>
            <a:off x="250920" y="3213000"/>
            <a:ext cx="1728720" cy="254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im8-tub-ru.yandex.net/i?id=274175938-08-72&amp;n=21"/>
          <p:cNvPicPr/>
          <p:nvPr/>
        </p:nvPicPr>
        <p:blipFill>
          <a:blip r:embed="rId5"/>
          <a:stretch/>
        </p:blipFill>
        <p:spPr>
          <a:xfrm>
            <a:off x="468360" y="692280"/>
            <a:ext cx="1295280" cy="204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1\Downloads\s2189_1230056296_1.jpg"/>
          <p:cNvPicPr/>
          <p:nvPr/>
        </p:nvPicPr>
        <p:blipFill>
          <a:blip r:embed="rId6"/>
          <a:stretch/>
        </p:blipFill>
        <p:spPr>
          <a:xfrm>
            <a:off x="2340000" y="692280"/>
            <a:ext cx="190512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7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8:11:00Z</dcterms:created>
  <dc:creator>koctya sav</dc:creator>
  <dc:description/>
  <dc:language>en-US</dc:language>
  <cp:lastModifiedBy>1</cp:lastModifiedBy>
  <dcterms:modified xsi:type="dcterms:W3CDTF">2014-03-18T11:54:44Z</dcterms:modified>
  <cp:revision>4</cp:revision>
  <dc:subject/>
  <dc:title>Сельма Лагерлеф «Святая ночь»</dc:title>
</cp:coreProperties>
</file>