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3.jpeg" ContentType="image/jpeg"/>
  <Override PartName="/ppt/media/image16.jpeg" ContentType="image/jpeg"/>
  <Override PartName="/ppt/media/wind.wav" ContentType="audio/x-wav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7B19-BBEC-417A-8B2B-A389376C8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BAE4-9B9A-4F14-BCC1-DA3AA4848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00F6-D591-4F0A-9033-7A0A079B1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6EF1-D150-4C48-A122-5E7ECF9F9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13E6-4A16-4349-9E6A-C03C32B0D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01F8-BBBA-433E-9EDC-45891F541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E04D-8DFC-48C8-A795-A39FDEE0D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BE7D-7FCB-48D8-95CF-6F26E72F6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D780-151B-4DE2-B084-07C737053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8D6F-868B-42E2-977B-B91515A72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0457-2443-43FD-8278-E9DC7F5C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82B9-312C-467D-BFE7-C4E2AE7B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A4052-A179-4CA1-B708-0903B550D6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audio" Target="../media/wind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audio" Target="../media/wind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yandsearch?source=wiz&amp;text=&#1092;&#1086;&#1090;&#1086;%20&#1083;&#1072;&#1075;&#1077;&#1088;&#1083;&#1077;&#1092;&amp;noreask=1&amp;img_url=http://valariebudayr.typepad.com/.a/6a00e54ef837538833010536035248970b-500wi&amp;pos=7&amp;rpt=simage&amp;lr=213" TargetMode="External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audio" Target="../media/wind.wav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2"/>
          <p:cNvSpPr/>
          <p:nvPr/>
        </p:nvSpPr>
        <p:spPr>
          <a:xfrm>
            <a:off x="179280" y="1844640"/>
            <a:ext cx="266400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7375e"/>
                </a:solidFill>
                <a:latin typeface="Comic Sans MS"/>
              </a:rPr>
              <a:t>СЕЛЬМА ОТТИЛИЯ ЛОВИСА ЛАГЕРЛЁ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7375e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elma Ottiliana Lovisa Lagerlo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1858-194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3"/>
          <p:cNvSpPr/>
          <p:nvPr/>
        </p:nvSpPr>
        <p:spPr>
          <a:xfrm>
            <a:off x="108720" y="115920"/>
            <a:ext cx="2733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резентацию подготовил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Балнова Елена Михайловн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учитель МБОУ СОШ №46 г.Ря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Содержимое 3" descr="selma_lagerlf.jpg"/>
          <p:cNvPicPr/>
          <p:nvPr/>
        </p:nvPicPr>
        <p:blipFill>
          <a:blip r:embed="rId2"/>
          <a:stretch/>
        </p:blipFill>
        <p:spPr>
          <a:xfrm>
            <a:off x="3017880" y="165240"/>
            <a:ext cx="5656320" cy="66564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3" name="wind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C:\Users\1\Downloads\DSC_0354_01.JPG"/>
          <p:cNvPicPr/>
          <p:nvPr/>
        </p:nvPicPr>
        <p:blipFill>
          <a:blip r:embed="rId2"/>
          <a:stretch/>
        </p:blipFill>
        <p:spPr>
          <a:xfrm>
            <a:off x="2556000" y="260280"/>
            <a:ext cx="4230720" cy="63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211280" y="1600200"/>
            <a:ext cx="447516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C:\Users\1\Downloads\ixrsts (1).jpg"/>
          <p:cNvPicPr/>
          <p:nvPr/>
        </p:nvPicPr>
        <p:blipFill>
          <a:blip r:embed="rId2"/>
          <a:stretch/>
        </p:blipFill>
        <p:spPr>
          <a:xfrm>
            <a:off x="762120" y="1442880"/>
            <a:ext cx="7619760" cy="397224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2"/>
          <p:cNvSpPr/>
          <p:nvPr/>
        </p:nvSpPr>
        <p:spPr>
          <a:xfrm>
            <a:off x="1619280" y="620640"/>
            <a:ext cx="62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ельма Лагерлёф «Святая ночь»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1042920" y="5364000"/>
            <a:ext cx="86425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440" rIns="0" tIns="648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-71431200" y="0"/>
            <a:ext cx="18432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5"/>
          <p:cNvSpPr/>
          <p:nvPr/>
        </p:nvSpPr>
        <p:spPr>
          <a:xfrm>
            <a:off x="250920" y="692280"/>
            <a:ext cx="799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Давайте попробуем ответить на вопросы, которые волновали маленькую девочку. Почему животные и предметы оказывали милосерди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6"/>
          <p:cNvSpPr/>
          <p:nvPr/>
        </p:nvSpPr>
        <p:spPr>
          <a:xfrm>
            <a:off x="1258920" y="1700280"/>
            <a:ext cx="770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Comic Sans MS"/>
              </a:rPr>
              <a:t>Родился Иисус Христос и вся природа радовалась этому. Даже злой пастух сжалился над Матерью и Младенц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7"/>
          <p:cNvSpPr/>
          <p:nvPr/>
        </p:nvSpPr>
        <p:spPr>
          <a:xfrm>
            <a:off x="539640" y="2708280"/>
            <a:ext cx="64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Как вы думаете, ребята, зачем Господь пришел к людям на землю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8"/>
          <p:cNvSpPr/>
          <p:nvPr/>
        </p:nvSpPr>
        <p:spPr>
          <a:xfrm>
            <a:off x="1187280" y="3500280"/>
            <a:ext cx="7705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Любя людей, заботясь о них, Господь хотел показать смысл жизни и открыть путь к вечному счастью. Иисус - значит Спаситель. Христос-помазанник Бож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9"/>
          <p:cNvSpPr/>
          <p:nvPr/>
        </p:nvSpPr>
        <p:spPr>
          <a:xfrm>
            <a:off x="572040" y="4941720"/>
            <a:ext cx="447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-  А в чем, по – вашему, счасть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10"/>
          <p:cNvSpPr/>
          <p:nvPr/>
        </p:nvSpPr>
        <p:spPr>
          <a:xfrm>
            <a:off x="539640" y="5445000"/>
            <a:ext cx="8353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Счастье-это когда люди не болеют. Когда на земле нет войны – это тоже счастье.  Люди должны любить друг друга и заботиться друг о друге. Господь пришел на землю, чтобы очистить людей от греха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13"/>
          <p:cNvSpPr/>
          <p:nvPr/>
        </p:nvSpPr>
        <p:spPr>
          <a:xfrm>
            <a:off x="3187800" y="0"/>
            <a:ext cx="22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32523"/>
                </a:solidFill>
                <a:latin typeface="Comic Sans MS"/>
              </a:rPr>
              <a:t>Обсуди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1"/>
          <p:cNvSpPr/>
          <p:nvPr/>
        </p:nvSpPr>
        <p:spPr>
          <a:xfrm>
            <a:off x="539640" y="549360"/>
            <a:ext cx="8064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Заканчивая свой рассказ, бабушка произнесла такие слов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Ни свечи, ни лампады, ни солнце, ни луна не помогут человеку: только чистое сердце открывает очи, которыми может человек наслаждаться лицезрением красоты небесной”. Как вы их понимает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2"/>
          <p:cNvSpPr/>
          <p:nvPr/>
        </p:nvSpPr>
        <p:spPr>
          <a:xfrm>
            <a:off x="611280" y="2997360"/>
            <a:ext cx="646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умайте, как еще можно было озаглавить рассказ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3"/>
          <p:cNvSpPr/>
          <p:nvPr/>
        </p:nvSpPr>
        <p:spPr>
          <a:xfrm>
            <a:off x="3492360" y="3933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7030a0"/>
                </a:solidFill>
                <a:latin typeface="Arial"/>
              </a:rPr>
              <a:t>“</a:t>
            </a:r>
            <a:r>
              <a:rPr b="1" i="1" lang="ru-RU" sz="1800" spc="-1" strike="noStrike">
                <a:solidFill>
                  <a:srgbClr val="7030a0"/>
                </a:solidFill>
                <a:latin typeface="Arial"/>
              </a:rPr>
              <a:t>Рождество”. “Ночь перед Рождеством”. “Рождение Господа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C:\Users\1\Downloads\7469d00bbc5db9fbc2fb013182dca319.jpg"/>
          <p:cNvPicPr/>
          <p:nvPr/>
        </p:nvPicPr>
        <p:blipFill>
          <a:blip r:embed="rId2"/>
          <a:stretch/>
        </p:blipFill>
        <p:spPr>
          <a:xfrm>
            <a:off x="971640" y="3838680"/>
            <a:ext cx="2149560" cy="28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"/>
          <p:cNvSpPr/>
          <p:nvPr/>
        </p:nvSpPr>
        <p:spPr>
          <a:xfrm>
            <a:off x="468360" y="1628640"/>
            <a:ext cx="5040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аждый вдумчивый читатель при знакомстве с произведением открывает что-то для себ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акие же открытия вы сдела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2"/>
          <p:cNvSpPr/>
          <p:nvPr/>
        </p:nvSpPr>
        <p:spPr>
          <a:xfrm>
            <a:off x="2784240" y="549360"/>
            <a:ext cx="299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Arial"/>
              </a:rPr>
              <a:t>Рефлекс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C:\Users\1\Downloads\лагерлёф.jpg"/>
          <p:cNvPicPr/>
          <p:nvPr/>
        </p:nvPicPr>
        <p:blipFill>
          <a:blip r:embed="rId2"/>
          <a:stretch/>
        </p:blipFill>
        <p:spPr>
          <a:xfrm>
            <a:off x="5076720" y="1628640"/>
            <a:ext cx="3400560" cy="475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Сельма Лагерлеф «Святая ночь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2"/>
          <p:cNvSpPr/>
          <p:nvPr/>
        </p:nvSpPr>
        <p:spPr>
          <a:xfrm>
            <a:off x="395280" y="4365720"/>
            <a:ext cx="842472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Шведская писательница. Родилась 20 ноября 1858 года в провинции Вермланд. В 1888 году приехала в Стокгольм, чтобы приобрести профессию учителя. После завершения образования получила место в школе Ландскруна на юге Швеци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http://image1.horse21.net/images/Original/QI/SE043/0.jpg"/>
          <p:cNvPicPr/>
          <p:nvPr/>
        </p:nvPicPr>
        <p:blipFill>
          <a:blip r:embed="rId2"/>
          <a:stretch/>
        </p:blipFill>
        <p:spPr>
          <a:xfrm>
            <a:off x="755640" y="333360"/>
            <a:ext cx="4968720" cy="3803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C:\Users\1\Downloads\th (1).jpg"/>
          <p:cNvPicPr/>
          <p:nvPr/>
        </p:nvPicPr>
        <p:blipFill>
          <a:blip r:embed="rId3"/>
          <a:stretch/>
        </p:blipFill>
        <p:spPr>
          <a:xfrm>
            <a:off x="6012000" y="549360"/>
            <a:ext cx="2408040" cy="3456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4" name="wind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1"/>
          <p:cNvSpPr/>
          <p:nvPr/>
        </p:nvSpPr>
        <p:spPr>
          <a:xfrm>
            <a:off x="250920" y="260280"/>
            <a:ext cx="8893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Еще в Стокгольме у нее возник замысел написать книгу на основе сказок и преданий родной провинции. Книга получила название "Сага о Йёсте Берлинге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C:\Users\1\Downloads\th.jpg"/>
          <p:cNvPicPr/>
          <p:nvPr/>
        </p:nvPicPr>
        <p:blipFill>
          <a:blip r:embed="rId2"/>
          <a:stretch/>
        </p:blipFill>
        <p:spPr>
          <a:xfrm>
            <a:off x="5292720" y="2781360"/>
            <a:ext cx="3056040" cy="3781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C:\Users\1\Downloads\Selma-Lagerlef.JPG"/>
          <p:cNvPicPr/>
          <p:nvPr/>
        </p:nvPicPr>
        <p:blipFill>
          <a:blip r:embed="rId3"/>
          <a:stretch/>
        </p:blipFill>
        <p:spPr>
          <a:xfrm>
            <a:off x="1619280" y="2174760"/>
            <a:ext cx="3122640" cy="45338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4" name="wind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6012000" y="907920"/>
            <a:ext cx="2663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еповторимая оригинальность и богатство воображения принесли молодой писательнице мировую славу, и она решила посвятить себя творчеств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http://24saati.ge/uploads/articles/2011/12/23827_4efde28da3bb6.jpg"/>
          <p:cNvPicPr/>
          <p:nvPr/>
        </p:nvPicPr>
        <p:blipFill>
          <a:blip r:embed="rId2"/>
          <a:stretch/>
        </p:blipFill>
        <p:spPr>
          <a:xfrm>
            <a:off x="426960" y="378000"/>
            <a:ext cx="5376960" cy="61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Users\1\Downloads\lagerlef_selma.jpg"/>
          <p:cNvPicPr/>
          <p:nvPr/>
        </p:nvPicPr>
        <p:blipFill>
          <a:blip r:embed="rId2"/>
          <a:stretch/>
        </p:blipFill>
        <p:spPr>
          <a:xfrm>
            <a:off x="5796000" y="189000"/>
            <a:ext cx="2755800" cy="33066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2"/>
          <p:cNvSpPr/>
          <p:nvPr/>
        </p:nvSpPr>
        <p:spPr>
          <a:xfrm>
            <a:off x="179280" y="260280"/>
            <a:ext cx="554508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ершиной творчества Лагерлёф стал роман </a:t>
            </a:r>
            <a:r>
              <a:rPr b="0" lang="ru-RU" sz="2800" spc="-1" strike="noStrike">
                <a:solidFill>
                  <a:srgbClr val="7030a0"/>
                </a:solidFill>
                <a:latin typeface="Comic Sans MS"/>
              </a:rPr>
              <a:t>"Иерусалим"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— о группе шведских крестьян, эмигрировавших в Палести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Глубоким знанием людей и психологической проницательностью отмечены романы "Возница", "Император Португалии", "Перстень Лёвеншёльдов" , "Шарлотта Лёвеншёльд" и многие друг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Содержимое 6" descr="1234000351_legendy-o-xriste.jpg"/>
          <p:cNvPicPr/>
          <p:nvPr/>
        </p:nvPicPr>
        <p:blipFill>
          <a:blip r:embed="rId3"/>
          <a:stretch/>
        </p:blipFill>
        <p:spPr>
          <a:xfrm>
            <a:off x="6084720" y="3687840"/>
            <a:ext cx="21164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Содержимое 7" descr="509732.jpg"/>
          <p:cNvPicPr/>
          <p:nvPr/>
        </p:nvPicPr>
        <p:blipFill>
          <a:blip r:embed="rId2"/>
          <a:stretch/>
        </p:blipFill>
        <p:spPr>
          <a:xfrm>
            <a:off x="324000" y="784080"/>
            <a:ext cx="3790800" cy="555948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4"/>
          <p:cNvSpPr/>
          <p:nvPr/>
        </p:nvSpPr>
        <p:spPr>
          <a:xfrm>
            <a:off x="4284720" y="1628640"/>
            <a:ext cx="4572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етская книга "Чудесное путешествие Нильса Хольгерссона" переведена на многие язы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C:\Users\1\Downloads\th (2).jpg"/>
          <p:cNvPicPr/>
          <p:nvPr/>
        </p:nvPicPr>
        <p:blipFill>
          <a:blip r:embed="rId4"/>
          <a:stretch/>
        </p:blipFill>
        <p:spPr>
          <a:xfrm>
            <a:off x="7308720" y="189000"/>
            <a:ext cx="1524240" cy="2057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C:\Users\1\Downloads\95645f6212488344e184dd2a7fb8e274.jpg"/>
          <p:cNvPicPr/>
          <p:nvPr/>
        </p:nvPicPr>
        <p:blipFill>
          <a:blip r:embed="rId5"/>
          <a:stretch/>
        </p:blipFill>
        <p:spPr>
          <a:xfrm>
            <a:off x="6948360" y="4246560"/>
            <a:ext cx="1652760" cy="2529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C:\Users\1\Downloads\chudesnoe_puteshestvie_nilsa_s_dikimi_gusjami.jpg"/>
          <p:cNvPicPr/>
          <p:nvPr/>
        </p:nvPicPr>
        <p:blipFill>
          <a:blip r:embed="rId6"/>
          <a:stretch/>
        </p:blipFill>
        <p:spPr>
          <a:xfrm>
            <a:off x="4572000" y="4724280"/>
            <a:ext cx="202104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одержимое 4" descr="02labqs5t1252720464.jpg"/>
          <p:cNvPicPr/>
          <p:nvPr/>
        </p:nvPicPr>
        <p:blipFill>
          <a:blip r:embed="rId2"/>
          <a:stretch/>
        </p:blipFill>
        <p:spPr>
          <a:xfrm rot="21226800">
            <a:off x="855720" y="999720"/>
            <a:ext cx="3930480" cy="5126040"/>
          </a:xfrm>
          <a:prstGeom prst="rect">
            <a:avLst/>
          </a:prstGeom>
          <a:ln w="0">
            <a:noFill/>
          </a:ln>
        </p:spPr>
      </p:pic>
      <p:pic>
        <p:nvPicPr>
          <p:cNvPr id="66" name="Содержимое 5" descr="1fc2ccac4d0d74e97097a711b343d669.jpg"/>
          <p:cNvPicPr/>
          <p:nvPr/>
        </p:nvPicPr>
        <p:blipFill>
          <a:blip r:embed="rId3"/>
          <a:stretch/>
        </p:blipFill>
        <p:spPr>
          <a:xfrm rot="583200">
            <a:off x="4789080" y="900000"/>
            <a:ext cx="359568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1"/>
          <p:cNvSpPr/>
          <p:nvPr/>
        </p:nvSpPr>
        <p:spPr>
          <a:xfrm>
            <a:off x="4572000" y="260280"/>
            <a:ext cx="4392720" cy="61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1909 году Сельма Лагерлёф получила </a:t>
            </a:r>
            <a:r>
              <a:rPr b="0" lang="ru-RU" sz="2800" spc="-1" strike="noStrike">
                <a:solidFill>
                  <a:srgbClr val="7030a0"/>
                </a:solidFill>
                <a:latin typeface="Comic Sans MS"/>
              </a:rPr>
              <a:t>Нобелевскую премию по литературе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1914 году была избрана </a:t>
            </a:r>
            <a:r>
              <a:rPr b="0" lang="ru-RU" sz="2800" spc="-1" strike="noStrike">
                <a:solidFill>
                  <a:srgbClr val="7030a0"/>
                </a:solidFill>
                <a:latin typeface="Comic Sans MS"/>
              </a:rPr>
              <a:t>членом Шведской академии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ельма Лагерлёф умерла в своем имении Морбакка в Вермланде 16 марта 1940 год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http://im5-tub-ru.yandex.net/i?id=64062225-04-72&amp;n=2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124000" y="4221000"/>
            <a:ext cx="2227320" cy="2087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http://im2-tub-ru.yandex.net/i?id=450512275-59-72&amp;n=21"/>
          <p:cNvPicPr/>
          <p:nvPr/>
        </p:nvPicPr>
        <p:blipFill>
          <a:blip r:embed="rId4"/>
          <a:stretch/>
        </p:blipFill>
        <p:spPr>
          <a:xfrm>
            <a:off x="250920" y="3213000"/>
            <a:ext cx="1728720" cy="2541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http://im8-tub-ru.yandex.net/i?id=274175938-08-72&amp;n=21"/>
          <p:cNvPicPr/>
          <p:nvPr/>
        </p:nvPicPr>
        <p:blipFill>
          <a:blip r:embed="rId5"/>
          <a:stretch/>
        </p:blipFill>
        <p:spPr>
          <a:xfrm>
            <a:off x="468360" y="692280"/>
            <a:ext cx="1295280" cy="2047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C:\Users\1\Downloads\s2189_1230056296_1.jpg"/>
          <p:cNvPicPr/>
          <p:nvPr/>
        </p:nvPicPr>
        <p:blipFill>
          <a:blip r:embed="rId6"/>
          <a:stretch/>
        </p:blipFill>
        <p:spPr>
          <a:xfrm>
            <a:off x="2340000" y="692280"/>
            <a:ext cx="1905120" cy="24955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7" name="wind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0T18:11:00Z</dcterms:created>
  <dc:creator>koctya sav</dc:creator>
  <dc:description/>
  <dc:language>en-US</dc:language>
  <cp:lastModifiedBy>1</cp:lastModifiedBy>
  <dcterms:modified xsi:type="dcterms:W3CDTF">2014-03-18T11:54:44Z</dcterms:modified>
  <cp:revision>4</cp:revision>
  <dc:subject/>
  <dc:title>Сельма Лагерлеф «Святая ночь»</dc:title>
</cp:coreProperties>
</file>