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3.jpeg" ContentType="image/jpeg"/>
  <Override PartName="/ppt/media/image16.jpeg" ContentType="image/jpeg"/>
  <Override PartName="/ppt/media/wind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FCE-26A0-4649-8530-6F8BA678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D37-A03A-49D9-AAB5-4B00AD79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D3A-9D8D-44FA-8A0C-82BF84CD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5ED-5997-407D-87D1-B2D2C97B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D25-E2EC-45C1-9AF9-C3BB2162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F8A1-C222-44D4-8C11-CC19E70A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B89-E651-4116-A497-7A815E4C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C19-F3B0-4DAD-A390-FBC3B427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9AE-EEFA-4D79-AD9E-52008A0C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3E1-7A45-4F4B-BAAF-8DC4C6F4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872-4CDE-48BE-AD6D-DFE61345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BDA-50B1-48F9-BEBB-35D5EB2D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C07A-CC0B-4440-ACC7-3132867FDD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text=&#1092;&#1086;&#1090;&#1086;%20&#1083;&#1072;&#1075;&#1077;&#1088;&#1083;&#1077;&#1092;&amp;noreask=1&amp;img_url=http://valariebudayr.typepad.com/.a/6a00e54ef837538833010536035248970b-500wi&amp;pos=7&amp;rpt=simage&amp;lr=213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179280" y="1844640"/>
            <a:ext cx="26640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omic Sans MS"/>
              </a:rPr>
              <a:t>СЕЛЬМА ОТТИЛИЯ ЛОВИСА ЛАГЕРЛЁ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lma Ottiliana Lovisa Lagerl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1858-19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108720" y="115920"/>
            <a:ext cx="273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езентацию подготови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лнова Елена Михайло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ель МБОУ СОШ №46 г.Ря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3" descr="selma_lagerlf.jpg"/>
          <p:cNvPicPr/>
          <p:nvPr/>
        </p:nvPicPr>
        <p:blipFill>
          <a:blip r:embed="rId2"/>
          <a:stretch/>
        </p:blipFill>
        <p:spPr>
          <a:xfrm>
            <a:off x="3017880" y="165240"/>
            <a:ext cx="5656320" cy="665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Users\1\Downloads\DSC_0354_01.JPG"/>
          <p:cNvPicPr/>
          <p:nvPr/>
        </p:nvPicPr>
        <p:blipFill>
          <a:blip r:embed="rId2"/>
          <a:stretch/>
        </p:blipFill>
        <p:spPr>
          <a:xfrm>
            <a:off x="2556000" y="260280"/>
            <a:ext cx="42307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11280" y="1600200"/>
            <a:ext cx="44751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1\Downloads\ixrsts (1).jpg"/>
          <p:cNvPicPr/>
          <p:nvPr/>
        </p:nvPicPr>
        <p:blipFill>
          <a:blip r:embed="rId2"/>
          <a:stretch/>
        </p:blipFill>
        <p:spPr>
          <a:xfrm>
            <a:off x="762120" y="1442880"/>
            <a:ext cx="7619760" cy="39722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1619280" y="62064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льма Лагерлёф «Святая ночь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042920" y="5364000"/>
            <a:ext cx="8642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0" tIns="64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-71431200" y="0"/>
            <a:ext cx="184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250920" y="692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вайте попробуем ответить на вопросы, которые волновали маленькую девочку. Почему животные и предметы оказывали милосерд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1258920" y="170028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mic Sans MS"/>
              </a:rPr>
              <a:t>Родился Иисус Христос и вся природа радовалась этому. Даже злой пастух сжалился над Матерью и Младенц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539640" y="2708280"/>
            <a:ext cx="64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ак вы думаете, ребята, зачем Господь пришел к людям на земл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1187280" y="350028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Любя людей, заботясь о них, Господь хотел показать смысл жизни и открыть путь к вечному счастью. Иисус - значит Спаситель. Христос-помазанник Бож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572040" y="494172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-  А в чем, по – вашему, счасть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539640" y="544500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Счастье-это когда люди не болеют. Когда на земле нет войны – это тоже счастье.  Люди должны любить друг друга и заботиться друг о друге. Господь пришел на землю, чтобы очистить людей от грех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3187800" y="0"/>
            <a:ext cx="22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omic Sans MS"/>
              </a:rPr>
              <a:t>Обсуд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539640" y="549360"/>
            <a:ext cx="806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канчивая свой рассказ, бабушка произнесла такие сл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и свечи, ни лампады, ни солнце, ни луна не помогут человеку: только чистое сердце открывает очи, которыми может человек наслаждаться лицезрением красоты небесной”. Как вы их поним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611280" y="2997360"/>
            <a:ext cx="64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те, как еще можно было озаглавить расска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3492360" y="393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Рождество”. “Ночь перед Рождеством”. “Рождение Господа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1\Downloads\7469d00bbc5db9fbc2fb013182dca319.jpg"/>
          <p:cNvPicPr/>
          <p:nvPr/>
        </p:nvPicPr>
        <p:blipFill>
          <a:blip r:embed="rId2"/>
          <a:stretch/>
        </p:blipFill>
        <p:spPr>
          <a:xfrm>
            <a:off x="971640" y="3838680"/>
            <a:ext cx="21495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8360" y="1628640"/>
            <a:ext cx="504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ждый вдумчивый читатель при знакомстве с произведением открывает что-то для себ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же открытия вы сдел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2784240" y="549360"/>
            <a:ext cx="29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1\Downloads\лагерлёф.jpg"/>
          <p:cNvPicPr/>
          <p:nvPr/>
        </p:nvPicPr>
        <p:blipFill>
          <a:blip r:embed="rId2"/>
          <a:stretch/>
        </p:blipFill>
        <p:spPr>
          <a:xfrm>
            <a:off x="5076720" y="1628640"/>
            <a:ext cx="3400560" cy="47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ельма Лагерлеф «Святая ноч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395280" y="4365720"/>
            <a:ext cx="8424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Шведская писательница. Родилась 20 ноября 1858 года в провинции Вермланд. В 1888 году приехала в Стокгольм, чтобы приобрести профессию учителя. После завершения образования получила место в школе Ландскруна на юге Шве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image1.horse21.net/images/Original/QI/SE043/0.jpg"/>
          <p:cNvPicPr/>
          <p:nvPr/>
        </p:nvPicPr>
        <p:blipFill>
          <a:blip r:embed="rId2"/>
          <a:stretch/>
        </p:blipFill>
        <p:spPr>
          <a:xfrm>
            <a:off x="755640" y="333360"/>
            <a:ext cx="496872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1\Downloads\th (1).jpg"/>
          <p:cNvPicPr/>
          <p:nvPr/>
        </p:nvPicPr>
        <p:blipFill>
          <a:blip r:embed="rId3"/>
          <a:stretch/>
        </p:blipFill>
        <p:spPr>
          <a:xfrm>
            <a:off x="6012000" y="549360"/>
            <a:ext cx="240804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250920" y="26028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ще в Стокгольме у нее возник замысел написать книгу на основе сказок и преданий родной провинции. Книга получила название "Сага о Йёсте Берлинг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1\Downloads\th.jpg"/>
          <p:cNvPicPr/>
          <p:nvPr/>
        </p:nvPicPr>
        <p:blipFill>
          <a:blip r:embed="rId2"/>
          <a:stretch/>
        </p:blipFill>
        <p:spPr>
          <a:xfrm>
            <a:off x="5292720" y="2781360"/>
            <a:ext cx="3056040" cy="37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1\Downloads\Selma-Lagerlef.JPG"/>
          <p:cNvPicPr/>
          <p:nvPr/>
        </p:nvPicPr>
        <p:blipFill>
          <a:blip r:embed="rId3"/>
          <a:stretch/>
        </p:blipFill>
        <p:spPr>
          <a:xfrm>
            <a:off x="1619280" y="2174760"/>
            <a:ext cx="312264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6012000" y="907920"/>
            <a:ext cx="266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овторимая оригинальность и богатство воображения принесли молодой писательнице мировую славу, и она решила посвятить себя творч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24saati.ge/uploads/articles/2011/12/23827_4efde28da3bb6.jpg"/>
          <p:cNvPicPr/>
          <p:nvPr/>
        </p:nvPicPr>
        <p:blipFill>
          <a:blip r:embed="rId2"/>
          <a:stretch/>
        </p:blipFill>
        <p:spPr>
          <a:xfrm>
            <a:off x="426960" y="378000"/>
            <a:ext cx="537696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1\Downloads\lagerlef_selma.jpg"/>
          <p:cNvPicPr/>
          <p:nvPr/>
        </p:nvPicPr>
        <p:blipFill>
          <a:blip r:embed="rId2"/>
          <a:stretch/>
        </p:blipFill>
        <p:spPr>
          <a:xfrm>
            <a:off x="5796000" y="189000"/>
            <a:ext cx="2755800" cy="33066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179280" y="260280"/>
            <a:ext cx="5545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ршиной творчества Лагерлёф стал роман </a:t>
            </a: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"Иерусалим"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— о группе шведских крестьян, эмигрировавших в Палест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лубоким знанием людей и психологической проницательностью отмечены романы "Возница", "Император Португалии", "Перстень Лёвеншёльдов" , "Шарлотта Лёвеншёльд" и многие друг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6" descr="1234000351_legendy-o-xriste.jpg"/>
          <p:cNvPicPr/>
          <p:nvPr/>
        </p:nvPicPr>
        <p:blipFill>
          <a:blip r:embed="rId3"/>
          <a:stretch/>
        </p:blipFill>
        <p:spPr>
          <a:xfrm>
            <a:off x="6084720" y="3687840"/>
            <a:ext cx="2116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7" descr="509732.jpg"/>
          <p:cNvPicPr/>
          <p:nvPr/>
        </p:nvPicPr>
        <p:blipFill>
          <a:blip r:embed="rId2"/>
          <a:stretch/>
        </p:blipFill>
        <p:spPr>
          <a:xfrm>
            <a:off x="324000" y="784080"/>
            <a:ext cx="3790800" cy="55594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4284720" y="162864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тская книга "Чудесное путешествие Нильса Хольгерссона" переведена на многие яз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1\Downloads\th (2).jpg"/>
          <p:cNvPicPr/>
          <p:nvPr/>
        </p:nvPicPr>
        <p:blipFill>
          <a:blip r:embed="rId4"/>
          <a:stretch/>
        </p:blipFill>
        <p:spPr>
          <a:xfrm>
            <a:off x="7308720" y="189000"/>
            <a:ext cx="152424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1\Downloads\95645f6212488344e184dd2a7fb8e274.jpg"/>
          <p:cNvPicPr/>
          <p:nvPr/>
        </p:nvPicPr>
        <p:blipFill>
          <a:blip r:embed="rId5"/>
          <a:stretch/>
        </p:blipFill>
        <p:spPr>
          <a:xfrm>
            <a:off x="6948360" y="4246560"/>
            <a:ext cx="1652760" cy="25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Users\1\Downloads\chudesnoe_puteshestvie_nilsa_s_dikimi_gusjami.jpg"/>
          <p:cNvPicPr/>
          <p:nvPr/>
        </p:nvPicPr>
        <p:blipFill>
          <a:blip r:embed="rId6"/>
          <a:stretch/>
        </p:blipFill>
        <p:spPr>
          <a:xfrm>
            <a:off x="4572000" y="472428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02labqs5t1252720464.jpg"/>
          <p:cNvPicPr/>
          <p:nvPr/>
        </p:nvPicPr>
        <p:blipFill>
          <a:blip r:embed="rId2"/>
          <a:stretch/>
        </p:blipFill>
        <p:spPr>
          <a:xfrm rot="21226800">
            <a:off x="855720" y="999720"/>
            <a:ext cx="3930480" cy="512604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5" descr="1fc2ccac4d0d74e97097a711b343d669.jpg"/>
          <p:cNvPicPr/>
          <p:nvPr/>
        </p:nvPicPr>
        <p:blipFill>
          <a:blip r:embed="rId3"/>
          <a:stretch/>
        </p:blipFill>
        <p:spPr>
          <a:xfrm rot="583200">
            <a:off x="4789080" y="900000"/>
            <a:ext cx="3595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4572000" y="260280"/>
            <a:ext cx="439272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909 году Сельма Лагерлёф получила </a:t>
            </a: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Нобелевскую премию по литерату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914 году была избрана </a:t>
            </a: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членом Шведской академи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льма Лагерлёф умерла в своем имении Морбакка в Вермланде 16 марта 1940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im5-tub-ru.yandex.net/i?id=64062225-04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4221000"/>
            <a:ext cx="2227320" cy="2087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im2-tub-ru.yandex.net/i?id=450512275-59-72&amp;n=21"/>
          <p:cNvPicPr/>
          <p:nvPr/>
        </p:nvPicPr>
        <p:blipFill>
          <a:blip r:embed="rId4"/>
          <a:stretch/>
        </p:blipFill>
        <p:spPr>
          <a:xfrm>
            <a:off x="250920" y="3213000"/>
            <a:ext cx="1728720" cy="254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im8-tub-ru.yandex.net/i?id=274175938-08-72&amp;n=21"/>
          <p:cNvPicPr/>
          <p:nvPr/>
        </p:nvPicPr>
        <p:blipFill>
          <a:blip r:embed="rId5"/>
          <a:stretch/>
        </p:blipFill>
        <p:spPr>
          <a:xfrm>
            <a:off x="468360" y="692280"/>
            <a:ext cx="1295280" cy="204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1\Downloads\s2189_1230056296_1.jpg"/>
          <p:cNvPicPr/>
          <p:nvPr/>
        </p:nvPicPr>
        <p:blipFill>
          <a:blip r:embed="rId6"/>
          <a:stretch/>
        </p:blipFill>
        <p:spPr>
          <a:xfrm>
            <a:off x="2340000" y="692280"/>
            <a:ext cx="190512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7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8:11:00Z</dcterms:created>
  <dc:creator>koctya sav</dc:creator>
  <dc:description/>
  <dc:language>en-US</dc:language>
  <cp:lastModifiedBy>1</cp:lastModifiedBy>
  <dcterms:modified xsi:type="dcterms:W3CDTF">2014-03-18T11:54:44Z</dcterms:modified>
  <cp:revision>4</cp:revision>
  <dc:subject/>
  <dc:title>Сельма Лагерлеф «Святая ночь»</dc:title>
</cp:coreProperties>
</file>