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D2C-99C3-48E4-9212-8C92E077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C53-1981-467F-8893-C8BFC46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185-755D-4FBB-B0B3-D44FD6DF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042-878D-428F-B0D7-EE247F56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BD4-8A81-413C-AF23-281CE1A2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3398-03DF-4ADD-A84A-0DCBF85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4CDA-DEC3-49B1-B9C8-06A7D697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7EF-9523-4463-AE1A-AC2B2F2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59C6-8EDD-42D0-97EE-A0CA08F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0AD5-F729-4A3F-9649-81DD4424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7ED8-A0B1-4B14-B0AB-C9DC274E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E3D-3727-47C9-9A86-5C2F88F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D804-9D6A-4EE4-9846-5314C91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7F1-8344-49B6-AE53-4EFD470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67AD-E53A-48D4-A994-7692C6CE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460-3717-455F-8976-D9DF1C00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563-01AF-4917-8E56-6E4F5751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F7C0-B246-4BAD-9C10-22F14673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F39C-0BA2-4D52-BADD-9E383603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1616-4797-464C-978F-611811EA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51A6-29F6-483C-BD1D-D432CC6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B2D8-FF54-4EDB-8234-735E773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4C3-5C2D-456C-B9B7-1F396E7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976D-2395-420F-92C6-2DB380FE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C238-EAEC-4D3E-A8BC-F708C2A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CDC7-9EBA-40B8-AF79-283095D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095F-B3D0-4C84-B9F7-DE2A51F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AED9-BFBE-41D4-B25C-FFEF4007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028F-CA60-403F-8FF9-9CBEB0DC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DACE-C0DD-4994-A9B4-3A6D99F2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C2AA-9C3D-4A77-8E84-418508DB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0454-E2B9-48DC-B198-1E9AEC8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9FA4-4670-4245-9130-881B077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CCE-87E0-47E8-8104-6F42AB78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067D-C5B5-4CDB-BA2D-56C8209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B755-78EB-48C8-9CCC-7A7A00C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095E-1917-4D16-9789-3B3B046D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5F10-84DF-4FE7-A7EE-DFBCD0C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6CBB-FEFE-491C-BDE9-5DFE53D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AFE8-6FF4-46F4-BA3F-BB62B545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C841-D074-46C5-BBEB-626511B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5291-4CFB-45A9-B4CE-209869F0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BBB5-2303-44D0-AE5A-0E6781EB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5AF42-A17B-4794-9EDC-A1752EA9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660-3915-4DAD-83AD-1B07FF60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B2933-5709-4076-9152-F026223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D876-FAAB-4118-BFE1-02E05AF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DD351-FF38-4F9C-A040-43EE9E8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DF6F-5CC9-412D-AAA0-906F8CFE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82D6-8842-4B38-B3AD-28036433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8BE5-B1A2-45E3-AF72-2B0F3F5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C02C-B423-46BF-9894-5EE489B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B3F8-2419-4E94-8D35-ED30864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918F-0502-4477-AAF7-70FA06F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9328-B89C-4956-BCC2-3CDFDA04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C69-D23B-483F-B607-23C98A7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3BFA-196E-45CC-929F-D0592962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FC9-47CB-4DC2-A3A7-6AD3CD4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CCA-5D99-4E67-B9C6-51EE324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D89-85CD-4244-B0C7-2B1A663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7E6-2BB2-4042-BAA9-AC9943B936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4F0-B90E-4504-A10A-38715782C0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E3CA-FEBF-446C-9770-58E6AE8519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874C-912C-4113-A6E5-BB069A5E6C7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111-280A-4009-808E-F8377EF3C2A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21.jpeg"/><Relationship Id="rId6" Type="http://schemas.openxmlformats.org/officeDocument/2006/relationships/image" Target="../media/image6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5.jpeg"/><Relationship Id="rId8" Type="http://schemas.openxmlformats.org/officeDocument/2006/relationships/image" Target="../media/image11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41400"/>
                </a:solidFill>
                <a:latin typeface="Arial"/>
              </a:rPr>
              <a:t>Басни И.А. Крылова.</a:t>
            </a:r>
            <a:br>
              <a:rPr sz="3600"/>
            </a:br>
            <a:r>
              <a:rPr b="1" lang="ru-RU" sz="3600" spc="-1" strike="noStrike">
                <a:solidFill>
                  <a:srgbClr val="bf4823"/>
                </a:solidFill>
                <a:latin typeface="Arial"/>
              </a:rPr>
              <a:t>Игра «Знатоки басен.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русского язы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литератур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Погребна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Надежда Ивановн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МБОУ Кагальницкая СОШ№1 Кагальницкого района Ростовской обла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эруди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033720" y="2581920"/>
            <a:ext cx="307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етям раздаются сетки кроссворда с вопрос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9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"/>
          <p:cNvPicPr/>
          <p:nvPr/>
        </p:nvPicPr>
        <p:blipFill>
          <a:blip r:embed="rId1"/>
          <a:stretch/>
        </p:blipFill>
        <p:spPr>
          <a:xfrm>
            <a:off x="3132000" y="3036960"/>
            <a:ext cx="2448000" cy="2417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684360" y="191628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55640" y="184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 басни «Кварт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, которая увидела свой образ в зер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826920" y="2708280"/>
            <a:ext cx="21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то без драки «хочет попасть в большие забияк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 кого к зиме «был готов и стол, и дом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то восхвалял петуха, «не боясь грех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Любимое блюдо Демь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219640" y="1773360"/>
            <a:ext cx="33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Один из героев басни, которые «везти с поклажей воз взялис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775480" y="265572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848200" y="27288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5919840" y="3089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6012000" y="2637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Она осталась без обеда благодаря своей глу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919840" y="3952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919840" y="395280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6084720" y="3500280"/>
            <a:ext cx="24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ы правильно отгадали кроссворд, то по горизонтали в выделенных клетках прочитаете имя героини басни, которая «пропела всё ле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Загад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к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ух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йве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гу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ёс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л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400560" y="1720800"/>
            <a:ext cx="52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327480" y="1792440"/>
            <a:ext cx="52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есь даны названия животных – героев басни. Только буквы в них перепутаны. Поставьте буквы на место, и вы получите названия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111480" y="402444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то у вас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smal"/>
          <p:cNvPicPr/>
          <p:nvPr/>
        </p:nvPicPr>
        <p:blipFill>
          <a:blip r:embed="rId2"/>
          <a:stretch/>
        </p:blipFill>
        <p:spPr>
          <a:xfrm>
            <a:off x="3995640" y="4508640"/>
            <a:ext cx="2198880" cy="2089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trumb_0320071293417"/>
          <p:cNvPicPr/>
          <p:nvPr/>
        </p:nvPicPr>
        <p:blipFill>
          <a:blip r:embed="rId3"/>
          <a:stretch/>
        </p:blipFill>
        <p:spPr>
          <a:xfrm>
            <a:off x="3995640" y="4653000"/>
            <a:ext cx="2105280" cy="1820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images"/>
          <p:cNvPicPr/>
          <p:nvPr/>
        </p:nvPicPr>
        <p:blipFill>
          <a:blip r:embed="rId4"/>
          <a:stretch/>
        </p:blipFill>
        <p:spPr>
          <a:xfrm>
            <a:off x="3995640" y="472428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6dd6a404ac588b73726024f188d4fb37"/>
          <p:cNvPicPr/>
          <p:nvPr/>
        </p:nvPicPr>
        <p:blipFill>
          <a:blip r:embed="rId5"/>
          <a:stretch/>
        </p:blipFill>
        <p:spPr>
          <a:xfrm>
            <a:off x="3995640" y="4869000"/>
            <a:ext cx="1944720" cy="1657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untitled"/>
          <p:cNvPicPr/>
          <p:nvPr/>
        </p:nvPicPr>
        <p:blipFill>
          <a:blip r:embed="rId6"/>
          <a:stretch/>
        </p:blipFill>
        <p:spPr>
          <a:xfrm>
            <a:off x="4067280" y="4724280"/>
            <a:ext cx="1655640" cy="1884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iulv"/>
          <p:cNvPicPr/>
          <p:nvPr/>
        </p:nvPicPr>
        <p:blipFill>
          <a:blip r:embed="rId7"/>
          <a:stretch/>
        </p:blipFill>
        <p:spPr>
          <a:xfrm>
            <a:off x="4067280" y="4797360"/>
            <a:ext cx="2089080" cy="15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Подведение итог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так, ребята, вы выполнили все задания конкурсной и игровой программы. При этом показали очень хорошие знания басен Крылова. Но самым лучшим знатоком басен оказался… (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называет фамилию победител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. Он награждается эмблем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Лучший знаток басен Крылова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и уро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тупительное слов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а «Знатоки басен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вивать навыки выразительного чт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ь сопоставлению текс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вать представления об особенностях жанра бас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- портрет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krylov"/>
          <p:cNvPicPr/>
          <p:nvPr/>
        </p:nvPicPr>
        <p:blipFill>
          <a:blip r:embed="rId1"/>
          <a:stretch/>
        </p:blipFill>
        <p:spPr>
          <a:xfrm>
            <a:off x="468360" y="2565360"/>
            <a:ext cx="2736720" cy="33717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116000" y="549360"/>
            <a:ext cx="6991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ительное слово учител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564000" y="2097000"/>
            <a:ext cx="53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ого русского баснописца Ивана Андреевича Крылова наш народ издавна зовёт дедушкой Крыл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о проявился талант Крылова в баснях. Басни писали и до Крылова, но И.А. писал их так просто, доходчиво, по-народному, что каждый легко их запоми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снях Крылова фигурирует множество различных зверей. Но под видом животных он изображал людей. За львами, лисицами, воронами стоят подлинные человеческие характ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на уроках литературы мы встречаемся с баснями Крылова. И сегодняшний урок проведём в виде конкурса, который позволит выявить лучшего знатока б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:Отгадайте, о каком герое басни Крылова идё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619280" y="260280"/>
            <a:ext cx="57610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"Знатоки басен"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4000" y="2924280"/>
            <a:ext cx="8589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то красное пропел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о к темю их прижмёт, то их на хвост нанижет…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виноват уж тем, что хочется мне кушать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 радости в зобу дыханье спёрл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 кончил подвиг тем, что сам попал в поло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ушает да ест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ут с просьбой все к нему, чтоб их решить сомнен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она-то я и не приметил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м кумушек считать трудиться, не лучше ль на себя, кума, оборотиться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шь были б жёлуди: ведь я от них жире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19120" y="618480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ущий за каждый правильный ответ даёт же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32320" y="1873800"/>
            <a:ext cx="748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герои басен здесь зашифров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– и – 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ё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ь – 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о – 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–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 – а – е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т – е – о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ца, Осел, Моська, Соловей, Волк, Муравей, 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3tny7fby7ost0rlcumdi3ehnmajsdsb2"/>
          <p:cNvPicPr/>
          <p:nvPr/>
        </p:nvPicPr>
        <p:blipFill>
          <a:blip r:embed="rId1"/>
          <a:stretch/>
        </p:blipFill>
        <p:spPr>
          <a:xfrm>
            <a:off x="684360" y="1773360"/>
            <a:ext cx="1528560" cy="107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untitled"/>
          <p:cNvPicPr/>
          <p:nvPr/>
        </p:nvPicPr>
        <p:blipFill>
          <a:blip r:embed="rId2"/>
          <a:stretch/>
        </p:blipFill>
        <p:spPr>
          <a:xfrm>
            <a:off x="971640" y="292428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1225"/>
          <p:cNvPicPr/>
          <p:nvPr/>
        </p:nvPicPr>
        <p:blipFill>
          <a:blip r:embed="rId3"/>
          <a:stretch/>
        </p:blipFill>
        <p:spPr>
          <a:xfrm>
            <a:off x="755640" y="4941720"/>
            <a:ext cx="1711440" cy="115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211207"/>
          <p:cNvPicPr/>
          <p:nvPr/>
        </p:nvPicPr>
        <p:blipFill>
          <a:blip r:embed="rId4"/>
          <a:stretch/>
        </p:blipFill>
        <p:spPr>
          <a:xfrm>
            <a:off x="3492360" y="4941720"/>
            <a:ext cx="1994040" cy="1154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smal"/>
          <p:cNvPicPr/>
          <p:nvPr/>
        </p:nvPicPr>
        <p:blipFill>
          <a:blip r:embed="rId5"/>
          <a:stretch/>
        </p:blipFill>
        <p:spPr>
          <a:xfrm>
            <a:off x="7236000" y="1773360"/>
            <a:ext cx="1279440" cy="1339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images"/>
          <p:cNvPicPr/>
          <p:nvPr/>
        </p:nvPicPr>
        <p:blipFill>
          <a:blip r:embed="rId6"/>
          <a:stretch/>
        </p:blipFill>
        <p:spPr>
          <a:xfrm>
            <a:off x="7380360" y="3357720"/>
            <a:ext cx="952560" cy="1257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nzl2zkuhz4q0dkw766fsmqbadkgibkhp"/>
          <p:cNvPicPr/>
          <p:nvPr/>
        </p:nvPicPr>
        <p:blipFill>
          <a:blip r:embed="rId7"/>
          <a:stretch/>
        </p:blipFill>
        <p:spPr>
          <a:xfrm>
            <a:off x="6227640" y="4941720"/>
            <a:ext cx="190512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6"/>
          <p:cNvSpPr txBox="1"/>
          <p:nvPr/>
        </p:nvSpPr>
        <p:spPr>
          <a:xfrm>
            <a:off x="1979640" y="620640"/>
            <a:ext cx="57610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"Угадай-к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131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900000" y="1902960"/>
            <a:ext cx="75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тгадайте, что здесь перепута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Плутовк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 берегу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на цыпочках подходит, вертит хвостом, с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укушк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 дереву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подходит,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с ворон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Как, милы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очеток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, поешь ты громко, важно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Петушок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Однажды Лебедь, Рак да Щука везти с поклажей воз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впряглись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Взялись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гавкнул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во все воронье горл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аркнул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Мартышка к старости слаб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ушам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стал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Глазами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"Соседка, перестань срамиться" – е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бабк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Шавк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547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утаниц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ите герою басни найти свою па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и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ь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 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нён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куш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images"/>
          <p:cNvPicPr/>
          <p:nvPr/>
        </p:nvPicPr>
        <p:blipFill>
          <a:blip r:embed="rId2"/>
          <a:stretch/>
        </p:blipFill>
        <p:spPr>
          <a:xfrm>
            <a:off x="3059280" y="1484280"/>
            <a:ext cx="1285560" cy="96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iulv"/>
          <p:cNvPicPr/>
          <p:nvPr/>
        </p:nvPicPr>
        <p:blipFill>
          <a:blip r:embed="rId3"/>
          <a:stretch/>
        </p:blipFill>
        <p:spPr>
          <a:xfrm>
            <a:off x="5724360" y="1557360"/>
            <a:ext cx="136872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6844_214587351543eb1fe2c4212"/>
          <p:cNvPicPr/>
          <p:nvPr/>
        </p:nvPicPr>
        <p:blipFill>
          <a:blip r:embed="rId4"/>
          <a:stretch/>
        </p:blipFill>
        <p:spPr>
          <a:xfrm>
            <a:off x="3564000" y="2637000"/>
            <a:ext cx="1152360" cy="10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3tny7fby7ost0rlcumdi3ehnmajsdsb2"/>
          <p:cNvPicPr/>
          <p:nvPr/>
        </p:nvPicPr>
        <p:blipFill>
          <a:blip r:embed="rId5"/>
          <a:stretch/>
        </p:blipFill>
        <p:spPr>
          <a:xfrm>
            <a:off x="7093080" y="2708280"/>
            <a:ext cx="1439640" cy="930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smal"/>
          <p:cNvPicPr/>
          <p:nvPr/>
        </p:nvPicPr>
        <p:blipFill>
          <a:blip r:embed="rId6"/>
          <a:stretch/>
        </p:blipFill>
        <p:spPr>
          <a:xfrm>
            <a:off x="5148360" y="3141720"/>
            <a:ext cx="1046160" cy="1095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trumb_0320071293417"/>
          <p:cNvPicPr/>
          <p:nvPr/>
        </p:nvPicPr>
        <p:blipFill>
          <a:blip r:embed="rId7"/>
          <a:stretch/>
        </p:blipFill>
        <p:spPr>
          <a:xfrm>
            <a:off x="3492360" y="4149720"/>
            <a:ext cx="1225800" cy="977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nzl2zkuhz4q0dkw766fsmqbadkgibkhp"/>
          <p:cNvPicPr/>
          <p:nvPr/>
        </p:nvPicPr>
        <p:blipFill>
          <a:blip r:embed="rId8"/>
          <a:stretch/>
        </p:blipFill>
        <p:spPr>
          <a:xfrm>
            <a:off x="6588000" y="414972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images"/>
          <p:cNvPicPr/>
          <p:nvPr/>
        </p:nvPicPr>
        <p:blipFill>
          <a:blip r:embed="rId9"/>
          <a:stretch/>
        </p:blipFill>
        <p:spPr>
          <a:xfrm>
            <a:off x="4859280" y="5084640"/>
            <a:ext cx="15130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оэтический конку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2. Конкурс «Кто больш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3. Вспомните «крылатые» выражения из басен Кры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124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ку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780000" y="227664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желающий ученик читает наизусть понравившуюся ему басню Кры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975120" y="409716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1 минуту на листочках дети должны написать как можно больше героев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2 игровых поля. На одном – строчки из басен, на другом – названия б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1908000" y="260280"/>
            <a:ext cx="54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932360" y="299736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. Мартышка и 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 Ворона и лис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. Демьянова 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и мура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. Лебедь, щука и р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 Слон и мос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. Мышь и кры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. Квар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826920" y="2997360"/>
            <a:ext cx="347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то красное проп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 ним была плутовка та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седка, перестань, сра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Я три тарелки съ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тоб музыкантом быть, так надобно ум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воз и ныне т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проку на волос в них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ильнее кошки звер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1:00:46Z</dcterms:created>
  <dc:creator>Пользователь</dc:creator>
  <dc:description/>
  <dc:language>en-US</dc:language>
  <cp:lastModifiedBy>Надежда</cp:lastModifiedBy>
  <dcterms:modified xsi:type="dcterms:W3CDTF">2012-03-04T18:14:04Z</dcterms:modified>
  <cp:revision>6</cp:revision>
  <dc:subject/>
  <dc:title>Басни И.А. Крылова. Игра «Знатоки басен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