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0BA-3146-4FC7-8A12-3F59AE28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6FF-AF45-4042-A59A-A7E67DB8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C24-3C92-492F-80C6-7D86C2C2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17B-09A4-4D55-B6A5-3BE836BC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00E1-D659-4173-BD7C-56D7CA7A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24E5-5EA1-43D1-997D-43C21FD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29C7-1E32-4F8C-AC98-2C028367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44B-C246-4EF0-890C-897610D6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F60F-7FD5-41A4-9E52-B9043BA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627E-8B8E-4D87-A6DC-24086E5B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E9EA-9FB2-4292-AF9B-C0EED98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94A-E149-44A2-9835-0E81CCF6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BFDC-28D6-4748-8799-0D5102B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DFC8-BD18-4D05-AC60-1F394C3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EA33-8161-4611-9A0F-D9E2B09C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C6E3-5E58-41F6-9324-EE6F5A0A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A3DA-F510-4056-BE6E-D7D8DF9F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866F-8010-479B-A429-C6BEE909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8D67-EE15-45FC-A34A-7DDC9EC6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0AFA-1476-43B7-909F-AD8C125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042A-850D-4968-AB6D-45E6CC9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E13D-5AE3-4D4E-B07D-3331C11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263-4C18-4787-BB8C-0B99A0A2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0589-3788-40D2-B710-EAE69D62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F1CB-38F3-4C26-B6AB-A297280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38A0-A574-49E7-BE03-9CBE8D97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3973-128E-4C50-A386-7483754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C8B8-7D4C-4CC9-8551-467F1577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C2EF-B4C0-496D-96B1-C5D6B8C0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D5D6-BA45-43CC-8D90-6FF3F3E5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1ACF-9DCD-42F7-8F4D-7766A3C5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49F8-CDF7-45E7-A31B-F571BFCA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E385-EA8F-41D9-924B-DC50948B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709-114B-475C-901B-974A031A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A209-5EEA-4275-99D3-DCE25524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55FD-A89C-4161-82C9-6E4325C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0F74-F2D7-4476-8482-78D56A7A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E99D-CFAD-4C3B-BA4F-D269C04F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AFE3-1DED-4C08-8357-624BCAA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4DF2-1206-4C5A-8D64-2C7AE09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6081-5400-4118-B403-100C7B02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1D53-EFA3-4D19-9F1A-30466CBF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8A08-FEA1-4257-B2E3-7F2EBC7A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5BF0-D4C8-4682-A361-53B1FD72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C85-ABE6-4517-9FCD-A0F682E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3909-D4AD-4793-9FB6-0DE6038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F21B-3DB1-41AD-B8E0-6EEB4FFA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390C-E62B-471B-8730-C54F7071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17B8-9900-435E-A249-F34B680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9BE1-81BC-4D64-A01D-1095B23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EBD9-DE67-43CC-B8B6-5105F2B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A889-8372-446C-A5BB-0EF7DB1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7C27A-0307-4B31-B19B-DA45175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802F-418E-479A-BF21-E295BA14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20CE-2D1B-4DAA-B316-4BB30C2C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1DA-D4A8-4875-A12A-2FB508E0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2CC8-8FDF-44E6-8097-3493B231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ABC-BF81-48D3-9898-FC9F6E1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DC2-F8BB-4C78-B6AD-66CAD59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281-C902-468C-9C2B-3DBAD4D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9CF-E72F-49D5-A4DC-FABE8F972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E4B5-6BB6-4FE5-8E17-2BDA213B782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DFAE-25BD-4815-ADFC-F9596C55D2A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DD7-2AEC-487B-A4A1-31940A77C0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17E-6CC6-48C3-AD0B-664AC663F9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image" Target="../media/image21.jpeg"/><Relationship Id="rId6" Type="http://schemas.openxmlformats.org/officeDocument/2006/relationships/image" Target="../media/image6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5.jpeg"/><Relationship Id="rId8" Type="http://schemas.openxmlformats.org/officeDocument/2006/relationships/image" Target="../media/image11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41400"/>
                </a:solidFill>
                <a:latin typeface="Arial"/>
              </a:rPr>
              <a:t>Басни И.А. Крылова.</a:t>
            </a:r>
            <a:br>
              <a:rPr sz="3600"/>
            </a:br>
            <a:r>
              <a:rPr b="1" lang="ru-RU" sz="3600" spc="-1" strike="noStrike">
                <a:solidFill>
                  <a:srgbClr val="bf4823"/>
                </a:solidFill>
                <a:latin typeface="Arial"/>
              </a:rPr>
              <a:t>Игра «Знатоки басен.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русского язы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литератур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Погребна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Надежда Ивановн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МБОУ Кагальницкая СОШ№1 Кагальницкого района Ростовской обла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эруди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033720" y="2581920"/>
            <a:ext cx="307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етям раздаются сетки кроссворда с вопрос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9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"/>
          <p:cNvPicPr/>
          <p:nvPr/>
        </p:nvPicPr>
        <p:blipFill>
          <a:blip r:embed="rId1"/>
          <a:stretch/>
        </p:blipFill>
        <p:spPr>
          <a:xfrm>
            <a:off x="3132000" y="3036960"/>
            <a:ext cx="2448000" cy="2417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684360" y="191628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55640" y="184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ня басни «Кварт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ня, которая увидела свой образ в зер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826920" y="2708280"/>
            <a:ext cx="21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то без драки «хочет попасть в большие забияк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 кого к зиме «был готов и стол, и дом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то восхвалял петуха, «не боясь грех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Любимое блюдо Демь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219640" y="1773360"/>
            <a:ext cx="33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Один из героев басни, которые «везти с поклажей воз взялис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5775480" y="265572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848200" y="272880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5919840" y="3089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6012000" y="2637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Она осталась без обеда благодаря своей глу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919840" y="3952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919840" y="395280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6084720" y="3500280"/>
            <a:ext cx="24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ы правильно отгадали кроссворд, то по горизонтали в выделенных клетках прочитаете имя героини басни, которая «пропела всё ле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Загад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к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ух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райве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гу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ёс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л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400560" y="1720800"/>
            <a:ext cx="52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327480" y="1792440"/>
            <a:ext cx="52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есь даны названия животных – героев басни. Только буквы в них перепутаны. Поставьте буквы на место, и вы получите названия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111480" y="402444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то у вас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smal"/>
          <p:cNvPicPr/>
          <p:nvPr/>
        </p:nvPicPr>
        <p:blipFill>
          <a:blip r:embed="rId2"/>
          <a:stretch/>
        </p:blipFill>
        <p:spPr>
          <a:xfrm>
            <a:off x="3995640" y="4508640"/>
            <a:ext cx="2198880" cy="2089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trumb_0320071293417"/>
          <p:cNvPicPr/>
          <p:nvPr/>
        </p:nvPicPr>
        <p:blipFill>
          <a:blip r:embed="rId3"/>
          <a:stretch/>
        </p:blipFill>
        <p:spPr>
          <a:xfrm>
            <a:off x="3995640" y="4653000"/>
            <a:ext cx="2105280" cy="1820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images"/>
          <p:cNvPicPr/>
          <p:nvPr/>
        </p:nvPicPr>
        <p:blipFill>
          <a:blip r:embed="rId4"/>
          <a:stretch/>
        </p:blipFill>
        <p:spPr>
          <a:xfrm>
            <a:off x="3995640" y="472428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6dd6a404ac588b73726024f188d4fb37"/>
          <p:cNvPicPr/>
          <p:nvPr/>
        </p:nvPicPr>
        <p:blipFill>
          <a:blip r:embed="rId5"/>
          <a:stretch/>
        </p:blipFill>
        <p:spPr>
          <a:xfrm>
            <a:off x="3995640" y="4869000"/>
            <a:ext cx="1944720" cy="1657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untitled"/>
          <p:cNvPicPr/>
          <p:nvPr/>
        </p:nvPicPr>
        <p:blipFill>
          <a:blip r:embed="rId6"/>
          <a:stretch/>
        </p:blipFill>
        <p:spPr>
          <a:xfrm>
            <a:off x="4067280" y="4724280"/>
            <a:ext cx="1655640" cy="1884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iulv"/>
          <p:cNvPicPr/>
          <p:nvPr/>
        </p:nvPicPr>
        <p:blipFill>
          <a:blip r:embed="rId7"/>
          <a:stretch/>
        </p:blipFill>
        <p:spPr>
          <a:xfrm>
            <a:off x="4067280" y="4797360"/>
            <a:ext cx="2089080" cy="15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Подведение итог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так, ребята, вы выполнили все задания конкурсной и игровой программы. При этом показали очень хорошие знания басен Крылова. Но самым лучшим знатоком басен оказался… (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читель называет фамилию победител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. Он награждается эмблемо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Лучший знаток басен Крылова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и уро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тупительное слов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а «Знатоки басен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вивать навыки выразительного чт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ить сопоставлению текст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вать представления об особенностях жанра бас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- портрет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krylov"/>
          <p:cNvPicPr/>
          <p:nvPr/>
        </p:nvPicPr>
        <p:blipFill>
          <a:blip r:embed="rId1"/>
          <a:stretch/>
        </p:blipFill>
        <p:spPr>
          <a:xfrm>
            <a:off x="468360" y="2565360"/>
            <a:ext cx="2736720" cy="33717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116000" y="549360"/>
            <a:ext cx="6991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упительное слово учител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564000" y="2097000"/>
            <a:ext cx="53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кого русского баснописца Ивана Андреевича Крылова наш народ издавна зовёт дедушкой Крыл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ярко проявился талант Крылова в баснях. Басни писали и до Крылова, но И.А. писал их так просто, доходчиво, по-народному, что каждый легко их запоми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снях Крылова фигурирует множество различных зверей. Но под видом животных он изображал людей. За львами, лисицами, воронами стоят подлинные человеческие характ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на уроках литературы мы встречаемся с баснями Крылова. И сегодняшний урок проведём в виде конкурса, который позволит выявить лучшего знатока б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:Отгадайте, о каком герое басни Крылова идё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619280" y="260280"/>
            <a:ext cx="57610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 "Знатоки басен"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24000" y="2924280"/>
            <a:ext cx="8589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то красное пропел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о к темю их прижмёт, то их на хвост нанижет…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виноват уж тем, что хочется мне кушать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т радости в зобу дыханье спёрл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 кончил подвиг тем, что сам попал в поло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ушает да ест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ут с просьбой все к нему, чтоб их решить сомнен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она-то я и не приметил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м кумушек считать трудиться, не лучше ль на себя, кума, оборотиться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шь были б жёлуди: ведь я от них жире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19120" y="6184800"/>
            <a:ext cx="65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ущий за каждый правильный ответ даёт же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32320" y="1873800"/>
            <a:ext cx="748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герои басен здесь зашифров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– и – 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ё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 – ь – 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 – о – 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–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 – а – е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т – е – о –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ица, Осел, Моська, Соловей, Волк, Муравей, Стре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3tny7fby7ost0rlcumdi3ehnmajsdsb2"/>
          <p:cNvPicPr/>
          <p:nvPr/>
        </p:nvPicPr>
        <p:blipFill>
          <a:blip r:embed="rId1"/>
          <a:stretch/>
        </p:blipFill>
        <p:spPr>
          <a:xfrm>
            <a:off x="684360" y="1773360"/>
            <a:ext cx="1528560" cy="107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untitled"/>
          <p:cNvPicPr/>
          <p:nvPr/>
        </p:nvPicPr>
        <p:blipFill>
          <a:blip r:embed="rId2"/>
          <a:stretch/>
        </p:blipFill>
        <p:spPr>
          <a:xfrm>
            <a:off x="971640" y="292428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1225"/>
          <p:cNvPicPr/>
          <p:nvPr/>
        </p:nvPicPr>
        <p:blipFill>
          <a:blip r:embed="rId3"/>
          <a:stretch/>
        </p:blipFill>
        <p:spPr>
          <a:xfrm>
            <a:off x="755640" y="4941720"/>
            <a:ext cx="1711440" cy="1152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211207"/>
          <p:cNvPicPr/>
          <p:nvPr/>
        </p:nvPicPr>
        <p:blipFill>
          <a:blip r:embed="rId4"/>
          <a:stretch/>
        </p:blipFill>
        <p:spPr>
          <a:xfrm>
            <a:off x="3492360" y="4941720"/>
            <a:ext cx="1994040" cy="1154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smal"/>
          <p:cNvPicPr/>
          <p:nvPr/>
        </p:nvPicPr>
        <p:blipFill>
          <a:blip r:embed="rId5"/>
          <a:stretch/>
        </p:blipFill>
        <p:spPr>
          <a:xfrm>
            <a:off x="7236000" y="1773360"/>
            <a:ext cx="1279440" cy="1339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images"/>
          <p:cNvPicPr/>
          <p:nvPr/>
        </p:nvPicPr>
        <p:blipFill>
          <a:blip r:embed="rId6"/>
          <a:stretch/>
        </p:blipFill>
        <p:spPr>
          <a:xfrm>
            <a:off x="7380360" y="3357720"/>
            <a:ext cx="952560" cy="1257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nzl2zkuhz4q0dkw766fsmqbadkgibkhp"/>
          <p:cNvPicPr/>
          <p:nvPr/>
        </p:nvPicPr>
        <p:blipFill>
          <a:blip r:embed="rId7"/>
          <a:stretch/>
        </p:blipFill>
        <p:spPr>
          <a:xfrm>
            <a:off x="6227640" y="4941720"/>
            <a:ext cx="1905120" cy="11462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16"/>
          <p:cNvSpPr txBox="1"/>
          <p:nvPr/>
        </p:nvSpPr>
        <p:spPr>
          <a:xfrm>
            <a:off x="1979640" y="620640"/>
            <a:ext cx="57610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"Угадай-к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6131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900000" y="1902960"/>
            <a:ext cx="75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тгадайте, что здесь перепута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Плутовк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 берегу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на цыпочках подходит, вертит хвостом, с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укушки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глаз не свод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до: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к дереву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подходит,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с ворон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глаз не свод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Как, милый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очеток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, поешь ты громко, важно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до: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Петушок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Однажды Лебедь, Рак да Щука везти с поклажей воз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впряглись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Взялись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Ворон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гавкнул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во все воронье горл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Ворона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каркнула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Мартышка к старости слаб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ушами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стал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Глазами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"Соседка, перестань срамиться" – ей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бабк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говор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Шавка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говор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1547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утаниц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гите герою басни найти свою па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и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ь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 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нёно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куш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е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images"/>
          <p:cNvPicPr/>
          <p:nvPr/>
        </p:nvPicPr>
        <p:blipFill>
          <a:blip r:embed="rId2"/>
          <a:stretch/>
        </p:blipFill>
        <p:spPr>
          <a:xfrm>
            <a:off x="3059280" y="1484280"/>
            <a:ext cx="1285560" cy="96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iulv"/>
          <p:cNvPicPr/>
          <p:nvPr/>
        </p:nvPicPr>
        <p:blipFill>
          <a:blip r:embed="rId3"/>
          <a:stretch/>
        </p:blipFill>
        <p:spPr>
          <a:xfrm>
            <a:off x="5724360" y="1557360"/>
            <a:ext cx="1368720" cy="885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6844_214587351543eb1fe2c4212"/>
          <p:cNvPicPr/>
          <p:nvPr/>
        </p:nvPicPr>
        <p:blipFill>
          <a:blip r:embed="rId4"/>
          <a:stretch/>
        </p:blipFill>
        <p:spPr>
          <a:xfrm>
            <a:off x="3564000" y="2637000"/>
            <a:ext cx="1152360" cy="10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3tny7fby7ost0rlcumdi3ehnmajsdsb2"/>
          <p:cNvPicPr/>
          <p:nvPr/>
        </p:nvPicPr>
        <p:blipFill>
          <a:blip r:embed="rId5"/>
          <a:stretch/>
        </p:blipFill>
        <p:spPr>
          <a:xfrm>
            <a:off x="7093080" y="2708280"/>
            <a:ext cx="1439640" cy="930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smal"/>
          <p:cNvPicPr/>
          <p:nvPr/>
        </p:nvPicPr>
        <p:blipFill>
          <a:blip r:embed="rId6"/>
          <a:stretch/>
        </p:blipFill>
        <p:spPr>
          <a:xfrm>
            <a:off x="5148360" y="3141720"/>
            <a:ext cx="1046160" cy="1095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trumb_0320071293417"/>
          <p:cNvPicPr/>
          <p:nvPr/>
        </p:nvPicPr>
        <p:blipFill>
          <a:blip r:embed="rId7"/>
          <a:stretch/>
        </p:blipFill>
        <p:spPr>
          <a:xfrm>
            <a:off x="3492360" y="4149720"/>
            <a:ext cx="1225800" cy="977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nzl2zkuhz4q0dkw766fsmqbadkgibkhp"/>
          <p:cNvPicPr/>
          <p:nvPr/>
        </p:nvPicPr>
        <p:blipFill>
          <a:blip r:embed="rId8"/>
          <a:stretch/>
        </p:blipFill>
        <p:spPr>
          <a:xfrm>
            <a:off x="6588000" y="414972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images"/>
          <p:cNvPicPr/>
          <p:nvPr/>
        </p:nvPicPr>
        <p:blipFill>
          <a:blip r:embed="rId9"/>
          <a:stretch/>
        </p:blipFill>
        <p:spPr>
          <a:xfrm>
            <a:off x="4859280" y="5084640"/>
            <a:ext cx="151308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оэтический конку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2. Конкурс «Кто больш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3. Вспомните «крылатые» выражения из басен Кры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124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ку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780000" y="227664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желающий ученик читает наизусть понравившуюся ему басню Кры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975120" y="409716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1 минуту на листочках дети должны написать как можно больше героев ба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2 игровых поля. На одном – строчки из басен, на другом – названия б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1908000" y="260280"/>
            <a:ext cx="54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о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932360" y="299736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. Мартышка и 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 Ворона и лис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. Демьянова 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и мура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. Лебедь, щука и р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. Слон и мос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. Мышь и кры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. Квар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826920" y="2997360"/>
            <a:ext cx="347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то красное проп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 ним была плутовка та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седка, перестань, сра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Я три тарелки съ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тоб музыкантом быть, так надобно ум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воз и ныне т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проку на волос в них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ильнее кошки звер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1:00:46Z</dcterms:created>
  <dc:creator>Пользователь</dc:creator>
  <dc:description/>
  <dc:language>en-US</dc:language>
  <cp:lastModifiedBy>Надежда</cp:lastModifiedBy>
  <dcterms:modified xsi:type="dcterms:W3CDTF">2012-03-04T18:14:04Z</dcterms:modified>
  <cp:revision>6</cp:revision>
  <dc:subject/>
  <dc:title>Басни И.А. Крылова. Игра «Знатоки басен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