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770E-0B09-4CA4-A3A6-210C19436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B0BF-36B4-46CE-A280-E110B23C0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D547-F0B6-4CF9-A96F-E179EA13C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5381-8675-4EBB-951F-7CE668195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05C6C-D072-44CC-810D-D3D6FFA60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15288-B08C-4D73-9C34-02BC9D07F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AFD70-A222-40D8-AD90-FB9421847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87E01-593C-4991-A167-C040D2C02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683CB-044E-4027-9D5D-E59CA9864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93F60-08A2-4B18-8DC8-51AF757D6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D6383-8C60-4122-99A0-0CEA0D751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AB8D-D969-4800-8942-EE345DCB4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63711-79DA-43B3-B9C6-43EF23C1B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9C36A-D3AD-49C2-8F73-BB0D287B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42BE8-1AB7-4C43-83F7-9DE98E6D9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418AC-974E-42CA-A4FD-7B32215A7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9C7F8-7320-492E-9FB9-737744719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F8167-556C-4D48-A8C8-F4539AA9C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B6EB1-42B4-4004-B24D-ADD6B8647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942E7-2628-43AA-A9B9-3CFC3F06E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EBA7C-2D32-4CCB-A245-81E4BC449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6084F-A946-495F-BB61-71DFC566A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3C39-AA39-44B6-BED8-FA9F002F3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631FA-4C57-404B-9A53-312A31C4C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0EA5B-E64A-47F7-B475-BB4FBC429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F56C0-9E73-4F01-9423-447F8A7C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19FEB-99F8-4A0E-BBB4-9CEB2F060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14B15-6092-499E-8E37-DB0257D2E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6BCAC-E5CC-42A3-AFD5-24BC289A0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379A0-E627-4507-B72B-8A0344270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2B257-4F82-44A2-A194-C8D7557D2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D1331-7BC9-4520-B95E-928E8BB3A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9E6E1-131F-4C92-9C39-9E649279C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32EB-C6B8-41D1-B794-9D1406898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D35F9-91D4-4767-B61C-08A9723AB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82A55-65DD-4A36-AEED-01B6BD145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CF5FD-1134-4AD2-A0BC-6574C169E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FBE31-03DE-4B76-851D-87FBE773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3257E-4A29-41A8-97E5-4FF13CB7B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A7288-C7CE-4F9C-B235-9FEC75E4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58FA9-4EE9-49CE-B2F6-F52728120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DA776-A74D-4C25-809F-5209AECAF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36EDF-5005-456A-8A3D-F77C77DFC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46D34-0450-419D-BF9B-6712C60B4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2B89-3876-42DC-9959-E8ADAD487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AFD71A-03BB-4C71-9593-C61D373C5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BA1220-9511-436C-92AF-FC4B8CBE6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07192-8933-400E-9454-BB31D0D32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B0ADC-FE86-4B98-9A95-279233EE0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95B0A-2FC5-472A-B53B-0717D49EB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752E5-8C82-4010-B25E-853694C97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352999-7CB6-4B2E-B500-C36608A05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8C371-EC66-4FB3-81FC-8F1E92DF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1EB29B-B3B8-4E51-937F-5B1EA8F40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76D00D-2F16-4805-B143-754287A83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2590-3FD1-471F-B1B6-AE9757A87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73BE0-DFDA-4283-A4B9-0B5246C53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0276-AEF0-45FB-9C74-8168C3424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6503-4F2C-45C0-BD5E-A9089D95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1A02-9623-4C37-9359-B358E8B3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84934-E69D-4101-8605-AC0EEAAFA9F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2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3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6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F3ED3-46D3-404A-B976-1F2ECE63E454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90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91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94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39093-FD21-4039-B0D3-7472579BCEA4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38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41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C4578-732E-4C1B-A03F-3574E5E26C8C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85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88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433CA-CC97-45DD-8A67-2A860AC19E69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9.jpeg"/><Relationship Id="rId3" Type="http://schemas.openxmlformats.org/officeDocument/2006/relationships/image" Target="../media/image15.jpeg"/><Relationship Id="rId4" Type="http://schemas.openxmlformats.org/officeDocument/2006/relationships/image" Target="../media/image10.jpeg"/><Relationship Id="rId5" Type="http://schemas.openxmlformats.org/officeDocument/2006/relationships/image" Target="../media/image21.jpeg"/><Relationship Id="rId6" Type="http://schemas.openxmlformats.org/officeDocument/2006/relationships/image" Target="../media/image6.pn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5.jpeg"/><Relationship Id="rId6" Type="http://schemas.openxmlformats.org/officeDocument/2006/relationships/image" Target="../media/image9.jpeg"/><Relationship Id="rId7" Type="http://schemas.openxmlformats.org/officeDocument/2006/relationships/image" Target="../media/image15.jpeg"/><Relationship Id="rId8" Type="http://schemas.openxmlformats.org/officeDocument/2006/relationships/image" Target="../media/image11.jpe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41400"/>
                </a:solidFill>
                <a:latin typeface="Arial"/>
              </a:rPr>
              <a:t>Басни И.А. Крылова.</a:t>
            </a:r>
            <a:br>
              <a:rPr sz="3600"/>
            </a:br>
            <a:r>
              <a:rPr b="1" lang="ru-RU" sz="3600" spc="-1" strike="noStrike">
                <a:solidFill>
                  <a:srgbClr val="bf4823"/>
                </a:solidFill>
                <a:latin typeface="Arial"/>
              </a:rPr>
              <a:t>Игра «Знатоки басен.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643280" y="292428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Учитель русского языка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И литературы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 u="sng">
                <a:solidFill>
                  <a:srgbClr val="003366"/>
                </a:solidFill>
                <a:uFillTx/>
                <a:latin typeface="Arial"/>
              </a:rPr>
              <a:t>Погребная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 u="sng">
                <a:solidFill>
                  <a:srgbClr val="003366"/>
                </a:solidFill>
                <a:uFillTx/>
                <a:latin typeface="Arial"/>
              </a:rPr>
              <a:t>Надежда Ивановна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 u="sng">
                <a:solidFill>
                  <a:srgbClr val="003366"/>
                </a:solidFill>
                <a:uFillTx/>
                <a:latin typeface="Arial"/>
              </a:rPr>
              <a:t>МБОУ Кагальницкая СОШ№1 Кагальницкого района Ростовской област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3366"/>
                </a:solidFill>
                <a:uFillTx/>
                <a:latin typeface="Arial"/>
              </a:rPr>
              <a:t>2007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500"/>
                            </p:stCondLst>
                            <p:childTnLst>
                              <p:par>
                                <p:cTn id="11" nodeType="afterEffect" fill="hold" presetClass="entr" presetID="4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" nodeType="afterEffect" fill="hold" presetClass="entr" presetID="4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500"/>
                            </p:stCondLst>
                            <p:childTnLst>
                              <p:par>
                                <p:cTn id="23" nodeType="afterEffect" fill="hold" presetClass="entr" presetID="4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8000"/>
                            </p:stCondLst>
                            <p:childTnLst>
                              <p:par>
                                <p:cTn id="29" nodeType="afterEffect" fill="hold" presetClass="entr" presetID="4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9500"/>
                            </p:stCondLst>
                            <p:childTnLst>
                              <p:par>
                                <p:cTn id="35" nodeType="afterEffect" fill="hold" presetClass="entr" presetID="4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1000"/>
                            </p:stCondLst>
                            <p:childTnLst>
                              <p:par>
                                <p:cTn id="41" nodeType="afterEffect" fill="hold" presetClass="entr" presetID="4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курс эрудито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3033720" y="2581920"/>
            <a:ext cx="30780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Детям раздаются сетки кроссворда с вопросам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9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                                         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7" descr="2"/>
          <p:cNvPicPr/>
          <p:nvPr/>
        </p:nvPicPr>
        <p:blipFill>
          <a:blip r:embed="rId1"/>
          <a:stretch/>
        </p:blipFill>
        <p:spPr>
          <a:xfrm>
            <a:off x="3132000" y="3036960"/>
            <a:ext cx="2448000" cy="241776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8"/>
          <p:cNvSpPr/>
          <p:nvPr/>
        </p:nvSpPr>
        <p:spPr>
          <a:xfrm>
            <a:off x="684360" y="1916280"/>
            <a:ext cx="208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755640" y="184464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роиня басни «Квартет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роиня, которая увидела свой образ в зерка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0"/>
          <p:cNvSpPr/>
          <p:nvPr/>
        </p:nvSpPr>
        <p:spPr>
          <a:xfrm>
            <a:off x="826920" y="2708280"/>
            <a:ext cx="2108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Кто без драки «хочет попасть в большие забияки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У кого к зиме «был готов и стол, и дом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Кто восхвалял петуха, «не боясь греха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Любимое блюдо Демья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5219640" y="1773360"/>
            <a:ext cx="333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Один из героев басни, которые «везти с поклажей воз взялись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2"/>
          <p:cNvSpPr/>
          <p:nvPr/>
        </p:nvSpPr>
        <p:spPr>
          <a:xfrm>
            <a:off x="5775480" y="2655720"/>
            <a:ext cx="282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3"/>
          <p:cNvSpPr/>
          <p:nvPr/>
        </p:nvSpPr>
        <p:spPr>
          <a:xfrm>
            <a:off x="5848200" y="2728800"/>
            <a:ext cx="254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4"/>
          <p:cNvSpPr/>
          <p:nvPr/>
        </p:nvSpPr>
        <p:spPr>
          <a:xfrm>
            <a:off x="5919840" y="3089160"/>
            <a:ext cx="246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5"/>
          <p:cNvSpPr/>
          <p:nvPr/>
        </p:nvSpPr>
        <p:spPr>
          <a:xfrm>
            <a:off x="6012000" y="2637000"/>
            <a:ext cx="261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Она осталась без обеда благодаря своей глуп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6"/>
          <p:cNvSpPr/>
          <p:nvPr/>
        </p:nvSpPr>
        <p:spPr>
          <a:xfrm>
            <a:off x="5919840" y="3952800"/>
            <a:ext cx="261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7"/>
          <p:cNvSpPr/>
          <p:nvPr/>
        </p:nvSpPr>
        <p:spPr>
          <a:xfrm>
            <a:off x="5919840" y="3952800"/>
            <a:ext cx="253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8"/>
          <p:cNvSpPr/>
          <p:nvPr/>
        </p:nvSpPr>
        <p:spPr>
          <a:xfrm>
            <a:off x="6084720" y="3500280"/>
            <a:ext cx="2468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ли вы правильно отгадали кроссворд, то по горизонтали в выделенных клетках прочитаете имя героини басни, которая «пропела всё лет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3300"/>
                </a:solidFill>
                <a:latin typeface="Arial"/>
              </a:rPr>
              <a:t>Загадочные живот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Arial"/>
              </a:rPr>
              <a:t>кв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Arial"/>
              </a:rPr>
              <a:t>пух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Arial"/>
              </a:rPr>
              <a:t>райвеу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Arial"/>
              </a:rPr>
              <a:t>губо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Arial"/>
              </a:rPr>
              <a:t>ёс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Arial"/>
              </a:rPr>
              <a:t>лс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3400560" y="1720800"/>
            <a:ext cx="520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7"/>
          <p:cNvSpPr/>
          <p:nvPr/>
        </p:nvSpPr>
        <p:spPr>
          <a:xfrm>
            <a:off x="3327480" y="1792440"/>
            <a:ext cx="5276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десь даны названия животных – героев басни. Только буквы в них перепутаны. Поставьте буквы на место, и вы получите названия живот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3111480" y="4024440"/>
            <a:ext cx="53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Что у вас получилос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9" descr="smal"/>
          <p:cNvPicPr/>
          <p:nvPr/>
        </p:nvPicPr>
        <p:blipFill>
          <a:blip r:embed="rId2"/>
          <a:stretch/>
        </p:blipFill>
        <p:spPr>
          <a:xfrm>
            <a:off x="3995640" y="4508640"/>
            <a:ext cx="2198880" cy="208908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0" descr="trumb_0320071293417"/>
          <p:cNvPicPr/>
          <p:nvPr/>
        </p:nvPicPr>
        <p:blipFill>
          <a:blip r:embed="rId3"/>
          <a:stretch/>
        </p:blipFill>
        <p:spPr>
          <a:xfrm>
            <a:off x="3995640" y="4653000"/>
            <a:ext cx="2105280" cy="18208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1" descr="images"/>
          <p:cNvPicPr/>
          <p:nvPr/>
        </p:nvPicPr>
        <p:blipFill>
          <a:blip r:embed="rId4"/>
          <a:stretch/>
        </p:blipFill>
        <p:spPr>
          <a:xfrm>
            <a:off x="3995640" y="4724280"/>
            <a:ext cx="1584360" cy="180036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2" descr="6dd6a404ac588b73726024f188d4fb37"/>
          <p:cNvPicPr/>
          <p:nvPr/>
        </p:nvPicPr>
        <p:blipFill>
          <a:blip r:embed="rId5"/>
          <a:stretch/>
        </p:blipFill>
        <p:spPr>
          <a:xfrm>
            <a:off x="3995640" y="4869000"/>
            <a:ext cx="1944720" cy="16570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3" descr="untitled"/>
          <p:cNvPicPr/>
          <p:nvPr/>
        </p:nvPicPr>
        <p:blipFill>
          <a:blip r:embed="rId6"/>
          <a:stretch/>
        </p:blipFill>
        <p:spPr>
          <a:xfrm>
            <a:off x="4067280" y="4724280"/>
            <a:ext cx="1655640" cy="18846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4" descr="iulv"/>
          <p:cNvPicPr/>
          <p:nvPr/>
        </p:nvPicPr>
        <p:blipFill>
          <a:blip r:embed="rId7"/>
          <a:stretch/>
        </p:blipFill>
        <p:spPr>
          <a:xfrm>
            <a:off x="4067280" y="4797360"/>
            <a:ext cx="2089080" cy="156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4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4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4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4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4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4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4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4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4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4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4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4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Подведение итогов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Итак, ребята, вы выполнили все задания конкурсной и игровой программы. При этом показали очень хорошие знания басен Крылова. Но самым лучшим знатоком басен оказался… (</a:t>
            </a: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учитель называет фамилию победителя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). Он награждается эмблемой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«Лучший знаток басен Крылова»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ОДЕРЖАН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Цели урока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ступительное слово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гра «Знатоки басен»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дведение итого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Цель урока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ививать навыки выразительного чтения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Учить сопоставлению текстов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азвивать представления об особенностях жанра басн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доске - портрет писате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6" descr="krylov"/>
          <p:cNvPicPr/>
          <p:nvPr/>
        </p:nvPicPr>
        <p:blipFill>
          <a:blip r:embed="rId1"/>
          <a:stretch/>
        </p:blipFill>
        <p:spPr>
          <a:xfrm>
            <a:off x="468360" y="2565360"/>
            <a:ext cx="2736720" cy="3371760"/>
          </a:xfrm>
          <a:prstGeom prst="rect">
            <a:avLst/>
          </a:prstGeom>
          <a:ln w="0">
            <a:noFill/>
          </a:ln>
        </p:spPr>
      </p:pic>
      <p:sp>
        <p:nvSpPr>
          <p:cNvPr id="238" name="WordArt 8"/>
          <p:cNvSpPr txBox="1"/>
          <p:nvPr/>
        </p:nvSpPr>
        <p:spPr>
          <a:xfrm>
            <a:off x="1116000" y="549360"/>
            <a:ext cx="6991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ступительное слово учителя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3564000" y="2097000"/>
            <a:ext cx="5329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читель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еликого русского баснописца Ивана Андреевича Крылова наш народ издавна зовёт дедушкой Крылов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чень ярко проявился талант Крылова в баснях. Басни писали и до Крылова, но И.А. писал их так просто, доходчиво, по-народному, что каждый легко их запомин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баснях Крылова фигурирует множество различных зверей. Но под видом животных он изображал людей. За львами, лисицами, воронами стоят подлинные человеческие характе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ждый год на уроках литературы мы встречаемся с баснями Крылова. И сегодняшний урок проведём в виде конкурса, который позволит выявить лучшего знатока бас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3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Задание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1:Отгадайте, о каком герое басни Крылова идёт реч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WordArt 5"/>
          <p:cNvSpPr txBox="1"/>
          <p:nvPr/>
        </p:nvSpPr>
        <p:spPr>
          <a:xfrm>
            <a:off x="1619280" y="260280"/>
            <a:ext cx="5761080" cy="15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гра "Знатоки басен"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3" name="Text Box 7"/>
          <p:cNvSpPr/>
          <p:nvPr/>
        </p:nvSpPr>
        <p:spPr>
          <a:xfrm>
            <a:off x="324000" y="2924280"/>
            <a:ext cx="8589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Лето красное пропела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То к темю их прижмёт, то их на хвост нанижет…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Ты виноват уж тем, что хочется мне кушать.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От радости в зобу дыханье спёрло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И кончил подвиг тем, что сам попал в полон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Слушает да ест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Тут с просьбой все к нему, чтоб их решить сомненье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Слона-то я и не приметил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Чем кумушек считать трудиться, не лучше ль на себя, кума, оборотиться?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Лишь были б жёлуди: ведь я от них жирею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8"/>
          <p:cNvSpPr/>
          <p:nvPr/>
        </p:nvSpPr>
        <p:spPr>
          <a:xfrm>
            <a:off x="519120" y="6184800"/>
            <a:ext cx="657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дущий за каждый правильный ответ даёт жет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" dur="2000"/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2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832320" y="1873800"/>
            <a:ext cx="7480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.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ие герои басен здесь зашифрован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– и – а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 – ё –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о – ь – 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о – о – е –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– – –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у – а – е –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т – е – о –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ы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сица, Осел, Моська, Соловей, Волк, Муравей, Стреко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6" descr="3tny7fby7ost0rlcumdi3ehnmajsdsb2"/>
          <p:cNvPicPr/>
          <p:nvPr/>
        </p:nvPicPr>
        <p:blipFill>
          <a:blip r:embed="rId1"/>
          <a:stretch/>
        </p:blipFill>
        <p:spPr>
          <a:xfrm>
            <a:off x="684360" y="1773360"/>
            <a:ext cx="1528560" cy="10746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7" descr="untitled"/>
          <p:cNvPicPr/>
          <p:nvPr/>
        </p:nvPicPr>
        <p:blipFill>
          <a:blip r:embed="rId2"/>
          <a:stretch/>
        </p:blipFill>
        <p:spPr>
          <a:xfrm>
            <a:off x="971640" y="2924280"/>
            <a:ext cx="914400" cy="15238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8" descr="1225"/>
          <p:cNvPicPr/>
          <p:nvPr/>
        </p:nvPicPr>
        <p:blipFill>
          <a:blip r:embed="rId3"/>
          <a:stretch/>
        </p:blipFill>
        <p:spPr>
          <a:xfrm>
            <a:off x="755640" y="4941720"/>
            <a:ext cx="1711440" cy="11527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9" descr="2211207"/>
          <p:cNvPicPr/>
          <p:nvPr/>
        </p:nvPicPr>
        <p:blipFill>
          <a:blip r:embed="rId4"/>
          <a:stretch/>
        </p:blipFill>
        <p:spPr>
          <a:xfrm>
            <a:off x="3492360" y="4941720"/>
            <a:ext cx="1994040" cy="11541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0" descr="smal"/>
          <p:cNvPicPr/>
          <p:nvPr/>
        </p:nvPicPr>
        <p:blipFill>
          <a:blip r:embed="rId5"/>
          <a:stretch/>
        </p:blipFill>
        <p:spPr>
          <a:xfrm>
            <a:off x="7236000" y="1773360"/>
            <a:ext cx="1279440" cy="13395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images"/>
          <p:cNvPicPr/>
          <p:nvPr/>
        </p:nvPicPr>
        <p:blipFill>
          <a:blip r:embed="rId6"/>
          <a:stretch/>
        </p:blipFill>
        <p:spPr>
          <a:xfrm>
            <a:off x="7380360" y="3357720"/>
            <a:ext cx="952560" cy="12571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2" descr="nzl2zkuhz4q0dkw766fsmqbadkgibkhp"/>
          <p:cNvPicPr/>
          <p:nvPr/>
        </p:nvPicPr>
        <p:blipFill>
          <a:blip r:embed="rId7"/>
          <a:stretch/>
        </p:blipFill>
        <p:spPr>
          <a:xfrm>
            <a:off x="6227640" y="4941720"/>
            <a:ext cx="1905120" cy="1146240"/>
          </a:xfrm>
          <a:prstGeom prst="rect">
            <a:avLst/>
          </a:prstGeom>
          <a:ln w="0">
            <a:noFill/>
          </a:ln>
        </p:spPr>
      </p:pic>
      <p:sp>
        <p:nvSpPr>
          <p:cNvPr id="254" name="WordArt 16"/>
          <p:cNvSpPr txBox="1"/>
          <p:nvPr/>
        </p:nvSpPr>
        <p:spPr>
          <a:xfrm>
            <a:off x="1979640" y="620640"/>
            <a:ext cx="5761080" cy="9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нкурс "Угадай-ка"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26560" y="1773000"/>
            <a:ext cx="613116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900000" y="1902960"/>
            <a:ext cx="7524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Отгадайте, что здесь перепутан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"Плутовка </a:t>
            </a:r>
            <a:r>
              <a:rPr b="0" lang="ru-RU" sz="1800" spc="-1" strike="noStrike" u="sng">
                <a:solidFill>
                  <a:srgbClr val="6600ff"/>
                </a:solidFill>
                <a:uFillTx/>
                <a:latin typeface="Arial"/>
              </a:rPr>
              <a:t>к берегу</a:t>
            </a: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 на цыпочках подходит, вертит хвостом, с </a:t>
            </a:r>
            <a:r>
              <a:rPr b="0" lang="ru-RU" sz="1800" spc="-1" strike="noStrike" u="sng">
                <a:solidFill>
                  <a:srgbClr val="6600ff"/>
                </a:solidFill>
                <a:uFillTx/>
                <a:latin typeface="Arial"/>
              </a:rPr>
              <a:t>кукушки</a:t>
            </a: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 глаз не сводит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Д. </a:t>
            </a: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Надо: 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"</a:t>
            </a:r>
            <a:r>
              <a:rPr b="0" lang="ru-RU" sz="1800" spc="-1" strike="noStrike" u="sng">
                <a:solidFill>
                  <a:srgbClr val="ff0066"/>
                </a:solidFill>
                <a:uFillTx/>
                <a:latin typeface="Arial"/>
              </a:rPr>
              <a:t>к дереву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 подходит, </a:t>
            </a:r>
            <a:r>
              <a:rPr b="0" lang="ru-RU" sz="1800" spc="-1" strike="noStrike" u="sng">
                <a:solidFill>
                  <a:srgbClr val="ff0066"/>
                </a:solidFill>
                <a:uFillTx/>
                <a:latin typeface="Arial"/>
              </a:rPr>
              <a:t>с вороны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 глаз не сводит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У. </a:t>
            </a: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"Как, милый </a:t>
            </a:r>
            <a:r>
              <a:rPr b="0" lang="ru-RU" sz="1800" spc="-1" strike="noStrike" u="sng">
                <a:solidFill>
                  <a:srgbClr val="6600ff"/>
                </a:solidFill>
                <a:uFillTx/>
                <a:latin typeface="Arial"/>
              </a:rPr>
              <a:t>Кочеток</a:t>
            </a: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, поешь ты громко, важно!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Д. </a:t>
            </a: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Надо: 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"</a:t>
            </a:r>
            <a:r>
              <a:rPr b="0" lang="ru-RU" sz="1800" spc="-1" strike="noStrike" u="sng">
                <a:solidFill>
                  <a:srgbClr val="ff0066"/>
                </a:solidFill>
                <a:uFillTx/>
                <a:latin typeface="Arial"/>
              </a:rPr>
              <a:t>Петушок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У. </a:t>
            </a: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"Однажды Лебедь, Рак да Щука везти с поклажей воз </a:t>
            </a:r>
            <a:r>
              <a:rPr b="0" lang="ru-RU" sz="1800" spc="-1" strike="noStrike" u="sng">
                <a:solidFill>
                  <a:srgbClr val="6600ff"/>
                </a:solidFill>
                <a:uFillTx/>
                <a:latin typeface="Arial"/>
              </a:rPr>
              <a:t>впряглись</a:t>
            </a: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Д. 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"</a:t>
            </a:r>
            <a:r>
              <a:rPr b="0" lang="ru-RU" sz="1800" spc="-1" strike="noStrike" u="sng">
                <a:solidFill>
                  <a:srgbClr val="ff0066"/>
                </a:solidFill>
                <a:uFillTx/>
                <a:latin typeface="Arial"/>
              </a:rPr>
              <a:t>Взялись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У. </a:t>
            </a: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"Ворона </a:t>
            </a:r>
            <a:r>
              <a:rPr b="0" lang="ru-RU" sz="1800" spc="-1" strike="noStrike" u="sng">
                <a:solidFill>
                  <a:srgbClr val="6600ff"/>
                </a:solidFill>
                <a:uFillTx/>
                <a:latin typeface="Arial"/>
              </a:rPr>
              <a:t>гавкнула</a:t>
            </a: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 во все воронье горло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Д. 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"Ворона </a:t>
            </a:r>
            <a:r>
              <a:rPr b="0" lang="ru-RU" sz="1800" spc="-1" strike="noStrike" u="sng">
                <a:solidFill>
                  <a:srgbClr val="ff0066"/>
                </a:solidFill>
                <a:uFillTx/>
                <a:latin typeface="Arial"/>
              </a:rPr>
              <a:t>каркнула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У. </a:t>
            </a: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"Мартышка к старости слаба </a:t>
            </a:r>
            <a:r>
              <a:rPr b="0" lang="ru-RU" sz="1800" spc="-1" strike="noStrike" u="sng">
                <a:solidFill>
                  <a:srgbClr val="6600ff"/>
                </a:solidFill>
                <a:uFillTx/>
                <a:latin typeface="Arial"/>
              </a:rPr>
              <a:t>ушами</a:t>
            </a: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 стала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Д. 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"</a:t>
            </a:r>
            <a:r>
              <a:rPr b="0" lang="ru-RU" sz="1800" spc="-1" strike="noStrike" u="sng">
                <a:solidFill>
                  <a:srgbClr val="ff0066"/>
                </a:solidFill>
                <a:uFillTx/>
                <a:latin typeface="Arial"/>
              </a:rPr>
              <a:t>Глазами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У. </a:t>
            </a: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""Соседка, перестань срамиться" – ей </a:t>
            </a:r>
            <a:r>
              <a:rPr b="0" lang="ru-RU" sz="1800" spc="-1" strike="noStrike" u="sng">
                <a:solidFill>
                  <a:srgbClr val="6600ff"/>
                </a:solidFill>
                <a:uFillTx/>
                <a:latin typeface="Arial"/>
              </a:rPr>
              <a:t>бабка</a:t>
            </a:r>
            <a:r>
              <a:rPr b="0" lang="ru-RU" sz="1800" spc="-1" strike="noStrike">
                <a:solidFill>
                  <a:srgbClr val="6600ff"/>
                </a:solidFill>
                <a:latin typeface="Arial"/>
              </a:rPr>
              <a:t> говорит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Д. 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"</a:t>
            </a:r>
            <a:r>
              <a:rPr b="0" lang="ru-RU" sz="1800" spc="-1" strike="noStrike" u="sng">
                <a:solidFill>
                  <a:srgbClr val="ff0066"/>
                </a:solidFill>
                <a:uFillTx/>
                <a:latin typeface="Arial"/>
              </a:rPr>
              <a:t>Шавка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 говорит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WordArt 5"/>
          <p:cNvSpPr txBox="1"/>
          <p:nvPr/>
        </p:nvSpPr>
        <p:spPr>
          <a:xfrm>
            <a:off x="1547640" y="476280"/>
            <a:ext cx="5832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Путаница"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400" fill="hold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400" fill="hold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Задани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помогите герою басни найти свою пар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винь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ська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ар  -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рона -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гнёнок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укушка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уравей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ртышка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4" descr="images"/>
          <p:cNvPicPr/>
          <p:nvPr/>
        </p:nvPicPr>
        <p:blipFill>
          <a:blip r:embed="rId2"/>
          <a:stretch/>
        </p:blipFill>
        <p:spPr>
          <a:xfrm>
            <a:off x="3059280" y="1484280"/>
            <a:ext cx="1285560" cy="9619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5" descr="iulv"/>
          <p:cNvPicPr/>
          <p:nvPr/>
        </p:nvPicPr>
        <p:blipFill>
          <a:blip r:embed="rId3"/>
          <a:stretch/>
        </p:blipFill>
        <p:spPr>
          <a:xfrm>
            <a:off x="5724360" y="1557360"/>
            <a:ext cx="1368720" cy="8859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6" descr="6844_214587351543eb1fe2c4212"/>
          <p:cNvPicPr/>
          <p:nvPr/>
        </p:nvPicPr>
        <p:blipFill>
          <a:blip r:embed="rId4"/>
          <a:stretch/>
        </p:blipFill>
        <p:spPr>
          <a:xfrm>
            <a:off x="3564000" y="2637000"/>
            <a:ext cx="1152360" cy="1023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3tny7fby7ost0rlcumdi3ehnmajsdsb2"/>
          <p:cNvPicPr/>
          <p:nvPr/>
        </p:nvPicPr>
        <p:blipFill>
          <a:blip r:embed="rId5"/>
          <a:stretch/>
        </p:blipFill>
        <p:spPr>
          <a:xfrm>
            <a:off x="7093080" y="2708280"/>
            <a:ext cx="1439640" cy="9302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8" descr="smal"/>
          <p:cNvPicPr/>
          <p:nvPr/>
        </p:nvPicPr>
        <p:blipFill>
          <a:blip r:embed="rId6"/>
          <a:stretch/>
        </p:blipFill>
        <p:spPr>
          <a:xfrm>
            <a:off x="5148360" y="3141720"/>
            <a:ext cx="1046160" cy="10954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0" descr="trumb_0320071293417"/>
          <p:cNvPicPr/>
          <p:nvPr/>
        </p:nvPicPr>
        <p:blipFill>
          <a:blip r:embed="rId7"/>
          <a:stretch/>
        </p:blipFill>
        <p:spPr>
          <a:xfrm>
            <a:off x="3492360" y="4149720"/>
            <a:ext cx="1225800" cy="9777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1" descr="nzl2zkuhz4q0dkw766fsmqbadkgibkhp"/>
          <p:cNvPicPr/>
          <p:nvPr/>
        </p:nvPicPr>
        <p:blipFill>
          <a:blip r:embed="rId8"/>
          <a:stretch/>
        </p:blipFill>
        <p:spPr>
          <a:xfrm>
            <a:off x="6588000" y="4149720"/>
            <a:ext cx="1584360" cy="10018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2" descr="images"/>
          <p:cNvPicPr/>
          <p:nvPr/>
        </p:nvPicPr>
        <p:blipFill>
          <a:blip r:embed="rId9"/>
          <a:stretch/>
        </p:blipFill>
        <p:spPr>
          <a:xfrm>
            <a:off x="4859280" y="5084640"/>
            <a:ext cx="1513080" cy="99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1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5e7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1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8000"/>
                </a:solidFill>
                <a:latin typeface="Arial"/>
              </a:rPr>
              <a:t>Поэтический конкур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Arial"/>
              </a:rPr>
              <a:t>2. Конкурс «Кто больше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Arial"/>
              </a:rPr>
              <a:t>3. Вспомните «крылатые» выражения из басен Крыл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WordArt 5"/>
          <p:cNvSpPr txBox="1"/>
          <p:nvPr/>
        </p:nvSpPr>
        <p:spPr>
          <a:xfrm>
            <a:off x="2124000" y="476280"/>
            <a:ext cx="4608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Конкурс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2" name="Text Box 7"/>
          <p:cNvSpPr/>
          <p:nvPr/>
        </p:nvSpPr>
        <p:spPr>
          <a:xfrm>
            <a:off x="3780000" y="2276640"/>
            <a:ext cx="484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ждый желающий ученик читает наизусть понравившуюся ему басню Крыл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9"/>
          <p:cNvSpPr/>
          <p:nvPr/>
        </p:nvSpPr>
        <p:spPr>
          <a:xfrm>
            <a:off x="3975120" y="4097160"/>
            <a:ext cx="477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1 минуту на листочках дети должны написать как можно больше героев бас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д вами 2 игровых поля. На одном – строчки из басен, на другом – названия бас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WordArt 4"/>
          <p:cNvSpPr txBox="1"/>
          <p:nvPr/>
        </p:nvSpPr>
        <p:spPr>
          <a:xfrm>
            <a:off x="1908000" y="260280"/>
            <a:ext cx="54738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Лот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77" name="Text Box 6"/>
          <p:cNvSpPr/>
          <p:nvPr/>
        </p:nvSpPr>
        <p:spPr>
          <a:xfrm>
            <a:off x="4932360" y="2997360"/>
            <a:ext cx="345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7. Мартышка и оч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2. Ворона и лиси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4. Демьянова ух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Стрекоза и мурав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6. Лебедь, щука и ра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3. Слон и мось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8. Мышь и кры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5. Кварт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7"/>
          <p:cNvSpPr/>
          <p:nvPr/>
        </p:nvSpPr>
        <p:spPr>
          <a:xfrm>
            <a:off x="826920" y="2997360"/>
            <a:ext cx="34768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Лето красное пропе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С ним была плутовка так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Соседка, перестань, срами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Я три тарелки съ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Чтоб музыкантом быть, так надобно умен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А воз и ныне та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А проку на волос в них н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Сильнее кошки зверя н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7" dur="10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11:00:46Z</dcterms:created>
  <dc:creator>Пользователь</dc:creator>
  <dc:description/>
  <dc:language>en-US</dc:language>
  <cp:lastModifiedBy>Надежда</cp:lastModifiedBy>
  <dcterms:modified xsi:type="dcterms:W3CDTF">2012-03-04T18:14:04Z</dcterms:modified>
  <cp:revision>6</cp:revision>
  <dc:subject/>
  <dc:title>Басни И.А. Крылова. Игра «Знатоки басен.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