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DE9-511E-48FA-BA42-04CF56EA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660-EE1B-479A-91A0-D0A733E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1AB-7EA0-473E-9578-4ECF25A6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C9D-C6D4-4B45-A1BC-C9C31DB3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E33-3BB2-4182-AD38-B75C9658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F7B0-B0FD-4658-AE40-9F17ED49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761B-E473-49B6-B3A7-1FB4876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420-8BF9-42D2-853A-EBF44E0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5510-00C3-45DB-B622-7DA8D29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CC22-DCD6-40AD-8AF7-3C1224C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7232-C2CB-4D61-B001-D0603751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112-7A2C-45A9-B57E-2AC290C2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399-1632-4E4D-9041-F112DE0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C216-46CF-4AEA-B7E6-7296A7C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F77D-8732-4A48-97CF-38D4EE1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6713-4B15-4631-A3A5-4EF41564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B6B-A53F-4956-9230-96AAC10E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AADE-05E4-42D4-B941-C32A437E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5454-07F0-4640-8834-F06D080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BE3A-07F9-41C8-97DB-15DF96F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F1AF-01E4-4F48-A581-849A3D5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E12A-8460-42FA-9640-115CB13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1AA-C338-41DA-BF0B-49E35B1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C68B-6BCA-4269-8E1D-F049A56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B2E3-F699-466F-B95C-9DAB104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152F-9C27-4FCB-BF3C-1FABBD2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827A-017F-4803-855C-98FB45C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FE9E-B163-4022-9676-C7C035B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B202-7503-4DE9-B1F5-795D9DEF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56F7-4B9D-41B1-AA66-C71C5E7D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B71-D8DF-4DE5-AFE9-C54D78AC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3C7-72E7-40D0-9164-ECDD70C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3CF-5458-4FA3-8A3B-EFF50FA1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B9B-5EE4-4E28-AF88-F5A25AE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B1E-37D2-4951-954B-D643395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8E1-E46B-4BBE-B5F0-E590004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242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242492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00b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00bab6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4baa2"/>
                </a:gs>
                <a:gs pos="100000">
                  <a:srgbClr val="8a8ad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94b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4249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a8ad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24249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bab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5DA-71F5-4081-8F8A-B219BD9FED81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8B1-6AEE-442E-A597-88AE48FEE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319-7191-42D4-BB30-2C3753E6BB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199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Растем успешным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11280" y="4005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ретц Анна Васильенва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233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ючи к успеху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Хорошая учеба в школе – залог твоего успеха в будущ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прекращай учи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сравнивай себя с другими -  веди свой собственный сч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тешь и не обманывай себя надеждами на авось и на удач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рассчитывай на других – надейся на себ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говори о проблемах, а решай их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сиди на месте, а постоянно стремись впере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бивайся! Верь в себя! Не теряй надежды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ерь в то, чего ты добиваеш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Терпение – последний ключ к успех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8568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«Умный человек не тот, кто много знает, а кто знает самого себя и умеет понимать другого»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143680" y="1000080"/>
            <a:ext cx="38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И. В. Гет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220500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ллектив – объединение людей, стремящихся к единой цел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ы создани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цел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дея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сципли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85840" y="14292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Коллектив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 латинского слова colligo, означает «объединяю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авила работ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коллективе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2017440"/>
            <a:ext cx="81993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важай мнение друг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ушают все, когда говорит од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вори четко, кратко, аргументирован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ждый имеет право на ошиб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нтеллектуальны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285920" y="14130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«мозговой штурм»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00040" y="2890800"/>
            <a:ext cx="814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Предложите как можно больше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способов использования обычной  ложки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47720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ahoma"/>
              </a:rPr>
              <a:t>Психологический</a:t>
            </a:r>
            <a:endParaRPr b="0" lang="en-US" sz="57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68360" y="2231640"/>
            <a:ext cx="84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аждой команде необходимо произнести букву «Я» с разной интонацией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адача другой команды – внимательно слушать и охарактеризовать человека по этим «Я»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Поэтический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226008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Урок. Педаго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Ошибка. Улыбка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82296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Творчески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Учитывается: оригинальность, изобретательность, творческий подход, быстрота действий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Итоги конкурса</a:t>
            </a:r>
            <a:endParaRPr b="0" lang="en-US" sz="6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42920" y="2000160"/>
            <a:ext cx="7421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Удалось ли вам испытать радость общения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Что нового вы открыли для себя и своего коллектив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51:26Z</dcterms:created>
  <dc:creator>123</dc:creator>
  <dc:description/>
  <dc:language>en-US</dc:language>
  <cp:lastModifiedBy>Admin</cp:lastModifiedBy>
  <dcterms:modified xsi:type="dcterms:W3CDTF">2011-09-20T21:41:45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20000000000010250300207f7000400038000</vt:lpwstr>
  </property>
</Properties>
</file>