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A17-8E04-42C7-A1E3-B6681ADF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80E-4CD5-4BCB-9D22-311E6B6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A0D-8FDC-4FD1-8E21-D90783F6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ED6-4F05-4891-A418-22E60A09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B1C-4B49-46DC-88B3-CE22FB36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AD0C-5058-48F6-8C52-D50837E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5CE2-1AFE-43CB-B950-0878D56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AD7D-AB79-468D-9070-2B233C6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34BC-623D-4697-9DED-275361E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FFE-2588-4015-B01E-710E6D9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FCCE-B53F-4D6E-A44C-3E9F7C8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CEB-6E38-4ABB-9998-EEDE195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7B1-BDCB-45E4-B3EE-92F4607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1DD-B71E-4E38-B5FD-2ADA351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AB4-F8F3-494B-9344-30BE7F2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B72-D9B5-40E9-A5F9-EAE2E13F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613-A264-42BA-8381-4AE4F92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711D-B07A-4C08-8B1F-D67DADF8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B0D6-EC4E-44FD-A96A-A826228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383A-E1E4-46FE-8A4E-A2EEE2A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11DC-96A8-4923-8C95-E6A45A35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2BE5-CC10-4EA5-9F47-894B652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910-D4F8-44E8-AED7-32C7F05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1D00-02ED-4B72-AF26-006AB9DA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B1A4-C22C-48B7-B160-C82E243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900B-FC29-4309-A9C9-122108F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897D-825A-41A8-9715-192DAC88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BB4D-2C82-4078-8000-F1A3AE0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C4B1-B848-45D3-BD55-7EDB42E3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8DC5-7BC9-44BE-8D2C-AD368C95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5C6-AF36-42DB-8559-F3709045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487-16F4-4CAC-B89F-3F7895DE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65F-93C2-4429-9E09-72E8BC8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0C7-C6CA-4E0E-936B-AAD42FA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1F6-6872-4BC8-9B8C-2C3EA49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154-F107-4368-8AAB-9D53676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242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242492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00b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00bab6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4baa2"/>
                </a:gs>
                <a:gs pos="100000">
                  <a:srgbClr val="8a8ad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94b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4249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a8ad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24249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bab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EDD7-1E3A-4A0A-83FA-538F67856733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12D-300E-42AD-A544-E83D2103EF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4881-61D1-4662-936E-8F7CF54CAF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199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Растем успешным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11280" y="4005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ретц Анна Васильенва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233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ючи к успеху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Хорошая учеба в школе – залог твоего успеха в будущ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прекращай учи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сравнивай себя с другими -  веди свой собственный сч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тешь и не обманывай себя надеждами на авось и на удач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рассчитывай на других – надейся на себ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говори о проблемах, а решай их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сиди на месте, а постоянно стремись впере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бивайся! Верь в себя! Не теряй надежды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ерь в то, чего ты добиваеш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Терпение – последний ключ к успех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8568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«Умный человек не тот, кто много знает, а кто знает самого себя и умеет понимать другого»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143680" y="1000080"/>
            <a:ext cx="38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И. В. Гет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220500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ллектив – объединение людей, стремящихся к единой цел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ы создани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цел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дея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сципли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85840" y="14292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Коллектив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 латинского слова colligo, означает «объединяю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авила работ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коллективе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2017440"/>
            <a:ext cx="81993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важай мнение друг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ушают все, когда говорит од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вори четко, кратко, аргументирован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ждый имеет право на ошиб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нтеллектуальны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285920" y="14130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«мозговой штурм»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00040" y="2890800"/>
            <a:ext cx="814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Предложите как можно больше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способов использования обычной  ложки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47720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ahoma"/>
              </a:rPr>
              <a:t>Психологический</a:t>
            </a:r>
            <a:endParaRPr b="0" lang="en-US" sz="57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68360" y="2231640"/>
            <a:ext cx="84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аждой команде необходимо произнести букву «Я» с разной интонацией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адача другой команды – внимательно слушать и охарактеризовать человека по этим «Я»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Поэтический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226008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Урок. Педаго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Ошибка. Улыбка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82296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Творчески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Учитывается: оригинальность, изобретательность, творческий подход, быстрота действий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Итоги конкурса</a:t>
            </a:r>
            <a:endParaRPr b="0" lang="en-US" sz="6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42920" y="2000160"/>
            <a:ext cx="7421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Удалось ли вам испытать радость общения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Что нового вы открыли для себя и своего коллектив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51:26Z</dcterms:created>
  <dc:creator>123</dc:creator>
  <dc:description/>
  <dc:language>en-US</dc:language>
  <cp:lastModifiedBy>Admin</cp:lastModifiedBy>
  <dcterms:modified xsi:type="dcterms:W3CDTF">2011-09-20T21:41:45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20000000000010250300207f7000400038000</vt:lpwstr>
  </property>
</Properties>
</file>