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AF9-47F9-466A-8FD0-47A4F658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66A-46B3-4865-A7B4-A7984C9A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1CC-1D30-4B38-B0DD-AA88621B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3CF-8806-4FD6-A618-B0205C0E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981D-3429-422D-8AF8-2FE8224A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B3DA-4471-4289-B78A-14527A7B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1002-4E63-43AB-B814-A29BA485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CA99-BBBF-45AD-B3CA-A8B4855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DD8F-3FE0-48DC-B46F-41BDC8C8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75B-FB2E-41F0-B559-10C5375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B0AA-05B6-462F-8A15-DA400E9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7ED-276C-45D1-894D-36F02940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0F12-0E60-46B1-A455-4D4CD5D5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C4FA-AE77-409D-B6BD-0E85ECE9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ED32-F7A1-4489-A8FA-5BBCFE34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147C-D006-4BEE-92CC-71EA25BA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D400-E927-4864-B1EB-16651515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63E3-B7CB-4121-A0B9-B92F4AC3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1B93-91D5-4B7E-9E56-AE62D2A0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8A68-B30E-46A9-88E3-F768444B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5DF47-75CC-43A2-993C-8612007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C3633-4436-46E7-947F-9B4DA781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B6B-E267-403A-A665-BF17540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E4F1-3952-41D1-A831-F481E955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E005-5651-46B7-80F6-91F00B63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A7479-9997-4C27-B334-778D419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3B3D-8047-4095-BB36-407C3757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760E-8BFF-4857-8355-0EB6BBA6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B1ACE-4303-405D-A397-D576E27F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8358-D5CA-4819-A3B2-AA8223EC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B70-9CC2-4D84-8750-09A612D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F8A-29DA-46D7-A7AD-DCCE4C86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58D-AB61-4329-8B7E-FFC9F205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8DE-CE81-4EAA-9653-D4A60BCF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C83-DAAC-41A4-AD05-F015E2A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3AC-0EFC-45AC-B99F-DEFCEA7B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242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242492"/>
                  </a:gs>
                  <a:gs pos="100000">
                    <a:srgbClr val="94ba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00ba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00bab6"/>
                  </a:gs>
                  <a:gs pos="100000">
                    <a:srgbClr val="94ba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4baa2"/>
                </a:gs>
                <a:gs pos="100000">
                  <a:srgbClr val="8a8ad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94ba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4249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a8ad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24249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bab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3B7-58AF-4244-8FDA-5A27329B8179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33BE-F603-4B71-AF99-0A3CCBDE16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0355-9D07-40CC-B71D-2D81AA9EF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8199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Растем успешным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11280" y="40053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ретц Анна Васильенва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«СОШ №17»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Краснотурьинск,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2233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Ключи к успеху</a:t>
            </a: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Хорошая учеба в школе – залог твоего успеха в будущ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икогда не прекращай учит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икогда не сравнивай себя с другими -  веди свой собственный сч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тешь и не обманывай себя надеждами на авось и на удач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рассчитывай на других – надейся на себ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говори о проблемах, а решай их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Не сиди на месте, а постоянно стремись впере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Добивайся! Верь в себя! Не теряй надежды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Верь в то, чего ты добиваешь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Терпение – последний ключ к успех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8568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«Умный человек не тот, кто много знает, а кто знает самого себя и умеет понимать другого».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5143680" y="1000080"/>
            <a:ext cx="38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И. В. Гет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360" y="220500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ллектив – объединение людей, стремящихся к единой цели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нципы создани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ая цель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ая деятельно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сципли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85840" y="142920"/>
            <a:ext cx="86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Black"/>
              </a:rPr>
              <a:t>Коллектив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 латинского слова colligo, означает «объединяю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3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Правила работ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в коллективе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5640" y="2017440"/>
            <a:ext cx="819936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важай мнение друг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лушают все, когда говорит од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вори четко, кратко, аргументирован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аждый имеет право на ошиб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a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Интеллектуальный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285920" y="141300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«мозговой штурм»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00040" y="2890800"/>
            <a:ext cx="814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Предложите как можно больше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227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способов использования обычной  ложки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7477200" cy="6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ahoma"/>
              </a:rPr>
              <a:t>Психологический</a:t>
            </a:r>
            <a:endParaRPr b="0" lang="en-US" sz="57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68360" y="2231640"/>
            <a:ext cx="8461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Каждой команде необходимо произнести букву «Я» с разной интонацией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адача другой команды – внимательно слушать и охарактеризовать человека по этим «Я»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Поэтический</a:t>
            </a:r>
            <a:endParaRPr b="0" lang="en-US" sz="5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226008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Урок. Педагог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ahoma"/>
              </a:rPr>
              <a:t>Ошибка. Улыбка.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82296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Творческий</a:t>
            </a:r>
            <a:endParaRPr b="0" lang="en-US" sz="48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Учитывается: оригинальность, изобретательность, творческий подход, быстрота действий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Итоги конкурса</a:t>
            </a:r>
            <a:endParaRPr b="0" lang="en-US" sz="66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42920" y="2000160"/>
            <a:ext cx="7421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Удалось ли вам испытать радость общения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1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Что нового вы открыли для себя и своего коллектива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51:26Z</dcterms:created>
  <dc:creator>123</dc:creator>
  <dc:description/>
  <dc:language>en-US</dc:language>
  <cp:lastModifiedBy>Admin</cp:lastModifiedBy>
  <dcterms:modified xsi:type="dcterms:W3CDTF">2011-09-20T21:41:45Z</dcterms:modified>
  <cp:revision>2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20000000000010250300207f7000400038000</vt:lpwstr>
  </property>
</Properties>
</file>