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398-B2BC-4262-8881-69A3D52A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7D8-6C72-4291-93C0-0E7E6C55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51E-B81D-4C34-BCCC-9EF70747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2B8-AF21-4EFF-9A01-A5374311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A106-7BE6-42F1-BFC3-5CEB067F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A0C8-FCD6-40F3-8D4B-2B21A5B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2ECD-36E5-49F0-B37B-C99396C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4405-8D3E-4879-9A0B-3CE5AA7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220D-4A65-49E3-BC97-063570F3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1553-EDD3-415B-8CB4-B96F1C5E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CBB-DABE-48CE-A95B-EED28A7D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31C-3965-4827-930E-9A76617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199-EE33-48BD-96F2-12F34D8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AA59-CD5E-4D35-BD28-B240E441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0C27-B76F-44C9-9DA0-CA2EA026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BA2-CAFA-43DD-ABBD-3E348785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1F16-95C6-4947-8E04-BA860E99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BD2-34ED-435B-B8DC-AB827786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481-8417-4BB9-A264-E3F94828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34E-3829-495D-87A5-FB6BBA3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4A0-55D7-4983-99A3-4307C39B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54A-B16D-49BE-8CD7-1BA2BC2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9E1-EE03-40C8-A3D9-13EA4CF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549-99DB-4312-8FCB-71984702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9E99-23DA-42C8-B87F-C2111764F5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C563-AA2E-46F8-AD48-DDDEC2D545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Углеводы. Строение и функци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765600" cy="518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29200" y="129528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Н2О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819520" y="4191120"/>
            <a:ext cx="2819160" cy="2479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581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37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Фру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сахарозы, других олигосахаридов, полисахар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66720" y="8377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ала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полисахаридов, слизей, в состав дисахаридов, агар-аг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56272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38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лиг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57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Саха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 фру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ся в питан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лиг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аль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 Глю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 в прорастающих зер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Ла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Гала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 для детенышей млекопитающих 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946320"/>
            <a:ext cx="822960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имер. Мономеры молекулы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ервный полисахарид растительн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128600"/>
            <a:ext cx="8458200" cy="214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38098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и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8098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и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ликог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держится в тканях животных, человека, бактериях, цианобактериях; выполняет роль резервного полисаха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Целлюло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ходит в состав клеточных стенок растительн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Хити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разует покровы тела членистоногих, компонент клеточной стенки гри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уре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ходит в состав клеточной стенки бакт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езентацию выполнил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химков Александ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ик 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114800" cy="3795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3581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791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ункции углев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792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1. Энерге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углеводов заключается в том, что они являются непременным компонентом рациона челове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и расщеплении 1г углеводов  освобождается 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Дж энерг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2. Структурная.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еточная стенка растений состоит из полисахарида целлюл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3. Запаса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хмал и гликоген являются запасными продуктами у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лубнях картофеля – крахм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векле, моркови – саха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болочках растительных клеток –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летках печени - гликог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5257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держание углевод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572000" cy="360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9907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Примеры</a:t>
            </a: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держание углеводов в клетк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растительных клетках:  листьях, плодах, семенах или клубнях картофеля –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90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массы сухого вещ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животных клетках –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2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массы сухого ве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177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61944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5715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тки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ительные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учение углев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36000" bIns="360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растениях углеводы образуются из двуокиси углерода и воды в процессе сложной реакции фотосинтеза, осуществляемой за счет солнечной энергии с участием зелёного пигмента растений - хлорофи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21160" cy="464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33920" y="4952880"/>
            <a:ext cx="2895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+ Н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952880"/>
            <a:ext cx="251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+ 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Животные и человек не способны синтезировать углеводы и получают их с различными продуктами растительного происхожд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41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лассификация углеводов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990720"/>
          <a:ext cx="8839080" cy="5141880"/>
        </p:xfrm>
        <a:graphic>
          <a:graphicData uri="http://schemas.openxmlformats.org/drawingml/2006/table">
            <a:tbl>
              <a:tblPr/>
              <a:tblGrid>
                <a:gridCol w="2744640"/>
                <a:gridCol w="2619360"/>
                <a:gridCol w="3475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 угле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молеку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угле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атомов 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-три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-тетр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5-пент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6-гекс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, хорошо растворимы в воде, имеют сладкий вкус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о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углеводы. Содержат от 2 до 10 моносахаридных остат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 растворяются в воде, имеют сладкий вкус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углеводы, состоящие из большого числа мономеров-простых сахаров и их производны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увеличением числа мономерных звеньев растворимость уменьшается, исчезает сладкий вкус. Появляется способность ослизняться и набух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438280" y="632448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45932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4724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лю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; входит в состав гликозидов, в свободном состоянии содержится в тканях растений, животных, человека; является мономером полисахаридов, гликогена, крахмала, клетча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7920"/>
            <a:ext cx="40384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429000" cy="3197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384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7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РНК, АТФ, витаминов группы В, фер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9760" y="1066320"/>
            <a:ext cx="4037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шка</cp:lastModifiedBy>
  <dcterms:modified xsi:type="dcterms:W3CDTF">2009-10-13T20:34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