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FE67-54BA-41D4-BAB0-82E8D675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E428-43EA-4E0A-BDB4-AA1B9387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2EC2-3503-4548-A66C-DCFF914C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19FC-4338-4CC0-B1B5-BE444B9B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70FC-57B0-4BB3-8DF4-393CB492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6A74-545F-4F85-BDA9-D950E8A0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E886-7AFB-4348-B5F2-C24A0DA7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E07C-FB0B-4373-A113-6384FE0E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3404-DB06-47D5-B820-867D23BF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684D-060D-4439-9CFF-373D36B7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1770-5999-4106-A97E-F88807A2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07E3-110E-4C6C-B55D-8A5A1717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1E23-2A28-4956-9CA5-8F2672CB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F284-E9F8-4E07-839C-BBC18140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7FDF-E6A3-4287-8C40-9A03A24D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B1AD-35FD-4CFA-9B0C-74B5BA26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991F-688A-4B60-AA52-C90E5A29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0D27-9748-4239-A55E-CD532C6F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B761-8098-4629-AA4E-A057603B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77AC-FD10-4194-95F0-F91C27D9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A56E-3268-4FD0-8AD6-BA4EF9EA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0306-E0A7-4F1D-A62D-EE4061F1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2C76-F0E4-4F2E-89C7-CE0B478C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FC74-FC5C-4212-BE80-13513177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CF82-F883-473E-A570-854DAC686ED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EB21-E423-4167-BCEA-6BEF9C5EACC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Углеводы. Строение и функции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3765600" cy="5181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029200" y="1295280"/>
            <a:ext cx="4572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форму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(Н2О)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2819520" y="4191120"/>
            <a:ext cx="2819160" cy="2479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358128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Моносахарид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40370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Фрукт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00"/>
                </a:solidFill>
                <a:latin typeface="Arial"/>
              </a:rPr>
              <a:t>Значе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ходит в состав сахарозы, других олигосахаридов, полисахар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66720" y="837720"/>
            <a:ext cx="4876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Галакт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00"/>
                </a:solidFill>
                <a:latin typeface="Arial"/>
              </a:rPr>
              <a:t>Знач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ходит в состав полисахаридов, слизей, в состав дисахаридов, агар-аг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81280" y="1371600"/>
            <a:ext cx="556272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0384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Олигосахари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3570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Сахар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юкоза + фрукт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00"/>
                </a:solidFill>
                <a:latin typeface="Arial"/>
              </a:rPr>
              <a:t>Зна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уется в питании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11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Олигосахари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Мальт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юкоза + Глюк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00"/>
                </a:solidFill>
                <a:latin typeface="Arial"/>
              </a:rPr>
              <a:t>Значение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очник энергии в прорастающих зер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Лакт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юкоза +Галакт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00"/>
                </a:solidFill>
                <a:latin typeface="Arial"/>
              </a:rPr>
              <a:t>Зна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очник энергии для детенышей млекопитающих и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3946320"/>
            <a:ext cx="8229600" cy="21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Крахма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олимер. Мономеры молекулы глюко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00"/>
                </a:solidFill>
                <a:latin typeface="Arial"/>
              </a:rPr>
              <a:t>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ервный полисахарид растительных кл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920" y="1128600"/>
            <a:ext cx="8458200" cy="21481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3809880" cy="7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олисахари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80988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олисахари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Гликоге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одержится в тканях животных, человека, бактериях, цианобактериях; выполняет роль резервного полисахар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Целлюлоз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ходит в состав клеточных стенок растительных кл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Хити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бразует покровы тела членистоногих, компонент клеточной стенки гриб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Муреи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входит в состав клеточной стенки бакте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езентацию выполнил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химков Александр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еник 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419720" y="1295280"/>
            <a:ext cx="4114800" cy="3795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09480" y="3124080"/>
            <a:ext cx="358164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7913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Функции углевод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47923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1. Энергетическ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ая функция углеводов заключается в том, что они являются непременным компонентом рациона человек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ри расщеплении 1г углеводов  освобождается 1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 кДж энерги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2. Структурная.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леточная стенка растений состоит из полисахарида целлюло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3. Запасающ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рахмал и гликоген являются запасными продуктами у растений и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3429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клубнях картофеля – крахмал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свекле, моркови – сахар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оболочках растительных клеток – целлюло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клетках печени - гликоге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80520" y="228600"/>
            <a:ext cx="52578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одержание углеводов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038480" y="1828800"/>
            <a:ext cx="4572000" cy="3608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3520" y="99072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Примеры</a:t>
            </a: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одержание углеводов в клетках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растительных клетках:  листьях, плодах, семенах или клубнях картофеля – 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90%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от массы сухого веществ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животных клетках –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2%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от массы сухого веще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029200" y="3505320"/>
            <a:ext cx="3581280" cy="1779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3520" y="3886200"/>
            <a:ext cx="3619440" cy="1752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62120" y="57150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етки печ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54100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тительные кл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олучение углевод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9520" y="1066680"/>
            <a:ext cx="5334120" cy="37245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36000" bIns="360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растениях углеводы образуются из двуокиси углерода и воды в процессе сложной реакции фотосинтеза, осуществляемой за счет солнечной энергии с участием зелёного пигмента растений - хлорофил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3521160" cy="4647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733920" y="4952880"/>
            <a:ext cx="28954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СО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+ Н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 </a:t>
            </a:r>
            <a:r>
              <a:rPr b="1" lang="en-US" sz="28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4952880"/>
            <a:ext cx="25146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С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Н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+ О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Животные и человек не способны синтезировать углеводы и получают их с различными продуктами растительного происхождения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10240" cy="4419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5053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лассификация углеводов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04920" y="990720"/>
          <a:ext cx="8839080" cy="5141880"/>
        </p:xfrm>
        <a:graphic>
          <a:graphicData uri="http://schemas.openxmlformats.org/drawingml/2006/table">
            <a:tbl>
              <a:tblPr/>
              <a:tblGrid>
                <a:gridCol w="2744640"/>
                <a:gridCol w="2619360"/>
                <a:gridCol w="34750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ы углево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ения молеку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йства углево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осахарид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атомов 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3-триоз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4-тетроз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5-пентоз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6-гексоз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ны, хорошо растворимы в воде, имеют сладкий вкус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игосахарид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жные углеводы. Содержат от 2 до 10 моносахаридных остатк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 растворяются в воде, имеют сладкий вкус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сахарид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жные углеводы, состоящие из большого числа мономеров-простых сахаров и их производны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увеличением числа мономерных звеньев растворимость уменьшается, исчезает сладкий вкус. Появляется способность ослизняться и набуха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2438280" y="6324480"/>
            <a:ext cx="403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19720" y="228600"/>
            <a:ext cx="4459320" cy="57913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2280" y="1218960"/>
            <a:ext cx="472464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Глюк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00"/>
                </a:solidFill>
                <a:latin typeface="Arial"/>
              </a:rPr>
              <a:t>Значение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очник энергии; входит в состав гликозидов, в свободном состоянии содержится в тканях растений, животных, человека; является мономером полисахаридов, гликогена, крахмала, клетча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77920"/>
            <a:ext cx="403848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Моносахариды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19720" y="2895480"/>
            <a:ext cx="3429000" cy="31975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03848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Моносахари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370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Риб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00"/>
                </a:solidFill>
                <a:latin typeface="Arial"/>
              </a:rPr>
              <a:t>Зна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ходит в состав РНК, АТФ, витаминов группы В, фер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9760" y="1066320"/>
            <a:ext cx="40370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Дезоксириб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6600"/>
                </a:solidFill>
                <a:latin typeface="Arial"/>
              </a:rPr>
              <a:t>Значение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ходит в состав Д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шка</cp:lastModifiedBy>
  <dcterms:modified xsi:type="dcterms:W3CDTF">2009-10-13T20:34:41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