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4D0-A93D-4198-A261-21068568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355-F7B2-481C-8D3E-06E0BD42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BC1-234A-4CD4-A419-46D76FEE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0ED-1287-4FD4-BD48-E2E10DB9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1ABD-4190-4E60-BFFE-DEF2867D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D6FC-A045-453F-A5D6-17258EDF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DC7B-F4EA-4EB8-A40F-409E994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769F-CAF4-4A11-B934-9C813000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062-395F-40C0-A3CE-83C92E8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D90B-17E0-4CEB-9B18-2A6E71F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4F7-BB8A-4A10-907D-9B4F593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242-30CD-42B7-8AF9-D0BBBF3B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5192-3492-4E03-B96D-A911EEFA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C02-735B-4ADD-A4DF-D1EB5C0F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414C-787B-4D41-8BBA-18C6B6B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BB0-EB13-4F0E-B949-024A4DF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9FD7-AE0D-4668-90F5-8024B518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700-0F25-4F34-9B48-66BFCA3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EEF-822B-413A-8EB7-E1AD9EE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1D6-330C-4192-A657-99668B9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34B-CBB7-4800-A1B7-0F53F7C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D92-3761-47D7-83E5-494E18B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DFD-9232-49E4-A0C4-230A41A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3AF-2516-444D-86E4-957BAA6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328-A768-4AD1-A937-E53DCD35B5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6D4-17D5-4696-80BD-C1B79E3B87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Углеводы. Строение и функци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765600" cy="518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29200" y="129528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Н2О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819520" y="4191120"/>
            <a:ext cx="2819160" cy="2479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581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Фру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сахарозы, других олигосахаридов, полисахар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66720" y="8377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а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полисахаридов, слизей, в состав дисахаридов, агар-аг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57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Саха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ся в питан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аль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Глю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в прорастающих зер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Гала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для детенышей млекопитающих 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946320"/>
            <a:ext cx="822960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 Мономеры молекулы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ервный полисахарид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128600"/>
            <a:ext cx="8458200" cy="214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иког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держится в тканях животных, человека, бактериях, цианобактериях; выполняет роль резервного полисаха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Целлюло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ходит в состав клеточных стенок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Хит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разует покровы тела членистоногих, компонент клеточной стенки гри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уре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ходит в состав клеточной стенки бак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зентацию выполнил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химков Александ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ик 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114800" cy="3795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3581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91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ункции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792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1. Энерге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углеводов заключается в том, что они являются непременным компонентом рациона челове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и расщеплении 1г углеводов  освобождается 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Дж энерг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2. Структурная.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еточная стенка растений состоит из полисахарида целлюл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3. Запаса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хмал и гликоген являются запасными продуктами у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убнях картофеля – крахм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векле, моркови – саха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болочках растительных клеток –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етках печени - гликог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5257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держание углевод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572000" cy="360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9907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Примеры</a:t>
            </a: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держание углеводов в клетк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растительных клетках:  листьях, плодах, семенах или клубнях картофеля –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90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животных клетках –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2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177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61944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5715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тки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ительны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учение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0" bIns="360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растениях углеводы образуются из двуокиси углерода и воды в процессе сложной реакции фотосинтеза, осуществляемой за счет солнечной энергии с участием зелёного пигмента растений - хлорофи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21160" cy="464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33920" y="4952880"/>
            <a:ext cx="2895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952880"/>
            <a:ext cx="251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Животные и человек не способны синтезировать углеводы и получают их с различными продуктами растительного происхожд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4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лассификация углеводов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990720"/>
          <a:ext cx="8839080" cy="5141880"/>
        </p:xfrm>
        <a:graphic>
          <a:graphicData uri="http://schemas.openxmlformats.org/drawingml/2006/table">
            <a:tbl>
              <a:tblPr/>
              <a:tblGrid>
                <a:gridCol w="2744640"/>
                <a:gridCol w="2619360"/>
                <a:gridCol w="3475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молеку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атомов 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-три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-тетр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5-пент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6-гекс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, хорошо растворимы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. Содержат от 2 до 10 моносахаридных остат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 растворяются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, состоящие из большого числа мономеров-простых сахаров и их производны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увеличением числа мономерных звеньев растворимость уменьшается, исчезает сладкий вкус. Появляется способность ослизняться и набух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438280" y="63244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45932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4724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ю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; входит в состав гликозидов, в свободном состоянии содержится в тканях растений, животных, человека; является мономером полисахаридов, гликогена, крахмала, клетча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429000" cy="3197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РНК, АТФ, витаминов группы В, фер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9760" y="1066320"/>
            <a:ext cx="4037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ка</cp:lastModifiedBy>
  <dcterms:modified xsi:type="dcterms:W3CDTF">2009-10-13T20:34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