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40E-98A3-4C60-8DA7-94A21A14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77A-9B34-4B09-8CC3-573C846B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9EF-CEEB-4E95-8EE8-3094B357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6E3-7B2A-469A-B708-7CB20815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4683-864A-4AD1-937F-93CCC087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0BD0-3388-4548-8D56-7976E9E6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2045-4116-438C-85B7-42683A02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7920-ABE8-4945-890B-82B3662D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3A0F-FC5E-45D4-BFC1-4824F505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1FE8-6D5A-42E0-911A-16251222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7A71-CBFA-4DD0-8E39-8189E7B1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9D7-C419-4069-B436-4465BCF5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2014-540A-49CA-9047-F3DC3618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199D-BEB7-4424-8110-9ABDDE2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CC8D-AA18-4075-B1A6-D5EB2D8F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1A95-8CDB-4C5F-A416-04CF8DAE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3E3F-B5A1-4138-83A7-E300F94F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37A-2BDA-4838-97C6-F7075390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077-50E6-4BA9-83D0-72F75305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B8B-B499-4EAE-AD11-8BBB68D5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E25-31C5-4599-8A2A-5256E9ED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8B6-1947-4C04-81C1-A51461E6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E39-8347-4DF8-85D2-52590954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393-8DD2-4CB1-9753-A8042870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13D3-D669-445E-ACF2-60CB6A4B9C9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168D-FA57-4BFB-BAB4-A02E6332C0A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оро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is \ there 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0" y="5286240"/>
            <a:ext cx="914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nit 3WHAT CAN 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85840" y="571680"/>
            <a:ext cx="2714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личии чего- либо в определенном 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14200" y="1285920"/>
            <a:ext cx="27860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сутствии чего – либо в определённом 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TextBox 3"/>
          <p:cNvGrpSpPr/>
          <p:nvPr/>
        </p:nvGrpSpPr>
        <p:grpSpPr>
          <a:xfrm>
            <a:off x="3816360" y="85680"/>
            <a:ext cx="2401920" cy="536760"/>
            <a:chOff x="3816360" y="85680"/>
            <a:chExt cx="2401920" cy="536760"/>
          </a:xfrm>
        </p:grpSpPr>
        <p:pic>
          <p:nvPicPr>
            <p:cNvPr id="110" name="TextBox 3" descr=""/>
            <p:cNvPicPr/>
            <p:nvPr/>
          </p:nvPicPr>
          <p:blipFill>
            <a:blip r:embed="rId1"/>
            <a:stretch/>
          </p:blipFill>
          <p:spPr>
            <a:xfrm>
              <a:off x="3816360" y="85680"/>
              <a:ext cx="24019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929040" y="142920"/>
              <a:ext cx="22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is 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TextBox 4"/>
          <p:cNvGrpSpPr/>
          <p:nvPr/>
        </p:nvGrpSpPr>
        <p:grpSpPr>
          <a:xfrm>
            <a:off x="3816360" y="585720"/>
            <a:ext cx="2401920" cy="536760"/>
            <a:chOff x="3816360" y="585720"/>
            <a:chExt cx="2401920" cy="536760"/>
          </a:xfrm>
        </p:grpSpPr>
        <p:pic>
          <p:nvPicPr>
            <p:cNvPr id="113" name="TextBox 4" descr=""/>
            <p:cNvPicPr/>
            <p:nvPr/>
          </p:nvPicPr>
          <p:blipFill>
            <a:blip r:embed="rId2"/>
            <a:stretch/>
          </p:blipFill>
          <p:spPr>
            <a:xfrm>
              <a:off x="3816360" y="585720"/>
              <a:ext cx="24019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929040" y="642960"/>
              <a:ext cx="22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Стрелка вправо 5"/>
          <p:cNvSpPr/>
          <p:nvPr/>
        </p:nvSpPr>
        <p:spPr>
          <a:xfrm rot="20613000">
            <a:off x="3025800" y="345960"/>
            <a:ext cx="977760" cy="317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6"/>
          <p:cNvSpPr/>
          <p:nvPr/>
        </p:nvSpPr>
        <p:spPr>
          <a:xfrm rot="486600">
            <a:off x="3025800" y="719280"/>
            <a:ext cx="977760" cy="317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TextBox 7"/>
          <p:cNvGrpSpPr/>
          <p:nvPr/>
        </p:nvGrpSpPr>
        <p:grpSpPr>
          <a:xfrm>
            <a:off x="3529080" y="1158840"/>
            <a:ext cx="3541680" cy="536760"/>
            <a:chOff x="3529080" y="1158840"/>
            <a:chExt cx="3541680" cy="536760"/>
          </a:xfrm>
        </p:grpSpPr>
        <p:pic>
          <p:nvPicPr>
            <p:cNvPr id="118" name="TextBox 7" descr=""/>
            <p:cNvPicPr/>
            <p:nvPr/>
          </p:nvPicPr>
          <p:blipFill>
            <a:blip r:embed="rId3"/>
            <a:stretch/>
          </p:blipFill>
          <p:spPr>
            <a:xfrm>
              <a:off x="3529080" y="1158840"/>
              <a:ext cx="35416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43200" y="1214280"/>
              <a:ext cx="33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is not\ There isn’t  a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TextBox 8"/>
          <p:cNvGrpSpPr/>
          <p:nvPr/>
        </p:nvGrpSpPr>
        <p:grpSpPr>
          <a:xfrm>
            <a:off x="3529080" y="1657440"/>
            <a:ext cx="4187880" cy="536400"/>
            <a:chOff x="3529080" y="1657440"/>
            <a:chExt cx="4187880" cy="536400"/>
          </a:xfrm>
        </p:grpSpPr>
        <p:pic>
          <p:nvPicPr>
            <p:cNvPr id="121" name="TextBox 8" descr=""/>
            <p:cNvPicPr/>
            <p:nvPr/>
          </p:nvPicPr>
          <p:blipFill>
            <a:blip r:embed="rId4"/>
            <a:stretch/>
          </p:blipFill>
          <p:spPr>
            <a:xfrm>
              <a:off x="3529080" y="1657440"/>
              <a:ext cx="41878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643200" y="1714680"/>
              <a:ext cx="40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are not \ There aren’t a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право 9"/>
          <p:cNvSpPr/>
          <p:nvPr/>
        </p:nvSpPr>
        <p:spPr>
          <a:xfrm rot="20613000">
            <a:off x="3030120" y="1305000"/>
            <a:ext cx="690480" cy="317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10"/>
          <p:cNvSpPr/>
          <p:nvPr/>
        </p:nvSpPr>
        <p:spPr>
          <a:xfrm rot="486600">
            <a:off x="3019320" y="1619280"/>
            <a:ext cx="703440" cy="3175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1" descr="444.png"/>
          <p:cNvPicPr/>
          <p:nvPr/>
        </p:nvPicPr>
        <p:blipFill>
          <a:blip r:embed="rId5"/>
          <a:stretch/>
        </p:blipFill>
        <p:spPr>
          <a:xfrm>
            <a:off x="5357880" y="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2" descr="dc.png"/>
          <p:cNvPicPr/>
          <p:nvPr/>
        </p:nvPicPr>
        <p:blipFill>
          <a:blip r:embed="rId6"/>
          <a:stretch/>
        </p:blipFill>
        <p:spPr>
          <a:xfrm>
            <a:off x="6572160" y="1071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3" descr="fv.png"/>
          <p:cNvPicPr/>
          <p:nvPr/>
        </p:nvPicPr>
        <p:blipFill>
          <a:blip r:embed="rId7"/>
          <a:stretch/>
        </p:blipFill>
        <p:spPr>
          <a:xfrm>
            <a:off x="5072040" y="571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4" descr="3f.png"/>
          <p:cNvPicPr/>
          <p:nvPr/>
        </p:nvPicPr>
        <p:blipFill>
          <a:blip r:embed="rId8"/>
          <a:stretch/>
        </p:blipFill>
        <p:spPr>
          <a:xfrm>
            <a:off x="7358040" y="1714680"/>
            <a:ext cx="571680" cy="571320"/>
          </a:xfrm>
          <a:prstGeom prst="rect">
            <a:avLst/>
          </a:prstGeom>
          <a:ln w="0">
            <a:noFill/>
          </a:ln>
        </p:spPr>
      </p:pic>
      <p:grpSp>
        <p:nvGrpSpPr>
          <p:cNvPr id="129" name="TextBox 15"/>
          <p:cNvGrpSpPr/>
          <p:nvPr/>
        </p:nvGrpSpPr>
        <p:grpSpPr>
          <a:xfrm>
            <a:off x="6986520" y="390600"/>
            <a:ext cx="2230560" cy="1346040"/>
            <a:chOff x="6986520" y="390600"/>
            <a:chExt cx="2230560" cy="1346040"/>
          </a:xfrm>
        </p:grpSpPr>
        <p:pic>
          <p:nvPicPr>
            <p:cNvPr id="130" name="TextBox 15" descr=""/>
            <p:cNvPicPr/>
            <p:nvPr/>
          </p:nvPicPr>
          <p:blipFill>
            <a:blip r:embed="rId9"/>
            <a:stretch/>
          </p:blipFill>
          <p:spPr>
            <a:xfrm>
              <a:off x="6986520" y="390600"/>
              <a:ext cx="223056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143840" y="428760"/>
              <a:ext cx="200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on the table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TextBox 16"/>
          <p:cNvGrpSpPr/>
          <p:nvPr/>
        </p:nvGrpSpPr>
        <p:grpSpPr>
          <a:xfrm>
            <a:off x="639720" y="4784760"/>
            <a:ext cx="8577360" cy="1264320"/>
            <a:chOff x="639720" y="4784760"/>
            <a:chExt cx="8577360" cy="1264320"/>
          </a:xfrm>
        </p:grpSpPr>
        <p:pic>
          <p:nvPicPr>
            <p:cNvPr id="133" name="TextBox 16" descr=""/>
            <p:cNvPicPr/>
            <p:nvPr/>
          </p:nvPicPr>
          <p:blipFill>
            <a:blip r:embed="rId10"/>
            <a:stretch/>
          </p:blipFill>
          <p:spPr>
            <a:xfrm>
              <a:off x="639720" y="4784760"/>
              <a:ext cx="85773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14240" y="4857840"/>
              <a:ext cx="84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Переводятся такие предложения с конца –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There is a flower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nstantia"/>
                </a:rPr>
                <a:t>on the 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.=</a:t>
              </a: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onstantia"/>
                </a:rPr>
                <a:t>На столе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имеется цвето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Рисунок 17" descr="fv.png"/>
          <p:cNvPicPr/>
          <p:nvPr/>
        </p:nvPicPr>
        <p:blipFill>
          <a:blip r:embed="rId11"/>
          <a:stretch/>
        </p:blipFill>
        <p:spPr>
          <a:xfrm>
            <a:off x="5643720" y="5716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8" descr="3f.png"/>
          <p:cNvPicPr/>
          <p:nvPr/>
        </p:nvPicPr>
        <p:blipFill>
          <a:blip r:embed="rId12"/>
          <a:stretch/>
        </p:blipFill>
        <p:spPr>
          <a:xfrm>
            <a:off x="6858000" y="1714680"/>
            <a:ext cx="571680" cy="571320"/>
          </a:xfrm>
          <a:prstGeom prst="rect">
            <a:avLst/>
          </a:prstGeom>
          <a:ln w="0">
            <a:noFill/>
          </a:ln>
        </p:spPr>
      </p:pic>
      <p:grpSp>
        <p:nvGrpSpPr>
          <p:cNvPr id="137" name="TextBox 19"/>
          <p:cNvGrpSpPr/>
          <p:nvPr/>
        </p:nvGrpSpPr>
        <p:grpSpPr>
          <a:xfrm>
            <a:off x="3638520" y="2425680"/>
            <a:ext cx="3006720" cy="2494080"/>
            <a:chOff x="3638520" y="2425680"/>
            <a:chExt cx="3006720" cy="2494080"/>
          </a:xfrm>
        </p:grpSpPr>
        <p:pic>
          <p:nvPicPr>
            <p:cNvPr id="138" name="TextBox 19" descr=""/>
            <p:cNvPicPr/>
            <p:nvPr/>
          </p:nvPicPr>
          <p:blipFill>
            <a:blip r:embed="rId13"/>
            <a:stretch/>
          </p:blipFill>
          <p:spPr>
            <a:xfrm>
              <a:off x="3638520" y="2425680"/>
              <a:ext cx="300672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714840" y="2500200"/>
              <a:ext cx="2857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Име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Е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Находи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Сто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Леж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Вес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Стрелка вниз 20"/>
          <p:cNvSpPr/>
          <p:nvPr/>
        </p:nvSpPr>
        <p:spPr>
          <a:xfrm>
            <a:off x="4572000" y="2071800"/>
            <a:ext cx="121428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21"/>
          <p:cNvGrpSpPr/>
          <p:nvPr/>
        </p:nvGrpSpPr>
        <p:grpSpPr>
          <a:xfrm>
            <a:off x="115920" y="-85680"/>
            <a:ext cx="2951280" cy="911160"/>
            <a:chOff x="115920" y="-85680"/>
            <a:chExt cx="2951280" cy="911160"/>
          </a:xfrm>
        </p:grpSpPr>
        <p:pic>
          <p:nvPicPr>
            <p:cNvPr id="142" name="TextBox 21" descr=""/>
            <p:cNvPicPr/>
            <p:nvPr/>
          </p:nvPicPr>
          <p:blipFill>
            <a:blip r:embed="rId14"/>
            <a:stretch/>
          </p:blipFill>
          <p:spPr>
            <a:xfrm>
              <a:off x="115920" y="-85680"/>
              <a:ext cx="29512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85840" y="0"/>
              <a:ext cx="27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Нужно сказать 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Стрелка вниз 22"/>
          <p:cNvSpPr/>
          <p:nvPr/>
        </p:nvSpPr>
        <p:spPr>
          <a:xfrm>
            <a:off x="1214280" y="357120"/>
            <a:ext cx="7858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142920" y="5929200"/>
            <a:ext cx="9001080" cy="947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!!!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ите вним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ok and pens on the desk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e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book on the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TextBox 1"/>
          <p:cNvGrpSpPr/>
          <p:nvPr/>
        </p:nvGrpSpPr>
        <p:grpSpPr>
          <a:xfrm>
            <a:off x="66600" y="60480"/>
            <a:ext cx="8437680" cy="714240"/>
            <a:chOff x="66600" y="60480"/>
            <a:chExt cx="8437680" cy="714240"/>
          </a:xfrm>
        </p:grpSpPr>
        <p:pic>
          <p:nvPicPr>
            <p:cNvPr id="147" name="TextBox 1" descr=""/>
            <p:cNvPicPr/>
            <p:nvPr/>
          </p:nvPicPr>
          <p:blipFill>
            <a:blip r:embed="rId1"/>
            <a:stretch/>
          </p:blipFill>
          <p:spPr>
            <a:xfrm>
              <a:off x="66600" y="60480"/>
              <a:ext cx="84376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42920" y="142920"/>
              <a:ext cx="828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Составьте  и переведите предлож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3"/>
          <p:cNvSpPr/>
          <p:nvPr/>
        </p:nvSpPr>
        <p:spPr>
          <a:xfrm>
            <a:off x="142920" y="1000080"/>
            <a:ext cx="2071800" cy="5213160"/>
          </a:xfrm>
          <a:prstGeom prst="rect">
            <a:avLst/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286000" y="1000080"/>
            <a:ext cx="1214280" cy="521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Box 5"/>
          <p:cNvGrpSpPr/>
          <p:nvPr/>
        </p:nvGrpSpPr>
        <p:grpSpPr>
          <a:xfrm>
            <a:off x="3382920" y="920880"/>
            <a:ext cx="2517840" cy="5449680"/>
            <a:chOff x="3382920" y="920880"/>
            <a:chExt cx="2517840" cy="5449680"/>
          </a:xfrm>
        </p:grpSpPr>
        <p:pic>
          <p:nvPicPr>
            <p:cNvPr id="152" name="TextBox 5" descr=""/>
            <p:cNvPicPr/>
            <p:nvPr/>
          </p:nvPicPr>
          <p:blipFill>
            <a:blip r:embed="rId2"/>
            <a:stretch/>
          </p:blipFill>
          <p:spPr>
            <a:xfrm>
              <a:off x="3382920" y="920880"/>
              <a:ext cx="2517840" cy="54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571920" y="1000080"/>
              <a:ext cx="214308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chur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caf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ri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childre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bicyc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marke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cav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textboo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pho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compute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ga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pe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TextBox 6"/>
          <p:cNvGrpSpPr/>
          <p:nvPr/>
        </p:nvGrpSpPr>
        <p:grpSpPr>
          <a:xfrm>
            <a:off x="5589720" y="907920"/>
            <a:ext cx="3481200" cy="6158520"/>
            <a:chOff x="5589720" y="907920"/>
            <a:chExt cx="3481200" cy="6158520"/>
          </a:xfrm>
        </p:grpSpPr>
        <p:pic>
          <p:nvPicPr>
            <p:cNvPr id="155" name="TextBox 6" descr=""/>
            <p:cNvPicPr/>
            <p:nvPr/>
          </p:nvPicPr>
          <p:blipFill>
            <a:blip r:embed="rId3"/>
            <a:stretch/>
          </p:blipFill>
          <p:spPr>
            <a:xfrm>
              <a:off x="5589720" y="907920"/>
              <a:ext cx="3481200" cy="54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86280" y="1000080"/>
              <a:ext cx="3214800" cy="60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ta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classro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str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my c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my albu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libra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is boo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countrys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corn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playgr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pposite the par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L:\Новая папка (2)\контрольные\контр 5 класс\вопросительные слова\предлоги.bmp"/>
          <p:cNvPicPr/>
          <p:nvPr/>
        </p:nvPicPr>
        <p:blipFill>
          <a:blip r:embed="rId1"/>
          <a:stretch/>
        </p:blipFill>
        <p:spPr>
          <a:xfrm>
            <a:off x="0" y="928800"/>
            <a:ext cx="88995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58" name="TextBox 3"/>
          <p:cNvGrpSpPr/>
          <p:nvPr/>
        </p:nvGrpSpPr>
        <p:grpSpPr>
          <a:xfrm>
            <a:off x="23760" y="208080"/>
            <a:ext cx="8407440" cy="1024920"/>
            <a:chOff x="23760" y="208080"/>
            <a:chExt cx="8407440" cy="1024920"/>
          </a:xfrm>
        </p:grpSpPr>
        <p:pic>
          <p:nvPicPr>
            <p:cNvPr id="159" name="TextBox 3" descr=""/>
            <p:cNvPicPr/>
            <p:nvPr/>
          </p:nvPicPr>
          <p:blipFill>
            <a:blip r:embed="rId2"/>
            <a:stretch/>
          </p:blipFill>
          <p:spPr>
            <a:xfrm>
              <a:off x="23760" y="208080"/>
              <a:ext cx="84074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14200" y="2858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Составьте предложения используя предлог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4"/>
          <p:cNvSpPr/>
          <p:nvPr/>
        </p:nvSpPr>
        <p:spPr>
          <a:xfrm>
            <a:off x="6286680" y="6215040"/>
            <a:ext cx="1285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ar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7215120" y="1285920"/>
            <a:ext cx="1285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fi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1143000" y="1000080"/>
            <a:ext cx="128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142920" y="2428920"/>
            <a:ext cx="128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r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2071800" y="3000240"/>
            <a:ext cx="8571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w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3000240" y="5000760"/>
            <a:ext cx="10004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4143240" y="2857680"/>
            <a:ext cx="857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1000080" y="4143240"/>
            <a:ext cx="928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l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4"/>
          <p:cNvSpPr/>
          <p:nvPr/>
        </p:nvSpPr>
        <p:spPr>
          <a:xfrm>
            <a:off x="4357800" y="1857240"/>
            <a:ext cx="785880" cy="1068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4143240" y="2071800"/>
            <a:ext cx="571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214200" y="285840"/>
            <a:ext cx="8501040" cy="52056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тобы спросить о нахождении чего - л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4572000" y="1143000"/>
            <a:ext cx="500040" cy="581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5143680" y="1857240"/>
            <a:ext cx="1500120" cy="106884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5072040" y="1071720"/>
            <a:ext cx="1357200" cy="1068840"/>
          </a:xfrm>
          <a:prstGeom prst="rect">
            <a:avLst/>
          </a:prstGeom>
          <a:solidFill>
            <a:srgbClr val="10cf9b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TextBox 7"/>
          <p:cNvGrpSpPr/>
          <p:nvPr/>
        </p:nvGrpSpPr>
        <p:grpSpPr>
          <a:xfrm>
            <a:off x="6278400" y="1322280"/>
            <a:ext cx="2700360" cy="1175400"/>
            <a:chOff x="6278400" y="1322280"/>
            <a:chExt cx="2700360" cy="1175400"/>
          </a:xfrm>
        </p:grpSpPr>
        <p:pic>
          <p:nvPicPr>
            <p:cNvPr id="176" name="TextBox 7" descr=""/>
            <p:cNvPicPr/>
            <p:nvPr/>
          </p:nvPicPr>
          <p:blipFill>
            <a:blip r:embed="rId1"/>
            <a:stretch/>
          </p:blipFill>
          <p:spPr>
            <a:xfrm>
              <a:off x="6278400" y="1322280"/>
              <a:ext cx="27003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500880" y="1428840"/>
              <a:ext cx="228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on the t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TextBox 8"/>
          <p:cNvGrpSpPr/>
          <p:nvPr/>
        </p:nvGrpSpPr>
        <p:grpSpPr>
          <a:xfrm>
            <a:off x="-225360" y="1243080"/>
            <a:ext cx="2577960" cy="2645280"/>
            <a:chOff x="-225360" y="1243080"/>
            <a:chExt cx="2577960" cy="2645280"/>
          </a:xfrm>
        </p:grpSpPr>
        <p:pic>
          <p:nvPicPr>
            <p:cNvPr id="179" name="TextBox 8" descr=""/>
            <p:cNvPicPr/>
            <p:nvPr/>
          </p:nvPicPr>
          <p:blipFill>
            <a:blip r:embed="rId2"/>
            <a:stretch/>
          </p:blipFill>
          <p:spPr>
            <a:xfrm>
              <a:off x="-225360" y="1243080"/>
              <a:ext cx="257796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0" y="1357200"/>
              <a:ext cx="22860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Wh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How man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How mu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TextBox 2"/>
          <p:cNvGrpSpPr/>
          <p:nvPr/>
        </p:nvGrpSpPr>
        <p:grpSpPr>
          <a:xfrm>
            <a:off x="2938320" y="1395360"/>
            <a:ext cx="1548000" cy="1112760"/>
            <a:chOff x="2938320" y="1395360"/>
            <a:chExt cx="1548000" cy="1112760"/>
          </a:xfrm>
        </p:grpSpPr>
        <p:pic>
          <p:nvPicPr>
            <p:cNvPr id="182" name="TextBox 2" descr=""/>
            <p:cNvPicPr/>
            <p:nvPr/>
          </p:nvPicPr>
          <p:blipFill>
            <a:blip r:embed="rId3"/>
            <a:stretch/>
          </p:blipFill>
          <p:spPr>
            <a:xfrm>
              <a:off x="2938320" y="1395360"/>
              <a:ext cx="1548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071880" y="1500120"/>
              <a:ext cx="12859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9"/>
          <p:cNvSpPr/>
          <p:nvPr/>
        </p:nvSpPr>
        <p:spPr>
          <a:xfrm>
            <a:off x="8358120" y="1143000"/>
            <a:ext cx="78588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TextBox 10"/>
          <p:cNvGrpSpPr/>
          <p:nvPr/>
        </p:nvGrpSpPr>
        <p:grpSpPr>
          <a:xfrm>
            <a:off x="-55440" y="4552920"/>
            <a:ext cx="3816360" cy="1464120"/>
            <a:chOff x="-55440" y="4552920"/>
            <a:chExt cx="3816360" cy="1464120"/>
          </a:xfrm>
        </p:grpSpPr>
        <p:pic>
          <p:nvPicPr>
            <p:cNvPr id="186" name="TextBox 10" descr=""/>
            <p:cNvPicPr/>
            <p:nvPr/>
          </p:nvPicPr>
          <p:blipFill>
            <a:blip r:embed="rId4"/>
            <a:stretch/>
          </p:blipFill>
          <p:spPr>
            <a:xfrm>
              <a:off x="-55440" y="4552920"/>
              <a:ext cx="38163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42920" y="4643280"/>
              <a:ext cx="3500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Yes, there i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Yes, there are (some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11"/>
          <p:cNvGrpSpPr/>
          <p:nvPr/>
        </p:nvGrpSpPr>
        <p:grpSpPr>
          <a:xfrm>
            <a:off x="4157640" y="4700520"/>
            <a:ext cx="4413240" cy="1150920"/>
            <a:chOff x="4157640" y="4700520"/>
            <a:chExt cx="4413240" cy="1150920"/>
          </a:xfrm>
        </p:grpSpPr>
        <p:pic>
          <p:nvPicPr>
            <p:cNvPr id="189" name="TextBox 11" descr=""/>
            <p:cNvPicPr/>
            <p:nvPr/>
          </p:nvPicPr>
          <p:blipFill>
            <a:blip r:embed="rId5"/>
            <a:stretch/>
          </p:blipFill>
          <p:spPr>
            <a:xfrm>
              <a:off x="4157640" y="4700520"/>
              <a:ext cx="4413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357800" y="4786200"/>
              <a:ext cx="414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No, there isn’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No, there aren’t (any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95 -0.00926 L -0.2198 -0.00208 E">
                                      <p:cBhvr>
                                        <p:cTn id="15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0.00116 L -0.07361 0.00116 E">
                                      <p:cBhvr>
                                        <p:cTn id="15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4.07407E-006 L -0.22413 -0.00232 E">
                                      <p:cBhvr>
                                        <p:cTn id="16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05 -0.00232 E">
                                      <p:cBhvr>
                                        <p:cTn id="16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25 -0.00903 L -0.06823 -0.00903 E">
                                      <p:cBhvr>
                                        <p:cTn id="170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TextBox 1"/>
          <p:cNvGrpSpPr/>
          <p:nvPr/>
        </p:nvGrpSpPr>
        <p:grpSpPr>
          <a:xfrm>
            <a:off x="353880" y="311040"/>
            <a:ext cx="7723440" cy="871560"/>
            <a:chOff x="353880" y="311040"/>
            <a:chExt cx="7723440" cy="871560"/>
          </a:xfrm>
        </p:grpSpPr>
        <p:pic>
          <p:nvPicPr>
            <p:cNvPr id="192" name="TextBox 1" descr=""/>
            <p:cNvPicPr/>
            <p:nvPr/>
          </p:nvPicPr>
          <p:blipFill>
            <a:blip r:embed="rId1"/>
            <a:stretch/>
          </p:blipFill>
          <p:spPr>
            <a:xfrm>
              <a:off x="353880" y="311040"/>
              <a:ext cx="7723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28760" y="428760"/>
              <a:ext cx="757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Задайте вопрос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TextBox 2"/>
          <p:cNvGrpSpPr/>
          <p:nvPr/>
        </p:nvGrpSpPr>
        <p:grpSpPr>
          <a:xfrm>
            <a:off x="-225360" y="1238400"/>
            <a:ext cx="9442440" cy="5248080"/>
            <a:chOff x="-225360" y="1238400"/>
            <a:chExt cx="9442440" cy="5248080"/>
          </a:xfrm>
        </p:grpSpPr>
        <p:pic>
          <p:nvPicPr>
            <p:cNvPr id="195" name="TextBox 2" descr=""/>
            <p:cNvPicPr/>
            <p:nvPr/>
          </p:nvPicPr>
          <p:blipFill>
            <a:blip r:embed="rId2"/>
            <a:stretch/>
          </p:blipFill>
          <p:spPr>
            <a:xfrm>
              <a:off x="-225360" y="1238400"/>
              <a:ext cx="9442440" cy="52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135720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table in the room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some flowers on the window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man in the stree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books on the desk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shop on the corn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parks in our city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stadium near my hous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Reader in my schoolbag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28 pupils in my clas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many cafes in my city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TextBox 1"/>
          <p:cNvGrpSpPr/>
          <p:nvPr/>
        </p:nvGrpSpPr>
        <p:grpSpPr>
          <a:xfrm>
            <a:off x="639720" y="281160"/>
            <a:ext cx="7437600" cy="1029960"/>
            <a:chOff x="639720" y="281160"/>
            <a:chExt cx="7437600" cy="1029960"/>
          </a:xfrm>
        </p:grpSpPr>
        <p:pic>
          <p:nvPicPr>
            <p:cNvPr id="198" name="TextBox 1" descr=""/>
            <p:cNvPicPr/>
            <p:nvPr/>
          </p:nvPicPr>
          <p:blipFill>
            <a:blip r:embed="rId1"/>
            <a:stretch/>
          </p:blipFill>
          <p:spPr>
            <a:xfrm>
              <a:off x="639720" y="281160"/>
              <a:ext cx="743760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14240" y="428760"/>
              <a:ext cx="728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onstantia"/>
                </a:rPr>
                <a:t>Ответьте на вопросы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TextBox 2"/>
          <p:cNvGrpSpPr/>
          <p:nvPr/>
        </p:nvGrpSpPr>
        <p:grpSpPr>
          <a:xfrm>
            <a:off x="-249120" y="1311120"/>
            <a:ext cx="9466200" cy="6246720"/>
            <a:chOff x="-249120" y="1311120"/>
            <a:chExt cx="9466200" cy="6246720"/>
          </a:xfrm>
        </p:grpSpPr>
        <p:pic>
          <p:nvPicPr>
            <p:cNvPr id="201" name="TextBox 2" descr=""/>
            <p:cNvPicPr/>
            <p:nvPr/>
          </p:nvPicPr>
          <p:blipFill>
            <a:blip r:embed="rId2"/>
            <a:stretch/>
          </p:blipFill>
          <p:spPr>
            <a:xfrm>
              <a:off x="-249120" y="1311120"/>
              <a:ext cx="9466200" cy="475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428840"/>
              <a:ext cx="9144000" cy="61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1. Is there an interesting film on TV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2. Are there any pencils in your pencil box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3. How many rooms are there in your flat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4. What is there on your desk?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5. Is there a shop near your hous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6. Are there pet shops in your city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7. Is there a lamp on your tabl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8. Are there pictures in your Student’s book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 и Папа</cp:lastModifiedBy>
  <dcterms:modified xsi:type="dcterms:W3CDTF">2009-02-12T04:17:37Z</dcterms:modified>
  <cp:revision>15</cp:revision>
  <dc:subject/>
  <dc:title>Reported speech:  “that”- clauses</dc:title>
</cp:coreProperties>
</file>