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6BA2-3683-4B33-AB81-447044FE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C467-DFE3-4BB5-9598-9183422C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EC24-15E4-460F-9D27-BF040259E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0B05-E24F-44BF-A61A-945CA34A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1441-275F-42D7-A9B2-0FDF5E96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C6B7-C5A8-4ADF-9608-C659FDCA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CC48-1C02-4934-81E6-F87F11E3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C4DB-2E37-4A5D-AB9F-91CFCA85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2489-A3E1-4037-8C34-BA2B3FAB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200B-0F9C-4E87-9096-B4D876A3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C289-A547-4807-B586-4BD6696C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3A20-3593-4C91-8A21-03BF1A2C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924C-5BDA-4DD7-A00B-D4D2059A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08F1-EFC4-4988-80DD-B136CA16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4A4C-E010-4777-8992-94F16C8D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4F56-3F62-4777-84F2-0551F578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E0B6-DAD9-4138-8857-9B99172F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8B8D-7B81-4AEA-A92F-A9C39488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293A-CDF1-4F06-BF54-8C10639B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93A4-6715-46B9-97E7-DD2EE025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1605-B78E-4AE2-A1D6-B07B2B95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7F15-113E-49D2-A417-BCA76AC0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AE39-F2CC-4BCB-9002-55801AA7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1325-A061-49BB-ABA3-9112B8A8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793C-5445-4A67-9DA7-A6520315C3F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7AAA-7A30-41AA-84D6-C37909D54EC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орот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e is \ there 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0" y="5286240"/>
            <a:ext cx="9144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Unit 3WHAT CAN YOU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285840" y="571680"/>
            <a:ext cx="2714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личии чего- либо в определенном ме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14200" y="1285920"/>
            <a:ext cx="27860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тсутствии чего – либо в определённом ме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TextBox 3"/>
          <p:cNvGrpSpPr/>
          <p:nvPr/>
        </p:nvGrpSpPr>
        <p:grpSpPr>
          <a:xfrm>
            <a:off x="3816360" y="85680"/>
            <a:ext cx="2401920" cy="536760"/>
            <a:chOff x="3816360" y="85680"/>
            <a:chExt cx="2401920" cy="536760"/>
          </a:xfrm>
        </p:grpSpPr>
        <p:pic>
          <p:nvPicPr>
            <p:cNvPr id="110" name="TextBox 3" descr=""/>
            <p:cNvPicPr/>
            <p:nvPr/>
          </p:nvPicPr>
          <p:blipFill>
            <a:blip r:embed="rId1"/>
            <a:stretch/>
          </p:blipFill>
          <p:spPr>
            <a:xfrm>
              <a:off x="3816360" y="85680"/>
              <a:ext cx="240192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929040" y="142920"/>
              <a:ext cx="221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There is </a:t>
              </a: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TextBox 4"/>
          <p:cNvGrpSpPr/>
          <p:nvPr/>
        </p:nvGrpSpPr>
        <p:grpSpPr>
          <a:xfrm>
            <a:off x="3816360" y="585720"/>
            <a:ext cx="2401920" cy="536760"/>
            <a:chOff x="3816360" y="585720"/>
            <a:chExt cx="2401920" cy="536760"/>
          </a:xfrm>
        </p:grpSpPr>
        <p:pic>
          <p:nvPicPr>
            <p:cNvPr id="113" name="TextBox 4" descr=""/>
            <p:cNvPicPr/>
            <p:nvPr/>
          </p:nvPicPr>
          <p:blipFill>
            <a:blip r:embed="rId2"/>
            <a:stretch/>
          </p:blipFill>
          <p:spPr>
            <a:xfrm>
              <a:off x="3816360" y="585720"/>
              <a:ext cx="240192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929040" y="642960"/>
              <a:ext cx="221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There 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Стрелка вправо 5"/>
          <p:cNvSpPr/>
          <p:nvPr/>
        </p:nvSpPr>
        <p:spPr>
          <a:xfrm rot="20613000">
            <a:off x="3025800" y="345960"/>
            <a:ext cx="977760" cy="3175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6"/>
          <p:cNvSpPr/>
          <p:nvPr/>
        </p:nvSpPr>
        <p:spPr>
          <a:xfrm rot="486600">
            <a:off x="3025800" y="719280"/>
            <a:ext cx="977760" cy="3175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TextBox 7"/>
          <p:cNvGrpSpPr/>
          <p:nvPr/>
        </p:nvGrpSpPr>
        <p:grpSpPr>
          <a:xfrm>
            <a:off x="3529080" y="1158840"/>
            <a:ext cx="3541680" cy="536760"/>
            <a:chOff x="3529080" y="1158840"/>
            <a:chExt cx="3541680" cy="536760"/>
          </a:xfrm>
        </p:grpSpPr>
        <p:pic>
          <p:nvPicPr>
            <p:cNvPr id="118" name="TextBox 7" descr=""/>
            <p:cNvPicPr/>
            <p:nvPr/>
          </p:nvPicPr>
          <p:blipFill>
            <a:blip r:embed="rId3"/>
            <a:stretch/>
          </p:blipFill>
          <p:spPr>
            <a:xfrm>
              <a:off x="3529080" y="1158840"/>
              <a:ext cx="354168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643200" y="1214280"/>
              <a:ext cx="33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There is not\ There isn’t  a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TextBox 8"/>
          <p:cNvGrpSpPr/>
          <p:nvPr/>
        </p:nvGrpSpPr>
        <p:grpSpPr>
          <a:xfrm>
            <a:off x="3529080" y="1657440"/>
            <a:ext cx="4187880" cy="536400"/>
            <a:chOff x="3529080" y="1657440"/>
            <a:chExt cx="4187880" cy="536400"/>
          </a:xfrm>
        </p:grpSpPr>
        <p:pic>
          <p:nvPicPr>
            <p:cNvPr id="121" name="TextBox 8" descr=""/>
            <p:cNvPicPr/>
            <p:nvPr/>
          </p:nvPicPr>
          <p:blipFill>
            <a:blip r:embed="rId4"/>
            <a:stretch/>
          </p:blipFill>
          <p:spPr>
            <a:xfrm>
              <a:off x="3529080" y="1657440"/>
              <a:ext cx="41878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643200" y="1714680"/>
              <a:ext cx="40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nstantia"/>
                </a:rPr>
                <a:t>There are not \ There aren’t a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Стрелка вправо 9"/>
          <p:cNvSpPr/>
          <p:nvPr/>
        </p:nvSpPr>
        <p:spPr>
          <a:xfrm rot="20613000">
            <a:off x="3030120" y="1305000"/>
            <a:ext cx="690480" cy="3175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10"/>
          <p:cNvSpPr/>
          <p:nvPr/>
        </p:nvSpPr>
        <p:spPr>
          <a:xfrm rot="486600">
            <a:off x="3019320" y="1619280"/>
            <a:ext cx="703440" cy="3175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11" descr="444.png"/>
          <p:cNvPicPr/>
          <p:nvPr/>
        </p:nvPicPr>
        <p:blipFill>
          <a:blip r:embed="rId5"/>
          <a:stretch/>
        </p:blipFill>
        <p:spPr>
          <a:xfrm>
            <a:off x="5357880" y="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2" descr="dc.png"/>
          <p:cNvPicPr/>
          <p:nvPr/>
        </p:nvPicPr>
        <p:blipFill>
          <a:blip r:embed="rId6"/>
          <a:stretch/>
        </p:blipFill>
        <p:spPr>
          <a:xfrm>
            <a:off x="6572160" y="10717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3" descr="fv.png"/>
          <p:cNvPicPr/>
          <p:nvPr/>
        </p:nvPicPr>
        <p:blipFill>
          <a:blip r:embed="rId7"/>
          <a:stretch/>
        </p:blipFill>
        <p:spPr>
          <a:xfrm>
            <a:off x="5072040" y="5716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4" descr="3f.png"/>
          <p:cNvPicPr/>
          <p:nvPr/>
        </p:nvPicPr>
        <p:blipFill>
          <a:blip r:embed="rId8"/>
          <a:stretch/>
        </p:blipFill>
        <p:spPr>
          <a:xfrm>
            <a:off x="7358040" y="1714680"/>
            <a:ext cx="571680" cy="571320"/>
          </a:xfrm>
          <a:prstGeom prst="rect">
            <a:avLst/>
          </a:prstGeom>
          <a:ln w="0">
            <a:noFill/>
          </a:ln>
        </p:spPr>
      </p:pic>
      <p:grpSp>
        <p:nvGrpSpPr>
          <p:cNvPr id="129" name="TextBox 15"/>
          <p:cNvGrpSpPr/>
          <p:nvPr/>
        </p:nvGrpSpPr>
        <p:grpSpPr>
          <a:xfrm>
            <a:off x="6986520" y="390600"/>
            <a:ext cx="2230560" cy="1346040"/>
            <a:chOff x="6986520" y="390600"/>
            <a:chExt cx="2230560" cy="1346040"/>
          </a:xfrm>
        </p:grpSpPr>
        <p:pic>
          <p:nvPicPr>
            <p:cNvPr id="130" name="TextBox 15" descr=""/>
            <p:cNvPicPr/>
            <p:nvPr/>
          </p:nvPicPr>
          <p:blipFill>
            <a:blip r:embed="rId9"/>
            <a:stretch/>
          </p:blipFill>
          <p:spPr>
            <a:xfrm>
              <a:off x="6986520" y="390600"/>
              <a:ext cx="223056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143840" y="428760"/>
              <a:ext cx="2000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</a:rPr>
                <a:t>on the table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TextBox 16"/>
          <p:cNvGrpSpPr/>
          <p:nvPr/>
        </p:nvGrpSpPr>
        <p:grpSpPr>
          <a:xfrm>
            <a:off x="639720" y="4784760"/>
            <a:ext cx="8577360" cy="1264320"/>
            <a:chOff x="639720" y="4784760"/>
            <a:chExt cx="8577360" cy="1264320"/>
          </a:xfrm>
        </p:grpSpPr>
        <p:pic>
          <p:nvPicPr>
            <p:cNvPr id="133" name="TextBox 16" descr=""/>
            <p:cNvPicPr/>
            <p:nvPr/>
          </p:nvPicPr>
          <p:blipFill>
            <a:blip r:embed="rId10"/>
            <a:stretch/>
          </p:blipFill>
          <p:spPr>
            <a:xfrm>
              <a:off x="639720" y="4784760"/>
              <a:ext cx="85773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14240" y="4857840"/>
              <a:ext cx="842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Переводятся такие предложения с конца –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</a:rPr>
                <a:t>There is a flower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nstantia"/>
                </a:rPr>
                <a:t>on the table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</a:rPr>
                <a:t>.=</a:t>
              </a: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onstantia"/>
                </a:rPr>
                <a:t>На столе 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имеется цвето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Рисунок 17" descr="fv.png"/>
          <p:cNvPicPr/>
          <p:nvPr/>
        </p:nvPicPr>
        <p:blipFill>
          <a:blip r:embed="rId11"/>
          <a:stretch/>
        </p:blipFill>
        <p:spPr>
          <a:xfrm>
            <a:off x="5643720" y="5716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8" descr="3f.png"/>
          <p:cNvPicPr/>
          <p:nvPr/>
        </p:nvPicPr>
        <p:blipFill>
          <a:blip r:embed="rId12"/>
          <a:stretch/>
        </p:blipFill>
        <p:spPr>
          <a:xfrm>
            <a:off x="6858000" y="1714680"/>
            <a:ext cx="571680" cy="571320"/>
          </a:xfrm>
          <a:prstGeom prst="rect">
            <a:avLst/>
          </a:prstGeom>
          <a:ln w="0">
            <a:noFill/>
          </a:ln>
        </p:spPr>
      </p:pic>
      <p:grpSp>
        <p:nvGrpSpPr>
          <p:cNvPr id="137" name="TextBox 19"/>
          <p:cNvGrpSpPr/>
          <p:nvPr/>
        </p:nvGrpSpPr>
        <p:grpSpPr>
          <a:xfrm>
            <a:off x="3638520" y="2425680"/>
            <a:ext cx="3006720" cy="2494080"/>
            <a:chOff x="3638520" y="2425680"/>
            <a:chExt cx="3006720" cy="2494080"/>
          </a:xfrm>
        </p:grpSpPr>
        <p:pic>
          <p:nvPicPr>
            <p:cNvPr id="138" name="TextBox 19" descr=""/>
            <p:cNvPicPr/>
            <p:nvPr/>
          </p:nvPicPr>
          <p:blipFill>
            <a:blip r:embed="rId13"/>
            <a:stretch/>
          </p:blipFill>
          <p:spPr>
            <a:xfrm>
              <a:off x="3638520" y="2425680"/>
              <a:ext cx="3006720" cy="249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3714840" y="2500200"/>
              <a:ext cx="28573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Имеетс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Е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Находитс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Стои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Лежи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Веси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Стрелка вниз 20"/>
          <p:cNvSpPr/>
          <p:nvPr/>
        </p:nvSpPr>
        <p:spPr>
          <a:xfrm>
            <a:off x="4572000" y="2071800"/>
            <a:ext cx="121428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TextBox 21"/>
          <p:cNvGrpSpPr/>
          <p:nvPr/>
        </p:nvGrpSpPr>
        <p:grpSpPr>
          <a:xfrm>
            <a:off x="115920" y="-85680"/>
            <a:ext cx="2951280" cy="911160"/>
            <a:chOff x="115920" y="-85680"/>
            <a:chExt cx="2951280" cy="911160"/>
          </a:xfrm>
        </p:grpSpPr>
        <p:pic>
          <p:nvPicPr>
            <p:cNvPr id="142" name="TextBox 21" descr=""/>
            <p:cNvPicPr/>
            <p:nvPr/>
          </p:nvPicPr>
          <p:blipFill>
            <a:blip r:embed="rId14"/>
            <a:stretch/>
          </p:blipFill>
          <p:spPr>
            <a:xfrm>
              <a:off x="115920" y="-85680"/>
              <a:ext cx="29512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85840" y="0"/>
              <a:ext cx="271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onstantia"/>
                </a:rPr>
                <a:t>Нужно сказать 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Стрелка вниз 22"/>
          <p:cNvSpPr/>
          <p:nvPr/>
        </p:nvSpPr>
        <p:spPr>
          <a:xfrm>
            <a:off x="1214280" y="357120"/>
            <a:ext cx="78588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3"/>
          <p:cNvSpPr/>
          <p:nvPr/>
        </p:nvSpPr>
        <p:spPr>
          <a:xfrm>
            <a:off x="142920" y="5929200"/>
            <a:ext cx="9001080" cy="947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!!!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ите внимание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ok and pens on the desk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T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e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 book on the de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TextBox 1"/>
          <p:cNvGrpSpPr/>
          <p:nvPr/>
        </p:nvGrpSpPr>
        <p:grpSpPr>
          <a:xfrm>
            <a:off x="66600" y="60480"/>
            <a:ext cx="8437680" cy="714240"/>
            <a:chOff x="66600" y="60480"/>
            <a:chExt cx="8437680" cy="714240"/>
          </a:xfrm>
        </p:grpSpPr>
        <p:pic>
          <p:nvPicPr>
            <p:cNvPr id="147" name="TextBox 1" descr=""/>
            <p:cNvPicPr/>
            <p:nvPr/>
          </p:nvPicPr>
          <p:blipFill>
            <a:blip r:embed="rId1"/>
            <a:stretch/>
          </p:blipFill>
          <p:spPr>
            <a:xfrm>
              <a:off x="66600" y="60480"/>
              <a:ext cx="843768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42920" y="142920"/>
              <a:ext cx="828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nstantia"/>
                </a:rPr>
                <a:t>Составьте  и переведите предлож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3"/>
          <p:cNvSpPr/>
          <p:nvPr/>
        </p:nvSpPr>
        <p:spPr>
          <a:xfrm>
            <a:off x="142920" y="1000080"/>
            <a:ext cx="2071800" cy="5213160"/>
          </a:xfrm>
          <a:prstGeom prst="rect">
            <a:avLst/>
          </a:prstGeom>
          <a:solidFill>
            <a:srgbClr val="7cca62"/>
          </a:solidFill>
          <a:ln w="25560">
            <a:solidFill>
              <a:srgbClr val="5994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r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2286000" y="1000080"/>
            <a:ext cx="1214280" cy="521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TextBox 5"/>
          <p:cNvGrpSpPr/>
          <p:nvPr/>
        </p:nvGrpSpPr>
        <p:grpSpPr>
          <a:xfrm>
            <a:off x="3382920" y="920880"/>
            <a:ext cx="2517840" cy="5449680"/>
            <a:chOff x="3382920" y="920880"/>
            <a:chExt cx="2517840" cy="5449680"/>
          </a:xfrm>
        </p:grpSpPr>
        <p:pic>
          <p:nvPicPr>
            <p:cNvPr id="152" name="TextBox 5" descr=""/>
            <p:cNvPicPr/>
            <p:nvPr/>
          </p:nvPicPr>
          <p:blipFill>
            <a:blip r:embed="rId2"/>
            <a:stretch/>
          </p:blipFill>
          <p:spPr>
            <a:xfrm>
              <a:off x="3382920" y="920880"/>
              <a:ext cx="2517840" cy="54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571920" y="1000080"/>
              <a:ext cx="2143080" cy="52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 churc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 caf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 riv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childre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 bicyc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marke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cav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textbook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phot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computer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ga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pe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TextBox 6"/>
          <p:cNvGrpSpPr/>
          <p:nvPr/>
        </p:nvGrpSpPr>
        <p:grpSpPr>
          <a:xfrm>
            <a:off x="5589720" y="907920"/>
            <a:ext cx="3481200" cy="6158520"/>
            <a:chOff x="5589720" y="907920"/>
            <a:chExt cx="3481200" cy="6158520"/>
          </a:xfrm>
        </p:grpSpPr>
        <p:pic>
          <p:nvPicPr>
            <p:cNvPr id="155" name="TextBox 6" descr=""/>
            <p:cNvPicPr/>
            <p:nvPr/>
          </p:nvPicPr>
          <p:blipFill>
            <a:blip r:embed="rId3"/>
            <a:stretch/>
          </p:blipFill>
          <p:spPr>
            <a:xfrm>
              <a:off x="5589720" y="907920"/>
              <a:ext cx="3481200" cy="546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786280" y="1000080"/>
              <a:ext cx="3214800" cy="60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On the tab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In the classro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In the stree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In my cit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In my albu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In the libra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In this boo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In the countrys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On the corn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On the playgrou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Opposite the par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On the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L:\Новая папка (2)\контрольные\контр 5 класс\вопросительные слова\предлоги.bmp"/>
          <p:cNvPicPr/>
          <p:nvPr/>
        </p:nvPicPr>
        <p:blipFill>
          <a:blip r:embed="rId1"/>
          <a:stretch/>
        </p:blipFill>
        <p:spPr>
          <a:xfrm>
            <a:off x="0" y="928800"/>
            <a:ext cx="88995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158" name="TextBox 3"/>
          <p:cNvGrpSpPr/>
          <p:nvPr/>
        </p:nvGrpSpPr>
        <p:grpSpPr>
          <a:xfrm>
            <a:off x="23760" y="208080"/>
            <a:ext cx="8407440" cy="1024920"/>
            <a:chOff x="23760" y="208080"/>
            <a:chExt cx="8407440" cy="1024920"/>
          </a:xfrm>
        </p:grpSpPr>
        <p:pic>
          <p:nvPicPr>
            <p:cNvPr id="159" name="TextBox 3" descr=""/>
            <p:cNvPicPr/>
            <p:nvPr/>
          </p:nvPicPr>
          <p:blipFill>
            <a:blip r:embed="rId2"/>
            <a:stretch/>
          </p:blipFill>
          <p:spPr>
            <a:xfrm>
              <a:off x="23760" y="208080"/>
              <a:ext cx="840744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214200" y="285840"/>
              <a:ext cx="814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nstantia"/>
                </a:rPr>
                <a:t>Составьте предложения используя предлог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Box 4"/>
          <p:cNvSpPr/>
          <p:nvPr/>
        </p:nvSpPr>
        <p:spPr>
          <a:xfrm>
            <a:off x="6286680" y="6215040"/>
            <a:ext cx="12855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carp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7215120" y="1285920"/>
            <a:ext cx="12859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fire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1143000" y="1000080"/>
            <a:ext cx="1285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142920" y="2428920"/>
            <a:ext cx="1285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urt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2071800" y="3000240"/>
            <a:ext cx="8571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w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3000240" y="5000760"/>
            <a:ext cx="10004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0"/>
          <p:cNvSpPr/>
          <p:nvPr/>
        </p:nvSpPr>
        <p:spPr>
          <a:xfrm>
            <a:off x="4143240" y="2857680"/>
            <a:ext cx="8575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v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1"/>
          <p:cNvSpPr/>
          <p:nvPr/>
        </p:nvSpPr>
        <p:spPr>
          <a:xfrm>
            <a:off x="1000080" y="4143240"/>
            <a:ext cx="9288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l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4"/>
          <p:cNvSpPr/>
          <p:nvPr/>
        </p:nvSpPr>
        <p:spPr>
          <a:xfrm>
            <a:off x="4357800" y="1857240"/>
            <a:ext cx="785880" cy="10688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4143240" y="2071800"/>
            <a:ext cx="5716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"/>
          <p:cNvSpPr/>
          <p:nvPr/>
        </p:nvSpPr>
        <p:spPr>
          <a:xfrm>
            <a:off x="214200" y="285840"/>
            <a:ext cx="8501040" cy="520560"/>
          </a:xfrm>
          <a:prstGeom prst="rect">
            <a:avLst/>
          </a:prstGeom>
          <a:solidFill>
            <a:srgbClr val="a5c249"/>
          </a:solidFill>
          <a:ln w="25560">
            <a:solidFill>
              <a:srgbClr val="788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Чтобы спросить о нахождении чего - ли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4572000" y="1143000"/>
            <a:ext cx="500040" cy="581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5143680" y="1857240"/>
            <a:ext cx="1500120" cy="1068840"/>
          </a:xfrm>
          <a:prstGeom prst="rect">
            <a:avLst/>
          </a:prstGeom>
          <a:solidFill>
            <a:srgbClr val="10cf9b"/>
          </a:solidFill>
          <a:ln w="25560">
            <a:solidFill>
              <a:srgbClr val="0998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6"/>
          <p:cNvSpPr/>
          <p:nvPr/>
        </p:nvSpPr>
        <p:spPr>
          <a:xfrm>
            <a:off x="5072040" y="1071720"/>
            <a:ext cx="1357200" cy="1068840"/>
          </a:xfrm>
          <a:prstGeom prst="rect">
            <a:avLst/>
          </a:prstGeom>
          <a:solidFill>
            <a:srgbClr val="10cf9b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453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TextBox 7"/>
          <p:cNvGrpSpPr/>
          <p:nvPr/>
        </p:nvGrpSpPr>
        <p:grpSpPr>
          <a:xfrm>
            <a:off x="6278400" y="1322280"/>
            <a:ext cx="2700360" cy="1175400"/>
            <a:chOff x="6278400" y="1322280"/>
            <a:chExt cx="2700360" cy="1175400"/>
          </a:xfrm>
        </p:grpSpPr>
        <p:pic>
          <p:nvPicPr>
            <p:cNvPr id="176" name="TextBox 7" descr=""/>
            <p:cNvPicPr/>
            <p:nvPr/>
          </p:nvPicPr>
          <p:blipFill>
            <a:blip r:embed="rId1"/>
            <a:stretch/>
          </p:blipFill>
          <p:spPr>
            <a:xfrm>
              <a:off x="6278400" y="1322280"/>
              <a:ext cx="27003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500880" y="1428840"/>
              <a:ext cx="228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on the ta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TextBox 8"/>
          <p:cNvGrpSpPr/>
          <p:nvPr/>
        </p:nvGrpSpPr>
        <p:grpSpPr>
          <a:xfrm>
            <a:off x="-225360" y="1243080"/>
            <a:ext cx="2577960" cy="2645280"/>
            <a:chOff x="-225360" y="1243080"/>
            <a:chExt cx="2577960" cy="2645280"/>
          </a:xfrm>
        </p:grpSpPr>
        <p:pic>
          <p:nvPicPr>
            <p:cNvPr id="179" name="TextBox 8" descr=""/>
            <p:cNvPicPr/>
            <p:nvPr/>
          </p:nvPicPr>
          <p:blipFill>
            <a:blip r:embed="rId2"/>
            <a:stretch/>
          </p:blipFill>
          <p:spPr>
            <a:xfrm>
              <a:off x="-225360" y="1243080"/>
              <a:ext cx="2577960" cy="17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0" y="1357200"/>
              <a:ext cx="228600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nstantia"/>
                </a:rPr>
                <a:t>Wha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nstantia"/>
                </a:rPr>
                <a:t>How man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nstantia"/>
                </a:rPr>
                <a:t>How muc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TextBox 2"/>
          <p:cNvGrpSpPr/>
          <p:nvPr/>
        </p:nvGrpSpPr>
        <p:grpSpPr>
          <a:xfrm>
            <a:off x="2938320" y="1395360"/>
            <a:ext cx="1548000" cy="1112760"/>
            <a:chOff x="2938320" y="1395360"/>
            <a:chExt cx="1548000" cy="1112760"/>
          </a:xfrm>
        </p:grpSpPr>
        <p:pic>
          <p:nvPicPr>
            <p:cNvPr id="182" name="TextBox 2" descr=""/>
            <p:cNvPicPr/>
            <p:nvPr/>
          </p:nvPicPr>
          <p:blipFill>
            <a:blip r:embed="rId3"/>
            <a:stretch/>
          </p:blipFill>
          <p:spPr>
            <a:xfrm>
              <a:off x="2938320" y="1395360"/>
              <a:ext cx="154800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071880" y="1500120"/>
              <a:ext cx="12859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</a:t>
              </a: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9"/>
          <p:cNvSpPr/>
          <p:nvPr/>
        </p:nvSpPr>
        <p:spPr>
          <a:xfrm>
            <a:off x="8358120" y="1143000"/>
            <a:ext cx="785880" cy="10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TextBox 10"/>
          <p:cNvGrpSpPr/>
          <p:nvPr/>
        </p:nvGrpSpPr>
        <p:grpSpPr>
          <a:xfrm>
            <a:off x="-55440" y="4552920"/>
            <a:ext cx="3816360" cy="1464120"/>
            <a:chOff x="-55440" y="4552920"/>
            <a:chExt cx="3816360" cy="1464120"/>
          </a:xfrm>
        </p:grpSpPr>
        <p:pic>
          <p:nvPicPr>
            <p:cNvPr id="186" name="TextBox 10" descr=""/>
            <p:cNvPicPr/>
            <p:nvPr/>
          </p:nvPicPr>
          <p:blipFill>
            <a:blip r:embed="rId4"/>
            <a:stretch/>
          </p:blipFill>
          <p:spPr>
            <a:xfrm>
              <a:off x="-55440" y="4552920"/>
              <a:ext cx="381636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42920" y="4643280"/>
              <a:ext cx="35002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Yes, there i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Yes, there are (some)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TextBox 11"/>
          <p:cNvGrpSpPr/>
          <p:nvPr/>
        </p:nvGrpSpPr>
        <p:grpSpPr>
          <a:xfrm>
            <a:off x="4157640" y="4700520"/>
            <a:ext cx="4413240" cy="1150920"/>
            <a:chOff x="4157640" y="4700520"/>
            <a:chExt cx="4413240" cy="1150920"/>
          </a:xfrm>
        </p:grpSpPr>
        <p:pic>
          <p:nvPicPr>
            <p:cNvPr id="189" name="TextBox 11" descr=""/>
            <p:cNvPicPr/>
            <p:nvPr/>
          </p:nvPicPr>
          <p:blipFill>
            <a:blip r:embed="rId5"/>
            <a:stretch/>
          </p:blipFill>
          <p:spPr>
            <a:xfrm>
              <a:off x="4157640" y="4700520"/>
              <a:ext cx="441324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4357800" y="4786200"/>
              <a:ext cx="4143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No, there isn’t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No, there aren’t (any)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95 -0.00926 L -0.2198 -0.00208 E">
                                      <p:cBhvr>
                                        <p:cTn id="155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4 0.00116 L -0.07361 0.00116 E">
                                      <p:cBhvr>
                                        <p:cTn id="157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4.07407E-006 L -0.22413 -0.00232 E">
                                      <p:cBhvr>
                                        <p:cTn id="161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-0.05 -0.00232 E">
                                      <p:cBhvr>
                                        <p:cTn id="163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125 -0.00903 L -0.06823 -0.00903 E">
                                      <p:cBhvr>
                                        <p:cTn id="170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TextBox 1"/>
          <p:cNvGrpSpPr/>
          <p:nvPr/>
        </p:nvGrpSpPr>
        <p:grpSpPr>
          <a:xfrm>
            <a:off x="353880" y="311040"/>
            <a:ext cx="7723440" cy="871560"/>
            <a:chOff x="353880" y="311040"/>
            <a:chExt cx="7723440" cy="871560"/>
          </a:xfrm>
        </p:grpSpPr>
        <p:pic>
          <p:nvPicPr>
            <p:cNvPr id="192" name="TextBox 1" descr=""/>
            <p:cNvPicPr/>
            <p:nvPr/>
          </p:nvPicPr>
          <p:blipFill>
            <a:blip r:embed="rId1"/>
            <a:stretch/>
          </p:blipFill>
          <p:spPr>
            <a:xfrm>
              <a:off x="353880" y="311040"/>
              <a:ext cx="77234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28760" y="428760"/>
              <a:ext cx="757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nstantia"/>
                </a:rPr>
                <a:t>Задайте вопрос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TextBox 2"/>
          <p:cNvGrpSpPr/>
          <p:nvPr/>
        </p:nvGrpSpPr>
        <p:grpSpPr>
          <a:xfrm>
            <a:off x="-225360" y="1238400"/>
            <a:ext cx="9442440" cy="5248080"/>
            <a:chOff x="-225360" y="1238400"/>
            <a:chExt cx="9442440" cy="5248080"/>
          </a:xfrm>
        </p:grpSpPr>
        <p:pic>
          <p:nvPicPr>
            <p:cNvPr id="195" name="TextBox 2" descr=""/>
            <p:cNvPicPr/>
            <p:nvPr/>
          </p:nvPicPr>
          <p:blipFill>
            <a:blip r:embed="rId2"/>
            <a:stretch/>
          </p:blipFill>
          <p:spPr>
            <a:xfrm>
              <a:off x="-225360" y="1238400"/>
              <a:ext cx="9442440" cy="52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1357200"/>
              <a:ext cx="9144000" cy="49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00000"/>
                </a:lnSpc>
                <a:buClr>
                  <a:srgbClr val="000000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 is a table in the room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0000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 are some flowers on the window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0000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 is a man in the street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0000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 are books on the desk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0000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 is a shop on the corner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0000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 are parks in our city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0000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 is a stadium near my hous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0000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 is a Reader in my schoolbag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0000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 are 28 pupils in my clas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buClr>
                  <a:srgbClr val="000000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nstantia"/>
                </a:rPr>
                <a:t>There are many cafes in my city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TextBox 1"/>
          <p:cNvGrpSpPr/>
          <p:nvPr/>
        </p:nvGrpSpPr>
        <p:grpSpPr>
          <a:xfrm>
            <a:off x="639720" y="281160"/>
            <a:ext cx="7437600" cy="1029960"/>
            <a:chOff x="639720" y="281160"/>
            <a:chExt cx="7437600" cy="1029960"/>
          </a:xfrm>
        </p:grpSpPr>
        <p:pic>
          <p:nvPicPr>
            <p:cNvPr id="198" name="TextBox 1" descr=""/>
            <p:cNvPicPr/>
            <p:nvPr/>
          </p:nvPicPr>
          <p:blipFill>
            <a:blip r:embed="rId1"/>
            <a:stretch/>
          </p:blipFill>
          <p:spPr>
            <a:xfrm>
              <a:off x="639720" y="281160"/>
              <a:ext cx="743760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14240" y="428760"/>
              <a:ext cx="7286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onstantia"/>
                </a:rPr>
                <a:t>Ответьте на вопросы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TextBox 2"/>
          <p:cNvGrpSpPr/>
          <p:nvPr/>
        </p:nvGrpSpPr>
        <p:grpSpPr>
          <a:xfrm>
            <a:off x="-249120" y="1311120"/>
            <a:ext cx="9466200" cy="6246720"/>
            <a:chOff x="-249120" y="1311120"/>
            <a:chExt cx="9466200" cy="6246720"/>
          </a:xfrm>
        </p:grpSpPr>
        <p:pic>
          <p:nvPicPr>
            <p:cNvPr id="201" name="TextBox 2" descr=""/>
            <p:cNvPicPr/>
            <p:nvPr/>
          </p:nvPicPr>
          <p:blipFill>
            <a:blip r:embed="rId2"/>
            <a:stretch/>
          </p:blipFill>
          <p:spPr>
            <a:xfrm>
              <a:off x="-249120" y="1311120"/>
              <a:ext cx="9466200" cy="475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0" y="1428840"/>
              <a:ext cx="9144000" cy="61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nstantia"/>
                </a:rPr>
                <a:t>1. Is there an interesting film on TV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nstantia"/>
                </a:rPr>
                <a:t>2. Are there any pencils in your pencil box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nstantia"/>
                </a:rPr>
                <a:t>3. How many rooms are there in your flat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nstantia"/>
                </a:rPr>
                <a:t>4. What is there on your desk?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nstantia"/>
                </a:rPr>
                <a:t>5. Is there a shop near your house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nstantia"/>
                </a:rPr>
                <a:t>6. Are there pet shops in your city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nstantia"/>
                </a:rPr>
                <a:t>7. Is there a lamp on your table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nstantia"/>
                </a:rPr>
                <a:t>8. Are there pictures in your Student’s book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 и Папа</cp:lastModifiedBy>
  <dcterms:modified xsi:type="dcterms:W3CDTF">2009-02-12T04:17:37Z</dcterms:modified>
  <cp:revision>15</cp:revision>
  <dc:subject/>
  <dc:title>Reported speech:  “that”- clauses</dc:title>
</cp:coreProperties>
</file>