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4.png" ContentType="image/png"/>
  <Override PartName="/ppt/media/image19.gif" ContentType="image/gif"/>
  <Override PartName="/ppt/media/image16.png" ContentType="image/png"/>
  <Override PartName="/ppt/media/image3.gif" ContentType="image/gif"/>
  <Override PartName="/ppt/media/image6.png" ContentType="image/png"/>
  <Override PartName="/ppt/media/image26.gif" ContentType="image/gif"/>
  <Override PartName="/ppt/media/image31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17.wmf" ContentType="image/x-wmf"/>
  <Override PartName="/ppt/media/image33.png" ContentType="image/png"/>
  <Override PartName="/ppt/media/image5.wmf" ContentType="image/x-wmf"/>
  <Override PartName="/ppt/media/image13.jpeg" ContentType="image/jpeg"/>
  <Override PartName="/ppt/media/image30.gif" ContentType="image/gif"/>
  <Override PartName="/ppt/media/image23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DD8-B758-48BF-BA81-7EDE97E2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864-1D4A-4B7C-A268-AB5D3BAB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07C-026B-4E89-B478-BC4C1C45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2ED-E9C7-47FE-A282-7AB1BDB7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C59-6B33-46AF-BDAB-38FF9B16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F409-54B4-46F4-A672-B0844A08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D029-A7FF-4937-95CC-E594175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AB84-86A0-4888-8328-5714740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0B78-9DD5-430A-B5A3-D522FA3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BB0D-0ECF-4620-8EBA-DD3E9AB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F87C-97BE-461D-89B7-BAE2D9DA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0D3-4C16-4C26-B48A-0E7B9623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DFD8-FE6F-485D-9B9F-D6B82C8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2213-716E-4DEC-8D2C-020D0AEA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F81A-3805-40E1-9830-998E40C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D405-8834-47E1-9DA8-A584D135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30B-9F08-407B-AADE-136A9976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70E-DED7-4749-BA95-C9A6BB86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FB8-7CA6-43FE-805A-65229CB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428-FF75-4717-A82C-DCB1BA6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C62-6D89-4718-AB79-4D5D844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ABF-A49F-4300-925F-0540BA4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AE1-E25C-4467-A28B-A84BE23E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F89B-788B-416D-9CA4-89ED9AB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F226-DD22-478C-874B-C38C65B6AC2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D9E-5858-4F84-AF43-7E49CA04726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-122400" y="1500120"/>
            <a:ext cx="9680760" cy="223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boy3"/>
          <p:cNvPicPr/>
          <p:nvPr/>
        </p:nvPicPr>
        <p:blipFill>
          <a:blip r:embed="rId2"/>
          <a:stretch/>
        </p:blipFill>
        <p:spPr>
          <a:xfrm>
            <a:off x="6300720" y="2781360"/>
            <a:ext cx="2448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2968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А сейчас все по порядк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станем дружно на заряд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Руки в сторону согнул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Вверх подняли и махну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Спрятали за спину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глянулись  через правое плеч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Через левое ещё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Дружно присел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Пяточки за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На носочки поднялис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Опустили руки вни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human50"/>
          <p:cNvPicPr/>
          <p:nvPr/>
        </p:nvPicPr>
        <p:blipFill>
          <a:blip r:embed="rId2"/>
          <a:stretch/>
        </p:blipFill>
        <p:spPr>
          <a:xfrm>
            <a:off x="6948360" y="4021200"/>
            <a:ext cx="1425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497800" cy="167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деляем неполное делим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Делением находим цифру частног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Умножаем, узнаём, сколько разделил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Вычитаем, находим остато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Остаток сравниваем с делителем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2"/>
          <p:cNvPicPr/>
          <p:nvPr/>
        </p:nvPicPr>
        <p:blipFill>
          <a:blip r:embed="rId2"/>
          <a:stretch/>
        </p:blipFill>
        <p:spPr>
          <a:xfrm>
            <a:off x="2556000" y="162864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26960" y="10000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5712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91440:4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7224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13140:6=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8320:8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"/>
          <p:cNvGrpSpPr/>
          <p:nvPr/>
        </p:nvGrpSpPr>
        <p:grpSpPr>
          <a:xfrm>
            <a:off x="6407640" y="3379320"/>
            <a:ext cx="2223720" cy="2689560"/>
            <a:chOff x="6407640" y="3379320"/>
            <a:chExt cx="2223720" cy="2689560"/>
          </a:xfrm>
        </p:grpSpPr>
        <p:pic>
          <p:nvPicPr>
            <p:cNvPr id="114" name="Picture 5" descr="ag00433_"/>
            <p:cNvPicPr/>
            <p:nvPr/>
          </p:nvPicPr>
          <p:blipFill>
            <a:blip r:embed="rId2"/>
            <a:stretch/>
          </p:blipFill>
          <p:spPr>
            <a:xfrm rot="21135000">
              <a:off x="6540120" y="3848040"/>
              <a:ext cx="1958760" cy="20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j0076161"/>
            <p:cNvPicPr/>
            <p:nvPr/>
          </p:nvPicPr>
          <p:blipFill>
            <a:blip r:embed="rId3"/>
            <a:stretch/>
          </p:blipFill>
          <p:spPr>
            <a:xfrm rot="21135000">
              <a:off x="6781680" y="3482280"/>
              <a:ext cx="1627200" cy="148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429 СТР. 8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сский язык - ? уч. 32 п. по 8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тематика - ? п. по 10 ш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06 у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равая фигурная скобка 9"/>
          <p:cNvSpPr/>
          <p:nvPr/>
        </p:nvSpPr>
        <p:spPr>
          <a:xfrm flipH="1" rot="10800000">
            <a:off x="4429080" y="2499840"/>
            <a:ext cx="642960" cy="1357560"/>
          </a:xfrm>
          <a:custGeom>
            <a:avLst/>
            <a:gdLst>
              <a:gd name="textAreaLeft" fmla="*/ 360 w 642960"/>
              <a:gd name="textAreaRight" fmla="*/ 232560 w 642960"/>
              <a:gd name="textAreaTop" fmla="*/ 16560 h 1357560"/>
              <a:gd name="textAreaBottom" fmla="*/ 134100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7"/>
                  <a:pt x="10800" y="853"/>
                </a:cubicBezTo>
                <a:lnTo>
                  <a:pt x="10800" y="9814"/>
                </a:lnTo>
                <a:cubicBezTo>
                  <a:pt x="10800" y="10241"/>
                  <a:pt x="16200" y="10667"/>
                  <a:pt x="21600" y="10667"/>
                </a:cubicBezTo>
                <a:cubicBezTo>
                  <a:pt x="16200" y="10667"/>
                  <a:pt x="10800" y="11094"/>
                  <a:pt x="10800" y="11520"/>
                </a:cubicBezTo>
                <a:lnTo>
                  <a:pt x="10800" y="20747"/>
                </a:lnTo>
                <a:cubicBezTo>
                  <a:pt x="10800" y="211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молочном заводе приготовили 6000 литров молочной продукции. Молока 3600 литров, кефира – в 3 раза меньше, чем молока, а остальное ряженка. Сколько литров ряженки изготовили на молочном завод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ook"/>
          <p:cNvPicPr/>
          <p:nvPr/>
        </p:nvPicPr>
        <p:blipFill>
          <a:blip r:embed="rId2"/>
          <a:stretch/>
        </p:blipFill>
        <p:spPr>
          <a:xfrm>
            <a:off x="6300720" y="4221000"/>
            <a:ext cx="2087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ение многозначного числа на однозначное выполняется так же, как трёхзначного числа на однознач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умножении именованных чисел  сначала переводим это число в простое, т.е укрупняем его, затем выполняем действ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и делении многозначных чисел на однозначно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-   выделяем неполное делимо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, сколько чисел в частно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умножаем и узнаём, сколько разделил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находим остаток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равниваем с делител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642760" y="1928880"/>
            <a:ext cx="378612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142640" y="1628280"/>
            <a:ext cx="6643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5f71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закрепить алгоритмы письменного умножения и деления многознач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BS00554_"/>
          <p:cNvPicPr/>
          <p:nvPr/>
        </p:nvPicPr>
        <p:blipFill>
          <a:blip r:embed="rId2"/>
          <a:stretch/>
        </p:blipFill>
        <p:spPr>
          <a:xfrm>
            <a:off x="3429000" y="3000240"/>
            <a:ext cx="26290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57200" y="1670040"/>
            <a:ext cx="82296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4"/>
          <p:cNvPicPr/>
          <p:nvPr/>
        </p:nvPicPr>
        <p:blipFill>
          <a:blip r:embed="rId2"/>
          <a:stretch/>
        </p:blipFill>
        <p:spPr>
          <a:xfrm>
            <a:off x="1116000" y="1341360"/>
            <a:ext cx="1960560" cy="518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"/>
          <p:cNvPicPr/>
          <p:nvPr/>
        </p:nvPicPr>
        <p:blipFill>
          <a:blip r:embed="rId3"/>
          <a:stretch/>
        </p:blipFill>
        <p:spPr>
          <a:xfrm>
            <a:off x="6156360" y="1413000"/>
            <a:ext cx="16002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00120" y="1571400"/>
            <a:ext cx="5616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ставь и реши задач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5" descr="1"/>
          <p:cNvPicPr/>
          <p:nvPr/>
        </p:nvPicPr>
        <p:blipFill>
          <a:blip r:embed="rId2"/>
          <a:stretch/>
        </p:blipFill>
        <p:spPr>
          <a:xfrm>
            <a:off x="2643120" y="2714760"/>
            <a:ext cx="34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Алгоритм письменного выполнения умн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исьменное умножение любого трехзначного числа на однозначное число выполняется так же, как умножение двузначного числа на однозначное число: сначала умножают единицы, потом десятки, сотни и т.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0"/>
          <p:cNvPicPr/>
          <p:nvPr/>
        </p:nvPicPr>
        <p:blipFill>
          <a:blip r:embed="rId2"/>
          <a:stretch/>
        </p:blipFill>
        <p:spPr>
          <a:xfrm>
            <a:off x="2050920" y="1484280"/>
            <a:ext cx="4753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824     916     712420     12005     7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5f71"/>
                </a:solidFill>
                <a:latin typeface="Times New Roman"/>
              </a:rPr>
              <a:t>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9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3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 5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     6</a:t>
            </a:r>
            <a:r>
              <a:rPr b="1" lang="ru-RU" sz="3600" spc="-1" strike="noStrike">
                <a:solidFill>
                  <a:srgbClr val="295f71"/>
                </a:solidFill>
                <a:latin typeface="Times New Roman"/>
              </a:rPr>
              <a:t>     </a:t>
            </a:r>
            <a:r>
              <a:rPr b="1" lang="ru-RU" sz="3600" spc="-1" strike="noStrike" u="sng">
                <a:solidFill>
                  <a:srgbClr val="295f71"/>
                </a:solidFill>
                <a:uFillTx/>
                <a:latin typeface="Times New Roman"/>
              </a:rPr>
              <a:t>* 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1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крупные единицы мелки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ыполнить умножение натуральных чисе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Заменить мелкие единицы крупн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500040" y="682560"/>
            <a:ext cx="8229600" cy="3408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343297"/>
          <p:cNvPicPr/>
          <p:nvPr/>
        </p:nvPicPr>
        <p:blipFill>
          <a:blip r:embed="rId2"/>
          <a:stretch/>
        </p:blipFill>
        <p:spPr>
          <a:xfrm>
            <a:off x="3571920" y="4000680"/>
            <a:ext cx="18223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13:30Z</dcterms:created>
  <dc:creator>Podkovirov</dc:creator>
  <dc:description/>
  <dc:language>en-US</dc:language>
  <cp:lastModifiedBy>ZooM</cp:lastModifiedBy>
  <dcterms:modified xsi:type="dcterms:W3CDTF">2013-10-16T15:17:35Z</dcterms:modified>
  <cp:revision>21</cp:revision>
  <dc:subject/>
  <dc:title>Тема: Закрепление пройденного. Умножение и деление многозначных чисел. </dc:title>
</cp:coreProperties>
</file>