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24.png" ContentType="image/png"/>
  <Override PartName="/ppt/media/image19.gif" ContentType="image/gif"/>
  <Override PartName="/ppt/media/image16.png" ContentType="image/png"/>
  <Override PartName="/ppt/media/image3.gif" ContentType="image/gif"/>
  <Override PartName="/ppt/media/image6.png" ContentType="image/png"/>
  <Override PartName="/ppt/media/image26.gif" ContentType="image/gif"/>
  <Override PartName="/ppt/media/image31.png" ContentType="image/png"/>
  <Override PartName="/ppt/media/image29.png" ContentType="image/png"/>
  <Override PartName="/ppt/media/image20.png" ContentType="image/png"/>
  <Override PartName="/ppt/media/image18.png" ContentType="image/png"/>
  <Override PartName="/ppt/media/image25.gif" ContentType="image/gif"/>
  <Override PartName="/ppt/media/image7.jpeg" ContentType="image/jpeg"/>
  <Override PartName="/ppt/media/image28.png" ContentType="image/png"/>
  <Override PartName="/ppt/media/image8.jpeg" ContentType="image/jpeg"/>
  <Override PartName="/ppt/media/image11.png" ContentType="image/png"/>
  <Override PartName="/ppt/media/image17.wmf" ContentType="image/x-wmf"/>
  <Override PartName="/ppt/media/image33.png" ContentType="image/png"/>
  <Override PartName="/ppt/media/image5.wmf" ContentType="image/x-wmf"/>
  <Override PartName="/ppt/media/image13.jpeg" ContentType="image/jpeg"/>
  <Override PartName="/ppt/media/image30.gif" ContentType="image/gif"/>
  <Override PartName="/ppt/media/image23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32.png" ContentType="image/png"/>
  <Override PartName="/ppt/media/image2.png" ContentType="image/png"/>
  <Override PartName="/ppt/media/image10.jpeg" ContentType="image/jpeg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7237-2318-446E-8E17-0FF4E516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27EE-1EBB-4C37-96FB-3DDEDE58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C363-8CEE-4384-BD9A-AC00D9EE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84E4-974B-47F3-8A33-E43198D9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57F5-90FD-44EC-9060-DE1B2875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0193-5FE4-48EC-82E7-4C1BA215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4F37-DDDB-42B4-97F2-1AF6B7AE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A872-FEBC-4F14-815B-DD154016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9016-0A7E-42CE-B25A-DA551E9B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7C05-39A0-4CD3-A69E-0E8E94AB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7518-7BB5-4CFB-8AD7-771B004D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ECA4-10EA-4051-B9BC-AD02848C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4524-03BB-4588-917D-81088027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A81D-1155-4AF6-BB29-24B610A7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80DD-3E29-41E8-A1E4-A437DC59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B6B6-EC76-411B-8308-0FE522D7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B79B-061F-43D9-BB4B-B9426B64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C679-60E6-43DD-ABD7-FB9AD155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45BE-97B6-45DD-9CAE-0DD71F7C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BFA7-93CC-496D-9F41-C106A9E3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8BF6-EDD6-42F8-81E5-AF8BF882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D5F-8C63-4F36-8023-DEE3E8D3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CFAF-9ECD-4DE1-A678-FE33FFF7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4321-D268-46A7-BC2C-2EC57E2C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C89F-D531-4DC5-AC77-620C9EB66B0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9BEB-CC95-4888-BF64-69EAE321EFE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-122400" y="1500120"/>
            <a:ext cx="9680760" cy="2236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boy3"/>
          <p:cNvPicPr/>
          <p:nvPr/>
        </p:nvPicPr>
        <p:blipFill>
          <a:blip r:embed="rId2"/>
          <a:stretch/>
        </p:blipFill>
        <p:spPr>
          <a:xfrm>
            <a:off x="6300720" y="2781360"/>
            <a:ext cx="2448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2968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А сейчас все по порядку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Встанем дружно на заряд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Руки в сторону согнул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Вверх подняли и махну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Спрятали за спину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Оглянулись  через правое плечо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Через левое ещё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Дружно присел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Пяточки заде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На носочки поднялис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Опустили руки вниз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4" descr="human50"/>
          <p:cNvPicPr/>
          <p:nvPr/>
        </p:nvPicPr>
        <p:blipFill>
          <a:blip r:embed="rId2"/>
          <a:stretch/>
        </p:blipFill>
        <p:spPr>
          <a:xfrm>
            <a:off x="6948360" y="4021200"/>
            <a:ext cx="14256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433440" y="122400"/>
            <a:ext cx="8497800" cy="1676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Выделяем неполное делимо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Делением находим цифру частного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Умножаем, узнаём, сколько разделил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Вычитаем, находим остаток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Остаток сравниваем с делителем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2"/>
          <p:cNvPicPr/>
          <p:nvPr/>
        </p:nvPicPr>
        <p:blipFill>
          <a:blip r:embed="rId2"/>
          <a:stretch/>
        </p:blipFill>
        <p:spPr>
          <a:xfrm>
            <a:off x="2556000" y="1628640"/>
            <a:ext cx="3960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26960" y="1000080"/>
            <a:ext cx="8229600" cy="133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57120" y="307188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91440:4=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7224:8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13140:6=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8320:8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267012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4"/>
          <p:cNvGrpSpPr/>
          <p:nvPr/>
        </p:nvGrpSpPr>
        <p:grpSpPr>
          <a:xfrm>
            <a:off x="6407640" y="3379320"/>
            <a:ext cx="2223720" cy="2689560"/>
            <a:chOff x="6407640" y="3379320"/>
            <a:chExt cx="2223720" cy="2689560"/>
          </a:xfrm>
        </p:grpSpPr>
        <p:pic>
          <p:nvPicPr>
            <p:cNvPr id="114" name="Picture 5" descr="ag00433_"/>
            <p:cNvPicPr/>
            <p:nvPr/>
          </p:nvPicPr>
          <p:blipFill>
            <a:blip r:embed="rId2"/>
            <a:stretch/>
          </p:blipFill>
          <p:spPr>
            <a:xfrm rot="21135000">
              <a:off x="6540120" y="3848040"/>
              <a:ext cx="1958760" cy="20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6" descr="j0076161"/>
            <p:cNvPicPr/>
            <p:nvPr/>
          </p:nvPicPr>
          <p:blipFill>
            <a:blip r:embed="rId3"/>
            <a:stretch/>
          </p:blipFill>
          <p:spPr>
            <a:xfrm rot="21135000">
              <a:off x="6781680" y="3482280"/>
              <a:ext cx="1627200" cy="1482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№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429 СТР. 8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сский язык - ? уч. 32 п. по 8 ш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тематика - ? п. по 10 ш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06 уч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Правая фигурная скобка 9"/>
          <p:cNvSpPr/>
          <p:nvPr/>
        </p:nvSpPr>
        <p:spPr>
          <a:xfrm flipH="1" rot="10800000">
            <a:off x="4429080" y="2499840"/>
            <a:ext cx="642960" cy="1357560"/>
          </a:xfrm>
          <a:custGeom>
            <a:avLst/>
            <a:gdLst>
              <a:gd name="textAreaLeft" fmla="*/ 360 w 642960"/>
              <a:gd name="textAreaRight" fmla="*/ 232560 w 642960"/>
              <a:gd name="textAreaTop" fmla="*/ 16560 h 1357560"/>
              <a:gd name="textAreaBottom" fmla="*/ 1341000 h 135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27"/>
                  <a:pt x="10800" y="853"/>
                </a:cubicBezTo>
                <a:lnTo>
                  <a:pt x="10800" y="9814"/>
                </a:lnTo>
                <a:cubicBezTo>
                  <a:pt x="10800" y="10241"/>
                  <a:pt x="16200" y="10667"/>
                  <a:pt x="21600" y="10667"/>
                </a:cubicBezTo>
                <a:cubicBezTo>
                  <a:pt x="16200" y="10667"/>
                  <a:pt x="10800" y="11094"/>
                  <a:pt x="10800" y="11520"/>
                </a:cubicBezTo>
                <a:lnTo>
                  <a:pt x="10800" y="20747"/>
                </a:lnTo>
                <a:cubicBezTo>
                  <a:pt x="10800" y="2117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324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молочном заводе приготовили 6000 литров молочной продукции. Молока 3600 литров, кефира – в 3 раза меньше, чем молока, а остальное ряженка. Сколько литров ряженки изготовили на молочном завод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457200" y="109440"/>
            <a:ext cx="82296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book"/>
          <p:cNvPicPr/>
          <p:nvPr/>
        </p:nvPicPr>
        <p:blipFill>
          <a:blip r:embed="rId2"/>
          <a:stretch/>
        </p:blipFill>
        <p:spPr>
          <a:xfrm>
            <a:off x="6300720" y="4221000"/>
            <a:ext cx="2087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angle 2" descr=""/>
          <p:cNvPicPr/>
          <p:nvPr/>
        </p:nvPicPr>
        <p:blipFill>
          <a:blip r:embed="rId1"/>
          <a:stretch/>
        </p:blipFill>
        <p:spPr>
          <a:xfrm>
            <a:off x="396720" y="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Умножение многозначного числа на однозначное выполняется так же, как трёхзначного числа на однозначно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При умножении именованных чисел  сначала переводим это число в простое, т.е укрупняем его, затем выполняем действ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При делении многозначных чисел на однозначное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-   выделяем неполное делимо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находим, сколько чисел в частно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умножаем и узнаём, сколько разделил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находим остаток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сравниваем с делителе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642760" y="1928880"/>
            <a:ext cx="378612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3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3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142640" y="1628280"/>
            <a:ext cx="6643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5f71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закрепить алгоритмы письменного умножения и деления многозначных чисе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4" descr="BS00554_"/>
          <p:cNvPicPr/>
          <p:nvPr/>
        </p:nvPicPr>
        <p:blipFill>
          <a:blip r:embed="rId2"/>
          <a:stretch/>
        </p:blipFill>
        <p:spPr>
          <a:xfrm>
            <a:off x="3429000" y="3000240"/>
            <a:ext cx="262908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1"/>
          <a:stretch/>
        </p:blipFill>
        <p:spPr>
          <a:xfrm>
            <a:off x="457200" y="1670040"/>
            <a:ext cx="822960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4"/>
          <p:cNvPicPr/>
          <p:nvPr/>
        </p:nvPicPr>
        <p:blipFill>
          <a:blip r:embed="rId2"/>
          <a:stretch/>
        </p:blipFill>
        <p:spPr>
          <a:xfrm>
            <a:off x="1116000" y="1341360"/>
            <a:ext cx="1960560" cy="518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7"/>
          <p:cNvPicPr/>
          <p:nvPr/>
        </p:nvPicPr>
        <p:blipFill>
          <a:blip r:embed="rId3"/>
          <a:stretch/>
        </p:blipFill>
        <p:spPr>
          <a:xfrm>
            <a:off x="6156360" y="1413000"/>
            <a:ext cx="160020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500120" y="1571400"/>
            <a:ext cx="561672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ставь и реши задач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5" descr="1"/>
          <p:cNvPicPr/>
          <p:nvPr/>
        </p:nvPicPr>
        <p:blipFill>
          <a:blip r:embed="rId2"/>
          <a:stretch/>
        </p:blipFill>
        <p:spPr>
          <a:xfrm>
            <a:off x="2643120" y="2714760"/>
            <a:ext cx="3456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Алгоритм письменного выполнения умнож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Письменное умножение любого трехзначного числа на однозначное число выполняется так же, как умножение двузначного числа на однозначное число: сначала умножают единицы, потом десятки, сотни и т.д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10"/>
          <p:cNvPicPr/>
          <p:nvPr/>
        </p:nvPicPr>
        <p:blipFill>
          <a:blip r:embed="rId2"/>
          <a:stretch/>
        </p:blipFill>
        <p:spPr>
          <a:xfrm>
            <a:off x="2050920" y="1484280"/>
            <a:ext cx="4753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824     916     712420     12005     7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3600" spc="-1" strike="noStrike" u="sng">
                <a:solidFill>
                  <a:srgbClr val="295f71"/>
                </a:solidFill>
                <a:uFillTx/>
                <a:latin typeface="Times New Roman"/>
              </a:rPr>
              <a:t>*   9</a:t>
            </a: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    </a:t>
            </a:r>
            <a:r>
              <a:rPr b="1" lang="ru-RU" sz="3600" spc="-1" strike="noStrike" u="sng">
                <a:solidFill>
                  <a:srgbClr val="295f71"/>
                </a:solidFill>
                <a:uFillTx/>
                <a:latin typeface="Times New Roman"/>
              </a:rPr>
              <a:t>*   3</a:t>
            </a: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     </a:t>
            </a:r>
            <a:r>
              <a:rPr b="1" lang="ru-RU" sz="3600" spc="-1" strike="noStrike" u="sng">
                <a:solidFill>
                  <a:srgbClr val="295f71"/>
                </a:solidFill>
                <a:uFillTx/>
                <a:latin typeface="Times New Roman"/>
              </a:rPr>
              <a:t>*       5</a:t>
            </a: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      </a:t>
            </a:r>
            <a:r>
              <a:rPr b="1" lang="ru-RU" sz="3600" spc="-1" strike="noStrike" u="sng">
                <a:solidFill>
                  <a:srgbClr val="295f71"/>
                </a:solidFill>
                <a:uFillTx/>
                <a:latin typeface="Times New Roman"/>
              </a:rPr>
              <a:t>*      6</a:t>
            </a: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     </a:t>
            </a:r>
            <a:r>
              <a:rPr b="1" lang="ru-RU" sz="3600" spc="-1" strike="noStrike" u="sng">
                <a:solidFill>
                  <a:srgbClr val="295f71"/>
                </a:solidFill>
                <a:uFillTx/>
                <a:latin typeface="Times New Roman"/>
              </a:rPr>
              <a:t>* 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2017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Заменить крупные единицы мелки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Выполнить умножение натуральных чисе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Заменить мелкие единицы крупны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ectangle 2" descr=""/>
          <p:cNvPicPr/>
          <p:nvPr/>
        </p:nvPicPr>
        <p:blipFill>
          <a:blip r:embed="rId1"/>
          <a:stretch/>
        </p:blipFill>
        <p:spPr>
          <a:xfrm>
            <a:off x="500040" y="682560"/>
            <a:ext cx="8229600" cy="3408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j0343297"/>
          <p:cNvPicPr/>
          <p:nvPr/>
        </p:nvPicPr>
        <p:blipFill>
          <a:blip r:embed="rId2"/>
          <a:stretch/>
        </p:blipFill>
        <p:spPr>
          <a:xfrm>
            <a:off x="3571920" y="4000680"/>
            <a:ext cx="18223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7:13:30Z</dcterms:created>
  <dc:creator>Podkovirov</dc:creator>
  <dc:description/>
  <dc:language>en-US</dc:language>
  <cp:lastModifiedBy>ZooM</cp:lastModifiedBy>
  <dcterms:modified xsi:type="dcterms:W3CDTF">2013-10-16T15:17:35Z</dcterms:modified>
  <cp:revision>21</cp:revision>
  <dc:subject/>
  <dc:title>Тема: Закрепление пройденного. Умножение и деление многозначных чисел. </dc:title>
</cp:coreProperties>
</file>