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4.png" ContentType="image/png"/>
  <Override PartName="/ppt/media/image19.gif" ContentType="image/gif"/>
  <Override PartName="/ppt/media/image16.png" ContentType="image/png"/>
  <Override PartName="/ppt/media/image3.gif" ContentType="image/gif"/>
  <Override PartName="/ppt/media/image6.png" ContentType="image/png"/>
  <Override PartName="/ppt/media/image26.gif" ContentType="image/gif"/>
  <Override PartName="/ppt/media/image31.png" ContentType="image/png"/>
  <Override PartName="/ppt/media/image29.png" ContentType="image/png"/>
  <Override PartName="/ppt/media/image20.png" ContentType="image/png"/>
  <Override PartName="/ppt/media/image18.png" ContentType="image/png"/>
  <Override PartName="/ppt/media/image25.gif" ContentType="image/gif"/>
  <Override PartName="/ppt/media/image7.jpeg" ContentType="image/jpeg"/>
  <Override PartName="/ppt/media/image28.png" ContentType="image/png"/>
  <Override PartName="/ppt/media/image8.jpeg" ContentType="image/jpeg"/>
  <Override PartName="/ppt/media/image11.png" ContentType="image/png"/>
  <Override PartName="/ppt/media/image17.wmf" ContentType="image/x-wmf"/>
  <Override PartName="/ppt/media/image33.png" ContentType="image/png"/>
  <Override PartName="/ppt/media/image5.wmf" ContentType="image/x-wmf"/>
  <Override PartName="/ppt/media/image13.jpeg" ContentType="image/jpeg"/>
  <Override PartName="/ppt/media/image30.gif" ContentType="image/gif"/>
  <Override PartName="/ppt/media/image23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32.png" ContentType="image/png"/>
  <Override PartName="/ppt/media/image2.png" ContentType="image/png"/>
  <Override PartName="/ppt/media/image10.jpeg" ContentType="image/jpe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C19-749A-4794-B97E-AA47CE65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FDE-A19A-4031-BED4-48E2E013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A66-2A4F-4995-9B5A-095F9513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2D8-52F7-492C-9C63-27982E46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44A2-B7D2-4806-883A-FB66EDD8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4BEC-05EE-48E2-860D-5E3C254B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2563-374B-46FA-9F11-1FCD5266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A4EE-E725-44C3-95F2-4BA24518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A8A9-EEAA-4576-A4EC-96AD044C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59D4-4F8F-4B01-AE62-03FB498D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AA43-35D9-4DEB-950E-B814E011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6D8-039B-4B11-9796-8D6AEC76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6F10-F8C5-4CC3-89EF-87AAB877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D821-2162-4EAE-A1AD-8BB4BDA4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53CA-1A76-4247-801F-DCEB1236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62F5-7CAD-4F08-9AD1-18F4C994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4CE3-8058-4900-BA4D-2104E21C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932-FC9D-4089-9460-15801C3C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02D-087B-469C-ACBE-EFDE926F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9F7-37F1-406C-ABAF-C2CA5239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B8D-04B9-43D3-A99B-C86B38BA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059-420E-4789-B845-3F85074F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C9E-1B94-4AE9-8261-29E94ED5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BBB-56A4-450B-B5FF-EAF8673C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5A84-11AD-4D6F-A27A-E3762088F43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E20C-D511-4E07-8AD4-D311DEC5052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-122400" y="1500120"/>
            <a:ext cx="9680760" cy="2236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boy3"/>
          <p:cNvPicPr/>
          <p:nvPr/>
        </p:nvPicPr>
        <p:blipFill>
          <a:blip r:embed="rId2"/>
          <a:stretch/>
        </p:blipFill>
        <p:spPr>
          <a:xfrm>
            <a:off x="6300720" y="2781360"/>
            <a:ext cx="2448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2968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А сейчас все по порядк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Встанем дружно на заряд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Руки в сторону согнул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Вверх подняли и махну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Спрятали за спину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Оглянулись  через правое плеч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Через левое ещё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Дружно присе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Пяточки заде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На носочки поднялис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Опустили руки вни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human50"/>
          <p:cNvPicPr/>
          <p:nvPr/>
        </p:nvPicPr>
        <p:blipFill>
          <a:blip r:embed="rId2"/>
          <a:stretch/>
        </p:blipFill>
        <p:spPr>
          <a:xfrm>
            <a:off x="6948360" y="4021200"/>
            <a:ext cx="14256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433440" y="122400"/>
            <a:ext cx="8497800" cy="1676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Выделяем неполное делимо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Делением находим цифру частного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Умножаем, узнаём, сколько разделил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Вычитаем, находим остаток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Остаток сравниваем с делителем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2"/>
          <p:cNvPicPr/>
          <p:nvPr/>
        </p:nvPicPr>
        <p:blipFill>
          <a:blip r:embed="rId2"/>
          <a:stretch/>
        </p:blipFill>
        <p:spPr>
          <a:xfrm>
            <a:off x="2556000" y="1628640"/>
            <a:ext cx="396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26960" y="100008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57120" y="30718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91440:4=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7224:8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13140:6=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8320:8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26701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4"/>
          <p:cNvGrpSpPr/>
          <p:nvPr/>
        </p:nvGrpSpPr>
        <p:grpSpPr>
          <a:xfrm>
            <a:off x="6407640" y="3379320"/>
            <a:ext cx="2223720" cy="2689560"/>
            <a:chOff x="6407640" y="3379320"/>
            <a:chExt cx="2223720" cy="2689560"/>
          </a:xfrm>
        </p:grpSpPr>
        <p:pic>
          <p:nvPicPr>
            <p:cNvPr id="114" name="Picture 5" descr="ag00433_"/>
            <p:cNvPicPr/>
            <p:nvPr/>
          </p:nvPicPr>
          <p:blipFill>
            <a:blip r:embed="rId2"/>
            <a:stretch/>
          </p:blipFill>
          <p:spPr>
            <a:xfrm rot="21135000">
              <a:off x="6540120" y="3848040"/>
              <a:ext cx="1958760" cy="20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6" descr="j0076161"/>
            <p:cNvPicPr/>
            <p:nvPr/>
          </p:nvPicPr>
          <p:blipFill>
            <a:blip r:embed="rId3"/>
            <a:stretch/>
          </p:blipFill>
          <p:spPr>
            <a:xfrm rot="21135000">
              <a:off x="6781680" y="3482280"/>
              <a:ext cx="1627200" cy="148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429 СТР. 8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сский язык - ? уч. 32 п. по 8 ш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тематика - ? п. по 10 ш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06 уч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Правая фигурная скобка 9"/>
          <p:cNvSpPr/>
          <p:nvPr/>
        </p:nvSpPr>
        <p:spPr>
          <a:xfrm flipH="1" rot="10800000">
            <a:off x="4429080" y="2499840"/>
            <a:ext cx="642960" cy="1357560"/>
          </a:xfrm>
          <a:custGeom>
            <a:avLst/>
            <a:gdLst>
              <a:gd name="textAreaLeft" fmla="*/ 360 w 642960"/>
              <a:gd name="textAreaRight" fmla="*/ 232560 w 642960"/>
              <a:gd name="textAreaTop" fmla="*/ 16560 h 1357560"/>
              <a:gd name="textAreaBottom" fmla="*/ 134100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7"/>
                  <a:pt x="10800" y="853"/>
                </a:cubicBezTo>
                <a:lnTo>
                  <a:pt x="10800" y="9814"/>
                </a:lnTo>
                <a:cubicBezTo>
                  <a:pt x="10800" y="10241"/>
                  <a:pt x="16200" y="10667"/>
                  <a:pt x="21600" y="10667"/>
                </a:cubicBezTo>
                <a:cubicBezTo>
                  <a:pt x="16200" y="10667"/>
                  <a:pt x="10800" y="11094"/>
                  <a:pt x="10800" y="11520"/>
                </a:cubicBezTo>
                <a:lnTo>
                  <a:pt x="10800" y="20747"/>
                </a:lnTo>
                <a:cubicBezTo>
                  <a:pt x="10800" y="2117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молочном заводе приготовили 6000 литров молочной продукции. Молока 3600 литров, кефира – в 3 раза меньше, чем молока, а остальное ряженка. Сколько литров ряженки изготовили на молочном завод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7200" y="109440"/>
            <a:ext cx="82296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ook"/>
          <p:cNvPicPr/>
          <p:nvPr/>
        </p:nvPicPr>
        <p:blipFill>
          <a:blip r:embed="rId2"/>
          <a:stretch/>
        </p:blipFill>
        <p:spPr>
          <a:xfrm>
            <a:off x="6300720" y="422100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396720" y="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Умножение многозначного числа на однозначное выполняется так же, как трёхзначного числа на однозначн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При умножении именованных чисел  сначала переводим это число в простое, т.е укрупняем его, затем выполняем действ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При делении многозначных чисел на однозначное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-   выделяем неполное делимо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находим, сколько чисел в частно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умножаем и узнаём, сколько разделил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находим остаток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сравниваем с делител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642760" y="1928880"/>
            <a:ext cx="378612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3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3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142640" y="1628280"/>
            <a:ext cx="6643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5f71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закрепить алгоритмы письменного умножения и деления многозначных чисе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BS00554_"/>
          <p:cNvPicPr/>
          <p:nvPr/>
        </p:nvPicPr>
        <p:blipFill>
          <a:blip r:embed="rId2"/>
          <a:stretch/>
        </p:blipFill>
        <p:spPr>
          <a:xfrm>
            <a:off x="3429000" y="3000240"/>
            <a:ext cx="26290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457200" y="1670040"/>
            <a:ext cx="82296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4"/>
          <p:cNvPicPr/>
          <p:nvPr/>
        </p:nvPicPr>
        <p:blipFill>
          <a:blip r:embed="rId2"/>
          <a:stretch/>
        </p:blipFill>
        <p:spPr>
          <a:xfrm>
            <a:off x="1116000" y="1341360"/>
            <a:ext cx="1960560" cy="518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7"/>
          <p:cNvPicPr/>
          <p:nvPr/>
        </p:nvPicPr>
        <p:blipFill>
          <a:blip r:embed="rId3"/>
          <a:stretch/>
        </p:blipFill>
        <p:spPr>
          <a:xfrm>
            <a:off x="6156360" y="1413000"/>
            <a:ext cx="160020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500120" y="1571400"/>
            <a:ext cx="5616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ставь и реши задач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5" descr="1"/>
          <p:cNvPicPr/>
          <p:nvPr/>
        </p:nvPicPr>
        <p:blipFill>
          <a:blip r:embed="rId2"/>
          <a:stretch/>
        </p:blipFill>
        <p:spPr>
          <a:xfrm>
            <a:off x="2643120" y="2714760"/>
            <a:ext cx="3456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Алгоритм письменного выполнения умнож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Письменное умножение любого трехзначного числа на однозначное число выполняется так же, как умножение двузначного числа на однозначное число: сначала умножают единицы, потом десятки, сотни и т.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10"/>
          <p:cNvPicPr/>
          <p:nvPr/>
        </p:nvPicPr>
        <p:blipFill>
          <a:blip r:embed="rId2"/>
          <a:stretch/>
        </p:blipFill>
        <p:spPr>
          <a:xfrm>
            <a:off x="2050920" y="1484280"/>
            <a:ext cx="4753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824     916     712420     12005     7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3600" spc="-1" strike="noStrike" u="sng">
                <a:solidFill>
                  <a:srgbClr val="295f71"/>
                </a:solidFill>
                <a:uFillTx/>
                <a:latin typeface="Times New Roman"/>
              </a:rPr>
              <a:t>*   9</a:t>
            </a: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    </a:t>
            </a:r>
            <a:r>
              <a:rPr b="1" lang="ru-RU" sz="3600" spc="-1" strike="noStrike" u="sng">
                <a:solidFill>
                  <a:srgbClr val="295f71"/>
                </a:solidFill>
                <a:uFillTx/>
                <a:latin typeface="Times New Roman"/>
              </a:rPr>
              <a:t>*   3</a:t>
            </a: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     </a:t>
            </a:r>
            <a:r>
              <a:rPr b="1" lang="ru-RU" sz="3600" spc="-1" strike="noStrike" u="sng">
                <a:solidFill>
                  <a:srgbClr val="295f71"/>
                </a:solidFill>
                <a:uFillTx/>
                <a:latin typeface="Times New Roman"/>
              </a:rPr>
              <a:t>*       5</a:t>
            </a: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      </a:t>
            </a:r>
            <a:r>
              <a:rPr b="1" lang="ru-RU" sz="3600" spc="-1" strike="noStrike" u="sng">
                <a:solidFill>
                  <a:srgbClr val="295f71"/>
                </a:solidFill>
                <a:uFillTx/>
                <a:latin typeface="Times New Roman"/>
              </a:rPr>
              <a:t>*      6</a:t>
            </a: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     </a:t>
            </a:r>
            <a:r>
              <a:rPr b="1" lang="ru-RU" sz="3600" spc="-1" strike="noStrike" u="sng">
                <a:solidFill>
                  <a:srgbClr val="295f71"/>
                </a:solidFill>
                <a:uFillTx/>
                <a:latin typeface="Times New Roman"/>
              </a:rPr>
              <a:t>* 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2017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Заменить крупные единицы мелки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Выполнить умножение натуральных чисе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Заменить мелкие единицы крупны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1"/>
          <a:stretch/>
        </p:blipFill>
        <p:spPr>
          <a:xfrm>
            <a:off x="500040" y="682560"/>
            <a:ext cx="8229600" cy="3408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j0343297"/>
          <p:cNvPicPr/>
          <p:nvPr/>
        </p:nvPicPr>
        <p:blipFill>
          <a:blip r:embed="rId2"/>
          <a:stretch/>
        </p:blipFill>
        <p:spPr>
          <a:xfrm>
            <a:off x="3571920" y="4000680"/>
            <a:ext cx="18223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7:13:30Z</dcterms:created>
  <dc:creator>Podkovirov</dc:creator>
  <dc:description/>
  <dc:language>en-US</dc:language>
  <cp:lastModifiedBy>ZooM</cp:lastModifiedBy>
  <dcterms:modified xsi:type="dcterms:W3CDTF">2013-10-16T15:17:35Z</dcterms:modified>
  <cp:revision>21</cp:revision>
  <dc:subject/>
  <dc:title>Тема: Закрепление пройденного. Умножение и деление многозначных чисел. </dc:title>
</cp:coreProperties>
</file>