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8C29-9A36-4257-9F6F-DCF1167E0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435E-8299-4A62-94CF-BB2EFC9C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DC78-6637-4730-A540-B6EC0122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22BB-FC77-4117-BF1B-E67A65317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9BB4-36D2-4222-9DBC-6FC68B6C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EA39-60D0-4BD9-90F7-7D8D7E37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4FFB-7A58-4150-9662-1B3D64D0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812F-3D2A-4F99-9B95-73DB01F0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0392-F6FD-4D74-B742-2230290D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7A6F-A2D1-4ACE-A506-651A3982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5035-5783-4DF0-A4AF-59875CBA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48F9-5654-4270-844E-181F7E36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9B02-0CB2-4D08-9095-C3141C9D6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250920" y="189000"/>
            <a:ext cx="4537080" cy="619272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3" name=""/>
          <p:cNvSpPr/>
          <p:nvPr/>
        </p:nvSpPr>
        <p:spPr>
          <a:xfrm>
            <a:off x="4716360" y="260280"/>
            <a:ext cx="4176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Лев Никола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Толс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96000" y="177336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«Кавказский пленн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59280" y="2781360"/>
            <a:ext cx="4067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И как я тогда верил, что есть та зелёная палочка, на которой написано, то что должно уничтожить все зло в людях и дать им великое благо, так я верю и теперь, что есть та истина и что будет она открыта людям и даст им то, что она обещ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59500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Л.Н. Тол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8964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Жилин и Дина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Душевная близость людей из враждующих лагерей. Утверждение гуманистических идеалов в расск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125360"/>
            <a:ext cx="630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а территории Кавказа идет война.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В.И. Дал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писал: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Наступательная война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– когда ведут войско на чужое государство; </a:t>
            </a: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оборонительна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я – когда встречают это  войско для защиты своего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6372360" y="1484280"/>
            <a:ext cx="2592360" cy="316872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219640" y="3213000"/>
            <a:ext cx="1947960" cy="34671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6" name=""/>
          <p:cNvSpPr/>
          <p:nvPr/>
        </p:nvSpPr>
        <p:spPr>
          <a:xfrm>
            <a:off x="0" y="2637000"/>
            <a:ext cx="63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уждает ли автор горцев за то, что они воюют с русски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13000"/>
            <a:ext cx="536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Для народов, живущих на Кавказе, эта война оборонительная, горцы отчаянно сопротивляются, не пропуская русских на свою территорию, но русская армия завоевывает Кавказ и платит высокую цену жизнью многих тысяч русских солдат и офице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877000"/>
            <a:ext cx="50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Почему старик в чалме озлоблен на русски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Как и почему изменилось отношение хозяина к пленник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404640"/>
            <a:ext cx="8675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Жилин вызывает симпатии и у хозяина своей храбростью и чувством человеческого достоинства, и у простых татар своим мастерством, трудолюбием, готовностью сделать хорошее людям, и у Дины, увидевшей в нем доброго и честного человека. Но после попытки побега хозяин ужесточил условия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205000"/>
            <a:ext cx="9144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илин – пленник, за которого хозяин получит выкуп, а если это не удастся, то убьёт 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еловеческие отношения вступают в конфликт с враждой и корыстью. После побега офицеров хозяин не смеется, разговаривает с ними враждебно, грозится уб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1497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Вывод: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Люди могли бы жить в дружбе, но этому мешает национальная рознь, приводящая к войне. Мешает и коры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486900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Кто из татар с особой неприязнью относился к пленник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558972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Каким предстает перед нами этот старик? Расскажите его истор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0" t="0" r="-1798" b="49296"/>
          <a:stretch/>
        </p:blipFill>
        <p:spPr>
          <a:xfrm>
            <a:off x="5292720" y="189000"/>
            <a:ext cx="3600360" cy="30970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8" name=""/>
          <p:cNvSpPr/>
          <p:nvPr/>
        </p:nvSpPr>
        <p:spPr>
          <a:xfrm>
            <a:off x="0" y="18900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акой вы представляете Дин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20640"/>
            <a:ext cx="5148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Сравните 2 портрета Дины (1.Первая встреча Жилина с Диной; 2. Последняя глава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Что общего в этих портрет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205000"/>
            <a:ext cx="50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Как автор относится к Ди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637000"/>
            <a:ext cx="51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Какие слова помогают передать симпатии к Ди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3577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Как можно оценить спасение Жилина Дин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337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чему после освобождения Жилин велит Дине отнести шест на мес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724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Почему эта девочка, чьё детство было изуродовано войной, так привязалась к пленно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250920" y="260280"/>
            <a:ext cx="2592360" cy="295272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11280" y="2852640"/>
            <a:ext cx="2543040" cy="38102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2843280" y="907920"/>
            <a:ext cx="2543040" cy="381024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3059280" y="189000"/>
            <a:ext cx="58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Что торжествует в рассказ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80000" y="1700280"/>
            <a:ext cx="3241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рассказе о войне торжествуют не вражда и ненависть, а доброта, душевная близость людей из враждующих лагер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987640" y="260280"/>
            <a:ext cx="3529080" cy="41054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" name=""/>
          <p:cNvSpPr/>
          <p:nvPr/>
        </p:nvSpPr>
        <p:spPr>
          <a:xfrm>
            <a:off x="539640" y="450864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Какие рассказы Л.Н. Толстого вы зна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49417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Что писатель ценит в людях, что отверг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5373720"/>
            <a:ext cx="864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616572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5589720"/>
            <a:ext cx="835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очему автор обращается к детя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79280" y="189000"/>
            <a:ext cx="3529080" cy="27352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39640" y="2781360"/>
            <a:ext cx="3457800" cy="25923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"/>
          <p:cNvSpPr/>
          <p:nvPr/>
        </p:nvSpPr>
        <p:spPr>
          <a:xfrm>
            <a:off x="3995640" y="189000"/>
            <a:ext cx="514836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тор утверждает, что люди разных национальностей могут найти взаимопонимание, потому что едины общечеловеческие нравственные ценности –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любовь к труду, уважение к человеку, дружба, честность, взаимопомощ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напротив,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зло, вражда, эгоизм, коры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о сути своей античеловеч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429000"/>
            <a:ext cx="5003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шают же любви разного рода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социальные устои, окостенелые национальные преграды 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охраняемые государством и порождающие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ложные ценности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стремление к чинам, богатству, карьер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всё то, что людям кажется привычным и нормаль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638172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6093000"/>
            <a:ext cx="864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0200" y="5950080"/>
            <a:ext cx="8713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Какие проблемы поднимает автор в рассказе «Кавказский пленник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5435640" y="333360"/>
            <a:ext cx="3529080" cy="30243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284720" y="3213000"/>
            <a:ext cx="3456000" cy="316872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5" name=""/>
          <p:cNvSpPr/>
          <p:nvPr/>
        </p:nvSpPr>
        <p:spPr>
          <a:xfrm>
            <a:off x="0" y="476280"/>
            <a:ext cx="52196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Могут ли жить люди в мире и дружб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Что их разъединяет и что связыв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Можно ли преодолеть извечную вражду людей друг с друг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 каких людях есть эти качества, а в каких н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азные характеры, разные судьбы Жилина и Костыл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2064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Жи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40360" y="6206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Косты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052640"/>
            <a:ext cx="835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Кто первым решил ехать впереди отряда?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557360"/>
            <a:ext cx="42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Хорошо понимает опасность и рассчитывает только на свою силу, ловкость, быстроту своей лошад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3280" y="1484280"/>
            <a:ext cx="45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ерпелив, безответственен, руководствуется своими прихотями, а не знаниями по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278136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Захват в пл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141720"/>
            <a:ext cx="88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Кто из героев храбре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429000"/>
            <a:ext cx="40672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«Только уговор – не разъезжаться». «Не дамся же живой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«Помутилось у него в глазах, и зашаталс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56000" y="3500280"/>
            <a:ext cx="460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Заместо того, чтобы подождать, только увидал татар, закатился что есть духу к крепости». «Лошадь под ним стала ,и ружье осеклос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57720"/>
            <a:ext cx="406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Вывод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: Жилин сопротивлялся ,но вырваться из рук врагов было невозм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00720" y="5084640"/>
            <a:ext cx="446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Вывод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: офицеры попали в плен из-за легкомыслия и малодушия Костылина, струсившего перед опас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18900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чему Жилин, увидя предательство Костылина, подумал: «Дело плохо. Ружье уехало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76500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Письмо о выку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1197000"/>
            <a:ext cx="3961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«Эх, с ними что робеть, то хуже». «Если он меня пугать хочет, так ни копейки ж не дам, да и писать не стану. Не боялся, да и не буду бояться вас, собак». «Написал Жилин письмо, а на письме не так написал, - чтобы не дошло. Сам думает: «Я уйд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88000" y="112536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н написал письмо домой, пять тысяч монет пришлю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005360"/>
            <a:ext cx="428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Вывод: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Жилин понимает, что уплата выкупа может разорить мать, надеется только на себя, активно ищет вых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3280" y="4937040"/>
            <a:ext cx="4321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Вывод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: Костылин принимает все условия своих врагов, надеется на помощь из дома. Не борется, пассивно подчиняется обстоятельств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284720" y="1916280"/>
            <a:ext cx="4608360" cy="302544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Первый месяц в пле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476280"/>
            <a:ext cx="4464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ысматривает, выпытывает, как ему бежать». «Ходит по аулу, насвистывает, а то сидит, что-нибудь рукодельничает – или из глины кукол лепит, или плетет плетенки из прутьев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«Жилин на всякое рукоделие мастер был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43280" y="476280"/>
            <a:ext cx="450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остылин еще раз писал домой, все ждал присылки денег и скучал. По целым дням сидит в сарае и считает дни, когда письмо придет; или спи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3500280"/>
            <a:ext cx="42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Вывод: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Жилин общительный, активный, хороший мастер. Но его главная цель – совершить побег из пл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38560" y="5851440"/>
            <a:ext cx="41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Вывод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: Костылин безволен, безразличен к окружающему, пассив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292720" y="2133720"/>
            <a:ext cx="3311640" cy="3743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26028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Первый побе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692280"/>
            <a:ext cx="388944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«Ноги обдерешь – заживут, а догонят – убьют, хуж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«Вставай, садись на закорки – снесу, коли уж идти не можеш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«И черт меня дернул колоду эту с собой брать. Один я бы давно ушел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692280"/>
            <a:ext cx="439272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Зацепил камень ногой, загремел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Изрезал все ноги … отстае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Не дойду, не мог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Не могу, сил моих не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ассолодел»- ослабел, устал. «Как закричит Костылин: «Ой, больно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Иди один, за что тебе из-за меня пропада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645000"/>
            <a:ext cx="4284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Вывод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: занят поискамит дороги, и этой цели подчинено все его поведение: он примечает все окружающее, радуется воле, тревожится за успех побега, старается не замечать боли и усталости ;не бросает товарища в беде.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3280" y="4581360"/>
            <a:ext cx="424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Вывод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: Костылин безволен, не желает и не умеет бороться, пассивно следует за товарищем, все его мысли сосредоточены на себе. Окружающего он не видит, испытывает ст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8900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чему побег не удал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00360" y="476280"/>
            <a:ext cx="61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бег не удался из-за эгоизма и изнеженности Костылина. Он не чувствует ответственности перед товарищем, несдержан, нетерпели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134136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чем  писатель противопоставляет Жилина и Костыли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1700280"/>
            <a:ext cx="56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Автор показывает, как в жизни много зависит от самого человека. В одних и тех же обстоятельствах одни оказываются героями, другие недостойны называться люд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2847960" cy="380988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6" name=""/>
          <p:cNvSpPr/>
          <p:nvPr/>
        </p:nvSpPr>
        <p:spPr>
          <a:xfrm>
            <a:off x="3780000" y="306864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Перед вторым побег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3573360"/>
            <a:ext cx="2735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у Костылин, пойдем, попытаемся последний раз; я тебя подсаж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0360" y="3645000"/>
            <a:ext cx="320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Нет, уж мне, видно, отсюда не выйти. Куда я пойду, когда и поворотиться сил нет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661000"/>
            <a:ext cx="49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Вывод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: несмотря на все тяготы, Жилин не потерял волю к жизни, стремление к своб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76720" y="5241960"/>
            <a:ext cx="406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Вывод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: Костылин отказывается от побега, не верит в себя, сдается на милость враг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8T13:49:53Z</dcterms:created>
  <dc:creator>1</dc:creator>
  <dc:description/>
  <dc:language>en-US</dc:language>
  <cp:lastModifiedBy>1</cp:lastModifiedBy>
  <dcterms:modified xsi:type="dcterms:W3CDTF">2008-12-29T16:53:45Z</dcterms:modified>
  <cp:revision>4</cp:revision>
  <dc:subject/>
  <dc:title>Слайд 1</dc:title>
</cp:coreProperties>
</file>