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AB7-6283-4C73-A982-7CE39CBA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A2F-07AA-4609-AB42-2F67ADA5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478-3918-4430-8A0F-A0B081A6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552-4710-4F2A-BE68-160ED850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84B-B737-4AD6-98A1-22D0B7AC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4CF-B833-4282-83A5-E42960F2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189-1D31-4235-AEB0-176826B2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FD1-5E21-416C-BE88-FDD39CF0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8FB-CF16-41BC-B7B5-F2C09CA3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4F7-1ADF-42D8-87AC-E1966D4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D02-C026-4084-BE8E-750F3970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E55-91ED-4753-9BAA-902D6C43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63E1-E8DC-4882-9E17-72754A8AE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0920" y="189000"/>
            <a:ext cx="4537080" cy="6192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4716360" y="260280"/>
            <a:ext cx="41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Лев Никола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1773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Кавказский плен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781360"/>
            <a:ext cx="406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 как я тогда верил, что есть та зелёная палочка, на которой написано, то что должно уничтожить все зло в людях и дать им великое благо, так я верю и теперь, что есть та истина и что будет она открыта людям и даст им то, что она обещ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896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Жилин и Дина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ушевная близость людей из враждующих лагерей. Утверждение гуманистических идеалов в расск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63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 территории Кавказа идет война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.И. Дал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исал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ступательная война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– когда ведут войско на чужое государство;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оборонительна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я – когда встречают это  войско для защиты свое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372360" y="1484280"/>
            <a:ext cx="2592360" cy="31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19640" y="3213000"/>
            <a:ext cx="1947960" cy="3467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"/>
          <p:cNvSpPr/>
          <p:nvPr/>
        </p:nvSpPr>
        <p:spPr>
          <a:xfrm>
            <a:off x="0" y="2637000"/>
            <a:ext cx="63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уждает ли автор горцев за то, что они воюют с русски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13000"/>
            <a:ext cx="536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ля народов, живущих на Кавказе, эта война оборонительная, горцы отчаянно сопротивляются, не пропуская русских на свою территорию, но русская армия завоевывает Кавказ и платит высокую цену жизнью многих тысяч русских солдат и офиц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877000"/>
            <a:ext cx="50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Почему старик в чалме озлоблен на русск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 и почему изменилось отношение хозяина к пленник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04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Жилин вызывает симпатии и у хозяина своей храбростью и чувством человеческого достоинства, и у простых татар своим мастерством, трудолюбием, готовностью сделать хорошее людям, и у Дины, увидевшей в нем доброго и честного человека. Но после попытки побега хозяин ужесточил услов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05000"/>
            <a:ext cx="9144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лин – пленник, за которого хозяин получит выкуп, а если это не удастся, то убьёт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ческие отношения вступают в конфликт с враждой и корыстью. После побега офицеров хозяин не смеется, разговаривает с ними враждебно, грозится уб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4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вод: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Люди могли бы жить в дружбе, но этому мешает национальная рознь, приводящая к войне. Мешает и коры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86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Кто из татар с особой неприязнью относился к пленник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5897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им предстает перед нами этот старик? Расскажите его истор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-1798" b="49296"/>
          <a:stretch/>
        </p:blipFill>
        <p:spPr>
          <a:xfrm>
            <a:off x="5292720" y="189000"/>
            <a:ext cx="3600360" cy="3097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"/>
          <p:cNvSpPr/>
          <p:nvPr/>
        </p:nvSpPr>
        <p:spPr>
          <a:xfrm>
            <a:off x="0" y="189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ой вы представляете Дин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20640"/>
            <a:ext cx="514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Сравните 2 портрета Дины (1.Первая встреча Жилина с Диной; 2. Последняя глава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общего в этих портрет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0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Как автор относится к Д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637000"/>
            <a:ext cx="51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ие слова помогают передать симпатии к Д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57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 можно оценить спасение Жилина Ди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чему после освобождения Жилин велит Дине отнести шест на мес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72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Почему эта девочка, чьё детство было изуродовано войной, так привязалась к пленн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50920" y="260280"/>
            <a:ext cx="2592360" cy="2952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2852640"/>
            <a:ext cx="2543040" cy="3810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843280" y="907920"/>
            <a:ext cx="2543040" cy="38102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3059280" y="18900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Что торжествует в расска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1700280"/>
            <a:ext cx="324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рассказе о войне торжествуют не вражда и ненависть, а доброта, душевная близость людей из враждующих лаге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3529080" cy="410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539640" y="4508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ие рассказы Л.Н. Толстого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941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то писатель ценит в людях, что отверг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5373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165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589720"/>
            <a:ext cx="835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чему автор обращается к детя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9280" y="189000"/>
            <a:ext cx="3529080" cy="27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3457800" cy="2592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"/>
          <p:cNvSpPr/>
          <p:nvPr/>
        </p:nvSpPr>
        <p:spPr>
          <a:xfrm>
            <a:off x="3995640" y="189000"/>
            <a:ext cx="5148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утверждает, что люди разных национальностей могут найти взаимопонимание, потому что едины общечеловеческие нравственные ценности –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юбовь к труду, уважение к человеку, дружба, честность, взаимо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апротив,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ло, вражда, эгоизм, коры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 сути своей античелове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429000"/>
            <a:ext cx="50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шают же любви разного рода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оциальные устои, окостенелые национальные преграды 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охраняемые государством и порождающие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ложные ценно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тремление к чинам, богатству, карьер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всё то, что людям кажется привычным и норм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63817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093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0200" y="5950080"/>
            <a:ext cx="871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ие проблемы поднимает автор в рассказе «Кавказский пленник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435640" y="333360"/>
            <a:ext cx="3529080" cy="3024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84720" y="3213000"/>
            <a:ext cx="3456000" cy="31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"/>
          <p:cNvSpPr/>
          <p:nvPr/>
        </p:nvSpPr>
        <p:spPr>
          <a:xfrm>
            <a:off x="0" y="476280"/>
            <a:ext cx="5219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огут ли жить люди в мире и др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то их разъединяет и что связыв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ожно ли преодолеть извечную вражду людей друг с дру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каких людях есть эти качества, а в каких 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ые характеры, разные судьбы Жилина и Косты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Ж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360" y="62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Косты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Кто первым решил ехать впереди отряда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55736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рошо понимает опасность и рассчитывает только на свою силу, ловкость, быстроту своей лоша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1484280"/>
            <a:ext cx="45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ерпелив, безответственен, руководствуется своими прихотями, а не знаниями 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781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Захват в п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14172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то из героев храбре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429000"/>
            <a:ext cx="4067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Только уговор – не разъезжаться». «Не дамся же живо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Помутилось у него в глазах, и зашатал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3500280"/>
            <a:ext cx="46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аместо того, чтобы подождать, только увидал татар, закатился что есть духу к крепости». «Лошадь под ним стала ,и ружье осеклос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57720"/>
            <a:ext cx="40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: Жилин сопротивлялся ,но вырваться из рук врагов было не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5084640"/>
            <a:ext cx="44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офицеры попали в плен из-за легкомыслия и малодушия Костылина, струсившего перед опас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89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чему Жилин, увидя предательство Костылина, подумал: «Дело плохо. Ружье уехало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765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исьмо о вык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197000"/>
            <a:ext cx="39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Эх, с ними что робеть, то хуже». «Если он меня пугать хочет, так ни копейки ж не дам, да и писать не стану. Не боялся, да и не буду бояться вас, собак». «Написал Жилин письмо, а на письме не так написал, - чтобы не дошло. Сам думает: «Я уйд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11253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написал письмо домой, пять тысяч монет пришл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05360"/>
            <a:ext cx="42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Жилин понимает, что уплата выкупа может разорить мать, надеется только на себя, активно ищет вы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4937040"/>
            <a:ext cx="432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принимает все условия своих врагов, надеется на помощь из дома. Не борется, пассивно подчиняется обстоятель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08360" cy="3025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вый месяц в пл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76280"/>
            <a:ext cx="4464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сматривает, выпытывает, как ему бежать». «Ходит по аулу, насвистывает, а то сидит, что-нибудь рукодельничает – или из глины кукол лепит, или плетет плетенки из прутьев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Жилин на всякое рукоделие мастер бы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476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стылин еще раз писал домой, все ждал присылки денег и скучал. По целым дням сидит в сарае и считает дни, когда письмо придет; или спи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3500280"/>
            <a:ext cx="42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Жилин общительный, активный, хороший мастер. Но его главная цель – совершить побег из п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8560" y="5851440"/>
            <a:ext cx="41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безволен, безразличен к окружающему, пассив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3311640" cy="3743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60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вый поб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92280"/>
            <a:ext cx="38894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Ноги обдерешь – заживут, а догонят – убьют, хуж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Вставай, садись на закорки – снесу, коли уж идти не можеш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И черт меня дернул колоду эту с собой брать. Один я бы давно уше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692280"/>
            <a:ext cx="43927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ацепил камень ногой, загреме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зрезал все ноги … отста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е дойду, не мог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е могу, сил моих н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ассолодел»- ослабел, устал. «Как закричит Костылин: «Ой, больно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ди один, за что тебе из-за меня пропада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645000"/>
            <a:ext cx="42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занят поискамит дороги, и этой цели подчинено все его поведение: он примечает все окружающее, радуется воле, тревожится за успех побега, старается не замечать боли и усталости ;не бросает товарища в беде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4581360"/>
            <a:ext cx="42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безволен, не желает и не умеет бороться, пассивно следует за товарищем, все его мысли сосредоточены на себе. Окружающего он не видит, испытывает ст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89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чему побег не удал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47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бег не удался из-за эгоизма и изнеженности Костылина. Он не чувствует ответственности перед товарищем, несдержан, нетерпе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341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чем  писатель противопоставляет Жилина и Костыл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70028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втор показывает, как в жизни много зависит от самого человека. В одних и тех же обстоятельствах одни оказываются героями, другие недостойны называться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284796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3780000" y="3068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ед вторым побе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57336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у Костылин, пойдем, попытаемся последний раз; я тебя подсаж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3645000"/>
            <a:ext cx="32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Нет, уж мне, видно, отсюда не выйти. Куда я пойду, когда и поворотиться сил нет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66100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: несмотря на все тяготы, Жилин не потерял волю к жизни, 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5241960"/>
            <a:ext cx="40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отказывается от побега, не верит в себя, сдается на милость вра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8T13:49:53Z</dcterms:created>
  <dc:creator>1</dc:creator>
  <dc:description/>
  <dc:language>en-US</dc:language>
  <cp:lastModifiedBy>1</cp:lastModifiedBy>
  <dcterms:modified xsi:type="dcterms:W3CDTF">2008-12-29T16:53:45Z</dcterms:modified>
  <cp:revision>4</cp:revision>
  <dc:subject/>
  <dc:title>Слайд 1</dc:title>
</cp:coreProperties>
</file>