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368-E5C5-4CB4-B7AD-F918A0FE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8BF-7944-4AD0-988C-AED921EA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94E-547F-41BD-A7BC-78D08EDA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717-2156-4DDE-8F1A-0D2681D2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76C-E96F-4CCE-BF2A-8BB651C3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838-B618-44DF-8158-2B86E605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EE9-BE7C-4866-8709-E5960773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A87-60DF-4399-95F4-2862100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C91-0233-4593-872C-64A770B0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97C-2B53-43D6-8A1A-1372A84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6AD-4A0D-4CF4-ACC5-5C84222D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E2F-B93E-4089-9B3E-A36A137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53E8-A744-4572-941C-75BD3942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4537080" cy="619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4716360" y="260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ев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177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Кавказский плен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781360"/>
            <a:ext cx="40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 как я тогда верил, что есть та зелёная палочка, на которой написано, то что должно уничтожить все зло в людях и дать им великое благо, так я верю и теперь, что есть та истина и что будет она открыта людям и даст им то, что она обещ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896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илин и Дин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ушевная близость людей из враждующих лагерей. Утверждение гуманистических идеалов в расск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территории Кавказа идет война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И. Дал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исал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ступательная вой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– когда ведут войско на чужое государство;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оборонитель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я – когда встречают это  войско для защиты свое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1484280"/>
            <a:ext cx="259236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9640" y="3213000"/>
            <a:ext cx="1947960" cy="346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0" y="2637000"/>
            <a:ext cx="63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уждает ли автор горцев за то, что они воюют с русск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3000"/>
            <a:ext cx="53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ля народов, живущих на Кавказе, эта война оборонительная, горцы отчаянно сопротивляются, не пропуская русских на свою территорию, но русская армия завоевывает Кавказ и платит высокую цену жизнью многих тысяч русских солдат и офиц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77000"/>
            <a:ext cx="50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Почему старик в чалме озлоблен на русс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и почему изменилось отношение хозяина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04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Жилин вызывает симпатии и у хозяина своей храбростью и чувством человеческого достоинства, и у простых татар своим мастерством, трудолюбием, готовностью сделать хорошее людям, и у Дины, увидевшей в нем доброго и честного человека. Но после попытки побега хозяин ужесточил услов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5000"/>
            <a:ext cx="914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лин – пленник, за которого хозяин получит выкуп, а если это не удастся, то убьё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ческие отношения вступают в конфликт с враждой и корыстью. После побега офицеров хозяин не смеется, разговаривает с ними враждебно, грозится уб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4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Люди могли бы жить в дружбе, но этому мешает национальная рознь, приводящая к войне. Мешает и коры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86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то из татар с особой неприязнью относился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589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м предстает перед нами этот старик? Расскажите его ист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-1798" b="49296"/>
          <a:stretch/>
        </p:blipFill>
        <p:spPr>
          <a:xfrm>
            <a:off x="5292720" y="189000"/>
            <a:ext cx="360036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0" y="18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вы представляете Ди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514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Сравните 2 портрета Дины (1.Первая встреча Жилина с Диной; 2. Последняя глава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общего в этих портре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ак автор относится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37000"/>
            <a:ext cx="51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е слова помогают передать симпатии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можно оценить спасение Жилина Д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сле освобождения Жилин велит Дине отнести шест на мес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очему эта девочка, чьё детство было изуродовано войной, так привязалась к пленн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0920" y="260280"/>
            <a:ext cx="2592360" cy="29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543040" cy="3810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843280" y="907920"/>
            <a:ext cx="2543040" cy="38102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3059280" y="18900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Что торжествует в расс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1700280"/>
            <a:ext cx="32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ассказе о войне торжествуют не вражда и ненависть, а доброта, душевная близость людей из враждующих лаг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3529080" cy="410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53964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рассказы Л.Н. Толстого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писатель ценит в людях, что отверг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373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165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589720"/>
            <a:ext cx="83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чему автор обращается к детя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9280" y="189000"/>
            <a:ext cx="352908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3457800" cy="25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3995640" y="189000"/>
            <a:ext cx="514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утверждает, что люди разных национальностей могут найти взаимопонимание, потому что едины общечеловеческие нравственные ценности –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юбовь к труду, уважение к человеку, дружба, честность, взаимо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апротив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ло, вражда, эгоизм, коры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 сути своей античелове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429000"/>
            <a:ext cx="50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шают же любви разного рода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оциальные устои, окостенелые национальные преграды 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охраняемые государством и порождающи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ожные ценно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тремление к чинам, богатству, карьер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сё то, что людям кажется привычным и норм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381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093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0200" y="5950080"/>
            <a:ext cx="87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проблемы поднимает автор в рассказе «Кавказский пленн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435640" y="333360"/>
            <a:ext cx="3529080" cy="30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345600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"/>
          <p:cNvSpPr/>
          <p:nvPr/>
        </p:nvSpPr>
        <p:spPr>
          <a:xfrm>
            <a:off x="0" y="476280"/>
            <a:ext cx="5219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гут ли жить люди в мире и др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их разъединяет и что связ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жно ли преодолеть извечную вражду людей друг с дру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ких людях есть эти качества, а в каких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е характеры, разные судьбы Жилина и Косты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Ж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62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осты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то первым решил ехать впереди отряда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55736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рошо понимает опасность и рассчитывает только на свою силу, ловкость, быстроту своей лоша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1484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елив, безответственен, руководствуется своими прихотями, а не знаниями 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781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хват в п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4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то из героев храбре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429000"/>
            <a:ext cx="40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Только уговор – не разъезжаться». «Не дамся же жив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Помутилось у него в глазах, и зашатал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500280"/>
            <a:ext cx="46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место того, чтобы подождать, только увидал татар, закатился что есть духу к крепости». «Лошадь под ним стала ,и ружье осекло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5772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Жилин сопротивлялся ,но вырваться из рук врагов было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508464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офицеры попали в плен из-за легкомыслия и малодушия Костылина, струсившего перед опас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89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чему Жилин, увидя предательство Костылина, подумал: «Дело плохо. Ружье уехало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765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исьмо о вык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197000"/>
            <a:ext cx="39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Эх, с ними что робеть, то хуже». «Если он меня пугать хочет, так ни копейки ж не дам, да и писать не стану. Не боялся, да и не буду бояться вас, собак». «Написал Жилин письмо, а на письме не так написал, - чтобы не дошло. Сам думает: «Я уйд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125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написал письмо домой, пять тысяч монет пришл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понимает, что уплата выкупа может разорить мать, надеется только на себя, активно ищет вы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4937040"/>
            <a:ext cx="432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принимает все условия своих врагов, надеется на помощь из дома. Не борется, пассивно подчиняется обстоятель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3025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месяц в п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76280"/>
            <a:ext cx="446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матривает, выпытывает, как ему бежать». «Ходит по аулу, насвистывает, а то сидит, что-нибудь рукодельничает – или из глины кукол лепит, или плетет плетенки из прутье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Жилин на всякое рукоделие мастер бы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76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стылин еще раз писал домой, все ждал присылки денег и скучал. По целым дням сидит в сарае и считает дни, когда письмо придет; или сп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500280"/>
            <a:ext cx="42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общительный, активный, хороший мастер. Но его главная цель – совершить побег из п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8560" y="585144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безразличен к окружающему, пассив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743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60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поб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92280"/>
            <a:ext cx="3889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Ноги обдерешь – заживут, а догонят – убьют, хуж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Вставай, садись на закорки – снесу, коли уж идти не можеш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И черт меня дернул колоду эту с собой брать. Один я бы давно уш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92280"/>
            <a:ext cx="4392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цепил камень ногой, загрем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зрезал все ноги … отст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дойду, не мог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могу, сил моих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ссолодел»- ослабел, устал. «Как закричит Костылин: «Ой, больно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ди один, за что тебе из-за меня пропад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45000"/>
            <a:ext cx="42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занят поискамит дороги, и этой цели подчинено все его поведение: он примечает все окружающее, радуется воле, тревожится за успех побега, старается не замечать боли и усталости ;не бросает товарища в беде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4581360"/>
            <a:ext cx="42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не желает и не умеет бороться, пассивно следует за товарищем, все его мысли сосредоточены на себе. Окружающего он не видит, испытывает с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89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бег не уда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47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бег не удался из-за эгоизма и изнеженности Костылина. Он не чувствует ответственности перед товарищем, несдержан, нетерпе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341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чем  писатель противопоставляет Жилина и Костыл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70028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оказывает, как в жизни много зависит от самого человека. В одних и тех же обстоятельствах одни оказываются героями, другие недостойны называться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28479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3780000" y="3068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ед вторым поб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57336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у Костылин, пойдем, попытаемся последний раз; я тебя подсаж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645000"/>
            <a:ext cx="32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ет, уж мне, видно, отсюда не выйти. Куда я пойду, когда и поворотиться сил не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66100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несмотря на все тяготы, Жилин не потерял волю к жизни, 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524196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отказывается от побега, не верит в себя, сдается на милость вра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13:49:53Z</dcterms:created>
  <dc:creator>1</dc:creator>
  <dc:description/>
  <dc:language>en-US</dc:language>
  <cp:lastModifiedBy>1</cp:lastModifiedBy>
  <dcterms:modified xsi:type="dcterms:W3CDTF">2008-12-29T16:53:45Z</dcterms:modified>
  <cp:revision>4</cp:revision>
  <dc:subject/>
  <dc:title>Слайд 1</dc:title>
</cp:coreProperties>
</file>