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A510-CFA5-4CD7-A455-C5D5DA1D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58F-4C23-4A71-BBD5-33114574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028-691C-473B-BA80-A3AA24D0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270-133B-4F36-81C8-2E4201B1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752A-5144-426A-9CC5-44CB1B97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89A4-B60E-428B-82C8-D7B60E80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DA6F-71EA-48A9-A804-94CD37AA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9DB9-6783-40D2-81FC-E44695C5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8B38-8496-45FE-9DDD-E58F3F52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2EB4-D4C0-4F61-BCEB-146B47B9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38F2-57E9-48CC-9D97-7BA282D0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851-CE7C-457F-9A7D-06D83249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6314-AFFE-4F56-8BDD-CFBE9077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F47A-C4F6-4F4B-80DB-F16E3EA8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7445-2CB8-454B-B7DC-8F67BD23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0BEF-A50F-4528-B689-72413F33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D034-26B4-4D85-A2FF-E3BC01B7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F3F-6409-417D-AD59-9CA19B5B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6959-2FA8-422E-90FD-2D3D310F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AC8-87C0-4735-A694-53607407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F6CE-045A-4407-9A22-B6372243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2F7-96E2-4F49-A34B-75E046A7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CB5-9E68-4E18-8311-9577FEE5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2D8-1EA9-4160-A4A4-B149E1B4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86D8-E343-4575-93BC-7966F53C43A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Text Box 13"/>
          <p:cNvSpPr/>
          <p:nvPr/>
        </p:nvSpPr>
        <p:spPr>
          <a:xfrm>
            <a:off x="7308720" y="100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6372360" y="404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klyaksa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CD1A-5669-437B-ABB6-2DF16590EA81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хема преобразования информации по принципу «черного ящика»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990720" y="3809880"/>
            <a:ext cx="7619760" cy="2364840"/>
            <a:chOff x="990720" y="3809880"/>
            <a:chExt cx="7619760" cy="2364840"/>
          </a:xfrm>
        </p:grpSpPr>
        <p:sp>
          <p:nvSpPr>
            <p:cNvPr id="141" name="AutoShape 4"/>
            <p:cNvSpPr/>
            <p:nvPr/>
          </p:nvSpPr>
          <p:spPr>
            <a:xfrm>
              <a:off x="990720" y="3809880"/>
              <a:ext cx="2209680" cy="1524240"/>
            </a:xfrm>
            <a:prstGeom prst="flowChartPunchedCard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AutoShape 5"/>
            <p:cNvSpPr/>
            <p:nvPr/>
          </p:nvSpPr>
          <p:spPr>
            <a:xfrm>
              <a:off x="3505320" y="3809880"/>
              <a:ext cx="2743200" cy="1524240"/>
            </a:xfrm>
            <a:prstGeom prst="flowChartProcess">
              <a:avLst/>
            </a:prstGeom>
            <a:solidFill>
              <a:srgbClr val="060f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6477120" y="3809880"/>
              <a:ext cx="2133360" cy="1524240"/>
            </a:xfrm>
            <a:prstGeom prst="flowChartAlternateProcess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4" name="AutoShape 7"/>
            <p:cNvCxnSpPr>
              <a:stCxn id="141" idx="3"/>
              <a:endCxn id="142" idx="1"/>
            </p:cNvCxnSpPr>
            <p:nvPr/>
          </p:nvCxnSpPr>
          <p:spPr>
            <a:xfrm>
              <a:off x="3200040" y="4571640"/>
              <a:ext cx="30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" name="AutoShape 8"/>
            <p:cNvCxnSpPr>
              <a:stCxn id="142" idx="3"/>
              <a:endCxn id="143" idx="1"/>
            </p:cNvCxnSpPr>
            <p:nvPr/>
          </p:nvCxnSpPr>
          <p:spPr>
            <a:xfrm>
              <a:off x="6248160" y="457164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Text Box 9"/>
            <p:cNvSpPr/>
            <p:nvPr/>
          </p:nvSpPr>
          <p:spPr>
            <a:xfrm>
              <a:off x="990720" y="396252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ходная информ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10"/>
            <p:cNvSpPr/>
            <p:nvPr/>
          </p:nvSpPr>
          <p:spPr>
            <a:xfrm>
              <a:off x="3429000" y="40384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«Черный ящик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1"/>
            <p:cNvSpPr/>
            <p:nvPr/>
          </p:nvSpPr>
          <p:spPr>
            <a:xfrm>
              <a:off x="6477120" y="40384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ыходная информ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2"/>
            <p:cNvSpPr/>
            <p:nvPr/>
          </p:nvSpPr>
          <p:spPr>
            <a:xfrm>
              <a:off x="2743200" y="571500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ступно наблюдате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3"/>
            <p:cNvSpPr/>
            <p:nvPr/>
          </p:nvSpPr>
          <p:spPr>
            <a:xfrm flipH="1" flipV="1">
              <a:off x="2514600" y="5333760"/>
              <a:ext cx="990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4"/>
            <p:cNvSpPr/>
            <p:nvPr/>
          </p:nvSpPr>
          <p:spPr>
            <a:xfrm flipV="1">
              <a:off x="6019920" y="5333760"/>
              <a:ext cx="9144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newsflash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Принцип черного, серого и белого ящиков при принятии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рный ящик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а, в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выход в которую известны. 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ссы, которые происходя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ем неизвест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ый ящ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оцессы, про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ходящие внутри данной сис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ы известны лишь частич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лый ящ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оцессы, происходящие внутри данной системы, полностью известн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же как входы и вых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5796000" y="2637000"/>
            <a:ext cx="2916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7"/>
          <p:cNvSpPr/>
          <p:nvPr/>
        </p:nvSpPr>
        <p:spPr>
          <a:xfrm flipV="1">
            <a:off x="7462800" y="2846160"/>
            <a:ext cx="42084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8"/>
          <p:cNvSpPr/>
          <p:nvPr/>
        </p:nvSpPr>
        <p:spPr>
          <a:xfrm rot="5400000">
            <a:off x="7040880" y="2432520"/>
            <a:ext cx="241200" cy="19004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9"/>
          <p:cNvSpPr/>
          <p:nvPr/>
        </p:nvSpPr>
        <p:spPr>
          <a:xfrm flipV="1">
            <a:off x="7380360" y="2781360"/>
            <a:ext cx="1440" cy="41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 flipH="1">
            <a:off x="7045200" y="3471840"/>
            <a:ext cx="20952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 flipH="1">
            <a:off x="5795640" y="3262320"/>
            <a:ext cx="41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8296200" y="3262320"/>
            <a:ext cx="416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аспределите по ящикам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людение биолога за живот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людение астронома за звезд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перименты селекционера над раст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за компьютером начинающего пользовате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за компьютером системного администрат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конструктором нового устр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улирование яркости экрана домашнего телевиз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ение возможностей новой программы, к которой нет инстру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ановка врачом диагноза и назначение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дание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95280" y="2060640"/>
          <a:ext cx="8209080" cy="1396800"/>
        </p:xfrm>
        <a:graphic>
          <a:graphicData uri="http://schemas.openxmlformats.org/drawingml/2006/table">
            <a:tbl>
              <a:tblPr/>
              <a:tblGrid>
                <a:gridCol w="1174680"/>
                <a:gridCol w="781200"/>
                <a:gridCol w="780840"/>
                <a:gridCol w="781200"/>
                <a:gridCol w="779400"/>
                <a:gridCol w="784440"/>
                <a:gridCol w="780840"/>
                <a:gridCol w="784440"/>
                <a:gridCol w="780840"/>
                <a:gridCol w="78120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 </a:t>
                      </a: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 </a:t>
                      </a: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 </a:t>
                      </a: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</a:tr>
            </a:tbl>
          </a:graphicData>
        </a:graphic>
      </p:graphicFrame>
      <p:sp>
        <p:nvSpPr>
          <p:cNvPr id="165" name="Text Box 49"/>
          <p:cNvSpPr/>
          <p:nvPr/>
        </p:nvSpPr>
        <p:spPr>
          <a:xfrm>
            <a:off x="395280" y="141300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адайте правило обработки данных исполнител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0"/>
          <p:cNvSpPr/>
          <p:nvPr/>
        </p:nvSpPr>
        <p:spPr>
          <a:xfrm>
            <a:off x="5651640" y="3573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cc"/>
                </a:solidFill>
                <a:latin typeface="Arial"/>
              </a:rPr>
              <a:t>Y=(X1+X2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4249800"/>
          <a:ext cx="8147160" cy="987480"/>
        </p:xfrm>
        <a:graphic>
          <a:graphicData uri="http://schemas.openxmlformats.org/drawingml/2006/table">
            <a:tbl>
              <a:tblPr/>
              <a:tblGrid>
                <a:gridCol w="934920"/>
                <a:gridCol w="1224000"/>
                <a:gridCol w="752400"/>
                <a:gridCol w="976320"/>
                <a:gridCol w="1008000"/>
                <a:gridCol w="632160"/>
                <a:gridCol w="874440"/>
                <a:gridCol w="873360"/>
                <a:gridCol w="871560"/>
              </a:tblGrid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 </a:t>
                      </a: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коди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арек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ы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м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вгд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 </a:t>
                      </a: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нима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8ff"/>
                    </a:solidFill>
                  </a:tcPr>
                </a:tc>
              </a:tr>
            </a:tbl>
          </a:graphicData>
        </a:graphic>
      </p:graphicFrame>
      <p:sp>
        <p:nvSpPr>
          <p:cNvPr id="168" name="Text Box 83"/>
          <p:cNvSpPr/>
          <p:nvPr/>
        </p:nvSpPr>
        <p:spPr>
          <a:xfrm>
            <a:off x="5508720" y="5157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cc"/>
                </a:solidFill>
                <a:latin typeface="Arial"/>
              </a:rPr>
              <a:t>Y =</a:t>
            </a:r>
            <a:r>
              <a:rPr b="0" lang="ru-RU" sz="1800" spc="-1" strike="noStrike">
                <a:solidFill>
                  <a:srgbClr val="ccffcc"/>
                </a:solidFill>
                <a:latin typeface="Arial"/>
              </a:rPr>
              <a:t> число гласных бук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916280"/>
          <a:ext cx="8229600" cy="3474720"/>
        </p:xfrm>
        <a:graphic>
          <a:graphicData uri="http://schemas.openxmlformats.org/drawingml/2006/table">
            <a:tbl>
              <a:tblPr/>
              <a:tblGrid>
                <a:gridCol w="1176480"/>
                <a:gridCol w="880920"/>
                <a:gridCol w="882720"/>
                <a:gridCol w="880920"/>
                <a:gridCol w="881280"/>
                <a:gridCol w="882360"/>
                <a:gridCol w="881280"/>
                <a:gridCol w="882720"/>
                <a:gridCol w="880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код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аре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ы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м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вг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ним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42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Исторический экскурс</a:t>
            </a:r>
            <a:r>
              <a:rPr b="0" lang="ru-RU" sz="3600" spc="-1" strike="noStrike">
                <a:solidFill>
                  <a:srgbClr val="4200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420000"/>
                </a:solidFill>
                <a:latin typeface="Arial"/>
              </a:rPr>
              <a:t>Кто может назвать самое древнее устройство, используемое для вычислений?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72" name="Rectangle 3080" descr=""/>
          <p:cNvPicPr/>
          <p:nvPr/>
        </p:nvPicPr>
        <p:blipFill>
          <a:blip r:embed="rId1"/>
          <a:stretch/>
        </p:blipFill>
        <p:spPr>
          <a:xfrm>
            <a:off x="3059280" y="3573360"/>
            <a:ext cx="1450800" cy="187344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3082" descr=""/>
          <p:cNvPicPr/>
          <p:nvPr/>
        </p:nvPicPr>
        <p:blipFill>
          <a:blip r:embed="rId2"/>
          <a:stretch/>
        </p:blipFill>
        <p:spPr>
          <a:xfrm>
            <a:off x="4716360" y="3500280"/>
            <a:ext cx="1451160" cy="1873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097"/>
          <p:cNvSpPr/>
          <p:nvPr/>
        </p:nvSpPr>
        <p:spPr>
          <a:xfrm>
            <a:off x="5292720" y="2924280"/>
            <a:ext cx="3384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9600" spc="-1" strike="noStrike">
                <a:solidFill>
                  <a:srgbClr val="cc3300"/>
                </a:solidFill>
                <a:latin typeface="Times New Roman"/>
              </a:rPr>
              <a:t>абак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V – IV вв. до н.э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352908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Arial"/>
              </a:rPr>
              <a:t>Логарифмическая линей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78000" y="1828800"/>
            <a:ext cx="4708440" cy="24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вариант линейки разработал английский математик-любитель Уильям Отред в 1622 год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Линейка Уатта"/>
          <p:cNvPicPr/>
          <p:nvPr/>
        </p:nvPicPr>
        <p:blipFill>
          <a:blip r:embed="rId1"/>
          <a:stretch/>
        </p:blipFill>
        <p:spPr>
          <a:xfrm>
            <a:off x="395280" y="2708280"/>
            <a:ext cx="3952800" cy="8762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50920" y="3745080"/>
            <a:ext cx="8064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огарифмическая линейка, прообразом которой явилась так называемая гантерова линейка (Gunter's line), была изобретена английским математиком Э. Гантером вскоре после открытия логарифмов и описана им в 1623. Это была логарифмическая шкала (линейка), на которой сложение отрезков производилось с помощью циркуля. В 1630 английский математик У. Отред заменил циркуль второй линейкой (движком). В дальнейшем усовершенствовались лишь детали: в 1650 была осуществлена идея нанесения шкалы по спирали на цилиндрической поверхности; в 30-х гг. 19 в. появился прибор, действующий по принципу линейки Гантера, выполненной в виде часов с вращающимся циферблатом (логарифмическая шкала) и подвижной стрелкой, — прообраз современных кругл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Arial"/>
              </a:rPr>
              <a:t>Х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VII </a:t>
            </a:r>
            <a:r>
              <a:rPr b="0" lang="ru-RU" sz="4400" spc="-1" strike="noStrike">
                <a:solidFill>
                  <a:srgbClr val="420000"/>
                </a:solidFill>
                <a:latin typeface="Arial"/>
              </a:rPr>
              <a:t>век 1642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2" name="TextBox 17410"/>
          <p:cNvSpPr/>
          <p:nvPr/>
        </p:nvSpPr>
        <p:spPr>
          <a:xfrm>
            <a:off x="2482920" y="184464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лэз Паска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17411"/>
          <p:cNvSpPr/>
          <p:nvPr/>
        </p:nvSpPr>
        <p:spPr>
          <a:xfrm>
            <a:off x="395280" y="3068640"/>
            <a:ext cx="53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ммирующая машин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Rectangle 17415" descr="PASCAL-P.JPG (10648 bytes)"/>
          <p:cNvPicPr/>
          <p:nvPr/>
        </p:nvPicPr>
        <p:blipFill>
          <a:blip r:embed="rId1"/>
          <a:stretch/>
        </p:blipFill>
        <p:spPr>
          <a:xfrm>
            <a:off x="5796000" y="1484280"/>
            <a:ext cx="2376360" cy="2463840"/>
          </a:xfrm>
          <a:prstGeom prst="rect">
            <a:avLst/>
          </a:prstGeom>
          <a:ln w="0">
            <a:noFill/>
          </a:ln>
        </p:spPr>
      </p:pic>
      <p:pic>
        <p:nvPicPr>
          <p:cNvPr id="185" name="Rectangle 17417" descr="PASCAL.GIF (16611 bytes)"/>
          <p:cNvPicPr/>
          <p:nvPr/>
        </p:nvPicPr>
        <p:blipFill>
          <a:blip r:embed="rId2"/>
          <a:stretch/>
        </p:blipFill>
        <p:spPr>
          <a:xfrm>
            <a:off x="1979640" y="4005360"/>
            <a:ext cx="3384360" cy="228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Arial"/>
              </a:rPr>
              <a:t>Х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VII </a:t>
            </a:r>
            <a:r>
              <a:rPr b="0" lang="ru-RU" sz="4400" spc="-1" strike="noStrike">
                <a:solidFill>
                  <a:srgbClr val="420000"/>
                </a:solidFill>
                <a:latin typeface="Arial"/>
              </a:rPr>
              <a:t>век 1670-1694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7" name="TextBox 18434"/>
          <p:cNvSpPr/>
          <p:nvPr/>
        </p:nvSpPr>
        <p:spPr>
          <a:xfrm>
            <a:off x="1403280" y="184464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тфрид Вильгельм Лейбни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8435"/>
          <p:cNvSpPr/>
          <p:nvPr/>
        </p:nvSpPr>
        <p:spPr>
          <a:xfrm>
            <a:off x="395280" y="3368520"/>
            <a:ext cx="5329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упенчатый вычислитель 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ложение, вычитание, умножение, деление, извлечение корня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Rectangle 18439" descr="LEYBNITZ-P.JPG (11673 bytes)"/>
          <p:cNvPicPr/>
          <p:nvPr/>
        </p:nvPicPr>
        <p:blipFill>
          <a:blip r:embed="rId1"/>
          <a:stretch/>
        </p:blipFill>
        <p:spPr>
          <a:xfrm>
            <a:off x="5940360" y="1484280"/>
            <a:ext cx="2376720" cy="2449440"/>
          </a:xfrm>
          <a:prstGeom prst="rect">
            <a:avLst/>
          </a:prstGeom>
          <a:ln w="0">
            <a:noFill/>
          </a:ln>
        </p:spPr>
      </p:pic>
      <p:pic>
        <p:nvPicPr>
          <p:cNvPr id="190" name="Rectangle 18441" descr="Счетное устройство Лейбница"/>
          <p:cNvPicPr/>
          <p:nvPr/>
        </p:nvPicPr>
        <p:blipFill>
          <a:blip r:embed="rId2"/>
          <a:stretch/>
        </p:blipFill>
        <p:spPr>
          <a:xfrm>
            <a:off x="1332000" y="4427640"/>
            <a:ext cx="6264360" cy="18810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8442"/>
          <p:cNvSpPr/>
          <p:nvPr/>
        </p:nvSpPr>
        <p:spPr>
          <a:xfrm>
            <a:off x="2843280" y="6308640"/>
            <a:ext cx="63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ервые использована двоичная система счис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обретая жизненный опыт, наблюдая мир вокруг себя, иначе говоря – накапливая все больше и больше информации, человек учится делать выво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древности говорили, что человек познает мир с помощью органов чувств и осмысливает познанное разум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j0299125"/>
          <p:cNvPicPr/>
          <p:nvPr/>
        </p:nvPicPr>
        <p:blipFill>
          <a:blip r:embed="rId1"/>
          <a:stretch/>
        </p:blipFill>
        <p:spPr>
          <a:xfrm>
            <a:off x="7812000" y="2637000"/>
            <a:ext cx="1100160" cy="180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52480" y="533160"/>
            <a:ext cx="423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Arial"/>
              </a:rPr>
              <a:t>Первый </a:t>
            </a:r>
            <a:br>
              <a:rPr sz="4000"/>
            </a:br>
            <a:r>
              <a:rPr b="0" lang="ru-RU" sz="4000" spc="-1" strike="noStrike">
                <a:solidFill>
                  <a:srgbClr val="420000"/>
                </a:solidFill>
                <a:latin typeface="Arial"/>
              </a:rPr>
              <a:t>калькулятор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3500280"/>
            <a:ext cx="875520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0">
              <a:lnSpc>
                <a:spcPts val="29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калькулятор, выпущенный компанией — Casio 001, — был продан в 1965 году. Первый в мире калькулятор Bell Punch/Sumlock's «ANITA» был выпущен в продажу в 1961 году по цене 2200 $. Однако, Casio заявляет, что их модель 001 была первым в мире калькулятором с функцией памя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t_casio_001_251"/>
          <p:cNvPicPr/>
          <p:nvPr/>
        </p:nvPicPr>
        <p:blipFill>
          <a:blip r:embed="rId1"/>
          <a:stretch/>
        </p:blipFill>
        <p:spPr>
          <a:xfrm>
            <a:off x="179280" y="189000"/>
            <a:ext cx="4248360" cy="307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7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Times New Roman"/>
              </a:rPr>
              <a:t>Неосознанная обработка информации человеком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ин раз дотронувшись до горячего чайника или утюга мы запоминаем это на всю жизнь. Прикоснувшись к горячей поверхности, мы получили информацию при помощи органов осязания. Нервная система передала ее в мозг, где на основе имеющегося опыта был сделан вывод об опасности. Сигнал от мозга был послан в мышцы рук, которые мгновенно сократилис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7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Times New Roman"/>
              </a:rPr>
              <a:t>Осознанная обработка информации человеком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уроках школьник изучает правила и законы (приобретает определенные знания и навыки). Когда учитель предлагает очередную задачу (входная информация), ученик обдумывает последовательность решения, вспоминая, какие из изученных правил ему необходимо применить. Наконец, он находит ответ. Эта новая информация, созданная учеником в результате обработки входной информации, называется выходн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ferro_da_stiro_architett_01"/>
          <p:cNvPicPr/>
          <p:nvPr/>
        </p:nvPicPr>
        <p:blipFill>
          <a:blip r:embed="rId1"/>
          <a:stretch/>
        </p:blipFill>
        <p:spPr>
          <a:xfrm>
            <a:off x="8131320" y="981000"/>
            <a:ext cx="761760" cy="134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96742"/>
          <p:cNvPicPr/>
          <p:nvPr/>
        </p:nvPicPr>
        <p:blipFill>
          <a:blip r:embed="rId2"/>
          <a:stretch/>
        </p:blipFill>
        <p:spPr>
          <a:xfrm>
            <a:off x="8028000" y="3500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1"/>
          <p:cNvSpPr/>
          <p:nvPr/>
        </p:nvSpPr>
        <p:spPr>
          <a:xfrm>
            <a:off x="2771640" y="1484280"/>
            <a:ext cx="3745080" cy="180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9"/>
          <p:cNvGrpSpPr/>
          <p:nvPr/>
        </p:nvGrpSpPr>
        <p:grpSpPr>
          <a:xfrm>
            <a:off x="1041480" y="1773360"/>
            <a:ext cx="7130880" cy="1501560"/>
            <a:chOff x="1041480" y="1773360"/>
            <a:chExt cx="7130880" cy="1501560"/>
          </a:xfrm>
        </p:grpSpPr>
        <p:sp>
          <p:nvSpPr>
            <p:cNvPr id="111" name="Rectangle 4"/>
            <p:cNvSpPr/>
            <p:nvPr/>
          </p:nvSpPr>
          <p:spPr>
            <a:xfrm>
              <a:off x="1041480" y="1916280"/>
              <a:ext cx="1441440" cy="865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ход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форм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5"/>
            <p:cNvSpPr/>
            <p:nvPr/>
          </p:nvSpPr>
          <p:spPr>
            <a:xfrm>
              <a:off x="6730920" y="1916280"/>
              <a:ext cx="1441440" cy="865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ыход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форм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AutoShape 6"/>
            <p:cNvSpPr/>
            <p:nvPr/>
          </p:nvSpPr>
          <p:spPr>
            <a:xfrm>
              <a:off x="2770200" y="2205000"/>
              <a:ext cx="792000" cy="216000"/>
            </a:xfrm>
            <a:prstGeom prst="rightArrow">
              <a:avLst>
                <a:gd name="adj1" fmla="val 50000"/>
                <a:gd name="adj2" fmla="val 91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7"/>
            <p:cNvSpPr/>
            <p:nvPr/>
          </p:nvSpPr>
          <p:spPr>
            <a:xfrm>
              <a:off x="5649840" y="2205000"/>
              <a:ext cx="792360" cy="216000"/>
            </a:xfrm>
            <a:prstGeom prst="rightArrow">
              <a:avLst>
                <a:gd name="adj1" fmla="val 50000"/>
                <a:gd name="adj2" fmla="val 9170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Picture 8" descr="j0292020"/>
            <p:cNvPicPr/>
            <p:nvPr/>
          </p:nvPicPr>
          <p:blipFill>
            <a:blip r:embed="rId2"/>
            <a:stretch/>
          </p:blipFill>
          <p:spPr>
            <a:xfrm>
              <a:off x="3849840" y="1773360"/>
              <a:ext cx="1582560" cy="150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Text Box 10"/>
          <p:cNvSpPr/>
          <p:nvPr/>
        </p:nvSpPr>
        <p:spPr>
          <a:xfrm>
            <a:off x="108000" y="3429000"/>
            <a:ext cx="9036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ходная 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информация, которую получает человек или устрой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ыходная 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информация, которая получается после обработки человеком или устройств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нешняя сре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ыступает в качестве источника входной информации и потребителя выходной информ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2987640" y="14842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шняя сре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авила обработк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ставляющие собой описание последовательности отдельных шагов обработки, называется алгоритмом обработки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Типы обработк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828800"/>
          <a:ext cx="8229600" cy="4302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3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новой информ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ение зада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следование преступл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формы, но не  изменение содерж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од текс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ир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ир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иск информ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Line 21"/>
          <p:cNvSpPr/>
          <p:nvPr/>
        </p:nvSpPr>
        <p:spPr>
          <a:xfrm flipH="1">
            <a:off x="2410920" y="119700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4284720" y="119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4572000" y="119700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Упражнение 1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древности люди решили, что каждой цифре от 1 до 9 соответствует Солнце или планета Солнечн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–Солнце, 2- Луна, 3-Марс, 4- Меркурий, 5 -  Юпитер, 6 - Венера, 7- Сатурн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 –Уран, 9 – Нептун. Последовательно складывая цифры даты своего рождения можно определить «свою» плане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4.10.1989=2+4+1+0+1+9+8+9=34=3+4=7-Сатур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229600" cy="4624560"/>
        </p:xfrm>
        <a:graphic>
          <a:graphicData uri="http://schemas.openxmlformats.org/drawingml/2006/table">
            <a:tbl>
              <a:tblPr/>
              <a:tblGrid>
                <a:gridCol w="2781360"/>
                <a:gridCol w="2779560"/>
                <a:gridCol w="266868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ная </a:t>
                      </a:r>
                      <a:br>
                        <a:rPr sz="2500"/>
                      </a:b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ная </a:t>
                      </a:r>
                      <a:br>
                        <a:rPr sz="2500"/>
                      </a:b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умножен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жител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едени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времени полета рейса “Москва – Симферополь”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вылета из Москвы и время прилета в Симферополь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в пут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гадывание слова в игре “Поле чудес”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букв в слове и тем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гаданное слов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секретных сведени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овка от резиден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шифрованный текс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диагноза болезн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лобы пациента + результаты анализо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33"/>
          <p:cNvSpPr/>
          <p:nvPr/>
        </p:nvSpPr>
        <p:spPr>
          <a:xfrm>
            <a:off x="3276720" y="2924280"/>
            <a:ext cx="2663640" cy="10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4"/>
          <p:cNvSpPr/>
          <p:nvPr/>
        </p:nvSpPr>
        <p:spPr>
          <a:xfrm>
            <a:off x="6084720" y="2924280"/>
            <a:ext cx="2448000" cy="10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5"/>
          <p:cNvSpPr/>
          <p:nvPr/>
        </p:nvSpPr>
        <p:spPr>
          <a:xfrm>
            <a:off x="3276720" y="4005360"/>
            <a:ext cx="2663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6"/>
          <p:cNvSpPr/>
          <p:nvPr/>
        </p:nvSpPr>
        <p:spPr>
          <a:xfrm>
            <a:off x="6084720" y="4005360"/>
            <a:ext cx="2519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7"/>
          <p:cNvSpPr/>
          <p:nvPr/>
        </p:nvSpPr>
        <p:spPr>
          <a:xfrm>
            <a:off x="3276720" y="4797360"/>
            <a:ext cx="2663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8"/>
          <p:cNvSpPr/>
          <p:nvPr/>
        </p:nvSpPr>
        <p:spPr>
          <a:xfrm>
            <a:off x="6084720" y="4797360"/>
            <a:ext cx="25909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9"/>
          <p:cNvSpPr/>
          <p:nvPr/>
        </p:nvSpPr>
        <p:spPr>
          <a:xfrm>
            <a:off x="3276720" y="5516640"/>
            <a:ext cx="25905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0"/>
          <p:cNvSpPr/>
          <p:nvPr/>
        </p:nvSpPr>
        <p:spPr>
          <a:xfrm>
            <a:off x="6084720" y="5516640"/>
            <a:ext cx="25909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11280" y="1700280"/>
            <a:ext cx="813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 правило, по которому составлена последовательность, и продолжите е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, в, е, и, н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б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, 2, 4, 8, 16, 32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в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, 11, 21, 1211, 111221, 312211, 13112221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2:52:04Z</dcterms:created>
  <dc:creator>bas</dc:creator>
  <dc:description/>
  <dc:language>en-US</dc:language>
  <cp:lastModifiedBy>Коля</cp:lastModifiedBy>
  <dcterms:modified xsi:type="dcterms:W3CDTF">2013-07-19T10:59:46Z</dcterms:modified>
  <cp:revision>27</cp:revision>
  <dc:subject/>
  <dc:title>Информационная деятельность человека</dc:title>
</cp:coreProperties>
</file>