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5B9-DA78-46D6-B06C-AE30C758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B14-03EB-4DCA-BCC7-3954C12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18D-DC93-49A0-AE2E-1BB291E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E46-30E4-47DA-8838-307919C6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BF95-6C54-4946-B464-03971CB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3514-6B12-4C94-B4EE-02C3115D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520-AE66-40CF-89F3-73A21D74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3022-A1CE-48D1-8ABA-54C22917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0BB6-9B22-4434-90B6-B32768F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04FD-F368-475C-A33C-D3A5825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DB0F-8B0E-427A-8A21-7C75633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602-DEF0-4A00-BB72-1BA879E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497B-1DB6-4231-8922-4BE8869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1D1-B206-4C56-B73A-9769F12A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1850-6F27-44E4-8ED7-8F4058CF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6559-DFC1-40D8-BFBB-7E5FA0E1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934-D435-497D-88F1-12B57A67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0FE-2F0F-4AF2-A93E-10A31BCB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F32-97A0-4EC0-B5E0-D3192374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91-9FCF-4909-97DD-80C9FB55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080-36C6-45C8-9A92-A3018603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262-44EE-4647-9760-C2A6416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291-6EEE-44A1-80EE-CB74BF59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313-0196-4DE6-AB1B-4F45098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365-15F0-4D83-A049-CA43ABBD35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482C-5DCA-48EB-8880-8B319EF486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monosovo.r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Урок, посвящённый 300-летию со дня рождения М.В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СОШ №19 с.Верхнерусск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агошина Татьяна Иван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37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Юбилейная медаль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6600" spc="-1" strike="noStrike">
                <a:solidFill>
                  <a:srgbClr val="999900"/>
                </a:solidFill>
                <a:latin typeface="Garamond"/>
              </a:rPr>
              <a:t>Биография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ЛОМОНОСОВ Михаил Васильеви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8/19.11.1711-4/15.04.1765), гениальный русский ученый поэт, просветитель, один из самых выдающихся светил мировой науки, государственный и общественный деят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Место рожден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дился 8 (19) ноября 1711 в деревне (Мишанинская) Ломоносово близ Холмогор Архангельской губернии в семье крестьянина-помора. Ходил с отцом на судах за рыбой в Белое море и Северный Ледовитый оке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8840" y="2924280"/>
            <a:ext cx="7366320" cy="1393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895480" cy="2492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436572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30592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Учёб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буждаемый жаждой знания, Ломоносов в 1731 ушел с обозом в Москву, где был принят в “Спасские школы”. Много горя и нужды претерпел здесь Ломоносов: укоры отца, “несказанная бедность”, насмешки школьников. Способности, примерное прилежание и быстрые успехи Ломоносова были замечены. В 1736 в числе 12-ти лучших учеников Славяно-греко-латинской академии он вызван в Петербург для учения при Академии на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нтябре того же года Ломоносов был послан в Германию (Марбург) к Христиану Вольфу, для изучения химии и горных дел, причем вменялось в обязанность “учиться и естественной истории, физике, геометрии и тригонометрии, механике, гидраулике и гидротехнике”. В Марбурге Ломоносов пробыл до 1739. Здесь он получил обширное и основательное образов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5290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00"/>
                </a:solidFill>
                <a:latin typeface="Garamond"/>
              </a:rPr>
              <a:t>Работа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1 году Ломоносов вернулся в Росси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был назначен адъюнктом физического класса, а в 1745 - профессором химии (академиком) Петербургской академии наук. Сразу повел борьбу против "неприятелей наук российских" из числа иностранце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Творчество Ломоносова было исключительно разносторонним. В его работах получили освещение почти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все отрасли современного ему естествознания, </a:t>
            </a:r>
            <a:r>
              <a:rPr b="1" i="1" lang="en-US" sz="1600" spc="-1" strike="noStrike" u="sng">
                <a:solidFill>
                  <a:srgbClr val="999900"/>
                </a:solidFill>
                <a:uFillTx/>
                <a:latin typeface="Verdana"/>
              </a:rPr>
              <a:t>горного дела и металлургии, математики, истории, филологии, языкознания, искусства, литера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 1742 году Ломоносов впервые в России начал читать публичные лекции на русском языке в Академии наук. В 1755 году по инициативе Ломоносова и по его проекту был основан </a:t>
            </a:r>
            <a:r>
              <a:rPr b="1" i="1" lang="en-US" sz="1600" spc="-1" strike="noStrike">
                <a:solidFill>
                  <a:srgbClr val="999900"/>
                </a:solidFill>
                <a:latin typeface="Verdana"/>
              </a:rPr>
              <a:t>Московский университет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"открытый для всех лиц, способных к наукам", а не только для дворя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Московский университет им.Ломоносо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1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2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www.lomonosovo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horism – list.com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graphy.php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.wikipedia.org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k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Михаил Ломоно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52:24Z</dcterms:created>
  <dc:creator>Лагошина</dc:creator>
  <dc:description/>
  <dc:language>en-US</dc:language>
  <cp:lastModifiedBy>COMP</cp:lastModifiedBy>
  <dcterms:modified xsi:type="dcterms:W3CDTF">2009-12-08T10:57:37Z</dcterms:modified>
  <cp:revision>3</cp:revision>
  <dc:subject/>
  <dc:title>Слайд 1</dc:title>
</cp:coreProperties>
</file>