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5EE-C4C0-48AB-8B38-F9656869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62A-A6A9-453C-9C6C-E7473670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94F-48F5-474B-81F7-79C55ED2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738-3D92-4AC0-8669-0C5B669C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12C1-20DB-49E1-9823-9FE12A51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4E77-5105-460E-8D43-BC0F5E8E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A67F-32B4-4A45-9F09-AB6254F5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BBFD-87C3-4B9A-9ACC-7051563F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AD43-AEAA-402F-99F7-BFB22579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770A-874C-4980-A416-D6E5D07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F6E7-83F6-491C-8C04-0B38E64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C1C-D3B4-419C-A64F-CC81D2F7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652A-4CA4-4947-9469-161571C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961C-928D-487E-918C-01820A75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8089-E09B-4455-83DC-70F86F10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A3E1-C790-41A9-933A-26A91E57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7FA1-3DA2-42F8-A822-BAFE9DC7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9BC-CF87-4675-8EF1-2A38BA54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60A-F5CC-4DB2-A04E-0650AEDC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01E-EF34-4A80-A61F-C33863D4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C7B-8434-42CC-8A34-823CE352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526-F95B-402C-8671-18833D2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7E9-6905-45E9-9AF6-01A635BA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106-47AE-4536-80A6-DE214FD8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AA3C-5233-49A7-969E-43EA0E1FE9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9344-0D01-4793-B937-8163BDAA05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monosovo.ru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Урок, посвящённый 300-летию со дня рождения М.В.Ломоносо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СОШ №19 с.Верхнерусск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гошина Татьяна Ива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840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056360" cy="5373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9900"/>
                </a:solidFill>
                <a:latin typeface="Garamond"/>
              </a:rPr>
              <a:t>Юбилейная медаль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6600" spc="-1" strike="noStrike">
                <a:solidFill>
                  <a:srgbClr val="999900"/>
                </a:solidFill>
                <a:latin typeface="Garamond"/>
              </a:rPr>
              <a:t>Биография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ОМОНОСОВ Михаил Васильеви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8/19.11.1711-4/15.04.1765), гениальный русский ученый поэт, просветитель, один из самых выдающихся светил мировой науки, государственный и общественный деят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3500280"/>
            <a:ext cx="424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Место рождени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дился 8 (19) ноября 1711 в деревне (Мишанинская) Ломоносово близ Холмогор Архангельской губернии в семье крестьянина-помора. Ходил с отцом на судах за рыбой в Белое море и Северный Ледовитый океа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8840" y="2924280"/>
            <a:ext cx="7366320" cy="1393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895480" cy="2492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59280" y="4365720"/>
            <a:ext cx="2881080" cy="249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3059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Учёба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буждаемый жаждой знания, Ломоносов в 1731 ушел с обозом в Москву, где был принят в “Спасские школы”. Много горя и нужды претерпел здесь Ломоносов: укоры отца, “несказанная бедность”, насмешки школьников. Способности, примерное прилежание и быстрые успехи Ломоносова были замечены. В 1736 в числе 12-ти лучших учеников Славяно-греко-латинской академии он вызван в Петербург для учения при Академии на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ентябре того же года Ломоносов был послан в Германию (Марбург) к Христиану Вольфу, для изучения химии и горных дел, причем вменялось в обязанность “учиться и естественной истории, физике, геометрии и тригонометрии, механике, гидраулике и гидротехнике”. В Марбурге Ломоносов пробыл до 1739. Здесь он получил обширное и основательное образов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529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Работа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1741 году Ломоносов вернулся в Росси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1742 году был назначен адъюнктом физического класса, а в 1745 - профессором химии (академиком) Петербургской академии наук. Сразу повел борьбу против "неприятелей наук российских" из числа иностранце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Творчество Ломоносова было исключительно разносторонним. В его работах получили освещение почти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все отрасли современного ему естествознания, </a:t>
            </a:r>
            <a:r>
              <a:rPr b="1" i="1" lang="en-US" sz="1600" spc="-1" strike="noStrike" u="sng">
                <a:solidFill>
                  <a:srgbClr val="999900"/>
                </a:solidFill>
                <a:uFillTx/>
                <a:latin typeface="Verdana"/>
              </a:rPr>
              <a:t>горного дела и металлургии, математики, истории, филологии, языкознания, искусства, литера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1742 году Ломоносов впервые в России начал читать публичные лекции на русском языке в Академии наук. В 1755 году по инициативе Ломоносова и по его проекту был основан </a:t>
            </a:r>
            <a:r>
              <a:rPr b="1" i="1" lang="en-US" sz="1600" spc="-1" strike="noStrike">
                <a:solidFill>
                  <a:srgbClr val="999900"/>
                </a:solidFill>
                <a:latin typeface="Verdana"/>
              </a:rPr>
              <a:t>Московский университет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"открытый для всех лиц, способных к наукам", а не только для дворя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Московский университет им.Ломоносо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Спасибо за внимание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www.lomonosov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horism – list.com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graphy.php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.wikipedia.org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k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Михаил Ломоно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52:24Z</dcterms:created>
  <dc:creator>Лагошина</dc:creator>
  <dc:description/>
  <dc:language>en-US</dc:language>
  <cp:lastModifiedBy>COMP</cp:lastModifiedBy>
  <dcterms:modified xsi:type="dcterms:W3CDTF">2009-12-08T10:57:37Z</dcterms:modified>
  <cp:revision>3</cp:revision>
  <dc:subject/>
  <dc:title>Слайд 1</dc:title>
</cp:coreProperties>
</file>