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010-D3A1-4F65-AA87-222C68BB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8F3-456C-413B-B4FF-9FAE7741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1AB-9E5F-4E3E-80E3-82815181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DDC-659B-46C9-A715-6EEBED35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2369-2606-4CFB-AFC7-2F28B102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FBCE-2360-4935-AF01-D9136704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A28-8DBE-4E23-AF30-CE9B198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BF53-C126-4CC5-BD58-515A897A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7CB7-BAD4-4067-934B-A4DC45C9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990-5FE8-4B39-BB0D-D04B0BF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3A5-8DD3-4B33-B180-FF3CD42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7D2-7314-42FF-9828-CA4D117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B09-90A5-4B4A-AD00-A152753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737-F374-4803-B851-A9DC58A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95C3-F58A-4496-B060-53174AE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0E5-908A-4AF1-BB7D-28867B0B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D709-E669-4248-8BE4-1D6B07C0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95C-D218-4957-A1D4-90E0098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2A7-CE3B-471D-A1A7-35C6ED6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8B6-D252-44E8-820A-457A13C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338-508A-452A-B504-1A1EC38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A71-8B89-434A-9A24-B9EBF73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C72-D399-41BD-9601-9861B75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CD6-984E-462A-A301-49C23BB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BC9-7B79-4735-9A64-6DE5275636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D5A-6DD0-422D-8F9B-B35A486AAE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monosovo.r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Урок, посвящённый 300-летию со дня рождения М.В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19 с.Верхнерусск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гошин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37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Юбилейная медаль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Биография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МОНОСОВ Михаил Васильеви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8/19.11.1711-4/15.04.1765), гениальный русский ученый поэт, просветитель, один из самых выдающихся светил мировой науки, государственный и общественный деят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есто рожден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8 (19) ноября 1711 в деревне (Мишанинская) Ломоносово близ Холмогор Архангельской губернии в семье крестьянина-помора. Ходил с отцом на судах за рыбой в Белое море и Северный Ледовитый оке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8840" y="2924280"/>
            <a:ext cx="7366320" cy="139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895480" cy="2492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436572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Учёб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буждаемый жаждой знания, Ломоносов в 1731 ушел с обозом в Москву, где был принят в “Спасские школы”. Много горя и нужды претерпел здесь Ломоносов: укоры отца, “несказанная бедность”, насмешки школьников. Способности, примерное прилежание и быстрые успехи Ломоносова были замечены. В 1736 в числе 12-ти лучших учеников Славяно-греко-латинской академии он вызван в Петербург для учения при Академии на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нтябре того же года Ломоносов был послан в Германию (Марбург) к Христиану Вольфу, для изучения химии и горных дел, причем вменялось в обязанность “учиться и естественной истории, физике, геометрии и тригонометрии, механике, гидраулике и гидротехнике”. В Марбурге Ломоносов пробыл до 1739. Здесь он получил обширное и основательное образов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529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Работ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1 году Ломоносов вернулся в Росси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был назначен адъюнктом физического класса, а в 1745 - профессором химии (академиком) Петербургской академии наук. Сразу повел борьбу против "неприятелей наук российских" из числа иностранце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ворчество Ломоносова было исключительно разносторонним. В его работах получили освещение почти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все отрасли современного ему естествознания, </a:t>
            </a:r>
            <a:r>
              <a:rPr b="1" i="1" lang="en-US" sz="1600" spc="-1" strike="noStrike" u="sng">
                <a:solidFill>
                  <a:srgbClr val="999900"/>
                </a:solidFill>
                <a:uFillTx/>
                <a:latin typeface="Verdana"/>
              </a:rPr>
              <a:t>горного дела и металлургии, математики, истории, филологии, языкознания, искусства, литера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Ломоносов впервые в России начал читать публичные лекции на русском языке в Академии наук. В 1755 году по инициативе Ломоносова и по его проекту был основан </a:t>
            </a:r>
            <a:r>
              <a:rPr b="1" i="1" lang="en-US" sz="1600" spc="-1" strike="noStrike">
                <a:solidFill>
                  <a:srgbClr val="999900"/>
                </a:solidFill>
                <a:latin typeface="Verdana"/>
              </a:rPr>
              <a:t>Московский университет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"открытый для всех лиц, способных к наукам", а не только для дворя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Московский университет им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www.lomonosov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horism – list.co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graphy.php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.wikipedia.or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k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Михаил Ломон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52:24Z</dcterms:created>
  <dc:creator>Лагошина</dc:creator>
  <dc:description/>
  <dc:language>en-US</dc:language>
  <cp:lastModifiedBy>COMP</cp:lastModifiedBy>
  <dcterms:modified xsi:type="dcterms:W3CDTF">2009-12-08T10:57:37Z</dcterms:modified>
  <cp:revision>3</cp:revision>
  <dc:subject/>
  <dc:title>Слайд 1</dc:title>
</cp:coreProperties>
</file>