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3F0-E23C-4F57-B65E-16EAA891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72A-31F0-4EC6-AA4F-ECFBA49A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105-8ECA-4910-B274-31FA8404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3B0B-BC5C-4BE0-9730-AA69E598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F0BB-2480-4656-AFE0-68CB3A4B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3979-5F56-4EA9-A320-F820F710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3DFD-2FAE-4F1B-AB3A-53B02523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AB4C-B345-45B9-B41B-CA39B8F8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661D-60CA-42B9-9988-3F2C3274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6748-7C53-45AD-99AE-59AEA4E7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7077-5924-4C4C-BBCD-52A9EDDF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277-C72A-41D3-97DC-2D7D2ED6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C17A-A9F5-4110-8F29-08776C48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8180-5949-4E47-9F75-A14AF5BA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9079-33D9-4020-8A33-A2DB2050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04DF-9029-457B-8CBC-F7D0DB72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9718-7486-4EE0-B38D-ECC12087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ED18-586B-4099-B409-E352D0DF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89B6-F8C3-4F07-84D5-CBBF143C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034A-4CE1-446C-A5F6-FEB2E862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E8F2-C9DC-4F1E-8C69-C291CEA4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C54-348C-4955-A215-4DE36B5E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4FF-F95F-4C13-B46F-D60A9C77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480-863C-45AB-B1CB-ED83FCE5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7C95-8EDD-44B8-ACE6-C019532950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60EF-E39A-46C7-AF14-B6695D6821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4557960" cy="4483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6479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Графи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3441240"/>
            <a:ext cx="449568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cc"/>
                </a:solidFill>
                <a:latin typeface="Arial"/>
              </a:rPr>
              <a:t>кристаллическое аллотропное видоизменение углерода, в древности считалось минералом сви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Кристаллическая решётка - атом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омы связаны в плоские слои, состоящие из соединённых рёбрами шестиугольников. Каждый атом в слое имеет трёх соседей и угол между ними 120 градусов - возник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твёртый электрон делокализован (сходство с металла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язи вдоль слоёв и между ними разные по про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39974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2009880" cy="1465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Физические свойст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ягкое вещество серого цвета, малая механическая прочность (неравноценные по прочности связ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лектропроводен и имеет металлический блеск (электроны блуждают, как у металл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о жирное на ощуп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опроводность в направлении плоскости слоёв больше, чем в перпендикулярном направл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лектрическое сопротивление в направлении слоёв меньше, чем в перпендикулярном направлении наблюдается анизотропия (зависимость свойств вещества от направл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ИМЕНЕНИЕ ГРАФИ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фитовый порошок – изготовление минеральных крас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мазочный материал (в смеси с маслом) – между отдельными слоями графита взаимодействие настолько слабо, что возникает скольжение. Чешуйки графита заполняя неровности поверхности создают гладкую поверх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фитовые стержни – электроды – электропровод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игли, блоки для атомных реакторов – тугоплав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плозащитный материал для головных частей ракет – термостой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учение карбидов – легко реагирует с метал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448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66"/>
                </a:solidFill>
                <a:latin typeface="Arial"/>
              </a:rPr>
              <a:t>Материалы на основе графит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66"/>
                </a:solidFill>
                <a:latin typeface="Arial"/>
              </a:rPr>
              <a:t>Графлек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996666"/>
                </a:solidFill>
                <a:latin typeface="Arial"/>
              </a:rPr>
              <a:t>пенограф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ысокопористый материал заменяет резину и метал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Стеклоуглер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химически стоек, заменяет платиновую химическ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cc"/>
                </a:solidFill>
                <a:latin typeface="Arial"/>
              </a:rPr>
              <a:t>Пирограф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для изготовления искусственных клапанов сер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Углеродное волок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наполнитель в пластики для придания большей прочности и электропроводности, лёгкие эластичные электронагрев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Углеродная ткань и углеродное волокно, стаканчик из стеклоугле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8320" y="2590920"/>
            <a:ext cx="38862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Карандаш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е графитовые карандаши появились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е. Это было связано с открытием графитового месторождения в Камберленде (Англ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795 г. в Париже по способу Конта изготовлялись карандаши из смеси графита и глины, обожжённые в печи. Эта технология используется и по сей день. Чем больше глины – тем твёрже карандаш. В особые мягкие карандаши добавляют воск и сало – ими можно писать на стекле. Особый сорт рыхлых карандашей служит для пастельной живопи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 основе графита создан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граф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нц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 учёные разработали пути синтеза графинов – веществ со слоистой структурой, аналогичной графиту. Каждый слой графина состоит из шестичленных колец, внутри которых атомы связаны особой ароматической связью и связанных в свою очередь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9108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Аморфный углерод: древесный уголь, кокс, саж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ыло установлено исследованиями – эти три разновидности – мелкокристаллический графит, а не отдельные аллотропные модифик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аж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учается при разложении ме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Кок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ется при разложении угля без доступа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Древесный уго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ется при разложении древесины без доступа воздуха. Обладает способностью 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сорб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пособностью поглощать различные вещества.  Это явление используется для очистки сахара, спирта, в фильтре противогаза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ивированный уго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каливают на перегретом пару, число пор при этом увеличивается, что улучшает адсорб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9-02T13:12:1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