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4EB-FE7F-4C3F-AC35-16DCF9CE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DF2-32B2-4077-89E6-A41FEB82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5B00-01C3-4BC0-889C-E742A749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C1E9-29EF-4A11-AB8E-98EFBDD7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27FE-A561-412B-8A62-AA6798B9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9430-C075-4154-9A69-039508C7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419D-5DAC-42F8-B318-FFA43ECC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F518-5D9F-403C-B988-AE12E261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CBAB-48EF-4254-AE24-00DD1079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E41E-68B5-4C61-B556-ABD2CB7C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4489-9E18-4D23-8538-70233067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1204-56F2-40DB-8CB7-442EAD0C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D353-8535-4F16-8B60-8BF5CBC1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F093-B169-42BA-92E5-C3CEDF2B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6F37-4651-45DF-823C-C2233905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D2B6-A09C-48E3-B342-AF78172B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6E88-D913-4DFC-A60B-B4BB5835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5740-F925-41C7-B4EF-17ACBBCC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D38-8495-4FCB-AE38-6686B303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7AF-D3EB-4EAB-8FF8-A691C7CA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14A-2F87-4CAA-B8A4-98046A79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F28-BDAD-4C30-93F5-6C2555F2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6E1-6A6E-4E94-AA8E-174E9D71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690-7B8F-4763-B62A-22829959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0407-F457-4C1A-B4A0-23D03CB3DB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B1C5-B3E9-4EA6-A852-E362E04DF8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4557960" cy="4483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6479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Графи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3441240"/>
            <a:ext cx="449568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cc"/>
                </a:solidFill>
                <a:latin typeface="Arial"/>
              </a:rPr>
              <a:t>кристаллическое аллотропное видоизменение углерода, в древности считалось минералом сви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Кристаллическая решётка - атом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омы связаны в плоские слои, состоящие из соединённых рёбрами шестиугольников. Каждый атом в слое имеет трёх соседей и угол между ними 120 градусов - возник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твёртый электрон делокализован (сходство с металла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зи вдоль слоёв и между ними разные по про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39974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2009880" cy="1465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Физические свойст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ягкое вещество серого цвета, малая механическая прочность (неравноценные по прочности связ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лектропроводен и имеет металлический блеск (электроны блуждают, как у металл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о жирное на ощуп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опроводность в направлении плоскости слоёв больше, чем в перпендикулярном направл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лектрическое сопротивление в направлении слоёв меньше, чем в перпендикулярном направлении наблюдается анизотропия (зависимость свойств вещества от направл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ИМЕНЕНИЕ ГРАФИ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фитовый порошок – изготовление минеральных крас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мазочный материал (в смеси с маслом) – между отдельными слоями графита взаимодействие настолько слабо, что возникает скольжение. Чешуйки графита заполняя неровности поверхности создают гладкую поверх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фитовые стержни – электроды – электропровод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игли, блоки для атомных реакторов – тугоплав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плозащитный материал для головных частей ракет – термостой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учение карбидов – легко реагирует с метал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448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66"/>
                </a:solidFill>
                <a:latin typeface="Arial"/>
              </a:rPr>
              <a:t>Материалы на основе графит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66"/>
                </a:solidFill>
                <a:latin typeface="Arial"/>
              </a:rPr>
              <a:t>Графлек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996666"/>
                </a:solidFill>
                <a:latin typeface="Arial"/>
              </a:rPr>
              <a:t>пенограф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ысокопористый материал заменяет резину и метал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Стеклоуглер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химически стоек, заменяет платиновую химическ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cc"/>
                </a:solidFill>
                <a:latin typeface="Arial"/>
              </a:rPr>
              <a:t>Пирограф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для изготовления искусственных клапанов сер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Углеродное волок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наполнитель в пластики для придания большей прочности и электропроводности, лёгкие эластичные электронагрев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Углеродная ткань и углеродное волокно, стаканчик из стеклоугле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2590920"/>
            <a:ext cx="38862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Карандаш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е графитовые карандаши появились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е. Это было связано с открытием графитового месторождения в Камберленде (Англ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795 г. в Париже по способу Конта изготовлялись карандаши из смеси графита и глины, обожжённые в печи. Эта технология используется и по сей день. Чем больше глины – тем твёрже карандаш. В особые мягкие карандаши добавляют воск и сало – ими можно писать на стекле. Особый сорт рыхлых карандашей служит для пастельной живопи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 основе графита создан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граф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нц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 учёные разработали пути синтеза графинов – веществ со слоистой структурой, аналогичной графиту. Каждый слой графина состоит из шестичленных колец, внутри которых атомы связаны особой ароматической связью и связанных в свою очередь между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9108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Аморфный углерод: древесный уголь, кокс, саж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ыло установлено исследованиями – эти три разновидности – мелкокристаллический графит, а не отдельные аллотропные модифик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аж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учается при разложении ме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Кок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ется при разложении угля без доступа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Древесный уг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ется при разложении древесины без доступа воздуха. Обладает способностью 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сорб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пособностью поглощать различные вещества.  Это явление используется для очистки сахара, спирта, в фильтре противогаза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ивированный уг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каливают на перегретом пару, число пор при этом увеличивается, что улучшает адсорб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9-02T13:12:1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