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52A-CA06-4162-AB7B-5B06DE9D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33D-8609-4B05-94C6-7A65C977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3771-01DF-4379-A517-164BD67A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C64F-158B-4525-A8AE-264A5F57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891B-7212-4CDC-AAA4-FC6944D6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C2C9-E385-4586-B59D-2D515272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3223-11E7-490B-B756-43CCEBCC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3176-FCAC-4540-A1B2-F37AB105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466A-19CC-4705-B831-489B4580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EB87-D555-41C3-B196-3E0E339D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291D-16A3-491C-B2E8-4E0A0ADA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D2C4-C7C9-4968-9445-3790C746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EE1F-DBC8-4D22-B931-3941EDE9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054D-9E6B-42FE-A3D0-58609FB2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E6ED-45AB-4BA9-BD8E-BBDC40B4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6098-A08B-4EA7-919B-81D381D2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B0CB-5F9A-47AA-8177-6ECF94DA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4DBC-2217-415B-B2A5-33084AF6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72EF-66F5-4369-8BCB-77DB419D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EDD-A861-4411-990F-EADAFC08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851-D6CE-4582-9E00-046D6687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BDD4-4228-4C58-A37E-AA51C1E0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961-0350-4B60-B854-497F93DA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FC3-3731-4F55-A217-454DE19A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BF98-C3E2-4AE3-BBE2-F66CA9213B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D2D7-2E66-45DE-808A-734F301CBA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4557960" cy="4483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6479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Графи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3441240"/>
            <a:ext cx="449568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cc"/>
                </a:solidFill>
                <a:latin typeface="Arial"/>
              </a:rPr>
              <a:t>кристаллическое аллотропное видоизменение углерода, в древности считалось минералом сви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Кристаллическая решётка - атом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омы связаны в плоские слои, состоящие из соединённых рёбрами шестиугольников. Каждый атом в слое имеет трёх соседей и угол между ними 120 градусов - возник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твёртый электрон делокализован (сходство с металла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язи вдоль слоёв и между ними разные по про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39974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2009880" cy="1465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Физические свойст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ягкое вещество серого цвета, малая механическая прочность (неравноценные по прочности связ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лектропроводен и имеет металлический блеск (электроны блуждают, как у металл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о жирное на ощуп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опроводность в направлении плоскости слоёв больше, чем в перпендикулярном направл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лектрическое сопротивление в направлении слоёв меньше, чем в перпендикулярном направлении наблюдается анизотропия (зависимость свойств вещества от направл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ИМЕНЕНИЕ ГРАФИ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фитовый порошок – изготовление минеральных крас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мазочный материал (в смеси с маслом) – между отдельными слоями графита взаимодействие настолько слабо, что возникает скольжение. Чешуйки графита заполняя неровности поверхности создают гладкую поверх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фитовые стержни – электроды – электропровод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игли, блоки для атомных реакторов – тугоплав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плозащитный материал для головных частей ракет – термостой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учение карбидов – легко реагирует с метал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448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66"/>
                </a:solidFill>
                <a:latin typeface="Arial"/>
              </a:rPr>
              <a:t>Материалы на основе графит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66"/>
                </a:solidFill>
                <a:latin typeface="Arial"/>
              </a:rPr>
              <a:t>Графлек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996666"/>
                </a:solidFill>
                <a:latin typeface="Arial"/>
              </a:rPr>
              <a:t>пенограф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ысокопористый материал заменяет резину и метал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Стеклоуглер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химически стоек, заменяет платиновую химическ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cc"/>
                </a:solidFill>
                <a:latin typeface="Arial"/>
              </a:rPr>
              <a:t>Пирограф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для изготовления искусственных клапанов сер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Углеродное волок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наполнитель в пластики для придания большей прочности и электропроводности, лёгкие эластичные электронагрев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Углеродная ткань и углеродное волокно, стаканчик из стеклоугле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8320" y="2590920"/>
            <a:ext cx="38862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Карандаш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е графитовые карандаши появились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е. Это было связано с открытием графитового месторождения в Камберленде (Англ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795 г. в Париже по способу Конта изготовлялись карандаши из смеси графита и глины, обожжённые в печи. Эта технология используется и по сей день. Чем больше глины – тем твёрже карандаш. В особые мягкие карандаши добавляют воск и сало – ими можно писать на стекле. Особый сорт рыхлых карандашей служит для пастельной живопи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 основе графита создан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граф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нц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 учёные разработали пути синтеза графинов – веществ со слоистой структурой, аналогичной графиту. Каждый слой графина состоит из шестичленных колец, внутри которых атомы связаны особой ароматической связью и связанных в свою очередь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9108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Аморфный углерод: древесный уголь, кокс, саж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ыло установлено исследованиями – эти три разновидности – мелкокристаллический графит, а не отдельные аллотропные модифик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аж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учается при разложении ме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Кок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ется при разложении угля без доступа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Древесный уго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ется при разложении древесины без доступа воздуха. Обладает способностью 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сорб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пособностью поглощать различные вещества.  Это явление используется для очистки сахара, спирта, в фильтре противогаза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ивированный уго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каливают на перегретом пару, число пор при этом увеличивается, что улучшает адсорб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9-02T13:12:1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