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C0F-A47D-42DB-976B-2137C6C2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95B-80F2-497C-B628-E5F0F0F0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3C5-CE32-40B2-A8B0-F603112C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90A-6BCB-43F0-B1E5-6EC63805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F490-164F-4E06-9DC0-EB7C5023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DDD9-9E05-47EF-95EE-2EE7E160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C241-907E-4E18-80E6-8545B010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98DB-90F8-4B8F-9449-ECDC09EA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E3F5-8322-4537-8A56-6EF9E129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F64F-8221-4ADA-8008-EABF7E1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A06-9A2E-46F4-AC9A-BF3B023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543-A694-47B4-8492-0B053509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6F58-47F6-4A8D-B061-A471C58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76DE-DD05-4686-9695-B57C80FF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45E3-75E0-49F5-90CE-D0A249B1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099F-F362-4633-A60D-A1C41372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E19E-E84C-46DB-8499-6DCFCF3E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34F-66E6-472A-A6CE-9F97C554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76D-9CBA-4EAC-BB82-9D77FAC3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F88-B8D3-4160-B343-9BA52AB2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A5F-645A-476E-A61A-EE5E796B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8C9-6DBE-4007-872A-AE11297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88D-77B0-438B-9571-052297C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D1D-B424-4B0A-A044-997CD62B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1" name=""/>
            <p:cNvSpPr/>
            <p:nvPr/>
          </p:nvSpPr>
          <p:spPr>
            <a:xfrm>
              <a:off x="609480" y="0"/>
              <a:ext cx="7925040" cy="68565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304920"/>
              <a:ext cx="8837640" cy="15228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00F2-B02A-4A61-AF71-7E741EE2A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46" name=""/>
            <p:cNvSpPr/>
            <p:nvPr/>
          </p:nvSpPr>
          <p:spPr>
            <a:xfrm>
              <a:off x="609480" y="1676520"/>
              <a:ext cx="7925040" cy="5180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3581280"/>
              <a:ext cx="8837640" cy="15264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8EB6-2041-4EC8-8C42-3DF3A52FA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Практическая работа по теме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дирование информации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4869000"/>
            <a:ext cx="3166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абота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информати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У Лицей  Г. Кин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пова Л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7960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777080" cy="50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40000" y="5157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лодцы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5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одируйте с помощью азбуки Морзе сло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ФОРМАТ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6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134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36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меняя каждую букву ее порядковым номером в алфавите зашифруйте фраз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КОДИРОВАТЬ ИНФОРМАЦИЮ”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шифрованный текст должен быть записан без пропус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5800" y="623736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1080" y="6308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578808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КОДИРОВАТЬ ИНФОРМ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321146321216510181631203010152216181412410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7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льчик заменил каждую букву своего имени ее номером в алфави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лучилось 46151. Как зовут мальчи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5800" y="62373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21080" y="62373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636444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6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6580440" cy="94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8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а кодировочная таблиц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вая цифра кода – номер строки, вторая – номер столбц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784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помощью кодировочной таблицы зашифруйте фраз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РАБОТАТЬ С ИНФОРМАЦИЕЙ! А 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5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6021360"/>
            <a:ext cx="358560" cy="43200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6020">
                <a:moveTo>
                  <a:pt x="0" y="0"/>
                </a:moveTo>
                <a:lnTo>
                  <a:pt x="21600" y="0"/>
                </a:lnTo>
                <a:lnTo>
                  <a:pt x="21600" y="26020"/>
                </a:lnTo>
                <a:lnTo>
                  <a:pt x="0" y="26020"/>
                </a:lnTo>
                <a:close/>
              </a:path>
              <a:path fill="lightenLess" w="21600" h="260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0">
                <a:moveTo>
                  <a:pt x="21600" y="0"/>
                </a:moveTo>
                <a:lnTo>
                  <a:pt x="21600" y="26020"/>
                </a:lnTo>
                <a:lnTo>
                  <a:pt x="20200" y="24620"/>
                </a:lnTo>
                <a:lnTo>
                  <a:pt x="20200" y="1400"/>
                </a:lnTo>
                <a:close/>
              </a:path>
              <a:path fill="darkenLess" w="21600" h="26020">
                <a:moveTo>
                  <a:pt x="21600" y="26020"/>
                </a:moveTo>
                <a:lnTo>
                  <a:pt x="0" y="26020"/>
                </a:lnTo>
                <a:lnTo>
                  <a:pt x="1400" y="24620"/>
                </a:lnTo>
                <a:lnTo>
                  <a:pt x="20200" y="24620"/>
                </a:lnTo>
                <a:close/>
              </a:path>
              <a:path fill="lighten" w="21600" h="26020">
                <a:moveTo>
                  <a:pt x="0" y="260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0"/>
                </a:lnTo>
                <a:close/>
              </a:path>
              <a:path fill="darken" w="21600" h="26020">
                <a:moveTo>
                  <a:pt x="3794" y="9702"/>
                </a:moveTo>
                <a:lnTo>
                  <a:pt x="7301" y="9702"/>
                </a:lnTo>
                <a:lnTo>
                  <a:pt x="7301" y="15038"/>
                </a:lnTo>
                <a:cubicBezTo>
                  <a:pt x="7301" y="15960"/>
                  <a:pt x="8102" y="16691"/>
                  <a:pt x="9138" y="16691"/>
                </a:cubicBezTo>
                <a:lnTo>
                  <a:pt x="10800" y="16691"/>
                </a:lnTo>
                <a:cubicBezTo>
                  <a:pt x="11836" y="16691"/>
                  <a:pt x="12636" y="15960"/>
                  <a:pt x="12636" y="15038"/>
                </a:cubicBezTo>
                <a:lnTo>
                  <a:pt x="12636" y="9702"/>
                </a:lnTo>
                <a:lnTo>
                  <a:pt x="10800" y="9702"/>
                </a:lnTo>
                <a:lnTo>
                  <a:pt x="14308" y="6195"/>
                </a:lnTo>
                <a:lnTo>
                  <a:pt x="17981" y="9702"/>
                </a:lnTo>
                <a:lnTo>
                  <a:pt x="16144" y="9702"/>
                </a:lnTo>
                <a:lnTo>
                  <a:pt x="16144" y="15038"/>
                </a:lnTo>
                <a:cubicBezTo>
                  <a:pt x="16144" y="17806"/>
                  <a:pt x="13568" y="20364"/>
                  <a:pt x="10800" y="20364"/>
                </a:cubicBezTo>
                <a:lnTo>
                  <a:pt x="9138" y="20364"/>
                </a:lnTo>
                <a:cubicBezTo>
                  <a:pt x="6370" y="20364"/>
                  <a:pt x="3794" y="17806"/>
                  <a:pt x="3794" y="1503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3794" y="6537"/>
                </a:moveTo>
                <a:lnTo>
                  <a:pt x="17806" y="13544"/>
                </a:lnTo>
                <a:lnTo>
                  <a:pt x="3794" y="2055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РАБОТАТЬ С ИНФОРМАЦИЕЙ! А 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.21.13.05.33.17.00.01.15.20.00.20.31.18.10.14.22.15.17.13.00.24.10.05.10.43.00.20.30.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15640" y="620280"/>
            <a:ext cx="665172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1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 флажковой азб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77770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836280"/>
            <a:ext cx="600408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 9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пользуя кодировочную таблицу, расшифруйте текс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20153835030405383511150304003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5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7493"/>
                </a:moveTo>
                <a:lnTo>
                  <a:pt x="10028" y="7493"/>
                </a:lnTo>
                <a:lnTo>
                  <a:pt x="10028" y="12828"/>
                </a:lnTo>
                <a:cubicBezTo>
                  <a:pt x="10028" y="13751"/>
                  <a:pt x="10829" y="14482"/>
                  <a:pt x="11865" y="14482"/>
                </a:cubicBezTo>
                <a:lnTo>
                  <a:pt x="13527" y="14482"/>
                </a:lnTo>
                <a:cubicBezTo>
                  <a:pt x="14563" y="14482"/>
                  <a:pt x="15363" y="13751"/>
                  <a:pt x="15363" y="12828"/>
                </a:cubicBezTo>
                <a:lnTo>
                  <a:pt x="15363" y="7493"/>
                </a:lnTo>
                <a:lnTo>
                  <a:pt x="13527" y="7493"/>
                </a:lnTo>
                <a:lnTo>
                  <a:pt x="17035" y="3985"/>
                </a:lnTo>
                <a:lnTo>
                  <a:pt x="20708" y="7493"/>
                </a:lnTo>
                <a:lnTo>
                  <a:pt x="18871" y="7493"/>
                </a:lnTo>
                <a:lnTo>
                  <a:pt x="18871" y="12828"/>
                </a:lnTo>
                <a:cubicBezTo>
                  <a:pt x="18871" y="15596"/>
                  <a:pt x="16295" y="18155"/>
                  <a:pt x="13527" y="18155"/>
                </a:cubicBezTo>
                <a:lnTo>
                  <a:pt x="11865" y="18155"/>
                </a:lnTo>
                <a:cubicBezTo>
                  <a:pt x="9097" y="18155"/>
                  <a:pt x="6521" y="15596"/>
                  <a:pt x="6521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5073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2015383503040538351115030400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? – Где? – Ког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643572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 10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ифры замены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ждая буква алфавита может быть заменена любым числом из соответствующего столбика кодировочной табл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7848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ое сообщение закодировано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7775280" cy="18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128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7493"/>
                </a:moveTo>
                <a:lnTo>
                  <a:pt x="12721" y="7493"/>
                </a:lnTo>
                <a:lnTo>
                  <a:pt x="12721" y="12828"/>
                </a:lnTo>
                <a:cubicBezTo>
                  <a:pt x="12721" y="13751"/>
                  <a:pt x="13522" y="14482"/>
                  <a:pt x="14558" y="14482"/>
                </a:cubicBezTo>
                <a:lnTo>
                  <a:pt x="16220" y="14482"/>
                </a:lnTo>
                <a:cubicBezTo>
                  <a:pt x="17256" y="14482"/>
                  <a:pt x="18057" y="13751"/>
                  <a:pt x="18057" y="12828"/>
                </a:cubicBezTo>
                <a:lnTo>
                  <a:pt x="18057" y="7493"/>
                </a:lnTo>
                <a:lnTo>
                  <a:pt x="16220" y="7493"/>
                </a:lnTo>
                <a:lnTo>
                  <a:pt x="19728" y="3985"/>
                </a:lnTo>
                <a:lnTo>
                  <a:pt x="23401" y="7493"/>
                </a:lnTo>
                <a:lnTo>
                  <a:pt x="21564" y="7493"/>
                </a:lnTo>
                <a:lnTo>
                  <a:pt x="21564" y="12828"/>
                </a:lnTo>
                <a:cubicBezTo>
                  <a:pt x="21564" y="15596"/>
                  <a:pt x="18988" y="18155"/>
                  <a:pt x="16220" y="18155"/>
                </a:cubicBezTo>
                <a:lnTo>
                  <a:pt x="14558" y="18155"/>
                </a:lnTo>
                <a:cubicBezTo>
                  <a:pt x="11790" y="18155"/>
                  <a:pt x="9214" y="15596"/>
                  <a:pt x="9214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028000" y="616572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9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знаком с шифрами замен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думать кодировочную таблицу и зашифровать с её помощь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ю фамилию, имя, отчеств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ту рожде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машний адре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тарший помощник Лом сдает экзамен капитану Врунгелю. Помогите ему прочитать следующий текст: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58484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1964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443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ороться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скать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йти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 сдаватьс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2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помощью флажковой азбуки зашифруйте фраз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чение да труд к славе ведут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11280" y="580536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7493"/>
                </a:moveTo>
                <a:lnTo>
                  <a:pt x="15980" y="7493"/>
                </a:lnTo>
                <a:lnTo>
                  <a:pt x="15980" y="12828"/>
                </a:lnTo>
                <a:cubicBezTo>
                  <a:pt x="15980" y="13751"/>
                  <a:pt x="16781" y="14482"/>
                  <a:pt x="17817" y="14482"/>
                </a:cubicBezTo>
                <a:lnTo>
                  <a:pt x="19479" y="14482"/>
                </a:lnTo>
                <a:cubicBezTo>
                  <a:pt x="20515" y="14482"/>
                  <a:pt x="21315" y="13751"/>
                  <a:pt x="21315" y="12828"/>
                </a:cubicBezTo>
                <a:lnTo>
                  <a:pt x="21315" y="7493"/>
                </a:lnTo>
                <a:lnTo>
                  <a:pt x="19479" y="7493"/>
                </a:lnTo>
                <a:lnTo>
                  <a:pt x="22987" y="3985"/>
                </a:lnTo>
                <a:lnTo>
                  <a:pt x="26660" y="7493"/>
                </a:lnTo>
                <a:lnTo>
                  <a:pt x="24823" y="7493"/>
                </a:lnTo>
                <a:lnTo>
                  <a:pt x="24823" y="12828"/>
                </a:lnTo>
                <a:cubicBezTo>
                  <a:pt x="24823" y="15596"/>
                  <a:pt x="22247" y="18155"/>
                  <a:pt x="19479" y="18155"/>
                </a:cubicBezTo>
                <a:lnTo>
                  <a:pt x="17817" y="18155"/>
                </a:lnTo>
                <a:cubicBezTo>
                  <a:pt x="15049" y="18155"/>
                  <a:pt x="12472" y="15596"/>
                  <a:pt x="12472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5440" y="58053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8880" y="580536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е да труд к славе веду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3619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3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помощью флажковой азбуки зашифруйте любую пословицу, а сосед по парте пусть ее расшифру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755640" y="6021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4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 азбуки Морз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763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шифруйте (декодируйте), что здесь написано (буквы отделены друг от друга пробелам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7201080" cy="10080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755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5800" y="61657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5440" y="61657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0:08:51Z</dcterms:created>
  <dc:creator>User</dc:creator>
  <dc:description/>
  <cp:keywords/>
  <dc:language>en-US</dc:language>
  <cp:lastModifiedBy>User</cp:lastModifiedBy>
  <dcterms:modified xsi:type="dcterms:W3CDTF">2007-12-21T12:29:33Z</dcterms:modified>
  <cp:revision>3</cp:revision>
  <dc:subject/>
  <dc:title>Практическая работа по теме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31049</vt:lpwstr>
  </property>
</Properties>
</file>