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51C8-E304-4FF4-B6C1-21EA878C6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630D-7066-41CA-B5E8-673A6596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8007-1DEE-4214-9B41-8112F3050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03D0-C997-4E60-90B6-ECED6B5F4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A2B7-CA7F-4762-B9DE-EC5046FB1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96BE-66CC-4D4B-B722-B7A724B0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5BE7-7410-4854-90DA-97254D91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F462-B574-4CE6-B7DC-A7F64598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1741-0792-4C4B-856B-A341DEF8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B064-4F94-4FD5-AA23-EEFC0096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2930-2A4A-434E-9F24-BEEEA2EA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1042-DA28-4961-A946-AB472694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5125-670B-4BB3-AA08-EA0A7AAB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8BA8-AB54-4D5F-8136-C5203659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CF67-9607-4AF3-948E-7F60224E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4C16-C5A3-4246-AF35-2300E25D5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0826-790C-4139-BC98-BD3E5B9C4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5720-3E2E-4F58-9F15-498D725C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06CB-4B14-4C0E-8DC3-CEA607D4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48B4-F491-40B9-9A79-599A3B61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4EFE-AF8D-4355-A67A-B097EBF7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1282-4B6C-45EE-8E3F-C5828030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88AF-6558-40F5-853A-D32C0EE5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2BC9-953F-4165-AC3F-E2298B3E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0"/>
            <a:ext cx="8837640" cy="6856560"/>
            <a:chOff x="304920" y="0"/>
            <a:chExt cx="8837640" cy="6856560"/>
          </a:xfrm>
        </p:grpSpPr>
        <p:sp>
          <p:nvSpPr>
            <p:cNvPr id="1" name=""/>
            <p:cNvSpPr/>
            <p:nvPr/>
          </p:nvSpPr>
          <p:spPr>
            <a:xfrm>
              <a:off x="609480" y="0"/>
              <a:ext cx="7925040" cy="685656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4920" y="304920"/>
              <a:ext cx="8837640" cy="152280"/>
            </a:xfrm>
            <a:prstGeom prst="rect">
              <a:avLst/>
            </a:prstGeom>
            <a:solidFill>
              <a:srgbClr val="99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62120" y="0"/>
              <a:ext cx="196560" cy="19810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6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EE24-CC38-44AC-A7B0-537655D53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04920" y="0"/>
            <a:ext cx="8837640" cy="6856560"/>
            <a:chOff x="304920" y="0"/>
            <a:chExt cx="8837640" cy="6856560"/>
          </a:xfrm>
        </p:grpSpPr>
        <p:sp>
          <p:nvSpPr>
            <p:cNvPr id="46" name=""/>
            <p:cNvSpPr/>
            <p:nvPr/>
          </p:nvSpPr>
          <p:spPr>
            <a:xfrm>
              <a:off x="609480" y="1676520"/>
              <a:ext cx="7925040" cy="518004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20" y="3581280"/>
              <a:ext cx="8837640" cy="152640"/>
            </a:xfrm>
            <a:prstGeom prst="rect">
              <a:avLst/>
            </a:prstGeom>
            <a:solidFill>
              <a:srgbClr val="99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62120" y="0"/>
              <a:ext cx="196560" cy="19810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2D58-E386-4DDD-8E98-B67A77FD0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Практическая работа по теме: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дирование информации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35640" y="4869000"/>
            <a:ext cx="31669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зработал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читель информатик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ОУ Лицей  Г. Кинел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рхипова Л.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7280" y="620280"/>
            <a:ext cx="679608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4360" y="2133720"/>
            <a:ext cx="7777080" cy="504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340000" y="515772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олодцы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Задание №5</a:t>
            </a:r>
            <a:endParaRPr b="0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кодируйте с помощью азбуки Морзе слов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НФОРМАТИК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АННЫ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ЛГОРИТ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Задание №6</a:t>
            </a:r>
            <a:endParaRPr b="0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ана кодовая табли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971640" y="2349360"/>
            <a:ext cx="69134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3624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меняя каждую букву ее порядковым номером в алфавите зашифруйте фразу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Я УМЕЮ КОДИРОВАТЬ ИНФОРМАЦИЮ”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ашифрованный текст должен быть записан без пропуск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6308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7547"/>
                </a:moveTo>
                <a:lnTo>
                  <a:pt x="7301" y="7547"/>
                </a:lnTo>
                <a:lnTo>
                  <a:pt x="7301" y="12882"/>
                </a:lnTo>
                <a:cubicBezTo>
                  <a:pt x="7301" y="13805"/>
                  <a:pt x="8102" y="14536"/>
                  <a:pt x="9138" y="14536"/>
                </a:cubicBezTo>
                <a:lnTo>
                  <a:pt x="10800" y="14536"/>
                </a:lnTo>
                <a:cubicBezTo>
                  <a:pt x="11836" y="14536"/>
                  <a:pt x="12636" y="13805"/>
                  <a:pt x="12636" y="12882"/>
                </a:cubicBezTo>
                <a:lnTo>
                  <a:pt x="12636" y="7547"/>
                </a:lnTo>
                <a:lnTo>
                  <a:pt x="10800" y="7547"/>
                </a:lnTo>
                <a:lnTo>
                  <a:pt x="14308" y="4039"/>
                </a:lnTo>
                <a:lnTo>
                  <a:pt x="17981" y="7547"/>
                </a:lnTo>
                <a:lnTo>
                  <a:pt x="16144" y="7547"/>
                </a:lnTo>
                <a:lnTo>
                  <a:pt x="16144" y="12882"/>
                </a:lnTo>
                <a:cubicBezTo>
                  <a:pt x="16144" y="15650"/>
                  <a:pt x="13568" y="18209"/>
                  <a:pt x="10800" y="18209"/>
                </a:cubicBezTo>
                <a:lnTo>
                  <a:pt x="9138" y="18209"/>
                </a:lnTo>
                <a:cubicBezTo>
                  <a:pt x="6370" y="18209"/>
                  <a:pt x="3794" y="15650"/>
                  <a:pt x="3794" y="12882"/>
                </a:cubicBezTo>
                <a:close/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810108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05800" y="6237360"/>
            <a:ext cx="91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збу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21080" y="630864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63640" y="692280"/>
            <a:ext cx="5788080" cy="116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Я УМЕЮ КОДИРОВАТЬ ИНФОРМАЦИ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321146321216510181631203010152216181412410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Задание №7</a:t>
            </a:r>
            <a:endParaRPr b="0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альчик заменил каждую букву своего имени ее номером в алфавит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лучилось 46151. Как зовут мальчик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5800" y="623736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абли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21080" y="623736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623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7493"/>
                </a:moveTo>
                <a:lnTo>
                  <a:pt x="9446" y="7493"/>
                </a:lnTo>
                <a:lnTo>
                  <a:pt x="9446" y="12828"/>
                </a:lnTo>
                <a:cubicBezTo>
                  <a:pt x="9446" y="13751"/>
                  <a:pt x="10247" y="14482"/>
                  <a:pt x="11283" y="14482"/>
                </a:cubicBezTo>
                <a:lnTo>
                  <a:pt x="12945" y="14482"/>
                </a:lnTo>
                <a:cubicBezTo>
                  <a:pt x="13981" y="14482"/>
                  <a:pt x="14781" y="13751"/>
                  <a:pt x="14781" y="12828"/>
                </a:cubicBezTo>
                <a:lnTo>
                  <a:pt x="14781" y="7493"/>
                </a:lnTo>
                <a:lnTo>
                  <a:pt x="12945" y="7493"/>
                </a:lnTo>
                <a:lnTo>
                  <a:pt x="16453" y="3985"/>
                </a:lnTo>
                <a:lnTo>
                  <a:pt x="20125" y="7493"/>
                </a:lnTo>
                <a:lnTo>
                  <a:pt x="18289" y="7493"/>
                </a:lnTo>
                <a:lnTo>
                  <a:pt x="18289" y="12828"/>
                </a:lnTo>
                <a:cubicBezTo>
                  <a:pt x="18289" y="15596"/>
                  <a:pt x="15713" y="18155"/>
                  <a:pt x="12945" y="18155"/>
                </a:cubicBezTo>
                <a:lnTo>
                  <a:pt x="11283" y="18155"/>
                </a:lnTo>
                <a:cubicBezTo>
                  <a:pt x="8515" y="18155"/>
                  <a:pt x="5938" y="15596"/>
                  <a:pt x="5938" y="12828"/>
                </a:cubicBezTo>
                <a:close/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802800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02920" y="620280"/>
            <a:ext cx="6364440" cy="10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615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ГЕ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6920" y="692280"/>
            <a:ext cx="6580440" cy="94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Задание №8</a:t>
            </a:r>
            <a:endParaRPr b="0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ана кодировочная таблиц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первая цифра кода – номер строки, вторая – номер столбц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11280" y="2565360"/>
            <a:ext cx="78483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2998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 помощью кодировочной таблицы зашифруйте фразу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Я УМЕЮ РАБОТАТЬ С ИНФОРМАЦИЕЙ! А ТЫ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05800" y="60930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абли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21080" y="609300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4360" y="6021360"/>
            <a:ext cx="358560" cy="43200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6020">
                <a:moveTo>
                  <a:pt x="0" y="0"/>
                </a:moveTo>
                <a:lnTo>
                  <a:pt x="21600" y="0"/>
                </a:lnTo>
                <a:lnTo>
                  <a:pt x="21600" y="26020"/>
                </a:lnTo>
                <a:lnTo>
                  <a:pt x="0" y="26020"/>
                </a:lnTo>
                <a:close/>
              </a:path>
              <a:path fill="lightenLess" w="21600" h="260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0">
                <a:moveTo>
                  <a:pt x="21600" y="0"/>
                </a:moveTo>
                <a:lnTo>
                  <a:pt x="21600" y="26020"/>
                </a:lnTo>
                <a:lnTo>
                  <a:pt x="20200" y="24620"/>
                </a:lnTo>
                <a:lnTo>
                  <a:pt x="20200" y="1400"/>
                </a:lnTo>
                <a:close/>
              </a:path>
              <a:path fill="darkenLess" w="21600" h="26020">
                <a:moveTo>
                  <a:pt x="21600" y="26020"/>
                </a:moveTo>
                <a:lnTo>
                  <a:pt x="0" y="26020"/>
                </a:lnTo>
                <a:lnTo>
                  <a:pt x="1400" y="24620"/>
                </a:lnTo>
                <a:lnTo>
                  <a:pt x="20200" y="24620"/>
                </a:lnTo>
                <a:close/>
              </a:path>
              <a:path fill="lighten" w="21600" h="26020">
                <a:moveTo>
                  <a:pt x="0" y="260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0"/>
                </a:lnTo>
                <a:close/>
              </a:path>
              <a:path fill="darken" w="21600" h="26020">
                <a:moveTo>
                  <a:pt x="3794" y="9702"/>
                </a:moveTo>
                <a:lnTo>
                  <a:pt x="7301" y="9702"/>
                </a:lnTo>
                <a:lnTo>
                  <a:pt x="7301" y="15038"/>
                </a:lnTo>
                <a:cubicBezTo>
                  <a:pt x="7301" y="15960"/>
                  <a:pt x="8102" y="16691"/>
                  <a:pt x="9138" y="16691"/>
                </a:cubicBezTo>
                <a:lnTo>
                  <a:pt x="10800" y="16691"/>
                </a:lnTo>
                <a:cubicBezTo>
                  <a:pt x="11836" y="16691"/>
                  <a:pt x="12636" y="15960"/>
                  <a:pt x="12636" y="15038"/>
                </a:cubicBezTo>
                <a:lnTo>
                  <a:pt x="12636" y="9702"/>
                </a:lnTo>
                <a:lnTo>
                  <a:pt x="10800" y="9702"/>
                </a:lnTo>
                <a:lnTo>
                  <a:pt x="14308" y="6195"/>
                </a:lnTo>
                <a:lnTo>
                  <a:pt x="17981" y="9702"/>
                </a:lnTo>
                <a:lnTo>
                  <a:pt x="16144" y="9702"/>
                </a:lnTo>
                <a:lnTo>
                  <a:pt x="16144" y="15038"/>
                </a:lnTo>
                <a:cubicBezTo>
                  <a:pt x="16144" y="17806"/>
                  <a:pt x="13568" y="20364"/>
                  <a:pt x="10800" y="20364"/>
                </a:cubicBezTo>
                <a:lnTo>
                  <a:pt x="9138" y="20364"/>
                </a:lnTo>
                <a:cubicBezTo>
                  <a:pt x="6370" y="20364"/>
                  <a:pt x="3794" y="17806"/>
                  <a:pt x="3794" y="15038"/>
                </a:cubicBezTo>
                <a:close/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7956720" y="6093000"/>
            <a:ext cx="287280" cy="36036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60360"/>
              <a:gd name="textAreaBottom" fmla="*/ 342000 h 360360"/>
            </a:gdLst>
            <a:ahLst/>
            <a:rect l="textAreaLeft" t="textAreaTop" r="textAreaRight" b="textAreaBottom"/>
            <a:pathLst>
              <a:path w="21600" h="27088">
                <a:moveTo>
                  <a:pt x="0" y="0"/>
                </a:moveTo>
                <a:lnTo>
                  <a:pt x="21600" y="0"/>
                </a:lnTo>
                <a:lnTo>
                  <a:pt x="21600" y="27088"/>
                </a:lnTo>
                <a:lnTo>
                  <a:pt x="0" y="27088"/>
                </a:lnTo>
                <a:close/>
              </a:path>
              <a:path fill="lightenLess" w="21600" h="270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88">
                <a:moveTo>
                  <a:pt x="21600" y="0"/>
                </a:moveTo>
                <a:lnTo>
                  <a:pt x="21600" y="27088"/>
                </a:lnTo>
                <a:lnTo>
                  <a:pt x="20200" y="25688"/>
                </a:lnTo>
                <a:lnTo>
                  <a:pt x="20200" y="1400"/>
                </a:lnTo>
                <a:close/>
              </a:path>
              <a:path fill="darkenLess" w="21600" h="27088">
                <a:moveTo>
                  <a:pt x="21600" y="27088"/>
                </a:moveTo>
                <a:lnTo>
                  <a:pt x="0" y="27088"/>
                </a:lnTo>
                <a:lnTo>
                  <a:pt x="1400" y="25688"/>
                </a:lnTo>
                <a:lnTo>
                  <a:pt x="20200" y="25688"/>
                </a:lnTo>
                <a:close/>
              </a:path>
              <a:path fill="lighten" w="21600" h="27088">
                <a:moveTo>
                  <a:pt x="0" y="270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88"/>
                </a:lnTo>
                <a:close/>
              </a:path>
              <a:path fill="darken" w="21600" h="27088">
                <a:moveTo>
                  <a:pt x="3794" y="6537"/>
                </a:moveTo>
                <a:lnTo>
                  <a:pt x="17806" y="13544"/>
                </a:lnTo>
                <a:lnTo>
                  <a:pt x="3794" y="20550"/>
                </a:lnTo>
                <a:close/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Я УМЕЮ РАБОТАТЬ С ИНФОРМАЦИЕЙ! А ТЫ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4.21.13.05.33.17.00.01.15.20.00.20.31.18.10.14.22.15.17.13.00.24.10.05.10.43.00.20.30.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115640" y="620280"/>
            <a:ext cx="665172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Ответ: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Задание №1</a:t>
            </a:r>
            <a:endParaRPr b="0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ана кодовая таблица флажковой азбу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55640" y="2565360"/>
            <a:ext cx="777708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76360" y="836280"/>
            <a:ext cx="600408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Задание № 9</a:t>
            </a:r>
            <a:endParaRPr b="0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спользуя кодировочную таблицу, расшифруйте текс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201538350304053835111503040038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05800" y="60930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абли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21080" y="609300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6165720"/>
            <a:ext cx="360360" cy="28764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7054" h="21600">
                <a:moveTo>
                  <a:pt x="0" y="0"/>
                </a:moveTo>
                <a:lnTo>
                  <a:pt x="27054" y="0"/>
                </a:lnTo>
                <a:lnTo>
                  <a:pt x="27054" y="21600"/>
                </a:lnTo>
                <a:lnTo>
                  <a:pt x="0" y="21600"/>
                </a:lnTo>
                <a:close/>
              </a:path>
              <a:path fill="lightenLess" w="27054" h="21600">
                <a:moveTo>
                  <a:pt x="0" y="0"/>
                </a:moveTo>
                <a:lnTo>
                  <a:pt x="27054" y="0"/>
                </a:lnTo>
                <a:lnTo>
                  <a:pt x="25654" y="1400"/>
                </a:lnTo>
                <a:lnTo>
                  <a:pt x="1400" y="1400"/>
                </a:lnTo>
                <a:close/>
              </a:path>
              <a:path fill="darken" w="27054" h="21600">
                <a:moveTo>
                  <a:pt x="27054" y="0"/>
                </a:moveTo>
                <a:lnTo>
                  <a:pt x="27054" y="21600"/>
                </a:lnTo>
                <a:lnTo>
                  <a:pt x="25654" y="20200"/>
                </a:lnTo>
                <a:lnTo>
                  <a:pt x="25654" y="1400"/>
                </a:lnTo>
                <a:close/>
              </a:path>
              <a:path fill="darkenLess" w="27054" h="21600">
                <a:moveTo>
                  <a:pt x="27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54" y="20200"/>
                </a:lnTo>
                <a:close/>
              </a:path>
              <a:path fill="lighten" w="27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54" h="21600">
                <a:moveTo>
                  <a:pt x="6521" y="7493"/>
                </a:moveTo>
                <a:lnTo>
                  <a:pt x="10028" y="7493"/>
                </a:lnTo>
                <a:lnTo>
                  <a:pt x="10028" y="12828"/>
                </a:lnTo>
                <a:cubicBezTo>
                  <a:pt x="10028" y="13751"/>
                  <a:pt x="10829" y="14482"/>
                  <a:pt x="11865" y="14482"/>
                </a:cubicBezTo>
                <a:lnTo>
                  <a:pt x="13527" y="14482"/>
                </a:lnTo>
                <a:cubicBezTo>
                  <a:pt x="14563" y="14482"/>
                  <a:pt x="15363" y="13751"/>
                  <a:pt x="15363" y="12828"/>
                </a:cubicBezTo>
                <a:lnTo>
                  <a:pt x="15363" y="7493"/>
                </a:lnTo>
                <a:lnTo>
                  <a:pt x="13527" y="7493"/>
                </a:lnTo>
                <a:lnTo>
                  <a:pt x="17035" y="3985"/>
                </a:lnTo>
                <a:lnTo>
                  <a:pt x="20708" y="7493"/>
                </a:lnTo>
                <a:lnTo>
                  <a:pt x="18871" y="7493"/>
                </a:lnTo>
                <a:lnTo>
                  <a:pt x="18871" y="12828"/>
                </a:lnTo>
                <a:cubicBezTo>
                  <a:pt x="18871" y="15596"/>
                  <a:pt x="16295" y="18155"/>
                  <a:pt x="13527" y="18155"/>
                </a:cubicBezTo>
                <a:lnTo>
                  <a:pt x="11865" y="18155"/>
                </a:lnTo>
                <a:cubicBezTo>
                  <a:pt x="9097" y="18155"/>
                  <a:pt x="6521" y="15596"/>
                  <a:pt x="6521" y="12828"/>
                </a:cubicBezTo>
                <a:close/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nextslide"/>
          </p:cNvPr>
          <p:cNvSpPr/>
          <p:nvPr/>
        </p:nvSpPr>
        <p:spPr>
          <a:xfrm>
            <a:off x="8028000" y="6093000"/>
            <a:ext cx="289080" cy="36036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60360"/>
              <a:gd name="textAreaBottom" fmla="*/ 341640 h 360360"/>
            </a:gdLst>
            <a:ahLst/>
            <a:rect l="textAreaLeft" t="textAreaTop" r="textAreaRight" b="textAreaBottom"/>
            <a:pathLst>
              <a:path w="21600" h="26919">
                <a:moveTo>
                  <a:pt x="0" y="0"/>
                </a:moveTo>
                <a:lnTo>
                  <a:pt x="21600" y="0"/>
                </a:lnTo>
                <a:lnTo>
                  <a:pt x="21600" y="26919"/>
                </a:lnTo>
                <a:lnTo>
                  <a:pt x="0" y="26919"/>
                </a:lnTo>
                <a:close/>
              </a:path>
              <a:path fill="lightenLess" w="21600" h="26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19">
                <a:moveTo>
                  <a:pt x="21600" y="0"/>
                </a:moveTo>
                <a:lnTo>
                  <a:pt x="21600" y="26919"/>
                </a:lnTo>
                <a:lnTo>
                  <a:pt x="20200" y="25519"/>
                </a:lnTo>
                <a:lnTo>
                  <a:pt x="20200" y="1400"/>
                </a:lnTo>
                <a:close/>
              </a:path>
              <a:path fill="darkenLess" w="21600" h="26919">
                <a:moveTo>
                  <a:pt x="21600" y="26919"/>
                </a:moveTo>
                <a:lnTo>
                  <a:pt x="0" y="26919"/>
                </a:lnTo>
                <a:lnTo>
                  <a:pt x="1400" y="25519"/>
                </a:lnTo>
                <a:lnTo>
                  <a:pt x="20200" y="25519"/>
                </a:lnTo>
                <a:close/>
              </a:path>
              <a:path fill="lighten" w="21600" h="26919">
                <a:moveTo>
                  <a:pt x="0" y="26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19"/>
                </a:lnTo>
                <a:close/>
              </a:path>
              <a:path fill="darken" w="21600" h="26919">
                <a:moveTo>
                  <a:pt x="3794" y="6453"/>
                </a:moveTo>
                <a:lnTo>
                  <a:pt x="17806" y="13460"/>
                </a:lnTo>
                <a:lnTo>
                  <a:pt x="3794" y="20466"/>
                </a:lnTo>
                <a:close/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87280" y="620280"/>
            <a:ext cx="650736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Ответ: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520153835030405383511150304003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Что? – Где? – Когд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560" y="620280"/>
            <a:ext cx="643572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Задание № 10</a:t>
            </a:r>
            <a:endParaRPr b="0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Шифры замены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ждая буква алфавита может быть заменена любым числом из соответствующего столбика кодировочной таблиц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55640" y="2924280"/>
            <a:ext cx="784872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кое сообщение закодировано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84360" y="3213000"/>
            <a:ext cx="7775280" cy="1854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11280" y="623736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7493"/>
                </a:moveTo>
                <a:lnTo>
                  <a:pt x="12721" y="7493"/>
                </a:lnTo>
                <a:lnTo>
                  <a:pt x="12721" y="12828"/>
                </a:lnTo>
                <a:cubicBezTo>
                  <a:pt x="12721" y="13751"/>
                  <a:pt x="13522" y="14482"/>
                  <a:pt x="14558" y="14482"/>
                </a:cubicBezTo>
                <a:lnTo>
                  <a:pt x="16220" y="14482"/>
                </a:lnTo>
                <a:cubicBezTo>
                  <a:pt x="17256" y="14482"/>
                  <a:pt x="18057" y="13751"/>
                  <a:pt x="18057" y="12828"/>
                </a:cubicBezTo>
                <a:lnTo>
                  <a:pt x="18057" y="7493"/>
                </a:lnTo>
                <a:lnTo>
                  <a:pt x="16220" y="7493"/>
                </a:lnTo>
                <a:lnTo>
                  <a:pt x="19728" y="3985"/>
                </a:lnTo>
                <a:lnTo>
                  <a:pt x="23401" y="7493"/>
                </a:lnTo>
                <a:lnTo>
                  <a:pt x="21564" y="7493"/>
                </a:lnTo>
                <a:lnTo>
                  <a:pt x="21564" y="12828"/>
                </a:lnTo>
                <a:cubicBezTo>
                  <a:pt x="21564" y="15596"/>
                  <a:pt x="18988" y="18155"/>
                  <a:pt x="16220" y="18155"/>
                </a:cubicBezTo>
                <a:lnTo>
                  <a:pt x="14558" y="18155"/>
                </a:lnTo>
                <a:cubicBezTo>
                  <a:pt x="11790" y="18155"/>
                  <a:pt x="9214" y="15596"/>
                  <a:pt x="9214" y="12828"/>
                </a:cubicBezTo>
                <a:close/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8028000" y="6165720"/>
            <a:ext cx="431640" cy="28764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89800" y="60930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абли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21080" y="609300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Ответ: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66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Я знаком с шифрами замен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Домашнее задание: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идумать кодировочную таблицу и зашифровать с её помощью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вою фамилию, имя, отчество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ату рожден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омашний адре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Старший помощник Лом сдает экзамен капитану Врунгелю. Помогите ему прочитать следующий текст:</a:t>
            </a: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71640" y="2205000"/>
            <a:ext cx="7584840" cy="3816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219640" y="6237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6443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Ответ</a:t>
            </a: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6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Бороться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искать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айти и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е сдаваться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Задание №2</a:t>
            </a:r>
            <a:endParaRPr b="0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66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 помощью флажковой азбуки зашифруйте фраз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Учение да труд к славе ведут”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611280" y="5805360"/>
            <a:ext cx="647640" cy="35892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8958" h="21600">
                <a:moveTo>
                  <a:pt x="0" y="0"/>
                </a:moveTo>
                <a:lnTo>
                  <a:pt x="38958" y="0"/>
                </a:lnTo>
                <a:lnTo>
                  <a:pt x="38958" y="21600"/>
                </a:lnTo>
                <a:lnTo>
                  <a:pt x="0" y="21600"/>
                </a:lnTo>
                <a:close/>
              </a:path>
              <a:path fill="lightenLess" w="38958" h="21600">
                <a:moveTo>
                  <a:pt x="0" y="0"/>
                </a:moveTo>
                <a:lnTo>
                  <a:pt x="38958" y="0"/>
                </a:lnTo>
                <a:lnTo>
                  <a:pt x="37558" y="1400"/>
                </a:lnTo>
                <a:lnTo>
                  <a:pt x="1400" y="1400"/>
                </a:lnTo>
                <a:close/>
              </a:path>
              <a:path fill="darken" w="38958" h="21600">
                <a:moveTo>
                  <a:pt x="38958" y="0"/>
                </a:moveTo>
                <a:lnTo>
                  <a:pt x="38958" y="21600"/>
                </a:lnTo>
                <a:lnTo>
                  <a:pt x="37558" y="20200"/>
                </a:lnTo>
                <a:lnTo>
                  <a:pt x="37558" y="1400"/>
                </a:lnTo>
                <a:close/>
              </a:path>
              <a:path fill="darkenLess" w="38958" h="21600">
                <a:moveTo>
                  <a:pt x="38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58" y="20200"/>
                </a:lnTo>
                <a:close/>
              </a:path>
              <a:path fill="lighten" w="38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58" h="21600">
                <a:moveTo>
                  <a:pt x="12472" y="7493"/>
                </a:moveTo>
                <a:lnTo>
                  <a:pt x="15980" y="7493"/>
                </a:lnTo>
                <a:lnTo>
                  <a:pt x="15980" y="12828"/>
                </a:lnTo>
                <a:cubicBezTo>
                  <a:pt x="15980" y="13751"/>
                  <a:pt x="16781" y="14482"/>
                  <a:pt x="17817" y="14482"/>
                </a:cubicBezTo>
                <a:lnTo>
                  <a:pt x="19479" y="14482"/>
                </a:lnTo>
                <a:cubicBezTo>
                  <a:pt x="20515" y="14482"/>
                  <a:pt x="21315" y="13751"/>
                  <a:pt x="21315" y="12828"/>
                </a:cubicBezTo>
                <a:lnTo>
                  <a:pt x="21315" y="7493"/>
                </a:lnTo>
                <a:lnTo>
                  <a:pt x="19479" y="7493"/>
                </a:lnTo>
                <a:lnTo>
                  <a:pt x="22987" y="3985"/>
                </a:lnTo>
                <a:lnTo>
                  <a:pt x="26660" y="7493"/>
                </a:lnTo>
                <a:lnTo>
                  <a:pt x="24823" y="7493"/>
                </a:lnTo>
                <a:lnTo>
                  <a:pt x="24823" y="12828"/>
                </a:lnTo>
                <a:cubicBezTo>
                  <a:pt x="24823" y="15596"/>
                  <a:pt x="22247" y="18155"/>
                  <a:pt x="19479" y="18155"/>
                </a:cubicBezTo>
                <a:lnTo>
                  <a:pt x="17817" y="18155"/>
                </a:lnTo>
                <a:cubicBezTo>
                  <a:pt x="15049" y="18155"/>
                  <a:pt x="12472" y="15596"/>
                  <a:pt x="12472" y="12828"/>
                </a:cubicBezTo>
                <a:close/>
              </a:path>
            </a:pathLst>
          </a:custGeom>
          <a:solidFill>
            <a:srgbClr val="ff6633"/>
          </a:solidFill>
          <a:ln w="0">
            <a:noFill/>
          </a:ln>
          <a:effectLst>
            <a:outerShdw dist="17819" dir="2700000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7956720" y="5805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ff6633"/>
          </a:solidFill>
          <a:ln w="0">
            <a:noFill/>
          </a:ln>
          <a:effectLst>
            <a:outerShdw dist="17819" dir="2700000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05440" y="580536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78880" y="5805360"/>
            <a:ext cx="91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збу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br>
              <a:rPr sz="4000"/>
            </a:b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чение да труд к славе ведут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411280" y="1844640"/>
            <a:ext cx="3619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Задание №3</a:t>
            </a:r>
            <a:endParaRPr b="0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 помощью флажковой азбуки зашифруйте любую пословицу, а сосед по парте пусть ее расшифру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2" action="ppaction://hlinksldjump"/>
          </p:cNvPr>
          <p:cNvSpPr/>
          <p:nvPr/>
        </p:nvSpPr>
        <p:spPr>
          <a:xfrm>
            <a:off x="755640" y="602136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7502"/>
                </a:moveTo>
                <a:lnTo>
                  <a:pt x="7301" y="7502"/>
                </a:lnTo>
                <a:lnTo>
                  <a:pt x="7301" y="12837"/>
                </a:lnTo>
                <a:cubicBezTo>
                  <a:pt x="7301" y="13760"/>
                  <a:pt x="8102" y="14491"/>
                  <a:pt x="9138" y="14491"/>
                </a:cubicBezTo>
                <a:lnTo>
                  <a:pt x="10800" y="14491"/>
                </a:lnTo>
                <a:cubicBezTo>
                  <a:pt x="11836" y="14491"/>
                  <a:pt x="12636" y="13760"/>
                  <a:pt x="12636" y="12837"/>
                </a:cubicBezTo>
                <a:lnTo>
                  <a:pt x="12636" y="7502"/>
                </a:lnTo>
                <a:lnTo>
                  <a:pt x="10800" y="7502"/>
                </a:lnTo>
                <a:lnTo>
                  <a:pt x="14308" y="3994"/>
                </a:lnTo>
                <a:lnTo>
                  <a:pt x="17981" y="7502"/>
                </a:lnTo>
                <a:lnTo>
                  <a:pt x="16144" y="7502"/>
                </a:lnTo>
                <a:lnTo>
                  <a:pt x="16144" y="12837"/>
                </a:lnTo>
                <a:cubicBezTo>
                  <a:pt x="16144" y="15605"/>
                  <a:pt x="13568" y="18164"/>
                  <a:pt x="10800" y="18164"/>
                </a:cubicBezTo>
                <a:lnTo>
                  <a:pt x="9138" y="18164"/>
                </a:lnTo>
                <a:cubicBezTo>
                  <a:pt x="6370" y="18164"/>
                  <a:pt x="3794" y="15605"/>
                  <a:pt x="3794" y="12837"/>
                </a:cubicBezTo>
                <a:close/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Задание №4</a:t>
            </a:r>
            <a:endParaRPr b="0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ана кодовая таблица азбуки Морз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84360" y="1989000"/>
            <a:ext cx="7632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2998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5640" y="76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66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сшифруйте (декодируйте), что здесь написано (буквы отделены друг от друга пробелами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00000" y="2637000"/>
            <a:ext cx="7201080" cy="1008000"/>
          </a:xfrm>
          <a:prstGeom prst="rect">
            <a:avLst/>
          </a:prstGeom>
          <a:ln w="0">
            <a:noFill/>
          </a:ln>
        </p:spPr>
      </p:pic>
      <p:sp>
        <p:nvSpPr>
          <p:cNvPr id="121" name="">
            <a:hlinkClick r:id="rId3" action="ppaction://hlinksldjump"/>
          </p:cNvPr>
          <p:cNvSpPr/>
          <p:nvPr/>
        </p:nvSpPr>
        <p:spPr>
          <a:xfrm>
            <a:off x="75564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7493"/>
                </a:moveTo>
                <a:lnTo>
                  <a:pt x="9435" y="7493"/>
                </a:lnTo>
                <a:lnTo>
                  <a:pt x="9435" y="12828"/>
                </a:lnTo>
                <a:cubicBezTo>
                  <a:pt x="9435" y="13751"/>
                  <a:pt x="10236" y="14482"/>
                  <a:pt x="11272" y="14482"/>
                </a:cubicBezTo>
                <a:lnTo>
                  <a:pt x="12934" y="14482"/>
                </a:lnTo>
                <a:cubicBezTo>
                  <a:pt x="13970" y="14482"/>
                  <a:pt x="14771" y="13751"/>
                  <a:pt x="14771" y="12828"/>
                </a:cubicBezTo>
                <a:lnTo>
                  <a:pt x="14771" y="7493"/>
                </a:lnTo>
                <a:lnTo>
                  <a:pt x="12934" y="7493"/>
                </a:lnTo>
                <a:lnTo>
                  <a:pt x="16442" y="3985"/>
                </a:lnTo>
                <a:lnTo>
                  <a:pt x="20115" y="7493"/>
                </a:lnTo>
                <a:lnTo>
                  <a:pt x="18278" y="7493"/>
                </a:lnTo>
                <a:lnTo>
                  <a:pt x="18278" y="12828"/>
                </a:lnTo>
                <a:cubicBezTo>
                  <a:pt x="18278" y="15596"/>
                  <a:pt x="15702" y="18155"/>
                  <a:pt x="12934" y="18155"/>
                </a:cubicBezTo>
                <a:lnTo>
                  <a:pt x="11272" y="18155"/>
                </a:lnTo>
                <a:cubicBezTo>
                  <a:pt x="8504" y="18155"/>
                  <a:pt x="5928" y="15596"/>
                  <a:pt x="5928" y="12828"/>
                </a:cubicBezTo>
                <a:close/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05800" y="6165720"/>
            <a:ext cx="91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збу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05440" y="61657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nextslide"/>
          </p:cNvPr>
          <p:cNvSpPr/>
          <p:nvPr/>
        </p:nvSpPr>
        <p:spPr>
          <a:xfrm>
            <a:off x="781200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1T10:08:51Z</dcterms:created>
  <dc:creator>User</dc:creator>
  <dc:description/>
  <cp:keywords/>
  <dc:language>en-US</dc:language>
  <cp:lastModifiedBy>User</cp:lastModifiedBy>
  <dcterms:modified xsi:type="dcterms:W3CDTF">2007-12-21T12:29:33Z</dcterms:modified>
  <cp:revision>3</cp:revision>
  <dc:subject/>
  <dc:title>Практическая работа по теме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831049</vt:lpwstr>
  </property>
</Properties>
</file>