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540-007D-4B0B-B3A6-D79FAC60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D49-056A-4885-AF0E-93480329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3BB-01E6-45B9-9440-E7EDB11A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40D-FBAC-4F0E-9332-2A2D1DBD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D337-AADB-4D58-A1A9-E7F34937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BDC2-631B-4503-A956-FFD0A9E8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0E00-089E-4622-A2D4-25A5AD36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C53D-6F2D-4F60-BB3D-628AC95B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11D0-917E-489A-BCF3-4F9453F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5022-85E9-4466-B253-79020A4A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0B80-EBA6-4F33-9E01-E6EE8E5F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118-B91C-4418-ADB7-569EF392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FBBD-2297-4D98-961F-C36BB870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40F1-FC32-4893-AF41-CB7D0721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BF0F-8E82-4C1F-8DBB-E4353C35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563B-265B-4B90-87F4-6D8A04CD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6E2B-EB43-4DCD-A345-D2213393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F1B-EFDF-4AD9-889C-F6F1D2A1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98A-75E9-41B0-9E27-D6463177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8B9-3217-4991-9525-DF687FAF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B7A-4D38-46DC-BF58-4D14FCF4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C5B-A299-414F-BC66-242A7D9A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6B3-4E0C-4386-A9B6-FF8504E4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C3D-F8FD-446A-AC07-BC010B73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1" name=""/>
            <p:cNvSpPr/>
            <p:nvPr/>
          </p:nvSpPr>
          <p:spPr>
            <a:xfrm>
              <a:off x="609480" y="0"/>
              <a:ext cx="7925040" cy="68565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304920"/>
              <a:ext cx="8837640" cy="15228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6B93-43D8-46F4-939A-85D6FCA3F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46" name=""/>
            <p:cNvSpPr/>
            <p:nvPr/>
          </p:nvSpPr>
          <p:spPr>
            <a:xfrm>
              <a:off x="609480" y="1676520"/>
              <a:ext cx="7925040" cy="51800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3581280"/>
              <a:ext cx="8837640" cy="15264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B5C0-20E3-405A-859C-1AAD3FEA4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Практическая работа по теме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дирование информации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4869000"/>
            <a:ext cx="3166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работал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информатик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У Лицей  Г. Кин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пова Л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679608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777080" cy="504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40000" y="5157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олодцы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5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одируйте с помощью азбуки Морзе сло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ФОРМАТИ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6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а кодовая 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134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36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меняя каждую букву ее порядковым номером в алфавите зашифруйте фраз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КОДИРОВАТЬ ИНФОРМАЦИЮ”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шифрованный текст должен быть записан без пропус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7547"/>
                </a:moveTo>
                <a:lnTo>
                  <a:pt x="7301" y="7547"/>
                </a:lnTo>
                <a:lnTo>
                  <a:pt x="7301" y="12882"/>
                </a:lnTo>
                <a:cubicBezTo>
                  <a:pt x="7301" y="13805"/>
                  <a:pt x="8102" y="14536"/>
                  <a:pt x="9138" y="14536"/>
                </a:cubicBezTo>
                <a:lnTo>
                  <a:pt x="10800" y="14536"/>
                </a:lnTo>
                <a:cubicBezTo>
                  <a:pt x="11836" y="14536"/>
                  <a:pt x="12636" y="13805"/>
                  <a:pt x="12636" y="12882"/>
                </a:cubicBezTo>
                <a:lnTo>
                  <a:pt x="12636" y="7547"/>
                </a:lnTo>
                <a:lnTo>
                  <a:pt x="10800" y="7547"/>
                </a:lnTo>
                <a:lnTo>
                  <a:pt x="14308" y="4039"/>
                </a:lnTo>
                <a:lnTo>
                  <a:pt x="17981" y="7547"/>
                </a:lnTo>
                <a:lnTo>
                  <a:pt x="16144" y="7547"/>
                </a:lnTo>
                <a:lnTo>
                  <a:pt x="16144" y="12882"/>
                </a:lnTo>
                <a:cubicBezTo>
                  <a:pt x="16144" y="15650"/>
                  <a:pt x="13568" y="18209"/>
                  <a:pt x="10800" y="18209"/>
                </a:cubicBezTo>
                <a:lnTo>
                  <a:pt x="9138" y="18209"/>
                </a:lnTo>
                <a:cubicBezTo>
                  <a:pt x="6370" y="18209"/>
                  <a:pt x="3794" y="15650"/>
                  <a:pt x="3794" y="12882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10108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5800" y="623736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зб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21080" y="6308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640" y="692280"/>
            <a:ext cx="5788080" cy="11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КОДИРОВАТЬ ИНФОРМАЦ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321146321216510181631203010152216181412410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7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льчик заменил каждую букву своего имени ее номером в алфави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лучилось 46151. Как зовут мальчи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5800" y="623736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21080" y="623736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7493"/>
                </a:moveTo>
                <a:lnTo>
                  <a:pt x="9446" y="7493"/>
                </a:lnTo>
                <a:lnTo>
                  <a:pt x="9446" y="12828"/>
                </a:lnTo>
                <a:cubicBezTo>
                  <a:pt x="9446" y="13751"/>
                  <a:pt x="10247" y="14482"/>
                  <a:pt x="11283" y="14482"/>
                </a:cubicBezTo>
                <a:lnTo>
                  <a:pt x="12945" y="14482"/>
                </a:lnTo>
                <a:cubicBezTo>
                  <a:pt x="13981" y="14482"/>
                  <a:pt x="14781" y="13751"/>
                  <a:pt x="14781" y="12828"/>
                </a:cubicBezTo>
                <a:lnTo>
                  <a:pt x="14781" y="7493"/>
                </a:lnTo>
                <a:lnTo>
                  <a:pt x="12945" y="7493"/>
                </a:lnTo>
                <a:lnTo>
                  <a:pt x="16453" y="3985"/>
                </a:lnTo>
                <a:lnTo>
                  <a:pt x="20125" y="7493"/>
                </a:lnTo>
                <a:lnTo>
                  <a:pt x="18289" y="7493"/>
                </a:lnTo>
                <a:lnTo>
                  <a:pt x="18289" y="12828"/>
                </a:lnTo>
                <a:cubicBezTo>
                  <a:pt x="18289" y="15596"/>
                  <a:pt x="15713" y="18155"/>
                  <a:pt x="12945" y="18155"/>
                </a:cubicBezTo>
                <a:lnTo>
                  <a:pt x="11283" y="18155"/>
                </a:lnTo>
                <a:cubicBezTo>
                  <a:pt x="8515" y="18155"/>
                  <a:pt x="5938" y="15596"/>
                  <a:pt x="5938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028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636444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61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Е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6580440" cy="94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8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а кодировочная таблиц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первая цифра кода – номер строки, вторая – номер столбц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784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помощью кодировочной таблицы зашифруйте фраз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РАБОТАТЬ С ИНФОРМАЦИЕЙ! А Т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5800" y="6093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21080" y="609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6021360"/>
            <a:ext cx="358560" cy="43200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6020">
                <a:moveTo>
                  <a:pt x="0" y="0"/>
                </a:moveTo>
                <a:lnTo>
                  <a:pt x="21600" y="0"/>
                </a:lnTo>
                <a:lnTo>
                  <a:pt x="21600" y="26020"/>
                </a:lnTo>
                <a:lnTo>
                  <a:pt x="0" y="26020"/>
                </a:lnTo>
                <a:close/>
              </a:path>
              <a:path fill="lightenLess" w="21600" h="260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0">
                <a:moveTo>
                  <a:pt x="21600" y="0"/>
                </a:moveTo>
                <a:lnTo>
                  <a:pt x="21600" y="26020"/>
                </a:lnTo>
                <a:lnTo>
                  <a:pt x="20200" y="24620"/>
                </a:lnTo>
                <a:lnTo>
                  <a:pt x="20200" y="1400"/>
                </a:lnTo>
                <a:close/>
              </a:path>
              <a:path fill="darkenLess" w="21600" h="26020">
                <a:moveTo>
                  <a:pt x="21600" y="26020"/>
                </a:moveTo>
                <a:lnTo>
                  <a:pt x="0" y="26020"/>
                </a:lnTo>
                <a:lnTo>
                  <a:pt x="1400" y="24620"/>
                </a:lnTo>
                <a:lnTo>
                  <a:pt x="20200" y="24620"/>
                </a:lnTo>
                <a:close/>
              </a:path>
              <a:path fill="lighten" w="21600" h="26020">
                <a:moveTo>
                  <a:pt x="0" y="260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0"/>
                </a:lnTo>
                <a:close/>
              </a:path>
              <a:path fill="darken" w="21600" h="26020">
                <a:moveTo>
                  <a:pt x="3794" y="9702"/>
                </a:moveTo>
                <a:lnTo>
                  <a:pt x="7301" y="9702"/>
                </a:lnTo>
                <a:lnTo>
                  <a:pt x="7301" y="15038"/>
                </a:lnTo>
                <a:cubicBezTo>
                  <a:pt x="7301" y="15960"/>
                  <a:pt x="8102" y="16691"/>
                  <a:pt x="9138" y="16691"/>
                </a:cubicBezTo>
                <a:lnTo>
                  <a:pt x="10800" y="16691"/>
                </a:lnTo>
                <a:cubicBezTo>
                  <a:pt x="11836" y="16691"/>
                  <a:pt x="12636" y="15960"/>
                  <a:pt x="12636" y="15038"/>
                </a:cubicBezTo>
                <a:lnTo>
                  <a:pt x="12636" y="9702"/>
                </a:lnTo>
                <a:lnTo>
                  <a:pt x="10800" y="9702"/>
                </a:lnTo>
                <a:lnTo>
                  <a:pt x="14308" y="6195"/>
                </a:lnTo>
                <a:lnTo>
                  <a:pt x="17981" y="9702"/>
                </a:lnTo>
                <a:lnTo>
                  <a:pt x="16144" y="9702"/>
                </a:lnTo>
                <a:lnTo>
                  <a:pt x="16144" y="15038"/>
                </a:lnTo>
                <a:cubicBezTo>
                  <a:pt x="16144" y="17806"/>
                  <a:pt x="13568" y="20364"/>
                  <a:pt x="10800" y="20364"/>
                </a:cubicBezTo>
                <a:lnTo>
                  <a:pt x="9138" y="20364"/>
                </a:lnTo>
                <a:cubicBezTo>
                  <a:pt x="6370" y="20364"/>
                  <a:pt x="3794" y="17806"/>
                  <a:pt x="3794" y="1503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956720" y="6093000"/>
            <a:ext cx="287280" cy="360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60360"/>
              <a:gd name="textAreaBottom" fmla="*/ 342000 h 360360"/>
            </a:gdLst>
            <a:ahLst/>
            <a:rect l="textAreaLeft" t="textAreaTop" r="textAreaRight" b="textAreaBottom"/>
            <a:pathLst>
              <a:path w="21600" h="27088">
                <a:moveTo>
                  <a:pt x="0" y="0"/>
                </a:moveTo>
                <a:lnTo>
                  <a:pt x="21600" y="0"/>
                </a:lnTo>
                <a:lnTo>
                  <a:pt x="21600" y="27088"/>
                </a:lnTo>
                <a:lnTo>
                  <a:pt x="0" y="27088"/>
                </a:lnTo>
                <a:close/>
              </a:path>
              <a:path fill="lightenLess" w="21600" h="27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88">
                <a:moveTo>
                  <a:pt x="21600" y="0"/>
                </a:moveTo>
                <a:lnTo>
                  <a:pt x="21600" y="27088"/>
                </a:lnTo>
                <a:lnTo>
                  <a:pt x="20200" y="25688"/>
                </a:lnTo>
                <a:lnTo>
                  <a:pt x="20200" y="1400"/>
                </a:lnTo>
                <a:close/>
              </a:path>
              <a:path fill="darkenLess" w="21600" h="27088">
                <a:moveTo>
                  <a:pt x="21600" y="27088"/>
                </a:moveTo>
                <a:lnTo>
                  <a:pt x="0" y="27088"/>
                </a:lnTo>
                <a:lnTo>
                  <a:pt x="1400" y="25688"/>
                </a:lnTo>
                <a:lnTo>
                  <a:pt x="20200" y="25688"/>
                </a:lnTo>
                <a:close/>
              </a:path>
              <a:path fill="lighten" w="21600" h="27088">
                <a:moveTo>
                  <a:pt x="0" y="27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88"/>
                </a:lnTo>
                <a:close/>
              </a:path>
              <a:path fill="darken" w="21600" h="27088">
                <a:moveTo>
                  <a:pt x="3794" y="6537"/>
                </a:moveTo>
                <a:lnTo>
                  <a:pt x="17806" y="13544"/>
                </a:lnTo>
                <a:lnTo>
                  <a:pt x="3794" y="20550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УМЕЮ РАБОТАТЬ С ИНФОРМАЦИЕЙ! А Т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.21.13.05.33.17.00.01.15.20.00.20.31.18.10.14.22.15.17.13.00.24.10.05.10.43.00.20.30.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115640" y="620280"/>
            <a:ext cx="665172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1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а кодовая таблица флажковой азб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77770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360" y="836280"/>
            <a:ext cx="600408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 9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пользуя кодировочную таблицу, расшифруйте текс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20153835030405383511150304003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05800" y="6093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21080" y="609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7493"/>
                </a:moveTo>
                <a:lnTo>
                  <a:pt x="10028" y="7493"/>
                </a:lnTo>
                <a:lnTo>
                  <a:pt x="10028" y="12828"/>
                </a:lnTo>
                <a:cubicBezTo>
                  <a:pt x="10028" y="13751"/>
                  <a:pt x="10829" y="14482"/>
                  <a:pt x="11865" y="14482"/>
                </a:cubicBezTo>
                <a:lnTo>
                  <a:pt x="13527" y="14482"/>
                </a:lnTo>
                <a:cubicBezTo>
                  <a:pt x="14563" y="14482"/>
                  <a:pt x="15363" y="13751"/>
                  <a:pt x="15363" y="12828"/>
                </a:cubicBezTo>
                <a:lnTo>
                  <a:pt x="15363" y="7493"/>
                </a:lnTo>
                <a:lnTo>
                  <a:pt x="13527" y="7493"/>
                </a:lnTo>
                <a:lnTo>
                  <a:pt x="17035" y="3985"/>
                </a:lnTo>
                <a:lnTo>
                  <a:pt x="20708" y="7493"/>
                </a:lnTo>
                <a:lnTo>
                  <a:pt x="18871" y="7493"/>
                </a:lnTo>
                <a:lnTo>
                  <a:pt x="18871" y="12828"/>
                </a:lnTo>
                <a:cubicBezTo>
                  <a:pt x="18871" y="15596"/>
                  <a:pt x="16295" y="18155"/>
                  <a:pt x="13527" y="18155"/>
                </a:cubicBezTo>
                <a:lnTo>
                  <a:pt x="11865" y="18155"/>
                </a:lnTo>
                <a:cubicBezTo>
                  <a:pt x="9097" y="18155"/>
                  <a:pt x="6521" y="15596"/>
                  <a:pt x="6521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17806" y="13460"/>
                </a:lnTo>
                <a:lnTo>
                  <a:pt x="3794" y="2046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650736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2015383503040538351115030400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? – Где? – Ког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6435720" cy="9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 10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ифры замены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ждая буква алфавита может быть заменена любым числом из соответствующего столбика кодировочной табл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7848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ое сообщение закодировано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7775280" cy="1854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1280" y="623736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7493"/>
                </a:moveTo>
                <a:lnTo>
                  <a:pt x="12721" y="7493"/>
                </a:lnTo>
                <a:lnTo>
                  <a:pt x="12721" y="12828"/>
                </a:lnTo>
                <a:cubicBezTo>
                  <a:pt x="12721" y="13751"/>
                  <a:pt x="13522" y="14482"/>
                  <a:pt x="14558" y="14482"/>
                </a:cubicBezTo>
                <a:lnTo>
                  <a:pt x="16220" y="14482"/>
                </a:lnTo>
                <a:cubicBezTo>
                  <a:pt x="17256" y="14482"/>
                  <a:pt x="18057" y="13751"/>
                  <a:pt x="18057" y="12828"/>
                </a:cubicBezTo>
                <a:lnTo>
                  <a:pt x="18057" y="7493"/>
                </a:lnTo>
                <a:lnTo>
                  <a:pt x="16220" y="7493"/>
                </a:lnTo>
                <a:lnTo>
                  <a:pt x="19728" y="3985"/>
                </a:lnTo>
                <a:lnTo>
                  <a:pt x="23401" y="7493"/>
                </a:lnTo>
                <a:lnTo>
                  <a:pt x="21564" y="7493"/>
                </a:lnTo>
                <a:lnTo>
                  <a:pt x="21564" y="12828"/>
                </a:lnTo>
                <a:cubicBezTo>
                  <a:pt x="21564" y="15596"/>
                  <a:pt x="18988" y="18155"/>
                  <a:pt x="16220" y="18155"/>
                </a:cubicBezTo>
                <a:lnTo>
                  <a:pt x="14558" y="18155"/>
                </a:lnTo>
                <a:cubicBezTo>
                  <a:pt x="11790" y="18155"/>
                  <a:pt x="9214" y="15596"/>
                  <a:pt x="9214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028000" y="616572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9800" y="6093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21080" y="609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 знаком с шифрами замен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думать кодировочную таблицу и зашифровать с её помощь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ю фамилию, имя, отчеств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ту рожде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машний адре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тарший помощник Лом сдает экзамен капитану Врунгелю. Помогите ему прочитать следующий текст: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7584840" cy="3816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19640" y="623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6443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Ответ</a:t>
            </a: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ороться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скать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йти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 сдаватьс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2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помощью флажковой азбуки зашифруйте фраз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чение да труд к славе ведут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11280" y="580536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7493"/>
                </a:moveTo>
                <a:lnTo>
                  <a:pt x="15980" y="7493"/>
                </a:lnTo>
                <a:lnTo>
                  <a:pt x="15980" y="12828"/>
                </a:lnTo>
                <a:cubicBezTo>
                  <a:pt x="15980" y="13751"/>
                  <a:pt x="16781" y="14482"/>
                  <a:pt x="17817" y="14482"/>
                </a:cubicBezTo>
                <a:lnTo>
                  <a:pt x="19479" y="14482"/>
                </a:lnTo>
                <a:cubicBezTo>
                  <a:pt x="20515" y="14482"/>
                  <a:pt x="21315" y="13751"/>
                  <a:pt x="21315" y="12828"/>
                </a:cubicBezTo>
                <a:lnTo>
                  <a:pt x="21315" y="7493"/>
                </a:lnTo>
                <a:lnTo>
                  <a:pt x="19479" y="7493"/>
                </a:lnTo>
                <a:lnTo>
                  <a:pt x="22987" y="3985"/>
                </a:lnTo>
                <a:lnTo>
                  <a:pt x="26660" y="7493"/>
                </a:lnTo>
                <a:lnTo>
                  <a:pt x="24823" y="7493"/>
                </a:lnTo>
                <a:lnTo>
                  <a:pt x="24823" y="12828"/>
                </a:lnTo>
                <a:cubicBezTo>
                  <a:pt x="24823" y="15596"/>
                  <a:pt x="22247" y="18155"/>
                  <a:pt x="19479" y="18155"/>
                </a:cubicBezTo>
                <a:lnTo>
                  <a:pt x="17817" y="18155"/>
                </a:lnTo>
                <a:cubicBezTo>
                  <a:pt x="15049" y="18155"/>
                  <a:pt x="12472" y="15596"/>
                  <a:pt x="12472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7956720" y="5805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5440" y="580536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8880" y="580536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зб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br>
              <a:rPr sz="4000"/>
            </a:b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чение да труд к славе веду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3619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3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помощью флажковой азбуки зашифруйте любую пословицу, а сосед по парте пусть ее расшифру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755640" y="6021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7502"/>
                </a:moveTo>
                <a:lnTo>
                  <a:pt x="7301" y="7502"/>
                </a:lnTo>
                <a:lnTo>
                  <a:pt x="7301" y="12837"/>
                </a:lnTo>
                <a:cubicBezTo>
                  <a:pt x="7301" y="13760"/>
                  <a:pt x="8102" y="14491"/>
                  <a:pt x="9138" y="14491"/>
                </a:cubicBezTo>
                <a:lnTo>
                  <a:pt x="10800" y="14491"/>
                </a:lnTo>
                <a:cubicBezTo>
                  <a:pt x="11836" y="14491"/>
                  <a:pt x="12636" y="13760"/>
                  <a:pt x="12636" y="12837"/>
                </a:cubicBezTo>
                <a:lnTo>
                  <a:pt x="12636" y="7502"/>
                </a:lnTo>
                <a:lnTo>
                  <a:pt x="10800" y="7502"/>
                </a:lnTo>
                <a:lnTo>
                  <a:pt x="14308" y="3994"/>
                </a:lnTo>
                <a:lnTo>
                  <a:pt x="17981" y="7502"/>
                </a:lnTo>
                <a:lnTo>
                  <a:pt x="16144" y="7502"/>
                </a:lnTo>
                <a:lnTo>
                  <a:pt x="16144" y="12837"/>
                </a:lnTo>
                <a:cubicBezTo>
                  <a:pt x="16144" y="15605"/>
                  <a:pt x="13568" y="18164"/>
                  <a:pt x="10800" y="18164"/>
                </a:cubicBezTo>
                <a:lnTo>
                  <a:pt x="9138" y="18164"/>
                </a:lnTo>
                <a:cubicBezTo>
                  <a:pt x="6370" y="18164"/>
                  <a:pt x="3794" y="15605"/>
                  <a:pt x="3794" y="12837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Задание №4</a:t>
            </a:r>
            <a:endParaRPr b="0" lang="en-US" sz="36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а кодовая таблица азбуки Морз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763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998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шифруйте (декодируйте), что здесь написано (буквы отделены друг от друга пробелам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7201080" cy="100800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75564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7493"/>
                </a:moveTo>
                <a:lnTo>
                  <a:pt x="9435" y="7493"/>
                </a:lnTo>
                <a:lnTo>
                  <a:pt x="9435" y="12828"/>
                </a:lnTo>
                <a:cubicBezTo>
                  <a:pt x="9435" y="13751"/>
                  <a:pt x="10236" y="14482"/>
                  <a:pt x="11272" y="14482"/>
                </a:cubicBezTo>
                <a:lnTo>
                  <a:pt x="12934" y="14482"/>
                </a:lnTo>
                <a:cubicBezTo>
                  <a:pt x="13970" y="14482"/>
                  <a:pt x="14771" y="13751"/>
                  <a:pt x="14771" y="12828"/>
                </a:cubicBezTo>
                <a:lnTo>
                  <a:pt x="14771" y="7493"/>
                </a:lnTo>
                <a:lnTo>
                  <a:pt x="12934" y="7493"/>
                </a:lnTo>
                <a:lnTo>
                  <a:pt x="16442" y="3985"/>
                </a:lnTo>
                <a:lnTo>
                  <a:pt x="20115" y="7493"/>
                </a:lnTo>
                <a:lnTo>
                  <a:pt x="18278" y="7493"/>
                </a:lnTo>
                <a:lnTo>
                  <a:pt x="18278" y="12828"/>
                </a:lnTo>
                <a:cubicBezTo>
                  <a:pt x="18278" y="15596"/>
                  <a:pt x="15702" y="18155"/>
                  <a:pt x="12934" y="18155"/>
                </a:cubicBezTo>
                <a:lnTo>
                  <a:pt x="11272" y="18155"/>
                </a:lnTo>
                <a:cubicBezTo>
                  <a:pt x="8504" y="18155"/>
                  <a:pt x="5928" y="15596"/>
                  <a:pt x="5928" y="12828"/>
                </a:cubicBez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5800" y="6165720"/>
            <a:ext cx="91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зб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05440" y="61657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781200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0:08:51Z</dcterms:created>
  <dc:creator>User</dc:creator>
  <dc:description/>
  <cp:keywords/>
  <dc:language>en-US</dc:language>
  <cp:lastModifiedBy>User</cp:lastModifiedBy>
  <dcterms:modified xsi:type="dcterms:W3CDTF">2007-12-21T12:29:33Z</dcterms:modified>
  <cp:revision>3</cp:revision>
  <dc:subject/>
  <dc:title>Практическая работа по теме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31049</vt:lpwstr>
  </property>
</Properties>
</file>