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0E3-C20D-49F8-B8CF-9A3392F7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E3A-A37E-4311-9613-431243C4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3A4-854F-4509-8605-C8B15F84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007-D58B-4897-AEF9-0E119FC9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7B63-939A-4602-A397-7B99144C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D34-4732-4675-8418-1379126A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BB1-FB8F-4A2F-93D7-8E7A29F5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7BD-1624-4E53-A11B-6DBC4D5C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628-CED5-43E2-BBC9-8AF1E8EB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F99-4392-4B8E-98A0-C0196F91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44E-6E58-4154-9C91-BD99A190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199-9F17-44C3-9E07-71486B74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D803-F2E7-4654-A050-2BD11DA624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214720" y="2357280"/>
            <a:ext cx="5000400" cy="423396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2714760" y="292896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отовим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 ЕГ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2786040" y="41432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А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285840" y="21420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  <a:ea typeface="Calibri"/>
              </a:rPr>
              <a:t>Правописание НЕ и 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285840" y="150012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  <a:ea typeface="Calibri"/>
              </a:rPr>
              <a:t>Тренировочные упраж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9. В каком предложении НЕ со словами пишется слит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ятно 1 6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285840" y="2357280"/>
            <a:ext cx="8643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0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5" descr=""/>
          <p:cNvPicPr/>
          <p:nvPr/>
        </p:nvPicPr>
        <p:blipFill>
          <a:blip r:embed="rId3"/>
          <a:srcRect l="6568" t="14312" r="0" b="46697"/>
          <a:stretch/>
        </p:blipFill>
        <p:spPr>
          <a:xfrm>
            <a:off x="357120" y="2428920"/>
            <a:ext cx="8572680" cy="2143080"/>
          </a:xfrm>
          <a:prstGeom prst="rect">
            <a:avLst/>
          </a:prstGeom>
          <a:ln w="0">
            <a:noFill/>
          </a:ln>
        </p:spPr>
      </p:pic>
      <p:sp>
        <p:nvSpPr>
          <p:cNvPr id="106" name="Пятно 1 8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2214720" y="2357280"/>
            <a:ext cx="5000400" cy="4233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8"/>
          <p:cNvSpPr/>
          <p:nvPr/>
        </p:nvSpPr>
        <p:spPr>
          <a:xfrm>
            <a:off x="2714760" y="292896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отовим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 ЕГ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2786040" y="41432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А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1428840" y="150012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ыполните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285840" y="21420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  <a:ea typeface="Calibri"/>
              </a:rPr>
              <a:t>Правописание НЕ и 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93640" y="57168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1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00040" y="1857240"/>
            <a:ext cx="8286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    (Не)чего было надеяться на чудо, поэтому мы так упорно готовились к предстоящим соревнованиям.</a:t>
            </a:r>
            <a:br>
              <a:rPr sz="2400"/>
            </a:b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    Эта задача так и (не)решена учениками.</a:t>
            </a:r>
            <a:br>
              <a:rPr sz="2400"/>
            </a:b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    (Не)яркое пламя в камине освещало письменный стол и картины на стенах.</a:t>
            </a:r>
            <a:br>
              <a:rPr sz="2400"/>
            </a:b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    А кругом на полях (не)пробудная тиш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93640" y="57168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2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28760" y="1500120"/>
            <a:ext cx="82152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54061"/>
                </a:solidFill>
                <a:latin typeface="Calibri"/>
              </a:rPr>
              <a:t>1) Стая гусей, услышавших крик раненой птицы, какое-то мгновение (не)подвижно висела в воздухе, а затем начала быстро снижаться.</a:t>
            </a:r>
            <a:br>
              <a:rPr sz="2200"/>
            </a:br>
            <a:r>
              <a:rPr b="1" lang="ru-RU" sz="2200" spc="-1" strike="noStrike">
                <a:solidFill>
                  <a:srgbClr val="254061"/>
                </a:solidFill>
                <a:latin typeface="Calibri"/>
              </a:rPr>
              <a:t>2) По вечерам ярко горели лампы и всё пел и пел свою (не)хитрую песенку старый самовар.</a:t>
            </a:r>
            <a:br>
              <a:rPr sz="2200"/>
            </a:br>
            <a:r>
              <a:rPr b="1" lang="ru-RU" sz="2200" spc="-1" strike="noStrike">
                <a:solidFill>
                  <a:srgbClr val="254061"/>
                </a:solidFill>
                <a:latin typeface="Calibri"/>
              </a:rPr>
              <a:t>3) Роман с наслаждением думал о том, что ему предстоит продолжить (не)оконченную вчера работу.</a:t>
            </a:r>
            <a:br>
              <a:rPr sz="2200"/>
            </a:br>
            <a:r>
              <a:rPr b="1" lang="ru-RU" sz="2200" spc="-1" strike="noStrike">
                <a:solidFill>
                  <a:srgbClr val="254061"/>
                </a:solidFill>
                <a:latin typeface="Calibri"/>
              </a:rPr>
              <a:t>4) Во всех движениях молодого механика чувствовалась какая-то (не)уверенность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93640" y="57168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3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428760" y="17859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Солнце палит – дышать уже (не)ч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В следующем году И. С. Тургенев пишет рассказ о (не)состоявшейся люб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По колеям стояла ещё (не)впитанная почвой в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Почти (не)слышное журчание воды привлекло Ли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571680" y="2142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4. В каком варианте ответа правильно указаны все цифры, на месте которых пишется буква И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428760" y="171468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Ляпишев н(1) во что н(2) верил, н(3) признавал н(4)каких авторитетов и при этом н(5) только не был мрачным и скучающим человеком, но легко увлекался новыми идеям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1)    1, 4           2)    1, 2, 5           3)    2, 3          4)    4, 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594000" y="571680"/>
            <a:ext cx="76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5. В каком предложении НЕ со словом пишется слит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71680" y="185724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Месяца (не)было на небе, и звёзды ярко свети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До Нового года (не)больше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Бабушка, (не)смотря на преклонный возраст, отлично видит и слыш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Серёжа (не)торопясь перевернул стра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593640" y="57168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6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17680" y="1785960"/>
            <a:ext cx="78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Со мной поздоровался (не)знакомый челов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Всех смутили (не)проверенные слух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А.Н. Толстой умер, (не)успев дописать роман «Пётр I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(Не)лёгкий, но достойный удел ожидает нашего геро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594000" y="571680"/>
            <a:ext cx="76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7. В каком предложении НЕ со словом пишется слит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618840" y="1785960"/>
            <a:ext cx="800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Коту Тимофею (не)меньше десяти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Воздух, ещё (не)ставший знойным, приятно освеж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(Не)сули журавля в небе, дай синицу в р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У Насти были (не)правильные, но приятные черты л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2"/>
          <a:srcRect l="6020" t="10787" r="0" b="59339"/>
          <a:stretch/>
        </p:blipFill>
        <p:spPr>
          <a:xfrm>
            <a:off x="571680" y="2357280"/>
            <a:ext cx="8072280" cy="264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ятно 1 8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593640" y="57168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8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285840" y="1857240"/>
            <a:ext cx="8501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Наше внимание привлекла (не)высокая стройная лиственница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Только (не)сжата полоска одна, грустную думу наводит она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Публика (не)доумённо смотрела на приготовления артистов.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Когда его усадили и напоили чаем, он как будто (не)сколько успокоил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594000" y="571680"/>
            <a:ext cx="76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9. В каком предложении НЕ со словом пишется слит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428760" y="1643040"/>
            <a:ext cx="84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Надо было (не)спеша ехать дальш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С  середины  XIX  века  русские  ученые  (не)раз  организовывали экспедиции на вулканы Камчат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(Не)понятное поведение героя объяснено автором в последней гла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(Не)всякий способен вести себя в разговоре с малознакомыми людьми естествен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71800" y="2428920"/>
          <a:ext cx="5486400" cy="12794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1" name="TextBox 6"/>
          <p:cNvSpPr/>
          <p:nvPr/>
        </p:nvSpPr>
        <p:spPr>
          <a:xfrm>
            <a:off x="2143080" y="28584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роверьте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3857760" y="4500720"/>
            <a:ext cx="43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32523"/>
                </a:solidFill>
                <a:latin typeface="Monotype Corsiva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2"/>
          <a:srcRect l="5840" t="12252" r="0" b="51440"/>
          <a:stretch/>
        </p:blipFill>
        <p:spPr>
          <a:xfrm>
            <a:off x="500040" y="2357280"/>
            <a:ext cx="8072640" cy="2500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. В каком предложении НЕ со словами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ятно 1 9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6" descr=""/>
          <p:cNvPicPr/>
          <p:nvPr/>
        </p:nvPicPr>
        <p:blipFill>
          <a:blip r:embed="rId3"/>
          <a:srcRect l="6020" t="27835" r="2331" b="0"/>
          <a:stretch/>
        </p:blipFill>
        <p:spPr>
          <a:xfrm>
            <a:off x="642960" y="2214720"/>
            <a:ext cx="8072280" cy="2357280"/>
          </a:xfrm>
          <a:prstGeom prst="rect">
            <a:avLst/>
          </a:prstGeom>
          <a:ln w="0">
            <a:noFill/>
          </a:ln>
        </p:spPr>
      </p:pic>
      <p:sp>
        <p:nvSpPr>
          <p:cNvPr id="64" name="Пятно 1 8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3"/>
          <a:srcRect l="6383" t="13479" r="0" b="58263"/>
          <a:stretch/>
        </p:blipFill>
        <p:spPr>
          <a:xfrm>
            <a:off x="428760" y="2214720"/>
            <a:ext cx="8358120" cy="1857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. В каком предложении НЕ со словами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ятно 1 6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2"/>
          <a:srcRect l="6393" t="10199" r="1986" b="48647"/>
          <a:stretch/>
        </p:blipFill>
        <p:spPr>
          <a:xfrm>
            <a:off x="500040" y="2286000"/>
            <a:ext cx="8358120" cy="242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5. В каком предложении НЕ со словами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ятно 1 9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6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5" descr=""/>
          <p:cNvPicPr/>
          <p:nvPr/>
        </p:nvPicPr>
        <p:blipFill>
          <a:blip r:embed="rId3"/>
          <a:srcRect l="6203" t="10958" r="0" b="53035"/>
          <a:stretch/>
        </p:blipFill>
        <p:spPr>
          <a:xfrm>
            <a:off x="428760" y="2428920"/>
            <a:ext cx="842940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Пятно 1 6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"/>
          <p:cNvPicPr/>
          <p:nvPr/>
        </p:nvPicPr>
        <p:blipFill>
          <a:blip r:embed="rId3"/>
          <a:srcRect l="6208" t="9676" r="0" b="56086"/>
          <a:stretch/>
        </p:blipFill>
        <p:spPr>
          <a:xfrm>
            <a:off x="500040" y="2357280"/>
            <a:ext cx="828684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7. В каком предложении НЕ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ятно 1 6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14200" y="35712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8. В каком варианте ответа правильно указаны все цифры, на месте которых НЕ пишется слит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5" descr=""/>
          <p:cNvPicPr/>
          <p:nvPr/>
        </p:nvPicPr>
        <p:blipFill>
          <a:blip r:embed="rId3"/>
          <a:srcRect l="6383" t="15665" r="0" b="59442"/>
          <a:stretch/>
        </p:blipFill>
        <p:spPr>
          <a:xfrm>
            <a:off x="714240" y="2357280"/>
            <a:ext cx="8072640" cy="1643400"/>
          </a:xfrm>
          <a:prstGeom prst="rect">
            <a:avLst/>
          </a:prstGeom>
          <a:ln w="0">
            <a:noFill/>
          </a:ln>
        </p:spPr>
      </p:pic>
      <p:sp>
        <p:nvSpPr>
          <p:cNvPr id="94" name="Пятно 1 6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9:42:18Z</dcterms:created>
  <dc:creator>user</dc:creator>
  <dc:description/>
  <dc:language>en-US</dc:language>
  <cp:lastModifiedBy>Татьяна</cp:lastModifiedBy>
  <dcterms:modified xsi:type="dcterms:W3CDTF">2012-02-14T16:31:52Z</dcterms:modified>
  <cp:revision>24</cp:revision>
  <dc:subject/>
  <dc:title>Слайд 1</dc:title>
</cp:coreProperties>
</file>