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7E6-4719-4EAF-8FBB-86B7A3C9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6B3-ED55-4ED6-8819-E8FC5CD9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379-B9AC-48D4-B2C0-92C748C8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74F-E8DE-4D8D-AABD-E474F273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E3A-9016-47D3-BF79-FC40FFC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1F0-D650-447A-B47F-3561320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D8E-A333-4218-BC82-7F6DC4D4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F17-4BBE-4958-914B-56481957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349-36A3-450C-AFDB-5143570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1E1-2458-45B6-8B5A-78943A6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209-A210-4027-8873-441075F2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F67-FBDC-49F9-85C4-5ACBFEA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1AE1-7D72-43DD-A037-078AB114E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000400" cy="4233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2714760" y="29289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2786040" y="41432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А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8584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  <a:ea typeface="Calibri"/>
              </a:rPr>
              <a:t>Правописание НЕ и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85840" y="15001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  <a:ea typeface="Calibri"/>
              </a:rPr>
              <a:t>Тренировочные упра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9. В каком предложении НЕ со словами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285840" y="2357280"/>
            <a:ext cx="8643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0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5" descr=""/>
          <p:cNvPicPr/>
          <p:nvPr/>
        </p:nvPicPr>
        <p:blipFill>
          <a:blip r:embed="rId3"/>
          <a:srcRect l="6568" t="14312" r="0" b="46697"/>
          <a:stretch/>
        </p:blipFill>
        <p:spPr>
          <a:xfrm>
            <a:off x="357120" y="2428920"/>
            <a:ext cx="8572680" cy="2143080"/>
          </a:xfrm>
          <a:prstGeom prst="rect">
            <a:avLst/>
          </a:prstGeom>
          <a:ln w="0">
            <a:noFill/>
          </a:ln>
        </p:spPr>
      </p:pic>
      <p:sp>
        <p:nvSpPr>
          <p:cNvPr id="106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000400" cy="4233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2714760" y="29289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786040" y="41432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А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428840" y="15001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ыполните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8584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  <a:ea typeface="Calibri"/>
              </a:rPr>
              <a:t>Правописание НЕ и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1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0040" y="1857240"/>
            <a:ext cx="828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    (Не)чего было надеяться на чудо, поэтому мы так упорно готовились к предстоящим соревнованиям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    Эта задача так и (не)решена учениками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    (Не)яркое пламя в камине освещало письменный стол и картины на стенах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    А кругом на полях (не)пробудная тиш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2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28760" y="1500120"/>
            <a:ext cx="82152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1) Стая гусей, услышавших крик раненой птицы, какое-то мгновение (не)подвижно висела в воздухе, а затем начала быстро снижаться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2) По вечерам ярко горели лампы и всё пел и пел свою (не)хитрую песенку старый самовар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3) Роман с наслаждением думал о том, что ему предстоит продолжить (не)оконченную вчера работу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4) Во всех движениях молодого механика чувствовалась какая-то (не)уверенность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3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28760" y="17859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Солнце палит – дышать уже (не)ч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 следующем году И. С. Тургенев пишет рассказ о (не)состоявшейся люб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По колеям стояла ещё (не)впитанная почвой 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Почти (не)слышное журчание воды привлекло Ли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71680" y="2142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4. В каком варианте ответа правильно указаны все цифры, на месте которых пишется буква 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428760" y="171468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Ляпишев н(1) во что н(2) верил, н(3) признавал н(4)каких авторитетов и при этом н(5) только не был мрачным и скучающим человеком, но легко увлекался новыми идеям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1)    1, 4           2)    1, 2, 5           3)    2, 3          4)    4, 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5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71680" y="185724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Месяца (не)было на небе, и звёзды ярко свети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До Нового года (не)больше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Бабушка, (не)смотря на преклонный возраст, отлично видит и слыш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Серёжа (не)торопясь перевернул стра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6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17680" y="1785960"/>
            <a:ext cx="78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Со мной поздоровался (не)знакомый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сех смутили (не)проверенные слух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А.Н. Толстой умер, (не)успев дописать роман «Пётр I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(Не)лёгкий, но достойный удел ожидает наше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7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8840" y="1785960"/>
            <a:ext cx="800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Коту Тимофею (не)меньше десяти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оздух, ещё (не)ставший знойным, приятно освеж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(Не)сули журавля в небе, дай синицу в р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У Насти были (не)правильные, но приятные черты л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rcRect l="6020" t="10787" r="0" b="59339"/>
          <a:stretch/>
        </p:blipFill>
        <p:spPr>
          <a:xfrm>
            <a:off x="571680" y="2357280"/>
            <a:ext cx="8072280" cy="264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8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85840" y="185724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Наше внимание привлекла (не)высокая стройная лиственн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Только (не)сжата полоска одна, грустную думу наводит она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Публика (не)доумённо смотрела на приготовления артистов.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Когда его усадили и напоили чаем, он как будто (не)сколько успокоил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9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28760" y="164304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Надо было (не)спеша ехать да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С  середины  XIX  века  русские  ученые  (не)раз  организовывали экспедиции на вулканы Камча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(Не)понятное поведение героя объяснено автором в последней гла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(Не)всякий способен вести себя в разговоре с малознакомыми людьми естеств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71800" y="2428920"/>
          <a:ext cx="5486400" cy="12794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1" name="TextBox 6"/>
          <p:cNvSpPr/>
          <p:nvPr/>
        </p:nvSpPr>
        <p:spPr>
          <a:xfrm>
            <a:off x="2143080" y="28584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857760" y="4500720"/>
            <a:ext cx="43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32523"/>
                </a:solidFill>
                <a:latin typeface="Monotype Corsiva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rcRect l="5840" t="12252" r="0" b="51440"/>
          <a:stretch/>
        </p:blipFill>
        <p:spPr>
          <a:xfrm>
            <a:off x="500040" y="2357280"/>
            <a:ext cx="8072640" cy="2500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ятно 1 9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3"/>
          <a:srcRect l="6020" t="27835" r="2331" b="0"/>
          <a:stretch/>
        </p:blipFill>
        <p:spPr>
          <a:xfrm>
            <a:off x="642960" y="2214720"/>
            <a:ext cx="8072280" cy="2357280"/>
          </a:xfrm>
          <a:prstGeom prst="rect">
            <a:avLst/>
          </a:prstGeom>
          <a:ln w="0">
            <a:noFill/>
          </a:ln>
        </p:spPr>
      </p:pic>
      <p:sp>
        <p:nvSpPr>
          <p:cNvPr id="64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3"/>
          <a:srcRect l="6383" t="13479" r="0" b="58263"/>
          <a:stretch/>
        </p:blipFill>
        <p:spPr>
          <a:xfrm>
            <a:off x="428760" y="2214720"/>
            <a:ext cx="8358120" cy="1857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rcRect l="6393" t="10199" r="1986" b="48647"/>
          <a:stretch/>
        </p:blipFill>
        <p:spPr>
          <a:xfrm>
            <a:off x="500040" y="2286000"/>
            <a:ext cx="835812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5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ятно 1 9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6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5" descr=""/>
          <p:cNvPicPr/>
          <p:nvPr/>
        </p:nvPicPr>
        <p:blipFill>
          <a:blip r:embed="rId3"/>
          <a:srcRect l="6203" t="10958" r="0" b="53035"/>
          <a:stretch/>
        </p:blipFill>
        <p:spPr>
          <a:xfrm>
            <a:off x="428760" y="2428920"/>
            <a:ext cx="842940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3"/>
          <a:srcRect l="6208" t="9676" r="0" b="56086"/>
          <a:stretch/>
        </p:blipFill>
        <p:spPr>
          <a:xfrm>
            <a:off x="500040" y="2357280"/>
            <a:ext cx="828684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7. В каком предложении НЕ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14200" y="3571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8. В каком варианте ответа правильно указаны все цифры, на месте которых НЕ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5" descr=""/>
          <p:cNvPicPr/>
          <p:nvPr/>
        </p:nvPicPr>
        <p:blipFill>
          <a:blip r:embed="rId3"/>
          <a:srcRect l="6383" t="15665" r="0" b="59442"/>
          <a:stretch/>
        </p:blipFill>
        <p:spPr>
          <a:xfrm>
            <a:off x="714240" y="2357280"/>
            <a:ext cx="8072640" cy="1643400"/>
          </a:xfrm>
          <a:prstGeom prst="rect">
            <a:avLst/>
          </a:prstGeom>
          <a:ln w="0">
            <a:noFill/>
          </a:ln>
        </p:spPr>
      </p:pic>
      <p:sp>
        <p:nvSpPr>
          <p:cNvPr id="94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9:42:18Z</dcterms:created>
  <dc:creator>user</dc:creator>
  <dc:description/>
  <dc:language>en-US</dc:language>
  <cp:lastModifiedBy>Татьяна</cp:lastModifiedBy>
  <dcterms:modified xsi:type="dcterms:W3CDTF">2012-02-14T16:31:52Z</dcterms:modified>
  <cp:revision>24</cp:revision>
  <dc:subject/>
  <dc:title>Слайд 1</dc:title>
</cp:coreProperties>
</file>