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C01-61ED-4B88-B56C-783DE7EE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DD9-3258-487F-A975-4345A75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CEA-245E-4225-81D8-85ED9B3C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80D-09DB-4331-A846-D64BCF51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E2D-20B7-4762-B80B-6BF06DE4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8CC-6FDF-4AFE-8F4D-C8FD42B9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23C-53AC-481B-95DB-8AAE74A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1E0-0945-49CC-9AC0-BA66A55A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91C-F0D2-463C-84C4-D731862E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4E9-9C66-40C1-8335-49B70FAE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816-825B-4B9F-AEA9-EA10E94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0ED-2531-476E-A10D-2BD3725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BE41-8EAE-4249-B8BD-058431E7C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ВУКИ ВОКРУГ НА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санова Алл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«СОШ № 48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Новоураль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C:\Documents and Settings\Admin\Мои документы\Мои рисунки\MP Navigator EX\2012_09_09\IMG_0001.jpg"/>
          <p:cNvPicPr/>
          <p:nvPr/>
        </p:nvPicPr>
        <p:blipFill>
          <a:blip r:embed="rId1"/>
          <a:srcRect l="13727" t="17112" r="9445" b="24600"/>
          <a:stretch/>
        </p:blipFill>
        <p:spPr>
          <a:xfrm>
            <a:off x="1332000" y="189000"/>
            <a:ext cx="5327640" cy="5472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187280" y="573264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НЕ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C:\Documents and Settings\Admin\Мои документы\Мои рисунки\MP Navigator EX\2012_09_09\IMG_0002.jpg"/>
          <p:cNvPicPr/>
          <p:nvPr/>
        </p:nvPicPr>
        <p:blipFill>
          <a:blip r:embed="rId1"/>
          <a:srcRect l="4785" t="10429" r="16123" b="73443"/>
          <a:stretch/>
        </p:blipFill>
        <p:spPr>
          <a:xfrm>
            <a:off x="1187280" y="620640"/>
            <a:ext cx="5981760" cy="1724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468360" y="270828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484360" y="33336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alibri"/>
              </a:rPr>
              <a:t>ЗВУ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Прямая со стрелкой 3"/>
          <p:cNvCxnSpPr/>
          <p:nvPr/>
        </p:nvCxnSpPr>
        <p:spPr>
          <a:xfrm flipH="1">
            <a:off x="1618920" y="1347840"/>
            <a:ext cx="1658160" cy="10022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5"/>
          <p:cNvCxnSpPr/>
          <p:nvPr/>
        </p:nvCxnSpPr>
        <p:spPr>
          <a:xfrm>
            <a:off x="5435640" y="1267920"/>
            <a:ext cx="1224720" cy="23054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0" name="TextBox 6"/>
          <p:cNvSpPr/>
          <p:nvPr/>
        </p:nvSpPr>
        <p:spPr>
          <a:xfrm>
            <a:off x="324000" y="263700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НЕРЕЧЕВ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995640" y="422100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РЕЧЕВ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:\Documents and Settings\Admin\Мои документы\Мои рисунки\MP Navigator EX\2012_09_09\IMG_0003.jpg"/>
          <p:cNvPicPr/>
          <p:nvPr/>
        </p:nvPicPr>
        <p:blipFill>
          <a:blip r:embed="rId1"/>
          <a:srcRect l="6547" t="3832" r="21661" b="33871"/>
          <a:stretch/>
        </p:blipFill>
        <p:spPr>
          <a:xfrm>
            <a:off x="324000" y="200160"/>
            <a:ext cx="5429160" cy="665784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3"/>
          <p:cNvCxnSpPr/>
          <p:nvPr/>
        </p:nvCxnSpPr>
        <p:spPr>
          <a:xfrm>
            <a:off x="6084720" y="404280"/>
            <a:ext cx="1728000" cy="10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4" name="Прямая соединительная линия 9"/>
          <p:cNvSpPr/>
          <p:nvPr/>
        </p:nvSpPr>
        <p:spPr>
          <a:xfrm>
            <a:off x="6084720" y="620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1"/>
          <p:cNvSpPr/>
          <p:nvPr/>
        </p:nvSpPr>
        <p:spPr>
          <a:xfrm>
            <a:off x="6084720" y="836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5"/>
          <p:cNvSpPr/>
          <p:nvPr/>
        </p:nvSpPr>
        <p:spPr>
          <a:xfrm>
            <a:off x="6084720" y="1052640"/>
            <a:ext cx="1727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17"/>
          <p:cNvCxnSpPr/>
          <p:nvPr/>
        </p:nvCxnSpPr>
        <p:spPr>
          <a:xfrm>
            <a:off x="6048000" y="1557360"/>
            <a:ext cx="1080" cy="12247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8" name="Прямая соединительная линия 20"/>
          <p:cNvSpPr/>
          <p:nvPr/>
        </p:nvSpPr>
        <p:spPr>
          <a:xfrm>
            <a:off x="6300720" y="1557360"/>
            <a:ext cx="0" cy="1224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2"/>
          <p:cNvSpPr/>
          <p:nvPr/>
        </p:nvSpPr>
        <p:spPr>
          <a:xfrm>
            <a:off x="6540480" y="1557360"/>
            <a:ext cx="0" cy="125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4"/>
          <p:cNvSpPr/>
          <p:nvPr/>
        </p:nvSpPr>
        <p:spPr>
          <a:xfrm>
            <a:off x="6804000" y="1557360"/>
            <a:ext cx="0" cy="12240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31"/>
          <p:cNvCxnSpPr/>
          <p:nvPr/>
        </p:nvCxnSpPr>
        <p:spPr>
          <a:xfrm flipH="1">
            <a:off x="6300360" y="3428640"/>
            <a:ext cx="612000" cy="136908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62" name="Прямая соединительная линия 33"/>
          <p:cNvSpPr/>
          <p:nvPr/>
        </p:nvSpPr>
        <p:spPr>
          <a:xfrm flipH="1">
            <a:off x="6540120" y="3483000"/>
            <a:ext cx="647640" cy="133992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36"/>
          <p:cNvSpPr/>
          <p:nvPr/>
        </p:nvSpPr>
        <p:spPr>
          <a:xfrm flipH="1">
            <a:off x="6803640" y="3529080"/>
            <a:ext cx="647640" cy="1339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8"/>
          <p:cNvSpPr/>
          <p:nvPr/>
        </p:nvSpPr>
        <p:spPr>
          <a:xfrm flipH="1">
            <a:off x="7097760" y="3529080"/>
            <a:ext cx="642960" cy="13399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C:\Documents and Settings\Admin\Мои документы\Мои рисунки\MP Navigator EX\2012_09_09\IMG_0002.jpg"/>
          <p:cNvPicPr/>
          <p:nvPr/>
        </p:nvPicPr>
        <p:blipFill>
          <a:blip r:embed="rId1"/>
          <a:srcRect l="10833" t="27185" r="14738" b="15419"/>
          <a:stretch/>
        </p:blipFill>
        <p:spPr>
          <a:xfrm>
            <a:off x="1757520" y="189000"/>
            <a:ext cx="5190840" cy="5875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050920" y="606420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ТЕК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08:36:23Z</dcterms:created>
  <dc:creator>Admin</dc:creator>
  <dc:description/>
  <dc:language>en-US</dc:language>
  <cp:lastModifiedBy>Admin</cp:lastModifiedBy>
  <dcterms:modified xsi:type="dcterms:W3CDTF">2012-09-29T07:21:57Z</dcterms:modified>
  <cp:revision>3</cp:revision>
  <dc:subject/>
  <dc:title>Презентация PowerPoint</dc:title>
</cp:coreProperties>
</file>