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1495-CD0B-4B93-ACDA-91F32986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C43-FC22-46CB-8666-630F2D7F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710-263F-4B85-BD23-457D4787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D08-BFB6-43FB-8E1A-583AE82C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08F-A1A5-4B2F-8706-42531472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B39-7CAE-4406-B420-C0273BF6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3F8-29A4-473A-88BB-A3C2AFCE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43E-9444-47B4-A97F-F3FA70AE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F22-BB3F-46D5-8EC1-6F2ECCC7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CB1-B971-4A8A-9591-AA553401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4A4-5116-4F59-B920-8A31BB74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1E6-2A6A-4BA7-9A35-D6DBE3DF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3725-D544-415C-AD0A-AFFD7E815F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ВУКИ ВОКРУГ НА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рсанова Алла Никола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БОУ «СОШ № 48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Новоураль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C:\Documents and Settings\Admin\Мои документы\Мои рисунки\MP Navigator EX\2012_09_09\IMG_0001.jpg"/>
          <p:cNvPicPr/>
          <p:nvPr/>
        </p:nvPicPr>
        <p:blipFill>
          <a:blip r:embed="rId1"/>
          <a:srcRect l="13727" t="17112" r="9445" b="24600"/>
          <a:stretch/>
        </p:blipFill>
        <p:spPr>
          <a:xfrm>
            <a:off x="1332000" y="189000"/>
            <a:ext cx="5327640" cy="5472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187280" y="573264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НЕРЕЧЕВ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C:\Documents and Settings\Admin\Мои документы\Мои рисунки\MP Navigator EX\2012_09_09\IMG_0002.jpg"/>
          <p:cNvPicPr/>
          <p:nvPr/>
        </p:nvPicPr>
        <p:blipFill>
          <a:blip r:embed="rId1"/>
          <a:srcRect l="4785" t="10429" r="16123" b="73443"/>
          <a:stretch/>
        </p:blipFill>
        <p:spPr>
          <a:xfrm>
            <a:off x="1187280" y="620640"/>
            <a:ext cx="5981760" cy="172404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468360" y="270828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РЕЧЕВ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484360" y="333360"/>
            <a:ext cx="37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alibri"/>
              </a:rPr>
              <a:t>ЗВУ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Прямая со стрелкой 3"/>
          <p:cNvCxnSpPr/>
          <p:nvPr/>
        </p:nvCxnSpPr>
        <p:spPr>
          <a:xfrm flipH="1">
            <a:off x="1618920" y="1347840"/>
            <a:ext cx="1658160" cy="10022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Прямая со стрелкой 5"/>
          <p:cNvCxnSpPr/>
          <p:nvPr/>
        </p:nvCxnSpPr>
        <p:spPr>
          <a:xfrm>
            <a:off x="5435640" y="1267920"/>
            <a:ext cx="1224720" cy="230544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0" name="TextBox 6"/>
          <p:cNvSpPr/>
          <p:nvPr/>
        </p:nvSpPr>
        <p:spPr>
          <a:xfrm>
            <a:off x="324000" y="263700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НЕРЕЧЕВ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3995640" y="422100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ЧЕВ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C:\Documents and Settings\Admin\Мои документы\Мои рисунки\MP Navigator EX\2012_09_09\IMG_0003.jpg"/>
          <p:cNvPicPr/>
          <p:nvPr/>
        </p:nvPicPr>
        <p:blipFill>
          <a:blip r:embed="rId1"/>
          <a:srcRect l="6547" t="3832" r="21661" b="33871"/>
          <a:stretch/>
        </p:blipFill>
        <p:spPr>
          <a:xfrm>
            <a:off x="324000" y="200160"/>
            <a:ext cx="5429160" cy="6657840"/>
          </a:xfrm>
          <a:prstGeom prst="rect">
            <a:avLst/>
          </a:prstGeom>
          <a:ln w="0">
            <a:noFill/>
          </a:ln>
        </p:spPr>
      </p:pic>
      <p:cxnSp>
        <p:nvCxnSpPr>
          <p:cNvPr id="53" name="Прямая со стрелкой 3"/>
          <p:cNvCxnSpPr/>
          <p:nvPr/>
        </p:nvCxnSpPr>
        <p:spPr>
          <a:xfrm>
            <a:off x="6084720" y="404280"/>
            <a:ext cx="1728000" cy="108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4" name="Прямая соединительная линия 9"/>
          <p:cNvSpPr/>
          <p:nvPr/>
        </p:nvSpPr>
        <p:spPr>
          <a:xfrm>
            <a:off x="6084720" y="620640"/>
            <a:ext cx="17272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11"/>
          <p:cNvSpPr/>
          <p:nvPr/>
        </p:nvSpPr>
        <p:spPr>
          <a:xfrm>
            <a:off x="6084720" y="836640"/>
            <a:ext cx="17272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5"/>
          <p:cNvSpPr/>
          <p:nvPr/>
        </p:nvSpPr>
        <p:spPr>
          <a:xfrm>
            <a:off x="6084720" y="1052640"/>
            <a:ext cx="17272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17"/>
          <p:cNvCxnSpPr/>
          <p:nvPr/>
        </p:nvCxnSpPr>
        <p:spPr>
          <a:xfrm>
            <a:off x="6048000" y="1557360"/>
            <a:ext cx="1080" cy="12247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8" name="Прямая соединительная линия 20"/>
          <p:cNvSpPr/>
          <p:nvPr/>
        </p:nvSpPr>
        <p:spPr>
          <a:xfrm>
            <a:off x="6300720" y="1557360"/>
            <a:ext cx="0" cy="12240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22"/>
          <p:cNvSpPr/>
          <p:nvPr/>
        </p:nvSpPr>
        <p:spPr>
          <a:xfrm>
            <a:off x="6540480" y="1557360"/>
            <a:ext cx="0" cy="12542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24"/>
          <p:cNvSpPr/>
          <p:nvPr/>
        </p:nvSpPr>
        <p:spPr>
          <a:xfrm>
            <a:off x="6804000" y="1557360"/>
            <a:ext cx="0" cy="12240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31"/>
          <p:cNvCxnSpPr/>
          <p:nvPr/>
        </p:nvCxnSpPr>
        <p:spPr>
          <a:xfrm flipH="1">
            <a:off x="6300360" y="3428640"/>
            <a:ext cx="612000" cy="136908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62" name="Прямая соединительная линия 33"/>
          <p:cNvSpPr/>
          <p:nvPr/>
        </p:nvSpPr>
        <p:spPr>
          <a:xfrm flipH="1">
            <a:off x="6540120" y="3483000"/>
            <a:ext cx="647640" cy="133992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36"/>
          <p:cNvSpPr/>
          <p:nvPr/>
        </p:nvSpPr>
        <p:spPr>
          <a:xfrm flipH="1">
            <a:off x="6803640" y="3529080"/>
            <a:ext cx="647640" cy="13399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38"/>
          <p:cNvSpPr/>
          <p:nvPr/>
        </p:nvSpPr>
        <p:spPr>
          <a:xfrm flipH="1">
            <a:off x="7097760" y="3529080"/>
            <a:ext cx="642960" cy="13399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C:\Documents and Settings\Admin\Мои документы\Мои рисунки\MP Navigator EX\2012_09_09\IMG_0002.jpg"/>
          <p:cNvPicPr/>
          <p:nvPr/>
        </p:nvPicPr>
        <p:blipFill>
          <a:blip r:embed="rId1"/>
          <a:srcRect l="10833" t="27185" r="14738" b="15419"/>
          <a:stretch/>
        </p:blipFill>
        <p:spPr>
          <a:xfrm>
            <a:off x="1757520" y="189000"/>
            <a:ext cx="5190840" cy="5875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2050920" y="6064200"/>
            <a:ext cx="46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ТЕКС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08:36:23Z</dcterms:created>
  <dc:creator>Admin</dc:creator>
  <dc:description/>
  <dc:language>en-US</dc:language>
  <cp:lastModifiedBy>Admin</cp:lastModifiedBy>
  <dcterms:modified xsi:type="dcterms:W3CDTF">2012-09-29T07:21:57Z</dcterms:modified>
  <cp:revision>3</cp:revision>
  <dc:subject/>
  <dc:title>Презентация PowerPoint</dc:title>
</cp:coreProperties>
</file>