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00F-C818-47DD-9660-52D3E31F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779-A2D0-49C2-9D0A-953A2873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9C1-B588-40BF-8E62-232652B4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C13-0291-452C-BB10-409FF380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22F-BDE6-4A09-8D4D-2B63A368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5C5-7B52-4CC9-97EC-32BEF19B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400-8E79-44DB-AFEE-08F44E08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BD3-25D6-4455-9829-F4522ACF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6CD-C0CB-4065-8F0D-2AB2DA5E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2A1-7F9B-441E-BEDE-C0A7A4BE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E90-FED3-4802-9444-C673F8E2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A00-886F-47FE-906C-3297F34A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7E83-72BB-4CC8-90B5-3D51245207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79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11640" y="0"/>
            <a:ext cx="4932360" cy="685800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50000">
                <a:srgbClr val="ffffff"/>
              </a:gs>
              <a:gs pos="100000">
                <a:srgbClr val="9933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адная Сибирь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ая физико – географическая характери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 ты собой представляеш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 ты собой представляеш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 ты собой представляеш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 ты собой представляеш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7945560" cy="4024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80000" y="260280"/>
            <a:ext cx="5003640" cy="62506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Площадь Западно – Сибирской равнины составляет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,7 млн.кв.к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Франц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51 тыс. кв.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Итал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1тыс.кв. 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Великобрит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44 тыс. кв. 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А я и не подозревал (а)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547640" y="1125360"/>
            <a:ext cx="64008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Закончите фраз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читать текс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35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бъяснить значени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нятий: «урман», «гривы»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«колки»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28840" y="30240"/>
            <a:ext cx="448632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50000">
                <a:srgbClr val="ffffff"/>
              </a:gs>
              <a:gs pos="100000">
                <a:srgbClr val="9933ff"/>
              </a:gs>
            </a:gsLst>
            <a:lin ang="81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Закончите предложе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«Западная Сибирь – это…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где ты находишьс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 ты собой представляеш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ефть – царица полезных ископаемых,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 Западная Сибирь – её т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5443560"/>
            <a:ext cx="576108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20:24:21Z</dcterms:created>
  <dc:creator>Alex</dc:creator>
  <dc:description/>
  <dc:language>en-US</dc:language>
  <cp:lastModifiedBy>Asus</cp:lastModifiedBy>
  <dcterms:modified xsi:type="dcterms:W3CDTF">2010-04-05T13:58:28Z</dcterms:modified>
  <cp:revision>10</cp:revision>
  <dc:subject/>
  <dc:title>Западная Сибирь. Общая физико – географическая характеристика.</dc:title>
</cp:coreProperties>
</file>