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0A2-B1C5-49E9-ABC5-C3723278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D48-4657-4F9D-9BE9-89C7423B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FA3-6015-46A0-99F0-44020D78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4FE-052E-4371-83F9-187B0835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74B-1708-4FF3-BF2D-0531FD8F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F06-0DA2-437B-8E95-2D41D8F5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9E7-04D3-4ADC-B6DA-60642ABE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850-3287-474E-B0C8-4CFA6C61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CCA-5E20-448C-99EF-9F27BF31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346-FC1B-4303-95F5-9E3BDFAA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818-C562-4577-844E-65355BBA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E4D-3F5E-46FB-9527-DE32C523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99D3-0CF5-4C8F-82C1-764308F48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79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11640" y="0"/>
            <a:ext cx="4932360" cy="6858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50000">
                <a:srgbClr val="ffffff"/>
              </a:gs>
              <a:gs pos="100000">
                <a:srgbClr val="9933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адная Сибирь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ая физико – географическая характер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7945560" cy="4024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80000" y="260280"/>
            <a:ext cx="5003640" cy="62506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Площадь Западно – Сибирской равнины составляет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,7 млн.кв.к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Франц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51 тыс. кв.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Итал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1тыс.кв.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Великобрит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44 тыс. кв.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 я и не подозревал (а)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47640" y="1125360"/>
            <a:ext cx="64008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Закончите фраз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читать текс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5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бъяснить значени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нятий: «урман», «гривы»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колки»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28840" y="30240"/>
            <a:ext cx="448632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50000">
                <a:srgbClr val="ffffff"/>
              </a:gs>
              <a:gs pos="100000">
                <a:srgbClr val="9933ff"/>
              </a:gs>
            </a:gsLst>
            <a:lin ang="81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Закончите предложе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«Западная Сибирь – это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где ты находишьс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ефть – царица полезных ископаемых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 Западная Сибирь – её т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5443560"/>
            <a:ext cx="576108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0:24:21Z</dcterms:created>
  <dc:creator>Alex</dc:creator>
  <dc:description/>
  <dc:language>en-US</dc:language>
  <cp:lastModifiedBy>Asus</cp:lastModifiedBy>
  <dcterms:modified xsi:type="dcterms:W3CDTF">2010-04-05T13:58:28Z</dcterms:modified>
  <cp:revision>10</cp:revision>
  <dc:subject/>
  <dc:title>Западная Сибирь. Общая физико – географическая характеристика.</dc:title>
</cp:coreProperties>
</file>