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76B-F593-4CB6-A386-97BC1A9A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0EB-9076-4B98-B79C-9DDA9592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056-F263-4209-BB17-3B9A0847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672-5223-4462-B22F-2F7C6C7F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75F-A6C4-4CE9-8D84-A4436CA3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860-B2F9-4130-B241-9E792D1A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098-3ADF-4BDB-AAA2-76DF878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E06-C9C9-4D90-9B0B-76291E1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B1A-F281-4FB6-957E-2AE99301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0D4-292D-4989-91A3-6F39BFB7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07F-0627-44A3-8B3D-1F2ACDD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A5E-99A2-4F0C-B538-785C7082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7108-5034-4E06-A675-236E9F69D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11640" y="0"/>
            <a:ext cx="4932360" cy="6858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адная Сибирь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ая физико – географическая характе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7945560" cy="402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80000" y="260280"/>
            <a:ext cx="5003640" cy="625068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Площадь Западно – Сибирской равнины составляет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,7 млн.кв.к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Франц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51 тыс. кв.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Итал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1тыс.кв.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Великобрит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44 тыс. кв.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А я и не подозревал (а)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547640" y="1125360"/>
            <a:ext cx="64008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Закончите фраз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ть текс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5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ь значе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нятий: «урман», «гривы»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колки»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28840" y="30240"/>
            <a:ext cx="44863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50000">
                <a:srgbClr val="ffffff"/>
              </a:gs>
              <a:gs pos="100000">
                <a:srgbClr val="9933ff"/>
              </a:gs>
            </a:gsLst>
            <a:lin ang="81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Закончите предлож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«Западная Сибирь – это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где ты находишьс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Западная Сибирь,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то ты собой представляеш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фть – царица полезных ископаемых,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а Западная Сибирь – её т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ffffff"/>
            </a:gs>
            <a:gs pos="100000">
              <a:srgbClr val="99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5443560"/>
            <a:ext cx="576108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0:24:21Z</dcterms:created>
  <dc:creator>Alex</dc:creator>
  <dc:description/>
  <dc:language>en-US</dc:language>
  <cp:lastModifiedBy>Asus</cp:lastModifiedBy>
  <dcterms:modified xsi:type="dcterms:W3CDTF">2010-04-05T13:58:28Z</dcterms:modified>
  <cp:revision>10</cp:revision>
  <dc:subject/>
  <dc:title>Западная Сибирь. Общая физико – географическая характеристика.</dc:title>
</cp:coreProperties>
</file>