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12.wmf" ContentType="image/x-wmf"/>
  <Override PartName="/ppt/media/image11.jpeg" ContentType="image/jpeg"/>
  <Override PartName="/ppt/media/image8.png" ContentType="image/png"/>
  <Override PartName="/ppt/media/image6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A211-5BC0-4C9F-AC4A-522F10C5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8447-DCCB-4795-9C8A-7CA9C2A6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1541-144B-4AF6-A1CB-B3CACBC7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D3BA-F5FC-4779-A46B-747072B5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2D64-B420-4DD3-8922-5899AEF5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AFF9-92CC-4217-99E0-663867F0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526E-40D1-42B6-8782-526921FF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0C57-5678-44AD-A910-15B5BE3E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5296-3B57-4207-ACB2-3F9C86D0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C41B-1409-4627-8736-43A0CFA1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6775-8F0D-442F-81BC-02E3BDB8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2E6C-CF9D-4EC5-AF35-BA8780F8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4B78-AD8E-478F-BD01-BA78AF4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A587-37DA-4BAB-AA1F-1BB4E2D4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7895-A2FC-4162-B074-73536783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658F-4284-48BE-8AA6-A4222ED4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D29E-4AA3-485C-866D-22AA9763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500E-00FB-4674-8232-658EDC05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6F5F-7AB1-4965-BDBA-7705B3DE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6C1A-E2AE-43FA-90A0-185362A7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F95E-0676-47D8-87B2-D8F65199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8790-C859-4984-BFB9-71EF3995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2646-CA06-453D-BBCC-09CFD47F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039E-D55B-48C2-AE6A-CB96A046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D037-0F7D-4E37-B97C-85132BAF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6A1AC-BD46-4928-A843-79DBD426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621FD-4E34-41A1-99D0-F58C58E9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9BAE-DE0C-4267-85C1-27024938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485C4-7482-4C28-8F7E-B349D351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19B63-2CC3-4795-BE79-BAF92393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B4FF-B637-44BD-846F-C8612898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6D145-EADA-4D05-BD06-FF0B67A5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4AC2C-802F-44A7-B95F-629DE740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39DB-8ADD-4E5C-BE50-60555E19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76254-6156-4F97-AD03-E3839476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47313-6AEE-4EEE-B9BC-B229D7F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847A8-E903-4C84-B71A-68DA67F8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77035-30AC-4881-8033-D6B456C4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A97D-83F4-4278-9E08-68CBBCA2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B7428-C603-4F43-8ABD-0340D2F8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DB4F4-8B65-4DAF-A0CE-1674D4A2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90AEE-F362-4826-A63F-1AB0AF16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5C841-D023-4887-8B3D-0B093B5D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40B3-DE10-4455-891E-108340B7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9EE2-2926-4444-94A0-BE8A9221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7229-C935-4A7C-9D8A-2B75DD8E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A607-4DC5-4C5E-9A39-65AC4CF0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07AF-8D96-4763-ABE8-37A1CA2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F633-B433-4BF4-8FBB-BF9B59BF7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4CBB-6BCF-45B0-9190-EEA30FB6F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E3FE-EAFE-4916-9C88-C14E16454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34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131E-99D8-4156-BA55-37F2FD3B5C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his.1september.ru/urok/" TargetMode="External"/><Relationship Id="rId4" Type="http://schemas.openxmlformats.org/officeDocument/2006/relationships/hyperlink" Target="http://his.1september.ru/urok/" TargetMode="External"/><Relationship Id="rId5" Type="http://schemas.openxmlformats.org/officeDocument/2006/relationships/hyperlink" Target="http://his.1september.ru/urok/" TargetMode="External"/><Relationship Id="rId6" Type="http://schemas.openxmlformats.org/officeDocument/2006/relationships/hyperlink" Target="http://his.1september.ru/urok/" TargetMode="External"/><Relationship Id="rId7" Type="http://schemas.openxmlformats.org/officeDocument/2006/relationships/hyperlink" Target="http://his.1september.ru/urok/" TargetMode="External"/><Relationship Id="rId8" Type="http://schemas.openxmlformats.org/officeDocument/2006/relationships/hyperlink" Target="http://his.1september.ru/urok/" TargetMode="External"/><Relationship Id="rId9" Type="http://schemas.openxmlformats.org/officeDocument/2006/relationships/hyperlink" Target="http://his.1september.ru/urok/" TargetMode="External"/><Relationship Id="rId10" Type="http://schemas.openxmlformats.org/officeDocument/2006/relationships/hyperlink" Target="http://his.1september.ru/urok/" TargetMode="External"/><Relationship Id="rId11" Type="http://schemas.openxmlformats.org/officeDocument/2006/relationships/hyperlink" Target="http://his.1september.ru/urok/" TargetMode="External"/><Relationship Id="rId12" Type="http://schemas.openxmlformats.org/officeDocument/2006/relationships/hyperlink" Target="http://his.1september.ru/urok/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www.1september.ru/ru/" TargetMode="External"/><Relationship Id="rId15" Type="http://schemas.openxmlformats.org/officeDocument/2006/relationships/hyperlink" Target="http://www.1september.ru/ru/" TargetMode="External"/><Relationship Id="rId16" Type="http://schemas.openxmlformats.org/officeDocument/2006/relationships/hyperlink" Target="http://www.1september.ru/ru/" TargetMode="External"/><Relationship Id="rId17" Type="http://schemas.openxmlformats.org/officeDocument/2006/relationships/hyperlink" Target="http://www.1september.ru/ru/" TargetMode="External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ение опыта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я истории и обществозн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Лесная СО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ьяловой Натальи Александров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Нижний колонтитул 7"/>
          <p:cNvSpPr/>
          <p:nvPr/>
        </p:nvSpPr>
        <p:spPr>
          <a:xfrm>
            <a:off x="5786280" y="638316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иртуальная школа Кирилла и Мефод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7" name="Picture 8" descr="Pict0002"/>
          <p:cNvPicPr/>
          <p:nvPr/>
        </p:nvPicPr>
        <p:blipFill>
          <a:blip r:embed="rId1"/>
          <a:stretch/>
        </p:blipFill>
        <p:spPr>
          <a:xfrm>
            <a:off x="2124000" y="2727360"/>
            <a:ext cx="1524240" cy="1950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9" descr="Pict0003"/>
          <p:cNvPicPr/>
          <p:nvPr/>
        </p:nvPicPr>
        <p:blipFill>
          <a:blip r:embed="rId2"/>
          <a:stretch/>
        </p:blipFill>
        <p:spPr>
          <a:xfrm>
            <a:off x="7596360" y="4508640"/>
            <a:ext cx="1268280" cy="17859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0" descr="Pict0004"/>
          <p:cNvPicPr/>
          <p:nvPr/>
        </p:nvPicPr>
        <p:blipFill>
          <a:blip r:embed="rId3"/>
          <a:stretch/>
        </p:blipFill>
        <p:spPr>
          <a:xfrm>
            <a:off x="1116000" y="4037040"/>
            <a:ext cx="1268280" cy="16225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1" descr="Pict0005"/>
          <p:cNvPicPr/>
          <p:nvPr/>
        </p:nvPicPr>
        <p:blipFill>
          <a:blip r:embed="rId4"/>
          <a:stretch/>
        </p:blipFill>
        <p:spPr>
          <a:xfrm>
            <a:off x="4427640" y="2792520"/>
            <a:ext cx="1485720" cy="1833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2" descr="Pict0006"/>
          <p:cNvPicPr/>
          <p:nvPr/>
        </p:nvPicPr>
        <p:blipFill>
          <a:blip r:embed="rId5"/>
          <a:stretch/>
        </p:blipFill>
        <p:spPr>
          <a:xfrm>
            <a:off x="6588000" y="3716280"/>
            <a:ext cx="1381320" cy="19447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3" descr="Pict0007"/>
          <p:cNvPicPr/>
          <p:nvPr/>
        </p:nvPicPr>
        <p:blipFill>
          <a:blip r:embed="rId6"/>
          <a:stretch/>
        </p:blipFill>
        <p:spPr>
          <a:xfrm>
            <a:off x="5508720" y="2997360"/>
            <a:ext cx="1441440" cy="2028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4" descr="Pict0001"/>
          <p:cNvPicPr/>
          <p:nvPr/>
        </p:nvPicPr>
        <p:blipFill>
          <a:blip r:embed="rId7"/>
          <a:stretch/>
        </p:blipFill>
        <p:spPr>
          <a:xfrm>
            <a:off x="3419640" y="4797360"/>
            <a:ext cx="17287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КТ и современные педагогические технологии (СПТ) базируются на общем понимании изменения роли информации в образовательном процессе и общих принципах информационного взаимодействия в информационно-коммуникативной среде. Интеграция ИКТ и СПТ способна: стимулировать познавательный интерес к истории, придать учебной работе проблемный, творческий, исследовательский характер, во многом способствовать обновлению содержательной стороны предмета история, индивидуализировать процесс обучения и развивать самостоятельность учащегося 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computr3"/>
          <p:cNvSpPr/>
          <p:nvPr/>
        </p:nvSpPr>
        <p:spPr>
          <a:xfrm>
            <a:off x="395280" y="0"/>
            <a:ext cx="2266920" cy="1557360"/>
          </a:xfrm>
          <a:custGeom>
            <a:avLst/>
            <a:gdLst>
              <a:gd name="textAreaLeft" fmla="*/ 819720 w 2266920"/>
              <a:gd name="textAreaRight" fmla="*/ 1716840 w 2266920"/>
              <a:gd name="textAreaTop" fmla="*/ 186120 h 1557360"/>
              <a:gd name="textAreaBottom" fmla="*/ 848160 h 155736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Picture 6" descr=""/>
          <p:cNvPicPr/>
          <p:nvPr/>
        </p:nvPicPr>
        <p:blipFill>
          <a:blip r:embed="rId2"/>
          <a:stretch/>
        </p:blipFill>
        <p:spPr>
          <a:xfrm>
            <a:off x="8101080" y="476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7" descr=""/>
          <p:cNvPicPr/>
          <p:nvPr/>
        </p:nvPicPr>
        <p:blipFill>
          <a:blip r:embed="rId3"/>
          <a:stretch/>
        </p:blipFill>
        <p:spPr>
          <a:xfrm>
            <a:off x="7524720" y="69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8" descr="j0335112"/>
          <p:cNvPicPr/>
          <p:nvPr/>
        </p:nvPicPr>
        <p:blipFill>
          <a:blip r:embed="rId4"/>
          <a:stretch/>
        </p:blipFill>
        <p:spPr>
          <a:xfrm>
            <a:off x="4716360" y="404640"/>
            <a:ext cx="895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992" fill="hold"/>
                                        <p:tgtEl>
                                          <p:spTgt spid="6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Формы презентац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ентации для повторительно-обобщающих уроков, в том числе с использованием игровых момен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ные презентации, имеющие полноценное методическое сопровождение ур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ческие презентации как образовательный продукт уро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Учащиеся, в составе рабочих групп анализируют предложенную информацию, в том числе Интернет-ресурсы в соответствии с поставленными вопросами. Результаты деятельности оформляются ими в виде презентации. Очевидным преимуществом подобного подхода можно признать самостоятельную творческо-поисковую работу учащихся, а также вполне очевидный коллективный созидательный результа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лико значение использование возможностей Интернета  при подготовке  и на уроках исто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можно рассматривать как часть информационно - коммуникационной предметной среды, которая содержит богатейший информационный потенци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computr3"/>
          <p:cNvSpPr/>
          <p:nvPr/>
        </p:nvSpPr>
        <p:spPr>
          <a:xfrm>
            <a:off x="7020000" y="115920"/>
            <a:ext cx="2124000" cy="1584360"/>
          </a:xfrm>
          <a:custGeom>
            <a:avLst/>
            <a:gdLst>
              <a:gd name="textAreaLeft" fmla="*/ 767880 w 2124000"/>
              <a:gd name="textAreaRight" fmla="*/ 1608840 w 2124000"/>
              <a:gd name="textAreaTop" fmla="*/ 189360 h 1584360"/>
              <a:gd name="textAreaBottom" fmla="*/ 862920 h 158436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WordArt 2"/>
          <p:cNvSpPr txBox="1"/>
          <p:nvPr/>
        </p:nvSpPr>
        <p:spPr>
          <a:xfrm>
            <a:off x="1908000" y="549360"/>
            <a:ext cx="4714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Направления работы </a:t>
            </a:r>
            <a:endParaRPr b="0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 сети INTERNET</a:t>
            </a:r>
            <a:endParaRPr b="0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539640" y="1628640"/>
            <a:ext cx="7561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Подготовка учителя к ур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иск дополнительного материала (статьи, презентации, исторические документы и т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иск наглядного материала (фотографии, картины, анима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611280" y="4292640"/>
            <a:ext cx="82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амостоятельная работа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 сообщений, рефер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5">
            <a:hlinkClick r:id="" action="ppaction://hlinkshowjump?jump=endshow"/>
          </p:cNvPr>
          <p:cNvSpPr/>
          <p:nvPr/>
        </p:nvSpPr>
        <p:spPr>
          <a:xfrm>
            <a:off x="8604360" y="6093000"/>
            <a:ext cx="539640" cy="765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765000"/>
              <a:gd name="textAreaBottom" fmla="*/ 730080 h 765000"/>
            </a:gdLst>
            <a:ahLst/>
            <a:rect l="textAreaLeft" t="textAreaTop" r="textAreaRight" b="textAreaBottom"/>
            <a:pathLst>
              <a:path w="21600" h="30614">
                <a:moveTo>
                  <a:pt x="0" y="0"/>
                </a:moveTo>
                <a:lnTo>
                  <a:pt x="21600" y="0"/>
                </a:lnTo>
                <a:lnTo>
                  <a:pt x="21600" y="30614"/>
                </a:lnTo>
                <a:lnTo>
                  <a:pt x="0" y="30614"/>
                </a:lnTo>
                <a:close/>
              </a:path>
              <a:path fill="lightenLess" w="21600" h="30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14">
                <a:moveTo>
                  <a:pt x="21600" y="0"/>
                </a:moveTo>
                <a:lnTo>
                  <a:pt x="21600" y="30614"/>
                </a:lnTo>
                <a:lnTo>
                  <a:pt x="20200" y="29214"/>
                </a:lnTo>
                <a:lnTo>
                  <a:pt x="20200" y="1400"/>
                </a:lnTo>
                <a:close/>
              </a:path>
              <a:path fill="darkenLess" w="21600" h="30614">
                <a:moveTo>
                  <a:pt x="21600" y="30614"/>
                </a:moveTo>
                <a:lnTo>
                  <a:pt x="0" y="30614"/>
                </a:lnTo>
                <a:lnTo>
                  <a:pt x="1400" y="29214"/>
                </a:lnTo>
                <a:lnTo>
                  <a:pt x="20200" y="29214"/>
                </a:lnTo>
                <a:close/>
              </a:path>
              <a:path fill="lighten" w="21600" h="30614">
                <a:moveTo>
                  <a:pt x="0" y="30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14"/>
                </a:lnTo>
                <a:close/>
              </a:path>
              <a:path fill="darken" w="21600" h="30614">
                <a:moveTo>
                  <a:pt x="10800" y="8344"/>
                </a:moveTo>
                <a:lnTo>
                  <a:pt x="13376" y="10955"/>
                </a:lnTo>
                <a:lnTo>
                  <a:pt x="13376" y="9215"/>
                </a:lnTo>
                <a:lnTo>
                  <a:pt x="15152" y="9215"/>
                </a:lnTo>
                <a:lnTo>
                  <a:pt x="15152" y="12731"/>
                </a:lnTo>
                <a:lnTo>
                  <a:pt x="17763" y="15307"/>
                </a:lnTo>
                <a:lnTo>
                  <a:pt x="16109" y="15307"/>
                </a:lnTo>
                <a:lnTo>
                  <a:pt x="16109" y="22496"/>
                </a:lnTo>
                <a:lnTo>
                  <a:pt x="5491" y="22496"/>
                </a:lnTo>
                <a:lnTo>
                  <a:pt x="5491" y="15307"/>
                </a:lnTo>
                <a:lnTo>
                  <a:pt x="3837" y="15307"/>
                </a:lnTo>
                <a:close/>
              </a:path>
              <a:path fill="darkenLess" w="21600" h="30614">
                <a:moveTo>
                  <a:pt x="13376" y="10955"/>
                </a:moveTo>
                <a:lnTo>
                  <a:pt x="13376" y="9215"/>
                </a:lnTo>
                <a:lnTo>
                  <a:pt x="15152" y="9215"/>
                </a:lnTo>
                <a:lnTo>
                  <a:pt x="15152" y="12731"/>
                </a:lnTo>
                <a:close/>
              </a:path>
              <a:path fill="darkenLess" w="21600" h="30614">
                <a:moveTo>
                  <a:pt x="9877" y="18806"/>
                </a:moveTo>
                <a:lnTo>
                  <a:pt x="11723" y="18806"/>
                </a:lnTo>
                <a:lnTo>
                  <a:pt x="11723" y="22496"/>
                </a:lnTo>
                <a:lnTo>
                  <a:pt x="16109" y="22496"/>
                </a:lnTo>
                <a:lnTo>
                  <a:pt x="16109" y="15307"/>
                </a:lnTo>
                <a:lnTo>
                  <a:pt x="5491" y="15307"/>
                </a:lnTo>
                <a:lnTo>
                  <a:pt x="5491" y="22496"/>
                </a:lnTo>
                <a:lnTo>
                  <a:pt x="9877" y="2249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оложительное в Использовании ИКТ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бный материал содержится в объеме превышающем возможности традиционных видов учебной литерат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инство программ составлены с учетом психологических особенностей учащихся, обеспечивая возможность организации процесса обучения в индивидуальном темпе, используется технология уровневой дифференци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ится большой иллюстративный матери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ет возможность более углубленного изучения предм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имулирует творческую активность, через игровые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ование ИКТ может значительно облегчить работу учителя, которому не придется перед каждым уроком «разрываться» в поисках интересной информации, иллюстративного материала, письменных источников, звуковых фраг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спользование И.К.Т. на уроках истории и обществознан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9" name="Picture 2" descr="F:\IMG_4756.jpg"/>
          <p:cNvPicPr/>
          <p:nvPr/>
        </p:nvPicPr>
        <p:blipFill>
          <a:blip r:embed="rId1"/>
          <a:stretch/>
        </p:blipFill>
        <p:spPr>
          <a:xfrm>
            <a:off x="539640" y="450864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"/>
          <p:cNvPicPr/>
          <p:nvPr/>
        </p:nvPicPr>
        <p:blipFill>
          <a:blip r:embed="rId2"/>
          <a:srcRect l="14171" t="12606" r="9454" b="12606"/>
          <a:stretch/>
        </p:blipFill>
        <p:spPr>
          <a:xfrm>
            <a:off x="4788000" y="44388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"/>
          <p:cNvPicPr/>
          <p:nvPr/>
        </p:nvPicPr>
        <p:blipFill>
          <a:blip r:embed="rId3"/>
          <a:stretch/>
        </p:blipFill>
        <p:spPr>
          <a:xfrm>
            <a:off x="5435640" y="0"/>
            <a:ext cx="3168720" cy="20397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" descr=""/>
          <p:cNvPicPr/>
          <p:nvPr/>
        </p:nvPicPr>
        <p:blipFill>
          <a:blip r:embed="rId4"/>
          <a:stretch/>
        </p:blipFill>
        <p:spPr>
          <a:xfrm>
            <a:off x="971640" y="0"/>
            <a:ext cx="287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одня необходимы образованные люди, способные работать в современном мире, современном государстве, способные понимать и адекватно реагировать на постоянно изменяющееся положение человека в мире. Современный ученик должен соответствовать требованиям общества: быть высокообразованным, коммуникабельным, толерантным, владеть новыми технолог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ки хотели бы получить образование, реализовывать свои творческие способности, соответствовать требованиям современно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4" descr="j0233018"/>
          <p:cNvPicPr/>
          <p:nvPr/>
        </p:nvPicPr>
        <p:blipFill>
          <a:blip r:embed="rId3"/>
          <a:stretch/>
        </p:blipFill>
        <p:spPr>
          <a:xfrm>
            <a:off x="7164360" y="189000"/>
            <a:ext cx="1692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Цели использования ИК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елать урок современным (с точки зрения использования технических средств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близить урок к мировосприятию современного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2" descr="F:\IMG_4754.jpg"/>
          <p:cNvPicPr/>
          <p:nvPr/>
        </p:nvPicPr>
        <p:blipFill>
          <a:blip r:embed="rId3"/>
          <a:stretch/>
        </p:blipFill>
        <p:spPr>
          <a:xfrm>
            <a:off x="2916360" y="4221000"/>
            <a:ext cx="367164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Помочь учителю в:</a:t>
            </a:r>
            <a:br>
              <a:rPr sz="3200"/>
            </a:b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е знаний, умений, навы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и закрепления полученных знаний на уро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ии врем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можности эмоционально и образно подать матери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6" descr="j0301252"/>
          <p:cNvPicPr/>
          <p:nvPr/>
        </p:nvPicPr>
        <p:blipFill>
          <a:blip r:embed="rId5"/>
          <a:stretch/>
        </p:blipFill>
        <p:spPr>
          <a:xfrm>
            <a:off x="6084720" y="472428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.К.Т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интернет- ресур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йт «Я иду на урок истории» 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his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.1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7"/>
              </a:rPr>
              <a:t>september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ru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11"/>
              </a:rPr>
              <a:t>urok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12"/>
              </a:rPr>
              <a:t>/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йт издатель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1 сентября» 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15"/>
              </a:rPr>
              <a:t>://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16"/>
              </a:rPr>
              <a:t>www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17"/>
              </a:rPr>
              <a:t>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 -  и его раздел «Истор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ьютерные презен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учебных электронных пособ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рограммы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уроках  истории  и обществознания я  использую  следующ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Wo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Microsof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Power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ектр применения данных программ в учебном процессе достаточно велик. Они могут использоваться для создания наглядности, контролирующих тестов, творческих образовательных продуктов учащимися и пр. Программ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бладает большим потенциалом создания наглядно - образного представления исторического прошлого.  С помощью  этой программы  я создаю презентации к урокам  или использую готовые, находя их в Интернете. Кроме этого практикую создание презентаций самими учащими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егодняшний день существуют десятки разнообразных программ учебного назначения, размещенных н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ли в Интерне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циклопедии – предназначенные для осуществления      вспомогательной, дополняющей, иллюстрирующей функции по отношению к основному процессу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мы-репетиторы – ориентированные на заключительный этап обучения (пример: на интенсивную подготовку к экзамену).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Репетитор по истории» - это тестирующая программа для школьников и абитури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ектронные учебники являются одним из основных инструментов для регулярных систематических занятий по предмету. (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История России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»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ижний колонтитул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оропова Н.И., Заимковская О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Атлас Древнего ми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96960" y="2420640"/>
            <a:ext cx="391320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жно найти любую карту Древнего ми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учить информацию о любой культуре (богатый иллюстративный материа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ть возможность скопировать любую карту, любую статью, любую иллюстра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можете вместе с учащимися побывать на интерактивных раскопках, послушать музыку на древних инструментах, оказаться в гробнице фараона (виртуальные сцен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6" descr="атлас древнего мира"/>
          <p:cNvPicPr/>
          <p:nvPr/>
        </p:nvPicPr>
        <p:blipFill>
          <a:blip r:embed="rId1"/>
          <a:stretch/>
        </p:blipFill>
        <p:spPr>
          <a:xfrm>
            <a:off x="4795920" y="2408400"/>
            <a:ext cx="2506680" cy="2392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8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6464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18:05Z</dcterms:created>
  <dc:creator>1</dc:creator>
  <dc:description/>
  <dc:language>en-US</dc:language>
  <cp:lastModifiedBy>Коля</cp:lastModifiedBy>
  <dcterms:modified xsi:type="dcterms:W3CDTF">2013-09-05T13:16:11Z</dcterms:modified>
  <cp:revision>14</cp:revision>
  <dc:subject/>
  <dc:title>Использование И.К.Т. на уроках истории и обществознания</dc:title>
</cp:coreProperties>
</file>