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12.wmf" ContentType="image/x-wmf"/>
  <Override PartName="/ppt/media/image11.jpeg" ContentType="image/jpeg"/>
  <Override PartName="/ppt/media/image8.png" ContentType="image/png"/>
  <Override PartName="/ppt/media/image6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3838-ED11-4DFE-AA5B-E18C78DA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99EB-896A-4089-8195-6A1978F1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B32D-FD60-4304-B379-324B8441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B9F5-A5BA-41B4-87B0-C389E6A7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1F85-99E1-42B3-8654-55C3A6D9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3D45-3F0C-401D-8633-39E1C0DD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E2A2-6270-4D98-AE28-997AF98F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88FF-4A37-4918-B8FD-193476DF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9B44-3923-48C6-B499-9188DD8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5891-2657-441A-BEF2-F458CABC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056C-6B5A-45AD-B8CF-B3FB80E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B94C-6366-4E6B-B203-AE899E8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2281-3FFA-4238-AC6A-4F36159C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EECC-29AC-45D8-8D5B-38A33D5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5A05-4E9C-4423-AAE2-710EC85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7AA6-5E25-4121-B37C-374C5D8F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DEB9-E3EA-4A5A-B1F8-4013F683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FEBB-1EF1-4BD9-8B42-88ED4EA5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B3D4-3B22-4E72-8516-E40884CF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D4E50-3CBD-4934-A82B-232880F7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CBA22-574C-4232-8544-86021882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80EC-83AB-44A3-8850-8F105769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F706-159A-409D-A968-D4B4DB49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3DA8-46B0-476E-AC19-ED2A8728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67F0-ACD6-4345-A1FD-7D8F18E7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9551-1E12-4B42-A917-03FD340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38D4-19FC-4F4B-BD7D-774FAD79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AC304-D28A-4547-B3DB-39BA23D3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6C8B-8C26-4E97-95C4-F13883BB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A867-F5C5-4CF8-90A1-FF004CF4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E164F-C440-4699-AC5A-DF77FF32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771CA-954F-4D88-9F06-A9FA8105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E4BBA-325F-432E-A51E-EB90B6B4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0975-0449-401F-98AC-9C8D691E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81E6A-03A5-4F09-8259-44718A7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379A-AABC-42E1-9F37-0B00D083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938C8-E1AB-4D34-B537-21AE4C49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C3F49-5F47-4C29-AFFD-9FA5F262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130B-2DCD-49A6-A86F-4A949EE4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016B-4D52-4DD8-8E05-01BFAD6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0A50-CC78-41A1-8A4F-4AEDB675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450E1-65D7-470A-8E1F-F752D88E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FF35-B604-48CB-94FE-5DAF21C7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C8F5-2F51-47DA-8D79-6A64F921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1CDF-7E6A-4E26-9B5D-F1EEFF70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1362-386D-4A26-B1C2-C7B26AD2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C414-A962-4B15-AF02-6BDC7B51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A65D-F0FD-463F-8D19-F78D45B6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951B-8240-40C4-A358-0DAAFF35E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A0D0-F78D-4AFA-B6FD-FFADEF4DC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6EA5-4973-4E51-9A72-3864CE593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340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ABA7-DD51-4BE8-9E00-440E6FBF36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his.1september.ru/urok/" TargetMode="External"/><Relationship Id="rId4" Type="http://schemas.openxmlformats.org/officeDocument/2006/relationships/hyperlink" Target="http://his.1september.ru/urok/" TargetMode="External"/><Relationship Id="rId5" Type="http://schemas.openxmlformats.org/officeDocument/2006/relationships/hyperlink" Target="http://his.1september.ru/urok/" TargetMode="External"/><Relationship Id="rId6" Type="http://schemas.openxmlformats.org/officeDocument/2006/relationships/hyperlink" Target="http://his.1september.ru/urok/" TargetMode="External"/><Relationship Id="rId7" Type="http://schemas.openxmlformats.org/officeDocument/2006/relationships/hyperlink" Target="http://his.1september.ru/urok/" TargetMode="External"/><Relationship Id="rId8" Type="http://schemas.openxmlformats.org/officeDocument/2006/relationships/hyperlink" Target="http://his.1september.ru/urok/" TargetMode="External"/><Relationship Id="rId9" Type="http://schemas.openxmlformats.org/officeDocument/2006/relationships/hyperlink" Target="http://his.1september.ru/urok/" TargetMode="External"/><Relationship Id="rId10" Type="http://schemas.openxmlformats.org/officeDocument/2006/relationships/hyperlink" Target="http://his.1september.ru/urok/" TargetMode="External"/><Relationship Id="rId11" Type="http://schemas.openxmlformats.org/officeDocument/2006/relationships/hyperlink" Target="http://his.1september.ru/urok/" TargetMode="External"/><Relationship Id="rId12" Type="http://schemas.openxmlformats.org/officeDocument/2006/relationships/hyperlink" Target="http://his.1september.ru/urok/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1september.ru/ru/" TargetMode="External"/><Relationship Id="rId15" Type="http://schemas.openxmlformats.org/officeDocument/2006/relationships/hyperlink" Target="http://www.1september.ru/ru/" TargetMode="External"/><Relationship Id="rId16" Type="http://schemas.openxmlformats.org/officeDocument/2006/relationships/hyperlink" Target="http://www.1september.ru/ru/" TargetMode="External"/><Relationship Id="rId17" Type="http://schemas.openxmlformats.org/officeDocument/2006/relationships/hyperlink" Target="http://www.1september.ru/ru/" TargetMode="External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бщение опыта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я истории и обществозн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У Лесная С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ьяловой Натальи Александров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Нижний колонтитул 7"/>
          <p:cNvSpPr/>
          <p:nvPr/>
        </p:nvSpPr>
        <p:spPr>
          <a:xfrm>
            <a:off x="5786280" y="6383160"/>
            <a:ext cx="289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Виртуальная школа Кирилла и Мефод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7" name="Picture 8" descr="Pict0002"/>
          <p:cNvPicPr/>
          <p:nvPr/>
        </p:nvPicPr>
        <p:blipFill>
          <a:blip r:embed="rId1"/>
          <a:stretch/>
        </p:blipFill>
        <p:spPr>
          <a:xfrm>
            <a:off x="2124000" y="2727360"/>
            <a:ext cx="1524240" cy="1950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" descr="Pict0003"/>
          <p:cNvPicPr/>
          <p:nvPr/>
        </p:nvPicPr>
        <p:blipFill>
          <a:blip r:embed="rId2"/>
          <a:stretch/>
        </p:blipFill>
        <p:spPr>
          <a:xfrm>
            <a:off x="7596360" y="4508640"/>
            <a:ext cx="1268280" cy="1785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0" descr="Pict0004"/>
          <p:cNvPicPr/>
          <p:nvPr/>
        </p:nvPicPr>
        <p:blipFill>
          <a:blip r:embed="rId3"/>
          <a:stretch/>
        </p:blipFill>
        <p:spPr>
          <a:xfrm>
            <a:off x="1116000" y="4037040"/>
            <a:ext cx="1268280" cy="16225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Pict0005"/>
          <p:cNvPicPr/>
          <p:nvPr/>
        </p:nvPicPr>
        <p:blipFill>
          <a:blip r:embed="rId4"/>
          <a:stretch/>
        </p:blipFill>
        <p:spPr>
          <a:xfrm>
            <a:off x="4427640" y="2792520"/>
            <a:ext cx="1485720" cy="1833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2" descr="Pict0006"/>
          <p:cNvPicPr/>
          <p:nvPr/>
        </p:nvPicPr>
        <p:blipFill>
          <a:blip r:embed="rId5"/>
          <a:stretch/>
        </p:blipFill>
        <p:spPr>
          <a:xfrm>
            <a:off x="6588000" y="3716280"/>
            <a:ext cx="1381320" cy="1944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3" descr="Pict0007"/>
          <p:cNvPicPr/>
          <p:nvPr/>
        </p:nvPicPr>
        <p:blipFill>
          <a:blip r:embed="rId6"/>
          <a:stretch/>
        </p:blipFill>
        <p:spPr>
          <a:xfrm>
            <a:off x="5508720" y="2997360"/>
            <a:ext cx="1441440" cy="2028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4" descr="Pict0001"/>
          <p:cNvPicPr/>
          <p:nvPr/>
        </p:nvPicPr>
        <p:blipFill>
          <a:blip r:embed="rId7"/>
          <a:stretch/>
        </p:blipFill>
        <p:spPr>
          <a:xfrm>
            <a:off x="3419640" y="4797360"/>
            <a:ext cx="1728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 и современные педагогические технологии (СПТ) базируются на общем понимании изменения роли информации в образовательном процессе и общих принципах информационного взаимодействия в информационно-коммуникативной среде. Интеграция ИКТ и СПТ способна: стимулировать познавательный интерес к истории, придать учебной работе проблемный, творческий, исследовательский характер, во многом способствовать обновлению содержательной стороны предмета история, индивидуализировать процесс обучения и развивать самостоятельность учащегося 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computr3"/>
          <p:cNvSpPr/>
          <p:nvPr/>
        </p:nvSpPr>
        <p:spPr>
          <a:xfrm>
            <a:off x="395280" y="0"/>
            <a:ext cx="2266920" cy="1557360"/>
          </a:xfrm>
          <a:custGeom>
            <a:avLst/>
            <a:gdLst>
              <a:gd name="textAreaLeft" fmla="*/ 819720 w 2266920"/>
              <a:gd name="textAreaRight" fmla="*/ 1716840 w 2266920"/>
              <a:gd name="textAreaTop" fmla="*/ 186120 h 1557360"/>
              <a:gd name="textAreaBottom" fmla="*/ 848160 h 155736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2"/>
          <a:stretch/>
        </p:blipFill>
        <p:spPr>
          <a:xfrm>
            <a:off x="8101080" y="47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7" descr=""/>
          <p:cNvPicPr/>
          <p:nvPr/>
        </p:nvPicPr>
        <p:blipFill>
          <a:blip r:embed="rId3"/>
          <a:stretch/>
        </p:blipFill>
        <p:spPr>
          <a:xfrm>
            <a:off x="752472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8" descr="j0335112"/>
          <p:cNvPicPr/>
          <p:nvPr/>
        </p:nvPicPr>
        <p:blipFill>
          <a:blip r:embed="rId4"/>
          <a:stretch/>
        </p:blipFill>
        <p:spPr>
          <a:xfrm>
            <a:off x="4716360" y="404640"/>
            <a:ext cx="895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992" fill="hold"/>
                                        <p:tgtEl>
                                          <p:spTgt spid="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Формы презентаций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зентации для повторительно-обобщающих уроков, в том числе с использованием игровых момен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ьютерные презентации, имеющие полноценное методическое сопровождение ур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ческие презентации как образовательный продукт уро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Учащиеся, в составе рабочих групп анализируют предложенную информацию, в том числе Интернет-ресурсы в соответствии с поставленными вопросами. Результаты деятельности оформляются ими в виде презентации. Очевидным преимуществом подобного подхода можно признать самостоятельную творческо-поисковую работу учащихся, а также вполне очевидный коллективный созидательный результа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лико значение использование возможностей Интернета  при подготовке  и на уроках ист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можно рассматривать как часть информационно - коммуникационной предметной среды, которая содержит богатейший информационный потенци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computr3"/>
          <p:cNvSpPr/>
          <p:nvPr/>
        </p:nvSpPr>
        <p:spPr>
          <a:xfrm>
            <a:off x="7020000" y="115920"/>
            <a:ext cx="2124000" cy="1584360"/>
          </a:xfrm>
          <a:custGeom>
            <a:avLst/>
            <a:gdLst>
              <a:gd name="textAreaLeft" fmla="*/ 767880 w 2124000"/>
              <a:gd name="textAreaRight" fmla="*/ 1608840 w 2124000"/>
              <a:gd name="textAreaTop" fmla="*/ 189360 h 1584360"/>
              <a:gd name="textAreaBottom" fmla="*/ 862920 h 158436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WordArt 2"/>
          <p:cNvSpPr txBox="1"/>
          <p:nvPr/>
        </p:nvSpPr>
        <p:spPr>
          <a:xfrm>
            <a:off x="1908000" y="549360"/>
            <a:ext cx="4714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Направления работы </a:t>
            </a:r>
            <a:endParaRPr b="0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 сети INTERNET</a:t>
            </a:r>
            <a:endParaRPr b="0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539640" y="1628640"/>
            <a:ext cx="7561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одготовка учителя к у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дополнительного материала (статьи, презентации, исторические документы и т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иск наглядного материала (фотографии, картины, анима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611280" y="4292640"/>
            <a:ext cx="82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амостоятельная работа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сообщений, рефер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5">
            <a:hlinkClick r:id="" action="ppaction://hlinkshowjump?jump=endshow"/>
          </p:cNvPr>
          <p:cNvSpPr/>
          <p:nvPr/>
        </p:nvSpPr>
        <p:spPr>
          <a:xfrm>
            <a:off x="8604360" y="6093000"/>
            <a:ext cx="539640" cy="765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765000"/>
              <a:gd name="textAreaBottom" fmla="*/ 730080 h 765000"/>
            </a:gdLst>
            <a:ahLst/>
            <a:rect l="textAreaLeft" t="textAreaTop" r="textAreaRight" b="textAreaBottom"/>
            <a:pathLst>
              <a:path w="21600" h="30614">
                <a:moveTo>
                  <a:pt x="0" y="0"/>
                </a:moveTo>
                <a:lnTo>
                  <a:pt x="21600" y="0"/>
                </a:lnTo>
                <a:lnTo>
                  <a:pt x="21600" y="30614"/>
                </a:lnTo>
                <a:lnTo>
                  <a:pt x="0" y="30614"/>
                </a:lnTo>
                <a:close/>
              </a:path>
              <a:path fill="lightenLess" w="21600" h="30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14">
                <a:moveTo>
                  <a:pt x="21600" y="0"/>
                </a:moveTo>
                <a:lnTo>
                  <a:pt x="21600" y="30614"/>
                </a:lnTo>
                <a:lnTo>
                  <a:pt x="20200" y="29214"/>
                </a:lnTo>
                <a:lnTo>
                  <a:pt x="20200" y="1400"/>
                </a:lnTo>
                <a:close/>
              </a:path>
              <a:path fill="darkenLess" w="21600" h="30614">
                <a:moveTo>
                  <a:pt x="21600" y="30614"/>
                </a:moveTo>
                <a:lnTo>
                  <a:pt x="0" y="30614"/>
                </a:lnTo>
                <a:lnTo>
                  <a:pt x="1400" y="29214"/>
                </a:lnTo>
                <a:lnTo>
                  <a:pt x="20200" y="29214"/>
                </a:lnTo>
                <a:close/>
              </a:path>
              <a:path fill="lighten" w="21600" h="30614">
                <a:moveTo>
                  <a:pt x="0" y="30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14"/>
                </a:lnTo>
                <a:close/>
              </a:path>
              <a:path fill="darken" w="21600" h="30614">
                <a:moveTo>
                  <a:pt x="10800" y="8344"/>
                </a:moveTo>
                <a:lnTo>
                  <a:pt x="13376" y="10955"/>
                </a:lnTo>
                <a:lnTo>
                  <a:pt x="13376" y="9215"/>
                </a:lnTo>
                <a:lnTo>
                  <a:pt x="15152" y="9215"/>
                </a:lnTo>
                <a:lnTo>
                  <a:pt x="15152" y="12731"/>
                </a:lnTo>
                <a:lnTo>
                  <a:pt x="17763" y="15307"/>
                </a:lnTo>
                <a:lnTo>
                  <a:pt x="16109" y="15307"/>
                </a:lnTo>
                <a:lnTo>
                  <a:pt x="16109" y="22496"/>
                </a:lnTo>
                <a:lnTo>
                  <a:pt x="5491" y="22496"/>
                </a:lnTo>
                <a:lnTo>
                  <a:pt x="5491" y="15307"/>
                </a:lnTo>
                <a:lnTo>
                  <a:pt x="3837" y="15307"/>
                </a:lnTo>
                <a:close/>
              </a:path>
              <a:path fill="darkenLess" w="21600" h="30614">
                <a:moveTo>
                  <a:pt x="13376" y="10955"/>
                </a:moveTo>
                <a:lnTo>
                  <a:pt x="13376" y="9215"/>
                </a:lnTo>
                <a:lnTo>
                  <a:pt x="15152" y="9215"/>
                </a:lnTo>
                <a:lnTo>
                  <a:pt x="15152" y="12731"/>
                </a:lnTo>
                <a:close/>
              </a:path>
              <a:path fill="darkenLess" w="21600" h="30614">
                <a:moveTo>
                  <a:pt x="9877" y="18806"/>
                </a:moveTo>
                <a:lnTo>
                  <a:pt x="11723" y="18806"/>
                </a:lnTo>
                <a:lnTo>
                  <a:pt x="11723" y="22496"/>
                </a:lnTo>
                <a:lnTo>
                  <a:pt x="16109" y="22496"/>
                </a:lnTo>
                <a:lnTo>
                  <a:pt x="16109" y="15307"/>
                </a:lnTo>
                <a:lnTo>
                  <a:pt x="5491" y="15307"/>
                </a:lnTo>
                <a:lnTo>
                  <a:pt x="5491" y="22496"/>
                </a:lnTo>
                <a:lnTo>
                  <a:pt x="9877" y="2249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оложительное в Использовании ИКТ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ый материал содержится в объеме превышающем возможности традиционных видов учебной литера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инство программ составлены с учетом психологических особенностей учащихся, обеспечивая возможность организации процесса обучения в индивидуальном темпе, используется технология уровневой дифференци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ится большой иллюстративный матери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ет возможность более углубленного изучения предм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имулирует творческую активность, через игровые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ование ИКТ может значительно облегчить работу учителя, которому не придется перед каждым уроком «разрываться» в поисках интересной информации, иллюстративного материала, письменных источников, звуковых фраг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Использование И.К.Т. на уроках истории и обществознан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9" name="Picture 2" descr="F:\IMG_4756.jpg"/>
          <p:cNvPicPr/>
          <p:nvPr/>
        </p:nvPicPr>
        <p:blipFill>
          <a:blip r:embed="rId1"/>
          <a:stretch/>
        </p:blipFill>
        <p:spPr>
          <a:xfrm>
            <a:off x="539640" y="450864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rcRect l="14171" t="12606" r="9454" b="12606"/>
          <a:stretch/>
        </p:blipFill>
        <p:spPr>
          <a:xfrm>
            <a:off x="4788000" y="44388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"/>
          <p:cNvPicPr/>
          <p:nvPr/>
        </p:nvPicPr>
        <p:blipFill>
          <a:blip r:embed="rId3"/>
          <a:stretch/>
        </p:blipFill>
        <p:spPr>
          <a:xfrm>
            <a:off x="5435640" y="0"/>
            <a:ext cx="3168720" cy="20397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" descr=""/>
          <p:cNvPicPr/>
          <p:nvPr/>
        </p:nvPicPr>
        <p:blipFill>
          <a:blip r:embed="rId4"/>
          <a:stretch/>
        </p:blipFill>
        <p:spPr>
          <a:xfrm>
            <a:off x="971640" y="0"/>
            <a:ext cx="2879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одня необходимы образованные люди, способные работать в современном мире, современном государстве, способные понимать и адекватно реагировать на постоянно изменяющееся положение человека в мире. Современный ученик должен соответствовать требованиям общества: быть высокообразованным, коммуникабельным, толерантным, владеть новыми технолог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ки хотели бы получить образование, реализовывать свои творческие способности, соответствовать требованиям современно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4" descr="j0233018"/>
          <p:cNvPicPr/>
          <p:nvPr/>
        </p:nvPicPr>
        <p:blipFill>
          <a:blip r:embed="rId3"/>
          <a:stretch/>
        </p:blipFill>
        <p:spPr>
          <a:xfrm>
            <a:off x="7164360" y="189000"/>
            <a:ext cx="1692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Цели использования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елать урок современным (с точки зрения использования технических средст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близить урок к мировосприятию современного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2" descr="F:\IMG_4754.jpg"/>
          <p:cNvPicPr/>
          <p:nvPr/>
        </p:nvPicPr>
        <p:blipFill>
          <a:blip r:embed="rId3"/>
          <a:stretch/>
        </p:blipFill>
        <p:spPr>
          <a:xfrm>
            <a:off x="2916360" y="4221000"/>
            <a:ext cx="367164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Помочь учителю в:</a:t>
            </a:r>
            <a:br>
              <a:rPr sz="3200"/>
            </a:b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е знаний, умений, навы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и закрепления полученных знаний на уро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кономии време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можности эмоционально и образно подать матери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6" descr="j0301252"/>
          <p:cNvPicPr/>
          <p:nvPr/>
        </p:nvPicPr>
        <p:blipFill>
          <a:blip r:embed="rId5"/>
          <a:stretch/>
        </p:blipFill>
        <p:spPr>
          <a:xfrm>
            <a:off x="6084720" y="47242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.К.Т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интернет- ресур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йт «Я иду на урок истории» 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his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.1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september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1"/>
              </a:rPr>
              <a:t>urok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2"/>
              </a:rPr>
              <a:t>/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айт издатель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1 сентября» 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5"/>
              </a:rPr>
              <a:t>://</a:t>
            </a:r>
            <a:r>
              <a:rPr b="0" lang="en-US" sz="2400" spc="-1" strike="noStrike" u="sng">
                <a:solidFill>
                  <a:srgbClr val="9999ff"/>
                </a:solidFill>
                <a:uFillTx/>
                <a:latin typeface="Arial"/>
                <a:hlinkClick r:id="rId16"/>
              </a:rPr>
              <a:t>www</a:t>
            </a:r>
            <a:r>
              <a:rPr b="0" lang="ru-RU" sz="2400" spc="-1" strike="noStrike" u="sng">
                <a:solidFill>
                  <a:srgbClr val="9999ff"/>
                </a:solidFill>
                <a:uFillTx/>
                <a:latin typeface="Arial"/>
                <a:hlinkClick r:id="rId17"/>
              </a:rPr>
              <a:t>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/ -  и его раздел «Истор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ьютерные през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пользование учебных электронных пособ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Программы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уроках  истории  и обществознания я  использую  следующ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Wo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Microsof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Power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ектр применения данных программ в учебном процессе достаточно велик. Они могут использоваться для создания наглядности, контролирующих тестов, творческих образовательных продуктов учащимися и пр. Программ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бладает большим потенциалом создания наглядно - образного представления исторического прошлого.  С помощью  этой программы  я создаю презентации к урокам  или использую готовые, находя их в Интернете. Кроме этого практикую создание презентаций самими учащими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егодняшний день существуют десятки разнообразных программ учебного назначения, размещенных н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ли в Интерне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циклопедии – предназначенные для осуществления      вспомогательной, дополняющей, иллюстрирующей функции по отношению к основному процессу об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ы-репетиторы – ориентированные на заключительный этап обучения (пример: на интенсивную подготовку к экзамену).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Репетитор по истории» - это тестирующая программа для школьников и абитури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лектронные учебники являются одним из основных инструментов для регулярных систематических занятий по предмету. (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История России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»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ижний колонтитул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ропова Н.И., Заимковская О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Атлас Древнего ми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96960" y="2420640"/>
            <a:ext cx="391320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жно найти любую карту Древнего ми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чить информацию о любой культуре (богатый иллюстративный материа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ть возможность скопировать любую карту, любую статью, любую иллюстра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можете вместе с учащимися побывать на интерактивных раскопках, послушать музыку на древних инструментах, оказаться в гробнице фараона (виртуальные сцен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6" descr="атлас древнего мира"/>
          <p:cNvPicPr/>
          <p:nvPr/>
        </p:nvPicPr>
        <p:blipFill>
          <a:blip r:embed="rId1"/>
          <a:stretch/>
        </p:blipFill>
        <p:spPr>
          <a:xfrm>
            <a:off x="4795920" y="2408400"/>
            <a:ext cx="2506680" cy="2392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64644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18:05Z</dcterms:created>
  <dc:creator>1</dc:creator>
  <dc:description/>
  <dc:language>en-US</dc:language>
  <cp:lastModifiedBy>Коля</cp:lastModifiedBy>
  <dcterms:modified xsi:type="dcterms:W3CDTF">2013-09-05T13:16:11Z</dcterms:modified>
  <cp:revision>14</cp:revision>
  <dc:subject/>
  <dc:title>Использование И.К.Т. на уроках истории и обществознания</dc:title>
</cp:coreProperties>
</file>