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12.wmf" ContentType="image/x-wmf"/>
  <Override PartName="/ppt/media/image11.jpeg" ContentType="image/jpeg"/>
  <Override PartName="/ppt/media/image8.png" ContentType="image/png"/>
  <Override PartName="/ppt/media/image6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C4A8-4EA0-4531-B2D4-DC07E5DD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B451-A3C5-4B55-BE1C-270EB724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A09A-9F93-4B28-8224-5B9DBDA2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8F53-CBE4-41FC-8C2C-AC19E8B6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A4E0-9DE4-4F02-82BA-8064C00F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4D73-E26F-45CD-A9C5-711B8868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9BAC-D4F5-4A85-89BF-1920C07C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4045-A757-4DF8-8ADC-3CE6B6C6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7B38-A538-43B6-A684-949977D3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10C7-9ABD-42C6-ABF6-EB2CCAC9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5A33-E9D1-4380-81D7-8FEEC4BD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FC23-D48A-466A-8CD9-1D7DFCC6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60D1-386D-4F81-87B9-ED884D6E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2913-5335-4E5E-8D8D-EFD8730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DF76-3C0D-496D-892F-20E27529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6DFD-470A-4746-8E69-16B6857E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7C24-609A-43AF-A6C6-A5D20410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B3F0-51FC-4F0B-999F-342DC0BB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5F13-828B-4FA7-9C49-A31DA17F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818D-DD63-43CD-ABA3-76202DDA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9FF2-C759-4740-A78C-0446A97F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4517-EEE5-42EF-9543-1B42D0A9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4E64-EB00-400C-8A32-E1DD7FAA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DA8A-5F91-489D-B102-3BD89FFB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FF7D-69B8-4BBE-BBB2-85CF52B0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799C-570F-4F8A-960F-C23FFAC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302E-2E06-4AE7-99F0-B21FA9B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2D548-4A8D-43FC-B42F-1A2DFB04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6AE64-1CEC-47DC-BB5B-341421AA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EED1B-17B3-4139-A1D4-9B78F753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4ADC-4828-4A2E-AB4B-C2E623B7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246B-1AB3-4D03-9D7B-FD8ECCB4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06C48-4D1F-493B-8676-73F10EA0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3E6A-A5BE-4975-AE61-A3C9CCB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B113-0857-43FF-8AC1-05F50584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3D2B-59EA-455F-977B-5392265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5A672-6C44-480D-A641-8E900BF8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FE10-B37A-4B1C-8769-A0C55405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9BB3B-89B9-4904-8D6C-49611E78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83EF-5F28-4211-BBE8-D275B32A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15CF0-898B-48C5-BFB5-7C45F060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9BBF-8C9D-4ACA-A4E3-EF5FD770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AF50-EA94-41EB-A99F-14B327CA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9D95-229B-48F4-BFD4-1D3E17C5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D59F-2BE0-4464-B881-B357C779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1F85-1391-4078-970A-804063C5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B872-2040-4491-B70B-22DE0CF4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CDB8-F0F3-4C85-BF77-CE16F79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6121-E9C3-4BAB-A80D-6846B9E79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E27F-5352-41A1-9658-DFF672907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61CE-2F53-4023-AFF3-65C46BED1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34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37C-11AA-4EFC-961A-2556FC7CDD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his.1september.ru/urok/" TargetMode="External"/><Relationship Id="rId4" Type="http://schemas.openxmlformats.org/officeDocument/2006/relationships/hyperlink" Target="http://his.1september.ru/urok/" TargetMode="External"/><Relationship Id="rId5" Type="http://schemas.openxmlformats.org/officeDocument/2006/relationships/hyperlink" Target="http://his.1september.ru/urok/" TargetMode="External"/><Relationship Id="rId6" Type="http://schemas.openxmlformats.org/officeDocument/2006/relationships/hyperlink" Target="http://his.1september.ru/urok/" TargetMode="External"/><Relationship Id="rId7" Type="http://schemas.openxmlformats.org/officeDocument/2006/relationships/hyperlink" Target="http://his.1september.ru/urok/" TargetMode="External"/><Relationship Id="rId8" Type="http://schemas.openxmlformats.org/officeDocument/2006/relationships/hyperlink" Target="http://his.1september.ru/urok/" TargetMode="External"/><Relationship Id="rId9" Type="http://schemas.openxmlformats.org/officeDocument/2006/relationships/hyperlink" Target="http://his.1september.ru/urok/" TargetMode="External"/><Relationship Id="rId10" Type="http://schemas.openxmlformats.org/officeDocument/2006/relationships/hyperlink" Target="http://his.1september.ru/urok/" TargetMode="External"/><Relationship Id="rId11" Type="http://schemas.openxmlformats.org/officeDocument/2006/relationships/hyperlink" Target="http://his.1september.ru/urok/" TargetMode="External"/><Relationship Id="rId12" Type="http://schemas.openxmlformats.org/officeDocument/2006/relationships/hyperlink" Target="http://his.1september.ru/urok/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1september.ru/ru/" TargetMode="External"/><Relationship Id="rId15" Type="http://schemas.openxmlformats.org/officeDocument/2006/relationships/hyperlink" Target="http://www.1september.ru/ru/" TargetMode="External"/><Relationship Id="rId16" Type="http://schemas.openxmlformats.org/officeDocument/2006/relationships/hyperlink" Target="http://www.1september.ru/ru/" TargetMode="External"/><Relationship Id="rId17" Type="http://schemas.openxmlformats.org/officeDocument/2006/relationships/hyperlink" Target="http://www.1september.ru/ru/" TargetMode="External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опыта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я истории и обществозн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Лесная С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ьяловой Натальи Александров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ижний колонтитул 7"/>
          <p:cNvSpPr/>
          <p:nvPr/>
        </p:nvSpPr>
        <p:spPr>
          <a:xfrm>
            <a:off x="578628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ртуальная школа Кирилла и Мефод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7" name="Picture 8" descr="Pict0002"/>
          <p:cNvPicPr/>
          <p:nvPr/>
        </p:nvPicPr>
        <p:blipFill>
          <a:blip r:embed="rId1"/>
          <a:stretch/>
        </p:blipFill>
        <p:spPr>
          <a:xfrm>
            <a:off x="2124000" y="2727360"/>
            <a:ext cx="1524240" cy="1950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" descr="Pict0003"/>
          <p:cNvPicPr/>
          <p:nvPr/>
        </p:nvPicPr>
        <p:blipFill>
          <a:blip r:embed="rId2"/>
          <a:stretch/>
        </p:blipFill>
        <p:spPr>
          <a:xfrm>
            <a:off x="7596360" y="4508640"/>
            <a:ext cx="1268280" cy="1785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0" descr="Pict0004"/>
          <p:cNvPicPr/>
          <p:nvPr/>
        </p:nvPicPr>
        <p:blipFill>
          <a:blip r:embed="rId3"/>
          <a:stretch/>
        </p:blipFill>
        <p:spPr>
          <a:xfrm>
            <a:off x="1116000" y="4037040"/>
            <a:ext cx="1268280" cy="1622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Pict0005"/>
          <p:cNvPicPr/>
          <p:nvPr/>
        </p:nvPicPr>
        <p:blipFill>
          <a:blip r:embed="rId4"/>
          <a:stretch/>
        </p:blipFill>
        <p:spPr>
          <a:xfrm>
            <a:off x="4427640" y="2792520"/>
            <a:ext cx="1485720" cy="1833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2" descr="Pict0006"/>
          <p:cNvPicPr/>
          <p:nvPr/>
        </p:nvPicPr>
        <p:blipFill>
          <a:blip r:embed="rId5"/>
          <a:stretch/>
        </p:blipFill>
        <p:spPr>
          <a:xfrm>
            <a:off x="6588000" y="3716280"/>
            <a:ext cx="1381320" cy="1944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3" descr="Pict0007"/>
          <p:cNvPicPr/>
          <p:nvPr/>
        </p:nvPicPr>
        <p:blipFill>
          <a:blip r:embed="rId6"/>
          <a:stretch/>
        </p:blipFill>
        <p:spPr>
          <a:xfrm>
            <a:off x="5508720" y="2997360"/>
            <a:ext cx="1441440" cy="2028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4" descr="Pict0001"/>
          <p:cNvPicPr/>
          <p:nvPr/>
        </p:nvPicPr>
        <p:blipFill>
          <a:blip r:embed="rId7"/>
          <a:stretch/>
        </p:blipFill>
        <p:spPr>
          <a:xfrm>
            <a:off x="3419640" y="4797360"/>
            <a:ext cx="1728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 и современные педагогические технологии (СПТ) базируются на общем понимании изменения роли информации в образовательном процессе и общих принципах информационного взаимодействия в информационно-коммуникативной среде. Интеграция ИКТ и СПТ способна: стимулировать познавательный интерес к истории, придать учебной работе проблемный, творческий, исследовательский характер, во многом способствовать обновлению содержательной стороны предмета история, индивидуализировать процесс обучения и развивать самостоятельность учащегося 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computr3"/>
          <p:cNvSpPr/>
          <p:nvPr/>
        </p:nvSpPr>
        <p:spPr>
          <a:xfrm>
            <a:off x="395280" y="0"/>
            <a:ext cx="2266920" cy="1557360"/>
          </a:xfrm>
          <a:custGeom>
            <a:avLst/>
            <a:gdLst>
              <a:gd name="textAreaLeft" fmla="*/ 819720 w 2266920"/>
              <a:gd name="textAreaRight" fmla="*/ 1716840 w 2266920"/>
              <a:gd name="textAreaTop" fmla="*/ 186120 h 1557360"/>
              <a:gd name="textAreaBottom" fmla="*/ 848160 h 155736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2"/>
          <a:stretch/>
        </p:blipFill>
        <p:spPr>
          <a:xfrm>
            <a:off x="8101080" y="47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7" descr=""/>
          <p:cNvPicPr/>
          <p:nvPr/>
        </p:nvPicPr>
        <p:blipFill>
          <a:blip r:embed="rId3"/>
          <a:stretch/>
        </p:blipFill>
        <p:spPr>
          <a:xfrm>
            <a:off x="752472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8" descr="j0335112"/>
          <p:cNvPicPr/>
          <p:nvPr/>
        </p:nvPicPr>
        <p:blipFill>
          <a:blip r:embed="rId4"/>
          <a:stretch/>
        </p:blipFill>
        <p:spPr>
          <a:xfrm>
            <a:off x="4716360" y="40464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992" fill="hold"/>
                                        <p:tgtEl>
                                          <p:spTgt spid="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Формы презентац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ентации для повторительно-обобщающих уроков, в том числе с использованием игровых момен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ые презентации, имеющие полноценное методическое сопровождение ур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ческие презентации как образовательный продукт уро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Учащиеся, в составе рабочих групп анализируют предложенную информацию, в том числе Интернет-ресурсы в соответствии с поставленными вопросами. Результаты деятельности оформляются ими в виде презентации. Очевидным преимуществом подобного подхода можно признать самостоятельную творческо-поисковую работу учащихся, а также вполне очевидный коллективный созидательный результа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лико значение использование возможностей Интернета  при подготовке  и на уроках ист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можно рассматривать как часть информационно - коммуникационной предметной среды, которая содержит богатейший информационный потенци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computr3"/>
          <p:cNvSpPr/>
          <p:nvPr/>
        </p:nvSpPr>
        <p:spPr>
          <a:xfrm>
            <a:off x="7020000" y="115920"/>
            <a:ext cx="2124000" cy="1584360"/>
          </a:xfrm>
          <a:custGeom>
            <a:avLst/>
            <a:gdLst>
              <a:gd name="textAreaLeft" fmla="*/ 767880 w 2124000"/>
              <a:gd name="textAreaRight" fmla="*/ 1608840 w 2124000"/>
              <a:gd name="textAreaTop" fmla="*/ 189360 h 1584360"/>
              <a:gd name="textAreaBottom" fmla="*/ 862920 h 158436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2"/>
          <p:cNvSpPr txBox="1"/>
          <p:nvPr/>
        </p:nvSpPr>
        <p:spPr>
          <a:xfrm>
            <a:off x="1908000" y="549360"/>
            <a:ext cx="4714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Направления работы </a:t>
            </a:r>
            <a:endParaRPr b="0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 сети INTERNET</a:t>
            </a:r>
            <a:endParaRPr b="0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539640" y="1628640"/>
            <a:ext cx="7561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одготовка учителя к у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дополнительного материала (статьи, презентации, исторические документы и т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наглядного материала (фотографии, картины, анима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611280" y="4292640"/>
            <a:ext cx="82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амостоятельная работа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сообщений, рефер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5">
            <a:hlinkClick r:id="" action="ppaction://hlinkshowjump?jump=endshow"/>
          </p:cNvPr>
          <p:cNvSpPr/>
          <p:nvPr/>
        </p:nvSpPr>
        <p:spPr>
          <a:xfrm>
            <a:off x="8604360" y="6093000"/>
            <a:ext cx="539640" cy="765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765000"/>
              <a:gd name="textAreaBottom" fmla="*/ 730080 h 765000"/>
            </a:gdLst>
            <a:ahLst/>
            <a:rect l="textAreaLeft" t="textAreaTop" r="textAreaRight" b="textAreaBottom"/>
            <a:pathLst>
              <a:path w="21600" h="30614">
                <a:moveTo>
                  <a:pt x="0" y="0"/>
                </a:moveTo>
                <a:lnTo>
                  <a:pt x="21600" y="0"/>
                </a:lnTo>
                <a:lnTo>
                  <a:pt x="21600" y="30614"/>
                </a:lnTo>
                <a:lnTo>
                  <a:pt x="0" y="30614"/>
                </a:lnTo>
                <a:close/>
              </a:path>
              <a:path fill="lightenLess" w="21600" h="30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14">
                <a:moveTo>
                  <a:pt x="21600" y="0"/>
                </a:moveTo>
                <a:lnTo>
                  <a:pt x="21600" y="30614"/>
                </a:lnTo>
                <a:lnTo>
                  <a:pt x="20200" y="29214"/>
                </a:lnTo>
                <a:lnTo>
                  <a:pt x="20200" y="1400"/>
                </a:lnTo>
                <a:close/>
              </a:path>
              <a:path fill="darkenLess" w="21600" h="30614">
                <a:moveTo>
                  <a:pt x="21600" y="30614"/>
                </a:moveTo>
                <a:lnTo>
                  <a:pt x="0" y="30614"/>
                </a:lnTo>
                <a:lnTo>
                  <a:pt x="1400" y="29214"/>
                </a:lnTo>
                <a:lnTo>
                  <a:pt x="20200" y="29214"/>
                </a:lnTo>
                <a:close/>
              </a:path>
              <a:path fill="lighten" w="21600" h="30614">
                <a:moveTo>
                  <a:pt x="0" y="30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14"/>
                </a:lnTo>
                <a:close/>
              </a:path>
              <a:path fill="darken" w="21600" h="30614">
                <a:moveTo>
                  <a:pt x="10800" y="8344"/>
                </a:moveTo>
                <a:lnTo>
                  <a:pt x="13376" y="10955"/>
                </a:lnTo>
                <a:lnTo>
                  <a:pt x="13376" y="9215"/>
                </a:lnTo>
                <a:lnTo>
                  <a:pt x="15152" y="9215"/>
                </a:lnTo>
                <a:lnTo>
                  <a:pt x="15152" y="12731"/>
                </a:lnTo>
                <a:lnTo>
                  <a:pt x="17763" y="15307"/>
                </a:lnTo>
                <a:lnTo>
                  <a:pt x="16109" y="15307"/>
                </a:lnTo>
                <a:lnTo>
                  <a:pt x="16109" y="22496"/>
                </a:lnTo>
                <a:lnTo>
                  <a:pt x="5491" y="22496"/>
                </a:lnTo>
                <a:lnTo>
                  <a:pt x="5491" y="15307"/>
                </a:lnTo>
                <a:lnTo>
                  <a:pt x="3837" y="15307"/>
                </a:lnTo>
                <a:close/>
              </a:path>
              <a:path fill="darkenLess" w="21600" h="30614">
                <a:moveTo>
                  <a:pt x="13376" y="10955"/>
                </a:moveTo>
                <a:lnTo>
                  <a:pt x="13376" y="9215"/>
                </a:lnTo>
                <a:lnTo>
                  <a:pt x="15152" y="9215"/>
                </a:lnTo>
                <a:lnTo>
                  <a:pt x="15152" y="12731"/>
                </a:lnTo>
                <a:close/>
              </a:path>
              <a:path fill="darkenLess" w="21600" h="30614">
                <a:moveTo>
                  <a:pt x="9877" y="18806"/>
                </a:moveTo>
                <a:lnTo>
                  <a:pt x="11723" y="18806"/>
                </a:lnTo>
                <a:lnTo>
                  <a:pt x="11723" y="22496"/>
                </a:lnTo>
                <a:lnTo>
                  <a:pt x="16109" y="22496"/>
                </a:lnTo>
                <a:lnTo>
                  <a:pt x="16109" y="15307"/>
                </a:lnTo>
                <a:lnTo>
                  <a:pt x="5491" y="15307"/>
                </a:lnTo>
                <a:lnTo>
                  <a:pt x="5491" y="22496"/>
                </a:lnTo>
                <a:lnTo>
                  <a:pt x="9877" y="2249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оложительное в Использовании ИКТ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ый материал содержится в объеме превышающем возможности традиционных видов учебной литера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инство программ составлены с учетом психологических особенностей учащихся, обеспечивая возможность организации процесса обучения в индивидуальном темпе, используется технология уровневой дифференци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ится большой иллюстративный матери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ет возможность более углубленного изучения предм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имулирует творческую активность, через игровые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ние ИКТ может значительно облегчить работу учителя, которому не придется перед каждым уроком «разрываться» в поисках интересной информации, иллюстративного материала, письменных источников, звуковых фраг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спользование И.К.Т. на уроках истории и обществознан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9" name="Picture 2" descr="F:\IMG_4756.jpg"/>
          <p:cNvPicPr/>
          <p:nvPr/>
        </p:nvPicPr>
        <p:blipFill>
          <a:blip r:embed="rId1"/>
          <a:stretch/>
        </p:blipFill>
        <p:spPr>
          <a:xfrm>
            <a:off x="539640" y="45086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rcRect l="14171" t="12606" r="9454" b="12606"/>
          <a:stretch/>
        </p:blipFill>
        <p:spPr>
          <a:xfrm>
            <a:off x="4788000" y="44388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"/>
          <p:cNvPicPr/>
          <p:nvPr/>
        </p:nvPicPr>
        <p:blipFill>
          <a:blip r:embed="rId3"/>
          <a:stretch/>
        </p:blipFill>
        <p:spPr>
          <a:xfrm>
            <a:off x="5435640" y="0"/>
            <a:ext cx="3168720" cy="20397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"/>
          <p:cNvPicPr/>
          <p:nvPr/>
        </p:nvPicPr>
        <p:blipFill>
          <a:blip r:embed="rId4"/>
          <a:stretch/>
        </p:blipFill>
        <p:spPr>
          <a:xfrm>
            <a:off x="971640" y="0"/>
            <a:ext cx="287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одня необходимы образованные люди, способные работать в современном мире, современном государстве, способные понимать и адекватно реагировать на постоянно изменяющееся положение человека в мире. Современный ученик должен соответствовать требованиям общества: быть высокообразованным, коммуникабельным, толерантным, владеть новыми технолог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ки хотели бы получить образование, реализовывать свои творческие способности, соответствовать требованиям современно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4" descr="j0233018"/>
          <p:cNvPicPr/>
          <p:nvPr/>
        </p:nvPicPr>
        <p:blipFill>
          <a:blip r:embed="rId3"/>
          <a:stretch/>
        </p:blipFill>
        <p:spPr>
          <a:xfrm>
            <a:off x="7164360" y="189000"/>
            <a:ext cx="1692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Цели использования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елать урок современным (с точки зрения использования технических средст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близить урок к мировосприятию современного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2" descr="F:\IMG_4754.jpg"/>
          <p:cNvPicPr/>
          <p:nvPr/>
        </p:nvPicPr>
        <p:blipFill>
          <a:blip r:embed="rId3"/>
          <a:stretch/>
        </p:blipFill>
        <p:spPr>
          <a:xfrm>
            <a:off x="2916360" y="4221000"/>
            <a:ext cx="367164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Помочь учителю в:</a:t>
            </a:r>
            <a:br>
              <a:rPr sz="3200"/>
            </a:b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е знаний, умений, навы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и закрепления полученных знаний на уро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и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ости эмоционально и образно подать матери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6" descr="j0301252"/>
          <p:cNvPicPr/>
          <p:nvPr/>
        </p:nvPicPr>
        <p:blipFill>
          <a:blip r:embed="rId5"/>
          <a:stretch/>
        </p:blipFill>
        <p:spPr>
          <a:xfrm>
            <a:off x="6084720" y="47242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.К.Т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интернет- ресур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йт «Я иду на урок истории» 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his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.1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september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1"/>
              </a:rPr>
              <a:t>urok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2"/>
              </a:rPr>
              <a:t>/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йт издатель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1 сентября» 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5"/>
              </a:rPr>
              <a:t>://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6"/>
              </a:rPr>
              <a:t>www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7"/>
              </a:rPr>
              <a:t>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 -  и его раздел «Истор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ьютерные през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учебных электронных пособ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ограммы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уроках  истории  и обществознания я  использую  следующ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Wo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icrosof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Power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ектр применения данных программ в учебном процессе достаточно велик. Они могут использоваться для создания наглядности, контролирующих тестов, творческих образовательных продуктов учащимися и пр. Программ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бладает большим потенциалом создания наглядно - образного представления исторического прошлого.  С помощью  этой программы  я создаю презентации к урокам  или использую готовые, находя их в Интернете. Кроме этого практикую создание презентаций самими учащими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егодняшний день существуют десятки разнообразных программ учебного назначения, размещенных н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ли в Интерне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циклопедии – предназначенные для осуществления      вспомогательной, дополняющей, иллюстрирующей функции по отношению к основному процессу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ы-репетиторы – ориентированные на заключительный этап обучения (пример: на интенсивную подготовку к экзамену).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Репетитор по истории» - это тестирующая программа для школьников и абитури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ктронные учебники являются одним из основных инструментов для регулярных систематических занятий по предмету. (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История России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»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ижний колонтитул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ропова Н.И., Заимковская О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тлас Древнего ми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96960" y="2420640"/>
            <a:ext cx="391320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жно найти любую карту Древнего ми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чить информацию о любой культуре (богатый иллюстративный материа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ть возможность скопировать любую карту, любую статью, любую иллюстра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вместе с учащимися побывать на интерактивных раскопках, послушать музыку на древних инструментах, оказаться в гробнице фараона (виртуальные сцен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6" descr="атлас древнего мира"/>
          <p:cNvPicPr/>
          <p:nvPr/>
        </p:nvPicPr>
        <p:blipFill>
          <a:blip r:embed="rId1"/>
          <a:stretch/>
        </p:blipFill>
        <p:spPr>
          <a:xfrm>
            <a:off x="4795920" y="2408400"/>
            <a:ext cx="2506680" cy="2392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6464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18:05Z</dcterms:created>
  <dc:creator>1</dc:creator>
  <dc:description/>
  <dc:language>en-US</dc:language>
  <cp:lastModifiedBy>Коля</cp:lastModifiedBy>
  <dcterms:modified xsi:type="dcterms:W3CDTF">2013-09-05T13:16:11Z</dcterms:modified>
  <cp:revision>14</cp:revision>
  <dc:subject/>
  <dc:title>Использование И.К.Т. на уроках истории и обществознания</dc:title>
</cp:coreProperties>
</file>