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3F5-500B-4645-9991-D713B8DF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A32-6198-4B31-A626-C916CB09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01B-756B-4307-803C-CD61B2D0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60D-E6CF-4D4A-A981-5713B3B8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1084-5F66-4466-86A0-232A5AE6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AB41-7F64-4DD3-A45A-F6991174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3F6C-4E46-4793-A2E1-39DB224F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3132-CFA8-47DE-91DB-1D1C5976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F156-C1B3-4494-A7CD-48DC047C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04CC-1C94-41D5-92D4-30A7B8D6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11C6-9686-4B49-B17D-D2157776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31B-1149-4C62-BA0F-337C9995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F957-CFA6-4626-B88B-C9A57F3C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26EA-19D7-48E4-AA33-04012BBF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E739-138F-4C9C-91C9-B9ED46BA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83DA-1129-4990-B54C-81A583CD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71A0-5074-42F5-8006-3F07EC96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2C1-D0D6-422B-A493-4B0BC66D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F50-9094-4EB3-ACF8-86D0EC01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498-C2B9-4F31-809C-6AF6858F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973-FCFC-47A6-AC89-5998A381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945-E9E2-4EC2-93E0-D56CBC3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2AD-24E1-4226-AE87-3454703C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CC1-2583-4AF2-9952-17BDB1A1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A7EC-0923-45A3-99D4-35CE57B13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7CB6-962E-4CE3-93F4-71A01992E4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1" lang="ru-RU" sz="6000" spc="-1" strike="noStrike">
                <a:solidFill>
                  <a:srgbClr val="ccecff"/>
                </a:solidFill>
                <a:latin typeface="Georgia"/>
              </a:rPr>
              <a:t>Детские и лицейские годы А.С. Пушкин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новская Н. И. Всесоюзный музей А. С. Пушкина: Очерк-путеводитель. – Л: Лениздат, 1985. – 208 с., и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шкинский альманах // Народное образование. – 1999. – 350 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кашин А. А., Черкашина Л. А. Тысячелетнее древо А. С. Пушкина: корни и крона. М.: Либерия, 1998. – 200 с., ил. + карта-схема + справочник-указатель имё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8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Google.r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тин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419360" y="167652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Александр Сергеевич 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ушки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родился в Москве 26 мая ( 6 июня ) 1799 год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rcRect l="33867" t="23235" r="32639" b="21533"/>
          <a:stretch/>
        </p:blipFill>
        <p:spPr>
          <a:xfrm>
            <a:off x="533520" y="1371600"/>
            <a:ext cx="374472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pushkina_n_o_h168[1]"/>
          <p:cNvPicPr/>
          <p:nvPr/>
        </p:nvPicPr>
        <p:blipFill>
          <a:blip r:embed="rId1"/>
          <a:stretch/>
        </p:blipFill>
        <p:spPr>
          <a:xfrm>
            <a:off x="4648320" y="1447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5257800" y="5335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ать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адежда Осиповна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066680" y="4572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ец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Сергей Львович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809880" cy="48765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876920" y="609120"/>
            <a:ext cx="4114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Род  Пушкиных уходил корнями в глубокую древность. Его прадед, Абрам Петрович Ганнибал, был сподвижником Петра Первого, но не только, он был его приемным сыном и воспитанник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3" descr="прадедушка"/>
          <p:cNvPicPr/>
          <p:nvPr/>
        </p:nvPicPr>
        <p:blipFill>
          <a:blip r:embed="rId1"/>
          <a:stretch/>
        </p:blipFill>
        <p:spPr>
          <a:xfrm>
            <a:off x="304920" y="609480"/>
            <a:ext cx="4448160" cy="58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бабушка"/>
          <p:cNvPicPr/>
          <p:nvPr/>
        </p:nvPicPr>
        <p:blipFill>
          <a:blip r:embed="rId1"/>
          <a:stretch/>
        </p:blipFill>
        <p:spPr>
          <a:xfrm>
            <a:off x="609480" y="1600200"/>
            <a:ext cx="3421080" cy="4334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Scan10001"/>
          <p:cNvPicPr/>
          <p:nvPr/>
        </p:nvPicPr>
        <p:blipFill>
          <a:blip r:embed="rId2"/>
          <a:stretch/>
        </p:blipFill>
        <p:spPr>
          <a:xfrm>
            <a:off x="4800600" y="1600200"/>
            <a:ext cx="3309840" cy="42670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1143000" y="762120"/>
            <a:ext cx="2666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абушка  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ария Алексеев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2880" y="68580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яня 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Арина Родионовна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4800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ы помните, когда возник Лиц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ак царь для нас открыл чертог Царицы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 мы пришли. И встретил нас Куницын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…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selo1[1]"/>
          <p:cNvPicPr/>
          <p:nvPr/>
        </p:nvPicPr>
        <p:blipFill>
          <a:blip r:embed="rId1"/>
          <a:stretch/>
        </p:blipFill>
        <p:spPr>
          <a:xfrm>
            <a:off x="1143000" y="457200"/>
            <a:ext cx="6629400" cy="38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723920" y="12952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19 октября 18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оржественно откры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Царскосельский лиц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 актовом зале собралась царская семья с государем, чиновники, преподаватели, гувернеры и 30 воспитанников, среди них юный  Пушк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foto6[1]"/>
          <p:cNvPicPr/>
          <p:nvPr/>
        </p:nvPicPr>
        <p:blipFill>
          <a:blip r:embed="rId1"/>
          <a:stretch/>
        </p:blipFill>
        <p:spPr>
          <a:xfrm>
            <a:off x="533520" y="1143000"/>
            <a:ext cx="3771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Georgia"/>
              </a:rPr>
              <a:t>Пушкин -лицеис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4" descr="Scan10004"/>
          <p:cNvPicPr/>
          <p:nvPr/>
        </p:nvPicPr>
        <p:blipFill>
          <a:blip r:embed="rId1"/>
          <a:stretch/>
        </p:blipFill>
        <p:spPr>
          <a:xfrm>
            <a:off x="685800" y="1676520"/>
            <a:ext cx="3657600" cy="4724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Scan10005"/>
          <p:cNvPicPr/>
          <p:nvPr/>
        </p:nvPicPr>
        <p:blipFill>
          <a:blip r:embed="rId2"/>
          <a:stretch/>
        </p:blipFill>
        <p:spPr>
          <a:xfrm>
            <a:off x="4800600" y="1676520"/>
            <a:ext cx="3860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Scan10006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3434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Georgia"/>
              </a:rPr>
              <a:t>А.Пушкин на лицейском экзамен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2T13:07:4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