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2908F-4D5D-41B5-9270-C67905D27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AA266-823F-475D-B0A8-634DD20EA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B9D71-40DA-4C33-BD8E-D36C9E095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B7576-F3D5-41A2-ACCC-C7254A0D3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5F2CA-6ADE-40A5-84B0-5E644A38D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6D774-21E2-43E7-BF92-6622F70AD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D5D5B-6684-4CA4-B522-59EE2A451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54F44-E43D-406F-B5AA-7D3F9A3F0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440D9-6CC1-4763-B097-33A17BDEF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9A87A-1F9B-4F0D-838D-CB4D136EA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F6D59-82E3-41F1-A7A9-2243BC7A6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75B45-41E7-41B2-95F1-EFFC51990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AA317-7C2E-4F13-88C5-56334658E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CD724-F741-4B88-B45B-47672545B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27F84-A05E-4439-85F6-AC06580E0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8B8EB-39A5-4CB3-860C-422D2F8B2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149FA-0336-46E5-8814-32DCFC12C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5CC4A-58DE-44F1-AE1F-83CF1E86D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3E155-1DC8-4D80-AF89-184C7668A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03B96-F624-4299-9F54-CB8DF2D59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0E164-6A8D-4F45-B3A8-429E2C40A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E6427-4F8A-4012-AA03-359466FAF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96644-AE70-4D04-8555-8BC184800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D9ABC-89C6-4CBB-8A3E-70E3F2C94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eorgi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eorgia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eorgia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eorgia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eorgia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eorgi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eorgi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eorgi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eorgi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eorgi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eorgia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eorgia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eorgia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eorgia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eorgia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eorgia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eorgia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eorgia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eorgia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eorgi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eorgia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eorgia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eorgi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eorgi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eorgia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eorgia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eorgia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eorgia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eorgia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eorgia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eorgia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eorgia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eorgia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eorgia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eorgia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eorgia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eorgia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eorgia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eorgia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eorgia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eorgia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eorgia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eorgia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eorgia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eorgia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eorgia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eorgia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eorgia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eorgia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eorgia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eorgia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eorgia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eorgia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eorgia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Georgia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Georgia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Georgia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Georgia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F8605-1A1F-44D1-A26D-EDC5222D65C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eorgia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eorgia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eorgia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eorgia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eorgia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eorgia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eorgia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eorgia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eorgia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eorgia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eorgia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eorgia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eorgia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eorgia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eorgia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eorgia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eorgia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eorgia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eorgia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eorgia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eorgia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eorgia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eorgia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eorgia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eorgia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eorgia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eorgia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eorgia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eorgia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eorgia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eorgia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eorgia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eorgia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eorgia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eorgia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eorgia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eorgia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eorgia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eorgia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eorgia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eorgia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eorgia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eorgia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eorgia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eorgia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eorgia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eorgia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eorgia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eorgia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eorgia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eorgia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eorgia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eorgia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eorgia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Georgia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Georgia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Georgia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Georgia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C4D3F-BB15-4730-B698-608498FA4A8F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google.ru/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200"/>
            </a:br>
            <a:br>
              <a:rPr sz="7200"/>
            </a:br>
            <a:br>
              <a:rPr sz="7200"/>
            </a:br>
            <a:br>
              <a:rPr sz="7200"/>
            </a:br>
            <a:br>
              <a:rPr sz="7200"/>
            </a:br>
            <a:r>
              <a:rPr b="1" lang="ru-RU" sz="6000" spc="-1" strike="noStrike">
                <a:solidFill>
                  <a:srgbClr val="ccecff"/>
                </a:solidFill>
                <a:latin typeface="Georgia"/>
              </a:rPr>
              <a:t>Детские и лицейские годы А.С. Пушкина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Литератур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Грановская Н. И. Всесоюзный музей А. С. Пушкина: Очерк-путеводитель. – Л: Лениздат, 1985. – 208 с., ил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ушкинский альманах // Народное образование. – 1999. – 350 с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Черкашин А. А., Черкашина Л. А. Тысячелетнее древо А. С. Пушкина: корни и крона. М.: Либерия, 1998. – 200 с., ил. + карта-схема + справочник-указатель имён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88 с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ff99"/>
                </a:solidFill>
                <a:uFillTx/>
                <a:latin typeface="Arial"/>
                <a:hlinkClick r:id="rId1"/>
              </a:rPr>
              <a:t>WWW.Google.ru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артинк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4419360" y="1676520"/>
            <a:ext cx="43434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eorgia"/>
              </a:rPr>
              <a:t>Александр Сергеевич </a:t>
            </a:r>
            <a:r>
              <a:rPr b="1" lang="ru-RU" sz="4000" spc="-1" strike="noStrike">
                <a:solidFill>
                  <a:srgbClr val="ffffff"/>
                </a:solidFill>
                <a:latin typeface="Georgia"/>
              </a:rPr>
              <a:t>Пушкин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eorgia"/>
              </a:rPr>
              <a:t>родился в Москве 26 мая ( 6 июня ) 1799 года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Picture 8" descr=""/>
          <p:cNvPicPr/>
          <p:nvPr/>
        </p:nvPicPr>
        <p:blipFill>
          <a:blip r:embed="rId1"/>
          <a:srcRect l="33867" t="23235" r="32639" b="21533"/>
          <a:stretch/>
        </p:blipFill>
        <p:spPr>
          <a:xfrm>
            <a:off x="533520" y="1371600"/>
            <a:ext cx="3744720" cy="438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7" descr="pushkina_n_o_h168[1]"/>
          <p:cNvPicPr/>
          <p:nvPr/>
        </p:nvPicPr>
        <p:blipFill>
          <a:blip r:embed="rId1"/>
          <a:stretch/>
        </p:blipFill>
        <p:spPr>
          <a:xfrm>
            <a:off x="4648320" y="1447920"/>
            <a:ext cx="4267080" cy="4952880"/>
          </a:xfrm>
          <a:prstGeom prst="rect">
            <a:avLst/>
          </a:prstGeom>
          <a:ln w="0">
            <a:noFill/>
          </a:ln>
        </p:spPr>
      </p:pic>
      <p:sp>
        <p:nvSpPr>
          <p:cNvPr id="215" name="Text Box 8"/>
          <p:cNvSpPr/>
          <p:nvPr/>
        </p:nvSpPr>
        <p:spPr>
          <a:xfrm>
            <a:off x="5257800" y="533520"/>
            <a:ext cx="28954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Мать</a:t>
            </a: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Надежда Осиповна</a:t>
            </a: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16" name="Text Box 9"/>
          <p:cNvSpPr/>
          <p:nvPr/>
        </p:nvSpPr>
        <p:spPr>
          <a:xfrm>
            <a:off x="1066680" y="457200"/>
            <a:ext cx="2590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Отец</a:t>
            </a: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Сергей Львович</a:t>
            </a: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pic>
        <p:nvPicPr>
          <p:cNvPr id="217" name="Picture 11" descr=""/>
          <p:cNvPicPr/>
          <p:nvPr/>
        </p:nvPicPr>
        <p:blipFill>
          <a:blip r:embed="rId2"/>
          <a:stretch/>
        </p:blipFill>
        <p:spPr>
          <a:xfrm>
            <a:off x="533520" y="1447920"/>
            <a:ext cx="3809880" cy="4876560"/>
          </a:xfrm>
          <a:prstGeom prst="rect">
            <a:avLst/>
          </a:prstGeom>
          <a:ln w="38160">
            <a:solidFill>
              <a:srgbClr val="993300"/>
            </a:solidFill>
            <a:miter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4876920" y="609120"/>
            <a:ext cx="411480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eorgia"/>
              </a:rPr>
              <a:t>Род  Пушкиных уходил корнями в глубокую древность. Его прадед, Абрам Петрович Ганнибал, был сподвижником Петра Первого, но не только, он был его приемным сыном и воспитанником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9" name="Picture 3" descr="прадедушка"/>
          <p:cNvPicPr/>
          <p:nvPr/>
        </p:nvPicPr>
        <p:blipFill>
          <a:blip r:embed="rId1"/>
          <a:stretch/>
        </p:blipFill>
        <p:spPr>
          <a:xfrm>
            <a:off x="304920" y="609480"/>
            <a:ext cx="4448160" cy="584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2" descr="бабушка"/>
          <p:cNvPicPr/>
          <p:nvPr/>
        </p:nvPicPr>
        <p:blipFill>
          <a:blip r:embed="rId1"/>
          <a:stretch/>
        </p:blipFill>
        <p:spPr>
          <a:xfrm>
            <a:off x="609480" y="1600200"/>
            <a:ext cx="3421080" cy="433404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3" descr="Scan10001"/>
          <p:cNvPicPr/>
          <p:nvPr/>
        </p:nvPicPr>
        <p:blipFill>
          <a:blip r:embed="rId2"/>
          <a:stretch/>
        </p:blipFill>
        <p:spPr>
          <a:xfrm>
            <a:off x="4800600" y="1600200"/>
            <a:ext cx="3309840" cy="4267080"/>
          </a:xfrm>
          <a:prstGeom prst="rect">
            <a:avLst/>
          </a:prstGeom>
          <a:ln w="0">
            <a:noFill/>
          </a:ln>
        </p:spPr>
      </p:pic>
      <p:sp>
        <p:nvSpPr>
          <p:cNvPr id="222" name="Text Box 4"/>
          <p:cNvSpPr/>
          <p:nvPr/>
        </p:nvSpPr>
        <p:spPr>
          <a:xfrm>
            <a:off x="1143000" y="762120"/>
            <a:ext cx="266688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Бабушка   </a:t>
            </a: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Мария Алексеевна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                          </a:t>
            </a: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23" name="Text Box 5"/>
          <p:cNvSpPr/>
          <p:nvPr/>
        </p:nvSpPr>
        <p:spPr>
          <a:xfrm>
            <a:off x="4952880" y="685800"/>
            <a:ext cx="29718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Няня  </a:t>
            </a: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Арина Родионовна</a:t>
            </a: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838080" y="4800240"/>
            <a:ext cx="73152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Вы помните, когда возник Лицей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Как царь для нас открыл чертог Царицын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И мы пришли. И встретил нас Куницын</a:t>
            </a: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…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5" name="Picture 4" descr="selo1[1]"/>
          <p:cNvPicPr/>
          <p:nvPr/>
        </p:nvPicPr>
        <p:blipFill>
          <a:blip r:embed="rId1"/>
          <a:stretch/>
        </p:blipFill>
        <p:spPr>
          <a:xfrm>
            <a:off x="1143000" y="457200"/>
            <a:ext cx="6629400" cy="3849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4723920" y="1295280"/>
            <a:ext cx="3886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eorgia"/>
              </a:rPr>
              <a:t>19 октября 181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    </a:t>
            </a: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торжественно откры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    </a:t>
            </a: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Царскосельский лице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     </a:t>
            </a: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В актовом зале собралась царская семья с государем, чиновники, преподаватели, гувернеры и 30 воспитанников, среди них юный  Пушкин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7" name="Picture 4" descr="foto6[1]"/>
          <p:cNvPicPr/>
          <p:nvPr/>
        </p:nvPicPr>
        <p:blipFill>
          <a:blip r:embed="rId1"/>
          <a:stretch/>
        </p:blipFill>
        <p:spPr>
          <a:xfrm>
            <a:off x="533520" y="1143000"/>
            <a:ext cx="3771720" cy="480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ecff"/>
                </a:solidFill>
                <a:latin typeface="Georgia"/>
              </a:rPr>
              <a:t>Пушкин -лицеист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9" name="Picture 4" descr="Scan10004"/>
          <p:cNvPicPr/>
          <p:nvPr/>
        </p:nvPicPr>
        <p:blipFill>
          <a:blip r:embed="rId1"/>
          <a:stretch/>
        </p:blipFill>
        <p:spPr>
          <a:xfrm>
            <a:off x="685800" y="1676520"/>
            <a:ext cx="3657600" cy="472428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5" descr="Scan10005"/>
          <p:cNvPicPr/>
          <p:nvPr/>
        </p:nvPicPr>
        <p:blipFill>
          <a:blip r:embed="rId2"/>
          <a:stretch/>
        </p:blipFill>
        <p:spPr>
          <a:xfrm>
            <a:off x="4800600" y="1676520"/>
            <a:ext cx="3860640" cy="4724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6" descr="Scan10006"/>
          <p:cNvPicPr/>
          <p:nvPr/>
        </p:nvPicPr>
        <p:blipFill>
          <a:blip r:embed="rId1"/>
          <a:stretch/>
        </p:blipFill>
        <p:spPr>
          <a:xfrm>
            <a:off x="609480" y="1600200"/>
            <a:ext cx="7925040" cy="434340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ecff"/>
                </a:solidFill>
                <a:latin typeface="Georgia"/>
              </a:rPr>
              <a:t>А.Пушкин на лицейском экзамене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Коля</dc:creator>
  <dc:description/>
  <dc:language>en-US</dc:language>
  <cp:lastModifiedBy>Коля</cp:lastModifiedBy>
  <dcterms:modified xsi:type="dcterms:W3CDTF">2013-05-02T13:07:42Z</dcterms:modified>
  <cp:revision>2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