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997-3E71-4D0C-A1F9-FB78D422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127-883C-4AD4-8532-E1116AF6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A40-43A1-46D7-BBAB-4CB5AEF5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01A-598F-4A24-A028-4BB7517D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30A7-A0E9-4A68-B199-68DC140C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DBEC-84D6-408F-863E-3083B948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B5D7-F0A8-494B-8090-8664FD6B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3DEA-9908-45EA-B852-69A5A0D6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A7EF-BBD3-4AC3-8C01-ADEE881F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2319-45FB-456A-98E1-56269081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0CDB-A99D-42CE-AC37-C00B8917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5C9-0CFF-4F61-B74D-71117453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F350-12B9-4D3C-80C8-294F69D7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862F-B7FC-40DB-A37A-12D7556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6E76-8685-40DA-B7A4-06F95C7E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08E8-96D5-4C57-8792-41D7E87A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85ED-4D96-49C5-AB3A-4A1F701E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527-9BF0-4514-86F2-299C9FC3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2A1-9772-4B40-BB61-4858871B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0F1-9258-4C82-86C3-9DD29B95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8C3-2C5B-4B51-A940-30AB37A2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F05-D38F-4D04-A1A5-92524A3E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68C-A59F-4ECD-988E-C74DE1EB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DD5-91E0-4738-A1FC-EB41E892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E0B4-F089-4E5C-8B57-8F0B6A20F7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7835-CE55-40A2-AA0F-EDDF762BBB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1" lang="ru-RU" sz="6000" spc="-1" strike="noStrike">
                <a:solidFill>
                  <a:srgbClr val="ccecff"/>
                </a:solidFill>
                <a:latin typeface="Georgia"/>
              </a:rPr>
              <a:t>Детские и лицейские годы А.С. Пушкин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новская Н. И. Всесоюзный музей А. С. Пушкина: Очерк-путеводитель. – Л: Лениздат, 1985. – 208 с., и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шкинский альманах // Народное образование. – 1999. – 350 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кашин А. А., Черкашина Л. А. Тысячелетнее древо А. С. Пушкина: корни и крона. М.: Либерия, 1998. – 200 с., ил. + карта-схема + справочник-указатель имё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8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Google.r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тин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419360" y="167652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Александр Сергеевич 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ушки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родился в Москве 26 мая ( 6 июня ) 1799 год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rcRect l="33867" t="23235" r="32639" b="21533"/>
          <a:stretch/>
        </p:blipFill>
        <p:spPr>
          <a:xfrm>
            <a:off x="533520" y="1371600"/>
            <a:ext cx="374472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pushkina_n_o_h168[1]"/>
          <p:cNvPicPr/>
          <p:nvPr/>
        </p:nvPicPr>
        <p:blipFill>
          <a:blip r:embed="rId1"/>
          <a:stretch/>
        </p:blipFill>
        <p:spPr>
          <a:xfrm>
            <a:off x="4648320" y="1447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5257800" y="5335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ать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адежда Осиповна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066680" y="4572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ец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Сергей Львович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809880" cy="48765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876920" y="609120"/>
            <a:ext cx="4114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Род  Пушкиных уходил корнями в глубокую древность. Его прадед, Абрам Петрович Ганнибал, был сподвижником Петра Первого, но не только, он был его приемным сыном и воспитанник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3" descr="прадедушка"/>
          <p:cNvPicPr/>
          <p:nvPr/>
        </p:nvPicPr>
        <p:blipFill>
          <a:blip r:embed="rId1"/>
          <a:stretch/>
        </p:blipFill>
        <p:spPr>
          <a:xfrm>
            <a:off x="304920" y="609480"/>
            <a:ext cx="4448160" cy="58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бабушка"/>
          <p:cNvPicPr/>
          <p:nvPr/>
        </p:nvPicPr>
        <p:blipFill>
          <a:blip r:embed="rId1"/>
          <a:stretch/>
        </p:blipFill>
        <p:spPr>
          <a:xfrm>
            <a:off x="609480" y="1600200"/>
            <a:ext cx="3421080" cy="4334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Scan10001"/>
          <p:cNvPicPr/>
          <p:nvPr/>
        </p:nvPicPr>
        <p:blipFill>
          <a:blip r:embed="rId2"/>
          <a:stretch/>
        </p:blipFill>
        <p:spPr>
          <a:xfrm>
            <a:off x="4800600" y="1600200"/>
            <a:ext cx="3309840" cy="42670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1143000" y="762120"/>
            <a:ext cx="2666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абушка  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ария Алексеев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2880" y="68580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яня 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Арина Родионовна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4800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ы помните, когда возник Лиц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ак царь для нас открыл чертог Царицы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 мы пришли. И встретил нас Куницын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…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selo1[1]"/>
          <p:cNvPicPr/>
          <p:nvPr/>
        </p:nvPicPr>
        <p:blipFill>
          <a:blip r:embed="rId1"/>
          <a:stretch/>
        </p:blipFill>
        <p:spPr>
          <a:xfrm>
            <a:off x="1143000" y="457200"/>
            <a:ext cx="6629400" cy="38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723920" y="12952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19 октября 18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оржественно откры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Царскосельский лиц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 актовом зале собралась царская семья с государем, чиновники, преподаватели, гувернеры и 30 воспитанников, среди них юный  Пушк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foto6[1]"/>
          <p:cNvPicPr/>
          <p:nvPr/>
        </p:nvPicPr>
        <p:blipFill>
          <a:blip r:embed="rId1"/>
          <a:stretch/>
        </p:blipFill>
        <p:spPr>
          <a:xfrm>
            <a:off x="533520" y="1143000"/>
            <a:ext cx="3771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Georgia"/>
              </a:rPr>
              <a:t>Пушкин -лицеис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4" descr="Scan10004"/>
          <p:cNvPicPr/>
          <p:nvPr/>
        </p:nvPicPr>
        <p:blipFill>
          <a:blip r:embed="rId1"/>
          <a:stretch/>
        </p:blipFill>
        <p:spPr>
          <a:xfrm>
            <a:off x="685800" y="1676520"/>
            <a:ext cx="3657600" cy="4724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Scan10005"/>
          <p:cNvPicPr/>
          <p:nvPr/>
        </p:nvPicPr>
        <p:blipFill>
          <a:blip r:embed="rId2"/>
          <a:stretch/>
        </p:blipFill>
        <p:spPr>
          <a:xfrm>
            <a:off x="4800600" y="1676520"/>
            <a:ext cx="3860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Scan10006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3434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Georgia"/>
              </a:rPr>
              <a:t>А.Пушкин на лицейском экзамен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2T13:07:4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