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7474-E1F3-4C08-BB6C-2847E491A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8F95-969A-46B8-AB77-98A9AEA4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BC52FB-C98E-4CE6-B5FD-92973AD8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678634-4F36-468A-9820-83A4C546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B399EA-8F1C-49E2-A4F9-57F777F9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69BF83-EDCC-4072-9609-DB9B57BB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15D7DD-D49D-4B72-966A-39EB375A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928BFD-B560-4F0F-AFC7-B484CD55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F8B804-F15F-4C1D-9402-7C7073C5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F00ED1-5842-4048-BD4D-F2A6CA6FE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346067-5067-478F-B046-F2F62A203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13D242-3490-45E8-89F9-847495C04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594B-9CF2-4A18-8063-564E0629A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44443E-84AD-498D-AC90-CC334678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657E8E-B58A-48FA-8C7C-87EDFBA0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E51334-4545-4D0B-8259-459D3162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A0FF46-BC9D-4352-93B5-4E62E8E1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01B0A5-FB8E-4F98-99BE-0A2FA594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F67B09-A777-4817-82B5-1882E310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415085-601E-43B2-BC30-B472BA33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4DF224-EE31-42F1-B041-309FB674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03B301-8DCB-4E55-AE0A-DA83D36B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F897F2-B4C3-422A-853A-0F95DF3E1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FB7B-7C9F-40AF-99DA-408FA9B9C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4E7FAC-E4E8-46B5-9B71-9BA702842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917D9-9D42-4AC6-94FC-F7D8F4A6A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B3908-CA8B-431A-840B-6E7097E4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F38A81-FE1C-4065-AA4D-66BED97D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F0BFAB-0A15-4502-A518-7ECE3EF4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E6E669-5E51-4A70-AF8E-7DA277FE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79606-8CBF-428F-86E3-7A22C075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D3FA9B-B204-4180-962A-64FAF384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AA33C-2933-4B0A-AF66-FA08A92A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4DDCD-6687-46C4-92F8-A131CD48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456D-49A5-4BD4-B005-2F199B4B0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D0AFD4-20FD-414B-8C5E-31CF7987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953187-D2DD-4ED6-8B8A-E6E758432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7382A-6880-47DF-A373-E110030FF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609A17-53E5-4A6A-BA24-1F7FD6D5C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A4EA3F-BE0C-46C9-9DAA-B1F679A4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A49CEE-732A-4A2B-9EC4-1AABD3BE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65B17F-0E15-4A47-A568-1151A44D7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F62E27-66B5-44E4-8506-C34CAE0D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13AF7F-FA4B-433B-8C78-F67B5C59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195C50-6696-4048-8858-3F0F3F84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6EF8-3BDB-4580-8046-69A64487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38BE09-1C24-47F9-BF02-25F816C0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68FC81-C20C-4C43-8962-E444017F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BC196A-65DE-4639-8FAC-3CD8DBDC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A2DA48-30DC-4562-99ED-E5DC0A350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30934E-64F7-4913-B56C-624BF33A9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3BDC-D485-4671-BB64-12C768F2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87DF-F9CE-4565-B670-1BE68CBF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8EC3F-8B28-4FBA-A5A0-388CB759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F637-D983-4C07-A3A1-3317A9B3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6BD8-7482-4575-80A6-DBBA0A00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D4C7-C9EB-4B3E-ABE7-ED8EA385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B5AA-72AA-4C6C-8397-8D036CBD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9114-F561-4C54-B1B0-EBA0F41B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81780-4469-4AD7-9E92-3F3CC452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6070-0F9D-4E92-8DD5-0CE268C1E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03BC-D54C-42C1-AAF8-1D1B688F4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74488-C1B1-467B-BB99-90B26FCEC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0E2D4-3921-41F7-AE6A-BCCF772E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3E260-6833-4015-BDCE-7F5FD66A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F79B0-E090-4DE0-BF21-68516DAB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22FBC-DFA8-428E-8FB2-D77CA62F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A99E-1FB4-480A-9839-88E74666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902F9-5BE5-4B20-8703-7BC00B42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26E4A-39FF-4AAB-89B6-06C8E46D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BC609-CFD5-47B2-A785-0299C8BC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C35F3-5A8B-45BD-8AA8-EA931458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E8B68-793E-45B5-B106-0D57AA1D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1AAFD-65FE-4676-A45E-CB9099B4D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7A5A6-2DE2-4301-B43D-9B8C27751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35E4A-9FCC-41AF-95A7-DD38E18B4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1C841-47E6-40BE-B820-F8DE96B8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98D40-ED72-4CCC-87E6-19EBDB0E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AA38-AE38-4B19-9489-3D6AE8EA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66DA9-DE31-4611-A228-E7F9F6EB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ACA95-68E2-4FE1-BE8E-3562C21A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B02B0-922F-48FB-9AB6-1D335DAE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9F3D2-1E9F-42C7-A7AD-DF1A21A8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F41A4-47A4-42D7-9F4B-87422E4E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6FE27-D5C1-4EEA-9947-04E18EBC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8D349-302D-465F-8365-32346E81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64AEF-3498-4C89-B5D4-F2441A3F6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CD450-2DB9-4D57-B157-800E1B29E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6B3E5-84DE-4093-8B10-CCEBD7EBC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0663-66A8-4EB2-B621-0C086C9A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7FF1D-FC29-43E6-AFA1-DF14A7F1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DE473-A46A-4C36-B8CE-E0F8EB5D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6EED2-CE06-48E2-B23A-EDD503A0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B1D17-969D-4AFC-8E95-B2E38698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E2661-DB35-4666-9FD6-1CD00142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D2C0A-2364-4923-9FE9-433F5021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EBB2B-F9B1-4D89-8E6D-87F0BA20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7F5C3-9A2A-435C-8FBF-DB36EDA8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8CF7D-DAFD-4398-BF82-AC3AD443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27790-70E3-488B-BD61-E0FE28282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1460-FFC5-4A9B-B976-476A016E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835B2-36DE-4389-B34F-7BE6BF2CD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85FF3-5FBC-4EA8-9F97-93DE0BC5B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CBAD1-F70F-4466-9651-9C80DB3A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EFFAE-54B9-4E18-B183-6AF68A24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47F95-1526-45F4-A2EA-18250790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82841-4C14-466A-A134-3B9399E1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E4653-9253-4896-A8DD-6586B049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EB28D-7928-4974-AD9C-1D9271A6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10690-5525-4B3F-B2CA-1D446898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D527E-AB7D-488C-9866-08935C6B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AAF6-B5CC-4EFD-9530-D00F9152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16CED-EBD5-4E92-9530-A8902DD8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76FA9-7C0A-450C-9BB4-82B8449A1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E5886-2656-4466-B475-424075DA6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FBAEE-6675-48C5-B070-D7D46F66E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95EFE-6A21-4865-8279-C0358EB1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AA321-D249-49A7-BA0D-60D75801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50810-26C1-4AA4-8741-5582B2754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0E91C-E3EE-4293-8EB0-75F5F50F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6D1A9-AF5A-45A3-8E5E-7270621C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A272E-6549-4F2A-91FF-312F087A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6A36-B82C-4D2B-A2E5-5B750619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97887-C6DA-47C8-8BB5-BFD1038D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AECEE-B62F-444D-A715-F5A899DD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E0C02-E99E-402C-AB63-0E825429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3B47D-F2A7-459A-AE11-353B0F309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C5D7C-AACA-4658-B7BA-85F7ACCEC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C1FE2-7B32-43A9-A856-2ADF0312C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7DB5F-D1BC-44E1-B799-D2D9DEB7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B5567-B544-44FE-A87B-1288BADF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01039-192A-4CAD-91EF-5DE0EB2F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D5AC2-E75F-4746-A138-50FA622D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19C5-71A6-4AF8-9D3D-2DF00AC9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B8902-AD39-4A0B-AFC7-30B7A0A7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751E4-0D44-495A-A721-B9FA02BB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2D3D6-45B4-4675-844A-79FAB87A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094CE-7601-4BDC-933D-4AA1E843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868D6-6B02-4966-84D2-3EDE4A4E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1BBFE-3850-42FC-832E-42C77526B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35390-5245-4706-BBC2-957ECAE5F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9C6E2C-991A-477B-B534-ED30738AF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608984-D535-4EFA-9CC3-65DD39B5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3E2E0F-37E9-413A-AC10-0DECF264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D9AD-FB73-4A7D-820B-57F0D9D5285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20D1-A543-4905-B75D-5A31B647CF4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EBDB-C635-473E-99AC-87C4C0853F6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E8A6-0E04-491B-8776-9BEDB07D7B2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3560-EE47-4356-A3B5-5B2611716DA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8023-73A6-488C-899E-6940284C141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A41E-0DC3-4C24-9AE1-0BE404063D1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AF15-D1A1-488E-8F2A-83967FA1EB3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3BB4-AB30-41E4-9416-F0D9A5A34FB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D217-7A72-4FC9-A0AE-D0A8DD9D2C3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2321-9E07-4C80-9B1A-8BBA7FDCCA77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8329-AE42-497E-B168-A7F5A1C5DC6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50920" y="357336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Georgia"/>
              </a:rPr>
              <a:t>Действительные причастия настоящего времени.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Когда «Джоконда» была выкрадена неизвестным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злоумышленником из Лувра, на её поиски были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брошены все силы французской полиции.</a:t>
            </a:r>
            <a:r>
              <a:rPr b="1" i="1" lang="en-US" sz="27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Чит</a:t>
            </a:r>
            <a:r>
              <a:rPr b="1" lang="en-US" sz="2700" spc="-1" strike="noStrike">
                <a:solidFill>
                  <a:srgbClr val="c00000"/>
                </a:solidFill>
                <a:latin typeface="Georgia"/>
              </a:rPr>
              <a:t>а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ть      -       чит</a:t>
            </a:r>
            <a:r>
              <a:rPr b="1" lang="en-US" sz="2700" spc="-1" strike="noStrike">
                <a:solidFill>
                  <a:srgbClr val="c00000"/>
                </a:solidFill>
                <a:latin typeface="Georgia"/>
              </a:rPr>
              <a:t>а</a:t>
            </a:r>
            <a:r>
              <a:rPr b="1" lang="en-US" sz="2700" spc="-1" strike="noStrike">
                <a:solidFill>
                  <a:srgbClr val="0070c0"/>
                </a:solidFill>
                <a:latin typeface="Georgia"/>
              </a:rPr>
              <a:t>л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Та</a:t>
            </a:r>
            <a:r>
              <a:rPr b="1" lang="en-US" sz="2700" spc="-1" strike="noStrike">
                <a:solidFill>
                  <a:srgbClr val="c00000"/>
                </a:solidFill>
                <a:latin typeface="Georgia"/>
              </a:rPr>
              <a:t>я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ть         -        та</a:t>
            </a:r>
            <a:r>
              <a:rPr b="1" lang="en-US" sz="2700" spc="-1" strike="noStrike">
                <a:solidFill>
                  <a:srgbClr val="c00000"/>
                </a:solidFill>
                <a:latin typeface="Georgia"/>
              </a:rPr>
              <a:t>я</a:t>
            </a:r>
            <a:r>
              <a:rPr b="1" lang="en-US" sz="2700" spc="-1" strike="noStrike">
                <a:solidFill>
                  <a:srgbClr val="0070c0"/>
                </a:solidFill>
                <a:latin typeface="Georgia"/>
              </a:rPr>
              <a:t>л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Узн</a:t>
            </a:r>
            <a:r>
              <a:rPr b="1" lang="en-US" sz="2700" spc="-1" strike="noStrike">
                <a:solidFill>
                  <a:srgbClr val="c00000"/>
                </a:solidFill>
                <a:latin typeface="Georgia"/>
              </a:rPr>
              <a:t>а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ть       -        узн</a:t>
            </a:r>
            <a:r>
              <a:rPr b="1" lang="en-US" sz="2700" spc="-1" strike="noStrike">
                <a:solidFill>
                  <a:srgbClr val="c00000"/>
                </a:solidFill>
                <a:latin typeface="Georgia"/>
              </a:rPr>
              <a:t>а</a:t>
            </a:r>
            <a:r>
              <a:rPr b="1" lang="en-US" sz="2700" spc="-1" strike="noStrike">
                <a:solidFill>
                  <a:srgbClr val="0070c0"/>
                </a:solidFill>
                <a:latin typeface="Georgia"/>
              </a:rPr>
              <a:t>л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Преврат</a:t>
            </a:r>
            <a:r>
              <a:rPr b="1" lang="en-US" sz="2700" spc="-1" strike="noStrike">
                <a:solidFill>
                  <a:srgbClr val="c00000"/>
                </a:solidFill>
                <a:latin typeface="Georgia"/>
              </a:rPr>
              <a:t>и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ть -    преврат</a:t>
            </a:r>
            <a:r>
              <a:rPr b="1" lang="en-US" sz="2700" spc="-1" strike="noStrike">
                <a:solidFill>
                  <a:srgbClr val="c00000"/>
                </a:solidFill>
                <a:latin typeface="Georgia"/>
              </a:rPr>
              <a:t>и</a:t>
            </a:r>
            <a:r>
              <a:rPr b="1" lang="en-US" sz="2700" spc="-1" strike="noStrike">
                <a:solidFill>
                  <a:srgbClr val="0070c0"/>
                </a:solidFill>
                <a:latin typeface="Georgia"/>
              </a:rPr>
              <a:t>л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Нести        -        нёс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Расти         -        рос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6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4b5064"/>
                </a:solidFill>
                <a:latin typeface="Georgia"/>
              </a:rPr>
              <a:t>Образуйте причастия от глаголов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324000" y="1268280"/>
          <a:ext cx="2835000" cy="5308560"/>
        </p:xfrm>
        <a:graphic>
          <a:graphicData uri="http://schemas.openxmlformats.org/drawingml/2006/table">
            <a:tbl>
              <a:tblPr/>
              <a:tblGrid>
                <a:gridCol w="2835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инфинити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чит</a:t>
                      </a:r>
                      <a:r>
                        <a:rPr b="1" lang="en-US" sz="2400" spc="-1" strike="noStrike" u="sng">
                          <a:solidFill>
                            <a:srgbClr val="c00000"/>
                          </a:solidFill>
                          <a:uFillTx/>
                          <a:latin typeface="Georgia"/>
                        </a:rPr>
                        <a:t>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та</a:t>
                      </a:r>
                      <a:r>
                        <a:rPr b="1" lang="en-US" sz="2400" spc="-1" strike="noStrike" u="sng">
                          <a:solidFill>
                            <a:srgbClr val="c00000"/>
                          </a:solidFill>
                          <a:uFillTx/>
                          <a:latin typeface="Georgia"/>
                        </a:rPr>
                        <a:t>я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узн</a:t>
                      </a:r>
                      <a:r>
                        <a:rPr b="1" lang="en-US" sz="2400" spc="-1" strike="noStrike" u="sng">
                          <a:solidFill>
                            <a:srgbClr val="c00000"/>
                          </a:solidFill>
                          <a:uFillTx/>
                          <a:latin typeface="Georgia"/>
                        </a:rPr>
                        <a:t>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еврат</a:t>
                      </a:r>
                      <a:r>
                        <a:rPr b="1" lang="en-US" sz="2400" spc="-1" strike="noStrike" u="sng">
                          <a:solidFill>
                            <a:srgbClr val="c00000"/>
                          </a:solidFill>
                          <a:uFillTx/>
                          <a:latin typeface="Georgia"/>
                        </a:rPr>
                        <a:t>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е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6" name=""/>
          <p:cNvGraphicFramePr/>
          <p:nvPr/>
        </p:nvGraphicFramePr>
        <p:xfrm>
          <a:off x="3203640" y="1268280"/>
          <a:ext cx="2952720" cy="5308560"/>
        </p:xfrm>
        <a:graphic>
          <a:graphicData uri="http://schemas.openxmlformats.org/drawingml/2006/table">
            <a:tbl>
              <a:tblPr/>
              <a:tblGrid>
                <a:gridCol w="2952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Действ прич.наст.в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чита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ющ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та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ющ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й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е образуе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е образуе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ст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ущ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ес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ущ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7" name=""/>
          <p:cNvGraphicFramePr/>
          <p:nvPr/>
        </p:nvGraphicFramePr>
        <p:xfrm>
          <a:off x="6143760" y="1268280"/>
          <a:ext cx="3000240" cy="5308560"/>
        </p:xfrm>
        <a:graphic>
          <a:graphicData uri="http://schemas.openxmlformats.org/drawingml/2006/table">
            <a:tbl>
              <a:tblPr/>
              <a:tblGrid>
                <a:gridCol w="3000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Действ.прич.пр.в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чита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вш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тая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вш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узна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вш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еврати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вш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ос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ш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ес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ш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</a:tbl>
          </a:graphicData>
        </a:graphic>
      </p:graphicFrame>
      <p:sp>
        <p:nvSpPr>
          <p:cNvPr id="678" name="Прямая соединительная линия 26"/>
          <p:cNvSpPr/>
          <p:nvPr/>
        </p:nvSpPr>
        <p:spPr>
          <a:xfrm flipV="1">
            <a:off x="7019280" y="1628640"/>
            <a:ext cx="144360" cy="14472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Прямая соединительная линия 27"/>
          <p:cNvSpPr/>
          <p:nvPr/>
        </p:nvSpPr>
        <p:spPr>
          <a:xfrm flipH="1" flipV="1">
            <a:off x="7235640" y="1628640"/>
            <a:ext cx="144360" cy="14472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Прямая соединительная линия 36"/>
          <p:cNvSpPr/>
          <p:nvPr/>
        </p:nvSpPr>
        <p:spPr>
          <a:xfrm flipH="1" flipV="1">
            <a:off x="6948360" y="2420640"/>
            <a:ext cx="144720" cy="14436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Прямая соединительная линия 37"/>
          <p:cNvSpPr/>
          <p:nvPr/>
        </p:nvSpPr>
        <p:spPr>
          <a:xfrm flipH="1">
            <a:off x="6732360" y="2421000"/>
            <a:ext cx="142920" cy="14436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Прямая соединительная линия 43"/>
          <p:cNvSpPr/>
          <p:nvPr/>
        </p:nvSpPr>
        <p:spPr>
          <a:xfrm flipH="1" flipV="1">
            <a:off x="7164000" y="3284280"/>
            <a:ext cx="144360" cy="14436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Прямая соединительная линия 44"/>
          <p:cNvSpPr/>
          <p:nvPr/>
        </p:nvSpPr>
        <p:spPr>
          <a:xfrm flipV="1">
            <a:off x="7019280" y="3284280"/>
            <a:ext cx="144360" cy="21564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Прямая соединительная линия 46"/>
          <p:cNvSpPr/>
          <p:nvPr/>
        </p:nvSpPr>
        <p:spPr>
          <a:xfrm flipH="1" flipV="1">
            <a:off x="7884720" y="4076280"/>
            <a:ext cx="144360" cy="14292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Прямая соединительная линия 47"/>
          <p:cNvSpPr/>
          <p:nvPr/>
        </p:nvSpPr>
        <p:spPr>
          <a:xfrm flipH="1">
            <a:off x="7667280" y="4075920"/>
            <a:ext cx="289080" cy="14292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Прямая соединительная линия 50"/>
          <p:cNvSpPr/>
          <p:nvPr/>
        </p:nvSpPr>
        <p:spPr>
          <a:xfrm flipH="1" flipV="1">
            <a:off x="6948000" y="4868640"/>
            <a:ext cx="71640" cy="21564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Прямая соединительная линия 51"/>
          <p:cNvSpPr/>
          <p:nvPr/>
        </p:nvSpPr>
        <p:spPr>
          <a:xfrm flipH="1">
            <a:off x="6732360" y="4869000"/>
            <a:ext cx="215640" cy="21744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Прямая соединительная линия 54"/>
          <p:cNvSpPr/>
          <p:nvPr/>
        </p:nvSpPr>
        <p:spPr>
          <a:xfrm flipH="1" flipV="1">
            <a:off x="6948360" y="5660640"/>
            <a:ext cx="144720" cy="28908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Прямая соединительная линия 57"/>
          <p:cNvSpPr/>
          <p:nvPr/>
        </p:nvSpPr>
        <p:spPr>
          <a:xfrm flipH="1">
            <a:off x="6804000" y="5661000"/>
            <a:ext cx="216000" cy="28908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ид – несовершенный и совершенны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ереходность – переходные и непереходны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пряжение  -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и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I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озвратные и невозвратны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TextBox 3"/>
          <p:cNvSpPr/>
          <p:nvPr/>
        </p:nvSpPr>
        <p:spPr>
          <a:xfrm>
            <a:off x="395280" y="4005360"/>
            <a:ext cx="813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От таких глагол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 помощью суффиксов </a:t>
            </a: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–вш-, -ш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можно образов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действительные причаст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рошедшего времени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6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00000"/>
                </a:solidFill>
                <a:latin typeface="Georgia"/>
              </a:rPr>
              <a:t>Словобразовательный разбор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завидовавши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обидевши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Заросши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раскаявшийс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695" name="Прямая со стрелкой 4"/>
          <p:cNvCxnSpPr/>
          <p:nvPr/>
        </p:nvCxnSpPr>
        <p:spPr>
          <a:xfrm flipH="1" flipV="1">
            <a:off x="3203280" y="2781000"/>
            <a:ext cx="10087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6" name="Прямая со стрелкой 7"/>
          <p:cNvCxnSpPr/>
          <p:nvPr/>
        </p:nvCxnSpPr>
        <p:spPr>
          <a:xfrm flipH="1" flipV="1">
            <a:off x="2555640" y="3789000"/>
            <a:ext cx="10087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7" name="Прямая со стрелкой 8"/>
          <p:cNvCxnSpPr/>
          <p:nvPr/>
        </p:nvCxnSpPr>
        <p:spPr>
          <a:xfrm flipH="1" flipV="1">
            <a:off x="2410920" y="4723560"/>
            <a:ext cx="10087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8" name="Прямая со стрелкой 6"/>
          <p:cNvCxnSpPr/>
          <p:nvPr/>
        </p:nvCxnSpPr>
        <p:spPr>
          <a:xfrm flipH="1" flipV="1">
            <a:off x="3203280" y="5804640"/>
            <a:ext cx="10087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6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6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6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2060"/>
                </a:solidFill>
                <a:latin typeface="Georgia"/>
              </a:rPr>
              <a:t>Практическая работ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324000" y="1484280"/>
            <a:ext cx="8503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Синтаксический разбор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 мху здесь и там разбросаны желтые цветы,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тражавшие солнечный свет своими лепестками.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499"/>
              </a:spcBef>
              <a:buClr>
                <a:srgbClr val="d16349"/>
              </a:buClr>
              <a:buSzPct val="8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Спишите пословицы, вставив пропущенные буквы и расставив знаки препинания. Укажите одиночные причастия и причастные обороты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огда пьёш… воду. (не)забывай о человеке вырывш…м колодец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лово идущ… от сер…ца согрева…т три зимы подряд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авшее дерево на др…ва рубят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Глаза зав…дущие, руки загр…бущие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ыл…тевшее слово и на коне (не)догониш…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4b5064"/>
              </a:solidFill>
              <a:latin typeface="Georgia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Презентацию подготовила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преподаватель русского языка и литературы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Пансиона воспитанниц Министерства Обороны РФ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Савичева Татьяна Викторовн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08:53:27Z</dcterms:created>
  <dc:creator>пользователь</dc:creator>
  <dc:description/>
  <dc:language>en-US</dc:language>
  <cp:lastModifiedBy>Мама</cp:lastModifiedBy>
  <dcterms:modified xsi:type="dcterms:W3CDTF">2010-10-08T19:31:07Z</dcterms:modified>
  <cp:revision>18</cp:revision>
  <dc:subject/>
  <dc:title>Пятое октября. Классная работа.</dc:title>
</cp:coreProperties>
</file>