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C1F-6F90-4A96-83C5-571B19A1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315-C983-484D-AE5D-13681B8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41CB1-8638-40C6-B419-40A67EE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7216B-27C1-402A-8927-962D977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23C3A-98B1-458F-8A9F-76B04A8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43868-9128-4ADB-93DD-70D61E8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6EA3B-0A4E-4D69-ADF4-FC0A26EB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70073-317D-48BC-BF91-25117A0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638F4-24C8-4005-B4A7-3896B84E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2D9B5-A590-4B67-B47C-D78BEE6D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383A8-2910-4E3B-ACB1-716D8767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43649-9F81-4BB2-9B57-BA8B00B5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401-4A1B-4B2F-9AA9-0507DD24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00DD9-FEE7-4D76-BA3A-C550742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11CE2-771E-49CF-80CA-2C0610F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FD53B-0043-48E8-866A-B937EDA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93247-F2D4-495A-83E6-A1ED887D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03334-C738-405B-A18B-F5D6ECC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F1468-320E-40D0-A6C5-0C94B35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6E9F-17DD-4BB6-983C-F6DB7C5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F5E26-33A0-4C2D-8635-DF1B313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184D7-9D59-468C-B768-F89D34DA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76694-685F-45F9-BA90-F055B1D7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8C0-E9FF-4C46-A6FF-FD6D8746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BE28C-E120-41CF-9BC3-C8BD5829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A443F-7DCB-492F-BC39-12C8C7D3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5DE21-7B68-414B-8C74-73D6517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4F774-053B-4B00-BCA2-1A9472CF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51BA-996B-41F8-8A86-13AF5E4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F3BF3-A613-4F4F-8338-3029A033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ADF81-9C48-458F-A028-3D164A86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F023-405A-4D82-A420-1C7A09D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7A0C-6EC6-4FEB-961F-691FA25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FEB91-A916-4041-96E6-CFDE3D2B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B4F-6D9F-448B-AEC3-B95610E0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C087-835F-4833-98C8-62EC1188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746D-7A53-4660-A51F-D4857D20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96F4-4C6C-479C-90B3-18FF5838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B2716-D1BD-408A-8A04-379EB792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6A951-10BA-4E42-BD8D-F51E71C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564D3-ED6E-4E79-90C6-71BE1EBF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F8801-808D-47D7-A666-05B066C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01DDD-E34D-4986-B1D0-B7DEDB1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6C97B-A7CC-4BEA-BFA9-5B3DDC3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0FF86-D43A-4481-BC8B-FF6AB8F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F6BA-498F-4A17-B053-EF41CD2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B6FBA-528C-498B-A9F5-B4236D2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5D57A-F556-4B6B-A124-20E04AC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BF480-1C8A-470B-99CB-4F5D69B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D7F17-D3F6-486A-B64E-C2228D01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85507-43EF-4F67-A9E4-F2B56DF5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60F-D372-41D1-AA4A-ADBF32D0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4921-30F4-446C-AB17-1340553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CB7-FC42-4CCA-86FB-4B6661B8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3835-BEC8-46B2-B221-77E51E07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7F3-283B-4E00-B5F9-7801D55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23B-67E3-413D-BFEE-9965DC0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0BF0-B8E4-4B82-963B-89B0E7D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052-A53B-453F-BBEA-27C55CCF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B46-249D-463B-BE82-A74CD80D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814-40BA-45F7-9B42-9526ABF8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7DB-C7E4-4DEB-A9E8-1B2AD87B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518C-5BE1-4F94-8926-942CF5CF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8E5B-AE7D-41BE-AF16-0AB6363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84A0-0706-4A15-BFF7-EF2A0CA7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87E2-A46B-494C-8E14-D13A428B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5AD2-0DB3-4B5A-8FE2-09409FE2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B11-131C-40FF-AC80-38B1C540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66A8-91F6-4AC0-A83E-FB6D392B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0E6E-79BF-4A7B-A12F-841E7D7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0083-B850-4C11-AE08-5B5AB43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7627-C514-4D56-8EA6-D518D3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B852-A82F-438B-A5DA-9CFBAC7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510D-45DF-4DE4-9C1B-EF0BE745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A1E4-34E3-48DE-A461-D8378038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9E192-9678-44B7-B727-7659386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41F61-9054-4994-A17D-7B227DA2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048C-4547-403E-BB03-7703D71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EE4-0D70-4B62-A0BB-380677B6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D769-A3EC-431C-912A-6A31821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24AE-BC6C-4B06-9A96-773F705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2413-9337-4AD4-A926-3C973F3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A074-C402-4D17-AD94-727C152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F911-855B-4AD6-B106-723106B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B1B1-AEAC-401E-B40A-077F8775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7F55-5AD6-49DE-9890-7616E0E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C8DA-93E7-4BED-B291-1D746254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1F4B-B6E4-46E9-AC3E-A103FC0C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DA6A-510D-4972-B92E-B5706ADC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2FF-1DB8-401D-94A9-BCB70D1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7FD86-DDC1-402F-933D-4B601B54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42FB-9C65-4C75-8094-4824855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EAAA-FDF0-45BC-8A16-36CCA739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EC73-B50B-4023-8A4C-F579002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8297-5099-4C8F-8118-6BB494EC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AC46-D50C-4F68-8950-BF25BC7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F33E-6387-44DC-B283-B0106654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B9E1-59BA-44CF-B62C-78DD3E8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0D8E-2B92-43E7-928B-8A0804D7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77E7-654E-45F6-9F6C-118B1DF3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E67-FDE3-49EF-BC89-BC8DFCF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5493-C4FB-4977-97AA-D7263626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0FC5-BF04-44F6-8F5F-AA4C465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E7E9-2DD8-4AAA-BDC0-EA76A24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98B05-8A39-4E13-B4E5-4C77926D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97BF-3812-467A-B710-43B27CE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E962-13CF-467A-95D5-E98C311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1A19-A10C-4709-A53E-0A93B58F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00048-3565-4391-BA8A-F67C218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D063-532B-438E-B1DC-B9186EFA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ECF4-242C-4340-AB52-19915C0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DE8-D469-408B-B5A4-7736223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E8723-21F3-457C-94DF-0AECBBA7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9FE5-AF18-4176-83F4-6EDDEBAC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B652-5614-4974-9484-8968C6C6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BFB5-048E-493A-996D-2C4814A3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16DA-662F-4C2E-8A7C-BB257929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129F3-A83C-4856-8859-471DF53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053C-D19D-4A79-AFEA-13CD578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4074-C025-4496-8EAE-6B5D34C9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79D9-571E-4AC2-B31F-4FE6B0F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EAEF5-A156-4A73-B02C-1006B07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432-3512-4EF9-9EAE-2E01190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1170-719E-4A4B-BDE6-FFAD623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C3D4-BC72-462E-B0E0-8FB30D2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8521-73E5-4272-B4BA-4B74299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E641-8656-4EBF-9EF0-4EA0B830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A374-8000-43A1-9535-7E61D0B8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1A8D-15B6-4CA0-9980-26B2728E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6A2B-C569-45EC-81D6-DB873808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68F68-6E80-4413-94BE-8F826E91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A59C-8E6E-4F5C-995F-78502082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975D-88E2-41E2-B401-61BA9E47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F54-3FF5-4206-8DE5-AF05FE8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FE84-7FB3-4B52-B626-3FF79EE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4BEF3-6564-4768-A44D-DB13B31C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51CE4-B74B-4410-B372-81A1A2A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B2FA-C68A-4F64-81CA-E7314AF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F3D65-4525-4A07-A153-9747C865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F6634-2D56-464E-ADF2-FB8DB831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1C712-FEB7-424B-AB3D-EB58C56E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E5206-5B20-4706-B360-311FC63A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D56F8-6002-4B13-8061-3C089CD2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A5410-8B82-4AA6-AFEF-C2893327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DE8-A159-41CE-8D2C-D0D826351CE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277-3A54-4DA7-9630-1F12823EF0F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5425-7D12-44D8-932F-D0AB70C77CF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DD9-789D-4B21-8CAD-294F38CE5C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8A46-C551-4E29-96AD-DE801F66F38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DED-22BB-4E35-820D-06997D34C11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93D-D41F-45E8-9D8B-DA949780D1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F3E-FFE7-4810-ADDA-20DF7807F19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AC5-1091-4932-BBD1-FD82BCF01C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C5A-8246-4A63-BE2F-5A366BEC5E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D18C-BD59-4AE6-B5B1-4ED390E3C33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9E17-1C48-4AA4-A417-7007EA64F82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920" y="357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Действительные причастия настоящего времени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Когда «Джоконда» была выкрадена неизвестны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злоумышленником из Лувра, на её поиски был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брошены все силы французской полиции.</a:t>
            </a:r>
            <a:r>
              <a:rPr b="1" i="1" lang="en-US" sz="27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-       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  -        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-        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-    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ести        -        нё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ти         -        ро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b5064"/>
                </a:solidFill>
                <a:latin typeface="Georgia"/>
              </a:rPr>
              <a:t>Образуйте причастия от глагол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4000" y="1268280"/>
          <a:ext cx="2835000" cy="5308560"/>
        </p:xfrm>
        <a:graphic>
          <a:graphicData uri="http://schemas.openxmlformats.org/drawingml/2006/table">
            <a:tbl>
              <a:tblPr/>
              <a:tblGrid>
                <a:gridCol w="283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3203640" y="1268280"/>
          <a:ext cx="2952720" cy="53085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 прич.наст.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6143760" y="1268280"/>
          <a:ext cx="3000240" cy="530856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.прич.пр.в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я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sp>
        <p:nvSpPr>
          <p:cNvPr id="678" name="Прямая соединительная линия 26"/>
          <p:cNvSpPr/>
          <p:nvPr/>
        </p:nvSpPr>
        <p:spPr>
          <a:xfrm flipV="1">
            <a:off x="701928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27"/>
          <p:cNvSpPr/>
          <p:nvPr/>
        </p:nvSpPr>
        <p:spPr>
          <a:xfrm flipH="1" flipV="1">
            <a:off x="723564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36"/>
          <p:cNvSpPr/>
          <p:nvPr/>
        </p:nvSpPr>
        <p:spPr>
          <a:xfrm flipH="1" flipV="1">
            <a:off x="6948360" y="2420640"/>
            <a:ext cx="1447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37"/>
          <p:cNvSpPr/>
          <p:nvPr/>
        </p:nvSpPr>
        <p:spPr>
          <a:xfrm flipH="1">
            <a:off x="6732360" y="2421000"/>
            <a:ext cx="1429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43"/>
          <p:cNvSpPr/>
          <p:nvPr/>
        </p:nvSpPr>
        <p:spPr>
          <a:xfrm flipH="1" flipV="1">
            <a:off x="7164000" y="3284280"/>
            <a:ext cx="14436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44"/>
          <p:cNvSpPr/>
          <p:nvPr/>
        </p:nvSpPr>
        <p:spPr>
          <a:xfrm flipV="1">
            <a:off x="7019280" y="3284280"/>
            <a:ext cx="14436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46"/>
          <p:cNvSpPr/>
          <p:nvPr/>
        </p:nvSpPr>
        <p:spPr>
          <a:xfrm flipH="1" flipV="1">
            <a:off x="7884720" y="4076280"/>
            <a:ext cx="14436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47"/>
          <p:cNvSpPr/>
          <p:nvPr/>
        </p:nvSpPr>
        <p:spPr>
          <a:xfrm flipH="1">
            <a:off x="7667280" y="4075920"/>
            <a:ext cx="28908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50"/>
          <p:cNvSpPr/>
          <p:nvPr/>
        </p:nvSpPr>
        <p:spPr>
          <a:xfrm flipH="1" flipV="1">
            <a:off x="6948000" y="4868640"/>
            <a:ext cx="7164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51"/>
          <p:cNvSpPr/>
          <p:nvPr/>
        </p:nvSpPr>
        <p:spPr>
          <a:xfrm flipH="1">
            <a:off x="6732360" y="4869000"/>
            <a:ext cx="215640" cy="217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54"/>
          <p:cNvSpPr/>
          <p:nvPr/>
        </p:nvSpPr>
        <p:spPr>
          <a:xfrm flipH="1" flipV="1">
            <a:off x="6948360" y="5660640"/>
            <a:ext cx="14472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57"/>
          <p:cNvSpPr/>
          <p:nvPr/>
        </p:nvSpPr>
        <p:spPr>
          <a:xfrm flipH="1">
            <a:off x="6804000" y="5661000"/>
            <a:ext cx="21600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ид – несовершенный и совершенны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еходность – переходные и непереход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ряжение  -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звратные и невозврат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395280" y="400536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 таких глаго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 помощью суффиксов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–вш-, -ш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обра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тельные прич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шедшего времен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Словобразовательный разбор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видова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иде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рос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каявший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95" name="Прямая со стрелкой 4"/>
          <p:cNvCxnSpPr/>
          <p:nvPr/>
        </p:nvCxnSpPr>
        <p:spPr>
          <a:xfrm flipH="1" flipV="1">
            <a:off x="3203280" y="2781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Прямая со стрелкой 7"/>
          <p:cNvCxnSpPr/>
          <p:nvPr/>
        </p:nvCxnSpPr>
        <p:spPr>
          <a:xfrm flipH="1" flipV="1">
            <a:off x="2555640" y="3789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7" name="Прямая со стрелкой 8"/>
          <p:cNvCxnSpPr/>
          <p:nvPr/>
        </p:nvCxnSpPr>
        <p:spPr>
          <a:xfrm flipH="1" flipV="1">
            <a:off x="2410920" y="472356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8" name="Прямая со стрелкой 6"/>
          <p:cNvCxnSpPr/>
          <p:nvPr/>
        </p:nvCxnSpPr>
        <p:spPr>
          <a:xfrm flipH="1" flipV="1">
            <a:off x="3203280" y="580464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Georgia"/>
              </a:rPr>
              <a:t>Практическая рабо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интакс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ху здесь и там разбросаны желтые цветы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ражавшие солнечный свет своими лепестками.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пишите пословицы, вставив пропущенные буквы и расставив знаки препинания. Укажите одиночные причастия и причастные оборо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гда пьёш… воду. (не)забывай о человеке вырывш…м колодец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ово идущ… от сер…ца согрева…т три зимы подряд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вшее дерево на др…ва рубя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а зав…дущие, руки загр…бущи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л…тевшее слово и на коне (не)догониш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b5064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зентацию подготовил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подаватель русского языка и литературы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нсиона воспитанниц Министерства Обороны РФ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авичева Татьяна Викторов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8:53:27Z</dcterms:created>
  <dc:creator>пользователь</dc:creator>
  <dc:description/>
  <dc:language>en-US</dc:language>
  <cp:lastModifiedBy>Мама</cp:lastModifiedBy>
  <dcterms:modified xsi:type="dcterms:W3CDTF">2010-10-08T19:31:07Z</dcterms:modified>
  <cp:revision>18</cp:revision>
  <dc:subject/>
  <dc:title>Пятое октября. Классная работа.</dc:title>
</cp:coreProperties>
</file>