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240-BDE0-47A7-B5D7-47BAC72A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2CE-E73A-4B51-B373-34D755C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06464-E661-4DF4-8571-CCD8A75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9624F-2B9B-429F-8B64-9A8D5EAC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31AD3-69D4-45C1-8741-65ED2DA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9011C-5526-4CAF-A392-D5F6185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E53A2-0CB7-47E4-9355-DE8E0712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8744E-143D-4529-A031-8DDCFF0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58F58-308E-455D-BA04-8A45E75E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B6CF7B-7D53-446E-9A25-10C5A34F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FF6F3-DD6D-4382-B1AA-89DB2AEF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3D1CD-DA20-4184-A3B4-F24ECB10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37F-406D-4B35-B504-8E72EB03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3D11E-0192-46CA-BFBC-B8F41048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08731-F758-44D7-B5EF-4A1D9CF0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442A8-9252-4266-8B43-737D4A77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D3D7D-DAE0-41F9-B164-5CEF9E3E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910FC-0F9F-4A31-A14F-42B09D38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DCE03-1404-4EF2-BA36-C1CB0569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08471-54E7-4EE0-94FA-2DBDEDA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7392F-C70D-44B2-A2EA-2232BAA5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613C8-1403-4FA6-9459-8700515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49FA3-E365-4831-BE39-4E9A4C73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9C0-3C75-4FC2-BCDB-32625609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6804A-1AD2-4F57-ABC7-4874C9F5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C3A0D-5A4C-4DC9-A503-294EF10E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99F5B-FB93-48FC-A6DF-0A74D70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1DC59-A71A-4216-9AA5-BEFE39BB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31D43-9E13-4119-A96D-D25131AD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3475-A496-4E95-88F9-76A55733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D8ECD-24D9-4D22-AE87-A28D170B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C30BC-D80F-4F81-B359-0034B5A2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96495-6347-4475-A077-B22A0A1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57B04-5219-4FAD-AAFA-D32B536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2BF7-3FD7-4516-9E66-B11EE08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02839-8892-4E36-A73A-F2FA9E3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2E6EF-B176-41D1-87B0-EA3F9461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750BA-3C1B-4F55-A8B9-DB9F9EAF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56C4F-8C28-4B52-AE07-78A6F8D4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C199D-72BB-49C0-BB65-3A601AF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51B91D-F206-4D39-9A3F-1E2D364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5A4DB-FCA9-4E2F-8951-2E1FB5B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B3564-6F00-4941-90A5-088513D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76EEB-7508-4AD0-B73B-AC464B66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2E1A2-303F-49BD-9C4E-77FA5988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DD6C-C673-4F1E-9CE5-FA467B88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D2C59F-1662-43FE-88F2-0116926A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B1CB6-F0E1-4835-A57E-DB8A11E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C6CE8-AC1E-416B-A5C3-1083B0C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C85E5-F7EF-4B7F-8B06-5DED4742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43CDF-3B76-43C2-BB38-D1F4D583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20A-9248-4699-8FE3-5CEB60C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838-13FF-49C2-A41E-3347358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B484-3DA8-4585-8B5E-A6764CEA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A755-A991-48F3-9DFA-4B810138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FCA2-4B94-4D76-B86E-83981EA7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307-5E8B-4D88-8F25-F098B53A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215F-DBE4-4FCF-A36B-50D7ACBE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20C2-A5C8-478F-B9C5-5B352D4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19A1-470E-4BFB-A538-8593991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7AEF-DC9C-4AE8-B029-62FAEBD7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E72-72E8-4A44-8C91-3B09AC29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16F88-76CC-44D0-B774-C66FCD69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C79A9-9247-463C-B254-ACCD1A04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538E-0D16-4843-8BF5-2D21DFF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7465-35C9-426B-8F61-1347FA54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5F5D-2837-4535-9B13-DD33BD7F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599-4C54-4BB6-AD5C-A6339826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104F-838F-4BC0-AEE7-E1A5262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22D8-8C1D-438B-8F27-E60A3FD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9215-9594-495C-833A-C48335C8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0C41-7D12-418E-BD4F-6F9AF3D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97C5-653F-4121-9F47-024421B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A796-487E-47B0-88E2-13EEF705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A3577-9DEB-4886-B6F3-BDC79436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8936-343A-4654-9CBC-4A04B13C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59DC-C09F-43F8-B05C-F44ACAB3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AFE9-23A7-47D7-B929-9C82D13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8FF-85D3-4AFC-B610-819530F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5A03-5E09-49EF-981C-CC3852DE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4ABC-B52E-4BF9-80DD-680C9C6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DC2D-18D8-4288-B236-36B5BCF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279EA-A5B8-4599-A3B6-4DF9B05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FB43-7D7F-4F83-B86D-920C5CE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5E85-C7CE-4BB7-9DFD-19317FD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7BC5-9B8E-43CA-9993-7056FF58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A17D9-F844-4D5E-9543-8FD55616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0ACFD-1AD2-4D6B-88B6-90C3E2EF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0CE82-2CDA-464B-ADB5-3E02BF01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9AE-1E31-4780-BDC8-6060139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A851A-F087-4494-9045-81F7CC0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3D1A-AC40-4D1B-B421-528E86F9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3AE9E-9F7F-47B5-AD95-CBF689A0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B8FC1-FCC5-4C72-A210-DDDA45C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C104-4862-4DDC-A72D-70779C9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2E19A-B5ED-4DE6-B0C7-AB48BE21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1EAB-3A0F-4877-BF5D-DB40CC3A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A8338-0D19-4D54-BACE-CA1EF56E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C9F3-B1CF-443D-BF0B-9964A9DA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5F0B-FA96-410E-9EB9-F828D7E2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336-0648-4710-A88D-0C41C1D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B3E1-AB41-4174-B2E1-154E27ED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14ED-AA24-46D4-90A5-44733EB8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58698-C927-4D7C-A65C-FA5D163A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8A282-6805-4FC5-A458-0E862401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1AA2-2386-409D-ADB4-2E01EA89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3EC9-58AA-4A6E-8811-A25C35F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A604-3E01-462A-ABF8-ECEF578E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8BD4-4177-4B68-8C83-0E313E9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6616-C6FA-494A-9D64-34AB22C0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7FEF-21A0-491E-92B2-E45DCAE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5DD-5B79-4946-BC7D-D151817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F1A47-87C2-410E-8E46-19B1B7A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EA55-DEFF-48CD-822D-887D373C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E7FB-986E-4617-8777-B6D7BFB0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2740-076A-4BA8-A00E-2C0CE565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C419-01D2-4158-9F7A-00FC779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3C36-F7C3-4956-A530-705DA17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12E9-1D79-4638-B025-FB13D89C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FF3FD-3FD7-4708-9219-9489338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DFAE-EFE9-40F2-8A91-A1C482A8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FA27F-5297-4A9C-BDC6-07EB9B9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5A1-6091-479D-B5F7-CBD1F40C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7ABB-39F7-4D61-AD2D-644CD683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E906-35D0-4C38-8173-E69AF83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BCEC-0A57-4D9B-B093-CDB11D2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FDF8-877E-4CC0-93E4-A59CD899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0386-7BCB-4D2C-A047-482CE422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55A0-08E4-44EB-934E-FB5904B6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7FFEE-9D9A-43A1-926B-F8490194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9536-C282-444B-A91F-9F4A9E4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1742-2D20-4091-A700-176044F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0A6A-0693-43D9-A363-2C37B7B0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938-66B9-4CD7-AE01-2C155C23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AEEDD-61B3-49EA-ABAF-1FBC2C1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5D56E-550E-4378-8FF9-B3B3820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AD249-AE13-48C3-934B-64578B3E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96E2B-76D6-4E88-8F97-80AA5828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4F45-A894-4D79-8F9B-A810EE5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9F613-488E-476F-B7CA-206EBF0C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CDFE-EA61-48A2-8E32-5A29157E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3F832-18E3-43CE-8C1D-52968226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9DFF5-1358-48FB-97B1-E55BCE1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379C4-B7D7-4F7F-AA20-BF97F5F7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0A1A-9535-4575-9152-096B42F5ABD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542F-B68D-4C01-AC77-6BC78CC6807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678-6309-438B-8B84-908652FE1C9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FA73-932A-4730-8FB7-22B8B3E82A6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E775-AB4D-435B-B39E-76D59261BCF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AF0F-8792-45AF-9451-D9D676AEA12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1EE-88C1-47E0-A4D2-5212830267F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766-0F0A-4731-B824-DF9E8364E19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3214-9742-41F3-BBA1-9E0E6B08726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D49-77A9-4DE3-B08C-9195605F2D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C474-D1D8-4410-8B3F-DF2C40F3BBC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C33-CB91-4AD1-A03E-C37077D17D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920" y="357336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Georgia"/>
              </a:rPr>
              <a:t>Действительные причастия настоящего времени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Когда «Джоконда» была выкрадена неизвестным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злоумышленником из Лувра, на её поиски были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брошены все силы французской полиции.</a:t>
            </a:r>
            <a:r>
              <a:rPr b="1" i="1" lang="en-US" sz="27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-       чи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  -        та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я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      -        узн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а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ь -    преврат</a:t>
            </a:r>
            <a:r>
              <a:rPr b="1" lang="en-US" sz="2700" spc="-1" strike="noStrike">
                <a:solidFill>
                  <a:srgbClr val="c00000"/>
                </a:solidFill>
                <a:latin typeface="Georgia"/>
              </a:rPr>
              <a:t>и</a:t>
            </a:r>
            <a:r>
              <a:rPr b="1" lang="en-US" sz="2700" spc="-1" strike="noStrike">
                <a:solidFill>
                  <a:srgbClr val="0070c0"/>
                </a:solidFill>
                <a:latin typeface="Georgia"/>
              </a:rPr>
              <a:t>л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Нести        -        нё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ти         -        ро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b5064"/>
                </a:solidFill>
                <a:latin typeface="Georgia"/>
              </a:rPr>
              <a:t>Образуйте причастия от глагол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4000" y="1268280"/>
          <a:ext cx="2835000" cy="5308560"/>
        </p:xfrm>
        <a:graphic>
          <a:graphicData uri="http://schemas.openxmlformats.org/drawingml/2006/table">
            <a:tbl>
              <a:tblPr/>
              <a:tblGrid>
                <a:gridCol w="2835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нфини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</a:t>
                      </a: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Georgia"/>
                        </a:rPr>
                        <a:t>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3203640" y="1268280"/>
          <a:ext cx="2952720" cy="530856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 прич.наст.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ю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образу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т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ущ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6143760" y="1268280"/>
          <a:ext cx="3000240" cy="5308560"/>
        </p:xfrm>
        <a:graphic>
          <a:graphicData uri="http://schemas.openxmlformats.org/drawingml/2006/table">
            <a:tbl>
              <a:tblPr/>
              <a:tblGrid>
                <a:gridCol w="3000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Действ.прич.пр.в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т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ая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зна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еврат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в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о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с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  <p:sp>
        <p:nvSpPr>
          <p:cNvPr id="678" name="Прямая соединительная линия 26"/>
          <p:cNvSpPr/>
          <p:nvPr/>
        </p:nvSpPr>
        <p:spPr>
          <a:xfrm flipV="1">
            <a:off x="701928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ая соединительная линия 27"/>
          <p:cNvSpPr/>
          <p:nvPr/>
        </p:nvSpPr>
        <p:spPr>
          <a:xfrm flipH="1" flipV="1">
            <a:off x="7235640" y="1628640"/>
            <a:ext cx="144360" cy="1447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рямая соединительная линия 36"/>
          <p:cNvSpPr/>
          <p:nvPr/>
        </p:nvSpPr>
        <p:spPr>
          <a:xfrm flipH="1" flipV="1">
            <a:off x="6948360" y="2420640"/>
            <a:ext cx="1447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ая соединительная линия 37"/>
          <p:cNvSpPr/>
          <p:nvPr/>
        </p:nvSpPr>
        <p:spPr>
          <a:xfrm flipH="1">
            <a:off x="6732360" y="2421000"/>
            <a:ext cx="14292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ая соединительная линия 43"/>
          <p:cNvSpPr/>
          <p:nvPr/>
        </p:nvSpPr>
        <p:spPr>
          <a:xfrm flipH="1" flipV="1">
            <a:off x="7164000" y="3284280"/>
            <a:ext cx="144360" cy="14436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ая соединительная линия 44"/>
          <p:cNvSpPr/>
          <p:nvPr/>
        </p:nvSpPr>
        <p:spPr>
          <a:xfrm flipV="1">
            <a:off x="7019280" y="3284280"/>
            <a:ext cx="14436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ая соединительная линия 46"/>
          <p:cNvSpPr/>
          <p:nvPr/>
        </p:nvSpPr>
        <p:spPr>
          <a:xfrm flipH="1" flipV="1">
            <a:off x="7884720" y="4076280"/>
            <a:ext cx="14436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ая соединительная линия 47"/>
          <p:cNvSpPr/>
          <p:nvPr/>
        </p:nvSpPr>
        <p:spPr>
          <a:xfrm flipH="1">
            <a:off x="7667280" y="4075920"/>
            <a:ext cx="289080" cy="1429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Прямая соединительная линия 50"/>
          <p:cNvSpPr/>
          <p:nvPr/>
        </p:nvSpPr>
        <p:spPr>
          <a:xfrm flipH="1" flipV="1">
            <a:off x="6948000" y="4868640"/>
            <a:ext cx="71640" cy="2156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ая соединительная линия 51"/>
          <p:cNvSpPr/>
          <p:nvPr/>
        </p:nvSpPr>
        <p:spPr>
          <a:xfrm flipH="1">
            <a:off x="6732360" y="4869000"/>
            <a:ext cx="215640" cy="217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54"/>
          <p:cNvSpPr/>
          <p:nvPr/>
        </p:nvSpPr>
        <p:spPr>
          <a:xfrm flipH="1" flipV="1">
            <a:off x="6948360" y="5660640"/>
            <a:ext cx="14472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57"/>
          <p:cNvSpPr/>
          <p:nvPr/>
        </p:nvSpPr>
        <p:spPr>
          <a:xfrm flipH="1">
            <a:off x="6804000" y="5661000"/>
            <a:ext cx="216000" cy="2890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ид – несовершенный и совершенны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еходность – переходные и непереход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ряжение  -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и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озвратные и невозвратны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TextBox 3"/>
          <p:cNvSpPr/>
          <p:nvPr/>
        </p:nvSpPr>
        <p:spPr>
          <a:xfrm>
            <a:off x="395280" y="400536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 таких глаго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 помощью суффиксов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–вш-, -ш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ожно обра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тельные прич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шедшего времени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Georgia"/>
              </a:rPr>
              <a:t>Словобразовательный разбор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видова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бидев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Заросши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скаявшийс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95" name="Прямая со стрелкой 4"/>
          <p:cNvCxnSpPr/>
          <p:nvPr/>
        </p:nvCxnSpPr>
        <p:spPr>
          <a:xfrm flipH="1" flipV="1">
            <a:off x="3203280" y="2781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6" name="Прямая со стрелкой 7"/>
          <p:cNvCxnSpPr/>
          <p:nvPr/>
        </p:nvCxnSpPr>
        <p:spPr>
          <a:xfrm flipH="1" flipV="1">
            <a:off x="2555640" y="378900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7" name="Прямая со стрелкой 8"/>
          <p:cNvCxnSpPr/>
          <p:nvPr/>
        </p:nvCxnSpPr>
        <p:spPr>
          <a:xfrm flipH="1" flipV="1">
            <a:off x="2410920" y="472356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8" name="Прямая со стрелкой 6"/>
          <p:cNvCxnSpPr/>
          <p:nvPr/>
        </p:nvCxnSpPr>
        <p:spPr>
          <a:xfrm flipH="1" flipV="1">
            <a:off x="3203280" y="5804640"/>
            <a:ext cx="1008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Georgia"/>
              </a:rPr>
              <a:t>Практическая рабо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интакс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ху здесь и там разбросаны желтые цветы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тражавшие солнечный свет своими лепестками.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пишите пословицы, вставив пропущенные буквы и расставив знаки препинания. Укажите одиночные причастия и причастные оборо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гда пьёш… воду. (не)забывай о человеке вырывш…м колодец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лово идущ… от сер…ца согрева…т три зимы подряд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авшее дерево на др…ва рубя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аза зав…дущие, руки загр…бущие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л…тевшее слово и на коне (не)догониш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b5064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зентацию подготовила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реподаватель русского языка и литературы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нсиона воспитанниц Министерства Обороны РФ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Савичева Татьяна Викторовн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8:53:27Z</dcterms:created>
  <dc:creator>пользователь</dc:creator>
  <dc:description/>
  <dc:language>en-US</dc:language>
  <cp:lastModifiedBy>Мама</cp:lastModifiedBy>
  <dcterms:modified xsi:type="dcterms:W3CDTF">2010-10-08T19:31:07Z</dcterms:modified>
  <cp:revision>18</cp:revision>
  <dc:subject/>
  <dc:title>Пятое октября. Классная работа.</dc:title>
</cp:coreProperties>
</file>