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23.wmf" ContentType="image/x-wmf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.wmf" ContentType="image/x-wmf"/>
  <Override PartName="/ppt/media/image24.jpeg" ContentType="image/jpeg"/>
  <Override PartName="/ppt/media/image15.png" ContentType="image/pn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F7CAA-DE85-40A8-8BDE-E522928C9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1295280" y="4097160"/>
            <a:ext cx="7313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B6BBB-0020-49FC-BD68-CA08B510E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129528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504324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93F41-6C6F-4E78-95CC-77DDCE6A8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768120" y="182844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40960" y="182844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1295280" y="409716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768120" y="409716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6240960" y="409716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E48C7-076B-4A3D-9B97-1064BAD84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025E0-BF2A-450E-BDAC-D8D19F7BD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1DEB6-6671-4424-9C30-DADF6C665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E43AA-3E2D-4CF6-97E2-A6C854ACD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F7743-CC7E-4FF4-8000-6E4E02272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80E8D-2CD6-49D5-8A84-8A615F174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371600" y="30456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C1597-91C7-4321-BFFF-19FE23B0D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29528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75775-604A-400F-852E-EBC456858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7F344-C2CD-4780-907A-81ADD6479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04324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50DC2-C830-44E1-9185-E4833E52C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295280" y="4097160"/>
            <a:ext cx="7313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ED999-931A-4EA9-850B-85A15E2DE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295280" y="4097160"/>
            <a:ext cx="7313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1B9DE-4F5F-4078-92F5-AF9A26DCD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29528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04324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0C2E0-C2EE-4D2C-A125-802CE6776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768120" y="182844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240960" y="182844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295280" y="409716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768120" y="409716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240960" y="409716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1972C-A28C-4A5D-A00E-AFFF56116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FD4FD-717E-4EFC-AA44-638B80DE7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8B7DE-35A4-4A19-A9F5-4ADA7F2AC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43B7A-559E-4874-BC93-8C2470CF4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1371600" y="30456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5C896-9EFA-441F-9659-061322BC1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29528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DA4ED-21A9-4C55-82E2-949EA2E81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04324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502FF-32E1-42E6-AB2E-7AC8C17AF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295280" y="4097160"/>
            <a:ext cx="7313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DEFF6-4980-4FEB-954F-331D6337C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914400" y="1600200"/>
            <a:ext cx="8247240" cy="5257800"/>
            <a:chOff x="914400" y="1600200"/>
            <a:chExt cx="8247240" cy="5257800"/>
          </a:xfrm>
        </p:grpSpPr>
        <p:sp>
          <p:nvSpPr>
            <p:cNvPr id="1" name=""/>
            <p:cNvSpPr/>
            <p:nvPr/>
          </p:nvSpPr>
          <p:spPr>
            <a:xfrm>
              <a:off x="1017720" y="1609560"/>
              <a:ext cx="8123040" cy="5247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914400" y="1600200"/>
              <a:ext cx="103320" cy="5256360"/>
            </a:xfrm>
            <a:prstGeom prst="rect">
              <a:avLst/>
            </a:prstGeom>
            <a:solidFill>
              <a:srgbClr val="b389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14400" y="1600200"/>
              <a:ext cx="8247240" cy="98280"/>
            </a:xfrm>
            <a:prstGeom prst="rect">
              <a:avLst/>
            </a:prstGeom>
            <a:solidFill>
              <a:srgbClr val="b389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72820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97680" y="1609560"/>
              <a:ext cx="4143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070760" y="1609560"/>
              <a:ext cx="41112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24060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41188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458316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754440" y="1609560"/>
              <a:ext cx="41292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92428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95560" y="1609560"/>
              <a:ext cx="4143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26684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922320" y="1768320"/>
              <a:ext cx="84240" cy="390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922320" y="2550960"/>
              <a:ext cx="84240" cy="390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22320" y="3335400"/>
              <a:ext cx="84240" cy="3888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922320" y="4118040"/>
              <a:ext cx="84240" cy="390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922320" y="4902120"/>
              <a:ext cx="84240" cy="3891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22320" y="5684760"/>
              <a:ext cx="84240" cy="390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922320" y="6467400"/>
              <a:ext cx="84240" cy="390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01800"/>
                </a:solidFill>
                <a:latin typeface="Arial Narrow"/>
              </a:rPr>
              <a:t>Click to edit the title text format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body"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 type="dt" idx="1"/>
          </p:nvPr>
        </p:nvSpPr>
        <p:spPr>
          <a:xfrm>
            <a:off x="1295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 type="ftr" idx="2"/>
          </p:nvPr>
        </p:nvSpPr>
        <p:spPr>
          <a:xfrm>
            <a:off x="3200040" y="6400800"/>
            <a:ext cx="3505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5"/>
          <p:cNvSpPr>
            <a:spLocks noGrp="1"/>
          </p:cNvSpPr>
          <p:nvPr>
            <p:ph type="sldNum" idx="3"/>
          </p:nvPr>
        </p:nvSpPr>
        <p:spPr>
          <a:xfrm>
            <a:off x="67053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11725-E37D-4058-8BCA-C6A3E3357D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914400" y="1600200"/>
            <a:ext cx="8247240" cy="5257800"/>
            <a:chOff x="914400" y="1600200"/>
            <a:chExt cx="8247240" cy="5257800"/>
          </a:xfrm>
        </p:grpSpPr>
        <p:sp>
          <p:nvSpPr>
            <p:cNvPr id="63" name=""/>
            <p:cNvSpPr/>
            <p:nvPr/>
          </p:nvSpPr>
          <p:spPr>
            <a:xfrm>
              <a:off x="1017720" y="1609560"/>
              <a:ext cx="8123040" cy="5247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914400" y="1600200"/>
              <a:ext cx="103320" cy="5256360"/>
            </a:xfrm>
            <a:prstGeom prst="rect">
              <a:avLst/>
            </a:prstGeom>
            <a:solidFill>
              <a:srgbClr val="b389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914400" y="1600200"/>
              <a:ext cx="8247240" cy="98280"/>
            </a:xfrm>
            <a:prstGeom prst="rect">
              <a:avLst/>
            </a:prstGeom>
            <a:solidFill>
              <a:srgbClr val="b389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72820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897680" y="1609560"/>
              <a:ext cx="4143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070760" y="1609560"/>
              <a:ext cx="41112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24060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41188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58316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754440" y="1609560"/>
              <a:ext cx="41292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92428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095560" y="1609560"/>
              <a:ext cx="4143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6684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922320" y="1768320"/>
              <a:ext cx="84240" cy="390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22320" y="2550960"/>
              <a:ext cx="84240" cy="390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922320" y="3335400"/>
              <a:ext cx="84240" cy="3888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922320" y="4118040"/>
              <a:ext cx="84240" cy="390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922320" y="4902120"/>
              <a:ext cx="84240" cy="3891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22320" y="5684760"/>
              <a:ext cx="84240" cy="390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922320" y="6467400"/>
              <a:ext cx="84240" cy="390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200040" y="30456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01800"/>
                </a:solidFill>
                <a:latin typeface="Arial Narrow"/>
              </a:rPr>
              <a:t>Click to edit the title text format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0" y="0"/>
            <a:ext cx="3057480" cy="2057400"/>
            <a:chOff x="0" y="0"/>
            <a:chExt cx="3057480" cy="2057400"/>
          </a:xfrm>
        </p:grpSpPr>
        <p:sp>
          <p:nvSpPr>
            <p:cNvPr id="85" name=""/>
            <p:cNvSpPr/>
            <p:nvPr/>
          </p:nvSpPr>
          <p:spPr>
            <a:xfrm>
              <a:off x="0" y="0"/>
              <a:ext cx="3048120" cy="20574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6" name=""/>
            <p:cNvGrpSpPr/>
            <p:nvPr/>
          </p:nvGrpSpPr>
          <p:grpSpPr>
            <a:xfrm>
              <a:off x="1440" y="2009880"/>
              <a:ext cx="3052800" cy="47520"/>
              <a:chOff x="1440" y="2009880"/>
              <a:chExt cx="3052800" cy="47520"/>
            </a:xfrm>
          </p:grpSpPr>
          <p:sp>
            <p:nvSpPr>
              <p:cNvPr id="87" name=""/>
              <p:cNvSpPr/>
              <p:nvPr/>
            </p:nvSpPr>
            <p:spPr>
              <a:xfrm>
                <a:off x="1440" y="2009880"/>
                <a:ext cx="3052800" cy="47520"/>
              </a:xfrm>
              <a:prstGeom prst="rect">
                <a:avLst/>
              </a:prstGeom>
              <a:solidFill>
                <a:srgbClr val="b389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9360" y="2021040"/>
                <a:ext cx="152640" cy="3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316080" y="2021040"/>
                <a:ext cx="152280" cy="3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622440" y="2021040"/>
                <a:ext cx="153720" cy="3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930240" y="2021040"/>
                <a:ext cx="152280" cy="3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1236600" y="2021040"/>
                <a:ext cx="152640" cy="3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542960" y="2021040"/>
                <a:ext cx="152640" cy="3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849320" y="2021040"/>
                <a:ext cx="154080" cy="3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2157480" y="2021040"/>
                <a:ext cx="152280" cy="3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2463840" y="2021040"/>
                <a:ext cx="152280" cy="3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2770200" y="2021040"/>
                <a:ext cx="152280" cy="3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8" name=""/>
            <p:cNvGrpSpPr/>
            <p:nvPr/>
          </p:nvGrpSpPr>
          <p:grpSpPr>
            <a:xfrm>
              <a:off x="3014640" y="0"/>
              <a:ext cx="42840" cy="2055960"/>
              <a:chOff x="3014640" y="0"/>
              <a:chExt cx="42840" cy="2055960"/>
            </a:xfrm>
          </p:grpSpPr>
          <p:sp>
            <p:nvSpPr>
              <p:cNvPr id="99" name=""/>
              <p:cNvSpPr/>
              <p:nvPr/>
            </p:nvSpPr>
            <p:spPr>
              <a:xfrm>
                <a:off x="3014640" y="0"/>
                <a:ext cx="42840" cy="2055960"/>
              </a:xfrm>
              <a:prstGeom prst="rect">
                <a:avLst/>
              </a:prstGeom>
              <a:solidFill>
                <a:srgbClr val="b389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3016080" y="1897200"/>
                <a:ext cx="30240" cy="1522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3016080" y="1590840"/>
                <a:ext cx="30240" cy="1522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3016080" y="1284120"/>
                <a:ext cx="30240" cy="15264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3016080" y="977760"/>
                <a:ext cx="30240" cy="15264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016080" y="671400"/>
                <a:ext cx="30240" cy="15264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3016080" y="365040"/>
                <a:ext cx="30240" cy="15264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3016080" y="58680"/>
                <a:ext cx="30240" cy="1522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7" name="PlaceHolder 2"/>
          <p:cNvSpPr>
            <a:spLocks noGrp="1"/>
          </p:cNvSpPr>
          <p:nvPr>
            <p:ph type="dt" idx="4"/>
          </p:nvPr>
        </p:nvSpPr>
        <p:spPr>
          <a:xfrm>
            <a:off x="1295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ftr" idx="5"/>
          </p:nvPr>
        </p:nvSpPr>
        <p:spPr>
          <a:xfrm>
            <a:off x="3200400" y="6400800"/>
            <a:ext cx="3581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sldNum" idx="6"/>
          </p:nvPr>
        </p:nvSpPr>
        <p:spPr>
          <a:xfrm>
            <a:off x="67816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8739D-4180-4BD9-8E48-895EC09552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wmf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1907640" y="3212640"/>
            <a:ext cx="6985080" cy="208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6633"/>
                </a:solidFill>
                <a:latin typeface="Arial Narrow"/>
              </a:rPr>
              <a:t>СОБОР ПОКРОВА ПРЕСВЯТОЙ БОГОРОДИЦЫ НА РВУ 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6633"/>
                </a:solidFill>
                <a:latin typeface="Arial Narrow"/>
              </a:rPr>
              <a:t>(ХРАМ ВАСИЛИЯ БЛАЖЕННОГО)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908000" y="189000"/>
            <a:ext cx="1068480" cy="1844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500"/>
                            </p:stCondLst>
                            <p:childTnLst>
                              <p:par>
                                <p:cTn id="12" nodeType="afterEffect" fill="hold" presetClass="entr" presetID="4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905120" y="259920"/>
            <a:ext cx="7162560" cy="86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33"/>
                </a:solidFill>
                <a:latin typeface="Arial Narrow"/>
              </a:rPr>
              <a:t>Древнерусская архитектура и быт русского человека</a:t>
            </a:r>
            <a:endParaRPr b="0" lang="en-US" sz="3200" spc="-1" strike="noStrike">
              <a:solidFill>
                <a:srgbClr val="301800"/>
              </a:solidFill>
              <a:latin typeface="Arial Narrow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0" y="1268280"/>
            <a:ext cx="5689440" cy="378144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3743280" y="3743280"/>
            <a:ext cx="5400720" cy="311472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5724360" y="2276640"/>
            <a:ext cx="3184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Кокошник как элемен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женской одеж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116000" y="5084640"/>
            <a:ext cx="2454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Кокошни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как элемен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архитектурн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деко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5572080" cy="561996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4572000" y="4541760"/>
            <a:ext cx="4145040" cy="231624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6010200" y="2109960"/>
            <a:ext cx="3026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Шатер и шатрово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покрытие в архитектур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179280" y="404640"/>
            <a:ext cx="6656400" cy="48610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6588000" y="4724280"/>
            <a:ext cx="1882800" cy="1882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3"/>
          <a:stretch/>
        </p:blipFill>
        <p:spPr>
          <a:xfrm>
            <a:off x="7020000" y="2133720"/>
            <a:ext cx="1719360" cy="244764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2036880" y="5321160"/>
            <a:ext cx="4188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Луковица (луковк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Луковичная глава на купол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хра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942240" cy="471816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6084720" y="1197000"/>
            <a:ext cx="3059280" cy="243504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3"/>
          <a:stretch/>
        </p:blipFill>
        <p:spPr>
          <a:xfrm>
            <a:off x="5867280" y="4557600"/>
            <a:ext cx="3276720" cy="23004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4"/>
          <a:stretch/>
        </p:blipFill>
        <p:spPr>
          <a:xfrm>
            <a:off x="0" y="4751280"/>
            <a:ext cx="2916360" cy="210672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2987640" y="4797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987640" y="4724280"/>
            <a:ext cx="28796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Русская вышив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Роспись деревянно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посу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Орнаментальная роспис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сте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900000" y="1699920"/>
            <a:ext cx="8244000" cy="515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33"/>
                </a:solidFill>
                <a:latin typeface="Arial Narrow"/>
              </a:rPr>
              <a:t>Небольшая бесстолпная пристройка со стороны южного или северного посада –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33"/>
                </a:solidFill>
                <a:latin typeface="Arial Narrow"/>
              </a:rPr>
              <a:t>Восьмиугольное в плане сооружение - 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33"/>
                </a:solidFill>
                <a:latin typeface="Arial Narrow"/>
              </a:rPr>
              <a:t>Покрытие в форме высокой 4-гранной или многогранной пирамиды -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33"/>
                </a:solidFill>
                <a:latin typeface="Arial Narrow"/>
              </a:rPr>
              <a:t>Пространственное покрытие зданий круглых в плане -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33"/>
                </a:solidFill>
                <a:latin typeface="Arial Narrow"/>
              </a:rPr>
              <a:t>Навесные бойницы, расположенные в верхних частях стен и башен средневековых укреплений -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33"/>
                </a:solidFill>
                <a:latin typeface="Arial Narrow"/>
              </a:rPr>
              <a:t>Полукруглое или клиновидное фальшивое завершение части наружной стены, часто располагающееся ярусами -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33"/>
                </a:solidFill>
                <a:latin typeface="Arial Narrow"/>
              </a:rPr>
              <a:t>Башнеобразное сооружение или сооружение в виде колонны -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1079640" cy="14414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40">
                                  <p:stCondLst>
                                    <p:cond delay="3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0300"/>
                            </p:stCondLst>
                            <p:childTnLst>
                              <p:par>
                                <p:cTn id="127" nodeType="afterEffect" fill="hold" presetClass="entr" presetID="40">
                                  <p:stCondLst>
                                    <p:cond delay="3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7300"/>
                            </p:stCondLst>
                            <p:childTnLst>
                              <p:par>
                                <p:cTn id="133" nodeType="afterEffect" fill="hold" presetClass="entr" presetID="40">
                                  <p:stCondLst>
                                    <p:cond delay="3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26600"/>
                            </p:stCondLst>
                            <p:childTnLst>
                              <p:par>
                                <p:cTn id="139" nodeType="afterEffect" fill="hold" presetClass="entr" presetID="40">
                                  <p:stCondLst>
                                    <p:cond delay="3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34900"/>
                            </p:stCondLst>
                            <p:childTnLst>
                              <p:par>
                                <p:cTn id="145" nodeType="afterEffect" fill="hold" presetClass="entr" presetID="40">
                                  <p:stCondLst>
                                    <p:cond delay="3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6500"/>
                            </p:stCondLst>
                            <p:childTnLst>
                              <p:par>
                                <p:cTn id="151" nodeType="afterEffect" fill="hold" presetClass="entr" presetID="40">
                                  <p:stCondLst>
                                    <p:cond delay="3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9500"/>
                            </p:stCondLst>
                            <p:childTnLst>
                              <p:par>
                                <p:cTn id="157" nodeType="afterEffect" fill="hold" presetClass="entr" presetID="40">
                                  <p:stCondLst>
                                    <p:cond delay="3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564000" y="333000"/>
            <a:ext cx="5580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33"/>
                </a:solidFill>
                <a:latin typeface="Arial Narrow"/>
              </a:rPr>
              <a:t>Д.Кедрин «Зодчие»</a:t>
            </a:r>
            <a:endParaRPr b="0" lang="en-US" sz="24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42560" y="1773000"/>
            <a:ext cx="8101080" cy="484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… 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Мастера выплетали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Узоры из каменных кружев,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Выводили столбы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И, работой своею горды,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Купол золотом жгли,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Кровли крыли лазурью снаружи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И в свинцовые рамки 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Вставляли чешуйки слюды.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И уже потянулись 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Стрельчатые башенки кверху,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Переходы,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Балкончики,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Луковки да купола.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И дивились ученые люди, -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Зане эта церковь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Краше вилл италийских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И пагод индийских была!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1079640" cy="14414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40">
                                  <p:stCondLst>
                                    <p:cond delay="1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3600"/>
                            </p:stCondLst>
                            <p:childTnLst>
                              <p:par>
                                <p:cTn id="172" nodeType="afterEffect" fill="hold" presetClass="entr" presetID="40">
                                  <p:stCondLst>
                                    <p:cond delay="1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7700"/>
                            </p:stCondLst>
                            <p:childTnLst>
                              <p:par>
                                <p:cTn id="178" nodeType="afterEffect" fill="hold" presetClass="entr" presetID="40">
                                  <p:stCondLst>
                                    <p:cond delay="1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11000"/>
                            </p:stCondLst>
                            <p:childTnLst>
                              <p:par>
                                <p:cTn id="184" nodeType="afterEffect" fill="hold" presetClass="entr" presetID="40">
                                  <p:stCondLst>
                                    <p:cond delay="1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4900"/>
                            </p:stCondLst>
                            <p:childTnLst>
                              <p:par>
                                <p:cTn id="190" nodeType="afterEffect" fill="hold" presetClass="entr" presetID="40">
                                  <p:stCondLst>
                                    <p:cond delay="1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18500"/>
                            </p:stCondLst>
                            <p:childTnLst>
                              <p:par>
                                <p:cTn id="196" nodeType="afterEffect" fill="hold" presetClass="entr" presetID="40">
                                  <p:stCondLst>
                                    <p:cond delay="1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2900"/>
                            </p:stCondLst>
                            <p:childTnLst>
                              <p:par>
                                <p:cTn id="202" nodeType="afterEffect" fill="hold" presetClass="entr" presetID="40">
                                  <p:stCondLst>
                                    <p:cond delay="1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26400"/>
                            </p:stCondLst>
                            <p:childTnLst>
                              <p:par>
                                <p:cTn id="208" nodeType="afterEffect" fill="hold" presetClass="entr" presetID="40">
                                  <p:stCondLst>
                                    <p:cond delay="1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30500"/>
                            </p:stCondLst>
                            <p:childTnLst>
                              <p:par>
                                <p:cTn id="214" nodeType="afterEffect" fill="hold" presetClass="entr" presetID="40">
                                  <p:stCondLst>
                                    <p:cond delay="1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2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2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2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33800"/>
                            </p:stCondLst>
                            <p:childTnLst>
                              <p:par>
                                <p:cTn id="220" nodeType="afterEffect" fill="hold" presetClass="entr" presetID="40">
                                  <p:stCondLst>
                                    <p:cond delay="1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2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2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2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38200"/>
                            </p:stCondLst>
                            <p:childTnLst>
                              <p:par>
                                <p:cTn id="226" nodeType="afterEffect" fill="hold" presetClass="entr" presetID="40">
                                  <p:stCondLst>
                                    <p:cond delay="1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2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2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2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41000"/>
                            </p:stCondLst>
                            <p:childTnLst>
                              <p:par>
                                <p:cTn id="232" nodeType="afterEffect" fill="hold" presetClass="entr" presetID="40">
                                  <p:stCondLst>
                                    <p:cond delay="1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2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2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2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44000"/>
                            </p:stCondLst>
                            <p:childTnLst>
                              <p:par>
                                <p:cTn id="238" nodeType="afterEffect" fill="hold" presetClass="entr" presetID="40">
                                  <p:stCondLst>
                                    <p:cond delay="1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20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20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20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47500"/>
                            </p:stCondLst>
                            <p:childTnLst>
                              <p:par>
                                <p:cTn id="244" nodeType="afterEffect" fill="hold" presetClass="entr" presetID="40">
                                  <p:stCondLst>
                                    <p:cond delay="1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20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20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20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51500"/>
                            </p:stCondLst>
                            <p:childTnLst>
                              <p:par>
                                <p:cTn id="250" nodeType="afterEffect" fill="hold" presetClass="entr" presetID="40">
                                  <p:stCondLst>
                                    <p:cond delay="1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20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20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20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54800"/>
                            </p:stCondLst>
                            <p:childTnLst>
                              <p:par>
                                <p:cTn id="256" nodeType="afterEffect" fill="hold" presetClass="entr" presetID="40">
                                  <p:stCondLst>
                                    <p:cond delay="1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20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20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20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58600"/>
                            </p:stCondLst>
                            <p:childTnLst>
                              <p:par>
                                <p:cTn id="262" nodeType="afterEffect" fill="hold" presetClass="entr" presetID="40">
                                  <p:stCondLst>
                                    <p:cond delay="1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20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20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20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1042560" y="4941360"/>
            <a:ext cx="7921800" cy="191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1.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Как вы думаете, случайно ли мастера выбрали для собора место на Красной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площади, рядом с главным въездом в Кремль?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6985080" cy="46670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3924000" y="1828800"/>
            <a:ext cx="521964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2. 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Первоначально храм имел суровую гамму окраски: темно-красный тон росписи «под кирпич», белые детали, зеленовато-желтые изразцовые вставки, черный тон лощеной черепицы, золото крестов. В 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XVII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 веке собор раскрасили. Теперь собор стал восприниматься как образ Нерукотворного Храма Града Божия в городе земном. Что способствовало появлению такого впечатления?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733920" cy="56196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5148000" y="1699920"/>
            <a:ext cx="3995640" cy="515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3. 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Существует легенда, согласно которой Иван Грозный повелел ослепить зодчих, возводивших храм, чтобы они не смогли возвести второго подобного сооружения. Как вы думаете, почему эта легенда возникла?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4895640" cy="56196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1295280" y="2492280"/>
            <a:ext cx="7313760" cy="367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00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Какой образ, как вам кажется, наиболее соответствует возведенному собору? Свой ответ аргументируйте.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1671480" cy="22320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4000">
    <p:push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6633"/>
                </a:solidFill>
                <a:latin typeface="Arial Narrow"/>
              </a:rPr>
              <a:t>ХРАМ ПОХОЖ НА…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5334120" y="1700280"/>
            <a:ext cx="3809880" cy="203832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6012000" y="3645000"/>
            <a:ext cx="3132000" cy="300996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3"/>
          <a:stretch/>
        </p:blipFill>
        <p:spPr>
          <a:xfrm>
            <a:off x="971640" y="1700280"/>
            <a:ext cx="2666880" cy="303840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4"/>
          <a:stretch/>
        </p:blipFill>
        <p:spPr>
          <a:xfrm>
            <a:off x="3348000" y="3429000"/>
            <a:ext cx="2459160" cy="34290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2177280" y="5310360"/>
            <a:ext cx="10206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96633"/>
                </a:solidFill>
                <a:latin typeface="Times New Roman"/>
              </a:rPr>
              <a:t>..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324000" y="189000"/>
            <a:ext cx="1079280" cy="14414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0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768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4" dur="768" fill="hold"/>
                                        <p:tgtEl>
                                          <p:spTgt spid="21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7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76" dur="768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7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78" dur="768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7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587640" y="3357720"/>
            <a:ext cx="2305080" cy="158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01800"/>
                </a:solidFill>
                <a:latin typeface="Arial Narrow"/>
              </a:rPr>
              <a:t> </a:t>
            </a:r>
            <a:r>
              <a:rPr b="1" lang="ru-RU" sz="2800" spc="-1" strike="noStrike">
                <a:solidFill>
                  <a:srgbClr val="996633"/>
                </a:solidFill>
                <a:latin typeface="Arial Narrow"/>
              </a:rPr>
              <a:t>Таким храм увидел русский художник</a:t>
            </a:r>
            <a:br>
              <a:rPr sz="2800"/>
            </a:br>
            <a:r>
              <a:rPr b="1" lang="ru-RU" sz="2800" spc="-1" strike="noStrike">
                <a:solidFill>
                  <a:srgbClr val="996633"/>
                </a:solidFill>
                <a:latin typeface="Arial Narrow"/>
              </a:rPr>
              <a:t>А.В.Лентулов</a:t>
            </a:r>
            <a:endParaRPr b="0" lang="en-US" sz="2800" spc="-1" strike="noStrike">
              <a:solidFill>
                <a:srgbClr val="301800"/>
              </a:solidFill>
              <a:latin typeface="Arial Narrow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539040" cy="68580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0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0" y="222120"/>
            <a:ext cx="9144000" cy="66358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push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4000">
    <p:push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2800" spc="-1" strike="noStrike">
                <a:solidFill>
                  <a:srgbClr val="301800"/>
                </a:solidFill>
                <a:latin typeface="Arial Narrow"/>
              </a:rPr>
              <a:t>Архитектурная конструкция Покровского собора.</a:t>
            </a:r>
            <a:br>
              <a:rPr sz="4400"/>
            </a:br>
            <a:endParaRPr b="0" lang="en-US" sz="2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042560" y="1699920"/>
            <a:ext cx="8101080" cy="515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Narrow"/>
              </a:rPr>
              <a:t>        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Силуэт Покровского собора узнаваем во всем мире из-за необычности архитектурной композиции (девять церквей на едином основании) и неповторимого покрытия глав.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        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Первый этаж собора - церковь Св. Василия Блаженного и подклет (подцерковье). 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       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На втором этаже - ансамбль из девяти церквей, объединенных внутренней и наружной галереями. Галереи перекрыты сводами, над лестницами – крыльца.  Главы, венчающие купола храма, разнофигурные и многоцветные. Центральная церковь Покрова увенчана шатром. В разное время к собору были пристроены приделы и шатровая колокольня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858960" cy="14842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4240"/>
                            </p:stCondLst>
                            <p:childTnLst>
                              <p:par>
                                <p:cTn id="27" nodeType="afterEffect" fill="hold" presetClass="entr" presetID="40">
                                  <p:stCondLst>
                                    <p:cond delay="1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20040"/>
                            </p:stCondLst>
                            <p:childTnLst>
                              <p:par>
                                <p:cTn id="33" nodeType="afterEffect" fill="hold" presetClass="entr" presetID="40">
                                  <p:stCondLst>
                                    <p:cond delay="1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28540"/>
                            </p:stCondLst>
                            <p:childTnLst>
                              <p:par>
                                <p:cTn id="39" nodeType="afterEffect" fill="hold" presetClass="entr" presetID="40">
                                  <p:stCondLst>
                                    <p:cond delay="1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1042560" y="1828800"/>
            <a:ext cx="810108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6633"/>
                </a:solidFill>
                <a:latin typeface="Arial Narrow"/>
              </a:rPr>
              <a:t>Глава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6633"/>
                </a:solidFill>
                <a:latin typeface="Arial Narrow"/>
              </a:rPr>
              <a:t>Подклет (подцерковье)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6633"/>
                </a:solidFill>
                <a:latin typeface="Arial Narrow"/>
              </a:rPr>
              <a:t>Ансамбль из девяти церквей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6633"/>
                </a:solidFill>
                <a:latin typeface="Arial Narrow"/>
              </a:rPr>
              <a:t>Галереи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6633"/>
                </a:solidFill>
                <a:latin typeface="Arial Narrow"/>
              </a:rPr>
              <a:t>Крыльца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6633"/>
                </a:solidFill>
                <a:latin typeface="Arial Narrow"/>
              </a:rPr>
              <a:t>Купола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6633"/>
                </a:solidFill>
                <a:latin typeface="Arial Narrow"/>
              </a:rPr>
              <a:t>Придел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6633"/>
                </a:solidFill>
                <a:latin typeface="Arial Narrow"/>
              </a:rPr>
              <a:t>Шатер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6633"/>
                </a:solidFill>
                <a:latin typeface="Arial Narrow"/>
              </a:rPr>
              <a:t>Колокольня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179280" y="0"/>
            <a:ext cx="1068480" cy="18446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40">
                                  <p:stCondLst>
                                    <p:cond delay="1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2400"/>
                            </p:stCondLst>
                            <p:childTnLst>
                              <p:par>
                                <p:cTn id="54" nodeType="afterEffect" fill="hold" presetClass="entr" presetID="40">
                                  <p:stCondLst>
                                    <p:cond delay="1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6300"/>
                            </p:stCondLst>
                            <p:childTnLst>
                              <p:par>
                                <p:cTn id="60" nodeType="afterEffect" fill="hold" presetClass="entr" presetID="40">
                                  <p:stCondLst>
                                    <p:cond delay="1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0500"/>
                            </p:stCondLst>
                            <p:childTnLst>
                              <p:par>
                                <p:cTn id="66" nodeType="afterEffect" fill="hold" presetClass="entr" presetID="40">
                                  <p:stCondLst>
                                    <p:cond delay="1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3100"/>
                            </p:stCondLst>
                            <p:childTnLst>
                              <p:par>
                                <p:cTn id="72" nodeType="afterEffect" fill="hold" presetClass="entr" presetID="40">
                                  <p:stCondLst>
                                    <p:cond delay="1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5700"/>
                            </p:stCondLst>
                            <p:childTnLst>
                              <p:par>
                                <p:cTn id="78" nodeType="afterEffect" fill="hold" presetClass="entr" presetID="40">
                                  <p:stCondLst>
                                    <p:cond delay="1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8200"/>
                            </p:stCondLst>
                            <p:childTnLst>
                              <p:par>
                                <p:cTn id="84" nodeType="afterEffect" fill="hold" presetClass="entr" presetID="40">
                                  <p:stCondLst>
                                    <p:cond delay="1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20700"/>
                            </p:stCondLst>
                            <p:childTnLst>
                              <p:par>
                                <p:cTn id="90" nodeType="afterEffect" fill="hold" presetClass="entr" presetID="40">
                                  <p:stCondLst>
                                    <p:cond delay="1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23100"/>
                            </p:stCondLst>
                            <p:childTnLst>
                              <p:par>
                                <p:cTn id="96" nodeType="afterEffect" fill="hold" presetClass="entr" presetID="40">
                                  <p:stCondLst>
                                    <p:cond delay="1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1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238880" cy="6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АРХИТЕКТУРНАЯ КОНСТРУКЦИЯ СОБОРА</a:t>
            </a:r>
            <a:endParaRPr b="0" lang="en-US" sz="2800" spc="-1" strike="noStrike">
              <a:solidFill>
                <a:srgbClr val="301800"/>
              </a:solidFill>
              <a:latin typeface="Arial Narrow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826920" y="628560"/>
            <a:ext cx="8317080" cy="622944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1045080" y="2133720"/>
            <a:ext cx="188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купо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глава, луковка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3280" y="1268280"/>
            <a:ext cx="220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шатер (восьмерик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721640" y="4241880"/>
            <a:ext cx="82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шат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250720" y="6257880"/>
            <a:ext cx="11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Вх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крыльц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59280" y="5157720"/>
            <a:ext cx="218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Галерея(гульбищ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713640" y="2082960"/>
            <a:ext cx="75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крес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619280" y="3429000"/>
            <a:ext cx="205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Световой бараб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шея, столп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138000" y="6114960"/>
            <a:ext cx="258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Подклет (подцерковье</a:t>
            </a:r>
            <a:r>
              <a:rPr b="1" lang="ru-RU" sz="1800" spc="-1" strike="noStrike">
                <a:solidFill>
                  <a:srgbClr val="9d9c81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004520" y="3522600"/>
            <a:ext cx="138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кокошн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308720" cy="685800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5799600" y="2852640"/>
            <a:ext cx="141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колоколь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звонниц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771640" y="3429000"/>
            <a:ext cx="23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ашику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(навесные бойницы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059280" y="443700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кокошн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8604360" y="4005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8223120" y="4221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5940360" y="5084640"/>
            <a:ext cx="92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приде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845080" y="4869000"/>
            <a:ext cx="88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апси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8231040" y="3500280"/>
            <a:ext cx="91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карни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1T01:42:05Z</dcterms:created>
  <dc:creator>school</dc:creator>
  <dc:description/>
  <dc:language>en-US</dc:language>
  <cp:lastModifiedBy>1</cp:lastModifiedBy>
  <dcterms:modified xsi:type="dcterms:W3CDTF">2010-04-15T12:14:44Z</dcterms:modified>
  <cp:revision>8</cp:revision>
  <dc:subject/>
  <dc:title>Урок развития речи   8класс ОПИСАНИЕ ПАМЯТНИКА</dc:title>
</cp:coreProperties>
</file>