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23.wmf" ContentType="image/x-wmf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wmf" ContentType="image/x-wmf"/>
  <Override PartName="/ppt/media/image24.jpeg" ContentType="image/jpeg"/>
  <Override PartName="/ppt/media/image15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224E-662B-4E92-AC8C-BD0B74B78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063C-AEBF-47B5-BBEC-9C15B1986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F400-4E00-4414-8771-ACA15E76C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2ADD-8507-4113-9701-869325274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5008A-EE3D-419C-845E-23E43AACD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D82C8-163B-4D28-ACC5-520E6D0A3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69896-B737-4CEC-9877-D8568399E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7E7B5-66C8-47FF-8486-E30875B19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2028C-B714-4428-8DD4-7F239C953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455D6-8C60-4F29-BAEE-DB33736B1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A4974-4E69-454E-AD96-98DBB978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ADC1-5B01-40B8-A505-8CAF86558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D0172-764B-458B-B056-C992F3D58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26D93-787F-4DA5-9117-244C19D7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A24C5-B909-4124-9B19-66CF5F783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30C29-6ECF-45BC-BD75-1CD67DC00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1FC31-A5F4-49CB-B15F-B60FFE629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386D-0F06-4BAB-AB2C-D23B999F7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E645-E144-4D8D-A4BA-D51699A59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9297-67F1-45C2-934F-12D7258B6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CF0C-DC58-41B8-B9D5-BE40FEB1B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B215-22FB-4D39-9D1C-88EFEB896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7DD5-6F04-4B43-B69C-0E1094EAC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CE09-ADC4-4FCE-B0F2-1FB5B237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1" name="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018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body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 type="dt" idx="1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5"/>
          <p:cNvSpPr>
            <a:spLocks noGrp="1"/>
          </p:cNvSpPr>
          <p:nvPr>
            <p:ph type="sldNum" idx="3"/>
          </p:nvPr>
        </p:nvSpPr>
        <p:spPr>
          <a:xfrm>
            <a:off x="67053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78AED-DF45-4320-9280-1B239527BA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63" name="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018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0" y="0"/>
            <a:ext cx="3057480" cy="2057400"/>
            <a:chOff x="0" y="0"/>
            <a:chExt cx="3057480" cy="2057400"/>
          </a:xfrm>
        </p:grpSpPr>
        <p:sp>
          <p:nvSpPr>
            <p:cNvPr id="85" name=""/>
            <p:cNvSpPr/>
            <p:nvPr/>
          </p:nvSpPr>
          <p:spPr>
            <a:xfrm>
              <a:off x="0" y="0"/>
              <a:ext cx="3048120" cy="2057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1440" y="2009880"/>
              <a:ext cx="3052800" cy="47520"/>
              <a:chOff x="1440" y="2009880"/>
              <a:chExt cx="3052800" cy="47520"/>
            </a:xfrm>
          </p:grpSpPr>
          <p:sp>
            <p:nvSpPr>
              <p:cNvPr id="87" name=""/>
              <p:cNvSpPr/>
              <p:nvPr/>
            </p:nvSpPr>
            <p:spPr>
              <a:xfrm>
                <a:off x="1440" y="2009880"/>
                <a:ext cx="3052800" cy="47520"/>
              </a:xfrm>
              <a:prstGeom prst="rect">
                <a:avLst/>
              </a:prstGeom>
              <a:solidFill>
                <a:srgbClr val="b38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36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1608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22440" y="2021040"/>
                <a:ext cx="15372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93024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23660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54296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849320" y="2021040"/>
                <a:ext cx="1540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15748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46384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77020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3014640" y="0"/>
              <a:ext cx="42840" cy="2055960"/>
              <a:chOff x="3014640" y="0"/>
              <a:chExt cx="42840" cy="2055960"/>
            </a:xfrm>
          </p:grpSpPr>
          <p:sp>
            <p:nvSpPr>
              <p:cNvPr id="99" name=""/>
              <p:cNvSpPr/>
              <p:nvPr/>
            </p:nvSpPr>
            <p:spPr>
              <a:xfrm>
                <a:off x="3014640" y="0"/>
                <a:ext cx="42840" cy="2055960"/>
              </a:xfrm>
              <a:prstGeom prst="rect">
                <a:avLst/>
              </a:prstGeom>
              <a:solidFill>
                <a:srgbClr val="b38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016080" y="189720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016080" y="159084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016080" y="128412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016080" y="97776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016080" y="67140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016080" y="36504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016080" y="5868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7" name="PlaceHolder 2"/>
          <p:cNvSpPr>
            <a:spLocks noGrp="1"/>
          </p:cNvSpPr>
          <p:nvPr>
            <p:ph type="dt" idx="4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ftr" idx="5"/>
          </p:nvPr>
        </p:nvSpPr>
        <p:spPr>
          <a:xfrm>
            <a:off x="3200400" y="640080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sldNum" idx="6"/>
          </p:nvPr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9E738-5899-48A9-8514-36CDAF86B2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wmf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1907640" y="3212640"/>
            <a:ext cx="6985080" cy="208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33"/>
                </a:solidFill>
                <a:latin typeface="Arial Narrow"/>
              </a:rPr>
              <a:t>СОБОР ПОКРОВА ПРЕСВЯТОЙ БОГОРОДИЦЫ НА РВУ 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33"/>
                </a:solidFill>
                <a:latin typeface="Arial Narrow"/>
              </a:rPr>
              <a:t>(ХРАМ ВАСИЛИЯ БЛАЖЕННОГО)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908000" y="189000"/>
            <a:ext cx="1068480" cy="184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05120" y="259920"/>
            <a:ext cx="716256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Arial Narrow"/>
              </a:rPr>
              <a:t>Древнерусская архитектура и быт русского человека</a:t>
            </a:r>
            <a:endParaRPr b="0" lang="en-US" sz="3200" spc="-1" strike="noStrike">
              <a:solidFill>
                <a:srgbClr val="301800"/>
              </a:solidFill>
              <a:latin typeface="Arial Narrow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5689440" cy="37814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3743280" y="3743280"/>
            <a:ext cx="5400720" cy="31147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5724360" y="2276640"/>
            <a:ext cx="318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окошник как эле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женской одеж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116000" y="5084640"/>
            <a:ext cx="2454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окошни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ак эле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рхитектур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ек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5572080" cy="56199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4572000" y="4541760"/>
            <a:ext cx="4145040" cy="23162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6010200" y="2109960"/>
            <a:ext cx="302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Шатер и шатров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крытие в архитек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6656400" cy="48610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6588000" y="4724280"/>
            <a:ext cx="1882800" cy="1882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7020000" y="2133720"/>
            <a:ext cx="1719360" cy="24476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2036880" y="5321160"/>
            <a:ext cx="418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уковица (луков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уковичная глава на купо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р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942240" cy="47181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6084720" y="1197000"/>
            <a:ext cx="3059280" cy="24350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5867280" y="4557600"/>
            <a:ext cx="3276720" cy="23004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4"/>
          <a:stretch/>
        </p:blipFill>
        <p:spPr>
          <a:xfrm>
            <a:off x="0" y="4751280"/>
            <a:ext cx="2916360" cy="21067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987640" y="4797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987640" y="4724280"/>
            <a:ext cx="2879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усская вышив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оспись деревян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су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рнаментальная роспис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т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900000" y="1699920"/>
            <a:ext cx="8244000" cy="515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Arial Narrow"/>
              </a:rPr>
              <a:t>Небольшая бесстолпная пристройка со стороны южного или северного посада –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Arial Narrow"/>
              </a:rPr>
              <a:t>Восьмиугольное в плане сооружение - 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Arial Narrow"/>
              </a:rPr>
              <a:t>Покрытие в форме высокой 4-гранной или многогранной пирамиды -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Arial Narrow"/>
              </a:rPr>
              <a:t>Пространственное покрытие зданий круглых в плане -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Arial Narrow"/>
              </a:rPr>
              <a:t>Навесные бойницы, расположенные в верхних частях стен и башен средневековых укреплений -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Arial Narrow"/>
              </a:rPr>
              <a:t>Полукруглое или клиновидное фальшивое завершение части наружной стены, часто располагающееся ярусами -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Arial Narrow"/>
              </a:rPr>
              <a:t>Башнеобразное сооружение или сооружение в виде колонны -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079640" cy="1441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40">
                                  <p:stCondLst>
                                    <p:cond delay="3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300"/>
                            </p:stCondLst>
                            <p:childTnLst>
                              <p:par>
                                <p:cTn id="127" nodeType="afterEffect" fill="hold" presetClass="entr" presetID="40">
                                  <p:stCondLst>
                                    <p:cond delay="3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7300"/>
                            </p:stCondLst>
                            <p:childTnLst>
                              <p:par>
                                <p:cTn id="133" nodeType="afterEffect" fill="hold" presetClass="entr" presetID="40">
                                  <p:stCondLst>
                                    <p:cond delay="3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6600"/>
                            </p:stCondLst>
                            <p:childTnLst>
                              <p:par>
                                <p:cTn id="139" nodeType="afterEffect" fill="hold" presetClass="entr" presetID="40">
                                  <p:stCondLst>
                                    <p:cond delay="3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4900"/>
                            </p:stCondLst>
                            <p:childTnLst>
                              <p:par>
                                <p:cTn id="145" nodeType="afterEffect" fill="hold" presetClass="entr" presetID="40">
                                  <p:stCondLst>
                                    <p:cond delay="3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6500"/>
                            </p:stCondLst>
                            <p:childTnLst>
                              <p:par>
                                <p:cTn id="151" nodeType="afterEffect" fill="hold" presetClass="entr" presetID="40">
                                  <p:stCondLst>
                                    <p:cond delay="3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9500"/>
                            </p:stCondLst>
                            <p:childTnLst>
                              <p:par>
                                <p:cTn id="157" nodeType="afterEffect" fill="hold" presetClass="entr" presetID="40">
                                  <p:stCondLst>
                                    <p:cond delay="3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564000" y="333000"/>
            <a:ext cx="5580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Arial Narrow"/>
              </a:rPr>
              <a:t>Д.Кедрин «Зодчие»</a:t>
            </a:r>
            <a:endParaRPr b="0" lang="en-US" sz="24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42560" y="1773000"/>
            <a:ext cx="8101080" cy="484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…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Мастера выплетали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Узоры из каменных кружев,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Выводили столбы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И, работой своею горды,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Купол золотом жгли,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Кровли крыли лазурью снаружи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И в свинцовые рамки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Вставляли чешуйки слюды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И уже потянулись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Стрельчатые башенки кверху,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Переходы,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Балкончики,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Луковки да купола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И дивились ученые люди, -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Зане эта церковь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Краше вилл италийских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И пагод индийских была!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079640" cy="1441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600"/>
                            </p:stCondLst>
                            <p:childTnLst>
                              <p:par>
                                <p:cTn id="172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7700"/>
                            </p:stCondLst>
                            <p:childTnLst>
                              <p:par>
                                <p:cTn id="178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4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4900"/>
                            </p:stCondLst>
                            <p:childTnLst>
                              <p:par>
                                <p:cTn id="190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8500"/>
                            </p:stCondLst>
                            <p:childTnLst>
                              <p:par>
                                <p:cTn id="196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2900"/>
                            </p:stCondLst>
                            <p:childTnLst>
                              <p:par>
                                <p:cTn id="202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6400"/>
                            </p:stCondLst>
                            <p:childTnLst>
                              <p:par>
                                <p:cTn id="208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30500"/>
                            </p:stCondLst>
                            <p:childTnLst>
                              <p:par>
                                <p:cTn id="214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33800"/>
                            </p:stCondLst>
                            <p:childTnLst>
                              <p:par>
                                <p:cTn id="220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38200"/>
                            </p:stCondLst>
                            <p:childTnLst>
                              <p:par>
                                <p:cTn id="226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41000"/>
                            </p:stCondLst>
                            <p:childTnLst>
                              <p:par>
                                <p:cTn id="232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44000"/>
                            </p:stCondLst>
                            <p:childTnLst>
                              <p:par>
                                <p:cTn id="238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47500"/>
                            </p:stCondLst>
                            <p:childTnLst>
                              <p:par>
                                <p:cTn id="244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2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1500"/>
                            </p:stCondLst>
                            <p:childTnLst>
                              <p:par>
                                <p:cTn id="250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2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4800"/>
                            </p:stCondLst>
                            <p:childTnLst>
                              <p:par>
                                <p:cTn id="256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20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0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0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8600"/>
                            </p:stCondLst>
                            <p:childTnLst>
                              <p:par>
                                <p:cTn id="262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2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042560" y="4941360"/>
            <a:ext cx="7921800" cy="191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Как вы думаете, случайно ли мастера выбрали для собора место на Красной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площади, рядом с главным въездом в Кремль?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6985080" cy="46670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924000" y="1828800"/>
            <a:ext cx="52196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2. 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ервоначально храм имел суровую гамму окраски: темно-красный тон росписи «под кирпич», белые детали, зеленовато-желтые изразцовые вставки, черный тон лощеной черепицы, золото крестов. В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XVII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веке собор раскрасили. Теперь собор стал восприниматься как образ Нерукотворного Храма Града Божия в городе земном. Что способствовало появлению такого впечатления?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733920" cy="5619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5148000" y="1699920"/>
            <a:ext cx="3995640" cy="515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3.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Существует легенда, согласно которой Иван Грозный повелел ослепить зодчих, возводивших храм, чтобы они не смогли возвести второго подобного сооружения. Как вы думаете, почему эта легенда возникла?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4895640" cy="5619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1295280" y="2492280"/>
            <a:ext cx="7313760" cy="367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Какой образ, как вам кажется, наиболее соответствует возведенному собору? Свой ответ аргументируйте.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1671480" cy="2232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4000">
    <p:push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6633"/>
                </a:solidFill>
                <a:latin typeface="Arial Narrow"/>
              </a:rPr>
              <a:t>ХРАМ ПОХОЖ НА…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5334120" y="1700280"/>
            <a:ext cx="3809880" cy="20383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6012000" y="3645000"/>
            <a:ext cx="3132000" cy="30099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971640" y="1700280"/>
            <a:ext cx="2666880" cy="30384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3348000" y="3429000"/>
            <a:ext cx="2459160" cy="3429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2177280" y="5310360"/>
            <a:ext cx="1020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6633"/>
                </a:solidFill>
                <a:latin typeface="Times New Roman"/>
              </a:rPr>
              <a:t>..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324000" y="189000"/>
            <a:ext cx="1079280" cy="1441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768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4" dur="768" fill="hold"/>
                                        <p:tgtEl>
                                          <p:spTgt spid="2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6" dur="768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8" dur="768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587640" y="3357720"/>
            <a:ext cx="2305080" cy="158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18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996633"/>
                </a:solidFill>
                <a:latin typeface="Arial Narrow"/>
              </a:rPr>
              <a:t>Таким храм увидел русский художник</a:t>
            </a:r>
            <a:br>
              <a:rPr sz="2800"/>
            </a:br>
            <a:r>
              <a:rPr b="1" lang="ru-RU" sz="2800" spc="-1" strike="noStrike">
                <a:solidFill>
                  <a:srgbClr val="996633"/>
                </a:solidFill>
                <a:latin typeface="Arial Narrow"/>
              </a:rPr>
              <a:t>А.В.Лентулов</a:t>
            </a:r>
            <a:endParaRPr b="0" lang="en-US" sz="2800" spc="-1" strike="noStrike">
              <a:solidFill>
                <a:srgbClr val="301800"/>
              </a:solidFill>
              <a:latin typeface="Arial Narrow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53904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222120"/>
            <a:ext cx="9144000" cy="66358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4000"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2800" spc="-1" strike="noStrike">
                <a:solidFill>
                  <a:srgbClr val="301800"/>
                </a:solidFill>
                <a:latin typeface="Arial Narrow"/>
              </a:rPr>
              <a:t>Архитектурная конструкция Покровского собора.</a:t>
            </a:r>
            <a:br>
              <a:rPr sz="4400"/>
            </a:br>
            <a:endParaRPr b="0" lang="en-US" sz="2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42560" y="1699920"/>
            <a:ext cx="8101080" cy="515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Силуэт Покровского собора узнаваем во всем мире из-за необычности архитектурной композиции (девять церквей на едином основании) и неповторимого покрытия глав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ервый этаж собора - церковь Св. Василия Блаженного и подклет (подцерковье). 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На втором этаже - ансамбль из девяти церквей, объединенных внутренней и наружной галереями. Галереи перекрыты сводами, над лестницами – крыльца.  Главы, венчающие купола храма, разнофигурные и многоцветные. Центральная церковь Покрова увенчана шатром. В разное время к собору были пристроены приделы и шатровая колокольня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58960" cy="1484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240"/>
                            </p:stCondLst>
                            <p:childTnLst>
                              <p:par>
                                <p:cTn id="27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40"/>
                            </p:stCondLst>
                            <p:childTnLst>
                              <p:par>
                                <p:cTn id="33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8540"/>
                            </p:stCondLst>
                            <p:childTnLst>
                              <p:par>
                                <p:cTn id="39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042560" y="1828800"/>
            <a:ext cx="81010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Arial Narrow"/>
              </a:rPr>
              <a:t>Глава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Arial Narrow"/>
              </a:rPr>
              <a:t>Подклет (подцерковье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Arial Narrow"/>
              </a:rPr>
              <a:t>Ансамбль из девяти церквей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Arial Narrow"/>
              </a:rPr>
              <a:t>Галереи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Arial Narrow"/>
              </a:rPr>
              <a:t>Крыльца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Arial Narrow"/>
              </a:rPr>
              <a:t>Купола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Arial Narrow"/>
              </a:rPr>
              <a:t>Придел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Arial Narrow"/>
              </a:rPr>
              <a:t>Шатер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Arial Narrow"/>
              </a:rPr>
              <a:t>Колокольня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1068480" cy="1844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400"/>
                            </p:stCondLst>
                            <p:childTnLst>
                              <p:par>
                                <p:cTn id="54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6300"/>
                            </p:stCondLst>
                            <p:childTnLst>
                              <p:par>
                                <p:cTn id="60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500"/>
                            </p:stCondLst>
                            <p:childTnLst>
                              <p:par>
                                <p:cTn id="66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3100"/>
                            </p:stCondLst>
                            <p:childTnLst>
                              <p:par>
                                <p:cTn id="72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5700"/>
                            </p:stCondLst>
                            <p:childTnLst>
                              <p:par>
                                <p:cTn id="78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8200"/>
                            </p:stCondLst>
                            <p:childTnLst>
                              <p:par>
                                <p:cTn id="84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700"/>
                            </p:stCondLst>
                            <p:childTnLst>
                              <p:par>
                                <p:cTn id="90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3100"/>
                            </p:stCondLst>
                            <p:childTnLst>
                              <p:par>
                                <p:cTn id="96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23888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АРХИТЕКТУРНАЯ КОНСТРУКЦИЯ СОБОРА</a:t>
            </a:r>
            <a:endParaRPr b="0" lang="en-US" sz="2800" spc="-1" strike="noStrike">
              <a:solidFill>
                <a:srgbClr val="301800"/>
              </a:solidFill>
              <a:latin typeface="Arial Narrow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826920" y="628560"/>
            <a:ext cx="8317080" cy="62294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045080" y="2133720"/>
            <a:ext cx="188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упо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глава, луковка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3280" y="1268280"/>
            <a:ext cx="220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шатер (восьмери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721640" y="424188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ша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250720" y="6257880"/>
            <a:ext cx="11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В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крыльц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59280" y="5157720"/>
            <a:ext cx="218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Галерея(гульбищ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713640" y="2082960"/>
            <a:ext cx="75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кре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619280" y="3429000"/>
            <a:ext cx="205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ветовой бараб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шея, столп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138000" y="6114960"/>
            <a:ext cx="25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одклет (подцерковье</a:t>
            </a:r>
            <a:r>
              <a:rPr b="1" lang="ru-RU" sz="1800" spc="-1" strike="noStrike">
                <a:solidFill>
                  <a:srgbClr val="9d9c81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004520" y="3522600"/>
            <a:ext cx="13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окош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30872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5799600" y="2852640"/>
            <a:ext cx="141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олоколь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звонниц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771640" y="3429000"/>
            <a:ext cx="23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ашику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навесные бойницы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59280" y="443700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окош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604360" y="4005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223120" y="4221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5940360" y="5084640"/>
            <a:ext cx="92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ид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845080" y="4869000"/>
            <a:ext cx="88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апс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231040" y="3500280"/>
            <a:ext cx="91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рн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1T01:42:05Z</dcterms:created>
  <dc:creator>school</dc:creator>
  <dc:description/>
  <dc:language>en-US</dc:language>
  <cp:lastModifiedBy>1</cp:lastModifiedBy>
  <dcterms:modified xsi:type="dcterms:W3CDTF">2010-04-15T12:14:44Z</dcterms:modified>
  <cp:revision>8</cp:revision>
  <dc:subject/>
  <dc:title>Урок развития речи   8класс ОПИСАНИЕ ПАМЯТНИКА</dc:title>
</cp:coreProperties>
</file>