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wmf" ContentType="image/x-wmf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1DBF-CE5D-4A62-9BCC-BA1364FF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2AD-C21C-4C24-B08F-BBBE2262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56A-A119-4520-9158-8A97DD6C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A90-EEC2-48E6-8BD8-4FCDF3CD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BB58-0571-4626-B76F-223FE53F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864C-62DA-4DDA-9E76-E3130529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69CD-0C70-4442-8686-46E2740C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DEF3-AB69-4B38-8128-59EF7AEA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8FE9-6567-456C-B0CD-B756D130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6858-FB20-4BB5-9C45-CC143E29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4F79-F510-4A06-BB7D-58B8674D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9A2-B40C-44AC-AE33-E98C0C59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FB6A-9E15-49C2-AFB4-5AB690BB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9D41-FE68-469D-B7D3-B4E9BA8B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4CAA-BD18-479B-B966-EE948C59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B606-C136-4BEC-9200-F1B65DAB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9576-E204-488D-BA2E-B6F274DA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BF1-0370-4377-839F-BCF6F289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784-DC46-4708-8296-381AC9FB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240-FD90-4E7D-A5B0-C1BB6963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B39-D7E4-4D74-BB01-22C352E4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358-55BE-4EC5-BFC0-AA98CCD2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DCE-0029-416B-B089-2FF47A44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17B-8D2B-4EBC-8155-06E5EF66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6EBF-E86D-4A5F-A5B7-90D881674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7F37-15C5-4567-B4D7-D971B131C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907640" y="3212640"/>
            <a:ext cx="698508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 Narrow"/>
              </a:rPr>
              <a:t>СОБОР ПОКРОВА ПРЕСВЯТОЙ БОГОРОДИЦЫ НА РВУ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 Narrow"/>
              </a:rPr>
              <a:t>(ХРАМ ВАСИЛИЯ БЛАЖЕННОГО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106848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5120" y="259920"/>
            <a:ext cx="71625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 Narrow"/>
              </a:rPr>
              <a:t>Древнерусская архитектура и быт русского человека</a:t>
            </a:r>
            <a:endParaRPr b="0" lang="en-US" sz="32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5689440" cy="3781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743280" y="3743280"/>
            <a:ext cx="5400720" cy="3114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724360" y="2276640"/>
            <a:ext cx="31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кошник как э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енской одеж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5084640"/>
            <a:ext cx="245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кош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э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рхитектур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к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572080" cy="561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0" y="4541760"/>
            <a:ext cx="4145040" cy="2316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10200" y="2109960"/>
            <a:ext cx="30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Шатер и шатро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крытие в архитек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6656400" cy="486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588000" y="4724280"/>
            <a:ext cx="1882800" cy="1882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020000" y="2133720"/>
            <a:ext cx="1719360" cy="2447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036880" y="5321160"/>
            <a:ext cx="418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уковица (луков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уковичная глава на ку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2240" cy="4718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3059280" cy="2435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867280" y="4557600"/>
            <a:ext cx="3276720" cy="2300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0" y="4751280"/>
            <a:ext cx="2916360" cy="2106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987640" y="47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4724280"/>
            <a:ext cx="2879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усская выши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пись деревя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у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наментальная росп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900000" y="1699920"/>
            <a:ext cx="82440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Небольшая бесстолпная пристройка со стороны южного или северного посада –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Восьмиугольное в плане сооружение -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Покрытие в форме высокой 4-гранной или многогранной пирамиды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Пространственное покрытие зданий круглых в плане 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Навесные бойницы, расположенные в верхних частях стен и башен средневековых укреплений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Полукруглое или клиновидное фальшивое завершение части наружной стены, часто располагающееся ярусами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Башнеобразное сооружение или сооружение в виде колонны -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79640" cy="144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300"/>
                            </p:stCondLst>
                            <p:childTnLst>
                              <p:par>
                                <p:cTn id="127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300"/>
                            </p:stCondLst>
                            <p:childTnLst>
                              <p:par>
                                <p:cTn id="133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6600"/>
                            </p:stCondLst>
                            <p:childTnLst>
                              <p:par>
                                <p:cTn id="139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900"/>
                            </p:stCondLst>
                            <p:childTnLst>
                              <p:par>
                                <p:cTn id="145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1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64000" y="33300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 Narrow"/>
              </a:rPr>
              <a:t>Д.Кедрин «Зодчие»</a:t>
            </a:r>
            <a:endParaRPr b="0" lang="en-US" sz="2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8101080" cy="484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Мастера выплетал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Узоры из каменных кружев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ыводили столбы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, работой своею горд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упол золотом жгли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ровли крыли лазурью снаружи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в свинцовые рамки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ставляли чешуйки слюды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уже потянулись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трельчатые башенки кверху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ереход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Балкончики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Луковки да купол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дивились ученые люди, -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Зане эта церковь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раше вилл италийских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пагод индийских была!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79640" cy="144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6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700"/>
                            </p:stCondLst>
                            <p:childTnLst>
                              <p:par>
                                <p:cTn id="17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90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29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6400"/>
                            </p:stCondLst>
                            <p:childTnLst>
                              <p:par>
                                <p:cTn id="20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1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3800"/>
                            </p:stCondLst>
                            <p:childTnLst>
                              <p:par>
                                <p:cTn id="22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8200"/>
                            </p:stCondLst>
                            <p:childTnLst>
                              <p:par>
                                <p:cTn id="22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7500"/>
                            </p:stCondLst>
                            <p:childTnLst>
                              <p:par>
                                <p:cTn id="24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1500"/>
                            </p:stCondLst>
                            <p:childTnLst>
                              <p:par>
                                <p:cTn id="25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4800"/>
                            </p:stCondLst>
                            <p:childTnLst>
                              <p:par>
                                <p:cTn id="25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8600"/>
                            </p:stCondLst>
                            <p:childTnLst>
                              <p:par>
                                <p:cTn id="26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4941360"/>
            <a:ext cx="7921800" cy="19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Как вы думаете, случайно ли мастера выбрали для собора место на Красной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площади, рядом с главным въездом в Кремль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985080" cy="466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924000" y="1828800"/>
            <a:ext cx="52196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воначально храм имел суровую гамму окраски: темно-красный тон росписи «под кирпич», белые детали, зеленовато-желтые изразцовые вставки, черный тон лощеной черепицы, золото крестов. В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XVII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еке собор раскрасили. Теперь собор стал восприниматься как образ Нерукотворного Храма Града Божия в городе земном. Что способствовало появлению такого впечатления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5619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148000" y="1699920"/>
            <a:ext cx="399564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Существует легенда, согласно которой Иван Грозный повелел ослепить зодчих, возводивших храм, чтобы они не смогли возвести второго подобного сооружения. Как вы думаете, почему эта легенда возникла?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895640" cy="5619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295280" y="2492280"/>
            <a:ext cx="7313760" cy="36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Какой образ, как вам кажется, наиболее соответствует возведенному собору? Свой ответ аргументируйте.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671480" cy="223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Arial Narrow"/>
              </a:rPr>
              <a:t>ХРАМ ПОХОЖ НА…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34120" y="1700280"/>
            <a:ext cx="3809880" cy="2038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012000" y="3645000"/>
            <a:ext cx="3132000" cy="3009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71640" y="1700280"/>
            <a:ext cx="2666880" cy="3038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3348000" y="3429000"/>
            <a:ext cx="2459160" cy="3429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77280" y="5310360"/>
            <a:ext cx="102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Times New Roman"/>
              </a:rPr>
              <a:t>..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24000" y="189000"/>
            <a:ext cx="1079280" cy="14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87640" y="3357720"/>
            <a:ext cx="2305080" cy="158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996633"/>
                </a:solidFill>
                <a:latin typeface="Arial Narrow"/>
              </a:rPr>
              <a:t>Таким храм увидел русский художник</a:t>
            </a:r>
            <a:br>
              <a:rPr sz="2800"/>
            </a:br>
            <a:r>
              <a:rPr b="1" lang="ru-RU" sz="2800" spc="-1" strike="noStrike">
                <a:solidFill>
                  <a:srgbClr val="996633"/>
                </a:solidFill>
                <a:latin typeface="Arial Narrow"/>
              </a:rPr>
              <a:t>А.В.Лентулов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3904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22120"/>
            <a:ext cx="9144000" cy="6635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301800"/>
                </a:solidFill>
                <a:latin typeface="Arial Narrow"/>
              </a:rPr>
              <a:t>Архитектурная конструкция Покровского собора.</a:t>
            </a:r>
            <a:br>
              <a:rPr sz="4400"/>
            </a:b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810108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илуэт Покровского собора узнаваем во всем мире из-за необычности архитектурной композиции (девять церквей на едином основании) и неповторимого покрытия глав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вый этаж собора - церковь Св. Василия Блаженного и подклет (подцерковье).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втором этаже - ансамбль из девяти церквей, объединенных внутренней и наружной галереями. Галереи перекрыты сводами, над лестницами – крыльца.  Главы, венчающие купола храма, разнофигурные и многоцветные. Центральная церковь Покрова увенчана шатром. В разное время к собору были пристроены приделы и шатровая колокольн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58960" cy="148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240"/>
                            </p:stCondLst>
                            <p:childTnLst>
                              <p:par>
                                <p:cTn id="2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40"/>
                            </p:stCondLst>
                            <p:childTnLst>
                              <p:par>
                                <p:cTn id="33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540"/>
                            </p:stCondLst>
                            <p:childTnLst>
                              <p:par>
                                <p:cTn id="39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42560" y="1828800"/>
            <a:ext cx="8101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Глав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Подклет (подцерковье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Ансамбль из девяти церкве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Галере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Крыльц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Купол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Приде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Шатер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Arial Narrow"/>
              </a:rPr>
              <a:t>Колокольн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068480" cy="1844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4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30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1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7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82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7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31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2388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АРХИТЕКТУРНАЯ КОНСТРУКЦИЯ СОБОРА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26920" y="628560"/>
            <a:ext cx="8317080" cy="6229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45080" y="213372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п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глава, луков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1268280"/>
            <a:ext cx="22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атер (восьмер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21640" y="4241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а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50720" y="625788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ыль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515772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Галерея(гульбищ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13640" y="208296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3429000"/>
            <a:ext cx="20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етовой бараб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шея, стол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38000" y="6114960"/>
            <a:ext cx="25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дклет (подцерковье</a:t>
            </a:r>
            <a:r>
              <a:rPr b="1" lang="ru-RU" sz="1800" spc="-1" strike="noStrike">
                <a:solidFill>
                  <a:srgbClr val="9d9c81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04520" y="3522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кош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799600" y="285264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локоль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звонн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3429000"/>
            <a:ext cx="23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шику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навесные бойницы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44370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кош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04360" y="40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2312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940360" y="508464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5080" y="4869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с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31040" y="3500280"/>
            <a:ext cx="9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1:42:05Z</dcterms:created>
  <dc:creator>school</dc:creator>
  <dc:description/>
  <dc:language>en-US</dc:language>
  <cp:lastModifiedBy>1</cp:lastModifiedBy>
  <dcterms:modified xsi:type="dcterms:W3CDTF">2010-04-15T12:14:44Z</dcterms:modified>
  <cp:revision>8</cp:revision>
  <dc:subject/>
  <dc:title>Урок развития речи   8класс ОПИСАНИЕ ПАМЯТНИКА</dc:title>
</cp:coreProperties>
</file>