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809-3B32-49E5-94A8-58E72C84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CC04-B008-4A10-AA1E-B8830E02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3078-0760-4BB6-BB5E-080091F4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E1D3-FA69-4095-9A8B-8072B327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14EF-FC12-4082-B61E-867BB0E6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CB99-368D-4962-97DA-8CA9A0CE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97D0-4749-4F3F-8D53-4EA65C22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9DFB-13C4-4CB6-8998-B0B9C658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1119-518C-462F-8FBB-86230852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9B41-DA34-42B7-B164-9726CBAD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45D5-C624-4DA6-B58C-EB4B14E2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A8FF-9921-448F-BD05-5AFA9848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AF5E-4FB8-47D4-B0EC-A104BE5E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98DD-1EA7-4A3F-9ED9-A296FDAD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DD8B-D7B9-4E59-9781-1F4B0430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EBC6-98C5-42F6-A014-9042D8D0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F903-8988-4CFF-BFBA-4BB8B433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C95-8205-46C8-8B9E-FD022DDE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4D6-729F-443B-A094-AC8A6562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2E4-248E-4AD7-AFEA-964E9019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BDA-D56D-47E9-AA94-4FCED67A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434-E796-4C06-BA77-E1BFDE9B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F2A0-FA8E-47BA-90C9-C73603B9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8E22-5FA0-4E09-B42E-38366A50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2F21-5F98-4EE5-ACD5-9F10E1A39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2C16-8A34-40F9-930E-5099763A2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Средства передвижения в романе А.С.Пушкина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«Евгений Онегин»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утешественник запасался документом (подорожной), куда вносился маршрут, чин, звание. От этого зависело количество лоша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егин не служил, он имел право только на трех лоша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обы побогаче и служившие имели право от 12 до 20 лоша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 скорость была какова?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имой не более 12 верст в час, летом -не более 10, а осенью-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сутки обычно проезжали 70-100 вер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станции проезжающий платил  «прогоны», т.е. оплачивал лошадей по таксе, которая колебалась от 8 до 10 копеек за одну лошадь на одну версту.(По тем временам, поездка оказывалась дорого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ернемся к Лариной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арины ехали в Москву на «своих». В этих случаях лошадей на станциях не меняли, а давали им передохнуть, ночью не двигались с места, от этого скорость передвижения резко уменьшалась, уменьшалась и стоимость передви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воспоминаниям современников Пушкина, в дорогу готовились основательно: жарили телятину, гуся, утку, пекли пироги, калачи, в которые запекали яйца цельные с скорлупой. Это все складывали в ящик для харчевого запаса. А в погребце везли с собой тарелки, ножи, вилки, ложки, перечницу. Горчичницу, чай, сахар и прочие столовые приборы. Ну а без самовара никак было нельз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жно предположить, что хозяйственная Ларина путешествовала чуть поскромн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равним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новь тот же современник Пушкина Селиванов  вспоминает, что такие путешествия  до Нижнего Новгорода обходились в 20-25 рублей ассигнация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. е. по тем деньгам это составляло мене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рублей на четырех тройк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ть Татьяны Лариной спрашивала «прогонов дорогих» и, видимо, понесла такие же расх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радокс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плохом состоянии дорог поломка экипажей и починка их на скорую руку делалась обычной деталью дорожного бы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первом чтении романа мне было неясно, о каких циклопах идет речь. Выяснила и удивилась, что мастеровых по ремонту экипажей Пушкин назвал «сельскими циклопами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во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820-е годы начали входить в употребление дилижансы- общественные кареты, ходящие уже по расписанию. Первая компания дилижансов. Ходивших между Москвой и Петербургом, была организована вельможами Воронцовым и Меньшиковым. Дилижансы брали зимой по 4 пассажира, летом - по 6. Путь из Петербурга в Москву они проделывали за 4-4,5 су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нако основным средством передвижения все же оставались кареты. Наряду с ними использовались брички, возки, телеги и зимой са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ути дальнейшего исследо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ман Пушкина богат материалом, дающим представление о быте дворян онегинской по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альнейшем хочется побольше узнать о развлечениях молодых людей того времени, об интересах и занятиях дворянской женщины, отраженных в романе Пушк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Цель исследования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учение роли кареты как мерила социального достоин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основного средства передвижения в 18-начале 19 веков в романе Пушкина «Евгений Онегин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Задачи исследовательской работы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следить, как средства передвижения составляют важную часть внутреннего мира пушкинского рома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то и как исследовано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 глав романа «Евгений Онегин» был выбран материал, касающийся средств передвижения геро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ыл проанализирован материал в ИНТЕРНЕ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пользовалась работа Ю.М.Лотман «Комментарии к роману «Евгений Онегин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то такое ямская карет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ервой главе Онегин спешит на бал в «ямской карете». Содержать кучера и собственную карету в Петербурге было дорого, поэтому лошадей нанимали. Четверка лошадей обходилась для разъезда по городу в 1836 году по 300 рублей в месяц. А извозчикам и кучерам платили отдельн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т и Онегин, не имея собственного выезда, нанимал ямскую карету. Такую карету можно было взять на извозчичьей бирж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Разница в экипажах, количестве и цене лошадей образовывала целую иерархию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стилися к нему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купцы на бегуна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Художники пешко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приказные в саня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Особ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лассные в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каретах и коляс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на извозчика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азличны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ли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ремглав … поскакал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самом деле в допетровской Руси признаком важности пассажира была медленная ез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Москве ездили медленнее, чем в Петербурге, но еще в 18 веке установилась «щегольская мода» очень быстрой езды по людным улиц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то значит «двойные фонари»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романе упоминаются на карете двойные фонар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казывается, количество фонарей (один или два) или факелов зависело от важности сед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ак вот в 1820-е годы - это признак лишь дорогой, щегольской кар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Чем отличаются «почтовые» лошади от «своих»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26668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арина , тащила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ясь прогонов дороги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на почтовых, на своих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7:41:53Z</dcterms:created>
  <dc:creator>Я</dc:creator>
  <dc:description/>
  <dc:language>en-US</dc:language>
  <cp:lastModifiedBy>школа</cp:lastModifiedBy>
  <dcterms:modified xsi:type="dcterms:W3CDTF">2009-05-16T01:34:33Z</dcterms:modified>
  <cp:revision>5</cp:revision>
  <dc:subject/>
  <dc:title>Средства передвижения в романе А.С.Пушкина  «Евгений Онегин»</dc:title>
</cp:coreProperties>
</file>