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655-AE0B-4FD2-94DA-24611F3E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CE8-DCC5-449F-A05C-0F9C718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A9E-1392-4D8C-BCCD-7F8B6D2E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19A-0BDA-4E65-82E9-F24F1174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77E9-C2B7-46EF-976A-BDDEC81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448F-A665-46CF-A717-AB43B16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CEB-4B33-44CB-A1A4-EE3AAEE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1B0-C174-406D-AB53-AD1DBCA9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6249-57CB-4F4B-98A7-3B43426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ADD9-8EB8-46E4-8A44-0D3D78D8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A178-DB7E-4C4B-8016-DC59620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508-5DBA-4CFF-8C27-1CD271F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0570-A1CC-4AC3-B73C-2A13124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B36A-894A-41FB-8B4A-F027371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1229-60B4-4F4C-915F-D292D54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2D64-5DF6-4CA6-9EE3-0409097A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A5A0-620A-47CC-8A78-FC540238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B6C-FEE1-4D42-AEED-A81F0C52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FE6-D0D2-4D99-AB1A-97E9A49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E07-0B81-44CE-BD24-E7B58E5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F3A-FC92-4C9B-864F-68C32DC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B23-FD3D-40EA-8469-CCF4B80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5D9-0E79-4084-961B-C7F03659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A3C-78D0-4325-9CB2-408B6D2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B57-4EEA-4DAF-A960-C291472D2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631F-8CCE-4872-9E80-1487DFE29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Средства передвижения в романе А.С.Пушкина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«Евгений Онегин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тешественник запасался документом (подорожной), куда вносился маршрут, чин, звание. От этого зависело количество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егин не служил, он имел право только на трех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обы побогаче и служившие имели право от 12 до 20 лоша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 скорость была какова?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имой не более 12 верст в час, летом -не более 10, а осенью-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сутки обычно проезжали 70-100 вер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танции проезжающий платил  «прогоны», т.е. оплачивал лошадей по таксе, которая колебалась от 8 до 10 копеек за одну лошадь на одну версту.(По тем временам, поездка оказывалась дорого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ернемся к Лариной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ы ехали в Москву на «своих». В этих случаях лошадей на станциях не меняли, а давали им передохнуть, ночью не двигались с места, от этого скорость передвижения резко уменьшалась, уменьшалась и стоимость пере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споминаниям современников Пушкина, в дорогу готовились основательно: жарили телятину, гуся, утку, пекли пироги, калачи, в которые запекали яйца цельные с скорлупой. Это все складывали в ящик для харчевого запаса. А в погребце везли с собой тарелки, ножи, вилки, ложки, перечницу. Горчичницу, чай, сахар и прочие столовые приборы. Ну а без самовара никак было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жно предположить, что хозяйственная Ларина путешествовала чуть поскромн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м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овь тот же современник Пушкина Селиванов  вспоминает, что такие путешествия  до Нижнего Новгорода обходились в 20-25 рублей ассигнация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. е. по тем деньгам это составляло мен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рублей на четырех трой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ь Татьяны Лариной спрашивала «прогонов дорогих» и, видимо, понесла такие же рас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радокс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лохом состоянии дорог поломка экипажей и починка их на скорую руку делалась обычной деталью дорожного б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первом чтении романа мне было неясно, о каких циклопах идет речь. Выяснила и удивилась, что мастеровых по ремонту экипажей Пушкин назвал «сельскими циклопам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820-е годы начали входить в употребление дилижансы- общественные кареты, ходящие уже по расписанию. Первая компания дилижансов. Ходивших между Москвой и Петербургом, была организована вельможами Воронцовым и Меньшиковым. Дилижансы брали зимой по 4 пассажира, летом - по 6. Путь из Петербурга в Москву они проделывали за 4-4,5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ко основным средством передвижения все же оставались кареты. Наряду с ними использовались брички, возки, телеги и зимой са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ути дальнейшего исслед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н Пушкина богат материалом, дающим представление о быте дворян онегинской по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альнейшем хочется побольше узнать о развлечениях молодых людей того времени, об интересах и занятиях дворянской женщины, отраженных в романе Пушк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Цель исследования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учение роли кареты как мерила социального 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сновного средства передвижения в 18-начале 19 веков в романе Пушкина «Евгений Онеги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и исследовательской работы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ледить, как средства передвижения составляют важную часть внутреннего мира пушкинского ром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и как исследовано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 глав романа «Евгений Онегин» был выбран материал, касающийся средств передвижения геро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л проанализирован материал в ИНТЕРН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лась работа Ю.М.Лотман «Комментарии к роману «Евгений Онеги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такое ямская карет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ервой главе Онегин спешит на бал в «ямской карете». Содержать кучера и собственную карету в Петербурге было дорого, поэтому лошадей нанимали. Четверка лошадей обходилась для разъезда по городу в 1836 году по 300 рублей в месяц. А извозчикам и кучерам платили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и Онегин, не имея собственного выезда, нанимал ямскую карету. Такую карету можно было взять на извозчичьей бир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Разница в экипажах, количестве и цене лошадей образовывала целую иерархию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илися к нему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купцы на бегун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Художники пешк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риказные в саня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Особ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лассные в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аретах и коляс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на извозчика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зличны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ли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емглав … поскакал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самом деле в допетровской Руси признаком важности пассажира была медленная ез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оскве ездили медленнее, чем в Петербурге, но еще в 18 веке установилась «щегольская мода» очень быстрой езды по людным улиц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то значит «двойные фонари»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мане упоминаются на карете двойные фона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азывается, количество фонарей (один или два) или факелов зависело от важности сед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 вот в 1820-е годы - это признак лишь дорогой, щегольской кар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Чем отличаются «почтовые» лошади от «своих»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6668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арина , тащ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ясь прогонов дорог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на почтовых, на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41:53Z</dcterms:created>
  <dc:creator>Я</dc:creator>
  <dc:description/>
  <dc:language>en-US</dc:language>
  <cp:lastModifiedBy>школа</cp:lastModifiedBy>
  <dcterms:modified xsi:type="dcterms:W3CDTF">2009-05-16T01:34:33Z</dcterms:modified>
  <cp:revision>5</cp:revision>
  <dc:subject/>
  <dc:title>Средства передвижения в романе А.С.Пушкина  «Евгений Онегин»</dc:title>
</cp:coreProperties>
</file>