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6E3-8099-48E5-97BF-5BF33B3A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B1A-4101-464C-9A29-F066100B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F86-62E9-4A36-8B85-39A1991E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194-C5B4-4DB3-9606-E49FE68A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B552-FBEB-4502-859B-90E60DAB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36F-787A-4E67-9AFD-74F554C5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1C30-BCB0-4263-A0EB-1FE4CAB1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FD2B-A9E9-44C8-B32C-FD9F953F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B485-965F-430B-B957-67F8DE4F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4B2A-A5C7-4DCC-A9BF-FC445CEA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1FCB-B750-4CD9-8F47-A8A1082C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595-EAA8-4A62-861F-F9160571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5610-28EB-4602-94CB-36453A3F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1FC6-A7EF-4692-B671-E80A82D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BBE1-8046-4811-8B2E-F7768D33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A652-E5AF-4593-B178-BA2DEF31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FAC1-AF10-4ECD-B8D4-5B97ED80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0C2-AEDB-4F7D-84E2-0FB693B1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8CC-1B12-4C9B-95DF-DB720FB2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638-1881-4AB5-B4B8-C8FF18EB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B29-62F3-4BA0-ADD6-A4DF6B0D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FA2-1245-4C0A-8451-62CB9E6E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D10-7C9C-4F72-A088-8B5FC231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EA9-3B55-4642-938C-609D6C9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1BEB-E308-4B9A-8007-E695711F7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CEC1-1BD4-47CE-8B30-A393631E0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Средства передвижения в романе А.С.Пушкина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«Евгений Онегин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тешественник запасался документом (подорожной), куда вносился маршрут, чин, звание. От этого зависело количество лош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егин не служил, он имел право только на трех лош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обы побогаче и служившие имели право от 12 до 20 лош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 скорость была какова?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имой не более 12 верст в час, летом -не более 10, а осенью-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сутки обычно проезжали 70-100 вер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станции проезжающий платил  «прогоны», т.е. оплачивал лошадей по таксе, которая колебалась от 8 до 10 копеек за одну лошадь на одну версту.(По тем временам, поездка оказывалась дорого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емся к Лариной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рины ехали в Москву на «своих». В этих случаях лошадей на станциях не меняли, а давали им передохнуть, ночью не двигались с места, от этого скорость передвижения резко уменьшалась, уменьшалась и стоимость передви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оспоминаниям современников Пушкина, в дорогу готовились основательно: жарили телятину, гуся, утку, пекли пироги, калачи, в которые запекали яйца цельные с скорлупой. Это все складывали в ящик для харчевого запаса. А в погребце везли с собой тарелки, ножи, вилки, ложки, перечницу. Горчичницу, чай, сахар и прочие столовые приборы. Ну а без самовара никак было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жно предположить, что хозяйственная Ларина путешествовала чуть поскромн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авним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овь тот же современник Пушкина Селиванов  вспоминает, что такие путешествия  до Нижнего Новгорода обходились в 20-25 рублей ассигнация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. е. по тем деньгам это составляло мене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рублей на четырех трой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ть Татьяны Лариной спрашивала «прогонов дорогих» и, видимо, понесла такие же расх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докс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плохом состоянии дорог поломка экипажей и починка их на скорую руку делалась обычной деталью дорожного бы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первом чтении романа мне было неясно, о каких циклопах идет речь. Выяснила и удивилась, что мастеровых по ремонту экипажей Пушкин назвал «сельскими циклопам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820-е годы начали входить в употребление дилижансы- общественные кареты, ходящие уже по расписанию. Первая компания дилижансов. Ходивших между Москвой и Петербургом, была организована вельможами Воронцовым и Меньшиковым. Дилижансы брали зимой по 4 пассажира, летом - по 6. Путь из Петербурга в Москву они проделывали за 4-4,5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ако основным средством передвижения все же оставались кареты. Наряду с ними использовались брички, возки, телеги и зимой са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дальнейшего исследо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н Пушкина богат материалом, дающим представление о быте дворян онегинской по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альнейшем хочется побольше узнать о развлечениях молодых людей того времени, об интересах и занятиях дворянской женщины, отраженных в романе Пушк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Цель исследования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учение роли кареты как мерила социального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основного средства передвижения в 18-начале 19 веков в романе Пушкина «Евгений Онеги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дачи исследовательской работы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ледить, как средства передвижения составляют важную часть внутреннего мира пушкинского ром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и как исследовано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 глав романа «Евгений Онегин» был выбран материал, касающийся средств передвижения геро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л проанализирован материал в ИНТЕРН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ользовалась работа Ю.М.Лотман «Комментарии к роману «Евгений Онеги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такое ямская карет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ервой главе Онегин спешит на бал в «ямской карете». Содержать кучера и собственную карету в Петербурге было дорого, поэтому лошадей нанимали. Четверка лошадей обходилась для разъезда по городу в 1836 году по 300 рублей в месяц. А извозчикам и кучерам платили отдель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и Онегин, не имея собственного выезда, нанимал ямскую карету. Такую карету можно было взять на извозчичьей бирж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Разница в экипажах, количестве и цене лошадей образовывала целую иерарх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стилися к нему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упцы на бегун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Художники пешк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риказные в саня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соб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лассные в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аретах и коляс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на извозчика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азличны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ли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емглав … поскакал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амом деле в допетровской Руси признаком важности пассажира была медленная ез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Москве ездили медленнее, чем в Петербурге, но еще в 18 веке установилась «щегольская мода» очень быстрой езды по людным улиц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значит «двойные фонари»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омане упоминаются на карете двойные фона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казывается, количество фонарей (один или два) или факелов зависело от важности сед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к вот в 1820-е годы - это признак лишь дорогой, щегольской кар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Чем отличаются «почтовые» лошади от «своих»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рина , тащила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ясь прогонов дороги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на почтовых, на свои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7:41:53Z</dcterms:created>
  <dc:creator>Я</dc:creator>
  <dc:description/>
  <dc:language>en-US</dc:language>
  <cp:lastModifiedBy>школа</cp:lastModifiedBy>
  <dcterms:modified xsi:type="dcterms:W3CDTF">2009-05-16T01:34:33Z</dcterms:modified>
  <cp:revision>5</cp:revision>
  <dc:subject/>
  <dc:title>Средства передвижения в романе А.С.Пушкина  «Евгений Онегин»</dc:title>
</cp:coreProperties>
</file>