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3E4-E76F-48D4-812D-1ADCF933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D1D-7407-424B-9737-DF22B345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7D39-5B1A-4DD0-A1BC-539BD799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595-6623-4760-99C4-C0C13545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AF8C-B3E3-48F7-8570-BBF27C80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3F1-CB86-4D5E-B789-5C9A0A48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9E9F-ACE5-4E85-9064-BCFC7E78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005-5042-4663-888C-A306E7CC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FDD5-B30B-4262-9776-21DB6240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CACB-08D0-4397-8275-9660C6D6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D9C-4FA1-4740-97CD-8BF14FDB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FA1E-5D65-48AC-A1EF-4516BCB0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53DB-E955-4F3B-8A24-4BBE1ECCF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9398160" cy="704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9640" y="1341360"/>
            <a:ext cx="8604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ПРОБЛЕ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ТМОСФЕРЫ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60280"/>
            <a:ext cx="8893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1. Из списка веще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оксид углерода                           Г) хлорокарбоны (фрео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оксид серы                                  Д) ме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) оксид азота                                 Е) водяной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653000"/>
            <a:ext cx="885672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выберите вещества, которые ответственны за пробл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Глобальное потепление: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Озоновые дыры: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Кислотные дожди: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900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333360"/>
            <a:ext cx="87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Концентрация какого газа в атмосфере сейчас увеличивается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) кислорода                           г) рад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) углекислого газа                д) арг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) аз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49200"/>
            <a:ext cx="8893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Какие отрасли хозяйства ответственны за выброс в атмосф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парниковых газов?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веществ, разрушающих озоновый сл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веществ, приводящих к выпадению кислотных дожд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3860640"/>
            <a:ext cx="65534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) сельское хозяйство                                б) текстильная промышленность             в)  автомобильный транспорт                   г) теплоэнергетика                                                                     д) атомная энергетика                                 е) производство холодильников             ж) угольные шах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577880"/>
            <a:ext cx="8389800" cy="53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Дополните утвержд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а Земле кислород атмосферы расходуется в следующих процесса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 горени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 брожени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 окислени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) дыхани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) разложени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) вос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) фотосинт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8964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Выберите из предложенного списка природоохранную задачу, решение которой   будет способствовать  ослаблению парникового   эфф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) в Германии              2) в Эфиоп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221000"/>
            <a:ext cx="88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4365720"/>
            <a:ext cx="67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) запрет охоты                                                                           б) сокращение тепличного овощеводства                            в)  сокращение применения фреонов                                     г) прекращение уничтожения лесов                                       д) противостояние росту городов                                           е) уменьшение сжигания нефтепродуктов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476280"/>
            <a:ext cx="86421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ОТВЕ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1.    1 – АВГЕЖ,  2-Г,  3-Б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2.  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3.  1-АВГДЕ, 2-Е, 3-В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4.  1-Е, 2-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5. АВ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7:39:03Z</dcterms:created>
  <dc:creator>Aleksey</dc:creator>
  <dc:description/>
  <dc:language>en-US</dc:language>
  <cp:lastModifiedBy>Aleksey</cp:lastModifiedBy>
  <dcterms:modified xsi:type="dcterms:W3CDTF">2008-11-27T18:58:56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50000000000010250300207f7000400038000</vt:lpwstr>
  </property>
</Properties>
</file>