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208-BD3B-4290-BE69-0AFAB649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FDB-3794-44CF-892A-5407111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854-26D4-4066-AEFF-B98AB619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D1F-337A-4FF7-AEA1-99A20822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BDE-B1D8-4518-83D3-A87EDB9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D3E-C48B-45CC-89F9-E271DFA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5DB-F893-41F0-849F-8656BFE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C9F-F992-4EE4-B16A-C75C0B8A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D0C-CE17-4D3D-B840-526560CB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9BD-739F-4EDD-9AAE-4CF6212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6F3-9368-4FF5-9229-3CF9F46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6C8-9924-4552-9A5E-DED125D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532-DF3E-47C2-A0AA-2C532129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98160" cy="70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60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РОБЛ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0280"/>
            <a:ext cx="88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1. Из списка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ксид углерода                           Г) хлорокарбоны (фре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ксид серы                                  Д)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оксид азота                                 Е) водяной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53000"/>
            <a:ext cx="885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выберите вещества, которые ответственны за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Глобальное потепление: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Озоновые дыры: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Кислотные дожди: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онцентрация какого газа в атмосфере сейчас увеличивается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) кислорода                           г) рад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) углекислого газа                д) арг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) аз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9200"/>
            <a:ext cx="88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акие отрасли хозяйства ответственны за выброс в атмо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арниковых газов?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еществ, разрушающих озоновый с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веществ, приводящих к выпадению кислотных дож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860640"/>
            <a:ext cx="6553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сельское хозяйство                                б) текстильная промышленность             в)  автомобильный транспорт                   г) теплоэнергетика                                                                     д) атомная энергетика                                 е) производство холодильников             ж) угольные шах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77880"/>
            <a:ext cx="838980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Дополните утвержд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Земле кислород атмосферы расходуется в следующих процесс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гор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брож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окисл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дых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) раз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)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 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Выберите из предложенного списка природоохранную задачу, решение которой   будет способствовать  ослаблению парникового  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в Германии              2) в Эфио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365720"/>
            <a:ext cx="67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запрет охоты                                                                           б) сокращение тепличного овощеводства                            в)  сокращение применения фреонов                                     г) прекращение уничтожения лесов                                       д) противостояние росту городов                                           е) уменьшение сжигания нефтепродукто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7628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1.    1 – АВГЕЖ,  2-Г,  3-Б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2.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3.  1-АВГДЕ, 2-Е, 3-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4.  1-Е, 2-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5. А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39:03Z</dcterms:created>
  <dc:creator>Aleksey</dc:creator>
  <dc:description/>
  <dc:language>en-US</dc:language>
  <cp:lastModifiedBy>Aleksey</cp:lastModifiedBy>
  <dcterms:modified xsi:type="dcterms:W3CDTF">2008-11-27T18:58:5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50000000000010250300207f7000400038000</vt:lpwstr>
  </property>
</Properties>
</file>