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3FD-6E23-4854-A57D-3853E8B0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F61-D38D-4308-98FB-73C4AB1D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698-72A7-42C1-8666-CEDE394F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5AC-738D-42D5-B9CC-DE72C7C3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481-4817-43E5-8C33-5A4741CE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D69-60E6-4886-9D06-65D38AD4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012-9D58-4F80-B023-AD6522AB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196-ADE8-4F70-9218-01B39EAC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BE2-896A-4261-BCDF-1463E710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001-58C0-43DE-AD36-221B124E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009-79D7-43AD-9D05-5484BBC8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5B9-8A8D-41E5-B829-F10932CD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7D36-9373-41A7-9B4F-155E1C561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398160" cy="704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9640" y="1341360"/>
            <a:ext cx="86043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РОБЛЕ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60280"/>
            <a:ext cx="88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1. Из списка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ксид углерода                           Г) хлорокарбоны (фрео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ксид серы                                  Д)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оксид азота                                 Е) водяной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653000"/>
            <a:ext cx="885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выберите вещества, которые ответственны за 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Глобальное потепление: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Озоновые дыры: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Кислотные дожди: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333360"/>
            <a:ext cx="87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Концентрация какого газа в атмосфере сейчас увеличивается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) кислорода                           г) рад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) углекислого газа                д) арг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) аз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49200"/>
            <a:ext cx="88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Какие отрасли хозяйства ответственны за выброс в атмосф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парниковых газов?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веществ, разрушающих озоновый с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веществ, приводящих к выпадению кислотных дожд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860640"/>
            <a:ext cx="65534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сельское хозяйство                                б) текстильная промышленность             в)  автомобильный транспорт                   г) теплоэнергетика                                                                     д) атомная энергетика                                 е) производство холодильников             ж) угольные шах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77880"/>
            <a:ext cx="838980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Дополните утвержд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Земле кислород атмосферы расходуется в следующих процесс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гор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брож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 окисл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 дыха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) разложе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)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) фотосинт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Выберите из предложенного списка природоохранную задачу, решение которой   будет способствовать  ослаблению парникового   эфф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в Германии              2) в Эфио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22100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4365720"/>
            <a:ext cx="67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запрет охоты                                                                           б) сокращение тепличного овощеводства                            в)  сокращение применения фреонов                                     г) прекращение уничтожения лесов                                       д) противостояние росту городов                                           е) уменьшение сжигания нефтепродуктов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476280"/>
            <a:ext cx="86421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ТВЕ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1.    1 – АВГЕЖ,  2-Г,  3-Б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2.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3.  1-АВГДЕ, 2-Е, 3-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4.  1-Е, 2-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 5. АВ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39:03Z</dcterms:created>
  <dc:creator>Aleksey</dc:creator>
  <dc:description/>
  <dc:language>en-US</dc:language>
  <cp:lastModifiedBy>Aleksey</cp:lastModifiedBy>
  <dcterms:modified xsi:type="dcterms:W3CDTF">2008-11-27T18:58:5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50000000000010250300207f7000400038000</vt:lpwstr>
  </property>
</Properties>
</file>