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wmf" ContentType="image/x-wmf"/>
  <Override PartName="/ppt/media/image4.png" ContentType="image/png"/>
  <Override PartName="/ppt/media/image5.gif" ContentType="image/gif"/>
  <Override PartName="/ppt/media/image8.wmf" ContentType="image/x-wmf"/>
  <Override PartName="/ppt/media/image6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A6304-1E28-46A3-AE75-A06A80FD4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837B8-1E5C-4293-827C-8AB501368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D1A59-932D-479C-B1CC-12C38D0F5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6B372-A211-4C7F-B5A8-C0B1630FB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92F9D-6330-4271-913E-8BEC17A36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EDD3B-BE1D-4A99-97E5-D4D500B52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91F8C-FFB9-437E-BE63-1BB9AD852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DA84B-2B01-49E2-ADE4-AF558A5F7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D9991-E44F-4EED-B936-2512F1F7C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10666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4EBD2-C893-4D0A-B7E5-2498200E3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1A794-B01D-487A-B342-73AC8A32E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45394-0DCE-489E-8DE4-1B713BAEA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493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98B1E-3CCB-47E9-829C-068592A90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B216A-0A61-486D-ABCF-DB9F53CB1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10666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7F22C-BB36-46A3-9D82-504701663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0493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5BD9B-2276-4CB0-9479-A1978F2EC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6946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3223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10666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6946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3223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592B4-7FCB-4060-9D85-2A47E5495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AA7E8-CC0C-4764-9F51-73423C50A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332C7-DB7B-4EB2-B228-EA6833AC7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64414-523F-47D4-BC80-EE072A775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5BD32-2915-4BB1-913C-C88B36F3D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DCF86-3590-43FE-AC32-AC4C06756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5FD0F-ACF5-4DEC-B45A-3CF949F9B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39958-33EE-4CF4-B5D4-9560D4056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cd1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8680" cy="6856560"/>
            <a:chOff x="0" y="0"/>
            <a:chExt cx="914868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efefe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66840"/>
              <a:ext cx="9148680" cy="0"/>
            </a:xfrm>
            <a:prstGeom prst="line">
              <a:avLst/>
            </a:prstGeom>
            <a:ln w="12600">
              <a:solidFill>
                <a:srgbClr val="ff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52520"/>
              <a:ext cx="9144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6305400"/>
              <a:ext cx="9148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6419880"/>
              <a:ext cx="9148680" cy="0"/>
            </a:xfrm>
            <a:prstGeom prst="line">
              <a:avLst/>
            </a:prstGeom>
            <a:ln w="12600">
              <a:solidFill>
                <a:srgbClr val="ff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0" i="1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10666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350496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6933960" y="63993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555EC-4A0D-4210-AB78-7FB43CE7F65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cd1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9148680" cy="6856560"/>
            <a:chOff x="0" y="0"/>
            <a:chExt cx="9148680" cy="685656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efefe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66840"/>
              <a:ext cx="9144000" cy="0"/>
            </a:xfrm>
            <a:prstGeom prst="line">
              <a:avLst/>
            </a:prstGeom>
            <a:ln w="12600">
              <a:solidFill>
                <a:srgbClr val="ff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0" y="452520"/>
              <a:ext cx="9148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6305400"/>
              <a:ext cx="9144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6419880"/>
              <a:ext cx="9148680" cy="0"/>
            </a:xfrm>
            <a:prstGeom prst="line">
              <a:avLst/>
            </a:prstGeom>
            <a:ln w="12600">
              <a:solidFill>
                <a:srgbClr val="ff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6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0" i="1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dt" idx="4"/>
          </p:nvPr>
        </p:nvSpPr>
        <p:spPr>
          <a:xfrm>
            <a:off x="10666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ftr" idx="5"/>
          </p:nvPr>
        </p:nvSpPr>
        <p:spPr>
          <a:xfrm>
            <a:off x="350496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sldNum" idx="6"/>
          </p:nvPr>
        </p:nvSpPr>
        <p:spPr>
          <a:xfrm>
            <a:off x="6933960" y="63993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813E5-2963-428D-920C-A12FE117EDE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cccc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cccc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cccc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2.wmf"/><Relationship Id="rId13" Type="http://schemas.openxmlformats.org/officeDocument/2006/relationships/image" Target="../media/image11.png"/><Relationship Id="rId14" Type="http://schemas.openxmlformats.org/officeDocument/2006/relationships/image" Target="../media/image11.png"/><Relationship Id="rId15" Type="http://schemas.openxmlformats.org/officeDocument/2006/relationships/image" Target="../media/image11.png"/><Relationship Id="rId1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2.wmf"/><Relationship Id="rId13" Type="http://schemas.openxmlformats.org/officeDocument/2006/relationships/image" Target="../media/image11.png"/><Relationship Id="rId14" Type="http://schemas.openxmlformats.org/officeDocument/2006/relationships/image" Target="../media/image11.png"/><Relationship Id="rId15" Type="http://schemas.openxmlformats.org/officeDocument/2006/relationships/image" Target="../media/image11.png"/><Relationship Id="rId1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7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8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9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0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12.wmf"/><Relationship Id="rId1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gif"/><Relationship Id="rId3" Type="http://schemas.openxmlformats.org/officeDocument/2006/relationships/image" Target="../media/image3.wmf"/><Relationship Id="rId4" Type="http://schemas.openxmlformats.org/officeDocument/2006/relationships/image" Target="../media/image5.gif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7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8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9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0.wmf"/><Relationship Id="rId12" Type="http://schemas.openxmlformats.org/officeDocument/2006/relationships/image" Target="../media/image11.png"/><Relationship Id="rId13" Type="http://schemas.openxmlformats.org/officeDocument/2006/relationships/image" Target="../media/image11.png"/><Relationship Id="rId14" Type="http://schemas.openxmlformats.org/officeDocument/2006/relationships/image" Target="../media/image11.png"/><Relationship Id="rId15" Type="http://schemas.openxmlformats.org/officeDocument/2006/relationships/image" Target="../media/image11.png"/><Relationship Id="rId1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7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8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9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0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12.wmf"/><Relationship Id="rId1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7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8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9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0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12.wmf"/><Relationship Id="rId14" Type="http://schemas.openxmlformats.org/officeDocument/2006/relationships/image" Target="../media/image11.png"/><Relationship Id="rId15" Type="http://schemas.openxmlformats.org/officeDocument/2006/relationships/image" Target="../media/image11.png"/><Relationship Id="rId16" Type="http://schemas.openxmlformats.org/officeDocument/2006/relationships/image" Target="../media/image11.png"/><Relationship Id="rId17" Type="http://schemas.openxmlformats.org/officeDocument/2006/relationships/image" Target="../media/image11.png"/><Relationship Id="rId18" Type="http://schemas.openxmlformats.org/officeDocument/2006/relationships/image" Target="../media/image11.png"/><Relationship Id="rId1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2.wmf"/><Relationship Id="rId13" Type="http://schemas.openxmlformats.org/officeDocument/2006/relationships/image" Target="../media/image13.png"/><Relationship Id="rId14" Type="http://schemas.openxmlformats.org/officeDocument/2006/relationships/image" Target="../media/image11.png"/><Relationship Id="rId15" Type="http://schemas.openxmlformats.org/officeDocument/2006/relationships/image" Target="../media/image11.png"/><Relationship Id="rId16" Type="http://schemas.openxmlformats.org/officeDocument/2006/relationships/image" Target="../media/image11.png"/><Relationship Id="rId17" Type="http://schemas.openxmlformats.org/officeDocument/2006/relationships/image" Target="../media/image11.png"/><Relationship Id="rId1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cd1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4932360" y="5589720"/>
            <a:ext cx="4211640" cy="98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Автор: учитель высшей категор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трелкова Н. 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497400" y="3357720"/>
            <a:ext cx="24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(Алгебра-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1258920" y="1484280"/>
            <a:ext cx="7486560" cy="1722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99ff"/>
                    </a:gs>
                    <a:gs pos="50000">
                      <a:srgbClr val="0033cc"/>
                    </a:gs>
                    <a:gs pos="100000">
                      <a:srgbClr val="6699ff"/>
                    </a:gs>
                  </a:gsLst>
                  <a:lin ang="8100000"/>
                </a:gradFill>
                <a:latin typeface="Arial"/>
              </a:rPr>
              <a:t>Свойства функции у = tg х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99ff"/>
                  </a:gs>
                  <a:gs pos="50000">
                    <a:srgbClr val="0033cc"/>
                  </a:gs>
                  <a:gs pos="100000">
                    <a:srgbClr val="6699ff"/>
                  </a:gs>
                </a:gsLst>
                <a:lin ang="81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99ff"/>
                    </a:gs>
                    <a:gs pos="50000">
                      <a:srgbClr val="0033cc"/>
                    </a:gs>
                    <a:gs pos="100000">
                      <a:srgbClr val="6699ff"/>
                    </a:gs>
                  </a:gsLst>
                  <a:lin ang="8100000"/>
                </a:gradFill>
                <a:latin typeface="Arial"/>
              </a:rPr>
              <a:t>и ее график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99ff"/>
                  </a:gs>
                  <a:gs pos="50000">
                    <a:srgbClr val="0033cc"/>
                  </a:gs>
                  <a:gs pos="100000">
                    <a:srgbClr val="6699ff"/>
                  </a:gs>
                </a:gsLst>
                <a:lin ang="8100000"/>
              </a:gradFill>
              <a:latin typeface="Arial"/>
              <a:ea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8244000" y="549360"/>
            <a:ext cx="698400" cy="6984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971640" y="3933720"/>
            <a:ext cx="2592360" cy="22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cd1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"/>
          <p:cNvSpPr/>
          <p:nvPr/>
        </p:nvSpPr>
        <p:spPr>
          <a:xfrm rot="5400000">
            <a:off x="-2642400" y="3307680"/>
            <a:ext cx="6192720" cy="907920"/>
          </a:xfrm>
          <a:prstGeom prst="rect">
            <a:avLst/>
          </a:prstGeom>
          <a:solidFill>
            <a:srgbClr val="bcd1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826920" y="5950080"/>
            <a:ext cx="8317080" cy="907920"/>
          </a:xfrm>
          <a:prstGeom prst="rect">
            <a:avLst/>
          </a:prstGeom>
          <a:solidFill>
            <a:srgbClr val="bcd1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042920" y="404640"/>
            <a:ext cx="7772400" cy="87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660066"/>
                </a:solidFill>
                <a:latin typeface="Arial"/>
              </a:rPr>
              <a:t>Задача №1.</a:t>
            </a:r>
            <a:endParaRPr b="0" i="1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1066320" y="1196640"/>
            <a:ext cx="7898040" cy="165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йти все корни уравнения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gx=2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инадлежащих промежутку –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х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∕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660066"/>
                </a:solidFill>
                <a:uFillTx/>
                <a:latin typeface="Times New Roman"/>
                <a:ea typeface="Times New Roman"/>
              </a:rPr>
              <a:t>Решени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9" name=""/>
          <p:cNvGrpSpPr/>
          <p:nvPr/>
        </p:nvGrpSpPr>
        <p:grpSpPr>
          <a:xfrm>
            <a:off x="-1201320" y="-1946160"/>
            <a:ext cx="8046720" cy="13637160"/>
            <a:chOff x="-1201320" y="-1946160"/>
            <a:chExt cx="8046720" cy="13637160"/>
          </a:xfrm>
        </p:grpSpPr>
        <p:sp>
          <p:nvSpPr>
            <p:cNvPr id="520" name=""/>
            <p:cNvSpPr/>
            <p:nvPr/>
          </p:nvSpPr>
          <p:spPr>
            <a:xfrm>
              <a:off x="464400" y="4066560"/>
              <a:ext cx="483084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3515400" y="3052440"/>
              <a:ext cx="0" cy="3684240"/>
            </a:xfrm>
            <a:prstGeom prst="line">
              <a:avLst/>
            </a:prstGeom>
            <a:ln w="12600">
              <a:solidFill>
                <a:srgbClr val="6600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4024440" y="3105720"/>
              <a:ext cx="0" cy="3631320"/>
            </a:xfrm>
            <a:prstGeom prst="line">
              <a:avLst/>
            </a:prstGeom>
            <a:ln w="12600">
              <a:solidFill>
                <a:srgbClr val="6600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3769920" y="3052440"/>
              <a:ext cx="0" cy="3684240"/>
            </a:xfrm>
            <a:prstGeom prst="line">
              <a:avLst/>
            </a:prstGeom>
            <a:ln w="12600">
              <a:solidFill>
                <a:srgbClr val="6600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4278960" y="3052440"/>
              <a:ext cx="0" cy="3684240"/>
            </a:xfrm>
            <a:prstGeom prst="line">
              <a:avLst/>
            </a:prstGeom>
            <a:ln w="12600">
              <a:solidFill>
                <a:srgbClr val="6600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3261960" y="3052440"/>
              <a:ext cx="0" cy="3684240"/>
            </a:xfrm>
            <a:prstGeom prst="line">
              <a:avLst/>
            </a:prstGeom>
            <a:ln w="12600">
              <a:solidFill>
                <a:srgbClr val="6600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3007440" y="3052440"/>
              <a:ext cx="0" cy="3684240"/>
            </a:xfrm>
            <a:prstGeom prst="line">
              <a:avLst/>
            </a:prstGeom>
            <a:ln w="12600">
              <a:solidFill>
                <a:srgbClr val="6600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2498400" y="3052440"/>
              <a:ext cx="0" cy="3684240"/>
            </a:xfrm>
            <a:prstGeom prst="line">
              <a:avLst/>
            </a:prstGeom>
            <a:ln w="12600">
              <a:solidFill>
                <a:srgbClr val="6600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2243880" y="3158640"/>
              <a:ext cx="0" cy="3578400"/>
            </a:xfrm>
            <a:prstGeom prst="line">
              <a:avLst/>
            </a:prstGeom>
            <a:ln w="12600">
              <a:solidFill>
                <a:srgbClr val="6600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1990440" y="3105720"/>
              <a:ext cx="0" cy="3631320"/>
            </a:xfrm>
            <a:prstGeom prst="line">
              <a:avLst/>
            </a:prstGeom>
            <a:ln w="12600">
              <a:solidFill>
                <a:srgbClr val="6600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735920" y="3158640"/>
              <a:ext cx="0" cy="3578400"/>
            </a:xfrm>
            <a:prstGeom prst="line">
              <a:avLst/>
            </a:prstGeom>
            <a:ln w="12600">
              <a:solidFill>
                <a:srgbClr val="6600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464400" y="5135760"/>
              <a:ext cx="483084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464400" y="4333680"/>
              <a:ext cx="483084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464400" y="4601160"/>
              <a:ext cx="48308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464400" y="3800160"/>
              <a:ext cx="483084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1481400" y="3105720"/>
              <a:ext cx="0" cy="3631320"/>
            </a:xfrm>
            <a:prstGeom prst="line">
              <a:avLst/>
            </a:prstGeom>
            <a:ln w="12600">
              <a:solidFill>
                <a:srgbClr val="6600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464400" y="5669280"/>
              <a:ext cx="472896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64400" y="3265560"/>
              <a:ext cx="483084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64400" y="3533040"/>
              <a:ext cx="483084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464400" y="5936400"/>
              <a:ext cx="483084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464400" y="5401800"/>
              <a:ext cx="483084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464400" y="6471000"/>
              <a:ext cx="483084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464400" y="6203880"/>
              <a:ext cx="483084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1226880" y="3158640"/>
              <a:ext cx="0" cy="3578400"/>
            </a:xfrm>
            <a:prstGeom prst="line">
              <a:avLst/>
            </a:prstGeom>
            <a:ln w="12600">
              <a:solidFill>
                <a:srgbClr val="6600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5295600" y="3052440"/>
              <a:ext cx="0" cy="3684240"/>
            </a:xfrm>
            <a:prstGeom prst="line">
              <a:avLst/>
            </a:prstGeom>
            <a:ln w="12600">
              <a:solidFill>
                <a:srgbClr val="6600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4786560" y="3052440"/>
              <a:ext cx="0" cy="3684240"/>
            </a:xfrm>
            <a:prstGeom prst="line">
              <a:avLst/>
            </a:prstGeom>
            <a:ln w="12600">
              <a:solidFill>
                <a:srgbClr val="6600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5041080" y="2998440"/>
              <a:ext cx="0" cy="3684240"/>
            </a:xfrm>
            <a:prstGeom prst="line">
              <a:avLst/>
            </a:prstGeom>
            <a:ln w="12600">
              <a:solidFill>
                <a:srgbClr val="6600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4533120" y="3052440"/>
              <a:ext cx="0" cy="3684240"/>
            </a:xfrm>
            <a:prstGeom prst="line">
              <a:avLst/>
            </a:prstGeom>
            <a:ln w="12600">
              <a:solidFill>
                <a:srgbClr val="6600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718920" y="3158640"/>
              <a:ext cx="0" cy="3578400"/>
            </a:xfrm>
            <a:prstGeom prst="line">
              <a:avLst/>
            </a:prstGeom>
            <a:ln w="12600">
              <a:solidFill>
                <a:srgbClr val="6600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64400" y="3105720"/>
              <a:ext cx="0" cy="3631320"/>
            </a:xfrm>
            <a:prstGeom prst="line">
              <a:avLst/>
            </a:prstGeom>
            <a:ln w="12600">
              <a:solidFill>
                <a:srgbClr val="6600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972360" y="3105720"/>
              <a:ext cx="0" cy="3631320"/>
            </a:xfrm>
            <a:prstGeom prst="line">
              <a:avLst/>
            </a:prstGeom>
            <a:ln w="12600">
              <a:solidFill>
                <a:srgbClr val="6600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362160" y="4868280"/>
              <a:ext cx="498348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2752920" y="3105720"/>
              <a:ext cx="0" cy="357840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 flipV="1">
              <a:off x="2752920" y="2998080"/>
              <a:ext cx="0" cy="373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362160" y="4868280"/>
              <a:ext cx="4933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2448000" y="2892240"/>
              <a:ext cx="21636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5042160" y="4442040"/>
              <a:ext cx="32148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242800" y="4066560"/>
              <a:ext cx="323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192040" y="5242680"/>
              <a:ext cx="48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559" name=""/>
            <p:cNvGraphicFramePr/>
            <p:nvPr/>
          </p:nvGraphicFramePr>
          <p:xfrm>
            <a:off x="4023000" y="5081400"/>
            <a:ext cx="302760" cy="3391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6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023000" y="5081400"/>
                      <a:ext cx="302760" cy="339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61" name=""/>
            <p:cNvGraphicFramePr/>
            <p:nvPr/>
          </p:nvGraphicFramePr>
          <p:xfrm>
            <a:off x="2396160" y="4493880"/>
            <a:ext cx="248760" cy="3952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6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396160" y="4493880"/>
                      <a:ext cx="248760" cy="395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63" name=""/>
            <p:cNvGraphicFramePr/>
            <p:nvPr/>
          </p:nvGraphicFramePr>
          <p:xfrm>
            <a:off x="920880" y="5028480"/>
            <a:ext cx="376200" cy="3391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564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920880" y="5028480"/>
                      <a:ext cx="376200" cy="339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65" name=""/>
            <p:cNvGraphicFramePr/>
            <p:nvPr/>
          </p:nvGraphicFramePr>
          <p:xfrm>
            <a:off x="3311280" y="4975560"/>
            <a:ext cx="376560" cy="7347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566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311280" y="4975560"/>
                      <a:ext cx="376560" cy="734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67" name=""/>
            <p:cNvGraphicFramePr/>
            <p:nvPr/>
          </p:nvGraphicFramePr>
          <p:xfrm>
            <a:off x="1734840" y="4975560"/>
            <a:ext cx="322560" cy="734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568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1734840" y="4975560"/>
                      <a:ext cx="322560" cy="734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69" name=""/>
            <p:cNvSpPr/>
            <p:nvPr/>
          </p:nvSpPr>
          <p:spPr>
            <a:xfrm>
              <a:off x="1989360" y="4761360"/>
              <a:ext cx="0" cy="223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50680" y="5401800"/>
              <a:ext cx="214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2650680" y="4333680"/>
              <a:ext cx="214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515400" y="4761360"/>
              <a:ext cx="0" cy="169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277520" y="4761360"/>
              <a:ext cx="0" cy="169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226880" y="4761360"/>
              <a:ext cx="0" cy="213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3515400" y="3105720"/>
              <a:ext cx="0" cy="3525120"/>
            </a:xfrm>
            <a:prstGeom prst="line">
              <a:avLst/>
            </a:prstGeom>
            <a:ln w="3168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989360" y="3158640"/>
              <a:ext cx="0" cy="3525480"/>
            </a:xfrm>
            <a:prstGeom prst="line">
              <a:avLst/>
            </a:prstGeom>
            <a:ln w="3168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7" name=""/>
            <p:cNvGrpSpPr/>
            <p:nvPr/>
          </p:nvGrpSpPr>
          <p:grpSpPr>
            <a:xfrm>
              <a:off x="324720" y="-1946160"/>
              <a:ext cx="4995000" cy="13637160"/>
              <a:chOff x="324720" y="-1946160"/>
              <a:chExt cx="4995000" cy="13637160"/>
            </a:xfrm>
          </p:grpSpPr>
          <p:sp>
            <p:nvSpPr>
              <p:cNvPr id="578" name=""/>
              <p:cNvSpPr/>
              <p:nvPr/>
            </p:nvSpPr>
            <p:spPr>
              <a:xfrm rot="5076600">
                <a:off x="-1414800" y="228600"/>
                <a:ext cx="6908400" cy="2790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5548" y="1100"/>
                    </a:moveTo>
                    <a:arcTo wR="10800" hR="10800" stAng="-3835200" swAng="28408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5548" y="1100"/>
                    </a:moveTo>
                    <a:arcTo wR="10800" hR="10800" stAng="-3835200" swAng="2840850"/>
                  </a:path>
                </a:pathLst>
              </a:custGeom>
              <a:noFill/>
              <a:ln w="381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 rot="15838800">
                <a:off x="59760" y="6652440"/>
                <a:ext cx="6908400" cy="290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5548" y="1100"/>
                    </a:moveTo>
                    <a:arcTo wR="10800" hR="10800" stAng="-3835200" swAng="28408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5548" y="1100"/>
                    </a:moveTo>
                    <a:arcTo wR="10800" hR="10800" stAng="-3835200" swAng="2840850"/>
                  </a:path>
                </a:pathLst>
              </a:custGeom>
              <a:noFill/>
              <a:ln w="381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0" name=""/>
            <p:cNvSpPr/>
            <p:nvPr/>
          </p:nvSpPr>
          <p:spPr>
            <a:xfrm>
              <a:off x="464400" y="4761360"/>
              <a:ext cx="0" cy="213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5041080" y="4761360"/>
              <a:ext cx="0" cy="213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582" name=""/>
            <p:cNvGraphicFramePr/>
            <p:nvPr/>
          </p:nvGraphicFramePr>
          <p:xfrm>
            <a:off x="4888800" y="5028480"/>
            <a:ext cx="376200" cy="67824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583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4888800" y="5028480"/>
                      <a:ext cx="376200" cy="678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584" name=""/>
                <p:cNvSpPr txBox="1"/>
                <p:nvPr/>
              </p:nvSpPr>
              <p:spPr>
                <a:xfrm>
                  <a:off x="108000" y="4975560"/>
                  <a:ext cx="550440" cy="640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f>
                        <m:num>
                          <m:r>
                            <m:t xml:space="preserve">3</m:t>
                          </m:r>
                          <m:r>
                            <m:t xml:space="preserve">π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585" name=""/>
            <p:cNvSpPr/>
            <p:nvPr/>
          </p:nvSpPr>
          <p:spPr>
            <a:xfrm>
              <a:off x="464400" y="3158640"/>
              <a:ext cx="0" cy="3525480"/>
            </a:xfrm>
            <a:prstGeom prst="line">
              <a:avLst/>
            </a:prstGeom>
            <a:ln w="3168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5041080" y="3105720"/>
              <a:ext cx="0" cy="3525120"/>
            </a:xfrm>
            <a:prstGeom prst="line">
              <a:avLst/>
            </a:prstGeom>
            <a:ln w="3168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7" name=""/>
            <p:cNvGrpSpPr/>
            <p:nvPr/>
          </p:nvGrpSpPr>
          <p:grpSpPr>
            <a:xfrm>
              <a:off x="1850400" y="-1946160"/>
              <a:ext cx="4995000" cy="13637160"/>
              <a:chOff x="1850400" y="-1946160"/>
              <a:chExt cx="4995000" cy="13637160"/>
            </a:xfrm>
          </p:grpSpPr>
          <p:sp>
            <p:nvSpPr>
              <p:cNvPr id="588" name=""/>
              <p:cNvSpPr/>
              <p:nvPr/>
            </p:nvSpPr>
            <p:spPr>
              <a:xfrm rot="5076600">
                <a:off x="110520" y="228600"/>
                <a:ext cx="6908400" cy="2790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5548" y="1100"/>
                    </a:moveTo>
                    <a:arcTo wR="10800" hR="10800" stAng="-3835200" swAng="28408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5548" y="1100"/>
                    </a:moveTo>
                    <a:arcTo wR="10800" hR="10800" stAng="-3835200" swAng="2840850"/>
                  </a:path>
                </a:pathLst>
              </a:custGeom>
              <a:noFill/>
              <a:ln w="381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 rot="15838800">
                <a:off x="1585440" y="6652440"/>
                <a:ext cx="6908400" cy="290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5548" y="1100"/>
                    </a:moveTo>
                    <a:arcTo wR="10800" hR="10800" stAng="-3835200" swAng="28408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5548" y="1100"/>
                    </a:moveTo>
                    <a:arcTo wR="10800" hR="10800" stAng="-3835200" swAng="2840850"/>
                  </a:path>
                </a:pathLst>
              </a:custGeom>
              <a:noFill/>
              <a:ln w="381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0" name=""/>
            <p:cNvGrpSpPr/>
            <p:nvPr/>
          </p:nvGrpSpPr>
          <p:grpSpPr>
            <a:xfrm>
              <a:off x="-1201320" y="-1946160"/>
              <a:ext cx="4995000" cy="13637160"/>
              <a:chOff x="-1201320" y="-1946160"/>
              <a:chExt cx="4995000" cy="13637160"/>
            </a:xfrm>
          </p:grpSpPr>
          <p:sp>
            <p:nvSpPr>
              <p:cNvPr id="591" name=""/>
              <p:cNvSpPr/>
              <p:nvPr/>
            </p:nvSpPr>
            <p:spPr>
              <a:xfrm rot="5076600">
                <a:off x="-2940840" y="228600"/>
                <a:ext cx="6908400" cy="2790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5548" y="1100"/>
                    </a:moveTo>
                    <a:arcTo wR="10800" hR="10800" stAng="-3835200" swAng="28408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5548" y="1100"/>
                    </a:moveTo>
                    <a:arcTo wR="10800" hR="10800" stAng="-3835200" swAng="2840850"/>
                  </a:path>
                </a:pathLst>
              </a:custGeom>
              <a:noFill/>
              <a:ln w="381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rot="15838800">
                <a:off x="-1465920" y="6652440"/>
                <a:ext cx="6908400" cy="290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5548" y="1100"/>
                    </a:moveTo>
                    <a:arcTo wR="10800" hR="10800" stAng="-3835200" swAng="28408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5548" y="1100"/>
                    </a:moveTo>
                    <a:arcTo wR="10800" hR="10800" stAng="-3835200" swAng="2840850"/>
                  </a:path>
                </a:pathLst>
              </a:custGeom>
              <a:noFill/>
              <a:ln w="381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3" name=""/>
          <p:cNvSpPr/>
          <p:nvPr/>
        </p:nvSpPr>
        <p:spPr>
          <a:xfrm>
            <a:off x="4068360" y="2637000"/>
            <a:ext cx="1102680" cy="520560"/>
          </a:xfrm>
          <a:prstGeom prst="rect">
            <a:avLst/>
          </a:prstGeom>
          <a:solidFill>
            <a:srgbClr val="bcd1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66"/>
                </a:solidFill>
                <a:latin typeface="Times New Roman"/>
              </a:rPr>
              <a:t>у=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tg</a:t>
            </a:r>
            <a:r>
              <a:rPr b="0" lang="ru-RU" sz="28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250920" y="3789360"/>
            <a:ext cx="5184720" cy="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1440" y="3213000"/>
            <a:ext cx="736920" cy="520560"/>
          </a:xfrm>
          <a:prstGeom prst="rect">
            <a:avLst/>
          </a:prstGeom>
          <a:solidFill>
            <a:srgbClr val="bcd1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66"/>
                </a:solidFill>
                <a:latin typeface="Times New Roman"/>
              </a:rPr>
              <a:t>у=</a:t>
            </a:r>
            <a:r>
              <a:rPr b="0" lang="ru-RU" sz="28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6" name="" descr=""/>
          <p:cNvPicPr/>
          <p:nvPr/>
        </p:nvPicPr>
        <p:blipFill>
          <a:blip r:embed="rId13"/>
          <a:stretch/>
        </p:blipFill>
        <p:spPr>
          <a:xfrm>
            <a:off x="1692360" y="3716280"/>
            <a:ext cx="123840" cy="123840"/>
          </a:xfrm>
          <a:prstGeom prst="rect">
            <a:avLst/>
          </a:prstGeom>
          <a:ln w="0">
            <a:noFill/>
          </a:ln>
        </p:spPr>
      </p:pic>
      <p:pic>
        <p:nvPicPr>
          <p:cNvPr id="597" name="" descr=""/>
          <p:cNvPicPr/>
          <p:nvPr/>
        </p:nvPicPr>
        <p:blipFill>
          <a:blip r:embed="rId14"/>
          <a:stretch/>
        </p:blipFill>
        <p:spPr>
          <a:xfrm>
            <a:off x="3203640" y="3716280"/>
            <a:ext cx="123840" cy="123840"/>
          </a:xfrm>
          <a:prstGeom prst="rect">
            <a:avLst/>
          </a:prstGeom>
          <a:ln w="0">
            <a:noFill/>
          </a:ln>
        </p:spPr>
      </p:pic>
      <p:pic>
        <p:nvPicPr>
          <p:cNvPr id="598" name="" descr=""/>
          <p:cNvPicPr/>
          <p:nvPr/>
        </p:nvPicPr>
        <p:blipFill>
          <a:blip r:embed="rId15"/>
          <a:stretch/>
        </p:blipFill>
        <p:spPr>
          <a:xfrm>
            <a:off x="4788000" y="3716280"/>
            <a:ext cx="123840" cy="123840"/>
          </a:xfrm>
          <a:prstGeom prst="rect">
            <a:avLst/>
          </a:prstGeom>
          <a:ln w="0">
            <a:noFill/>
          </a:ln>
        </p:spPr>
      </p:pic>
      <p:sp>
        <p:nvSpPr>
          <p:cNvPr id="599" name=""/>
          <p:cNvSpPr/>
          <p:nvPr/>
        </p:nvSpPr>
        <p:spPr>
          <a:xfrm>
            <a:off x="5349600" y="2678040"/>
            <a:ext cx="4055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строим график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функций у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gx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у=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5322600" y="3789360"/>
            <a:ext cx="3235680" cy="15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ctg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ctg2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ctg2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276720" y="3789360"/>
            <a:ext cx="0" cy="1079640"/>
          </a:xfrm>
          <a:prstGeom prst="line">
            <a:avLst/>
          </a:prstGeom>
          <a:ln w="2844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3069000" y="4797360"/>
            <a:ext cx="462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66"/>
                </a:solidFill>
                <a:latin typeface="Times New Roman"/>
              </a:rPr>
              <a:t>х</a:t>
            </a:r>
            <a:r>
              <a:rPr b="0" lang="ru-RU" sz="2800" spc="-1" strike="noStrike" baseline="-25000">
                <a:solidFill>
                  <a:srgbClr val="660066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1763640" y="3789360"/>
            <a:ext cx="0" cy="1079640"/>
          </a:xfrm>
          <a:prstGeom prst="line">
            <a:avLst/>
          </a:prstGeom>
          <a:ln w="2844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4859280" y="3789360"/>
            <a:ext cx="0" cy="1079640"/>
          </a:xfrm>
          <a:prstGeom prst="line">
            <a:avLst/>
          </a:prstGeom>
          <a:ln w="2844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1486440" y="4797360"/>
            <a:ext cx="462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66"/>
                </a:solidFill>
                <a:latin typeface="Times New Roman"/>
              </a:rPr>
              <a:t>х</a:t>
            </a:r>
            <a:r>
              <a:rPr b="0" lang="ru-RU" sz="2800" spc="-1" strike="noStrike" baseline="-25000">
                <a:solidFill>
                  <a:srgbClr val="660066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4582080" y="4869000"/>
            <a:ext cx="462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66"/>
                </a:solidFill>
                <a:latin typeface="Times New Roman"/>
              </a:rPr>
              <a:t>х</a:t>
            </a:r>
            <a:r>
              <a:rPr b="0" lang="ru-RU" sz="2800" spc="-1" strike="noStrike" baseline="-25000">
                <a:solidFill>
                  <a:srgbClr val="660066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0" dur="indefinite" restart="never" nodeType="tmRoot">
          <p:childTnLst>
            <p:seq>
              <p:cTn id="751" dur="indefinite" nodeType="mainSeq">
                <p:childTnLst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6" dur="10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10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8" dur="1000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63" dur="80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9,119,1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64" dur="80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9,119,1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5" dur="80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0" dur="10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1" dur="1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1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7" dur="2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2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9" dur="2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0" fill="hold">
                            <p:stCondLst>
                              <p:cond delay="2000"/>
                            </p:stCondLst>
                            <p:childTnLst>
                              <p:par>
                                <p:cTn id="78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3" dur="10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4" dur="10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10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0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1" fill="hold">
                            <p:stCondLst>
                              <p:cond delay="500"/>
                            </p:stCondLst>
                            <p:childTnLst>
                              <p:par>
                                <p:cTn id="79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4" dur="10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5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1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3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6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8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1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3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4" fill="hold">
                            <p:stCondLst>
                              <p:cond delay="500"/>
                            </p:stCondLst>
                            <p:childTnLst>
                              <p:par>
                                <p:cTn id="81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16" dur="2000" fill="hold"/>
                                        <p:tgtEl>
                                          <p:spTgt spid="59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81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18" dur="2000" fill="hold"/>
                                        <p:tgtEl>
                                          <p:spTgt spid="59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81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20" dur="2000" fill="hold"/>
                                        <p:tgtEl>
                                          <p:spTgt spid="59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5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6" fill="hold">
                            <p:stCondLst>
                              <p:cond delay="500"/>
                            </p:stCondLst>
                            <p:childTnLst>
                              <p:par>
                                <p:cTn id="8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1" fill="hold">
                            <p:stCondLst>
                              <p:cond delay="1000"/>
                            </p:stCondLst>
                            <p:childTnLst>
                              <p:par>
                                <p:cTn id="8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4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5" fill="hold">
                            <p:stCondLst>
                              <p:cond delay="1500"/>
                            </p:stCondLst>
                            <p:childTnLst>
                              <p:par>
                                <p:cTn id="8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8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9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0" fill="hold">
                            <p:stCondLst>
                              <p:cond delay="2000"/>
                            </p:stCondLst>
                            <p:childTnLst>
                              <p:par>
                                <p:cTn id="8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3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4" fill="hold">
                            <p:stCondLst>
                              <p:cond delay="2500"/>
                            </p:stCondLst>
                            <p:childTnLst>
                              <p:par>
                                <p:cTn id="84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8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53" dur="80"/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9,119,1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54" dur="80"/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9,119,1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5" dur="80"/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60" dur="80"/>
                                        <p:tgtEl>
                                          <p:spTgt spid="6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9,119,1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61" dur="80"/>
                                        <p:tgtEl>
                                          <p:spTgt spid="6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9,119,1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2" dur="80"/>
                                        <p:tgtEl>
                                          <p:spTgt spid="6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67" dur="80"/>
                                        <p:tgtEl>
                                          <p:spTgt spid="6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9,119,1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68" dur="80"/>
                                        <p:tgtEl>
                                          <p:spTgt spid="6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9,119,1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9" dur="80"/>
                                        <p:tgtEl>
                                          <p:spTgt spid="6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cd1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"/>
          <p:cNvSpPr/>
          <p:nvPr/>
        </p:nvSpPr>
        <p:spPr>
          <a:xfrm rot="5400000">
            <a:off x="-2642400" y="3307680"/>
            <a:ext cx="6192720" cy="907920"/>
          </a:xfrm>
          <a:prstGeom prst="rect">
            <a:avLst/>
          </a:prstGeom>
          <a:solidFill>
            <a:srgbClr val="bcd1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826920" y="5950080"/>
            <a:ext cx="8317080" cy="907920"/>
          </a:xfrm>
          <a:prstGeom prst="rect">
            <a:avLst/>
          </a:prstGeom>
          <a:solidFill>
            <a:srgbClr val="bcd1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971640" y="188640"/>
            <a:ext cx="7772400" cy="718920"/>
          </a:xfrm>
          <a:prstGeom prst="rect">
            <a:avLst/>
          </a:prstGeom>
          <a:solidFill>
            <a:srgbClr val="bcd1dc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660066"/>
                </a:solidFill>
                <a:latin typeface="Arial"/>
              </a:rPr>
              <a:t>Задача №2.</a:t>
            </a:r>
            <a:endParaRPr b="0" i="1" lang="en-US" sz="4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826560" y="691920"/>
            <a:ext cx="7898040" cy="165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йти все решения неравенства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gx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инадлежащих промежутку –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х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∕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660066"/>
                </a:solidFill>
                <a:uFillTx/>
                <a:latin typeface="Times New Roman"/>
                <a:ea typeface="Times New Roman"/>
              </a:rPr>
              <a:t>Решени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1" name=""/>
          <p:cNvGrpSpPr/>
          <p:nvPr/>
        </p:nvGrpSpPr>
        <p:grpSpPr>
          <a:xfrm>
            <a:off x="-1309320" y="-2595600"/>
            <a:ext cx="8048160" cy="13637520"/>
            <a:chOff x="-1309320" y="-2595600"/>
            <a:chExt cx="8048160" cy="13637520"/>
          </a:xfrm>
        </p:grpSpPr>
        <p:sp>
          <p:nvSpPr>
            <p:cNvPr id="612" name=""/>
            <p:cNvSpPr/>
            <p:nvPr/>
          </p:nvSpPr>
          <p:spPr>
            <a:xfrm>
              <a:off x="356400" y="3417120"/>
              <a:ext cx="483120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3407400" y="2403000"/>
              <a:ext cx="0" cy="3684240"/>
            </a:xfrm>
            <a:prstGeom prst="line">
              <a:avLst/>
            </a:prstGeom>
            <a:ln w="12600">
              <a:solidFill>
                <a:srgbClr val="6600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3916440" y="2456280"/>
              <a:ext cx="0" cy="3631320"/>
            </a:xfrm>
            <a:prstGeom prst="line">
              <a:avLst/>
            </a:prstGeom>
            <a:ln w="12600">
              <a:solidFill>
                <a:srgbClr val="6600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3661920" y="2403000"/>
              <a:ext cx="0" cy="3684240"/>
            </a:xfrm>
            <a:prstGeom prst="line">
              <a:avLst/>
            </a:prstGeom>
            <a:ln w="12600">
              <a:solidFill>
                <a:srgbClr val="6600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4170960" y="2403000"/>
              <a:ext cx="0" cy="3684240"/>
            </a:xfrm>
            <a:prstGeom prst="line">
              <a:avLst/>
            </a:prstGeom>
            <a:ln w="12600">
              <a:solidFill>
                <a:srgbClr val="6600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3153960" y="2403000"/>
              <a:ext cx="0" cy="3684240"/>
            </a:xfrm>
            <a:prstGeom prst="line">
              <a:avLst/>
            </a:prstGeom>
            <a:ln w="12600">
              <a:solidFill>
                <a:srgbClr val="6600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2899440" y="2403000"/>
              <a:ext cx="0" cy="3684240"/>
            </a:xfrm>
            <a:prstGeom prst="line">
              <a:avLst/>
            </a:prstGeom>
            <a:ln w="12600">
              <a:solidFill>
                <a:srgbClr val="6600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2390400" y="2403000"/>
              <a:ext cx="0" cy="3684240"/>
            </a:xfrm>
            <a:prstGeom prst="line">
              <a:avLst/>
            </a:prstGeom>
            <a:ln w="12600">
              <a:solidFill>
                <a:srgbClr val="6600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2135880" y="2509200"/>
              <a:ext cx="0" cy="3578400"/>
            </a:xfrm>
            <a:prstGeom prst="line">
              <a:avLst/>
            </a:prstGeom>
            <a:ln w="12600">
              <a:solidFill>
                <a:srgbClr val="6600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1882440" y="2456280"/>
              <a:ext cx="0" cy="3631320"/>
            </a:xfrm>
            <a:prstGeom prst="line">
              <a:avLst/>
            </a:prstGeom>
            <a:ln w="12600">
              <a:solidFill>
                <a:srgbClr val="6600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627920" y="2509200"/>
              <a:ext cx="0" cy="3578400"/>
            </a:xfrm>
            <a:prstGeom prst="line">
              <a:avLst/>
            </a:prstGeom>
            <a:ln w="12600">
              <a:solidFill>
                <a:srgbClr val="6600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356400" y="4486320"/>
              <a:ext cx="483120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356400" y="3684240"/>
              <a:ext cx="483120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356400" y="3951720"/>
              <a:ext cx="48312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356400" y="3150720"/>
              <a:ext cx="483120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1373400" y="2456280"/>
              <a:ext cx="0" cy="3631320"/>
            </a:xfrm>
            <a:prstGeom prst="line">
              <a:avLst/>
            </a:prstGeom>
            <a:ln w="12600">
              <a:solidFill>
                <a:srgbClr val="6600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356400" y="5019840"/>
              <a:ext cx="472932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356400" y="2616120"/>
              <a:ext cx="483120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356400" y="2883600"/>
              <a:ext cx="483120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356400" y="5286960"/>
              <a:ext cx="483120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56400" y="4752360"/>
              <a:ext cx="483120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356400" y="5821560"/>
              <a:ext cx="483120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356400" y="5554440"/>
              <a:ext cx="483120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118880" y="2509200"/>
              <a:ext cx="0" cy="3578400"/>
            </a:xfrm>
            <a:prstGeom prst="line">
              <a:avLst/>
            </a:prstGeom>
            <a:ln w="12600">
              <a:solidFill>
                <a:srgbClr val="6600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5187960" y="2403000"/>
              <a:ext cx="0" cy="3684240"/>
            </a:xfrm>
            <a:prstGeom prst="line">
              <a:avLst/>
            </a:prstGeom>
            <a:ln w="12600">
              <a:solidFill>
                <a:srgbClr val="6600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4678920" y="2403000"/>
              <a:ext cx="0" cy="3684240"/>
            </a:xfrm>
            <a:prstGeom prst="line">
              <a:avLst/>
            </a:prstGeom>
            <a:ln w="12600">
              <a:solidFill>
                <a:srgbClr val="6600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4933440" y="2349000"/>
              <a:ext cx="0" cy="3684240"/>
            </a:xfrm>
            <a:prstGeom prst="line">
              <a:avLst/>
            </a:prstGeom>
            <a:ln w="12600">
              <a:solidFill>
                <a:srgbClr val="6600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4425480" y="2403000"/>
              <a:ext cx="0" cy="3684240"/>
            </a:xfrm>
            <a:prstGeom prst="line">
              <a:avLst/>
            </a:prstGeom>
            <a:ln w="12600">
              <a:solidFill>
                <a:srgbClr val="6600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610920" y="2509200"/>
              <a:ext cx="0" cy="3578400"/>
            </a:xfrm>
            <a:prstGeom prst="line">
              <a:avLst/>
            </a:prstGeom>
            <a:ln w="12600">
              <a:solidFill>
                <a:srgbClr val="6600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356400" y="2456280"/>
              <a:ext cx="0" cy="3631320"/>
            </a:xfrm>
            <a:prstGeom prst="line">
              <a:avLst/>
            </a:prstGeom>
            <a:ln w="12600">
              <a:solidFill>
                <a:srgbClr val="6600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864360" y="2456280"/>
              <a:ext cx="0" cy="3631320"/>
            </a:xfrm>
            <a:prstGeom prst="line">
              <a:avLst/>
            </a:prstGeom>
            <a:ln w="12600">
              <a:solidFill>
                <a:srgbClr val="6600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254520" y="4218840"/>
              <a:ext cx="498384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2644920" y="2456280"/>
              <a:ext cx="0" cy="357840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 flipV="1">
              <a:off x="2644920" y="2348640"/>
              <a:ext cx="0" cy="373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254520" y="4218840"/>
              <a:ext cx="4933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2340000" y="2242800"/>
              <a:ext cx="21636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4934520" y="3792600"/>
              <a:ext cx="32148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2134800" y="3417120"/>
              <a:ext cx="323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2084400" y="4593240"/>
              <a:ext cx="48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651" name=""/>
            <p:cNvGraphicFramePr/>
            <p:nvPr/>
          </p:nvGraphicFramePr>
          <p:xfrm>
            <a:off x="3915360" y="4431960"/>
            <a:ext cx="302760" cy="3391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5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915360" y="4431960"/>
                      <a:ext cx="302760" cy="339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53" name=""/>
            <p:cNvGraphicFramePr/>
            <p:nvPr/>
          </p:nvGraphicFramePr>
          <p:xfrm>
            <a:off x="2288520" y="3844440"/>
            <a:ext cx="248760" cy="3952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654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288520" y="3844440"/>
                      <a:ext cx="248760" cy="395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55" name=""/>
            <p:cNvGraphicFramePr/>
            <p:nvPr/>
          </p:nvGraphicFramePr>
          <p:xfrm>
            <a:off x="812880" y="4379040"/>
            <a:ext cx="376560" cy="3391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656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812880" y="4379040"/>
                      <a:ext cx="376560" cy="339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57" name=""/>
            <p:cNvGraphicFramePr/>
            <p:nvPr/>
          </p:nvGraphicFramePr>
          <p:xfrm>
            <a:off x="3203280" y="4326120"/>
            <a:ext cx="376560" cy="7347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658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203280" y="4326120"/>
                      <a:ext cx="376560" cy="734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59" name=""/>
            <p:cNvGraphicFramePr/>
            <p:nvPr/>
          </p:nvGraphicFramePr>
          <p:xfrm>
            <a:off x="1626840" y="4326120"/>
            <a:ext cx="322560" cy="734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660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1626840" y="4326120"/>
                      <a:ext cx="322560" cy="734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1" name=""/>
            <p:cNvSpPr/>
            <p:nvPr/>
          </p:nvSpPr>
          <p:spPr>
            <a:xfrm>
              <a:off x="1881360" y="4111920"/>
              <a:ext cx="0" cy="223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2543040" y="4752360"/>
              <a:ext cx="214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2543040" y="3684240"/>
              <a:ext cx="214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3407400" y="4111920"/>
              <a:ext cx="0" cy="169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169880" y="4111920"/>
              <a:ext cx="0" cy="169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1118880" y="4111920"/>
              <a:ext cx="0" cy="213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407400" y="2456280"/>
              <a:ext cx="0" cy="3525120"/>
            </a:xfrm>
            <a:prstGeom prst="line">
              <a:avLst/>
            </a:prstGeom>
            <a:ln w="3168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1881360" y="2509200"/>
              <a:ext cx="0" cy="3525480"/>
            </a:xfrm>
            <a:prstGeom prst="line">
              <a:avLst/>
            </a:prstGeom>
            <a:ln w="3168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9" name=""/>
            <p:cNvGrpSpPr/>
            <p:nvPr/>
          </p:nvGrpSpPr>
          <p:grpSpPr>
            <a:xfrm>
              <a:off x="216720" y="-2595600"/>
              <a:ext cx="4995000" cy="13637160"/>
              <a:chOff x="216720" y="-2595600"/>
              <a:chExt cx="4995000" cy="13637160"/>
            </a:xfrm>
          </p:grpSpPr>
          <p:sp>
            <p:nvSpPr>
              <p:cNvPr id="670" name=""/>
              <p:cNvSpPr/>
              <p:nvPr/>
            </p:nvSpPr>
            <p:spPr>
              <a:xfrm rot="5076600">
                <a:off x="-1522800" y="-420480"/>
                <a:ext cx="6908400" cy="2790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5548" y="1100"/>
                    </a:moveTo>
                    <a:arcTo wR="10800" hR="10800" stAng="-3835200" swAng="28408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5548" y="1100"/>
                    </a:moveTo>
                    <a:arcTo wR="10800" hR="10800" stAng="-3835200" swAng="2840850"/>
                  </a:path>
                </a:pathLst>
              </a:custGeom>
              <a:noFill/>
              <a:ln w="381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rot="15838800">
                <a:off x="-47880" y="6003000"/>
                <a:ext cx="6908400" cy="290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5548" y="1100"/>
                    </a:moveTo>
                    <a:arcTo wR="10800" hR="10800" stAng="-3835200" swAng="28408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5548" y="1100"/>
                    </a:moveTo>
                    <a:arcTo wR="10800" hR="10800" stAng="-3835200" swAng="2840850"/>
                  </a:path>
                </a:pathLst>
              </a:custGeom>
              <a:noFill/>
              <a:ln w="381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72" name=""/>
            <p:cNvSpPr/>
            <p:nvPr/>
          </p:nvSpPr>
          <p:spPr>
            <a:xfrm>
              <a:off x="356400" y="4111920"/>
              <a:ext cx="0" cy="213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4933440" y="4111920"/>
              <a:ext cx="0" cy="213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674" name=""/>
            <p:cNvGraphicFramePr/>
            <p:nvPr/>
          </p:nvGraphicFramePr>
          <p:xfrm>
            <a:off x="4781160" y="4379040"/>
            <a:ext cx="376560" cy="67824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675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4781160" y="4379040"/>
                      <a:ext cx="376560" cy="678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676" name=""/>
                <p:cNvSpPr txBox="1"/>
                <p:nvPr/>
              </p:nvSpPr>
              <p:spPr>
                <a:xfrm>
                  <a:off x="0" y="4326120"/>
                  <a:ext cx="550440" cy="640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f>
                        <m:num>
                          <m:r>
                            <m:t xml:space="preserve">3</m:t>
                          </m:r>
                          <m:r>
                            <m:t xml:space="preserve">π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677" name=""/>
            <p:cNvSpPr/>
            <p:nvPr/>
          </p:nvSpPr>
          <p:spPr>
            <a:xfrm>
              <a:off x="356400" y="2509200"/>
              <a:ext cx="0" cy="3525480"/>
            </a:xfrm>
            <a:prstGeom prst="line">
              <a:avLst/>
            </a:prstGeom>
            <a:ln w="3168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933440" y="2456280"/>
              <a:ext cx="0" cy="3525120"/>
            </a:xfrm>
            <a:prstGeom prst="line">
              <a:avLst/>
            </a:prstGeom>
            <a:ln w="3168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79" name=""/>
            <p:cNvGrpSpPr/>
            <p:nvPr/>
          </p:nvGrpSpPr>
          <p:grpSpPr>
            <a:xfrm>
              <a:off x="1742760" y="-2595600"/>
              <a:ext cx="4996080" cy="13637520"/>
              <a:chOff x="1742760" y="-2595600"/>
              <a:chExt cx="4996080" cy="13637520"/>
            </a:xfrm>
          </p:grpSpPr>
          <p:sp>
            <p:nvSpPr>
              <p:cNvPr id="680" name=""/>
              <p:cNvSpPr/>
              <p:nvPr/>
            </p:nvSpPr>
            <p:spPr>
              <a:xfrm rot="5076600">
                <a:off x="2880" y="-420480"/>
                <a:ext cx="6908400" cy="2790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5548" y="1100"/>
                    </a:moveTo>
                    <a:arcTo wR="10800" hR="10800" stAng="-3835200" swAng="28408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5548" y="1100"/>
                    </a:moveTo>
                    <a:arcTo wR="10800" hR="10800" stAng="-3835200" swAng="2840850"/>
                  </a:path>
                </a:pathLst>
              </a:custGeom>
              <a:noFill/>
              <a:ln w="381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 rot="15838800">
                <a:off x="1478520" y="6003000"/>
                <a:ext cx="6908400" cy="290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5548" y="1100"/>
                    </a:moveTo>
                    <a:arcTo wR="10800" hR="10800" stAng="-3835200" swAng="28408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5548" y="1100"/>
                    </a:moveTo>
                    <a:arcTo wR="10800" hR="10800" stAng="-3835200" swAng="2840850"/>
                  </a:path>
                </a:pathLst>
              </a:custGeom>
              <a:noFill/>
              <a:ln w="381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82" name=""/>
            <p:cNvGrpSpPr/>
            <p:nvPr/>
          </p:nvGrpSpPr>
          <p:grpSpPr>
            <a:xfrm>
              <a:off x="-1309320" y="-2595600"/>
              <a:ext cx="4996080" cy="13637520"/>
              <a:chOff x="-1309320" y="-2595600"/>
              <a:chExt cx="4996080" cy="13637520"/>
            </a:xfrm>
          </p:grpSpPr>
          <p:sp>
            <p:nvSpPr>
              <p:cNvPr id="683" name=""/>
              <p:cNvSpPr/>
              <p:nvPr/>
            </p:nvSpPr>
            <p:spPr>
              <a:xfrm rot="5076600">
                <a:off x="-3048840" y="-420480"/>
                <a:ext cx="6908400" cy="2790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5548" y="1100"/>
                    </a:moveTo>
                    <a:arcTo wR="10800" hR="10800" stAng="-3835200" swAng="28408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5548" y="1100"/>
                    </a:moveTo>
                    <a:arcTo wR="10800" hR="10800" stAng="-3835200" swAng="2840850"/>
                  </a:path>
                </a:pathLst>
              </a:custGeom>
              <a:noFill/>
              <a:ln w="381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rot="15838800">
                <a:off x="-1573200" y="6003000"/>
                <a:ext cx="6908400" cy="290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5548" y="1100"/>
                    </a:moveTo>
                    <a:arcTo wR="10800" hR="10800" stAng="-3835200" swAng="28408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5548" y="1100"/>
                    </a:moveTo>
                    <a:arcTo wR="10800" hR="10800" stAng="-3835200" swAng="2840850"/>
                  </a:path>
                </a:pathLst>
              </a:custGeom>
              <a:noFill/>
              <a:ln w="381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5" name=""/>
          <p:cNvSpPr/>
          <p:nvPr/>
        </p:nvSpPr>
        <p:spPr>
          <a:xfrm>
            <a:off x="3960360" y="1987560"/>
            <a:ext cx="1102680" cy="520560"/>
          </a:xfrm>
          <a:prstGeom prst="rect">
            <a:avLst/>
          </a:prstGeom>
          <a:solidFill>
            <a:srgbClr val="bcd1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66"/>
                </a:solidFill>
                <a:latin typeface="Times New Roman"/>
              </a:rPr>
              <a:t>у=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tg</a:t>
            </a:r>
            <a:r>
              <a:rPr b="0" lang="ru-RU" sz="28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142920" y="3139920"/>
            <a:ext cx="5184720" cy="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288720" y="2563920"/>
            <a:ext cx="736920" cy="520560"/>
          </a:xfrm>
          <a:prstGeom prst="rect">
            <a:avLst/>
          </a:prstGeom>
          <a:solidFill>
            <a:srgbClr val="bcd1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66"/>
                </a:solidFill>
                <a:latin typeface="Times New Roman"/>
              </a:rPr>
              <a:t>у=</a:t>
            </a:r>
            <a:r>
              <a:rPr b="0" lang="ru-RU" sz="28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8" name="" descr=""/>
          <p:cNvPicPr/>
          <p:nvPr/>
        </p:nvPicPr>
        <p:blipFill>
          <a:blip r:embed="rId13"/>
          <a:stretch/>
        </p:blipFill>
        <p:spPr>
          <a:xfrm>
            <a:off x="1584360" y="3067200"/>
            <a:ext cx="123840" cy="123840"/>
          </a:xfrm>
          <a:prstGeom prst="rect">
            <a:avLst/>
          </a:prstGeom>
          <a:ln w="0">
            <a:noFill/>
          </a:ln>
        </p:spPr>
      </p:pic>
      <p:pic>
        <p:nvPicPr>
          <p:cNvPr id="689" name="" descr=""/>
          <p:cNvPicPr/>
          <p:nvPr/>
        </p:nvPicPr>
        <p:blipFill>
          <a:blip r:embed="rId14"/>
          <a:stretch/>
        </p:blipFill>
        <p:spPr>
          <a:xfrm>
            <a:off x="3095640" y="3067200"/>
            <a:ext cx="123840" cy="123840"/>
          </a:xfrm>
          <a:prstGeom prst="rect">
            <a:avLst/>
          </a:prstGeom>
          <a:ln w="0">
            <a:noFill/>
          </a:ln>
        </p:spPr>
      </p:pic>
      <p:pic>
        <p:nvPicPr>
          <p:cNvPr id="690" name="" descr=""/>
          <p:cNvPicPr/>
          <p:nvPr/>
        </p:nvPicPr>
        <p:blipFill>
          <a:blip r:embed="rId15"/>
          <a:stretch/>
        </p:blipFill>
        <p:spPr>
          <a:xfrm>
            <a:off x="4680000" y="3067200"/>
            <a:ext cx="123840" cy="123840"/>
          </a:xfrm>
          <a:prstGeom prst="rect">
            <a:avLst/>
          </a:prstGeom>
          <a:ln w="0">
            <a:noFill/>
          </a:ln>
        </p:spPr>
      </p:pic>
      <p:sp>
        <p:nvSpPr>
          <p:cNvPr id="691" name=""/>
          <p:cNvSpPr/>
          <p:nvPr/>
        </p:nvSpPr>
        <p:spPr>
          <a:xfrm>
            <a:off x="5371920" y="3357720"/>
            <a:ext cx="4055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строим график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функций у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gx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у=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5319720" y="4581360"/>
            <a:ext cx="3235680" cy="15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ctg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ctg2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ctg2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3168720" y="3139920"/>
            <a:ext cx="0" cy="1079640"/>
          </a:xfrm>
          <a:prstGeom prst="line">
            <a:avLst/>
          </a:prstGeom>
          <a:ln w="2844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2961000" y="4148280"/>
            <a:ext cx="462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66"/>
                </a:solidFill>
                <a:latin typeface="Times New Roman"/>
              </a:rPr>
              <a:t>х</a:t>
            </a:r>
            <a:r>
              <a:rPr b="0" lang="ru-RU" sz="2800" spc="-1" strike="noStrike" baseline="-25000">
                <a:solidFill>
                  <a:srgbClr val="660066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1655640" y="3139920"/>
            <a:ext cx="0" cy="1079640"/>
          </a:xfrm>
          <a:prstGeom prst="line">
            <a:avLst/>
          </a:prstGeom>
          <a:ln w="2844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4751280" y="3139920"/>
            <a:ext cx="0" cy="1079640"/>
          </a:xfrm>
          <a:prstGeom prst="line">
            <a:avLst/>
          </a:prstGeom>
          <a:ln w="2844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1378440" y="4148280"/>
            <a:ext cx="462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66"/>
                </a:solidFill>
                <a:latin typeface="Times New Roman"/>
              </a:rPr>
              <a:t>х</a:t>
            </a:r>
            <a:r>
              <a:rPr b="0" lang="ru-RU" sz="2800" spc="-1" strike="noStrike" baseline="-25000">
                <a:solidFill>
                  <a:srgbClr val="660066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4474080" y="4219560"/>
            <a:ext cx="462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66"/>
                </a:solidFill>
                <a:latin typeface="Times New Roman"/>
              </a:rPr>
              <a:t>х</a:t>
            </a:r>
            <a:r>
              <a:rPr b="0" lang="ru-RU" sz="2800" spc="-1" strike="noStrike" baseline="-25000">
                <a:solidFill>
                  <a:srgbClr val="660066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108000" y="6165720"/>
            <a:ext cx="882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3.  х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є(-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;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ctg2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U(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∕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ctg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U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∕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ctg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2+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0" dur="indefinite" restart="never" nodeType="tmRoot">
          <p:childTnLst>
            <p:seq>
              <p:cTn id="871" dur="indefinite" nodeType="mainSeq">
                <p:childTnLst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6" dur="1000" fill="hold"/>
                                        <p:tgtEl>
                                          <p:spTgt spid="6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1000" fill="hold"/>
                                        <p:tgtEl>
                                          <p:spTgt spid="6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8" dur="1000"/>
                                        <p:tgtEl>
                                          <p:spTgt spid="6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83" dur="80"/>
                                        <p:tgtEl>
                                          <p:spTgt spid="6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9,119,1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84" dur="80"/>
                                        <p:tgtEl>
                                          <p:spTgt spid="6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9,119,1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5" dur="80"/>
                                        <p:tgtEl>
                                          <p:spTgt spid="6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0" dur="10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1" dur="10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10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3" fill="hold">
                            <p:stCondLst>
                              <p:cond delay="1000"/>
                            </p:stCondLst>
                            <p:childTnLst>
                              <p:par>
                                <p:cTn id="89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6" dur="20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7" dur="20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8" dur="20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9" fill="hold">
                            <p:stCondLst>
                              <p:cond delay="3000"/>
                            </p:stCondLst>
                            <p:childTnLst>
                              <p:par>
                                <p:cTn id="90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2" dur="10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3" dur="10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10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5" fill="hold">
                            <p:stCondLst>
                              <p:cond delay="4000"/>
                            </p:stCondLst>
                            <p:childTnLst>
                              <p:par>
                                <p:cTn id="9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8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9" fill="hold">
                            <p:stCondLst>
                              <p:cond delay="4500"/>
                            </p:stCondLst>
                            <p:childTnLst>
                              <p:par>
                                <p:cTn id="91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2" dur="10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3" dur="10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4" dur="10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5" fill="hold">
                            <p:stCondLst>
                              <p:cond delay="5500"/>
                            </p:stCondLst>
                            <p:childTnLst>
                              <p:par>
                                <p:cTn id="91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8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9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0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3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5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8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9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0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1" fill="hold">
                            <p:stCondLst>
                              <p:cond delay="6000"/>
                            </p:stCondLst>
                            <p:childTnLst>
                              <p:par>
                                <p:cTn id="93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33" dur="2000" fill="hold"/>
                                        <p:tgtEl>
                                          <p:spTgt spid="68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93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35" dur="2000" fill="hold"/>
                                        <p:tgtEl>
                                          <p:spTgt spid="68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936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37" dur="2000" fill="hold"/>
                                        <p:tgtEl>
                                          <p:spTgt spid="69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fill="hold">
                      <p:stCondLst>
                        <p:cond delay="indefinite"/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2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5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6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9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2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6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9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0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fill="hold">
                      <p:stCondLst>
                        <p:cond delay="indefinite"/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65" dur="80"/>
                                        <p:tgtEl>
                                          <p:spTgt spid="6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9,119,1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66" dur="80"/>
                                        <p:tgtEl>
                                          <p:spTgt spid="6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9,119,1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7" dur="80"/>
                                        <p:tgtEl>
                                          <p:spTgt spid="6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8" fill="hold">
                            <p:stCondLst>
                              <p:cond delay="400"/>
                            </p:stCondLst>
                            <p:childTnLst>
                              <p:par>
                                <p:cTn id="96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71" dur="80"/>
                                        <p:tgtEl>
                                          <p:spTgt spid="6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9,119,1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72" dur="80"/>
                                        <p:tgtEl>
                                          <p:spTgt spid="6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9,119,1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3" dur="80"/>
                                        <p:tgtEl>
                                          <p:spTgt spid="6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4" fill="hold">
                            <p:stCondLst>
                              <p:cond delay="880"/>
                            </p:stCondLst>
                            <p:childTnLst>
                              <p:par>
                                <p:cTn id="97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77" dur="80"/>
                                        <p:tgtEl>
                                          <p:spTgt spid="6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9,119,1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78" dur="80"/>
                                        <p:tgtEl>
                                          <p:spTgt spid="6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9,119,1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9" dur="80"/>
                                        <p:tgtEl>
                                          <p:spTgt spid="6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84" dur="80"/>
                                        <p:tgtEl>
                                          <p:spTgt spid="6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9,119,1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85" dur="80"/>
                                        <p:tgtEl>
                                          <p:spTgt spid="6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9,119,1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6" dur="80"/>
                                        <p:tgtEl>
                                          <p:spTgt spid="6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cd1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"/>
          <p:cNvSpPr/>
          <p:nvPr/>
        </p:nvSpPr>
        <p:spPr>
          <a:xfrm>
            <a:off x="0" y="1268280"/>
            <a:ext cx="1476360" cy="5040360"/>
          </a:xfrm>
          <a:prstGeom prst="rect">
            <a:avLst/>
          </a:prstGeom>
          <a:solidFill>
            <a:srgbClr val="bcd1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1" name=""/>
          <p:cNvGrpSpPr/>
          <p:nvPr/>
        </p:nvGrpSpPr>
        <p:grpSpPr>
          <a:xfrm>
            <a:off x="0" y="1268280"/>
            <a:ext cx="9144000" cy="5040360"/>
            <a:chOff x="0" y="1268280"/>
            <a:chExt cx="9144000" cy="5040360"/>
          </a:xfrm>
        </p:grpSpPr>
        <p:grpSp>
          <p:nvGrpSpPr>
            <p:cNvPr id="702" name=""/>
            <p:cNvGrpSpPr/>
            <p:nvPr/>
          </p:nvGrpSpPr>
          <p:grpSpPr>
            <a:xfrm>
              <a:off x="0" y="1268280"/>
              <a:ext cx="9144000" cy="5040360"/>
              <a:chOff x="0" y="1268280"/>
              <a:chExt cx="9144000" cy="5040360"/>
            </a:xfrm>
          </p:grpSpPr>
          <p:sp>
            <p:nvSpPr>
              <p:cNvPr id="703" name=""/>
              <p:cNvSpPr/>
              <p:nvPr/>
            </p:nvSpPr>
            <p:spPr>
              <a:xfrm>
                <a:off x="0" y="2708280"/>
                <a:ext cx="8964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5651640" y="1341360"/>
                <a:ext cx="0" cy="4967280"/>
              </a:xfrm>
              <a:prstGeom prst="line">
                <a:avLst/>
              </a:prstGeom>
              <a:ln w="12600">
                <a:solidFill>
                  <a:srgbClr val="660066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6372360" y="1413000"/>
                <a:ext cx="0" cy="4895640"/>
              </a:xfrm>
              <a:prstGeom prst="line">
                <a:avLst/>
              </a:prstGeom>
              <a:ln w="12600">
                <a:solidFill>
                  <a:srgbClr val="660066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6012000" y="1341360"/>
                <a:ext cx="0" cy="4967280"/>
              </a:xfrm>
              <a:prstGeom prst="line">
                <a:avLst/>
              </a:prstGeom>
              <a:ln w="12600">
                <a:solidFill>
                  <a:srgbClr val="660066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6732720" y="1341360"/>
                <a:ext cx="0" cy="4967280"/>
              </a:xfrm>
              <a:prstGeom prst="line">
                <a:avLst/>
              </a:prstGeom>
              <a:ln w="12600">
                <a:solidFill>
                  <a:srgbClr val="660066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5292720" y="1341360"/>
                <a:ext cx="0" cy="4967280"/>
              </a:xfrm>
              <a:prstGeom prst="line">
                <a:avLst/>
              </a:prstGeom>
              <a:ln w="12600">
                <a:solidFill>
                  <a:srgbClr val="660066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4932360" y="1341360"/>
                <a:ext cx="0" cy="4967280"/>
              </a:xfrm>
              <a:prstGeom prst="line">
                <a:avLst/>
              </a:prstGeom>
              <a:ln w="12600">
                <a:solidFill>
                  <a:srgbClr val="660066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4211640" y="1341360"/>
                <a:ext cx="0" cy="4967280"/>
              </a:xfrm>
              <a:prstGeom prst="line">
                <a:avLst/>
              </a:prstGeom>
              <a:ln w="12600">
                <a:solidFill>
                  <a:srgbClr val="660066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3851280" y="1484280"/>
                <a:ext cx="0" cy="4824360"/>
              </a:xfrm>
              <a:prstGeom prst="line">
                <a:avLst/>
              </a:prstGeom>
              <a:ln w="12600">
                <a:solidFill>
                  <a:srgbClr val="660066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3492360" y="1413000"/>
                <a:ext cx="0" cy="4895640"/>
              </a:xfrm>
              <a:prstGeom prst="line">
                <a:avLst/>
              </a:prstGeom>
              <a:ln w="12600">
                <a:solidFill>
                  <a:srgbClr val="660066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3132000" y="1484280"/>
                <a:ext cx="0" cy="4824360"/>
              </a:xfrm>
              <a:prstGeom prst="line">
                <a:avLst/>
              </a:prstGeom>
              <a:ln w="12600">
                <a:solidFill>
                  <a:srgbClr val="660066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0" y="4149720"/>
                <a:ext cx="8964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0" y="3068640"/>
                <a:ext cx="9144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0" y="3429000"/>
                <a:ext cx="9144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0" y="2349360"/>
                <a:ext cx="9144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2771640" y="1413000"/>
                <a:ext cx="0" cy="4895640"/>
              </a:xfrm>
              <a:prstGeom prst="line">
                <a:avLst/>
              </a:prstGeom>
              <a:ln w="12600">
                <a:solidFill>
                  <a:srgbClr val="660066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0" y="4869000"/>
                <a:ext cx="9036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0" y="1628640"/>
                <a:ext cx="9144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0" y="1989000"/>
                <a:ext cx="9144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0" y="5229360"/>
                <a:ext cx="9144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0" y="4508640"/>
                <a:ext cx="9036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0" y="5950080"/>
                <a:ext cx="9144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0" y="5589720"/>
                <a:ext cx="9144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2411280" y="1484280"/>
                <a:ext cx="0" cy="4824360"/>
              </a:xfrm>
              <a:prstGeom prst="line">
                <a:avLst/>
              </a:prstGeom>
              <a:ln w="12600">
                <a:solidFill>
                  <a:srgbClr val="660066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8172360" y="1341360"/>
                <a:ext cx="0" cy="4967280"/>
              </a:xfrm>
              <a:prstGeom prst="line">
                <a:avLst/>
              </a:prstGeom>
              <a:ln w="12600">
                <a:solidFill>
                  <a:srgbClr val="660066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7451640" y="1341360"/>
                <a:ext cx="0" cy="4967280"/>
              </a:xfrm>
              <a:prstGeom prst="line">
                <a:avLst/>
              </a:prstGeom>
              <a:ln w="12600">
                <a:solidFill>
                  <a:srgbClr val="660066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7812000" y="1268280"/>
                <a:ext cx="0" cy="4967280"/>
              </a:xfrm>
              <a:prstGeom prst="line">
                <a:avLst/>
              </a:prstGeom>
              <a:ln w="12600">
                <a:solidFill>
                  <a:srgbClr val="660066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7093080" y="1341360"/>
                <a:ext cx="0" cy="4967280"/>
              </a:xfrm>
              <a:prstGeom prst="line">
                <a:avLst/>
              </a:prstGeom>
              <a:ln w="12600">
                <a:solidFill>
                  <a:srgbClr val="660066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8532720" y="1341360"/>
                <a:ext cx="0" cy="4967280"/>
              </a:xfrm>
              <a:prstGeom prst="line">
                <a:avLst/>
              </a:prstGeom>
              <a:ln w="12600">
                <a:solidFill>
                  <a:srgbClr val="660066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8893080" y="1341360"/>
                <a:ext cx="0" cy="4967280"/>
              </a:xfrm>
              <a:prstGeom prst="line">
                <a:avLst/>
              </a:prstGeom>
              <a:ln w="12600">
                <a:solidFill>
                  <a:srgbClr val="660066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250920" y="1341360"/>
                <a:ext cx="0" cy="4967280"/>
              </a:xfrm>
              <a:prstGeom prst="line">
                <a:avLst/>
              </a:prstGeom>
              <a:ln w="12600">
                <a:solidFill>
                  <a:srgbClr val="660066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1692360" y="1484280"/>
                <a:ext cx="0" cy="4824360"/>
              </a:xfrm>
              <a:prstGeom prst="line">
                <a:avLst/>
              </a:prstGeom>
              <a:ln w="12600">
                <a:solidFill>
                  <a:srgbClr val="660066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1332000" y="1413000"/>
                <a:ext cx="0" cy="4895640"/>
              </a:xfrm>
              <a:prstGeom prst="line">
                <a:avLst/>
              </a:prstGeom>
              <a:ln w="12600">
                <a:solidFill>
                  <a:srgbClr val="660066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971640" y="1484280"/>
                <a:ext cx="0" cy="4824360"/>
              </a:xfrm>
              <a:prstGeom prst="line">
                <a:avLst/>
              </a:prstGeom>
              <a:ln w="12600">
                <a:solidFill>
                  <a:srgbClr val="660066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2050920" y="1413000"/>
                <a:ext cx="0" cy="4895640"/>
              </a:xfrm>
              <a:prstGeom prst="line">
                <a:avLst/>
              </a:prstGeom>
              <a:ln w="12600">
                <a:solidFill>
                  <a:srgbClr val="660066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611280" y="1484280"/>
                <a:ext cx="0" cy="4824360"/>
              </a:xfrm>
              <a:prstGeom prst="line">
                <a:avLst/>
              </a:prstGeom>
              <a:ln w="12600">
                <a:solidFill>
                  <a:srgbClr val="660066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0" y="3789360"/>
                <a:ext cx="9144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40" name=""/>
            <p:cNvSpPr/>
            <p:nvPr/>
          </p:nvSpPr>
          <p:spPr>
            <a:xfrm>
              <a:off x="4572000" y="1413000"/>
              <a:ext cx="0" cy="482436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1" name=""/>
          <p:cNvSpPr/>
          <p:nvPr/>
        </p:nvSpPr>
        <p:spPr>
          <a:xfrm flipV="1">
            <a:off x="4572000" y="1267920"/>
            <a:ext cx="0" cy="5040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108000" y="3789360"/>
            <a:ext cx="9036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" descr=""/>
          <p:cNvPicPr/>
          <p:nvPr/>
        </p:nvPicPr>
        <p:blipFill>
          <a:blip r:embed="rId1"/>
          <a:stretch/>
        </p:blipFill>
        <p:spPr>
          <a:xfrm>
            <a:off x="1187280" y="765000"/>
            <a:ext cx="7417080" cy="101880"/>
          </a:xfrm>
          <a:prstGeom prst="rect">
            <a:avLst/>
          </a:prstGeom>
          <a:ln w="0">
            <a:noFill/>
          </a:ln>
        </p:spPr>
      </p:pic>
      <p:sp>
        <p:nvSpPr>
          <p:cNvPr id="744" name=""/>
          <p:cNvSpPr/>
          <p:nvPr/>
        </p:nvSpPr>
        <p:spPr>
          <a:xfrm>
            <a:off x="4140360" y="1125360"/>
            <a:ext cx="3045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8532720" y="3213000"/>
            <a:ext cx="4572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3851280" y="27082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3778200" y="429264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8" name=""/>
          <p:cNvGraphicFramePr/>
          <p:nvPr/>
        </p:nvGraphicFramePr>
        <p:xfrm>
          <a:off x="6370560" y="4076640"/>
          <a:ext cx="428760" cy="457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4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370560" y="4076640"/>
                    <a:ext cx="42876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0" name=""/>
          <p:cNvGraphicFramePr/>
          <p:nvPr/>
        </p:nvGraphicFramePr>
        <p:xfrm>
          <a:off x="4067280" y="3284640"/>
          <a:ext cx="352440" cy="5331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5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067280" y="3284640"/>
                    <a:ext cx="352440" cy="53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2" name=""/>
          <p:cNvGraphicFramePr/>
          <p:nvPr/>
        </p:nvGraphicFramePr>
        <p:xfrm>
          <a:off x="1978200" y="4005360"/>
          <a:ext cx="533160" cy="457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753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978200" y="4005360"/>
                    <a:ext cx="53316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4" name=""/>
          <p:cNvGraphicFramePr/>
          <p:nvPr/>
        </p:nvGraphicFramePr>
        <p:xfrm>
          <a:off x="5362560" y="3933720"/>
          <a:ext cx="533520" cy="9907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755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5362560" y="3933720"/>
                    <a:ext cx="53352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6" name=""/>
          <p:cNvGraphicFramePr/>
          <p:nvPr/>
        </p:nvGraphicFramePr>
        <p:xfrm>
          <a:off x="3130560" y="3933720"/>
          <a:ext cx="457200" cy="9907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757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3130560" y="3933720"/>
                    <a:ext cx="45720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8" name=""/>
          <p:cNvSpPr/>
          <p:nvPr/>
        </p:nvSpPr>
        <p:spPr>
          <a:xfrm>
            <a:off x="3490920" y="3645000"/>
            <a:ext cx="0" cy="301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4427640" y="4508640"/>
            <a:ext cx="3045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4427640" y="3068640"/>
            <a:ext cx="3045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5651640" y="36450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6730920" y="36450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5579640" y="1052640"/>
            <a:ext cx="1102680" cy="520560"/>
          </a:xfrm>
          <a:prstGeom prst="rect">
            <a:avLst/>
          </a:prstGeom>
          <a:solidFill>
            <a:srgbClr val="bcd1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=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tg</a:t>
            </a:r>
            <a:r>
              <a:rPr b="0" lang="ru-RU" sz="28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2411280" y="3645000"/>
            <a:ext cx="0" cy="288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5651640" y="1413000"/>
            <a:ext cx="0" cy="4752720"/>
          </a:xfrm>
          <a:prstGeom prst="line">
            <a:avLst/>
          </a:prstGeom>
          <a:ln w="316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3490920" y="1484280"/>
            <a:ext cx="0" cy="4753080"/>
          </a:xfrm>
          <a:prstGeom prst="line">
            <a:avLst/>
          </a:prstGeom>
          <a:ln w="316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"/>
          <p:cNvGrpSpPr/>
          <p:nvPr/>
        </p:nvGrpSpPr>
        <p:grpSpPr>
          <a:xfrm>
            <a:off x="1167120" y="-5403600"/>
            <a:ext cx="7003800" cy="18398160"/>
            <a:chOff x="1167120" y="-5403600"/>
            <a:chExt cx="7003800" cy="18398160"/>
          </a:xfrm>
        </p:grpSpPr>
        <p:sp>
          <p:nvSpPr>
            <p:cNvPr id="768" name=""/>
            <p:cNvSpPr/>
            <p:nvPr/>
          </p:nvSpPr>
          <p:spPr>
            <a:xfrm rot="5076600">
              <a:off x="-1084680" y="-2556720"/>
              <a:ext cx="9314280" cy="3951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548" y="1100"/>
                  </a:moveTo>
                  <a:arcTo wR="10800" hR="10800" stAng="-3835200" swAng="2840850"/>
                  <a:lnTo>
                    <a:pt x="10800" y="10800"/>
                  </a:lnTo>
                  <a:close/>
                </a:path>
                <a:path fill="none" w="21600" h="21600">
                  <a:moveTo>
                    <a:pt x="15548" y="1100"/>
                  </a:moveTo>
                  <a:arcTo wR="10800" hR="10800" stAng="-3835200" swAng="2840850"/>
                </a:path>
              </a:pathLst>
            </a:custGeom>
            <a:noFill/>
            <a:ln w="381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 rot="15838800">
              <a:off x="981360" y="6092280"/>
              <a:ext cx="9314280" cy="4110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548" y="1100"/>
                  </a:moveTo>
                  <a:arcTo wR="10800" hR="10800" stAng="-3835200" swAng="2840850"/>
                  <a:lnTo>
                    <a:pt x="10800" y="10800"/>
                  </a:lnTo>
                  <a:close/>
                </a:path>
                <a:path fill="none" w="21600" h="21600">
                  <a:moveTo>
                    <a:pt x="15548" y="1100"/>
                  </a:moveTo>
                  <a:arcTo wR="10800" hR="10800" stAng="-3835200" swAng="2840850"/>
                </a:path>
              </a:pathLst>
            </a:custGeom>
            <a:noFill/>
            <a:ln w="381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0" name=""/>
          <p:cNvSpPr/>
          <p:nvPr/>
        </p:nvSpPr>
        <p:spPr>
          <a:xfrm>
            <a:off x="1332000" y="3645000"/>
            <a:ext cx="0" cy="288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250920" y="3645000"/>
            <a:ext cx="0" cy="288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7812000" y="3645000"/>
            <a:ext cx="0" cy="288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8893080" y="3645000"/>
            <a:ext cx="0" cy="288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4" name=""/>
          <p:cNvGraphicFramePr/>
          <p:nvPr/>
        </p:nvGraphicFramePr>
        <p:xfrm>
          <a:off x="7596360" y="4005360"/>
          <a:ext cx="533160" cy="91440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77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7596360" y="4005360"/>
                    <a:ext cx="53316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776" name=""/>
              <p:cNvSpPr txBox="1"/>
              <p:nvPr/>
            </p:nvSpPr>
            <p:spPr>
              <a:xfrm>
                <a:off x="8610480" y="4076640"/>
                <a:ext cx="53352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7" name=""/>
              <p:cNvSpPr txBox="1"/>
              <p:nvPr/>
            </p:nvSpPr>
            <p:spPr>
              <a:xfrm>
                <a:off x="826920" y="3933720"/>
                <a:ext cx="77976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8" name=""/>
              <p:cNvSpPr txBox="1"/>
              <p:nvPr/>
            </p:nvSpPr>
            <p:spPr>
              <a:xfrm>
                <a:off x="0" y="4005360"/>
                <a:ext cx="53964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79" name=""/>
          <p:cNvSpPr/>
          <p:nvPr/>
        </p:nvSpPr>
        <p:spPr>
          <a:xfrm>
            <a:off x="1332000" y="1484280"/>
            <a:ext cx="0" cy="4753080"/>
          </a:xfrm>
          <a:prstGeom prst="line">
            <a:avLst/>
          </a:prstGeom>
          <a:ln w="316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7812000" y="1413000"/>
            <a:ext cx="0" cy="4752720"/>
          </a:xfrm>
          <a:prstGeom prst="line">
            <a:avLst/>
          </a:prstGeom>
          <a:ln w="316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1" name=""/>
          <p:cNvGrpSpPr/>
          <p:nvPr/>
        </p:nvGrpSpPr>
        <p:grpSpPr>
          <a:xfrm>
            <a:off x="3327480" y="-5403600"/>
            <a:ext cx="7003800" cy="18398160"/>
            <a:chOff x="3327480" y="-5403600"/>
            <a:chExt cx="7003800" cy="18398160"/>
          </a:xfrm>
        </p:grpSpPr>
        <p:sp>
          <p:nvSpPr>
            <p:cNvPr id="782" name=""/>
            <p:cNvSpPr/>
            <p:nvPr/>
          </p:nvSpPr>
          <p:spPr>
            <a:xfrm rot="5076600">
              <a:off x="1075320" y="-2556720"/>
              <a:ext cx="9314280" cy="3951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548" y="1100"/>
                  </a:moveTo>
                  <a:arcTo wR="10800" hR="10800" stAng="-3835200" swAng="2840850"/>
                  <a:lnTo>
                    <a:pt x="10800" y="10800"/>
                  </a:lnTo>
                  <a:close/>
                </a:path>
                <a:path fill="none" w="21600" h="21600">
                  <a:moveTo>
                    <a:pt x="15548" y="1100"/>
                  </a:moveTo>
                  <a:arcTo wR="10800" hR="10800" stAng="-3835200" swAng="2840850"/>
                </a:path>
              </a:pathLst>
            </a:custGeom>
            <a:noFill/>
            <a:ln w="381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 rot="15838800">
              <a:off x="3141720" y="6092280"/>
              <a:ext cx="9314280" cy="4110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548" y="1100"/>
                  </a:moveTo>
                  <a:arcTo wR="10800" hR="10800" stAng="-3835200" swAng="2840850"/>
                  <a:lnTo>
                    <a:pt x="10800" y="10800"/>
                  </a:lnTo>
                  <a:close/>
                </a:path>
                <a:path fill="none" w="21600" h="21600">
                  <a:moveTo>
                    <a:pt x="15548" y="1100"/>
                  </a:moveTo>
                  <a:arcTo wR="10800" hR="10800" stAng="-3835200" swAng="2840850"/>
                </a:path>
              </a:pathLst>
            </a:custGeom>
            <a:noFill/>
            <a:ln w="381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4" name=""/>
          <p:cNvGrpSpPr/>
          <p:nvPr/>
        </p:nvGrpSpPr>
        <p:grpSpPr>
          <a:xfrm>
            <a:off x="-993600" y="-5403600"/>
            <a:ext cx="7003800" cy="18398160"/>
            <a:chOff x="-993600" y="-5403600"/>
            <a:chExt cx="7003800" cy="18398160"/>
          </a:xfrm>
        </p:grpSpPr>
        <p:sp>
          <p:nvSpPr>
            <p:cNvPr id="785" name=""/>
            <p:cNvSpPr/>
            <p:nvPr/>
          </p:nvSpPr>
          <p:spPr>
            <a:xfrm rot="5076600">
              <a:off x="-3245400" y="-2556720"/>
              <a:ext cx="9314280" cy="3951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548" y="1100"/>
                  </a:moveTo>
                  <a:arcTo wR="10800" hR="10800" stAng="-3835200" swAng="2840850"/>
                  <a:lnTo>
                    <a:pt x="10800" y="10800"/>
                  </a:lnTo>
                  <a:close/>
                </a:path>
                <a:path fill="none" w="21600" h="21600">
                  <a:moveTo>
                    <a:pt x="15548" y="1100"/>
                  </a:moveTo>
                  <a:arcTo wR="10800" hR="10800" stAng="-3835200" swAng="2840850"/>
                </a:path>
              </a:pathLst>
            </a:custGeom>
            <a:noFill/>
            <a:ln w="381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 rot="15838800">
              <a:off x="-1179000" y="6092280"/>
              <a:ext cx="9314280" cy="4110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548" y="1100"/>
                  </a:moveTo>
                  <a:arcTo wR="10800" hR="10800" stAng="-3835200" swAng="2840850"/>
                  <a:lnTo>
                    <a:pt x="10800" y="10800"/>
                  </a:lnTo>
                  <a:close/>
                </a:path>
                <a:path fill="none" w="21600" h="21600">
                  <a:moveTo>
                    <a:pt x="15548" y="1100"/>
                  </a:moveTo>
                  <a:arcTo wR="10800" hR="10800" stAng="-3835200" swAng="2840850"/>
                </a:path>
              </a:pathLst>
            </a:custGeom>
            <a:noFill/>
            <a:ln w="381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7" name=""/>
          <p:cNvGrpSpPr/>
          <p:nvPr/>
        </p:nvGrpSpPr>
        <p:grpSpPr>
          <a:xfrm>
            <a:off x="-3152520" y="-5403600"/>
            <a:ext cx="6943320" cy="18361440"/>
            <a:chOff x="-3152520" y="-5403600"/>
            <a:chExt cx="6943320" cy="18361440"/>
          </a:xfrm>
        </p:grpSpPr>
        <p:sp>
          <p:nvSpPr>
            <p:cNvPr id="788" name=""/>
            <p:cNvSpPr/>
            <p:nvPr/>
          </p:nvSpPr>
          <p:spPr>
            <a:xfrm rot="5076600">
              <a:off x="-5404320" y="-2556720"/>
              <a:ext cx="9314280" cy="3951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548" y="1100"/>
                  </a:moveTo>
                  <a:arcTo wR="10800" hR="10800" stAng="-3835200" swAng="2840850"/>
                  <a:lnTo>
                    <a:pt x="10800" y="10800"/>
                  </a:lnTo>
                  <a:close/>
                </a:path>
                <a:path fill="none" w="21600" h="21600">
                  <a:moveTo>
                    <a:pt x="15548" y="1100"/>
                  </a:moveTo>
                  <a:arcTo wR="10800" hR="10800" stAng="-3835200" swAng="2840850"/>
                </a:path>
              </a:pathLst>
            </a:custGeom>
            <a:noFill/>
            <a:ln w="381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 rot="15838800">
              <a:off x="-3319200" y="6143040"/>
              <a:ext cx="9314280" cy="395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42" y="5742"/>
                  </a:moveTo>
                  <a:arcTo wR="10800" hR="10800" stAng="-1675720" swAng="681370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42" y="5742"/>
                  </a:moveTo>
                  <a:arcTo wR="10800" hR="10800" stAng="-1675720" swAng="681370"/>
                </a:path>
              </a:pathLst>
            </a:custGeom>
            <a:noFill/>
            <a:ln w="381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0" name=""/>
          <p:cNvGrpSpPr/>
          <p:nvPr/>
        </p:nvGrpSpPr>
        <p:grpSpPr>
          <a:xfrm>
            <a:off x="5413320" y="-5369040"/>
            <a:ext cx="6928920" cy="18355680"/>
            <a:chOff x="5413320" y="-5369040"/>
            <a:chExt cx="6928920" cy="18355680"/>
          </a:xfrm>
        </p:grpSpPr>
        <p:sp>
          <p:nvSpPr>
            <p:cNvPr id="791" name=""/>
            <p:cNvSpPr/>
            <p:nvPr/>
          </p:nvSpPr>
          <p:spPr>
            <a:xfrm rot="15838800">
              <a:off x="5231880" y="6172200"/>
              <a:ext cx="9314280" cy="3951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548" y="1100"/>
                  </a:moveTo>
                  <a:arcTo wR="10800" hR="10800" stAng="-3835200" swAng="2840850"/>
                  <a:lnTo>
                    <a:pt x="10800" y="10800"/>
                  </a:lnTo>
                  <a:close/>
                </a:path>
                <a:path fill="none" w="21600" h="21600">
                  <a:moveTo>
                    <a:pt x="15548" y="1100"/>
                  </a:moveTo>
                  <a:arcTo wR="10800" hR="10800" stAng="-3835200" swAng="2840850"/>
                </a:path>
              </a:pathLst>
            </a:custGeom>
            <a:noFill/>
            <a:ln w="381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 rot="5076600">
              <a:off x="3162600" y="-2523600"/>
              <a:ext cx="9314280" cy="3954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117" y="5338"/>
                  </a:moveTo>
                  <a:arcTo wR="10800" hR="10800" stAng="-1822939" swAng="828590"/>
                  <a:lnTo>
                    <a:pt x="10800" y="10800"/>
                  </a:lnTo>
                  <a:close/>
                </a:path>
                <a:path fill="none" w="21600" h="21600">
                  <a:moveTo>
                    <a:pt x="20117" y="5338"/>
                  </a:moveTo>
                  <a:arcTo wR="10800" hR="10800" stAng="-1822939" swAng="828590"/>
                </a:path>
              </a:pathLst>
            </a:custGeom>
            <a:noFill/>
            <a:ln w="381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cd1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660066"/>
                </a:solidFill>
                <a:uFillTx/>
                <a:latin typeface="Arial"/>
              </a:rPr>
              <a:t>Цели урока:</a:t>
            </a:r>
            <a:r>
              <a:rPr b="1" i="1" lang="ru-RU" sz="4000" spc="-1" strike="noStrike">
                <a:solidFill>
                  <a:srgbClr val="660066"/>
                </a:solidFill>
                <a:latin typeface="Arial"/>
              </a:rPr>
              <a:t> </a:t>
            </a:r>
            <a:br>
              <a:rPr sz="4000"/>
            </a:br>
            <a:endParaRPr b="0" i="1" lang="en-US" sz="4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66680" y="1413000"/>
            <a:ext cx="7772400" cy="468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вторить раннее изученные свойства функции у=tgx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учиться строить график функции у=tgx, используя данные свойства функци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 основе анализа графика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пределить остальные свойства функц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учиться решать простейшие уравнения и неравенства с помощью графика функции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7667640" y="4797360"/>
            <a:ext cx="112536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cd1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476280"/>
            <a:ext cx="8077320" cy="93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660066"/>
                </a:solidFill>
                <a:latin typeface="Arial"/>
              </a:rPr>
              <a:t>Функция </a:t>
            </a:r>
            <a:r>
              <a:rPr b="1" i="1" lang="en-US" sz="4000" spc="-1" strike="noStrike">
                <a:solidFill>
                  <a:srgbClr val="660066"/>
                </a:solidFill>
                <a:latin typeface="Arial"/>
              </a:rPr>
              <a:t>y=</a:t>
            </a:r>
            <a:r>
              <a:rPr b="1" i="1" lang="en-US" sz="4000" spc="-1" strike="noStrike">
                <a:solidFill>
                  <a:srgbClr val="660066"/>
                </a:solidFill>
                <a:latin typeface="Arial"/>
                <a:ea typeface="Arial"/>
              </a:rPr>
              <a:t>tg</a:t>
            </a:r>
            <a:r>
              <a:rPr b="1" i="1" lang="ru-RU" sz="4000" spc="-1" strike="noStrike">
                <a:solidFill>
                  <a:srgbClr val="660066"/>
                </a:solidFill>
                <a:latin typeface="Arial"/>
                <a:ea typeface="Arial"/>
              </a:rPr>
              <a:t> </a:t>
            </a:r>
            <a:r>
              <a:rPr b="1" i="1" lang="en-US" sz="4000" spc="-1" strike="noStrike">
                <a:solidFill>
                  <a:srgbClr val="660066"/>
                </a:solidFill>
                <a:latin typeface="Arial"/>
              </a:rPr>
              <a:t>x </a:t>
            </a:r>
            <a:r>
              <a:rPr b="1" i="1" lang="ru-RU" sz="4000" spc="-1" strike="noStrike">
                <a:solidFill>
                  <a:srgbClr val="660066"/>
                </a:solidFill>
                <a:latin typeface="Arial"/>
              </a:rPr>
              <a:t>и её свойства.</a:t>
            </a:r>
            <a:endParaRPr b="0" i="1" lang="en-US" sz="4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26920" y="1981080"/>
            <a:ext cx="8012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1. Обл. определения:                          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2.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Множество значений функции: у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є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3. Периодическая, Т= </a:t>
            </a:r>
            <a:r>
              <a:rPr b="0" lang="el-GR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π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4. Нечётная функция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116000" y="1455840"/>
            <a:ext cx="7416720" cy="1015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5292720" y="4149720"/>
            <a:ext cx="838080" cy="4064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5076720" y="1773360"/>
                <a:ext cx="3311640" cy="118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  <m:r>
                      <m:t xml:space="preserve">≠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r>
                      <m:t xml:space="preserve">πn</m:t>
                    </m:r>
                    <m:r>
                      <m:t xml:space="preserve">,</m:t>
                    </m:r>
                    <m:r>
                      <m:t xml:space="preserve">n</m:t>
                    </m:r>
                    <m:r>
                      <m:t xml:space="preserve">∈</m:t>
                    </m:r>
                    <m:r>
                      <m:t xml:space="preserve">Z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7" name=""/>
          <p:cNvSpPr/>
          <p:nvPr/>
        </p:nvSpPr>
        <p:spPr>
          <a:xfrm>
            <a:off x="6299280" y="4076640"/>
            <a:ext cx="167148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хє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0;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π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/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7667640" y="4508640"/>
            <a:ext cx="1125360" cy="18795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5796000" y="3500280"/>
            <a:ext cx="838080" cy="4064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732720" y="3213000"/>
                <a:ext cx="1171440" cy="81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" dur="8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9,119,1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" dur="8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9,119,1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8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800"/>
                            </p:stCondLst>
                            <p:childTnLst>
                              <p:par>
                                <p:cTn id="3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" dur="8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9,119,1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" dur="8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9,119,1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" dur="8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" dur="8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9,119,1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" dur="8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9,119,1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" dur="8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840"/>
                            </p:stCondLst>
                            <p:childTnLst>
                              <p:par>
                                <p:cTn id="5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340"/>
                            </p:stCondLst>
                            <p:childTnLst>
                              <p:par>
                                <p:cTn id="5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" dur="8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9,119,1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" dur="8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9,119,1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" dur="8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760"/>
                            </p:stCondLst>
                            <p:childTnLst>
                              <p:par>
                                <p:cTn id="7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260"/>
                            </p:stCondLst>
                            <p:childTnLst>
                              <p:par>
                                <p:cTn id="7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cd1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404640"/>
            <a:ext cx="7772400" cy="134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660066"/>
                </a:solidFill>
                <a:latin typeface="Arial"/>
              </a:rPr>
              <a:t>Функция </a:t>
            </a:r>
            <a:r>
              <a:rPr b="0" i="1" lang="en-US" sz="3600" spc="-1" strike="noStrike">
                <a:solidFill>
                  <a:srgbClr val="660066"/>
                </a:solidFill>
                <a:latin typeface="Arial"/>
              </a:rPr>
              <a:t>y=</a:t>
            </a:r>
            <a:r>
              <a:rPr b="0" i="1" lang="en-US" sz="3600" spc="-1" strike="noStrike">
                <a:solidFill>
                  <a:srgbClr val="660066"/>
                </a:solidFill>
                <a:latin typeface="Arial"/>
                <a:ea typeface="Arial"/>
              </a:rPr>
              <a:t>tg</a:t>
            </a:r>
            <a:r>
              <a:rPr b="0" i="1" lang="ru-RU" sz="3600" spc="-1" strike="noStrike">
                <a:solidFill>
                  <a:srgbClr val="660066"/>
                </a:solidFill>
                <a:latin typeface="Arial"/>
                <a:ea typeface="Arial"/>
              </a:rPr>
              <a:t> </a:t>
            </a:r>
            <a:r>
              <a:rPr b="0" i="1" lang="en-US" sz="3600" spc="-1" strike="noStrike">
                <a:solidFill>
                  <a:srgbClr val="660066"/>
                </a:solidFill>
                <a:latin typeface="Arial"/>
              </a:rPr>
              <a:t>x </a:t>
            </a:r>
            <a:r>
              <a:rPr b="0" i="1" lang="ru-RU" sz="3600" spc="-1" strike="noStrike">
                <a:solidFill>
                  <a:srgbClr val="660066"/>
                </a:solidFill>
                <a:latin typeface="Arial"/>
              </a:rPr>
              <a:t>возрастает на промежутке</a:t>
            </a:r>
            <a:endParaRPr b="0" i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3995640" y="907920"/>
                <a:ext cx="1081080" cy="10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  <m:r>
                      <m:t xml:space="preserve">0</m:t>
                    </m:r>
                    <m:r>
                      <m:t xml:space="preserve">;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116000" y="1916280"/>
            <a:ext cx="7416720" cy="101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1042920" y="476280"/>
            <a:ext cx="0" cy="1297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826920" y="1916280"/>
            <a:ext cx="8317080" cy="1008000"/>
            <a:chOff x="826920" y="1916280"/>
            <a:chExt cx="8317080" cy="1008000"/>
          </a:xfrm>
        </p:grpSpPr>
        <mc:AlternateContent>
          <mc:Choice xmlns:a14="http://schemas.microsoft.com/office/drawing/2010/main" Requires="a14">
            <p:sp>
              <p:nvSpPr>
                <p:cNvPr id="116" name=""/>
                <p:cNvSpPr txBox="1"/>
                <p:nvPr/>
              </p:nvSpPr>
              <p:spPr>
                <a:xfrm>
                  <a:off x="4932360" y="1917720"/>
                  <a:ext cx="1944720" cy="968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tgx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sin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cos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17" name=""/>
            <p:cNvSpPr/>
            <p:nvPr/>
          </p:nvSpPr>
          <p:spPr>
            <a:xfrm>
              <a:off x="826920" y="2060640"/>
              <a:ext cx="77774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Times New Roman"/>
                </a:rPr>
                <a:t>1. Пусть 0 </a:t>
              </a:r>
              <a:r>
                <a:rPr b="0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≤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x</a:t>
              </a:r>
              <a:r>
                <a:rPr b="0" lang="ru-RU" sz="28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0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x</a:t>
              </a:r>
              <a:r>
                <a:rPr b="0" lang="ru-RU" sz="28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0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l-GR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π∕</a:t>
              </a:r>
              <a:r>
                <a:rPr b="0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  и                       ,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8" name=""/>
                <p:cNvSpPr txBox="1"/>
                <p:nvPr/>
              </p:nvSpPr>
              <p:spPr>
                <a:xfrm>
                  <a:off x="6985080" y="1916280"/>
                  <a:ext cx="2158920" cy="1008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tgx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sin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cos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19" name=""/>
          <p:cNvSpPr/>
          <p:nvPr/>
        </p:nvSpPr>
        <p:spPr>
          <a:xfrm>
            <a:off x="832320" y="2852640"/>
            <a:ext cx="725688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2. Т. к. функция у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возрастает на данно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межутке, то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n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х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n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33040" y="3789360"/>
            <a:ext cx="694728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3. Т. к. функция у=со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убывает на данно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межутке, то со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х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со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Times New Roman"/>
              </a:rPr>
              <a:t>2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771640" y="2565360"/>
            <a:ext cx="9367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6012000" y="4149720"/>
                <a:ext cx="1976400" cy="86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≺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3" name=""/>
          <p:cNvSpPr/>
          <p:nvPr/>
        </p:nvSpPr>
        <p:spPr>
          <a:xfrm>
            <a:off x="5510160" y="3284640"/>
            <a:ext cx="59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66"/>
                </a:solidFill>
                <a:latin typeface="Times New Roman"/>
              </a:rPr>
              <a:t>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8102520" y="4292640"/>
            <a:ext cx="59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66"/>
                </a:solidFill>
                <a:latin typeface="Times New Roman"/>
              </a:rPr>
              <a:t>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831960" y="5013360"/>
            <a:ext cx="583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4.Умножим нер-во (1) на нер-во (2) 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1042920" y="5445000"/>
                <a:ext cx="197640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≺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7" name=""/>
          <p:cNvSpPr/>
          <p:nvPr/>
        </p:nvSpPr>
        <p:spPr>
          <a:xfrm>
            <a:off x="3323520" y="5734080"/>
            <a:ext cx="2872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т. е.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g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g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284720" y="6237360"/>
            <a:ext cx="172728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451640" y="6021360"/>
            <a:ext cx="289080" cy="36036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9" dur="8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9,119,1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0" dur="8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9,119,1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" dur="8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520"/>
                            </p:stCondLst>
                            <p:childTnLst>
                              <p:par>
                                <p:cTn id="10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5" dur="8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9,119,1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6" dur="8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9,119,1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" dur="8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2" dur="8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9,119,1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3" dur="8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9,119,1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4" dur="8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400"/>
                            </p:stCondLst>
                            <p:childTnLst>
                              <p:par>
                                <p:cTn id="1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8" dur="8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9,119,1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9" dur="8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9,119,1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" dur="8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4" dur="8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9,119,1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5" dur="8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9,119,1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6" dur="8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00"/>
                            </p:stCondLst>
                            <p:childTnLst>
                              <p:par>
                                <p:cTn id="16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1500"/>
                            </p:stCondLst>
                            <p:childTnLst>
                              <p:par>
                                <p:cTn id="166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cd1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" name=""/>
          <p:cNvGrpSpPr/>
          <p:nvPr/>
        </p:nvGrpSpPr>
        <p:grpSpPr>
          <a:xfrm>
            <a:off x="826920" y="1267920"/>
            <a:ext cx="4968720" cy="5040720"/>
            <a:chOff x="826920" y="1267920"/>
            <a:chExt cx="4968720" cy="5040720"/>
          </a:xfrm>
        </p:grpSpPr>
        <p:sp>
          <p:nvSpPr>
            <p:cNvPr id="131" name=""/>
            <p:cNvSpPr/>
            <p:nvPr/>
          </p:nvSpPr>
          <p:spPr>
            <a:xfrm flipV="1">
              <a:off x="3347640" y="1267920"/>
              <a:ext cx="0" cy="504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 flipV="1">
              <a:off x="1115640" y="2708280"/>
              <a:ext cx="4627800" cy="17280"/>
            </a:xfrm>
            <a:prstGeom prst="line">
              <a:avLst/>
            </a:prstGeom>
            <a:ln w="1260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427280" y="1341360"/>
              <a:ext cx="0" cy="4967280"/>
            </a:xfrm>
            <a:prstGeom prst="line">
              <a:avLst/>
            </a:prstGeom>
            <a:ln w="12600">
              <a:solidFill>
                <a:srgbClr val="6600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148000" y="1413000"/>
              <a:ext cx="0" cy="4895640"/>
            </a:xfrm>
            <a:prstGeom prst="line">
              <a:avLst/>
            </a:prstGeom>
            <a:ln w="12600">
              <a:solidFill>
                <a:srgbClr val="6600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787640" y="1341360"/>
              <a:ext cx="0" cy="4967280"/>
            </a:xfrm>
            <a:prstGeom prst="line">
              <a:avLst/>
            </a:prstGeom>
            <a:ln w="12600">
              <a:solidFill>
                <a:srgbClr val="6600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08360" y="1341360"/>
              <a:ext cx="0" cy="4967280"/>
            </a:xfrm>
            <a:prstGeom prst="line">
              <a:avLst/>
            </a:prstGeom>
            <a:ln w="12600">
              <a:solidFill>
                <a:srgbClr val="6600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068360" y="1341360"/>
              <a:ext cx="0" cy="4967280"/>
            </a:xfrm>
            <a:prstGeom prst="line">
              <a:avLst/>
            </a:prstGeom>
            <a:ln w="12600">
              <a:solidFill>
                <a:srgbClr val="6600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708000" y="1341360"/>
              <a:ext cx="0" cy="4967280"/>
            </a:xfrm>
            <a:prstGeom prst="line">
              <a:avLst/>
            </a:prstGeom>
            <a:ln w="12600">
              <a:solidFill>
                <a:srgbClr val="6600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987280" y="1341360"/>
              <a:ext cx="0" cy="4967280"/>
            </a:xfrm>
            <a:prstGeom prst="line">
              <a:avLst/>
            </a:prstGeom>
            <a:ln w="12600">
              <a:solidFill>
                <a:srgbClr val="6600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626920" y="1484280"/>
              <a:ext cx="0" cy="4824360"/>
            </a:xfrm>
            <a:prstGeom prst="line">
              <a:avLst/>
            </a:prstGeom>
            <a:ln w="12600">
              <a:solidFill>
                <a:srgbClr val="6600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268360" y="1413000"/>
              <a:ext cx="0" cy="4895640"/>
            </a:xfrm>
            <a:prstGeom prst="line">
              <a:avLst/>
            </a:prstGeom>
            <a:ln w="12600">
              <a:solidFill>
                <a:srgbClr val="6600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08000" y="1484280"/>
              <a:ext cx="0" cy="4824360"/>
            </a:xfrm>
            <a:prstGeom prst="line">
              <a:avLst/>
            </a:prstGeom>
            <a:ln w="12600">
              <a:solidFill>
                <a:srgbClr val="6600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V="1">
              <a:off x="1115640" y="4149360"/>
              <a:ext cx="4627800" cy="28440"/>
            </a:xfrm>
            <a:prstGeom prst="line">
              <a:avLst/>
            </a:prstGeom>
            <a:ln w="1260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 flipV="1">
              <a:off x="1044360" y="3068640"/>
              <a:ext cx="4627440" cy="38160"/>
            </a:xfrm>
            <a:prstGeom prst="line">
              <a:avLst/>
            </a:prstGeom>
            <a:ln w="1260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096560" y="3416400"/>
              <a:ext cx="4627800" cy="1260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115640" y="2349360"/>
              <a:ext cx="4556160" cy="3240"/>
            </a:xfrm>
            <a:prstGeom prst="line">
              <a:avLst/>
            </a:prstGeom>
            <a:ln w="1260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547640" y="1413000"/>
              <a:ext cx="0" cy="4895640"/>
            </a:xfrm>
            <a:prstGeom prst="line">
              <a:avLst/>
            </a:prstGeom>
            <a:ln w="12600">
              <a:solidFill>
                <a:srgbClr val="6600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826920" y="3789360"/>
              <a:ext cx="4968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115640" y="4869000"/>
              <a:ext cx="4556160" cy="2880"/>
            </a:xfrm>
            <a:prstGeom prst="line">
              <a:avLst/>
            </a:prstGeom>
            <a:ln w="1260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187280" y="1628640"/>
              <a:ext cx="4556160" cy="3240"/>
            </a:xfrm>
            <a:prstGeom prst="line">
              <a:avLst/>
            </a:prstGeom>
            <a:ln w="1260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187280" y="1989000"/>
              <a:ext cx="4556160" cy="3240"/>
            </a:xfrm>
            <a:prstGeom prst="line">
              <a:avLst/>
            </a:prstGeom>
            <a:ln w="1260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115640" y="5229360"/>
              <a:ext cx="4556160" cy="2880"/>
            </a:xfrm>
            <a:prstGeom prst="line">
              <a:avLst/>
            </a:prstGeom>
            <a:ln w="1260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115640" y="4508640"/>
              <a:ext cx="4556160" cy="2880"/>
            </a:xfrm>
            <a:prstGeom prst="line">
              <a:avLst/>
            </a:prstGeom>
            <a:ln w="1260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115640" y="5950080"/>
              <a:ext cx="4556160" cy="2880"/>
            </a:xfrm>
            <a:prstGeom prst="line">
              <a:avLst/>
            </a:prstGeom>
            <a:ln w="1260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115640" y="5589720"/>
              <a:ext cx="4556160" cy="2880"/>
            </a:xfrm>
            <a:prstGeom prst="line">
              <a:avLst/>
            </a:prstGeom>
            <a:ln w="1260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187280" y="1484280"/>
              <a:ext cx="0" cy="4824360"/>
            </a:xfrm>
            <a:prstGeom prst="line">
              <a:avLst/>
            </a:prstGeom>
            <a:ln w="12600">
              <a:solidFill>
                <a:srgbClr val="6600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8675640" cy="503280"/>
          </a:xfrm>
          <a:prstGeom prst="rect">
            <a:avLst/>
          </a:prstGeom>
          <a:solidFill>
            <a:srgbClr val="bcd1dc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660066"/>
                </a:solidFill>
                <a:latin typeface="Arial"/>
              </a:rPr>
              <a:t>Построение графика функции </a:t>
            </a:r>
            <a:r>
              <a:rPr b="0" i="1" lang="en-US" sz="3600" spc="-1" strike="noStrike">
                <a:solidFill>
                  <a:srgbClr val="660066"/>
                </a:solidFill>
                <a:latin typeface="Arial"/>
              </a:rPr>
              <a:t>y=</a:t>
            </a:r>
            <a:r>
              <a:rPr b="0" i="1" lang="en-US" sz="3600" spc="-1" strike="noStrike">
                <a:solidFill>
                  <a:srgbClr val="660066"/>
                </a:solidFill>
                <a:latin typeface="Arial"/>
                <a:ea typeface="Arial"/>
              </a:rPr>
              <a:t>tg</a:t>
            </a:r>
            <a:r>
              <a:rPr b="0" i="1" lang="ru-RU" sz="3600" spc="-1" strike="noStrike">
                <a:solidFill>
                  <a:srgbClr val="660066"/>
                </a:solidFill>
                <a:latin typeface="Arial"/>
                <a:ea typeface="Arial"/>
              </a:rPr>
              <a:t> </a:t>
            </a:r>
            <a:r>
              <a:rPr b="0" i="1" lang="en-US" sz="3600" spc="-1" strike="noStrike">
                <a:solidFill>
                  <a:srgbClr val="660066"/>
                </a:solidFill>
                <a:latin typeface="Arial"/>
              </a:rPr>
              <a:t>x</a:t>
            </a:r>
            <a:r>
              <a:rPr b="0" i="1" lang="ru-RU" sz="3600" spc="-1" strike="noStrike">
                <a:solidFill>
                  <a:srgbClr val="660066"/>
                </a:solidFill>
                <a:latin typeface="Arial"/>
              </a:rPr>
              <a:t>.</a:t>
            </a:r>
            <a:r>
              <a:rPr b="0" i="1" lang="ru-RU" sz="4000" spc="-1" strike="noStrike">
                <a:solidFill>
                  <a:srgbClr val="660066"/>
                </a:solidFill>
                <a:latin typeface="Arial"/>
              </a:rPr>
              <a:t> </a:t>
            </a:r>
            <a:endParaRPr b="0" i="1" lang="en-US" sz="40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1187280" y="1125360"/>
            <a:ext cx="7417080" cy="101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9" name=""/>
          <p:cNvGraphicFramePr/>
          <p:nvPr/>
        </p:nvGraphicFramePr>
        <p:xfrm>
          <a:off x="6372360" y="1557360"/>
          <a:ext cx="2466720" cy="4726080"/>
        </p:xfrm>
        <a:graphic>
          <a:graphicData uri="http://schemas.openxmlformats.org/drawingml/2006/table">
            <a:tbl>
              <a:tblPr/>
              <a:tblGrid>
                <a:gridCol w="1233360"/>
                <a:gridCol w="1233360"/>
              </a:tblGrid>
              <a:tr h="756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у=</a:t>
                      </a:r>
                      <a:r>
                        <a:rPr b="0" lang="en-US" sz="2800" spc="-1" strike="noStrike">
                          <a:solidFill>
                            <a:srgbClr val="660066"/>
                          </a:solidFill>
                          <a:latin typeface="Times New Roman"/>
                          <a:ea typeface="Times New Roman"/>
                        </a:rPr>
                        <a:t>tg</a:t>
                      </a:r>
                      <a:r>
                        <a:rPr b="0" lang="ru-RU" sz="2800" spc="-1" strike="noStrike">
                          <a:solidFill>
                            <a:srgbClr val="6600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660066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π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l-GR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∕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∕    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π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l-GR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∕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π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l-GR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∕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π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l-GR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∕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 сущ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8244000" y="3213000"/>
            <a:ext cx="431640" cy="360360"/>
          </a:xfrm>
          <a:custGeom>
            <a:avLst/>
            <a:gdLst/>
            <a:ahLst/>
            <a:rect l="l" t="t" r="r" b="b"/>
            <a:pathLst>
              <a:path w="499" h="272">
                <a:moveTo>
                  <a:pt x="0" y="91"/>
                </a:moveTo>
                <a:lnTo>
                  <a:pt x="136" y="91"/>
                </a:lnTo>
                <a:lnTo>
                  <a:pt x="136" y="272"/>
                </a:lnTo>
                <a:lnTo>
                  <a:pt x="182" y="0"/>
                </a:lnTo>
                <a:lnTo>
                  <a:pt x="499" y="0"/>
                </a:lnTo>
              </a:path>
            </a:pathLst>
          </a:cu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885080" y="4797360"/>
            <a:ext cx="432000" cy="360360"/>
          </a:xfrm>
          <a:custGeom>
            <a:avLst/>
            <a:gdLst/>
            <a:ahLst/>
            <a:rect l="l" t="t" r="r" b="b"/>
            <a:pathLst>
              <a:path w="499" h="272">
                <a:moveTo>
                  <a:pt x="0" y="91"/>
                </a:moveTo>
                <a:lnTo>
                  <a:pt x="136" y="91"/>
                </a:lnTo>
                <a:lnTo>
                  <a:pt x="136" y="272"/>
                </a:lnTo>
                <a:lnTo>
                  <a:pt x="182" y="0"/>
                </a:lnTo>
                <a:lnTo>
                  <a:pt x="499" y="0"/>
                </a:lnTo>
              </a:path>
            </a:pathLst>
          </a:cu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3280" y="1197000"/>
            <a:ext cx="3045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580000" y="3645000"/>
            <a:ext cx="4572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627280" y="27082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554200" y="429264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5146560" y="4076640"/>
          <a:ext cx="428760" cy="457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146560" y="4076640"/>
                    <a:ext cx="42876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2843280" y="3284640"/>
          <a:ext cx="352440" cy="5331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843280" y="3284640"/>
                    <a:ext cx="352440" cy="53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754200" y="4005360"/>
          <a:ext cx="533160" cy="457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54200" y="4005360"/>
                    <a:ext cx="53316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2" name=""/>
          <p:cNvGraphicFramePr/>
          <p:nvPr/>
        </p:nvGraphicFramePr>
        <p:xfrm>
          <a:off x="4138560" y="3933720"/>
          <a:ext cx="533520" cy="9907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138560" y="3933720"/>
                    <a:ext cx="53352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1906560" y="3933720"/>
          <a:ext cx="457200" cy="9907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906560" y="3933720"/>
                    <a:ext cx="45720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" name=""/>
          <p:cNvSpPr/>
          <p:nvPr/>
        </p:nvSpPr>
        <p:spPr>
          <a:xfrm>
            <a:off x="2266920" y="3645000"/>
            <a:ext cx="0" cy="301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203640" y="4508640"/>
            <a:ext cx="3045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203640" y="3068640"/>
            <a:ext cx="3045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427640" y="36450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506920" y="36450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355640" y="1052640"/>
            <a:ext cx="1102680" cy="520560"/>
          </a:xfrm>
          <a:prstGeom prst="rect">
            <a:avLst/>
          </a:prstGeom>
          <a:solidFill>
            <a:srgbClr val="bcd1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=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tg</a:t>
            </a:r>
            <a:r>
              <a:rPr b="0" lang="ru-RU" sz="28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187280" y="3645000"/>
            <a:ext cx="0" cy="288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804000" y="2421000"/>
            <a:ext cx="304920" cy="533160"/>
          </a:xfrm>
          <a:prstGeom prst="rect">
            <a:avLst/>
          </a:prstGeom>
          <a:solidFill>
            <a:srgbClr val="bcd1dc"/>
          </a:solidFill>
          <a:ln w="9360">
            <a:solidFill>
              <a:srgbClr val="bcd1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8101080" y="2421000"/>
            <a:ext cx="304560" cy="533160"/>
          </a:xfrm>
          <a:prstGeom prst="rect">
            <a:avLst/>
          </a:prstGeom>
          <a:solidFill>
            <a:srgbClr val="bcd1dc"/>
          </a:solidFill>
          <a:ln w="9360">
            <a:solidFill>
              <a:srgbClr val="bcd1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659640" y="3213000"/>
            <a:ext cx="720720" cy="533520"/>
          </a:xfrm>
          <a:prstGeom prst="rect">
            <a:avLst/>
          </a:prstGeom>
          <a:solidFill>
            <a:srgbClr val="bcd1dc"/>
          </a:solidFill>
          <a:ln w="9360">
            <a:solidFill>
              <a:srgbClr val="bcd1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740720" y="3141720"/>
            <a:ext cx="936720" cy="604800"/>
          </a:xfrm>
          <a:prstGeom prst="rect">
            <a:avLst/>
          </a:prstGeom>
          <a:solidFill>
            <a:srgbClr val="bcd1dc"/>
          </a:solidFill>
          <a:ln w="9360">
            <a:solidFill>
              <a:srgbClr val="bcd1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588000" y="3933720"/>
            <a:ext cx="720720" cy="533520"/>
          </a:xfrm>
          <a:prstGeom prst="rect">
            <a:avLst/>
          </a:prstGeom>
          <a:solidFill>
            <a:srgbClr val="bcd1dc"/>
          </a:solidFill>
          <a:ln w="9360">
            <a:solidFill>
              <a:srgbClr val="bcd1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956720" y="3933720"/>
            <a:ext cx="647640" cy="604800"/>
          </a:xfrm>
          <a:prstGeom prst="rect">
            <a:avLst/>
          </a:prstGeom>
          <a:solidFill>
            <a:srgbClr val="bcd1dc"/>
          </a:solidFill>
          <a:ln w="9360">
            <a:solidFill>
              <a:srgbClr val="bcd1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659640" y="4724280"/>
            <a:ext cx="720720" cy="533520"/>
          </a:xfrm>
          <a:prstGeom prst="rect">
            <a:avLst/>
          </a:prstGeom>
          <a:solidFill>
            <a:srgbClr val="bcd1dc"/>
          </a:solidFill>
          <a:ln w="9360">
            <a:solidFill>
              <a:srgbClr val="bcd1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812000" y="4653000"/>
            <a:ext cx="647640" cy="604800"/>
          </a:xfrm>
          <a:prstGeom prst="rect">
            <a:avLst/>
          </a:prstGeom>
          <a:solidFill>
            <a:srgbClr val="bcd1dc"/>
          </a:solidFill>
          <a:ln w="9360">
            <a:solidFill>
              <a:srgbClr val="bcd1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659640" y="5516640"/>
            <a:ext cx="720720" cy="533160"/>
          </a:xfrm>
          <a:prstGeom prst="rect">
            <a:avLst/>
          </a:prstGeom>
          <a:solidFill>
            <a:srgbClr val="bcd1dc"/>
          </a:solidFill>
          <a:ln w="9360">
            <a:solidFill>
              <a:srgbClr val="bcd1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740720" y="5445000"/>
            <a:ext cx="934920" cy="792360"/>
          </a:xfrm>
          <a:prstGeom prst="rect">
            <a:avLst/>
          </a:prstGeom>
          <a:solidFill>
            <a:srgbClr val="bcd1dc"/>
          </a:solidFill>
          <a:ln w="9360">
            <a:solidFill>
              <a:srgbClr val="bcd1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427640" y="1413000"/>
            <a:ext cx="0" cy="4752720"/>
          </a:xfrm>
          <a:prstGeom prst="line">
            <a:avLst/>
          </a:prstGeom>
          <a:ln w="316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rot="5076600">
            <a:off x="-2308680" y="-2556720"/>
            <a:ext cx="9314280" cy="3951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5548" y="1100"/>
                </a:moveTo>
                <a:arcTo wR="10800" hR="10800" stAng="-3835200" swAng="2840850"/>
                <a:lnTo>
                  <a:pt x="10800" y="10800"/>
                </a:lnTo>
                <a:close/>
              </a:path>
              <a:path fill="none" w="21600" h="21600">
                <a:moveTo>
                  <a:pt x="15548" y="1100"/>
                </a:moveTo>
                <a:arcTo wR="10800" hR="10800" stAng="-3835200" swAng="2840850"/>
              </a:path>
            </a:pathLst>
          </a:cu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2"/>
          <a:stretch/>
        </p:blipFill>
        <p:spPr>
          <a:xfrm>
            <a:off x="3635280" y="3284640"/>
            <a:ext cx="123840" cy="12384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13"/>
          <a:stretch/>
        </p:blipFill>
        <p:spPr>
          <a:xfrm>
            <a:off x="3780000" y="2997360"/>
            <a:ext cx="123840" cy="12384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14"/>
          <a:stretch/>
        </p:blipFill>
        <p:spPr>
          <a:xfrm>
            <a:off x="3995640" y="2492280"/>
            <a:ext cx="123840" cy="12384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2266920" y="1484280"/>
            <a:ext cx="0" cy="4753080"/>
          </a:xfrm>
          <a:prstGeom prst="line">
            <a:avLst/>
          </a:prstGeom>
          <a:ln w="316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rot="15838800">
            <a:off x="-314280" y="6172200"/>
            <a:ext cx="9314280" cy="3951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5548" y="1100"/>
                </a:moveTo>
                <a:arcTo wR="10800" hR="10800" stAng="-3835200" swAng="2840850"/>
                <a:lnTo>
                  <a:pt x="10800" y="10800"/>
                </a:lnTo>
                <a:close/>
              </a:path>
              <a:path fill="none" w="21600" h="21600">
                <a:moveTo>
                  <a:pt x="15548" y="1100"/>
                </a:moveTo>
                <a:arcTo wR="10800" hR="10800" stAng="-3835200" swAng="2840850"/>
              </a:path>
            </a:pathLst>
          </a:cu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5"/>
          <a:stretch/>
        </p:blipFill>
        <p:spPr>
          <a:xfrm>
            <a:off x="3274920" y="3716280"/>
            <a:ext cx="123840" cy="12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1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500"/>
                            </p:stCondLst>
                            <p:childTnLst>
                              <p:par>
                                <p:cTn id="26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6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500"/>
                            </p:stCondLst>
                            <p:childTnLst>
                              <p:par>
                                <p:cTn id="27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500"/>
                            </p:stCondLst>
                            <p:childTnLst>
                              <p:par>
                                <p:cTn id="29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6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500"/>
                            </p:stCondLst>
                            <p:childTnLst>
                              <p:par>
                                <p:cTn id="30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21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7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2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2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cd1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0" y="1268280"/>
            <a:ext cx="1476360" cy="5040360"/>
          </a:xfrm>
          <a:prstGeom prst="rect">
            <a:avLst/>
          </a:prstGeom>
          <a:solidFill>
            <a:srgbClr val="bcd1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0" y="1268280"/>
            <a:ext cx="9144000" cy="5040360"/>
            <a:chOff x="0" y="1268280"/>
            <a:chExt cx="9144000" cy="5040360"/>
          </a:xfrm>
        </p:grpSpPr>
        <p:grpSp>
          <p:nvGrpSpPr>
            <p:cNvPr id="203" name=""/>
            <p:cNvGrpSpPr/>
            <p:nvPr/>
          </p:nvGrpSpPr>
          <p:grpSpPr>
            <a:xfrm>
              <a:off x="0" y="1268280"/>
              <a:ext cx="9144000" cy="5040360"/>
              <a:chOff x="0" y="1268280"/>
              <a:chExt cx="9144000" cy="5040360"/>
            </a:xfrm>
          </p:grpSpPr>
          <p:sp>
            <p:nvSpPr>
              <p:cNvPr id="204" name=""/>
              <p:cNvSpPr/>
              <p:nvPr/>
            </p:nvSpPr>
            <p:spPr>
              <a:xfrm>
                <a:off x="0" y="2708280"/>
                <a:ext cx="8964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5651640" y="1341360"/>
                <a:ext cx="0" cy="4967280"/>
              </a:xfrm>
              <a:prstGeom prst="line">
                <a:avLst/>
              </a:prstGeom>
              <a:ln w="12600">
                <a:solidFill>
                  <a:srgbClr val="660066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6372360" y="1413000"/>
                <a:ext cx="0" cy="4895640"/>
              </a:xfrm>
              <a:prstGeom prst="line">
                <a:avLst/>
              </a:prstGeom>
              <a:ln w="12600">
                <a:solidFill>
                  <a:srgbClr val="660066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6012000" y="1341360"/>
                <a:ext cx="0" cy="4967280"/>
              </a:xfrm>
              <a:prstGeom prst="line">
                <a:avLst/>
              </a:prstGeom>
              <a:ln w="12600">
                <a:solidFill>
                  <a:srgbClr val="660066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6732720" y="1341360"/>
                <a:ext cx="0" cy="4967280"/>
              </a:xfrm>
              <a:prstGeom prst="line">
                <a:avLst/>
              </a:prstGeom>
              <a:ln w="12600">
                <a:solidFill>
                  <a:srgbClr val="660066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5292720" y="1341360"/>
                <a:ext cx="0" cy="4967280"/>
              </a:xfrm>
              <a:prstGeom prst="line">
                <a:avLst/>
              </a:prstGeom>
              <a:ln w="12600">
                <a:solidFill>
                  <a:srgbClr val="660066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932360" y="1341360"/>
                <a:ext cx="0" cy="4967280"/>
              </a:xfrm>
              <a:prstGeom prst="line">
                <a:avLst/>
              </a:prstGeom>
              <a:ln w="12600">
                <a:solidFill>
                  <a:srgbClr val="660066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4211640" y="1341360"/>
                <a:ext cx="0" cy="4967280"/>
              </a:xfrm>
              <a:prstGeom prst="line">
                <a:avLst/>
              </a:prstGeom>
              <a:ln w="12600">
                <a:solidFill>
                  <a:srgbClr val="660066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3851280" y="1484280"/>
                <a:ext cx="0" cy="4824360"/>
              </a:xfrm>
              <a:prstGeom prst="line">
                <a:avLst/>
              </a:prstGeom>
              <a:ln w="12600">
                <a:solidFill>
                  <a:srgbClr val="660066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3492360" y="1413000"/>
                <a:ext cx="0" cy="4895640"/>
              </a:xfrm>
              <a:prstGeom prst="line">
                <a:avLst/>
              </a:prstGeom>
              <a:ln w="12600">
                <a:solidFill>
                  <a:srgbClr val="660066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3132000" y="1484280"/>
                <a:ext cx="0" cy="4824360"/>
              </a:xfrm>
              <a:prstGeom prst="line">
                <a:avLst/>
              </a:prstGeom>
              <a:ln w="12600">
                <a:solidFill>
                  <a:srgbClr val="660066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0" y="4149720"/>
                <a:ext cx="8964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0" y="3068640"/>
                <a:ext cx="9144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0" y="3429000"/>
                <a:ext cx="9144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0" y="2349360"/>
                <a:ext cx="9144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2771640" y="1413000"/>
                <a:ext cx="0" cy="4895640"/>
              </a:xfrm>
              <a:prstGeom prst="line">
                <a:avLst/>
              </a:prstGeom>
              <a:ln w="12600">
                <a:solidFill>
                  <a:srgbClr val="660066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0" y="4869000"/>
                <a:ext cx="9036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0" y="1628640"/>
                <a:ext cx="9144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0" y="1989000"/>
                <a:ext cx="9144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0" y="5229360"/>
                <a:ext cx="9144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0" y="4508640"/>
                <a:ext cx="9036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0" y="5950080"/>
                <a:ext cx="9144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0" y="5589720"/>
                <a:ext cx="9144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2411280" y="1484280"/>
                <a:ext cx="0" cy="4824360"/>
              </a:xfrm>
              <a:prstGeom prst="line">
                <a:avLst/>
              </a:prstGeom>
              <a:ln w="12600">
                <a:solidFill>
                  <a:srgbClr val="660066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8172360" y="1341360"/>
                <a:ext cx="0" cy="4967280"/>
              </a:xfrm>
              <a:prstGeom prst="line">
                <a:avLst/>
              </a:prstGeom>
              <a:ln w="12600">
                <a:solidFill>
                  <a:srgbClr val="660066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7451640" y="1341360"/>
                <a:ext cx="0" cy="4967280"/>
              </a:xfrm>
              <a:prstGeom prst="line">
                <a:avLst/>
              </a:prstGeom>
              <a:ln w="12600">
                <a:solidFill>
                  <a:srgbClr val="660066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7812000" y="1268280"/>
                <a:ext cx="0" cy="4967280"/>
              </a:xfrm>
              <a:prstGeom prst="line">
                <a:avLst/>
              </a:prstGeom>
              <a:ln w="12600">
                <a:solidFill>
                  <a:srgbClr val="660066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7093080" y="1341360"/>
                <a:ext cx="0" cy="4967280"/>
              </a:xfrm>
              <a:prstGeom prst="line">
                <a:avLst/>
              </a:prstGeom>
              <a:ln w="12600">
                <a:solidFill>
                  <a:srgbClr val="660066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8532720" y="1341360"/>
                <a:ext cx="0" cy="4967280"/>
              </a:xfrm>
              <a:prstGeom prst="line">
                <a:avLst/>
              </a:prstGeom>
              <a:ln w="12600">
                <a:solidFill>
                  <a:srgbClr val="660066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8893080" y="1341360"/>
                <a:ext cx="0" cy="4967280"/>
              </a:xfrm>
              <a:prstGeom prst="line">
                <a:avLst/>
              </a:prstGeom>
              <a:ln w="12600">
                <a:solidFill>
                  <a:srgbClr val="660066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250920" y="1341360"/>
                <a:ext cx="0" cy="4967280"/>
              </a:xfrm>
              <a:prstGeom prst="line">
                <a:avLst/>
              </a:prstGeom>
              <a:ln w="12600">
                <a:solidFill>
                  <a:srgbClr val="660066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1692360" y="1484280"/>
                <a:ext cx="0" cy="4824360"/>
              </a:xfrm>
              <a:prstGeom prst="line">
                <a:avLst/>
              </a:prstGeom>
              <a:ln w="12600">
                <a:solidFill>
                  <a:srgbClr val="660066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1332000" y="1413000"/>
                <a:ext cx="0" cy="4895640"/>
              </a:xfrm>
              <a:prstGeom prst="line">
                <a:avLst/>
              </a:prstGeom>
              <a:ln w="12600">
                <a:solidFill>
                  <a:srgbClr val="660066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971640" y="1484280"/>
                <a:ext cx="0" cy="4824360"/>
              </a:xfrm>
              <a:prstGeom prst="line">
                <a:avLst/>
              </a:prstGeom>
              <a:ln w="12600">
                <a:solidFill>
                  <a:srgbClr val="660066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2050920" y="1413000"/>
                <a:ext cx="0" cy="4895640"/>
              </a:xfrm>
              <a:prstGeom prst="line">
                <a:avLst/>
              </a:prstGeom>
              <a:ln w="12600">
                <a:solidFill>
                  <a:srgbClr val="660066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611280" y="1484280"/>
                <a:ext cx="0" cy="4824360"/>
              </a:xfrm>
              <a:prstGeom prst="line">
                <a:avLst/>
              </a:prstGeom>
              <a:ln w="12600">
                <a:solidFill>
                  <a:srgbClr val="660066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0" y="3789360"/>
                <a:ext cx="9144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1" name=""/>
            <p:cNvSpPr/>
            <p:nvPr/>
          </p:nvSpPr>
          <p:spPr>
            <a:xfrm>
              <a:off x="4572000" y="1413000"/>
              <a:ext cx="0" cy="482436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 flipV="1">
            <a:off x="4572000" y="1267920"/>
            <a:ext cx="0" cy="5040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08000" y="3789360"/>
            <a:ext cx="9036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4000" y="-360"/>
            <a:ext cx="8459640" cy="1143000"/>
          </a:xfrm>
          <a:prstGeom prst="rect">
            <a:avLst/>
          </a:prstGeom>
          <a:solidFill>
            <a:srgbClr val="bcd1dc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660066"/>
                </a:solidFill>
                <a:latin typeface="Arial"/>
              </a:rPr>
              <a:t>Построение графика функции </a:t>
            </a:r>
            <a:r>
              <a:rPr b="0" i="1" lang="en-US" sz="3600" spc="-1" strike="noStrike">
                <a:solidFill>
                  <a:srgbClr val="660066"/>
                </a:solidFill>
                <a:latin typeface="Arial"/>
              </a:rPr>
              <a:t>y=</a:t>
            </a:r>
            <a:r>
              <a:rPr b="0" i="1" lang="en-US" sz="3600" spc="-1" strike="noStrike">
                <a:solidFill>
                  <a:srgbClr val="660066"/>
                </a:solidFill>
                <a:latin typeface="Arial"/>
                <a:ea typeface="Arial"/>
              </a:rPr>
              <a:t>tg</a:t>
            </a:r>
            <a:r>
              <a:rPr b="0" i="1" lang="ru-RU" sz="3600" spc="-1" strike="noStrike">
                <a:solidFill>
                  <a:srgbClr val="660066"/>
                </a:solidFill>
                <a:latin typeface="Arial"/>
                <a:ea typeface="Arial"/>
              </a:rPr>
              <a:t> </a:t>
            </a:r>
            <a:r>
              <a:rPr b="0" i="1" lang="en-US" sz="3600" spc="-1" strike="noStrike">
                <a:solidFill>
                  <a:srgbClr val="660066"/>
                </a:solidFill>
                <a:latin typeface="Arial"/>
              </a:rPr>
              <a:t>x</a:t>
            </a:r>
            <a:r>
              <a:rPr b="0" i="1" lang="ru-RU" sz="3600" spc="-1" strike="noStrike">
                <a:solidFill>
                  <a:srgbClr val="660066"/>
                </a:solidFill>
                <a:latin typeface="Arial"/>
              </a:rPr>
              <a:t>.</a:t>
            </a:r>
            <a:r>
              <a:rPr b="0" i="1" lang="ru-RU" sz="4000" spc="-1" strike="noStrike">
                <a:solidFill>
                  <a:srgbClr val="660066"/>
                </a:solidFill>
                <a:latin typeface="Arial"/>
              </a:rPr>
              <a:t> </a:t>
            </a:r>
            <a:endParaRPr b="0" i="1" lang="en-US" sz="40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1187280" y="1125360"/>
            <a:ext cx="7417080" cy="10188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4140360" y="1125360"/>
            <a:ext cx="3045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8532720" y="3213000"/>
            <a:ext cx="4572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851280" y="27082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778200" y="429264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0" name=""/>
          <p:cNvGraphicFramePr/>
          <p:nvPr/>
        </p:nvGraphicFramePr>
        <p:xfrm>
          <a:off x="6370560" y="4076640"/>
          <a:ext cx="428760" cy="457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370560" y="4076640"/>
                    <a:ext cx="42876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2" name=""/>
          <p:cNvGraphicFramePr/>
          <p:nvPr/>
        </p:nvGraphicFramePr>
        <p:xfrm>
          <a:off x="4067280" y="3284640"/>
          <a:ext cx="352440" cy="5331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5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067280" y="3284640"/>
                    <a:ext cx="352440" cy="53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4" name=""/>
          <p:cNvGraphicFramePr/>
          <p:nvPr/>
        </p:nvGraphicFramePr>
        <p:xfrm>
          <a:off x="1978200" y="4005360"/>
          <a:ext cx="533160" cy="457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5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978200" y="4005360"/>
                    <a:ext cx="53316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6" name=""/>
          <p:cNvGraphicFramePr/>
          <p:nvPr/>
        </p:nvGraphicFramePr>
        <p:xfrm>
          <a:off x="5362560" y="3933720"/>
          <a:ext cx="533520" cy="9907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57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5362560" y="3933720"/>
                    <a:ext cx="53352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8" name=""/>
          <p:cNvGraphicFramePr/>
          <p:nvPr/>
        </p:nvGraphicFramePr>
        <p:xfrm>
          <a:off x="3130560" y="3933720"/>
          <a:ext cx="457200" cy="9907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59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3130560" y="3933720"/>
                    <a:ext cx="45720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0" name=""/>
          <p:cNvSpPr/>
          <p:nvPr/>
        </p:nvSpPr>
        <p:spPr>
          <a:xfrm>
            <a:off x="3490920" y="3645000"/>
            <a:ext cx="0" cy="301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427640" y="4508640"/>
            <a:ext cx="3045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427640" y="3068640"/>
            <a:ext cx="3045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651640" y="36450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730920" y="36450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579640" y="1052640"/>
            <a:ext cx="1102680" cy="520560"/>
          </a:xfrm>
          <a:prstGeom prst="rect">
            <a:avLst/>
          </a:prstGeom>
          <a:solidFill>
            <a:srgbClr val="bcd1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=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tg</a:t>
            </a:r>
            <a:r>
              <a:rPr b="0" lang="ru-RU" sz="28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411280" y="3645000"/>
            <a:ext cx="0" cy="288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5651640" y="1413000"/>
            <a:ext cx="0" cy="4752720"/>
          </a:xfrm>
          <a:prstGeom prst="line">
            <a:avLst/>
          </a:prstGeom>
          <a:ln w="316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490920" y="1484280"/>
            <a:ext cx="0" cy="4753080"/>
          </a:xfrm>
          <a:prstGeom prst="line">
            <a:avLst/>
          </a:prstGeom>
          <a:ln w="316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1167120" y="-5403600"/>
            <a:ext cx="7003800" cy="18398160"/>
            <a:chOff x="1167120" y="-5403600"/>
            <a:chExt cx="7003800" cy="18398160"/>
          </a:xfrm>
        </p:grpSpPr>
        <p:sp>
          <p:nvSpPr>
            <p:cNvPr id="270" name=""/>
            <p:cNvSpPr/>
            <p:nvPr/>
          </p:nvSpPr>
          <p:spPr>
            <a:xfrm rot="5076600">
              <a:off x="-1084680" y="-2556720"/>
              <a:ext cx="9314280" cy="3951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548" y="1100"/>
                  </a:moveTo>
                  <a:arcTo wR="10800" hR="10800" stAng="-3835200" swAng="2840850"/>
                  <a:lnTo>
                    <a:pt x="10800" y="10800"/>
                  </a:lnTo>
                  <a:close/>
                </a:path>
                <a:path fill="none" w="21600" h="21600">
                  <a:moveTo>
                    <a:pt x="15548" y="1100"/>
                  </a:moveTo>
                  <a:arcTo wR="10800" hR="10800" stAng="-3835200" swAng="2840850"/>
                </a:path>
              </a:pathLst>
            </a:custGeom>
            <a:noFill/>
            <a:ln w="381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rot="15838800">
              <a:off x="981360" y="6092280"/>
              <a:ext cx="9314280" cy="4110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548" y="1100"/>
                  </a:moveTo>
                  <a:arcTo wR="10800" hR="10800" stAng="-3835200" swAng="2840850"/>
                  <a:lnTo>
                    <a:pt x="10800" y="10800"/>
                  </a:lnTo>
                  <a:close/>
                </a:path>
                <a:path fill="none" w="21600" h="21600">
                  <a:moveTo>
                    <a:pt x="15548" y="1100"/>
                  </a:moveTo>
                  <a:arcTo wR="10800" hR="10800" stAng="-3835200" swAng="2840850"/>
                </a:path>
              </a:pathLst>
            </a:custGeom>
            <a:noFill/>
            <a:ln w="381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2" name=""/>
          <p:cNvSpPr/>
          <p:nvPr/>
        </p:nvSpPr>
        <p:spPr>
          <a:xfrm>
            <a:off x="1332000" y="3645000"/>
            <a:ext cx="0" cy="288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50920" y="3645000"/>
            <a:ext cx="0" cy="288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7812000" y="3645000"/>
            <a:ext cx="0" cy="288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8893080" y="3645000"/>
            <a:ext cx="0" cy="288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6" name=""/>
          <p:cNvGraphicFramePr/>
          <p:nvPr/>
        </p:nvGraphicFramePr>
        <p:xfrm>
          <a:off x="7596360" y="4005360"/>
          <a:ext cx="533160" cy="91440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277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7596360" y="4005360"/>
                    <a:ext cx="53316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78" name=""/>
              <p:cNvSpPr txBox="1"/>
              <p:nvPr/>
            </p:nvSpPr>
            <p:spPr>
              <a:xfrm>
                <a:off x="8610480" y="4076640"/>
                <a:ext cx="53352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9" name=""/>
              <p:cNvSpPr txBox="1"/>
              <p:nvPr/>
            </p:nvSpPr>
            <p:spPr>
              <a:xfrm>
                <a:off x="826920" y="3933720"/>
                <a:ext cx="77976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0" name=""/>
              <p:cNvSpPr txBox="1"/>
              <p:nvPr/>
            </p:nvSpPr>
            <p:spPr>
              <a:xfrm>
                <a:off x="0" y="4005360"/>
                <a:ext cx="53964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1" name=""/>
          <p:cNvSpPr/>
          <p:nvPr/>
        </p:nvSpPr>
        <p:spPr>
          <a:xfrm>
            <a:off x="1332000" y="1484280"/>
            <a:ext cx="0" cy="4753080"/>
          </a:xfrm>
          <a:prstGeom prst="line">
            <a:avLst/>
          </a:prstGeom>
          <a:ln w="316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812000" y="1413000"/>
            <a:ext cx="0" cy="4752720"/>
          </a:xfrm>
          <a:prstGeom prst="line">
            <a:avLst/>
          </a:prstGeom>
          <a:ln w="316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3327480" y="-5403600"/>
            <a:ext cx="7003800" cy="18398160"/>
            <a:chOff x="3327480" y="-5403600"/>
            <a:chExt cx="7003800" cy="18398160"/>
          </a:xfrm>
        </p:grpSpPr>
        <p:sp>
          <p:nvSpPr>
            <p:cNvPr id="284" name=""/>
            <p:cNvSpPr/>
            <p:nvPr/>
          </p:nvSpPr>
          <p:spPr>
            <a:xfrm rot="5076600">
              <a:off x="1075320" y="-2556720"/>
              <a:ext cx="9314280" cy="3951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548" y="1100"/>
                  </a:moveTo>
                  <a:arcTo wR="10800" hR="10800" stAng="-3835200" swAng="2840850"/>
                  <a:lnTo>
                    <a:pt x="10800" y="10800"/>
                  </a:lnTo>
                  <a:close/>
                </a:path>
                <a:path fill="none" w="21600" h="21600">
                  <a:moveTo>
                    <a:pt x="15548" y="1100"/>
                  </a:moveTo>
                  <a:arcTo wR="10800" hR="10800" stAng="-3835200" swAng="2840850"/>
                </a:path>
              </a:pathLst>
            </a:custGeom>
            <a:noFill/>
            <a:ln w="381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rot="15838800">
              <a:off x="3141720" y="6092280"/>
              <a:ext cx="9314280" cy="4110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548" y="1100"/>
                  </a:moveTo>
                  <a:arcTo wR="10800" hR="10800" stAng="-3835200" swAng="2840850"/>
                  <a:lnTo>
                    <a:pt x="10800" y="10800"/>
                  </a:lnTo>
                  <a:close/>
                </a:path>
                <a:path fill="none" w="21600" h="21600">
                  <a:moveTo>
                    <a:pt x="15548" y="1100"/>
                  </a:moveTo>
                  <a:arcTo wR="10800" hR="10800" stAng="-3835200" swAng="2840850"/>
                </a:path>
              </a:pathLst>
            </a:custGeom>
            <a:noFill/>
            <a:ln w="381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6" name=""/>
          <p:cNvGrpSpPr/>
          <p:nvPr/>
        </p:nvGrpSpPr>
        <p:grpSpPr>
          <a:xfrm>
            <a:off x="-993600" y="-5403600"/>
            <a:ext cx="7003800" cy="18398160"/>
            <a:chOff x="-993600" y="-5403600"/>
            <a:chExt cx="7003800" cy="18398160"/>
          </a:xfrm>
        </p:grpSpPr>
        <p:sp>
          <p:nvSpPr>
            <p:cNvPr id="287" name=""/>
            <p:cNvSpPr/>
            <p:nvPr/>
          </p:nvSpPr>
          <p:spPr>
            <a:xfrm rot="5076600">
              <a:off x="-3245400" y="-2556720"/>
              <a:ext cx="9314280" cy="3951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548" y="1100"/>
                  </a:moveTo>
                  <a:arcTo wR="10800" hR="10800" stAng="-3835200" swAng="2840850"/>
                  <a:lnTo>
                    <a:pt x="10800" y="10800"/>
                  </a:lnTo>
                  <a:close/>
                </a:path>
                <a:path fill="none" w="21600" h="21600">
                  <a:moveTo>
                    <a:pt x="15548" y="1100"/>
                  </a:moveTo>
                  <a:arcTo wR="10800" hR="10800" stAng="-3835200" swAng="2840850"/>
                </a:path>
              </a:pathLst>
            </a:custGeom>
            <a:noFill/>
            <a:ln w="381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rot="15838800">
              <a:off x="-1179000" y="6092280"/>
              <a:ext cx="9314280" cy="4110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548" y="1100"/>
                  </a:moveTo>
                  <a:arcTo wR="10800" hR="10800" stAng="-3835200" swAng="2840850"/>
                  <a:lnTo>
                    <a:pt x="10800" y="10800"/>
                  </a:lnTo>
                  <a:close/>
                </a:path>
                <a:path fill="none" w="21600" h="21600">
                  <a:moveTo>
                    <a:pt x="15548" y="1100"/>
                  </a:moveTo>
                  <a:arcTo wR="10800" hR="10800" stAng="-3835200" swAng="2840850"/>
                </a:path>
              </a:pathLst>
            </a:custGeom>
            <a:noFill/>
            <a:ln w="381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9" name=""/>
          <p:cNvGrpSpPr/>
          <p:nvPr/>
        </p:nvGrpSpPr>
        <p:grpSpPr>
          <a:xfrm>
            <a:off x="-3152520" y="-5403600"/>
            <a:ext cx="6943320" cy="18361440"/>
            <a:chOff x="-3152520" y="-5403600"/>
            <a:chExt cx="6943320" cy="18361440"/>
          </a:xfrm>
        </p:grpSpPr>
        <p:sp>
          <p:nvSpPr>
            <p:cNvPr id="290" name=""/>
            <p:cNvSpPr/>
            <p:nvPr/>
          </p:nvSpPr>
          <p:spPr>
            <a:xfrm rot="5076600">
              <a:off x="-5404320" y="-2556720"/>
              <a:ext cx="9314280" cy="3951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548" y="1100"/>
                  </a:moveTo>
                  <a:arcTo wR="10800" hR="10800" stAng="-3835200" swAng="2840850"/>
                  <a:lnTo>
                    <a:pt x="10800" y="10800"/>
                  </a:lnTo>
                  <a:close/>
                </a:path>
                <a:path fill="none" w="21600" h="21600">
                  <a:moveTo>
                    <a:pt x="15548" y="1100"/>
                  </a:moveTo>
                  <a:arcTo wR="10800" hR="10800" stAng="-3835200" swAng="2840850"/>
                </a:path>
              </a:pathLst>
            </a:custGeom>
            <a:noFill/>
            <a:ln w="381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 rot="15838800">
              <a:off x="-3319200" y="6143040"/>
              <a:ext cx="9314280" cy="395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42" y="5742"/>
                  </a:moveTo>
                  <a:arcTo wR="10800" hR="10800" stAng="-1675720" swAng="681370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42" y="5742"/>
                  </a:moveTo>
                  <a:arcTo wR="10800" hR="10800" stAng="-1675720" swAng="681370"/>
                </a:path>
              </a:pathLst>
            </a:custGeom>
            <a:noFill/>
            <a:ln w="381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2" name=""/>
          <p:cNvGrpSpPr/>
          <p:nvPr/>
        </p:nvGrpSpPr>
        <p:grpSpPr>
          <a:xfrm>
            <a:off x="5413320" y="-5369040"/>
            <a:ext cx="6928920" cy="18355680"/>
            <a:chOff x="5413320" y="-5369040"/>
            <a:chExt cx="6928920" cy="18355680"/>
          </a:xfrm>
        </p:grpSpPr>
        <p:sp>
          <p:nvSpPr>
            <p:cNvPr id="293" name=""/>
            <p:cNvSpPr/>
            <p:nvPr/>
          </p:nvSpPr>
          <p:spPr>
            <a:xfrm rot="15838800">
              <a:off x="5231880" y="6172200"/>
              <a:ext cx="9314280" cy="3951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548" y="1100"/>
                  </a:moveTo>
                  <a:arcTo wR="10800" hR="10800" stAng="-3835200" swAng="2840850"/>
                  <a:lnTo>
                    <a:pt x="10800" y="10800"/>
                  </a:lnTo>
                  <a:close/>
                </a:path>
                <a:path fill="none" w="21600" h="21600">
                  <a:moveTo>
                    <a:pt x="15548" y="1100"/>
                  </a:moveTo>
                  <a:arcTo wR="10800" hR="10800" stAng="-3835200" swAng="2840850"/>
                </a:path>
              </a:pathLst>
            </a:custGeom>
            <a:noFill/>
            <a:ln w="381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 rot="5076600">
              <a:off x="3162600" y="-2523600"/>
              <a:ext cx="9314280" cy="3954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117" y="5338"/>
                  </a:moveTo>
                  <a:arcTo wR="10800" hR="10800" stAng="-1822939" swAng="828590"/>
                  <a:lnTo>
                    <a:pt x="10800" y="10800"/>
                  </a:lnTo>
                  <a:close/>
                </a:path>
                <a:path fill="none" w="21600" h="21600">
                  <a:moveTo>
                    <a:pt x="20117" y="5338"/>
                  </a:moveTo>
                  <a:arcTo wR="10800" hR="10800" stAng="-1822939" swAng="828590"/>
                </a:path>
              </a:pathLst>
            </a:custGeom>
            <a:noFill/>
            <a:ln w="381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4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500"/>
                            </p:stCondLst>
                            <p:childTnLst>
                              <p:par>
                                <p:cTn id="36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0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5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0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0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5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0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5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0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5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0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5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0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5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0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5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0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5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0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5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8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2000"/>
                            </p:stCondLst>
                            <p:childTnLst>
                              <p:par>
                                <p:cTn id="49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2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7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0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5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500"/>
                            </p:stCondLst>
                            <p:childTnLst>
                              <p:par>
                                <p:cTn id="50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9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1000"/>
                            </p:stCondLst>
                            <p:childTnLst>
                              <p:par>
                                <p:cTn id="51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3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1500"/>
                            </p:stCondLst>
                            <p:childTnLst>
                              <p:par>
                                <p:cTn id="51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7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cd1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186920" y="115920"/>
            <a:ext cx="6767640" cy="836640"/>
          </a:xfrm>
          <a:prstGeom prst="rect">
            <a:avLst/>
          </a:prstGeom>
          <a:solidFill>
            <a:srgbClr val="bcd1dc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660066"/>
                </a:solidFill>
                <a:latin typeface="Arial"/>
              </a:rPr>
              <a:t>Свойства функции </a:t>
            </a:r>
            <a:r>
              <a:rPr b="0" i="1" lang="en-US" sz="4000" spc="-1" strike="noStrike">
                <a:solidFill>
                  <a:srgbClr val="660066"/>
                </a:solidFill>
                <a:latin typeface="Arial"/>
              </a:rPr>
              <a:t>y=</a:t>
            </a:r>
            <a:r>
              <a:rPr b="0" i="1" lang="en-US" sz="4000" spc="-1" strike="noStrike">
                <a:solidFill>
                  <a:srgbClr val="660066"/>
                </a:solidFill>
                <a:latin typeface="Arial"/>
                <a:ea typeface="Arial"/>
              </a:rPr>
              <a:t>tg</a:t>
            </a:r>
            <a:r>
              <a:rPr b="0" i="1" lang="ru-RU" sz="4000" spc="-1" strike="noStrike">
                <a:solidFill>
                  <a:srgbClr val="660066"/>
                </a:solidFill>
                <a:latin typeface="Arial"/>
                <a:ea typeface="Arial"/>
              </a:rPr>
              <a:t> </a:t>
            </a:r>
            <a:r>
              <a:rPr b="0" i="1" lang="en-US" sz="4000" spc="-1" strike="noStrike">
                <a:solidFill>
                  <a:srgbClr val="660066"/>
                </a:solidFill>
                <a:latin typeface="Arial"/>
              </a:rPr>
              <a:t>x</a:t>
            </a:r>
            <a:r>
              <a:rPr b="0" i="1" lang="ru-RU" sz="4000" spc="-1" strike="noStrike">
                <a:solidFill>
                  <a:srgbClr val="660066"/>
                </a:solidFill>
                <a:latin typeface="Arial"/>
              </a:rPr>
              <a:t>.</a:t>
            </a:r>
            <a:r>
              <a:rPr b="0" i="1" lang="ru-RU" sz="4400" spc="-1" strike="noStrike">
                <a:solidFill>
                  <a:srgbClr val="660066"/>
                </a:solidFill>
                <a:latin typeface="Arial"/>
              </a:rPr>
              <a:t> </a:t>
            </a:r>
            <a:endParaRPr b="0" i="1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1"/>
          <a:stretch/>
        </p:blipFill>
        <p:spPr>
          <a:xfrm>
            <a:off x="684360" y="1052640"/>
            <a:ext cx="8065800" cy="99720"/>
          </a:xfrm>
          <a:prstGeom prst="rect">
            <a:avLst/>
          </a:prstGeom>
          <a:ln w="0">
            <a:noFill/>
          </a:ln>
        </p:spPr>
      </p:pic>
      <p:grpSp>
        <p:nvGrpSpPr>
          <p:cNvPr id="297" name=""/>
          <p:cNvGrpSpPr/>
          <p:nvPr/>
        </p:nvGrpSpPr>
        <p:grpSpPr>
          <a:xfrm>
            <a:off x="-393120" y="-2890440"/>
            <a:ext cx="10405080" cy="11230920"/>
            <a:chOff x="-393120" y="-2890440"/>
            <a:chExt cx="10405080" cy="11230920"/>
          </a:xfrm>
        </p:grpSpPr>
        <p:sp>
          <p:nvSpPr>
            <p:cNvPr id="298" name=""/>
            <p:cNvSpPr/>
            <p:nvPr/>
          </p:nvSpPr>
          <p:spPr>
            <a:xfrm>
              <a:off x="1698840" y="1184040"/>
              <a:ext cx="999720" cy="3073680"/>
            </a:xfrm>
            <a:prstGeom prst="rect">
              <a:avLst/>
            </a:prstGeom>
            <a:solidFill>
              <a:srgbClr val="bcd1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9" name=""/>
            <p:cNvGrpSpPr/>
            <p:nvPr/>
          </p:nvGrpSpPr>
          <p:grpSpPr>
            <a:xfrm>
              <a:off x="1698840" y="1184040"/>
              <a:ext cx="6195960" cy="3073680"/>
              <a:chOff x="1698840" y="1184040"/>
              <a:chExt cx="6195960" cy="3073680"/>
            </a:xfrm>
          </p:grpSpPr>
          <p:grpSp>
            <p:nvGrpSpPr>
              <p:cNvPr id="300" name=""/>
              <p:cNvGrpSpPr/>
              <p:nvPr/>
            </p:nvGrpSpPr>
            <p:grpSpPr>
              <a:xfrm>
                <a:off x="1698840" y="1184040"/>
                <a:ext cx="6195960" cy="3073680"/>
                <a:chOff x="1698840" y="1184040"/>
                <a:chExt cx="6195960" cy="3073680"/>
              </a:xfrm>
            </p:grpSpPr>
            <p:sp>
              <p:nvSpPr>
                <p:cNvPr id="301" name=""/>
                <p:cNvSpPr/>
                <p:nvPr/>
              </p:nvSpPr>
              <p:spPr>
                <a:xfrm>
                  <a:off x="1698840" y="2062080"/>
                  <a:ext cx="60742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5528160" y="1228320"/>
                  <a:ext cx="0" cy="3029040"/>
                </a:xfrm>
                <a:prstGeom prst="line">
                  <a:avLst/>
                </a:prstGeom>
                <a:ln w="12600">
                  <a:solidFill>
                    <a:srgbClr val="660066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6016680" y="1272240"/>
                  <a:ext cx="0" cy="2985480"/>
                </a:xfrm>
                <a:prstGeom prst="line">
                  <a:avLst/>
                </a:prstGeom>
                <a:ln w="12600">
                  <a:solidFill>
                    <a:srgbClr val="660066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5772600" y="1228320"/>
                  <a:ext cx="0" cy="3029040"/>
                </a:xfrm>
                <a:prstGeom prst="line">
                  <a:avLst/>
                </a:prstGeom>
                <a:ln w="12600">
                  <a:solidFill>
                    <a:srgbClr val="660066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6260760" y="1228320"/>
                  <a:ext cx="0" cy="3029040"/>
                </a:xfrm>
                <a:prstGeom prst="line">
                  <a:avLst/>
                </a:prstGeom>
                <a:ln w="12600">
                  <a:solidFill>
                    <a:srgbClr val="660066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5285160" y="1228320"/>
                  <a:ext cx="0" cy="3029040"/>
                </a:xfrm>
                <a:prstGeom prst="line">
                  <a:avLst/>
                </a:prstGeom>
                <a:ln w="12600">
                  <a:solidFill>
                    <a:srgbClr val="660066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5040720" y="1228320"/>
                  <a:ext cx="0" cy="3029040"/>
                </a:xfrm>
                <a:prstGeom prst="line">
                  <a:avLst/>
                </a:prstGeom>
                <a:ln w="12600">
                  <a:solidFill>
                    <a:srgbClr val="660066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4552560" y="1228320"/>
                  <a:ext cx="0" cy="3029040"/>
                </a:xfrm>
                <a:prstGeom prst="line">
                  <a:avLst/>
                </a:prstGeom>
                <a:ln w="12600">
                  <a:solidFill>
                    <a:srgbClr val="660066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>
                  <a:off x="4308480" y="1315440"/>
                  <a:ext cx="0" cy="2941920"/>
                </a:xfrm>
                <a:prstGeom prst="line">
                  <a:avLst/>
                </a:prstGeom>
                <a:ln w="12600">
                  <a:solidFill>
                    <a:srgbClr val="660066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>
                  <a:off x="4065120" y="1272240"/>
                  <a:ext cx="0" cy="2985480"/>
                </a:xfrm>
                <a:prstGeom prst="line">
                  <a:avLst/>
                </a:prstGeom>
                <a:ln w="12600">
                  <a:solidFill>
                    <a:srgbClr val="660066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3821040" y="1315440"/>
                  <a:ext cx="0" cy="2941920"/>
                </a:xfrm>
                <a:prstGeom prst="line">
                  <a:avLst/>
                </a:prstGeom>
                <a:ln w="12600">
                  <a:solidFill>
                    <a:srgbClr val="660066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>
                  <a:off x="1698840" y="2941200"/>
                  <a:ext cx="60742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>
                  <a:off x="1698840" y="2281680"/>
                  <a:ext cx="61959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1698840" y="2501640"/>
                  <a:ext cx="61959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1698840" y="1843200"/>
                  <a:ext cx="61959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3576600" y="1272240"/>
                  <a:ext cx="0" cy="2985480"/>
                </a:xfrm>
                <a:prstGeom prst="line">
                  <a:avLst/>
                </a:prstGeom>
                <a:ln w="12600">
                  <a:solidFill>
                    <a:srgbClr val="660066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1698840" y="3379680"/>
                  <a:ext cx="6122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1698840" y="1403640"/>
                  <a:ext cx="61959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1698840" y="1623240"/>
                  <a:ext cx="61959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1698840" y="3599640"/>
                  <a:ext cx="61959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>
                  <a:off x="1698840" y="3160080"/>
                  <a:ext cx="6122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>
                  <a:off x="1698840" y="4038840"/>
                  <a:ext cx="61959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>
                  <a:off x="1698840" y="3819240"/>
                  <a:ext cx="61959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3332520" y="1315440"/>
                  <a:ext cx="0" cy="2941920"/>
                </a:xfrm>
                <a:prstGeom prst="line">
                  <a:avLst/>
                </a:prstGeom>
                <a:ln w="12600">
                  <a:solidFill>
                    <a:srgbClr val="660066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>
                  <a:off x="7236360" y="1228320"/>
                  <a:ext cx="0" cy="3029040"/>
                </a:xfrm>
                <a:prstGeom prst="line">
                  <a:avLst/>
                </a:prstGeom>
                <a:ln w="12600">
                  <a:solidFill>
                    <a:srgbClr val="660066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>
                  <a:off x="6747840" y="1228320"/>
                  <a:ext cx="0" cy="3029040"/>
                </a:xfrm>
                <a:prstGeom prst="line">
                  <a:avLst/>
                </a:prstGeom>
                <a:ln w="12600">
                  <a:solidFill>
                    <a:srgbClr val="660066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6992280" y="1184040"/>
                  <a:ext cx="0" cy="3029040"/>
                </a:xfrm>
                <a:prstGeom prst="line">
                  <a:avLst/>
                </a:prstGeom>
                <a:ln w="12600">
                  <a:solidFill>
                    <a:srgbClr val="660066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>
                  <a:off x="6504840" y="1228320"/>
                  <a:ext cx="0" cy="3029040"/>
                </a:xfrm>
                <a:prstGeom prst="line">
                  <a:avLst/>
                </a:prstGeom>
                <a:ln w="12600">
                  <a:solidFill>
                    <a:srgbClr val="660066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>
                  <a:off x="7480440" y="1228320"/>
                  <a:ext cx="0" cy="3029040"/>
                </a:xfrm>
                <a:prstGeom prst="line">
                  <a:avLst/>
                </a:prstGeom>
                <a:ln w="12600">
                  <a:solidFill>
                    <a:srgbClr val="660066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7724880" y="1228320"/>
                  <a:ext cx="0" cy="3029040"/>
                </a:xfrm>
                <a:prstGeom prst="line">
                  <a:avLst/>
                </a:prstGeom>
                <a:ln w="12600">
                  <a:solidFill>
                    <a:srgbClr val="660066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>
                  <a:off x="1868760" y="1228320"/>
                  <a:ext cx="0" cy="3029040"/>
                </a:xfrm>
                <a:prstGeom prst="line">
                  <a:avLst/>
                </a:prstGeom>
                <a:ln w="12600">
                  <a:solidFill>
                    <a:srgbClr val="660066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>
                  <a:off x="2845440" y="1315440"/>
                  <a:ext cx="0" cy="2941920"/>
                </a:xfrm>
                <a:prstGeom prst="line">
                  <a:avLst/>
                </a:prstGeom>
                <a:ln w="12600">
                  <a:solidFill>
                    <a:srgbClr val="660066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2601360" y="1272240"/>
                  <a:ext cx="0" cy="2985480"/>
                </a:xfrm>
                <a:prstGeom prst="line">
                  <a:avLst/>
                </a:prstGeom>
                <a:ln w="12600">
                  <a:solidFill>
                    <a:srgbClr val="660066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>
                  <a:off x="2356920" y="1315440"/>
                  <a:ext cx="0" cy="2941920"/>
                </a:xfrm>
                <a:prstGeom prst="line">
                  <a:avLst/>
                </a:prstGeom>
                <a:ln w="12600">
                  <a:solidFill>
                    <a:srgbClr val="660066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>
                  <a:off x="3088440" y="1272240"/>
                  <a:ext cx="0" cy="2985480"/>
                </a:xfrm>
                <a:prstGeom prst="line">
                  <a:avLst/>
                </a:prstGeom>
                <a:ln w="12600">
                  <a:solidFill>
                    <a:srgbClr val="660066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>
                  <a:off x="2112840" y="1315440"/>
                  <a:ext cx="0" cy="2941920"/>
                </a:xfrm>
                <a:prstGeom prst="line">
                  <a:avLst/>
                </a:prstGeom>
                <a:ln w="12600">
                  <a:solidFill>
                    <a:srgbClr val="660066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>
                  <a:off x="1698840" y="2721240"/>
                  <a:ext cx="61959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8" name=""/>
              <p:cNvSpPr/>
              <p:nvPr/>
            </p:nvSpPr>
            <p:spPr>
              <a:xfrm>
                <a:off x="4796640" y="1272240"/>
                <a:ext cx="0" cy="294192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9" name=""/>
            <p:cNvSpPr/>
            <p:nvPr/>
          </p:nvSpPr>
          <p:spPr>
            <a:xfrm flipV="1">
              <a:off x="4796640" y="1184040"/>
              <a:ext cx="0" cy="3073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771920" y="2720880"/>
              <a:ext cx="6122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04320" y="1098000"/>
              <a:ext cx="20700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480440" y="2369520"/>
              <a:ext cx="30780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4309200" y="2062800"/>
              <a:ext cx="306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4259160" y="3027600"/>
              <a:ext cx="4647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345" name=""/>
            <p:cNvGraphicFramePr/>
            <p:nvPr/>
          </p:nvGraphicFramePr>
          <p:xfrm>
            <a:off x="6014520" y="2897280"/>
            <a:ext cx="290880" cy="2782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346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6014520" y="2897280"/>
                      <a:ext cx="290880" cy="278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47" name=""/>
            <p:cNvGraphicFramePr/>
            <p:nvPr/>
          </p:nvGraphicFramePr>
          <p:xfrm>
            <a:off x="4453920" y="2413800"/>
            <a:ext cx="239400" cy="32436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348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4453920" y="2413800"/>
                      <a:ext cx="239400" cy="324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49" name=""/>
            <p:cNvGraphicFramePr/>
            <p:nvPr/>
          </p:nvGraphicFramePr>
          <p:xfrm>
            <a:off x="3038400" y="2853000"/>
            <a:ext cx="361080" cy="27828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350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3038400" y="2853000"/>
                      <a:ext cx="361080" cy="278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51" name=""/>
            <p:cNvGraphicFramePr/>
            <p:nvPr/>
          </p:nvGraphicFramePr>
          <p:xfrm>
            <a:off x="5331600" y="2809800"/>
            <a:ext cx="361080" cy="60300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352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5331600" y="2809800"/>
                      <a:ext cx="361080" cy="603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53" name=""/>
            <p:cNvGraphicFramePr/>
            <p:nvPr/>
          </p:nvGraphicFramePr>
          <p:xfrm>
            <a:off x="3820320" y="2809800"/>
            <a:ext cx="309240" cy="60300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354" name="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3820320" y="2809800"/>
                      <a:ext cx="309240" cy="603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55" name=""/>
            <p:cNvSpPr/>
            <p:nvPr/>
          </p:nvSpPr>
          <p:spPr>
            <a:xfrm>
              <a:off x="4064040" y="2633400"/>
              <a:ext cx="0" cy="183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4698000" y="3159720"/>
              <a:ext cx="207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4698000" y="2282040"/>
              <a:ext cx="207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528520" y="2633400"/>
              <a:ext cx="0" cy="139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60040" y="2633400"/>
              <a:ext cx="0" cy="139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5478840" y="1053360"/>
              <a:ext cx="1102680" cy="520560"/>
            </a:xfrm>
            <a:prstGeom prst="rect">
              <a:avLst/>
            </a:prstGeom>
            <a:solidFill>
              <a:srgbClr val="bcd1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Times New Roman"/>
                </a:rPr>
                <a:t>у=</a:t>
              </a:r>
              <a:r>
                <a:rPr b="0" lang="en-US" sz="2800" spc="-1" strike="noStrike">
                  <a:solidFill>
                    <a:srgbClr val="660066"/>
                  </a:solidFill>
                  <a:latin typeface="Times New Roman"/>
                  <a:ea typeface="Times New Roman"/>
                </a:rPr>
                <a:t>tg</a:t>
              </a:r>
              <a:r>
                <a:rPr b="0" lang="ru-RU" sz="2800" spc="-1" strike="noStrike">
                  <a:solidFill>
                    <a:srgbClr val="660066"/>
                  </a:solidFill>
                  <a:latin typeface="Times New Roman"/>
                  <a:ea typeface="Times New Roman"/>
                </a:rPr>
                <a:t> </a:t>
              </a:r>
              <a:r>
                <a:rPr b="0" lang="en-US" sz="2800" spc="-1" strike="noStrike">
                  <a:solidFill>
                    <a:srgbClr val="660066"/>
                  </a:solidFill>
                  <a:latin typeface="Times New Roman"/>
                </a:rPr>
                <a:t>x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332520" y="2633400"/>
              <a:ext cx="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5528520" y="1272960"/>
              <a:ext cx="0" cy="2897280"/>
            </a:xfrm>
            <a:prstGeom prst="line">
              <a:avLst/>
            </a:prstGeom>
            <a:ln w="3168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064040" y="1315800"/>
              <a:ext cx="0" cy="2897280"/>
            </a:xfrm>
            <a:prstGeom prst="line">
              <a:avLst/>
            </a:prstGeom>
            <a:ln w="3168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4" name=""/>
            <p:cNvGrpSpPr/>
            <p:nvPr/>
          </p:nvGrpSpPr>
          <p:grpSpPr>
            <a:xfrm>
              <a:off x="2531880" y="-2889360"/>
              <a:ext cx="4654800" cy="11229480"/>
              <a:chOff x="2531880" y="-2889360"/>
              <a:chExt cx="4654800" cy="11229480"/>
            </a:xfrm>
          </p:grpSpPr>
          <p:sp>
            <p:nvSpPr>
              <p:cNvPr id="365" name=""/>
              <p:cNvSpPr/>
              <p:nvPr/>
            </p:nvSpPr>
            <p:spPr>
              <a:xfrm rot="5076600">
                <a:off x="1293120" y="-1275840"/>
                <a:ext cx="5677920" cy="2678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5548" y="1100"/>
                    </a:moveTo>
                    <a:arcTo wR="10800" hR="10800" stAng="-3835200" swAng="28408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5548" y="1100"/>
                    </a:moveTo>
                    <a:arcTo wR="10800" hR="10800" stAng="-3835200" swAng="2840850"/>
                  </a:path>
                </a:pathLst>
              </a:custGeom>
              <a:noFill/>
              <a:ln w="381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 rot="15838800">
                <a:off x="2664360" y="3977280"/>
                <a:ext cx="5677920" cy="2786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5548" y="1100"/>
                    </a:moveTo>
                    <a:arcTo wR="10800" hR="10800" stAng="-3835200" swAng="28408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5548" y="1100"/>
                    </a:moveTo>
                    <a:arcTo wR="10800" hR="10800" stAng="-3835200" swAng="2840850"/>
                  </a:path>
                </a:pathLst>
              </a:custGeom>
              <a:noFill/>
              <a:ln w="381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7" name=""/>
            <p:cNvSpPr/>
            <p:nvPr/>
          </p:nvSpPr>
          <p:spPr>
            <a:xfrm>
              <a:off x="2601000" y="2633400"/>
              <a:ext cx="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1868040" y="2633400"/>
              <a:ext cx="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6991200" y="2633400"/>
              <a:ext cx="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7724520" y="2633400"/>
              <a:ext cx="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371" name=""/>
            <p:cNvGraphicFramePr/>
            <p:nvPr/>
          </p:nvGraphicFramePr>
          <p:xfrm>
            <a:off x="6845040" y="2853000"/>
            <a:ext cx="362520" cy="556920"/>
          </p:xfrm>
          <a:graphic>
            <a:graphicData uri="http://schemas.openxmlformats.org/presentationml/2006/ole">
              <p:oleObj r:id="rId12" spid="">
                <p:embed/>
                <p:pic>
                  <p:nvPicPr>
                    <p:cNvPr id="372" name="" descr=""/>
                    <p:cNvPicPr/>
                    <p:nvPr/>
                  </p:nvPicPr>
                  <p:blipFill>
                    <a:blip r:embed="rId13"/>
                    <a:stretch/>
                  </p:blipFill>
                  <p:spPr>
                    <a:xfrm>
                      <a:off x="6845040" y="2853000"/>
                      <a:ext cx="362520" cy="556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373" name=""/>
                <p:cNvSpPr txBox="1"/>
                <p:nvPr/>
              </p:nvSpPr>
              <p:spPr>
                <a:xfrm>
                  <a:off x="7532280" y="2897280"/>
                  <a:ext cx="362160" cy="252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r>
                        <m:t xml:space="preserve">π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74" name=""/>
                <p:cNvSpPr txBox="1"/>
                <p:nvPr/>
              </p:nvSpPr>
              <p:spPr>
                <a:xfrm>
                  <a:off x="2258280" y="2809800"/>
                  <a:ext cx="528480" cy="525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f>
                        <m:num>
                          <m:r>
                            <m:t xml:space="preserve">3</m:t>
                          </m:r>
                          <m:r>
                            <m:t xml:space="preserve">π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75" name=""/>
                <p:cNvSpPr txBox="1"/>
                <p:nvPr/>
              </p:nvSpPr>
              <p:spPr>
                <a:xfrm>
                  <a:off x="1698840" y="2853000"/>
                  <a:ext cx="365760" cy="294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2</m:t>
                      </m:r>
                      <m:r>
                        <m:t xml:space="preserve">π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76" name=""/>
            <p:cNvSpPr/>
            <p:nvPr/>
          </p:nvSpPr>
          <p:spPr>
            <a:xfrm>
              <a:off x="2601000" y="1315800"/>
              <a:ext cx="0" cy="2897280"/>
            </a:xfrm>
            <a:prstGeom prst="line">
              <a:avLst/>
            </a:prstGeom>
            <a:ln w="3168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91200" y="1272960"/>
              <a:ext cx="0" cy="2897280"/>
            </a:xfrm>
            <a:prstGeom prst="line">
              <a:avLst/>
            </a:prstGeom>
            <a:ln w="3168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8" name=""/>
            <p:cNvGrpSpPr/>
            <p:nvPr/>
          </p:nvGrpSpPr>
          <p:grpSpPr>
            <a:xfrm>
              <a:off x="3996360" y="-2889360"/>
              <a:ext cx="4654800" cy="11229480"/>
              <a:chOff x="3996360" y="-2889360"/>
              <a:chExt cx="4654800" cy="11229480"/>
            </a:xfrm>
          </p:grpSpPr>
          <p:sp>
            <p:nvSpPr>
              <p:cNvPr id="379" name=""/>
              <p:cNvSpPr/>
              <p:nvPr/>
            </p:nvSpPr>
            <p:spPr>
              <a:xfrm rot="5076600">
                <a:off x="2757600" y="-1275840"/>
                <a:ext cx="5677920" cy="2678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5548" y="1100"/>
                    </a:moveTo>
                    <a:arcTo wR="10800" hR="10800" stAng="-3835200" swAng="28408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5548" y="1100"/>
                    </a:moveTo>
                    <a:arcTo wR="10800" hR="10800" stAng="-3835200" swAng="2840850"/>
                  </a:path>
                </a:pathLst>
              </a:custGeom>
              <a:noFill/>
              <a:ln w="381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 rot="15838800">
                <a:off x="4128840" y="3977280"/>
                <a:ext cx="5677920" cy="2786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5548" y="1100"/>
                    </a:moveTo>
                    <a:arcTo wR="10800" hR="10800" stAng="-3835200" swAng="28408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5548" y="1100"/>
                    </a:moveTo>
                    <a:arcTo wR="10800" hR="10800" stAng="-3835200" swAng="2840850"/>
                  </a:path>
                </a:pathLst>
              </a:custGeom>
              <a:noFill/>
              <a:ln w="381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1" name=""/>
            <p:cNvGrpSpPr/>
            <p:nvPr/>
          </p:nvGrpSpPr>
          <p:grpSpPr>
            <a:xfrm>
              <a:off x="1070640" y="-2889720"/>
              <a:ext cx="4649760" cy="11230200"/>
              <a:chOff x="1070640" y="-2889720"/>
              <a:chExt cx="4649760" cy="11230200"/>
            </a:xfrm>
          </p:grpSpPr>
          <p:sp>
            <p:nvSpPr>
              <p:cNvPr id="382" name=""/>
              <p:cNvSpPr/>
              <p:nvPr/>
            </p:nvSpPr>
            <p:spPr>
              <a:xfrm rot="5076600">
                <a:off x="-169200" y="-1274760"/>
                <a:ext cx="5677920" cy="2675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5548" y="1100"/>
                    </a:moveTo>
                    <a:arcTo wR="10800" hR="10800" stAng="-3835200" swAng="28408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5548" y="1100"/>
                    </a:moveTo>
                    <a:arcTo wR="10800" hR="10800" stAng="-3835200" swAng="2840850"/>
                  </a:path>
                </a:pathLst>
              </a:custGeom>
              <a:noFill/>
              <a:ln w="381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 rot="15838800">
                <a:off x="1199880" y="3979800"/>
                <a:ext cx="5677920" cy="2782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5548" y="1100"/>
                    </a:moveTo>
                    <a:arcTo wR="10800" hR="10800" stAng="-3835200" swAng="28408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5548" y="1100"/>
                    </a:moveTo>
                    <a:arcTo wR="10800" hR="10800" stAng="-3835200" swAng="2840850"/>
                  </a:path>
                </a:pathLst>
              </a:custGeom>
              <a:noFill/>
              <a:ln w="381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4" name=""/>
            <p:cNvGrpSpPr/>
            <p:nvPr/>
          </p:nvGrpSpPr>
          <p:grpSpPr>
            <a:xfrm>
              <a:off x="-393120" y="-2890440"/>
              <a:ext cx="4610160" cy="11213280"/>
              <a:chOff x="-393120" y="-2890440"/>
              <a:chExt cx="4610160" cy="11213280"/>
            </a:xfrm>
          </p:grpSpPr>
          <p:sp>
            <p:nvSpPr>
              <p:cNvPr id="385" name=""/>
              <p:cNvSpPr/>
              <p:nvPr/>
            </p:nvSpPr>
            <p:spPr>
              <a:xfrm rot="5076600">
                <a:off x="-1633320" y="-1275480"/>
                <a:ext cx="5679360" cy="2676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5548" y="1100"/>
                    </a:moveTo>
                    <a:arcTo wR="10800" hR="10800" stAng="-3835200" swAng="28408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5548" y="1100"/>
                    </a:moveTo>
                    <a:arcTo wR="10800" hR="10800" stAng="-3835200" swAng="2840850"/>
                  </a:path>
                </a:pathLst>
              </a:custGeom>
              <a:noFill/>
              <a:ln w="381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 rot="15838800">
                <a:off x="-250920" y="4020480"/>
                <a:ext cx="5679360" cy="2675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342" y="5742"/>
                    </a:moveTo>
                    <a:arcTo wR="10800" hR="10800" stAng="-1675720" swAng="68137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342" y="5742"/>
                    </a:moveTo>
                    <a:arcTo wR="10800" hR="10800" stAng="-1675720" swAng="681370"/>
                  </a:path>
                </a:pathLst>
              </a:custGeom>
              <a:noFill/>
              <a:ln w="381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7" name=""/>
            <p:cNvGrpSpPr/>
            <p:nvPr/>
          </p:nvGrpSpPr>
          <p:grpSpPr>
            <a:xfrm>
              <a:off x="5411160" y="-2872440"/>
              <a:ext cx="4600800" cy="11208960"/>
              <a:chOff x="5411160" y="-2872440"/>
              <a:chExt cx="4600800" cy="11208960"/>
            </a:xfrm>
          </p:grpSpPr>
          <p:sp>
            <p:nvSpPr>
              <p:cNvPr id="388" name=""/>
              <p:cNvSpPr/>
              <p:nvPr/>
            </p:nvSpPr>
            <p:spPr>
              <a:xfrm rot="15838800">
                <a:off x="5543640" y="4033800"/>
                <a:ext cx="5679360" cy="2676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5548" y="1100"/>
                    </a:moveTo>
                    <a:arcTo wR="10800" hR="10800" stAng="-3835200" swAng="28408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5548" y="1100"/>
                    </a:moveTo>
                    <a:arcTo wR="10800" hR="10800" stAng="-3835200" swAng="2840850"/>
                  </a:path>
                </a:pathLst>
              </a:custGeom>
              <a:noFill/>
              <a:ln w="381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 rot="5076600">
                <a:off x="4171320" y="-1257840"/>
                <a:ext cx="5679360" cy="2677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117" y="5338"/>
                    </a:moveTo>
                    <a:arcTo wR="10800" hR="10800" stAng="-1822939" swAng="82859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117" y="5338"/>
                    </a:moveTo>
                    <a:arcTo wR="10800" hR="10800" stAng="-1822939" swAng="828590"/>
                  </a:path>
                </a:pathLst>
              </a:custGeom>
              <a:noFill/>
              <a:ln w="381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90" name=""/>
          <p:cNvSpPr/>
          <p:nvPr/>
        </p:nvSpPr>
        <p:spPr>
          <a:xfrm>
            <a:off x="1118880" y="4365720"/>
            <a:ext cx="26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50021"/>
                </a:solidFill>
                <a:latin typeface="Times New Roman"/>
              </a:rPr>
              <a:t>Нули функции: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1" name="" descr=""/>
          <p:cNvPicPr/>
          <p:nvPr/>
        </p:nvPicPr>
        <p:blipFill>
          <a:blip r:embed="rId14"/>
          <a:stretch/>
        </p:blipFill>
        <p:spPr>
          <a:xfrm>
            <a:off x="1763640" y="2637000"/>
            <a:ext cx="123840" cy="123840"/>
          </a:xfrm>
          <a:prstGeom prst="rect">
            <a:avLst/>
          </a:prstGeom>
          <a:ln w="0">
            <a:noFill/>
          </a:ln>
        </p:spPr>
      </p:pic>
      <p:pic>
        <p:nvPicPr>
          <p:cNvPr id="392" name="" descr=""/>
          <p:cNvPicPr/>
          <p:nvPr/>
        </p:nvPicPr>
        <p:blipFill>
          <a:blip r:embed="rId15"/>
          <a:stretch/>
        </p:blipFill>
        <p:spPr>
          <a:xfrm>
            <a:off x="3276720" y="2637000"/>
            <a:ext cx="123840" cy="123840"/>
          </a:xfrm>
          <a:prstGeom prst="rect">
            <a:avLst/>
          </a:prstGeom>
          <a:ln w="0">
            <a:noFill/>
          </a:ln>
        </p:spPr>
      </p:pic>
      <p:pic>
        <p:nvPicPr>
          <p:cNvPr id="393" name="" descr=""/>
          <p:cNvPicPr/>
          <p:nvPr/>
        </p:nvPicPr>
        <p:blipFill>
          <a:blip r:embed="rId16"/>
          <a:stretch/>
        </p:blipFill>
        <p:spPr>
          <a:xfrm>
            <a:off x="4716360" y="2637000"/>
            <a:ext cx="123840" cy="123840"/>
          </a:xfrm>
          <a:prstGeom prst="rect">
            <a:avLst/>
          </a:prstGeom>
          <a:ln w="0">
            <a:noFill/>
          </a:ln>
        </p:spPr>
      </p:pic>
      <p:pic>
        <p:nvPicPr>
          <p:cNvPr id="394" name="" descr=""/>
          <p:cNvPicPr/>
          <p:nvPr/>
        </p:nvPicPr>
        <p:blipFill>
          <a:blip r:embed="rId17"/>
          <a:stretch/>
        </p:blipFill>
        <p:spPr>
          <a:xfrm>
            <a:off x="6156360" y="2637000"/>
            <a:ext cx="123840" cy="123840"/>
          </a:xfrm>
          <a:prstGeom prst="rect">
            <a:avLst/>
          </a:prstGeom>
          <a:ln w="0">
            <a:noFill/>
          </a:ln>
        </p:spPr>
      </p:pic>
      <p:pic>
        <p:nvPicPr>
          <p:cNvPr id="395" name="" descr=""/>
          <p:cNvPicPr/>
          <p:nvPr/>
        </p:nvPicPr>
        <p:blipFill>
          <a:blip r:embed="rId18"/>
          <a:stretch/>
        </p:blipFill>
        <p:spPr>
          <a:xfrm>
            <a:off x="7596360" y="2637000"/>
            <a:ext cx="123480" cy="123840"/>
          </a:xfrm>
          <a:prstGeom prst="rect">
            <a:avLst/>
          </a:prstGeom>
          <a:ln w="0">
            <a:noFill/>
          </a:ln>
        </p:spPr>
      </p:pic>
      <p:sp>
        <p:nvSpPr>
          <p:cNvPr id="396" name=""/>
          <p:cNvSpPr/>
          <p:nvPr/>
        </p:nvSpPr>
        <p:spPr>
          <a:xfrm>
            <a:off x="3711960" y="4365720"/>
            <a:ext cx="391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g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х = 0   при  х =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π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є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826920" y="5013360"/>
            <a:ext cx="8151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a50021"/>
                </a:solidFill>
                <a:latin typeface="Times New Roman"/>
              </a:rPr>
              <a:t>у(х)</a:t>
            </a: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&gt;</a:t>
            </a:r>
            <a:r>
              <a:rPr b="0" lang="ru-RU" sz="3200" spc="-1" strike="noStrike">
                <a:solidFill>
                  <a:srgbClr val="a50021"/>
                </a:solidFill>
                <a:latin typeface="Times New Roman"/>
              </a:rPr>
              <a:t>0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при х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є (0;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2)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 при сдвиге на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"/>
                <a:ea typeface="Times New Roman"/>
              </a:rPr>
              <a:t>n</a:t>
            </a:r>
            <a:r>
              <a:rPr b="0" lang="ru-RU" sz="3200" spc="-1" strike="noStrike">
                <a:solidFill>
                  <a:srgbClr val="000000"/>
                </a:solidFill>
                <a:latin typeface=""/>
                <a:ea typeface="Times New Roman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ru-RU" sz="3200" spc="-1" strike="noStrike">
                <a:solidFill>
                  <a:srgbClr val="000000"/>
                </a:solidFill>
                <a:latin typeface=""/>
                <a:ea typeface="Times New Roman"/>
              </a:rPr>
              <a:t>є</a:t>
            </a:r>
            <a:r>
              <a:rPr b="0" lang="en-US" sz="3200" spc="-1" strike="noStrike">
                <a:solidFill>
                  <a:srgbClr val="000000"/>
                </a:solidFill>
                <a:latin typeface=""/>
                <a:ea typeface="Times New Roman"/>
              </a:rPr>
              <a:t>Z</a:t>
            </a:r>
            <a:r>
              <a:rPr b="0" lang="ru-RU" sz="3200" spc="-1" strike="noStrike">
                <a:solidFill>
                  <a:srgbClr val="000000"/>
                </a:solidFill>
                <a:latin typeface=""/>
                <a:ea typeface="Times New Roman"/>
              </a:rPr>
              <a:t>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785880" y="5661000"/>
            <a:ext cx="8358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a50021"/>
                </a:solidFill>
                <a:latin typeface="Times New Roman"/>
              </a:rPr>
              <a:t>у(х)</a:t>
            </a:r>
            <a:r>
              <a:rPr b="0" lang="en-US" sz="32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&lt;</a:t>
            </a:r>
            <a:r>
              <a:rPr b="0" lang="ru-RU" sz="3200" spc="-1" strike="noStrike">
                <a:solidFill>
                  <a:srgbClr val="a50021"/>
                </a:solidFill>
                <a:latin typeface="Times New Roman"/>
              </a:rPr>
              <a:t>0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при хє (-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π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/2; 0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 при сдвиге на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"/>
                <a:ea typeface="Times New Roman"/>
              </a:rPr>
              <a:t>n</a:t>
            </a:r>
            <a:r>
              <a:rPr b="0" lang="ru-RU" sz="3200" spc="-1" strike="noStrike">
                <a:solidFill>
                  <a:srgbClr val="000000"/>
                </a:solidFill>
                <a:latin typeface=""/>
                <a:ea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ru-RU" sz="3200" spc="-1" strike="noStrike">
                <a:solidFill>
                  <a:srgbClr val="000000"/>
                </a:solidFill>
                <a:latin typeface=""/>
                <a:ea typeface="Times New Roman"/>
              </a:rPr>
              <a:t>є</a:t>
            </a:r>
            <a:r>
              <a:rPr b="0" lang="en-US" sz="3200" spc="-1" strike="noStrike">
                <a:solidFill>
                  <a:srgbClr val="000000"/>
                </a:solidFill>
                <a:latin typeface=""/>
                <a:ea typeface="Times New Roman"/>
              </a:rPr>
              <a:t>Z</a:t>
            </a:r>
            <a:r>
              <a:rPr b="0" lang="ru-RU" sz="3200" spc="-1" strike="noStrike">
                <a:solidFill>
                  <a:srgbClr val="000000"/>
                </a:solidFill>
                <a:latin typeface=""/>
                <a:ea typeface="Times New Roman"/>
              </a:rPr>
              <a:t>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3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8" dur="1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7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2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2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7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71" dur="2000" fill="hold"/>
                                        <p:tgtEl>
                                          <p:spTgt spid="39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57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73" dur="2000" fill="hold"/>
                                        <p:tgtEl>
                                          <p:spTgt spid="39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57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75" dur="2000" fill="hold"/>
                                        <p:tgtEl>
                                          <p:spTgt spid="39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576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77" dur="2000" fill="hold"/>
                                        <p:tgtEl>
                                          <p:spTgt spid="39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578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79" dur="2000" fill="hold"/>
                                        <p:tgtEl>
                                          <p:spTgt spid="39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4" dur="80"/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9,119,1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5" dur="80"/>
                                        <p:tgtEl>
                                          <p:spTgt spid="3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9,119,1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6" dur="80"/>
                                        <p:tgtEl>
                                          <p:spTgt spid="3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1" dur="80"/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2" dur="80"/>
                                        <p:tgtEl>
                                          <p:spTgt spid="3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3" dur="80"/>
                                        <p:tgtEl>
                                          <p:spTgt spid="3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8" dur="80"/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9" dur="80"/>
                                        <p:tgtEl>
                                          <p:spTgt spid="3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0" dur="80"/>
                                        <p:tgtEl>
                                          <p:spTgt spid="3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cd1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0" y="4437000"/>
            <a:ext cx="971640" cy="2421000"/>
          </a:xfrm>
          <a:prstGeom prst="rect">
            <a:avLst/>
          </a:prstGeom>
          <a:solidFill>
            <a:srgbClr val="bcd1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0" name=""/>
          <p:cNvGrpSpPr/>
          <p:nvPr/>
        </p:nvGrpSpPr>
        <p:grpSpPr>
          <a:xfrm>
            <a:off x="-473760" y="-4105800"/>
            <a:ext cx="10627560" cy="13537800"/>
            <a:chOff x="-473760" y="-4105800"/>
            <a:chExt cx="10627560" cy="13537800"/>
          </a:xfrm>
        </p:grpSpPr>
        <p:sp>
          <p:nvSpPr>
            <p:cNvPr id="401" name=""/>
            <p:cNvSpPr/>
            <p:nvPr/>
          </p:nvSpPr>
          <p:spPr>
            <a:xfrm>
              <a:off x="1698480" y="801720"/>
              <a:ext cx="1000440" cy="3714840"/>
            </a:xfrm>
            <a:prstGeom prst="rect">
              <a:avLst/>
            </a:prstGeom>
            <a:solidFill>
              <a:srgbClr val="bcd1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2" name=""/>
            <p:cNvGrpSpPr/>
            <p:nvPr/>
          </p:nvGrpSpPr>
          <p:grpSpPr>
            <a:xfrm>
              <a:off x="1698480" y="801720"/>
              <a:ext cx="6196320" cy="3714840"/>
              <a:chOff x="1698480" y="801720"/>
              <a:chExt cx="6196320" cy="3714840"/>
            </a:xfrm>
          </p:grpSpPr>
          <p:grpSp>
            <p:nvGrpSpPr>
              <p:cNvPr id="403" name=""/>
              <p:cNvGrpSpPr/>
              <p:nvPr/>
            </p:nvGrpSpPr>
            <p:grpSpPr>
              <a:xfrm>
                <a:off x="1698480" y="801720"/>
                <a:ext cx="6196320" cy="3714840"/>
                <a:chOff x="1698480" y="801720"/>
                <a:chExt cx="6196320" cy="3714840"/>
              </a:xfrm>
            </p:grpSpPr>
            <p:sp>
              <p:nvSpPr>
                <p:cNvPr id="404" name=""/>
                <p:cNvSpPr/>
                <p:nvPr/>
              </p:nvSpPr>
              <p:spPr>
                <a:xfrm>
                  <a:off x="1698480" y="1863000"/>
                  <a:ext cx="6074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>
                  <a:off x="5528160" y="855360"/>
                  <a:ext cx="0" cy="3660840"/>
                </a:xfrm>
                <a:prstGeom prst="line">
                  <a:avLst/>
                </a:prstGeom>
                <a:ln w="12600">
                  <a:solidFill>
                    <a:srgbClr val="660066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>
                  <a:off x="6016680" y="908280"/>
                  <a:ext cx="0" cy="3607920"/>
                </a:xfrm>
                <a:prstGeom prst="line">
                  <a:avLst/>
                </a:prstGeom>
                <a:ln w="12600">
                  <a:solidFill>
                    <a:srgbClr val="660066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>
                  <a:off x="5772240" y="855360"/>
                  <a:ext cx="0" cy="3660840"/>
                </a:xfrm>
                <a:prstGeom prst="line">
                  <a:avLst/>
                </a:prstGeom>
                <a:ln w="12600">
                  <a:solidFill>
                    <a:srgbClr val="660066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>
                  <a:off x="6260760" y="855360"/>
                  <a:ext cx="0" cy="3660840"/>
                </a:xfrm>
                <a:prstGeom prst="line">
                  <a:avLst/>
                </a:prstGeom>
                <a:ln w="12600">
                  <a:solidFill>
                    <a:srgbClr val="660066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>
                  <a:off x="5284800" y="855360"/>
                  <a:ext cx="0" cy="3660840"/>
                </a:xfrm>
                <a:prstGeom prst="line">
                  <a:avLst/>
                </a:prstGeom>
                <a:ln w="12600">
                  <a:solidFill>
                    <a:srgbClr val="660066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>
                  <a:off x="5040720" y="855360"/>
                  <a:ext cx="0" cy="3660840"/>
                </a:xfrm>
                <a:prstGeom prst="line">
                  <a:avLst/>
                </a:prstGeom>
                <a:ln w="12600">
                  <a:solidFill>
                    <a:srgbClr val="660066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>
                  <a:off x="4552200" y="855360"/>
                  <a:ext cx="0" cy="3660840"/>
                </a:xfrm>
                <a:prstGeom prst="line">
                  <a:avLst/>
                </a:prstGeom>
                <a:ln w="12600">
                  <a:solidFill>
                    <a:srgbClr val="660066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2" name=""/>
                <p:cNvSpPr/>
                <p:nvPr/>
              </p:nvSpPr>
              <p:spPr>
                <a:xfrm>
                  <a:off x="4308120" y="960840"/>
                  <a:ext cx="0" cy="3555720"/>
                </a:xfrm>
                <a:prstGeom prst="line">
                  <a:avLst/>
                </a:prstGeom>
                <a:ln w="12600">
                  <a:solidFill>
                    <a:srgbClr val="660066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>
                  <a:off x="4064760" y="908280"/>
                  <a:ext cx="0" cy="3607920"/>
                </a:xfrm>
                <a:prstGeom prst="line">
                  <a:avLst/>
                </a:prstGeom>
                <a:ln w="12600">
                  <a:solidFill>
                    <a:srgbClr val="660066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>
                  <a:off x="3820680" y="960840"/>
                  <a:ext cx="0" cy="3555720"/>
                </a:xfrm>
                <a:prstGeom prst="line">
                  <a:avLst/>
                </a:prstGeom>
                <a:ln w="12600">
                  <a:solidFill>
                    <a:srgbClr val="660066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5" name=""/>
                <p:cNvSpPr/>
                <p:nvPr/>
              </p:nvSpPr>
              <p:spPr>
                <a:xfrm>
                  <a:off x="1698480" y="2925360"/>
                  <a:ext cx="6074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6" name=""/>
                <p:cNvSpPr/>
                <p:nvPr/>
              </p:nvSpPr>
              <p:spPr>
                <a:xfrm>
                  <a:off x="1698480" y="2128320"/>
                  <a:ext cx="61963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>
                  <a:off x="1698480" y="2394000"/>
                  <a:ext cx="61963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>
                  <a:off x="1698480" y="1598400"/>
                  <a:ext cx="61963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9" name=""/>
                <p:cNvSpPr/>
                <p:nvPr/>
              </p:nvSpPr>
              <p:spPr>
                <a:xfrm>
                  <a:off x="3576600" y="908280"/>
                  <a:ext cx="0" cy="3607920"/>
                </a:xfrm>
                <a:prstGeom prst="line">
                  <a:avLst/>
                </a:prstGeom>
                <a:ln w="12600">
                  <a:solidFill>
                    <a:srgbClr val="660066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>
                  <a:off x="1698480" y="3455280"/>
                  <a:ext cx="6123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1" name=""/>
                <p:cNvSpPr/>
                <p:nvPr/>
              </p:nvSpPr>
              <p:spPr>
                <a:xfrm>
                  <a:off x="1698480" y="1067040"/>
                  <a:ext cx="61963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2" name=""/>
                <p:cNvSpPr/>
                <p:nvPr/>
              </p:nvSpPr>
              <p:spPr>
                <a:xfrm>
                  <a:off x="1698480" y="1332720"/>
                  <a:ext cx="61963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>
                  <a:off x="1698480" y="3720960"/>
                  <a:ext cx="61963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4" name=""/>
                <p:cNvSpPr/>
                <p:nvPr/>
              </p:nvSpPr>
              <p:spPr>
                <a:xfrm>
                  <a:off x="1698480" y="3189960"/>
                  <a:ext cx="6123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5" name=""/>
                <p:cNvSpPr/>
                <p:nvPr/>
              </p:nvSpPr>
              <p:spPr>
                <a:xfrm>
                  <a:off x="1698480" y="4252320"/>
                  <a:ext cx="61963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6" name=""/>
                <p:cNvSpPr/>
                <p:nvPr/>
              </p:nvSpPr>
              <p:spPr>
                <a:xfrm>
                  <a:off x="1698480" y="3986640"/>
                  <a:ext cx="61963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7" name=""/>
                <p:cNvSpPr/>
                <p:nvPr/>
              </p:nvSpPr>
              <p:spPr>
                <a:xfrm>
                  <a:off x="3332160" y="960840"/>
                  <a:ext cx="0" cy="3555720"/>
                </a:xfrm>
                <a:prstGeom prst="line">
                  <a:avLst/>
                </a:prstGeom>
                <a:ln w="12600">
                  <a:solidFill>
                    <a:srgbClr val="660066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8" name=""/>
                <p:cNvSpPr/>
                <p:nvPr/>
              </p:nvSpPr>
              <p:spPr>
                <a:xfrm>
                  <a:off x="7236360" y="855360"/>
                  <a:ext cx="0" cy="3660840"/>
                </a:xfrm>
                <a:prstGeom prst="line">
                  <a:avLst/>
                </a:prstGeom>
                <a:ln w="12600">
                  <a:solidFill>
                    <a:srgbClr val="660066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9" name=""/>
                <p:cNvSpPr/>
                <p:nvPr/>
              </p:nvSpPr>
              <p:spPr>
                <a:xfrm>
                  <a:off x="6747840" y="855360"/>
                  <a:ext cx="0" cy="3660840"/>
                </a:xfrm>
                <a:prstGeom prst="line">
                  <a:avLst/>
                </a:prstGeom>
                <a:ln w="12600">
                  <a:solidFill>
                    <a:srgbClr val="660066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0" name=""/>
                <p:cNvSpPr/>
                <p:nvPr/>
              </p:nvSpPr>
              <p:spPr>
                <a:xfrm>
                  <a:off x="6992280" y="801720"/>
                  <a:ext cx="0" cy="3660840"/>
                </a:xfrm>
                <a:prstGeom prst="line">
                  <a:avLst/>
                </a:prstGeom>
                <a:ln w="12600">
                  <a:solidFill>
                    <a:srgbClr val="660066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1" name=""/>
                <p:cNvSpPr/>
                <p:nvPr/>
              </p:nvSpPr>
              <p:spPr>
                <a:xfrm>
                  <a:off x="6504840" y="855360"/>
                  <a:ext cx="0" cy="3660840"/>
                </a:xfrm>
                <a:prstGeom prst="line">
                  <a:avLst/>
                </a:prstGeom>
                <a:ln w="12600">
                  <a:solidFill>
                    <a:srgbClr val="660066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2" name=""/>
                <p:cNvSpPr/>
                <p:nvPr/>
              </p:nvSpPr>
              <p:spPr>
                <a:xfrm>
                  <a:off x="7480440" y="855360"/>
                  <a:ext cx="0" cy="3660840"/>
                </a:xfrm>
                <a:prstGeom prst="line">
                  <a:avLst/>
                </a:prstGeom>
                <a:ln w="12600">
                  <a:solidFill>
                    <a:srgbClr val="660066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3" name=""/>
                <p:cNvSpPr/>
                <p:nvPr/>
              </p:nvSpPr>
              <p:spPr>
                <a:xfrm>
                  <a:off x="7724520" y="855360"/>
                  <a:ext cx="0" cy="3660840"/>
                </a:xfrm>
                <a:prstGeom prst="line">
                  <a:avLst/>
                </a:prstGeom>
                <a:ln w="12600">
                  <a:solidFill>
                    <a:srgbClr val="660066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>
                  <a:off x="1868400" y="855360"/>
                  <a:ext cx="0" cy="3660840"/>
                </a:xfrm>
                <a:prstGeom prst="line">
                  <a:avLst/>
                </a:prstGeom>
                <a:ln w="12600">
                  <a:solidFill>
                    <a:srgbClr val="660066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>
                  <a:off x="2845080" y="960840"/>
                  <a:ext cx="0" cy="3555720"/>
                </a:xfrm>
                <a:prstGeom prst="line">
                  <a:avLst/>
                </a:prstGeom>
                <a:ln w="12600">
                  <a:solidFill>
                    <a:srgbClr val="660066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6" name=""/>
                <p:cNvSpPr/>
                <p:nvPr/>
              </p:nvSpPr>
              <p:spPr>
                <a:xfrm>
                  <a:off x="2601000" y="908280"/>
                  <a:ext cx="0" cy="3607920"/>
                </a:xfrm>
                <a:prstGeom prst="line">
                  <a:avLst/>
                </a:prstGeom>
                <a:ln w="12600">
                  <a:solidFill>
                    <a:srgbClr val="660066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7" name=""/>
                <p:cNvSpPr/>
                <p:nvPr/>
              </p:nvSpPr>
              <p:spPr>
                <a:xfrm>
                  <a:off x="2356560" y="960840"/>
                  <a:ext cx="0" cy="3555720"/>
                </a:xfrm>
                <a:prstGeom prst="line">
                  <a:avLst/>
                </a:prstGeom>
                <a:ln w="12600">
                  <a:solidFill>
                    <a:srgbClr val="660066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8" name=""/>
                <p:cNvSpPr/>
                <p:nvPr/>
              </p:nvSpPr>
              <p:spPr>
                <a:xfrm>
                  <a:off x="3088080" y="908280"/>
                  <a:ext cx="0" cy="3607920"/>
                </a:xfrm>
                <a:prstGeom prst="line">
                  <a:avLst/>
                </a:prstGeom>
                <a:ln w="12600">
                  <a:solidFill>
                    <a:srgbClr val="660066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9" name=""/>
                <p:cNvSpPr/>
                <p:nvPr/>
              </p:nvSpPr>
              <p:spPr>
                <a:xfrm>
                  <a:off x="2112480" y="960840"/>
                  <a:ext cx="0" cy="3555720"/>
                </a:xfrm>
                <a:prstGeom prst="line">
                  <a:avLst/>
                </a:prstGeom>
                <a:ln w="12600">
                  <a:solidFill>
                    <a:srgbClr val="660066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0" name=""/>
                <p:cNvSpPr/>
                <p:nvPr/>
              </p:nvSpPr>
              <p:spPr>
                <a:xfrm>
                  <a:off x="1698480" y="2659680"/>
                  <a:ext cx="61963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41" name=""/>
              <p:cNvSpPr/>
              <p:nvPr/>
            </p:nvSpPr>
            <p:spPr>
              <a:xfrm>
                <a:off x="4796640" y="908280"/>
                <a:ext cx="0" cy="355572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2" name=""/>
            <p:cNvSpPr/>
            <p:nvPr/>
          </p:nvSpPr>
          <p:spPr>
            <a:xfrm flipV="1">
              <a:off x="4797360" y="801360"/>
              <a:ext cx="0" cy="3714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1771560" y="2658960"/>
              <a:ext cx="6123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4502160" y="728640"/>
              <a:ext cx="22536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473960" y="2254320"/>
              <a:ext cx="32688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284720" y="1773360"/>
              <a:ext cx="520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572000" y="2997360"/>
              <a:ext cx="59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448" name=""/>
            <p:cNvGraphicFramePr/>
            <p:nvPr/>
          </p:nvGraphicFramePr>
          <p:xfrm>
            <a:off x="6014880" y="2871720"/>
            <a:ext cx="290520" cy="3366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4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014880" y="2871720"/>
                      <a:ext cx="290520" cy="336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50" name=""/>
            <p:cNvGraphicFramePr/>
            <p:nvPr/>
          </p:nvGraphicFramePr>
          <p:xfrm>
            <a:off x="4454640" y="2287440"/>
            <a:ext cx="237960" cy="3924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5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454640" y="2287440"/>
                      <a:ext cx="237960" cy="392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52" name=""/>
            <p:cNvGraphicFramePr/>
            <p:nvPr/>
          </p:nvGraphicFramePr>
          <p:xfrm>
            <a:off x="3038400" y="2817720"/>
            <a:ext cx="362160" cy="3366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45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038400" y="2817720"/>
                      <a:ext cx="362160" cy="336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54" name=""/>
            <p:cNvGraphicFramePr/>
            <p:nvPr/>
          </p:nvGraphicFramePr>
          <p:xfrm>
            <a:off x="5332320" y="2766960"/>
            <a:ext cx="360360" cy="7286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45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5332320" y="2766960"/>
                      <a:ext cx="360360" cy="728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56" name=""/>
            <p:cNvGraphicFramePr/>
            <p:nvPr/>
          </p:nvGraphicFramePr>
          <p:xfrm>
            <a:off x="3819600" y="2766960"/>
            <a:ext cx="309600" cy="72864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45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3819600" y="2766960"/>
                      <a:ext cx="309600" cy="728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58" name=""/>
            <p:cNvSpPr/>
            <p:nvPr/>
          </p:nvSpPr>
          <p:spPr>
            <a:xfrm>
              <a:off x="4064040" y="2552760"/>
              <a:ext cx="0" cy="222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4697280" y="3189240"/>
              <a:ext cx="2080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4697280" y="2128680"/>
              <a:ext cx="2080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5529240" y="2552760"/>
              <a:ext cx="0" cy="168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6259680" y="2552760"/>
              <a:ext cx="0" cy="168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3332160" y="2552760"/>
              <a:ext cx="0" cy="214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5529240" y="909720"/>
              <a:ext cx="0" cy="3500280"/>
            </a:xfrm>
            <a:prstGeom prst="line">
              <a:avLst/>
            </a:prstGeom>
            <a:ln w="3168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064040" y="961920"/>
              <a:ext cx="0" cy="3500640"/>
            </a:xfrm>
            <a:prstGeom prst="line">
              <a:avLst/>
            </a:prstGeom>
            <a:ln w="3168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6" name=""/>
            <p:cNvGrpSpPr/>
            <p:nvPr/>
          </p:nvGrpSpPr>
          <p:grpSpPr>
            <a:xfrm>
              <a:off x="2451240" y="-4105800"/>
              <a:ext cx="4825800" cy="13537800"/>
              <a:chOff x="2451240" y="-4105800"/>
              <a:chExt cx="4825800" cy="13537800"/>
            </a:xfrm>
          </p:grpSpPr>
          <p:sp>
            <p:nvSpPr>
              <p:cNvPr id="467" name=""/>
              <p:cNvSpPr/>
              <p:nvPr/>
            </p:nvSpPr>
            <p:spPr>
              <a:xfrm rot="5076600">
                <a:off x="676440" y="-1903320"/>
                <a:ext cx="6860160" cy="2676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5548" y="1100"/>
                    </a:moveTo>
                    <a:arcTo wR="10800" hR="10800" stAng="-3835200" swAng="28408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5548" y="1100"/>
                    </a:moveTo>
                    <a:arcTo wR="10800" hR="10800" stAng="-3835200" swAng="2840850"/>
                  </a:path>
                </a:pathLst>
              </a:custGeom>
              <a:noFill/>
              <a:ln w="381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 rot="15838800">
                <a:off x="2102760" y="4482360"/>
                <a:ext cx="6860160" cy="2784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5548" y="1100"/>
                    </a:moveTo>
                    <a:arcTo wR="10800" hR="10800" stAng="-3835200" swAng="28408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5548" y="1100"/>
                    </a:moveTo>
                    <a:arcTo wR="10800" hR="10800" stAng="-3835200" swAng="2840850"/>
                  </a:path>
                </a:pathLst>
              </a:custGeom>
              <a:noFill/>
              <a:ln w="381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9" name=""/>
            <p:cNvSpPr/>
            <p:nvPr/>
          </p:nvSpPr>
          <p:spPr>
            <a:xfrm>
              <a:off x="2602080" y="2552760"/>
              <a:ext cx="0" cy="214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868400" y="2552760"/>
              <a:ext cx="0" cy="214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6991200" y="2552760"/>
              <a:ext cx="0" cy="214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7724880" y="2552760"/>
              <a:ext cx="0" cy="214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473" name=""/>
            <p:cNvGraphicFramePr/>
            <p:nvPr/>
          </p:nvGraphicFramePr>
          <p:xfrm>
            <a:off x="6845400" y="2817720"/>
            <a:ext cx="361800" cy="67320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474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6845400" y="2817720"/>
                      <a:ext cx="361800" cy="673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475" name=""/>
                <p:cNvSpPr txBox="1"/>
                <p:nvPr/>
              </p:nvSpPr>
              <p:spPr>
                <a:xfrm>
                  <a:off x="7532640" y="2871720"/>
                  <a:ext cx="362160" cy="304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r>
                        <m:t xml:space="preserve">π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76" name=""/>
                <p:cNvSpPr txBox="1"/>
                <p:nvPr/>
              </p:nvSpPr>
              <p:spPr>
                <a:xfrm>
                  <a:off x="2259000" y="2766960"/>
                  <a:ext cx="528480" cy="635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f>
                        <m:num>
                          <m:r>
                            <m:t xml:space="preserve">3</m:t>
                          </m:r>
                          <m:r>
                            <m:t xml:space="preserve">π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77" name=""/>
                <p:cNvSpPr txBox="1"/>
                <p:nvPr/>
              </p:nvSpPr>
              <p:spPr>
                <a:xfrm>
                  <a:off x="1698480" y="2817720"/>
                  <a:ext cx="366840" cy="357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2</m:t>
                      </m:r>
                      <m:r>
                        <m:t xml:space="preserve">π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78" name=""/>
            <p:cNvSpPr/>
            <p:nvPr/>
          </p:nvSpPr>
          <p:spPr>
            <a:xfrm>
              <a:off x="2602080" y="961920"/>
              <a:ext cx="0" cy="3500640"/>
            </a:xfrm>
            <a:prstGeom prst="line">
              <a:avLst/>
            </a:prstGeom>
            <a:ln w="3168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6991200" y="909720"/>
              <a:ext cx="0" cy="3500280"/>
            </a:xfrm>
            <a:prstGeom prst="line">
              <a:avLst/>
            </a:prstGeom>
            <a:ln w="3168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0" name=""/>
            <p:cNvGrpSpPr/>
            <p:nvPr/>
          </p:nvGrpSpPr>
          <p:grpSpPr>
            <a:xfrm>
              <a:off x="3912840" y="-4105080"/>
              <a:ext cx="4831200" cy="13537080"/>
              <a:chOff x="3912840" y="-4105080"/>
              <a:chExt cx="4831200" cy="13537080"/>
            </a:xfrm>
          </p:grpSpPr>
          <p:sp>
            <p:nvSpPr>
              <p:cNvPr id="481" name=""/>
              <p:cNvSpPr/>
              <p:nvPr/>
            </p:nvSpPr>
            <p:spPr>
              <a:xfrm rot="5076600">
                <a:off x="2139840" y="-1904400"/>
                <a:ext cx="6860160" cy="2680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5548" y="1100"/>
                    </a:moveTo>
                    <a:arcTo wR="10800" hR="10800" stAng="-3835200" swAng="28408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5548" y="1100"/>
                    </a:moveTo>
                    <a:arcTo wR="10800" hR="10800" stAng="-3835200" swAng="2840850"/>
                  </a:path>
                </a:pathLst>
              </a:custGeom>
              <a:noFill/>
              <a:ln w="381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rot="15838800">
                <a:off x="3567600" y="4480200"/>
                <a:ext cx="6860160" cy="2788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5548" y="1100"/>
                    </a:moveTo>
                    <a:arcTo wR="10800" hR="10800" stAng="-3835200" swAng="28408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5548" y="1100"/>
                    </a:moveTo>
                    <a:arcTo wR="10800" hR="10800" stAng="-3835200" swAng="2840850"/>
                  </a:path>
                </a:pathLst>
              </a:custGeom>
              <a:noFill/>
              <a:ln w="381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3" name=""/>
            <p:cNvGrpSpPr/>
            <p:nvPr/>
          </p:nvGrpSpPr>
          <p:grpSpPr>
            <a:xfrm>
              <a:off x="986760" y="-4105800"/>
              <a:ext cx="4827240" cy="13537800"/>
              <a:chOff x="986760" y="-4105800"/>
              <a:chExt cx="4827240" cy="13537800"/>
            </a:xfrm>
          </p:grpSpPr>
          <p:sp>
            <p:nvSpPr>
              <p:cNvPr id="484" name=""/>
              <p:cNvSpPr/>
              <p:nvPr/>
            </p:nvSpPr>
            <p:spPr>
              <a:xfrm rot="5076600">
                <a:off x="-787320" y="-1903680"/>
                <a:ext cx="6860160" cy="26776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5548" y="1100"/>
                    </a:moveTo>
                    <a:arcTo wR="10800" hR="10800" stAng="-3835200" swAng="28408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5548" y="1100"/>
                    </a:moveTo>
                    <a:arcTo wR="10800" hR="10800" stAng="-3835200" swAng="2840850"/>
                  </a:path>
                </a:pathLst>
              </a:custGeom>
              <a:noFill/>
              <a:ln w="381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 rot="15838800">
                <a:off x="639360" y="4482000"/>
                <a:ext cx="6860160" cy="2784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5548" y="1100"/>
                    </a:moveTo>
                    <a:arcTo wR="10800" hR="10800" stAng="-3835200" swAng="28408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5548" y="1100"/>
                    </a:moveTo>
                    <a:arcTo wR="10800" hR="10800" stAng="-3835200" swAng="2840850"/>
                  </a:path>
                </a:pathLst>
              </a:custGeom>
              <a:noFill/>
              <a:ln w="381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6" name=""/>
            <p:cNvGrpSpPr/>
            <p:nvPr/>
          </p:nvGrpSpPr>
          <p:grpSpPr>
            <a:xfrm>
              <a:off x="-473760" y="-4105440"/>
              <a:ext cx="4781520" cy="13509360"/>
              <a:chOff x="-473760" y="-4105440"/>
              <a:chExt cx="4781520" cy="13509360"/>
            </a:xfrm>
          </p:grpSpPr>
          <p:sp>
            <p:nvSpPr>
              <p:cNvPr id="487" name=""/>
              <p:cNvSpPr/>
              <p:nvPr/>
            </p:nvSpPr>
            <p:spPr>
              <a:xfrm rot="5076600">
                <a:off x="-2249640" y="-1901880"/>
                <a:ext cx="6860880" cy="2675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5548" y="1100"/>
                    </a:moveTo>
                    <a:arcTo wR="10800" hR="10800" stAng="-3835200" swAng="28408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5548" y="1100"/>
                    </a:moveTo>
                    <a:arcTo wR="10800" hR="10800" stAng="-3835200" swAng="2840850"/>
                  </a:path>
                </a:pathLst>
              </a:custGeom>
              <a:noFill/>
              <a:ln w="381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 rot="15838800">
                <a:off x="-811800" y="4515120"/>
                <a:ext cx="6860880" cy="2674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342" y="5742"/>
                    </a:moveTo>
                    <a:arcTo wR="10800" hR="10800" stAng="-1675720" swAng="68137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342" y="5742"/>
                    </a:moveTo>
                    <a:arcTo wR="10800" hR="10800" stAng="-1675720" swAng="681370"/>
                  </a:path>
                </a:pathLst>
              </a:custGeom>
              <a:noFill/>
              <a:ln w="381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9" name=""/>
            <p:cNvGrpSpPr/>
            <p:nvPr/>
          </p:nvGrpSpPr>
          <p:grpSpPr>
            <a:xfrm>
              <a:off x="5380920" y="-4105440"/>
              <a:ext cx="4772880" cy="13506480"/>
              <a:chOff x="5380920" y="-4105440"/>
              <a:chExt cx="4772880" cy="13506480"/>
            </a:xfrm>
          </p:grpSpPr>
          <p:sp>
            <p:nvSpPr>
              <p:cNvPr id="490" name=""/>
              <p:cNvSpPr/>
              <p:nvPr/>
            </p:nvSpPr>
            <p:spPr>
              <a:xfrm rot="15838800">
                <a:off x="5032800" y="4511160"/>
                <a:ext cx="6861600" cy="2675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5548" y="1100"/>
                    </a:moveTo>
                    <a:arcTo wR="10800" hR="10800" stAng="-3835200" swAng="28408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5548" y="1100"/>
                    </a:moveTo>
                    <a:arcTo wR="10800" hR="10800" stAng="-3835200" swAng="2840850"/>
                  </a:path>
                </a:pathLst>
              </a:custGeom>
              <a:noFill/>
              <a:ln w="381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 rot="5076600">
                <a:off x="3605400" y="-1902240"/>
                <a:ext cx="6861600" cy="2677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117" y="5338"/>
                    </a:moveTo>
                    <a:arcTo wR="10800" hR="10800" stAng="-1822939" swAng="82859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117" y="5338"/>
                    </a:moveTo>
                    <a:arcTo wR="10800" hR="10800" stAng="-1822939" swAng="828590"/>
                  </a:path>
                </a:pathLst>
              </a:custGeom>
              <a:noFill/>
              <a:ln w="381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258920" y="0"/>
            <a:ext cx="7772400" cy="836640"/>
          </a:xfrm>
          <a:prstGeom prst="rect">
            <a:avLst/>
          </a:prstGeom>
          <a:solidFill>
            <a:srgbClr val="bcd1dc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660066"/>
                </a:solidFill>
                <a:latin typeface="Arial"/>
              </a:rPr>
              <a:t>Свойства функции </a:t>
            </a:r>
            <a:r>
              <a:rPr b="0" i="1" lang="en-US" sz="4000" spc="-1" strike="noStrike">
                <a:solidFill>
                  <a:srgbClr val="660066"/>
                </a:solidFill>
                <a:latin typeface="Arial"/>
              </a:rPr>
              <a:t>y=</a:t>
            </a:r>
            <a:r>
              <a:rPr b="0" i="1" lang="en-US" sz="4000" spc="-1" strike="noStrike">
                <a:solidFill>
                  <a:srgbClr val="660066"/>
                </a:solidFill>
                <a:latin typeface="Arial"/>
                <a:ea typeface="Arial"/>
              </a:rPr>
              <a:t>tg</a:t>
            </a:r>
            <a:r>
              <a:rPr b="0" i="1" lang="ru-RU" sz="4000" spc="-1" strike="noStrike">
                <a:solidFill>
                  <a:srgbClr val="660066"/>
                </a:solidFill>
                <a:latin typeface="Arial"/>
                <a:ea typeface="Arial"/>
              </a:rPr>
              <a:t> </a:t>
            </a:r>
            <a:r>
              <a:rPr b="0" i="1" lang="en-US" sz="4000" spc="-1" strike="noStrike">
                <a:solidFill>
                  <a:srgbClr val="660066"/>
                </a:solidFill>
                <a:latin typeface="Arial"/>
              </a:rPr>
              <a:t>x</a:t>
            </a:r>
            <a:r>
              <a:rPr b="0" i="1" lang="ru-RU" sz="4000" spc="-1" strike="noStrike">
                <a:solidFill>
                  <a:srgbClr val="660066"/>
                </a:solidFill>
                <a:latin typeface="Arial"/>
              </a:rPr>
              <a:t>.</a:t>
            </a:r>
            <a:r>
              <a:rPr b="0" i="1" lang="ru-RU" sz="4400" spc="-1" strike="noStrike">
                <a:solidFill>
                  <a:srgbClr val="660066"/>
                </a:solidFill>
                <a:latin typeface="Arial"/>
              </a:rPr>
              <a:t> </a:t>
            </a:r>
            <a:endParaRPr b="0" i="1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493" name="" descr=""/>
          <p:cNvPicPr/>
          <p:nvPr/>
        </p:nvPicPr>
        <p:blipFill>
          <a:blip r:embed="rId13"/>
          <a:stretch/>
        </p:blipFill>
        <p:spPr>
          <a:xfrm>
            <a:off x="900000" y="765000"/>
            <a:ext cx="8066160" cy="100080"/>
          </a:xfrm>
          <a:prstGeom prst="rect">
            <a:avLst/>
          </a:prstGeom>
          <a:ln w="0">
            <a:noFill/>
          </a:ln>
        </p:spPr>
      </p:pic>
      <p:sp>
        <p:nvSpPr>
          <p:cNvPr id="494" name=""/>
          <p:cNvSpPr/>
          <p:nvPr/>
        </p:nvSpPr>
        <p:spPr>
          <a:xfrm>
            <a:off x="1188360" y="907920"/>
            <a:ext cx="11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=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tg</a:t>
            </a:r>
            <a:r>
              <a:rPr b="0" lang="ru-RU" sz="28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5" name="" descr=""/>
          <p:cNvPicPr/>
          <p:nvPr/>
        </p:nvPicPr>
        <p:blipFill>
          <a:blip r:embed="rId14"/>
          <a:stretch/>
        </p:blipFill>
        <p:spPr>
          <a:xfrm>
            <a:off x="6948360" y="2565360"/>
            <a:ext cx="123840" cy="123840"/>
          </a:xfrm>
          <a:prstGeom prst="rect">
            <a:avLst/>
          </a:prstGeom>
          <a:ln w="0">
            <a:noFill/>
          </a:ln>
        </p:spPr>
      </p:pic>
      <p:pic>
        <p:nvPicPr>
          <p:cNvPr id="496" name="" descr=""/>
          <p:cNvPicPr/>
          <p:nvPr/>
        </p:nvPicPr>
        <p:blipFill>
          <a:blip r:embed="rId15"/>
          <a:stretch/>
        </p:blipFill>
        <p:spPr>
          <a:xfrm>
            <a:off x="5435640" y="2565360"/>
            <a:ext cx="123840" cy="123840"/>
          </a:xfrm>
          <a:prstGeom prst="rect">
            <a:avLst/>
          </a:prstGeom>
          <a:ln w="0">
            <a:noFill/>
          </a:ln>
        </p:spPr>
      </p:pic>
      <p:pic>
        <p:nvPicPr>
          <p:cNvPr id="497" name="" descr=""/>
          <p:cNvPicPr/>
          <p:nvPr/>
        </p:nvPicPr>
        <p:blipFill>
          <a:blip r:embed="rId16"/>
          <a:stretch/>
        </p:blipFill>
        <p:spPr>
          <a:xfrm>
            <a:off x="3995640" y="2565360"/>
            <a:ext cx="123840" cy="123840"/>
          </a:xfrm>
          <a:prstGeom prst="rect">
            <a:avLst/>
          </a:prstGeom>
          <a:ln w="0">
            <a:noFill/>
          </a:ln>
        </p:spPr>
      </p:pic>
      <p:pic>
        <p:nvPicPr>
          <p:cNvPr id="498" name="" descr=""/>
          <p:cNvPicPr/>
          <p:nvPr/>
        </p:nvPicPr>
        <p:blipFill>
          <a:blip r:embed="rId17"/>
          <a:stretch/>
        </p:blipFill>
        <p:spPr>
          <a:xfrm>
            <a:off x="2556000" y="2565360"/>
            <a:ext cx="123840" cy="123840"/>
          </a:xfrm>
          <a:prstGeom prst="rect">
            <a:avLst/>
          </a:prstGeom>
          <a:ln w="0">
            <a:noFill/>
          </a:ln>
        </p:spPr>
      </p:pic>
      <p:sp>
        <p:nvSpPr>
          <p:cNvPr id="499" name=""/>
          <p:cNvSpPr/>
          <p:nvPr/>
        </p:nvSpPr>
        <p:spPr>
          <a:xfrm>
            <a:off x="472680" y="4581360"/>
            <a:ext cx="837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и  х =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∕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є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- функция у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gx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е определе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472680" y="5084640"/>
            <a:ext cx="374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ссмотрим т. х=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∕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5148360" y="2492280"/>
            <a:ext cx="360360" cy="0"/>
          </a:xfrm>
          <a:prstGeom prst="line">
            <a:avLst/>
          </a:prstGeom>
          <a:ln w="38160">
            <a:solidFill>
              <a:srgbClr val="a50021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471600" y="5516640"/>
            <a:ext cx="456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ева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і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→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, с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sx→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 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328680" y="6093000"/>
            <a:ext cx="8702280" cy="520560"/>
          </a:xfrm>
          <a:prstGeom prst="rect">
            <a:avLst/>
          </a:prstGeom>
          <a:solidFill>
            <a:srgbClr val="bcd1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очки х =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∕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є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0" lang="ru-RU" sz="28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точки разрыв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функции у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gx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4" name=""/>
              <p:cNvSpPr txBox="1"/>
              <p:nvPr/>
            </p:nvSpPr>
            <p:spPr>
              <a:xfrm>
                <a:off x="4716360" y="5300640"/>
                <a:ext cx="2503440" cy="93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gx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→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05" name=""/>
          <p:cNvGrpSpPr/>
          <p:nvPr/>
        </p:nvGrpSpPr>
        <p:grpSpPr>
          <a:xfrm>
            <a:off x="2627280" y="907920"/>
            <a:ext cx="6265800" cy="505080"/>
            <a:chOff x="2627280" y="907920"/>
            <a:chExt cx="6265800" cy="505080"/>
          </a:xfrm>
        </p:grpSpPr>
        <p:sp>
          <p:nvSpPr>
            <p:cNvPr id="506" name=""/>
            <p:cNvSpPr/>
            <p:nvPr/>
          </p:nvSpPr>
          <p:spPr>
            <a:xfrm>
              <a:off x="7451640" y="907920"/>
              <a:ext cx="1441440" cy="433440"/>
            </a:xfrm>
            <a:prstGeom prst="borderCallout2">
              <a:avLst>
                <a:gd name="adj1" fmla="val 18750"/>
                <a:gd name="adj2" fmla="val -8333"/>
                <a:gd name="adj3" fmla="val 26375"/>
                <a:gd name="adj4" fmla="val -10574"/>
                <a:gd name="adj5" fmla="val 158240"/>
                <a:gd name="adj6" fmla="val -29625"/>
              </a:avLst>
            </a:prstGeom>
            <a:solidFill>
              <a:srgbClr val="ff99cc"/>
            </a:solidFill>
            <a:ln w="22320">
              <a:solidFill>
                <a:srgbClr val="000000"/>
              </a:solidFill>
              <a:miter/>
              <a:headEnd len="med" type="triangle" w="med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Асимптот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 flipH="1">
              <a:off x="3995280" y="1052640"/>
              <a:ext cx="3240360" cy="215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 flipH="1" flipV="1">
              <a:off x="2627280" y="980640"/>
              <a:ext cx="4681440" cy="71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 flipH="1">
              <a:off x="5508720" y="1052640"/>
              <a:ext cx="1800000" cy="36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1" dur="indefinite" restart="never" nodeType="tmRoot">
          <p:childTnLst>
            <p:seq>
              <p:cTn id="602" dur="indefinite" nodeType="mainSeq">
                <p:childTnLst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9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4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9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4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28" dur="2000" fill="hold"/>
                                        <p:tgtEl>
                                          <p:spTgt spid="49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62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30" dur="2000" fill="hold"/>
                                        <p:tgtEl>
                                          <p:spTgt spid="49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63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32" dur="2000" fill="hold"/>
                                        <p:tgtEl>
                                          <p:spTgt spid="49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63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34" dur="2000" fill="hold"/>
                                        <p:tgtEl>
                                          <p:spTgt spid="49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9" dur="80"/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9,119,1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0" dur="80"/>
                                        <p:tgtEl>
                                          <p:spTgt spid="4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9,119,1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1" dur="80"/>
                                        <p:tgtEl>
                                          <p:spTgt spid="4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6" dur="80"/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9,119,1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7" dur="80"/>
                                        <p:tgtEl>
                                          <p:spTgt spid="5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9,119,1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8" dur="80"/>
                                        <p:tgtEl>
                                          <p:spTgt spid="5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3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8" dur="80"/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9,119,1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59" dur="80"/>
                                        <p:tgtEl>
                                          <p:spTgt spid="5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9,119,1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0" dur="80"/>
                                        <p:tgtEl>
                                          <p:spTgt spid="5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5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7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2" dur="80"/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9,119,1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3" dur="80"/>
                                        <p:tgtEl>
                                          <p:spTgt spid="5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9,119,1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4" dur="80"/>
                                        <p:tgtEl>
                                          <p:spTgt spid="5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79" dur="2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cd1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042920" y="404640"/>
            <a:ext cx="7772400" cy="587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660066"/>
                </a:solidFill>
                <a:latin typeface="Arial"/>
              </a:rPr>
              <a:t>Свойства функции </a:t>
            </a:r>
            <a:r>
              <a:rPr b="0" i="1" lang="en-US" sz="3600" spc="-1" strike="noStrike">
                <a:solidFill>
                  <a:srgbClr val="660066"/>
                </a:solidFill>
                <a:latin typeface="Arial"/>
              </a:rPr>
              <a:t>y=</a:t>
            </a:r>
            <a:r>
              <a:rPr b="0" i="1" lang="en-US" sz="3600" spc="-1" strike="noStrike">
                <a:solidFill>
                  <a:srgbClr val="660066"/>
                </a:solidFill>
                <a:latin typeface="Arial"/>
                <a:ea typeface="Arial"/>
              </a:rPr>
              <a:t>tg</a:t>
            </a:r>
            <a:r>
              <a:rPr b="0" i="1" lang="en-US" sz="3600" spc="-1" strike="noStrike">
                <a:solidFill>
                  <a:srgbClr val="660066"/>
                </a:solidFill>
                <a:latin typeface="Arial"/>
              </a:rPr>
              <a:t>x</a:t>
            </a:r>
            <a:r>
              <a:rPr b="0" i="1" lang="ru-RU" sz="3600" spc="-1" strike="noStrike">
                <a:solidFill>
                  <a:srgbClr val="660066"/>
                </a:solidFill>
                <a:latin typeface="Arial"/>
              </a:rPr>
              <a:t>.</a:t>
            </a:r>
            <a:endParaRPr b="0" i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24000" y="1268280"/>
            <a:ext cx="8820000" cy="4827600"/>
          </a:xfrm>
          <a:prstGeom prst="rect">
            <a:avLst/>
          </a:prstGeom>
          <a:solidFill>
            <a:srgbClr val="bcd1dc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. Обл. определения:         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2.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ножество значений функции: у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є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3. Периодическая, Т=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π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4. Нечётная функция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5. Возрастает на всей области определени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6. Нули функции у (х) = 0   при  х =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π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є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7. у(х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0 при хє (0;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π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/2)  и при сдвиге на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π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є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8. у(х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0 при хє (-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π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/2; 0)   и при сдвиге на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π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є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9. При  х =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π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∕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+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π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є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- функция у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gx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не определена. Имеет точки разрыва графика и асимптоты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2" name="" descr=""/>
          <p:cNvPicPr/>
          <p:nvPr/>
        </p:nvPicPr>
        <p:blipFill>
          <a:blip r:embed="rId1"/>
          <a:stretch/>
        </p:blipFill>
        <p:spPr>
          <a:xfrm>
            <a:off x="8255160" y="5373720"/>
            <a:ext cx="888840" cy="14842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13" name=""/>
              <p:cNvSpPr txBox="1"/>
              <p:nvPr/>
            </p:nvSpPr>
            <p:spPr>
              <a:xfrm>
                <a:off x="3924360" y="981000"/>
                <a:ext cx="2735280" cy="97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  <m:r>
                      <m:t xml:space="preserve">≠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r>
                      <m:t xml:space="preserve">πn</m:t>
                    </m:r>
                    <m:r>
                      <m:t xml:space="preserve">,</m:t>
                    </m:r>
                    <m:r>
                      <m:t xml:space="preserve">n</m:t>
                    </m:r>
                    <m:r>
                      <m:t xml:space="preserve">∈</m:t>
                    </m:r>
                    <m:r>
                      <m:t xml:space="preserve">Z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514" name="" descr=""/>
          <p:cNvPicPr/>
          <p:nvPr/>
        </p:nvPicPr>
        <p:blipFill>
          <a:blip r:embed="rId2"/>
          <a:stretch/>
        </p:blipFill>
        <p:spPr>
          <a:xfrm>
            <a:off x="1116000" y="981000"/>
            <a:ext cx="7416720" cy="10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0" dur="indefinite" restart="never" nodeType="tmRoot">
          <p:childTnLst>
            <p:seq>
              <p:cTn id="681" dur="indefinite" nodeType="mainSeq">
                <p:childTnLst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6" dur="80"/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9,119,1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7" dur="80"/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9,119,1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8" dur="80"/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9" fill="hold">
                            <p:stCondLst>
                              <p:cond delay="800"/>
                            </p:stCondLst>
                            <p:childTnLst>
                              <p:par>
                                <p:cTn id="69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8" dur="80"/>
                                        <p:tgtEl>
                                          <p:spTgt spid="5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9,119,1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9" dur="80"/>
                                        <p:tgtEl>
                                          <p:spTgt spid="5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9,119,1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0" dur="80"/>
                                        <p:tgtEl>
                                          <p:spTgt spid="5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5" dur="80"/>
                                        <p:tgtEl>
                                          <p:spTgt spid="5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9,119,1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6" dur="80"/>
                                        <p:tgtEl>
                                          <p:spTgt spid="5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9,119,1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7" dur="80"/>
                                        <p:tgtEl>
                                          <p:spTgt spid="5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2" dur="80"/>
                                        <p:tgtEl>
                                          <p:spTgt spid="5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9,119,1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3" dur="80"/>
                                        <p:tgtEl>
                                          <p:spTgt spid="5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9,119,1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4" dur="80"/>
                                        <p:tgtEl>
                                          <p:spTgt spid="5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9" dur="80"/>
                                        <p:tgtEl>
                                          <p:spTgt spid="5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9,119,1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0" dur="80"/>
                                        <p:tgtEl>
                                          <p:spTgt spid="5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9,119,1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1" dur="80"/>
                                        <p:tgtEl>
                                          <p:spTgt spid="5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6" dur="80"/>
                                        <p:tgtEl>
                                          <p:spTgt spid="5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9,119,1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7" dur="80"/>
                                        <p:tgtEl>
                                          <p:spTgt spid="5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9,119,1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8" dur="80"/>
                                        <p:tgtEl>
                                          <p:spTgt spid="5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3" dur="80"/>
                                        <p:tgtEl>
                                          <p:spTgt spid="5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9,119,1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4" dur="80"/>
                                        <p:tgtEl>
                                          <p:spTgt spid="5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9,119,1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5" dur="80"/>
                                        <p:tgtEl>
                                          <p:spTgt spid="5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0" dur="80"/>
                                        <p:tgtEl>
                                          <p:spTgt spid="5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9,119,1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1" dur="80"/>
                                        <p:tgtEl>
                                          <p:spTgt spid="5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9,119,1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2" dur="80"/>
                                        <p:tgtEl>
                                          <p:spTgt spid="5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7" dur="80"/>
                                        <p:tgtEl>
                                          <p:spTgt spid="5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9,119,1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8" dur="80"/>
                                        <p:tgtEl>
                                          <p:spTgt spid="5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9,119,1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9" dur="80"/>
                                        <p:tgtEl>
                                          <p:spTgt spid="5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3T14:01:52Z</dcterms:created>
  <dc:creator>Natali</dc:creator>
  <dc:description/>
  <cp:keywords/>
  <dc:language>en-US</dc:language>
  <cp:lastModifiedBy>Xomyak</cp:lastModifiedBy>
  <dcterms:modified xsi:type="dcterms:W3CDTF">2007-10-22T19:03:14Z</dcterms:modified>
  <cp:revision>31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689801049</vt:lpwstr>
  </property>
</Properties>
</file>