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FDC-41B6-4A76-A6AE-3A2F32C9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F27-6B40-4FA5-B264-CF36746B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319-A4C4-47FE-98E9-46FAC440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40D-8F24-4321-95C4-A75F48B8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9AA8-7A49-4FBD-A422-02206C6E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2DDD-7374-4E05-A6D9-AEA68216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1D4D-CCAD-4393-B6A0-8B162B8F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B21B-B9AE-4440-A5D1-DDA82BE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49A2-F512-46F2-AB47-42486CF9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0C67-89F4-44BE-9730-C3AFD4E8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452D-8E42-49E3-AE74-9FDD4C14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E29-E1C5-42B2-8AED-26FE9940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C106-5241-4DCB-BC2B-8956AEE3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40B4-513C-400D-8EF3-FDC88FDA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C7F2-32F6-4FF6-8299-371CA4E5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FF45-AD95-489C-B234-99DC9285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5671-BED5-4783-8B5D-CC8A994D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27A-0751-45B9-BF10-C2213FCF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BB7-4F42-465B-8BD0-46391D49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5C6-D0E9-4DFD-ADBE-F82AACE4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6E6-094E-448F-BF10-95D6C030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2FA-5590-48E0-9324-24A9469C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A47-0951-492A-BA6A-4133356C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F67-5DD2-48F0-8497-FB29B09E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B79A-1F3C-4D90-B377-D9EC9B79B1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327A-07E9-42BB-99EA-39F24ABBCF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3.wm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932360" y="5589720"/>
            <a:ext cx="421164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высше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елкова Н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7400" y="335772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Алгебра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58920" y="1484280"/>
            <a:ext cx="748656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0033cc"/>
                    </a:gs>
                    <a:gs pos="100000">
                      <a:srgbClr val="6699ff"/>
                    </a:gs>
                  </a:gsLst>
                  <a:lin ang="8100000"/>
                </a:gradFill>
                <a:latin typeface="Arial"/>
              </a:rPr>
              <a:t>Свойства функции у = tg 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0033cc"/>
                  </a:gs>
                  <a:gs pos="100000">
                    <a:srgbClr val="6699ff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0033cc"/>
                    </a:gs>
                    <a:gs pos="100000">
                      <a:srgbClr val="6699ff"/>
                    </a:gs>
                  </a:gsLst>
                  <a:lin ang="8100000"/>
                </a:gradFill>
                <a:latin typeface="Arial"/>
              </a:rPr>
              <a:t>и ее графи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0033cc"/>
                  </a:gs>
                  <a:gs pos="100000">
                    <a:srgbClr val="6699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493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59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 rot="5400000">
            <a:off x="-2642400" y="3307680"/>
            <a:ext cx="619272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26920" y="5950080"/>
            <a:ext cx="831708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66"/>
                </a:solidFill>
                <a:latin typeface="Arial"/>
              </a:rPr>
              <a:t>Задача №1.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789804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все корни уравнен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=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щих промежутку –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-1201320" y="-1946160"/>
            <a:ext cx="8046720" cy="13637160"/>
            <a:chOff x="-1201320" y="-1946160"/>
            <a:chExt cx="8046720" cy="13637160"/>
          </a:xfrm>
        </p:grpSpPr>
        <p:sp>
          <p:nvSpPr>
            <p:cNvPr id="520" name=""/>
            <p:cNvSpPr/>
            <p:nvPr/>
          </p:nvSpPr>
          <p:spPr>
            <a:xfrm>
              <a:off x="464400" y="40665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1540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2444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6992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7896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6196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0744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9840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388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9044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3592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4400" y="51357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4400" y="433368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4400" y="4601160"/>
              <a:ext cx="4830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4400" y="38001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8140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4400" y="5669280"/>
              <a:ext cx="4728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4400" y="32655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4400" y="353304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4400" y="593640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4400" y="540180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4400" y="647100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4400" y="620388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2688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9560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8656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41080" y="2998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3312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892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440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7236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2160" y="4868280"/>
              <a:ext cx="4983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52920" y="3105720"/>
              <a:ext cx="0" cy="357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752920" y="2998080"/>
              <a:ext cx="0" cy="37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2160" y="4868280"/>
              <a:ext cx="49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48000" y="2892240"/>
              <a:ext cx="216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42160" y="4442040"/>
              <a:ext cx="321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42800" y="406656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92040" y="524268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9" name=""/>
            <p:cNvGraphicFramePr/>
            <p:nvPr/>
          </p:nvGraphicFramePr>
          <p:xfrm>
            <a:off x="4023000" y="5081400"/>
            <a:ext cx="302760" cy="33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23000" y="5081400"/>
                      <a:ext cx="30276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1" name=""/>
            <p:cNvGraphicFramePr/>
            <p:nvPr/>
          </p:nvGraphicFramePr>
          <p:xfrm>
            <a:off x="2396160" y="4493880"/>
            <a:ext cx="248760" cy="3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6160" y="4493880"/>
                      <a:ext cx="2487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3" name=""/>
            <p:cNvGraphicFramePr/>
            <p:nvPr/>
          </p:nvGraphicFramePr>
          <p:xfrm>
            <a:off x="920880" y="5028480"/>
            <a:ext cx="376200" cy="33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0880" y="5028480"/>
                      <a:ext cx="376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5" name=""/>
            <p:cNvGraphicFramePr/>
            <p:nvPr/>
          </p:nvGraphicFramePr>
          <p:xfrm>
            <a:off x="3311280" y="4975560"/>
            <a:ext cx="376560" cy="73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11280" y="4975560"/>
                      <a:ext cx="376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7" name=""/>
            <p:cNvGraphicFramePr/>
            <p:nvPr/>
          </p:nvGraphicFramePr>
          <p:xfrm>
            <a:off x="1734840" y="4975560"/>
            <a:ext cx="322560" cy="734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34840" y="4975560"/>
                      <a:ext cx="322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1989360" y="47613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50680" y="540180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50680" y="433368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15400" y="47613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77520" y="47613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2688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15400" y="310572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89360" y="315864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324720" y="-1946160"/>
              <a:ext cx="4995000" cy="13637160"/>
              <a:chOff x="324720" y="-1946160"/>
              <a:chExt cx="4995000" cy="13637160"/>
            </a:xfrm>
          </p:grpSpPr>
          <p:sp>
            <p:nvSpPr>
              <p:cNvPr id="578" name=""/>
              <p:cNvSpPr/>
              <p:nvPr/>
            </p:nvSpPr>
            <p:spPr>
              <a:xfrm rot="5076600">
                <a:off x="-1414800" y="22860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5838800">
                <a:off x="59760" y="665244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46440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4108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2" name=""/>
            <p:cNvGraphicFramePr/>
            <p:nvPr/>
          </p:nvGraphicFramePr>
          <p:xfrm>
            <a:off x="4888800" y="5028480"/>
            <a:ext cx="376200" cy="678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88800" y="5028480"/>
                      <a:ext cx="376200" cy="67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108000" y="4975560"/>
                  <a:ext cx="550440" cy="64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464400" y="315864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41080" y="310572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1850400" y="-1946160"/>
              <a:ext cx="4995000" cy="13637160"/>
              <a:chOff x="1850400" y="-1946160"/>
              <a:chExt cx="4995000" cy="13637160"/>
            </a:xfrm>
          </p:grpSpPr>
          <p:sp>
            <p:nvSpPr>
              <p:cNvPr id="588" name=""/>
              <p:cNvSpPr/>
              <p:nvPr/>
            </p:nvSpPr>
            <p:spPr>
              <a:xfrm rot="5076600">
                <a:off x="110520" y="22860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5838800">
                <a:off x="1585440" y="665244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-1201320" y="-1946160"/>
              <a:ext cx="4995000" cy="13637160"/>
              <a:chOff x="-1201320" y="-1946160"/>
              <a:chExt cx="4995000" cy="13637160"/>
            </a:xfrm>
          </p:grpSpPr>
          <p:sp>
            <p:nvSpPr>
              <p:cNvPr id="591" name=""/>
              <p:cNvSpPr/>
              <p:nvPr/>
            </p:nvSpPr>
            <p:spPr>
              <a:xfrm rot="5076600">
                <a:off x="-2940840" y="22860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5838800">
                <a:off x="-1465920" y="665244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"/>
          <p:cNvSpPr/>
          <p:nvPr/>
        </p:nvSpPr>
        <p:spPr>
          <a:xfrm>
            <a:off x="4068360" y="263700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50920" y="3789360"/>
            <a:ext cx="51847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0" y="3213000"/>
            <a:ext cx="73692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3"/>
          <a:stretch/>
        </p:blipFill>
        <p:spPr>
          <a:xfrm>
            <a:off x="1692360" y="37162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4"/>
          <a:stretch/>
        </p:blipFill>
        <p:spPr>
          <a:xfrm>
            <a:off x="3203640" y="37162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15"/>
          <a:stretch/>
        </p:blipFill>
        <p:spPr>
          <a:xfrm>
            <a:off x="4788000" y="37162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349600" y="2678040"/>
            <a:ext cx="40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роим граф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322600" y="3789360"/>
            <a:ext cx="32356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378936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069000" y="47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63640" y="378936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59280" y="378936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86440" y="47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582080" y="486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6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8" dur="2000" fill="hold"/>
                                        <p:tgtEl>
                                          <p:spTgt spid="5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0" dur="2000" fill="hold"/>
                                        <p:tgtEl>
                                          <p:spTgt spid="5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8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 rot="5400000">
            <a:off x="-2642400" y="3307680"/>
            <a:ext cx="619272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6920" y="5950080"/>
            <a:ext cx="831708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718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Задача №2.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26560" y="691920"/>
            <a:ext cx="789804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все решения неравен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щих промежутку –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-1309320" y="-2595600"/>
            <a:ext cx="8048160" cy="13637520"/>
            <a:chOff x="-1309320" y="-2595600"/>
            <a:chExt cx="8048160" cy="13637520"/>
          </a:xfrm>
        </p:grpSpPr>
        <p:sp>
          <p:nvSpPr>
            <p:cNvPr id="612" name=""/>
            <p:cNvSpPr/>
            <p:nvPr/>
          </p:nvSpPr>
          <p:spPr>
            <a:xfrm>
              <a:off x="356400" y="34171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0740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1644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6192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7096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15396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9944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9040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3588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8244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2792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6400" y="44863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6400" y="368424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6400" y="3951720"/>
              <a:ext cx="4831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6400" y="31507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7340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6400" y="5019840"/>
              <a:ext cx="4729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6400" y="26161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6400" y="288360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6400" y="528696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6400" y="475236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6400" y="582156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6400" y="555444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1888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796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7892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933440" y="2349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548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1092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640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6436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520" y="4218840"/>
              <a:ext cx="4983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44920" y="2456280"/>
              <a:ext cx="0" cy="357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644920" y="2348640"/>
              <a:ext cx="0" cy="37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4520" y="4218840"/>
              <a:ext cx="49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40000" y="2242800"/>
              <a:ext cx="216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934520" y="3792600"/>
              <a:ext cx="321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34800" y="341712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84400" y="459324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51" name=""/>
            <p:cNvGraphicFramePr/>
            <p:nvPr/>
          </p:nvGraphicFramePr>
          <p:xfrm>
            <a:off x="3915360" y="4431960"/>
            <a:ext cx="302760" cy="33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15360" y="4431960"/>
                      <a:ext cx="30276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3" name=""/>
            <p:cNvGraphicFramePr/>
            <p:nvPr/>
          </p:nvGraphicFramePr>
          <p:xfrm>
            <a:off x="2288520" y="3844440"/>
            <a:ext cx="248760" cy="3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8520" y="3844440"/>
                      <a:ext cx="2487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5" name=""/>
            <p:cNvGraphicFramePr/>
            <p:nvPr/>
          </p:nvGraphicFramePr>
          <p:xfrm>
            <a:off x="812880" y="4379040"/>
            <a:ext cx="376560" cy="33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12880" y="4379040"/>
                      <a:ext cx="37656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7" name=""/>
            <p:cNvGraphicFramePr/>
            <p:nvPr/>
          </p:nvGraphicFramePr>
          <p:xfrm>
            <a:off x="3203280" y="4326120"/>
            <a:ext cx="376560" cy="73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03280" y="4326120"/>
                      <a:ext cx="376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9" name=""/>
            <p:cNvGraphicFramePr/>
            <p:nvPr/>
          </p:nvGraphicFramePr>
          <p:xfrm>
            <a:off x="1626840" y="4326120"/>
            <a:ext cx="322560" cy="734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26840" y="4326120"/>
                      <a:ext cx="322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1" name=""/>
            <p:cNvSpPr/>
            <p:nvPr/>
          </p:nvSpPr>
          <p:spPr>
            <a:xfrm>
              <a:off x="1881360" y="411192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43040" y="475236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43040" y="368424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07400" y="411192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9880" y="411192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18880" y="411192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07400" y="245628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81360" y="250920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16720" y="-2595600"/>
              <a:ext cx="4995000" cy="13637160"/>
              <a:chOff x="216720" y="-2595600"/>
              <a:chExt cx="4995000" cy="13637160"/>
            </a:xfrm>
          </p:grpSpPr>
          <p:sp>
            <p:nvSpPr>
              <p:cNvPr id="670" name=""/>
              <p:cNvSpPr/>
              <p:nvPr/>
            </p:nvSpPr>
            <p:spPr>
              <a:xfrm rot="5076600">
                <a:off x="-1522800" y="-42048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5838800">
                <a:off x="-47880" y="600300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356400" y="411192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933440" y="411192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4" name=""/>
            <p:cNvGraphicFramePr/>
            <p:nvPr/>
          </p:nvGraphicFramePr>
          <p:xfrm>
            <a:off x="4781160" y="4379040"/>
            <a:ext cx="376560" cy="678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81160" y="4379040"/>
                      <a:ext cx="376560" cy="67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0" y="4326120"/>
                  <a:ext cx="550440" cy="64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7" name=""/>
            <p:cNvSpPr/>
            <p:nvPr/>
          </p:nvSpPr>
          <p:spPr>
            <a:xfrm>
              <a:off x="356400" y="250920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33440" y="245628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1742760" y="-2595600"/>
              <a:ext cx="4996080" cy="13637520"/>
              <a:chOff x="1742760" y="-2595600"/>
              <a:chExt cx="4996080" cy="13637520"/>
            </a:xfrm>
          </p:grpSpPr>
          <p:sp>
            <p:nvSpPr>
              <p:cNvPr id="680" name=""/>
              <p:cNvSpPr/>
              <p:nvPr/>
            </p:nvSpPr>
            <p:spPr>
              <a:xfrm rot="5076600">
                <a:off x="2880" y="-42048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5838800">
                <a:off x="1478520" y="6003000"/>
                <a:ext cx="6908400" cy="290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-1309320" y="-2595600"/>
              <a:ext cx="4996080" cy="13637520"/>
              <a:chOff x="-1309320" y="-2595600"/>
              <a:chExt cx="4996080" cy="13637520"/>
            </a:xfrm>
          </p:grpSpPr>
          <p:sp>
            <p:nvSpPr>
              <p:cNvPr id="683" name=""/>
              <p:cNvSpPr/>
              <p:nvPr/>
            </p:nvSpPr>
            <p:spPr>
              <a:xfrm rot="5076600">
                <a:off x="-3048840" y="-42048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5838800">
                <a:off x="-1573200" y="6003000"/>
                <a:ext cx="6908400" cy="290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5" name=""/>
          <p:cNvSpPr/>
          <p:nvPr/>
        </p:nvSpPr>
        <p:spPr>
          <a:xfrm>
            <a:off x="3960360" y="198756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42920" y="3139920"/>
            <a:ext cx="51847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8720" y="2563920"/>
            <a:ext cx="73692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3"/>
          <a:stretch/>
        </p:blipFill>
        <p:spPr>
          <a:xfrm>
            <a:off x="1584360" y="30672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14"/>
          <a:stretch/>
        </p:blipFill>
        <p:spPr>
          <a:xfrm>
            <a:off x="3095640" y="30672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15"/>
          <a:stretch/>
        </p:blipFill>
        <p:spPr>
          <a:xfrm>
            <a:off x="4680000" y="306720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5371920" y="3357720"/>
            <a:ext cx="40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роим граф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19720" y="4581360"/>
            <a:ext cx="32356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68720" y="313992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961000" y="414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55640" y="313992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751280" y="313992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78440" y="414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74080" y="4219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8000" y="61657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 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(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U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500"/>
                            </p:stCondLst>
                            <p:childTnLst>
                              <p:par>
                                <p:cTn id="9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3" dur="2000" fill="hold"/>
                                        <p:tgtEl>
                                          <p:spTgt spid="6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5" dur="2000" fill="hold"/>
                                        <p:tgtEl>
                                          <p:spTgt spid="6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7" dur="2000" fill="hold"/>
                                        <p:tgtEl>
                                          <p:spTgt spid="6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8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"/>
                            </p:stCondLst>
                            <p:childTnLst>
                              <p:par>
                                <p:cTn id="9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8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880"/>
                            </p:stCondLst>
                            <p:childTnLst>
                              <p:par>
                                <p:cTn id="9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1268280"/>
            <a:ext cx="1476360" cy="50403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0" y="1268280"/>
            <a:ext cx="9144000" cy="5040360"/>
            <a:chOff x="0" y="1268280"/>
            <a:chExt cx="9144000" cy="5040360"/>
          </a:xfrm>
        </p:grpSpPr>
        <p:grpSp>
          <p:nvGrpSpPr>
            <p:cNvPr id="702" name=""/>
            <p:cNvGrpSpPr/>
            <p:nvPr/>
          </p:nvGrpSpPr>
          <p:grpSpPr>
            <a:xfrm>
              <a:off x="0" y="1268280"/>
              <a:ext cx="9144000" cy="5040360"/>
              <a:chOff x="0" y="1268280"/>
              <a:chExt cx="9144000" cy="504036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270828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6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7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01200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7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9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93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1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85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49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13200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414972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306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234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7164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86900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62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198900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522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450864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595008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558972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17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4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12000" y="126828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5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8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09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9236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33200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97164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05092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378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4572000" y="1413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V="1">
            <a:off x="457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08000" y="3789360"/>
            <a:ext cx="903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417080" cy="1018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4140360" y="112536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532720" y="3213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51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78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6370560" y="4076640"/>
          <a:ext cx="4287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0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4067280" y="3284640"/>
          <a:ext cx="35244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1978200" y="4005360"/>
          <a:ext cx="53316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8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"/>
          <p:cNvGraphicFramePr/>
          <p:nvPr/>
        </p:nvGraphicFramePr>
        <p:xfrm>
          <a:off x="5362560" y="3933720"/>
          <a:ext cx="53352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2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"/>
          <p:cNvGraphicFramePr/>
          <p:nvPr/>
        </p:nvGraphicFramePr>
        <p:xfrm>
          <a:off x="3130560" y="3933720"/>
          <a:ext cx="45720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30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>
            <a:off x="3490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27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427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651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730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579640" y="105264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411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651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490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167120" y="-5403600"/>
            <a:ext cx="7003800" cy="18398160"/>
            <a:chOff x="1167120" y="-5403600"/>
            <a:chExt cx="7003800" cy="18398160"/>
          </a:xfrm>
        </p:grpSpPr>
        <p:sp>
          <p:nvSpPr>
            <p:cNvPr id="768" name=""/>
            <p:cNvSpPr/>
            <p:nvPr/>
          </p:nvSpPr>
          <p:spPr>
            <a:xfrm rot="5076600">
              <a:off x="-108468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5838800">
              <a:off x="98136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33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5092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81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8930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596360" y="4005360"/>
          <a:ext cx="53316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6360" y="400536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8610480" y="407664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3933720"/>
                <a:ext cx="779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0" y="4005360"/>
                <a:ext cx="53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133200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81200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327480" y="-5403600"/>
            <a:ext cx="7003800" cy="18398160"/>
            <a:chOff x="3327480" y="-5403600"/>
            <a:chExt cx="7003800" cy="18398160"/>
          </a:xfrm>
        </p:grpSpPr>
        <p:sp>
          <p:nvSpPr>
            <p:cNvPr id="782" name=""/>
            <p:cNvSpPr/>
            <p:nvPr/>
          </p:nvSpPr>
          <p:spPr>
            <a:xfrm rot="5076600">
              <a:off x="1075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5838800">
              <a:off x="314172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-993600" y="-5403600"/>
            <a:ext cx="7003800" cy="18398160"/>
            <a:chOff x="-993600" y="-5403600"/>
            <a:chExt cx="7003800" cy="18398160"/>
          </a:xfrm>
        </p:grpSpPr>
        <p:sp>
          <p:nvSpPr>
            <p:cNvPr id="785" name=""/>
            <p:cNvSpPr/>
            <p:nvPr/>
          </p:nvSpPr>
          <p:spPr>
            <a:xfrm rot="5076600">
              <a:off x="-324540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838800">
              <a:off x="-117900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-3152520" y="-5403600"/>
            <a:ext cx="6943320" cy="18361440"/>
            <a:chOff x="-3152520" y="-5403600"/>
            <a:chExt cx="6943320" cy="18361440"/>
          </a:xfrm>
        </p:grpSpPr>
        <p:sp>
          <p:nvSpPr>
            <p:cNvPr id="788" name=""/>
            <p:cNvSpPr/>
            <p:nvPr/>
          </p:nvSpPr>
          <p:spPr>
            <a:xfrm rot="5076600">
              <a:off x="-5404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5838800">
              <a:off x="-3319200" y="6143040"/>
              <a:ext cx="9314280" cy="39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42" y="5742"/>
                  </a:moveTo>
                  <a:arcTo wR="10800" hR="10800" stAng="-1675720" swAng="681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42" y="5742"/>
                  </a:moveTo>
                  <a:arcTo wR="10800" hR="10800" stAng="-1675720" swAng="68137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413320" y="-5369040"/>
            <a:ext cx="6928920" cy="18355680"/>
            <a:chOff x="5413320" y="-5369040"/>
            <a:chExt cx="6928920" cy="18355680"/>
          </a:xfrm>
        </p:grpSpPr>
        <p:sp>
          <p:nvSpPr>
            <p:cNvPr id="791" name=""/>
            <p:cNvSpPr/>
            <p:nvPr/>
          </p:nvSpPr>
          <p:spPr>
            <a:xfrm rot="15838800">
              <a:off x="5231880" y="617220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5076600">
              <a:off x="3162600" y="-2523600"/>
              <a:ext cx="9314280" cy="39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17" y="5338"/>
                  </a:moveTo>
                  <a:arcTo wR="10800" hR="10800" stAng="-1822939" swAng="828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17" y="5338"/>
                  </a:moveTo>
                  <a:arcTo wR="10800" hR="10800" stAng="-1822939" swAng="82859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660066"/>
                </a:solidFill>
                <a:uFillTx/>
                <a:latin typeface="Arial"/>
              </a:rPr>
              <a:t>Цели урока: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4000"/>
            </a:b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ить раннее изученные свойства функции у=tg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ся строить график функции у=tgx, используя данные свойства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нове анализа графи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остальные свойства 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ся решать простейшие уравнения и неравенства с помощью графика функ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67640" y="4797360"/>
            <a:ext cx="11253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476280"/>
            <a:ext cx="80773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Функция 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x 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и её свойства.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801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Обл. определения: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ножество значений функции: 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Периодическая, Т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Нечётная функц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1455840"/>
            <a:ext cx="7416720" cy="101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838080" cy="40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076720" y="1773360"/>
                <a:ext cx="3311640" cy="11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6299280" y="4076640"/>
            <a:ext cx="1671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667640" y="4508640"/>
            <a:ext cx="1125360" cy="1879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796000" y="3500280"/>
            <a:ext cx="838080" cy="40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732720" y="3213000"/>
                <a:ext cx="1171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4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4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6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6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0464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Функция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 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возрастает на промежутке</a:t>
            </a:r>
            <a:endParaRPr b="0" i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995640" y="907920"/>
                <a:ext cx="1081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416720" cy="101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42920" y="476280"/>
            <a:ext cx="0" cy="129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26920" y="1916280"/>
            <a:ext cx="8317080" cy="1008000"/>
            <a:chOff x="826920" y="1916280"/>
            <a:chExt cx="8317080" cy="100800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4932360" y="1917720"/>
                  <a:ext cx="194472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g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826920" y="2060640"/>
              <a:ext cx="777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1. Пусть 0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≤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∕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и                       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6985080" y="1916280"/>
                  <a:ext cx="215892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g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832320" y="2852640"/>
            <a:ext cx="725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Т. к. функция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озрастает на д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ке, т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3040" y="3789360"/>
            <a:ext cx="694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Т. к. функция у=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бывает на д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ке, то 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2565360"/>
            <a:ext cx="936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4149720"/>
                <a:ext cx="1976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≺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510160" y="3284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02520" y="4292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1960" y="5013360"/>
            <a:ext cx="58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Умножим нер-во (1) на нер-во (2)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042920" y="5445000"/>
                <a:ext cx="1976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≺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323520" y="5734080"/>
            <a:ext cx="287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 е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6237360"/>
            <a:ext cx="1727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6021360"/>
            <a:ext cx="289080" cy="360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2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26920" y="1267920"/>
            <a:ext cx="4968720" cy="5040720"/>
            <a:chOff x="826920" y="1267920"/>
            <a:chExt cx="4968720" cy="5040720"/>
          </a:xfrm>
        </p:grpSpPr>
        <p:sp>
          <p:nvSpPr>
            <p:cNvPr id="131" name=""/>
            <p:cNvSpPr/>
            <p:nvPr/>
          </p:nvSpPr>
          <p:spPr>
            <a:xfrm flipV="1">
              <a:off x="3347640" y="1267920"/>
              <a:ext cx="0" cy="504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115640" y="2708280"/>
              <a:ext cx="4627800" cy="172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728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8000" y="1413000"/>
              <a:ext cx="0" cy="48956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8764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0836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6836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800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8728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6920" y="1484280"/>
              <a:ext cx="0" cy="482436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8360" y="1413000"/>
              <a:ext cx="0" cy="48956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8000" y="1484280"/>
              <a:ext cx="0" cy="482436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115640" y="4149360"/>
              <a:ext cx="4627800" cy="28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044360" y="3068640"/>
              <a:ext cx="4627440" cy="381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96560" y="3416400"/>
              <a:ext cx="4627800" cy="12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15640" y="234936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47640" y="1413000"/>
              <a:ext cx="0" cy="48956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" y="3789360"/>
              <a:ext cx="49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15640" y="486900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87280" y="162864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87280" y="198900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15640" y="522936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5640" y="450864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15640" y="595008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5640" y="558972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87280" y="1484280"/>
              <a:ext cx="0" cy="482436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675640" cy="50328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Построение графика функции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417080" cy="10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372360" y="1557360"/>
          <a:ext cx="2466720" cy="4726080"/>
        </p:xfrm>
        <a:graphic>
          <a:graphicData uri="http://schemas.openxmlformats.org/drawingml/2006/table">
            <a:tbl>
              <a:tblPr/>
              <a:tblGrid>
                <a:gridCol w="1233360"/>
                <a:gridCol w="1233360"/>
              </a:tblGrid>
              <a:tr h="75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=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   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ущ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8244000" y="3213000"/>
            <a:ext cx="431640" cy="360360"/>
          </a:xfrm>
          <a:custGeom>
            <a:avLst/>
            <a:gdLst/>
            <a:ahLst/>
            <a:rect l="l" t="t" r="r" b="b"/>
            <a:pathLst>
              <a:path w="499" h="272">
                <a:moveTo>
                  <a:pt x="0" y="91"/>
                </a:moveTo>
                <a:lnTo>
                  <a:pt x="136" y="91"/>
                </a:lnTo>
                <a:lnTo>
                  <a:pt x="136" y="272"/>
                </a:lnTo>
                <a:lnTo>
                  <a:pt x="182" y="0"/>
                </a:lnTo>
                <a:lnTo>
                  <a:pt x="499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85080" y="4797360"/>
            <a:ext cx="432000" cy="360360"/>
          </a:xfrm>
          <a:custGeom>
            <a:avLst/>
            <a:gdLst/>
            <a:ahLst/>
            <a:rect l="l" t="t" r="r" b="b"/>
            <a:pathLst>
              <a:path w="499" h="272">
                <a:moveTo>
                  <a:pt x="0" y="91"/>
                </a:moveTo>
                <a:lnTo>
                  <a:pt x="136" y="91"/>
                </a:lnTo>
                <a:lnTo>
                  <a:pt x="136" y="272"/>
                </a:lnTo>
                <a:lnTo>
                  <a:pt x="182" y="0"/>
                </a:lnTo>
                <a:lnTo>
                  <a:pt x="499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119700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3645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4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146560" y="4076640"/>
          <a:ext cx="4287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6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843280" y="3284640"/>
          <a:ext cx="35244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3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54200" y="4005360"/>
          <a:ext cx="53316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138560" y="3933720"/>
          <a:ext cx="53352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38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906560" y="3933720"/>
          <a:ext cx="45720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6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266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6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5640" y="105264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04000" y="2421000"/>
            <a:ext cx="304920" cy="5331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01080" y="2421000"/>
            <a:ext cx="304560" cy="5331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3213000"/>
            <a:ext cx="720720" cy="53352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40720" y="3141720"/>
            <a:ext cx="936720" cy="60480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3933720"/>
            <a:ext cx="720720" cy="53352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56720" y="3933720"/>
            <a:ext cx="647640" cy="60480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4724280"/>
            <a:ext cx="720720" cy="53352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12000" y="4653000"/>
            <a:ext cx="647640" cy="60480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5516640"/>
            <a:ext cx="720720" cy="5331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40720" y="5445000"/>
            <a:ext cx="934920" cy="7923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076600">
            <a:off x="-2308680" y="-2556720"/>
            <a:ext cx="9314280" cy="395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8" y="1100"/>
                </a:moveTo>
                <a:arcTo wR="10800" hR="10800" stAng="-3835200" swAng="2840850"/>
                <a:lnTo>
                  <a:pt x="10800" y="10800"/>
                </a:lnTo>
                <a:close/>
              </a:path>
              <a:path fill="none" w="21600" h="21600">
                <a:moveTo>
                  <a:pt x="15548" y="1100"/>
                </a:moveTo>
                <a:arcTo wR="10800" hR="10800" stAng="-3835200" swAng="2840850"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2"/>
          <a:stretch/>
        </p:blipFill>
        <p:spPr>
          <a:xfrm>
            <a:off x="3635280" y="328464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3"/>
          <a:stretch/>
        </p:blipFill>
        <p:spPr>
          <a:xfrm>
            <a:off x="3780000" y="2997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4"/>
          <a:stretch/>
        </p:blipFill>
        <p:spPr>
          <a:xfrm>
            <a:off x="3995640" y="24922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66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5838800">
            <a:off x="-314280" y="6172200"/>
            <a:ext cx="9314280" cy="395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8" y="1100"/>
                </a:moveTo>
                <a:arcTo wR="10800" hR="10800" stAng="-3835200" swAng="2840850"/>
                <a:lnTo>
                  <a:pt x="10800" y="10800"/>
                </a:lnTo>
                <a:close/>
              </a:path>
              <a:path fill="none" w="21600" h="21600">
                <a:moveTo>
                  <a:pt x="15548" y="1100"/>
                </a:moveTo>
                <a:arcTo wR="10800" hR="10800" stAng="-3835200" swAng="2840850"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5"/>
          <a:stretch/>
        </p:blipFill>
        <p:spPr>
          <a:xfrm>
            <a:off x="3274920" y="3716280"/>
            <a:ext cx="12384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268280"/>
            <a:ext cx="1476360" cy="50403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0" y="1268280"/>
            <a:ext cx="9144000" cy="5040360"/>
            <a:chOff x="0" y="1268280"/>
            <a:chExt cx="9144000" cy="5040360"/>
          </a:xfrm>
        </p:grpSpPr>
        <p:grpSp>
          <p:nvGrpSpPr>
            <p:cNvPr id="203" name=""/>
            <p:cNvGrpSpPr/>
            <p:nvPr/>
          </p:nvGrpSpPr>
          <p:grpSpPr>
            <a:xfrm>
              <a:off x="0" y="1268280"/>
              <a:ext cx="9144000" cy="5040360"/>
              <a:chOff x="0" y="1268280"/>
              <a:chExt cx="9144000" cy="504036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270828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7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1200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9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3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1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5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9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3200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14972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06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34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164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486900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62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98900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522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50864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595008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558972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7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4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812000" y="126828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5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8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09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9236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3200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7164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5092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78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572000" y="1413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457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000" y="3789360"/>
            <a:ext cx="903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114300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Построение графика функции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417080" cy="101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140360" y="112536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32720" y="3213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78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370560" y="4076640"/>
          <a:ext cx="4287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0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067280" y="3284640"/>
          <a:ext cx="35244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978200" y="4005360"/>
          <a:ext cx="53316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8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362560" y="3933720"/>
          <a:ext cx="53352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2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130560" y="3933720"/>
          <a:ext cx="45720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30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490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27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30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79640" y="105264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51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90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167120" y="-5403600"/>
            <a:ext cx="7003800" cy="18398160"/>
            <a:chOff x="1167120" y="-5403600"/>
            <a:chExt cx="7003800" cy="18398160"/>
          </a:xfrm>
        </p:grpSpPr>
        <p:sp>
          <p:nvSpPr>
            <p:cNvPr id="270" name=""/>
            <p:cNvSpPr/>
            <p:nvPr/>
          </p:nvSpPr>
          <p:spPr>
            <a:xfrm rot="5076600">
              <a:off x="-108468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5838800">
              <a:off x="98136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33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1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8930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596360" y="4005360"/>
          <a:ext cx="53316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6360" y="400536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8610480" y="407664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826920" y="3933720"/>
                <a:ext cx="779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4005360"/>
                <a:ext cx="53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33200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1200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327480" y="-5403600"/>
            <a:ext cx="7003800" cy="18398160"/>
            <a:chOff x="3327480" y="-5403600"/>
            <a:chExt cx="7003800" cy="18398160"/>
          </a:xfrm>
        </p:grpSpPr>
        <p:sp>
          <p:nvSpPr>
            <p:cNvPr id="284" name=""/>
            <p:cNvSpPr/>
            <p:nvPr/>
          </p:nvSpPr>
          <p:spPr>
            <a:xfrm rot="5076600">
              <a:off x="1075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5838800">
              <a:off x="314172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993600" y="-5403600"/>
            <a:ext cx="7003800" cy="18398160"/>
            <a:chOff x="-993600" y="-5403600"/>
            <a:chExt cx="7003800" cy="18398160"/>
          </a:xfrm>
        </p:grpSpPr>
        <p:sp>
          <p:nvSpPr>
            <p:cNvPr id="287" name=""/>
            <p:cNvSpPr/>
            <p:nvPr/>
          </p:nvSpPr>
          <p:spPr>
            <a:xfrm rot="5076600">
              <a:off x="-324540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5838800">
              <a:off x="-117900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-3152520" y="-5403600"/>
            <a:ext cx="6943320" cy="18361440"/>
            <a:chOff x="-3152520" y="-5403600"/>
            <a:chExt cx="6943320" cy="18361440"/>
          </a:xfrm>
        </p:grpSpPr>
        <p:sp>
          <p:nvSpPr>
            <p:cNvPr id="290" name=""/>
            <p:cNvSpPr/>
            <p:nvPr/>
          </p:nvSpPr>
          <p:spPr>
            <a:xfrm rot="5076600">
              <a:off x="-5404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5838800">
              <a:off x="-3319200" y="6143040"/>
              <a:ext cx="9314280" cy="39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42" y="5742"/>
                  </a:moveTo>
                  <a:arcTo wR="10800" hR="10800" stAng="-1675720" swAng="681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42" y="5742"/>
                  </a:moveTo>
                  <a:arcTo wR="10800" hR="10800" stAng="-1675720" swAng="68137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413320" y="-5369040"/>
            <a:ext cx="6928920" cy="18355680"/>
            <a:chOff x="5413320" y="-5369040"/>
            <a:chExt cx="6928920" cy="18355680"/>
          </a:xfrm>
        </p:grpSpPr>
        <p:sp>
          <p:nvSpPr>
            <p:cNvPr id="293" name=""/>
            <p:cNvSpPr/>
            <p:nvPr/>
          </p:nvSpPr>
          <p:spPr>
            <a:xfrm rot="15838800">
              <a:off x="5231880" y="617220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076600">
              <a:off x="3162600" y="-2523600"/>
              <a:ext cx="9314280" cy="39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17" y="5338"/>
                  </a:moveTo>
                  <a:arcTo wR="10800" hR="10800" stAng="-1822939" swAng="828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17" y="5338"/>
                  </a:moveTo>
                  <a:arcTo wR="10800" hR="10800" stAng="-1822939" swAng="82859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767640" cy="83664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Свойства функции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8065800" cy="9972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-393120" y="-2890440"/>
            <a:ext cx="10405080" cy="11230920"/>
            <a:chOff x="-393120" y="-2890440"/>
            <a:chExt cx="10405080" cy="11230920"/>
          </a:xfrm>
        </p:grpSpPr>
        <p:sp>
          <p:nvSpPr>
            <p:cNvPr id="298" name=""/>
            <p:cNvSpPr/>
            <p:nvPr/>
          </p:nvSpPr>
          <p:spPr>
            <a:xfrm>
              <a:off x="1698840" y="1184040"/>
              <a:ext cx="999720" cy="3073680"/>
            </a:xfrm>
            <a:prstGeom prst="rect">
              <a:avLst/>
            </a:prstGeom>
            <a:solidFill>
              <a:srgbClr val="bcd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698840" y="1184040"/>
              <a:ext cx="6195960" cy="3073680"/>
              <a:chOff x="1698840" y="1184040"/>
              <a:chExt cx="6195960" cy="30736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1698840" y="1184040"/>
                <a:ext cx="6195960" cy="3073680"/>
                <a:chOff x="1698840" y="1184040"/>
                <a:chExt cx="6195960" cy="3073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698840" y="206208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5281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1668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77260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607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2851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04072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5525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0848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6512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8210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698840" y="294120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698840" y="22816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698840" y="2501640"/>
                  <a:ext cx="619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98840" y="184320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57660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698840" y="337968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98840" y="14036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98840" y="1623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98840" y="35996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98840" y="316008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98840" y="40388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98840" y="3819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33252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2363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7478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992280" y="118404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048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4804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72488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687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8454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60136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5692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08844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1128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98840" y="2721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4796640" y="1272240"/>
                <a:ext cx="0" cy="29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flipV="1">
              <a:off x="4796640" y="1184040"/>
              <a:ext cx="0" cy="307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1920" y="2720880"/>
              <a:ext cx="61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04320" y="1098000"/>
              <a:ext cx="20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80440" y="2369520"/>
              <a:ext cx="307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09200" y="2062800"/>
              <a:ext cx="30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59160" y="3027600"/>
              <a:ext cx="46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5" name=""/>
            <p:cNvGraphicFramePr/>
            <p:nvPr/>
          </p:nvGraphicFramePr>
          <p:xfrm>
            <a:off x="6014520" y="2897280"/>
            <a:ext cx="290880" cy="278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4520" y="2897280"/>
                      <a:ext cx="290880" cy="2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7" name=""/>
            <p:cNvGraphicFramePr/>
            <p:nvPr/>
          </p:nvGraphicFramePr>
          <p:xfrm>
            <a:off x="4453920" y="2413800"/>
            <a:ext cx="239400" cy="324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53920" y="2413800"/>
                      <a:ext cx="23940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"/>
            <p:cNvGraphicFramePr/>
            <p:nvPr/>
          </p:nvGraphicFramePr>
          <p:xfrm>
            <a:off x="3038400" y="2853000"/>
            <a:ext cx="361080" cy="278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38400" y="2853000"/>
                      <a:ext cx="361080" cy="2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"/>
            <p:cNvGraphicFramePr/>
            <p:nvPr/>
          </p:nvGraphicFramePr>
          <p:xfrm>
            <a:off x="5331600" y="2809800"/>
            <a:ext cx="361080" cy="603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1600" y="2809800"/>
                      <a:ext cx="3610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"/>
            <p:cNvGraphicFramePr/>
            <p:nvPr/>
          </p:nvGraphicFramePr>
          <p:xfrm>
            <a:off x="3820320" y="2809800"/>
            <a:ext cx="309240" cy="603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20320" y="2809800"/>
                      <a:ext cx="30924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"/>
            <p:cNvSpPr/>
            <p:nvPr/>
          </p:nvSpPr>
          <p:spPr>
            <a:xfrm>
              <a:off x="4064040" y="2633400"/>
              <a:ext cx="0" cy="18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98000" y="315972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98000" y="228204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28520" y="263340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60040" y="263340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78840" y="1053360"/>
              <a:ext cx="1102680" cy="520560"/>
            </a:xfrm>
            <a:prstGeom prst="rect">
              <a:avLst/>
            </a:prstGeom>
            <a:solidFill>
              <a:srgbClr val="bcd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у=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tg</a:t>
              </a:r>
              <a:r>
                <a:rPr b="0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3252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28520" y="127296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64040" y="131580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531880" y="-2889360"/>
              <a:ext cx="4654800" cy="11229480"/>
              <a:chOff x="2531880" y="-2889360"/>
              <a:chExt cx="4654800" cy="11229480"/>
            </a:xfrm>
          </p:grpSpPr>
          <p:sp>
            <p:nvSpPr>
              <p:cNvPr id="365" name=""/>
              <p:cNvSpPr/>
              <p:nvPr/>
            </p:nvSpPr>
            <p:spPr>
              <a:xfrm rot="5076600">
                <a:off x="1293120" y="-1275840"/>
                <a:ext cx="5677920" cy="2678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5838800">
                <a:off x="2664360" y="3977280"/>
                <a:ext cx="5677920" cy="278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60100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6804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9120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2452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6845040" y="2853000"/>
            <a:ext cx="362520" cy="5569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845040" y="2853000"/>
                      <a:ext cx="362520" cy="55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7532280" y="2897280"/>
                  <a:ext cx="3621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258280" y="2809800"/>
                  <a:ext cx="528480" cy="52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1698840" y="2853000"/>
                  <a:ext cx="365760" cy="29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6" name=""/>
            <p:cNvSpPr/>
            <p:nvPr/>
          </p:nvSpPr>
          <p:spPr>
            <a:xfrm>
              <a:off x="2601000" y="131580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91200" y="127296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3996360" y="-2889360"/>
              <a:ext cx="4654800" cy="11229480"/>
              <a:chOff x="3996360" y="-2889360"/>
              <a:chExt cx="4654800" cy="11229480"/>
            </a:xfrm>
          </p:grpSpPr>
          <p:sp>
            <p:nvSpPr>
              <p:cNvPr id="379" name=""/>
              <p:cNvSpPr/>
              <p:nvPr/>
            </p:nvSpPr>
            <p:spPr>
              <a:xfrm rot="5076600">
                <a:off x="2757600" y="-1275840"/>
                <a:ext cx="5677920" cy="2678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838800">
                <a:off x="4128840" y="3977280"/>
                <a:ext cx="5677920" cy="278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1070640" y="-2889720"/>
              <a:ext cx="4649760" cy="11230200"/>
              <a:chOff x="1070640" y="-2889720"/>
              <a:chExt cx="4649760" cy="11230200"/>
            </a:xfrm>
          </p:grpSpPr>
          <p:sp>
            <p:nvSpPr>
              <p:cNvPr id="382" name=""/>
              <p:cNvSpPr/>
              <p:nvPr/>
            </p:nvSpPr>
            <p:spPr>
              <a:xfrm rot="5076600">
                <a:off x="-169200" y="-1274760"/>
                <a:ext cx="5677920" cy="267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838800">
                <a:off x="1199880" y="3979800"/>
                <a:ext cx="5677920" cy="278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-393120" y="-2890440"/>
              <a:ext cx="4610160" cy="11213280"/>
              <a:chOff x="-393120" y="-2890440"/>
              <a:chExt cx="4610160" cy="11213280"/>
            </a:xfrm>
          </p:grpSpPr>
          <p:sp>
            <p:nvSpPr>
              <p:cNvPr id="385" name=""/>
              <p:cNvSpPr/>
              <p:nvPr/>
            </p:nvSpPr>
            <p:spPr>
              <a:xfrm rot="5076600">
                <a:off x="-1633320" y="-1275480"/>
                <a:ext cx="5679360" cy="2676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5838800">
                <a:off x="-250920" y="4020480"/>
                <a:ext cx="5679360" cy="267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342" y="5742"/>
                    </a:moveTo>
                    <a:arcTo wR="10800" hR="10800" stAng="-1675720" swAng="6813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342" y="5742"/>
                    </a:moveTo>
                    <a:arcTo wR="10800" hR="10800" stAng="-1675720" swAng="68137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5411160" y="-2872440"/>
              <a:ext cx="4600800" cy="11208960"/>
              <a:chOff x="5411160" y="-2872440"/>
              <a:chExt cx="4600800" cy="11208960"/>
            </a:xfrm>
          </p:grpSpPr>
          <p:sp>
            <p:nvSpPr>
              <p:cNvPr id="388" name=""/>
              <p:cNvSpPr/>
              <p:nvPr/>
            </p:nvSpPr>
            <p:spPr>
              <a:xfrm rot="15838800">
                <a:off x="5543640" y="4033800"/>
                <a:ext cx="5679360" cy="2676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5076600">
                <a:off x="4171320" y="-1257840"/>
                <a:ext cx="5679360" cy="26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17" y="5338"/>
                    </a:moveTo>
                    <a:arcTo wR="10800" hR="10800" stAng="-1822939" swAng="828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17" y="5338"/>
                    </a:moveTo>
                    <a:arcTo wR="10800" hR="10800" stAng="-1822939" swAng="82859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1118880" y="43657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Нули функци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4"/>
          <a:stretch/>
        </p:blipFill>
        <p:spPr>
          <a:xfrm>
            <a:off x="176364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5"/>
          <a:stretch/>
        </p:blipFill>
        <p:spPr>
          <a:xfrm>
            <a:off x="327672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6"/>
          <a:stretch/>
        </p:blipFill>
        <p:spPr>
          <a:xfrm>
            <a:off x="471636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7"/>
          <a:stretch/>
        </p:blipFill>
        <p:spPr>
          <a:xfrm>
            <a:off x="615636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8"/>
          <a:stretch/>
        </p:blipFill>
        <p:spPr>
          <a:xfrm>
            <a:off x="7596360" y="2637000"/>
            <a:ext cx="123480" cy="123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11960" y="4365720"/>
            <a:ext cx="39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 = 0   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13360"/>
            <a:ext cx="815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у(х)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 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(0;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)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и сдвиге н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є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85880" y="566100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у(х)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 хє (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; 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и сдвиге н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є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2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9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4437000"/>
            <a:ext cx="971640" cy="242100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-473760" y="-4105800"/>
            <a:ext cx="10627560" cy="13537800"/>
            <a:chOff x="-473760" y="-4105800"/>
            <a:chExt cx="10627560" cy="13537800"/>
          </a:xfrm>
        </p:grpSpPr>
        <p:sp>
          <p:nvSpPr>
            <p:cNvPr id="401" name=""/>
            <p:cNvSpPr/>
            <p:nvPr/>
          </p:nvSpPr>
          <p:spPr>
            <a:xfrm>
              <a:off x="1698480" y="801720"/>
              <a:ext cx="1000440" cy="3714840"/>
            </a:xfrm>
            <a:prstGeom prst="rect">
              <a:avLst/>
            </a:prstGeom>
            <a:solidFill>
              <a:srgbClr val="bcd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1698480" y="801720"/>
              <a:ext cx="6196320" cy="3714840"/>
              <a:chOff x="1698480" y="801720"/>
              <a:chExt cx="6196320" cy="371484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698480" y="801720"/>
                <a:ext cx="6196320" cy="3714840"/>
                <a:chOff x="1698480" y="801720"/>
                <a:chExt cx="6196320" cy="37148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698480" y="1863000"/>
                  <a:ext cx="607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5281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1668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7722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607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848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04072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5522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30812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06476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8206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698480" y="2925360"/>
                  <a:ext cx="607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98480" y="21283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698480" y="2394000"/>
                  <a:ext cx="619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698480" y="159840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57660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98480" y="3455280"/>
                  <a:ext cx="6123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698480" y="106704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698480" y="13327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698480" y="372096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698480" y="3189960"/>
                  <a:ext cx="6123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698480" y="42523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698480" y="398664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33216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2363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7478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92280" y="80172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5048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4804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72452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8684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8450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0100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35656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08808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1124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698480" y="265968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4796640" y="908280"/>
                <a:ext cx="0" cy="35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V="1">
              <a:off x="4797360" y="801360"/>
              <a:ext cx="0" cy="371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71560" y="2658960"/>
              <a:ext cx="612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02160" y="728640"/>
              <a:ext cx="225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3960" y="2254320"/>
              <a:ext cx="326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4720" y="17733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72000" y="299736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48" name=""/>
            <p:cNvGraphicFramePr/>
            <p:nvPr/>
          </p:nvGraphicFramePr>
          <p:xfrm>
            <a:off x="6014880" y="2871720"/>
            <a:ext cx="290520" cy="33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4880" y="2871720"/>
                      <a:ext cx="290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"/>
            <p:cNvGraphicFramePr/>
            <p:nvPr/>
          </p:nvGraphicFramePr>
          <p:xfrm>
            <a:off x="4454640" y="2287440"/>
            <a:ext cx="237960" cy="39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4640" y="2287440"/>
                      <a:ext cx="23796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2" name=""/>
            <p:cNvGraphicFramePr/>
            <p:nvPr/>
          </p:nvGraphicFramePr>
          <p:xfrm>
            <a:off x="3038400" y="2817720"/>
            <a:ext cx="362160" cy="336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38400" y="2817720"/>
                      <a:ext cx="36216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4" name=""/>
            <p:cNvGraphicFramePr/>
            <p:nvPr/>
          </p:nvGraphicFramePr>
          <p:xfrm>
            <a:off x="5332320" y="2766960"/>
            <a:ext cx="360360" cy="728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2320" y="2766960"/>
                      <a:ext cx="36036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6" name=""/>
            <p:cNvGraphicFramePr/>
            <p:nvPr/>
          </p:nvGraphicFramePr>
          <p:xfrm>
            <a:off x="3819600" y="2766960"/>
            <a:ext cx="309600" cy="728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19600" y="2766960"/>
                      <a:ext cx="30960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8" name=""/>
            <p:cNvSpPr/>
            <p:nvPr/>
          </p:nvSpPr>
          <p:spPr>
            <a:xfrm>
              <a:off x="4064040" y="25527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97280" y="3189240"/>
              <a:ext cx="20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7280" y="2128680"/>
              <a:ext cx="20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29240" y="255276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59680" y="255276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3216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29240" y="909720"/>
              <a:ext cx="0" cy="350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4040" y="961920"/>
              <a:ext cx="0" cy="35006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2451240" y="-4105800"/>
              <a:ext cx="4825800" cy="13537800"/>
              <a:chOff x="2451240" y="-4105800"/>
              <a:chExt cx="4825800" cy="13537800"/>
            </a:xfrm>
          </p:grpSpPr>
          <p:sp>
            <p:nvSpPr>
              <p:cNvPr id="467" name=""/>
              <p:cNvSpPr/>
              <p:nvPr/>
            </p:nvSpPr>
            <p:spPr>
              <a:xfrm rot="5076600">
                <a:off x="676440" y="-1903320"/>
                <a:ext cx="6860160" cy="267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5838800">
                <a:off x="2102760" y="4482360"/>
                <a:ext cx="6860160" cy="278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260208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6840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9120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2488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3" name=""/>
            <p:cNvGraphicFramePr/>
            <p:nvPr/>
          </p:nvGraphicFramePr>
          <p:xfrm>
            <a:off x="6845400" y="2817720"/>
            <a:ext cx="361800" cy="673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45400" y="2817720"/>
                      <a:ext cx="3618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7532640" y="2871720"/>
                  <a:ext cx="3621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2259000" y="2766960"/>
                  <a:ext cx="52848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1698480" y="2817720"/>
                  <a:ext cx="36684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"/>
            <p:cNvSpPr/>
            <p:nvPr/>
          </p:nvSpPr>
          <p:spPr>
            <a:xfrm>
              <a:off x="2602080" y="961920"/>
              <a:ext cx="0" cy="35006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91200" y="909720"/>
              <a:ext cx="0" cy="350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12840" y="-4105080"/>
              <a:ext cx="4831200" cy="13537080"/>
              <a:chOff x="3912840" y="-4105080"/>
              <a:chExt cx="4831200" cy="13537080"/>
            </a:xfrm>
          </p:grpSpPr>
          <p:sp>
            <p:nvSpPr>
              <p:cNvPr id="481" name=""/>
              <p:cNvSpPr/>
              <p:nvPr/>
            </p:nvSpPr>
            <p:spPr>
              <a:xfrm rot="5076600">
                <a:off x="2139840" y="-1904400"/>
                <a:ext cx="6860160" cy="268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5838800">
                <a:off x="3567600" y="4480200"/>
                <a:ext cx="6860160" cy="278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986760" y="-4105800"/>
              <a:ext cx="4827240" cy="13537800"/>
              <a:chOff x="986760" y="-4105800"/>
              <a:chExt cx="4827240" cy="13537800"/>
            </a:xfrm>
          </p:grpSpPr>
          <p:sp>
            <p:nvSpPr>
              <p:cNvPr id="484" name=""/>
              <p:cNvSpPr/>
              <p:nvPr/>
            </p:nvSpPr>
            <p:spPr>
              <a:xfrm rot="5076600">
                <a:off x="-787320" y="-1903680"/>
                <a:ext cx="6860160" cy="2677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5838800">
                <a:off x="639360" y="4482000"/>
                <a:ext cx="6860160" cy="27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-473760" y="-4105440"/>
              <a:ext cx="4781520" cy="13509360"/>
              <a:chOff x="-473760" y="-4105440"/>
              <a:chExt cx="4781520" cy="13509360"/>
            </a:xfrm>
          </p:grpSpPr>
          <p:sp>
            <p:nvSpPr>
              <p:cNvPr id="487" name=""/>
              <p:cNvSpPr/>
              <p:nvPr/>
            </p:nvSpPr>
            <p:spPr>
              <a:xfrm rot="5076600">
                <a:off x="-2249640" y="-1901880"/>
                <a:ext cx="6860880" cy="267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5838800">
                <a:off x="-811800" y="4515120"/>
                <a:ext cx="6860880" cy="267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342" y="5742"/>
                    </a:moveTo>
                    <a:arcTo wR="10800" hR="10800" stAng="-1675720" swAng="6813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342" y="5742"/>
                    </a:moveTo>
                    <a:arcTo wR="10800" hR="10800" stAng="-1675720" swAng="68137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380920" y="-4105440"/>
              <a:ext cx="4772880" cy="13506480"/>
              <a:chOff x="5380920" y="-4105440"/>
              <a:chExt cx="4772880" cy="13506480"/>
            </a:xfrm>
          </p:grpSpPr>
          <p:sp>
            <p:nvSpPr>
              <p:cNvPr id="490" name=""/>
              <p:cNvSpPr/>
              <p:nvPr/>
            </p:nvSpPr>
            <p:spPr>
              <a:xfrm rot="15838800">
                <a:off x="5032800" y="4511160"/>
                <a:ext cx="6861600" cy="267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5076600">
                <a:off x="3605400" y="-1902240"/>
                <a:ext cx="6861600" cy="26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17" y="5338"/>
                    </a:moveTo>
                    <a:arcTo wR="10800" hR="10800" stAng="-1822939" swAng="828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17" y="5338"/>
                    </a:moveTo>
                    <a:arcTo wR="10800" hR="10800" stAng="-1822939" swAng="82859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772400" cy="83664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Свойства функции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3"/>
          <a:stretch/>
        </p:blipFill>
        <p:spPr>
          <a:xfrm>
            <a:off x="900000" y="765000"/>
            <a:ext cx="8066160" cy="100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188360" y="90792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4"/>
          <a:stretch/>
        </p:blipFill>
        <p:spPr>
          <a:xfrm>
            <a:off x="694836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5"/>
          <a:stretch/>
        </p:blipFill>
        <p:spPr>
          <a:xfrm>
            <a:off x="543564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6"/>
          <a:stretch/>
        </p:blipFill>
        <p:spPr>
          <a:xfrm>
            <a:off x="399564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7"/>
          <a:stretch/>
        </p:blipFill>
        <p:spPr>
          <a:xfrm>
            <a:off x="2556000" y="256536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472680" y="4581360"/>
            <a:ext cx="83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функция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реде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2680" y="5084640"/>
            <a:ext cx="37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им т. х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8360" y="2492280"/>
            <a:ext cx="36036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00" y="5516640"/>
            <a:ext cx="45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ва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x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8680" y="6093000"/>
            <a:ext cx="87022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очки разры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16360" y="5300640"/>
                <a:ext cx="2503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5" name=""/>
          <p:cNvGrpSpPr/>
          <p:nvPr/>
        </p:nvGrpSpPr>
        <p:grpSpPr>
          <a:xfrm>
            <a:off x="2627280" y="907920"/>
            <a:ext cx="6265800" cy="505080"/>
            <a:chOff x="2627280" y="907920"/>
            <a:chExt cx="6265800" cy="505080"/>
          </a:xfrm>
        </p:grpSpPr>
        <p:sp>
          <p:nvSpPr>
            <p:cNvPr id="506" name=""/>
            <p:cNvSpPr/>
            <p:nvPr/>
          </p:nvSpPr>
          <p:spPr>
            <a:xfrm>
              <a:off x="7451640" y="907920"/>
              <a:ext cx="144144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-10574"/>
                <a:gd name="adj5" fmla="val 158240"/>
                <a:gd name="adj6" fmla="val -29625"/>
              </a:avLst>
            </a:prstGeom>
            <a:solidFill>
              <a:srgbClr val="ff99cc"/>
            </a:solidFill>
            <a:ln w="22320">
              <a:solidFill>
                <a:srgbClr val="000000"/>
              </a:solidFill>
              <a:miter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симпт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995280" y="1052640"/>
              <a:ext cx="324036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2627280" y="980640"/>
              <a:ext cx="46814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508720" y="1052640"/>
              <a:ext cx="180000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0" dur="2000" fill="hold"/>
                                        <p:tgtEl>
                                          <p:spTgt spid="4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Свойства функции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82760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Обл. определения: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жество значений функции: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ериодическая, Т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ечётная функц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Возрастает на всей области опреде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Нули функции у (х) = 0   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у(х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 при хє (0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2)  и при сдвиге н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 у(х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 при хє (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2; 0)   и при сдвиге н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. 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функция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е определена. Имеет точки разрыва графика и асимпт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8255160" y="5373720"/>
            <a:ext cx="888840" cy="148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3924360" y="981000"/>
                <a:ext cx="2735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741672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800"/>
                            </p:stCondLst>
                            <p:childTnLst>
                              <p:par>
                                <p:cTn id="6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01:52Z</dcterms:created>
  <dc:creator>Natali</dc:creator>
  <dc:description/>
  <cp:keywords/>
  <dc:language>en-US</dc:language>
  <cp:lastModifiedBy>Xomyak</cp:lastModifiedBy>
  <dcterms:modified xsi:type="dcterms:W3CDTF">2007-10-22T19:03:14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01049</vt:lpwstr>
  </property>
</Properties>
</file>