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56.jpeg" ContentType="image/jpeg"/>
  <Override PartName="/ppt/media/image22.jpeg" ContentType="image/jpeg"/>
  <Override PartName="/ppt/media/image4.gif" ContentType="image/gif"/>
  <Override PartName="/ppt/media/image8.png" ContentType="image/png"/>
  <Override PartName="/ppt/media/image39.jpeg" ContentType="image/jpeg"/>
  <Override PartName="/ppt/media/image29.jpeg" ContentType="image/jpeg"/>
  <Override PartName="/ppt/media/image7.gif" ContentType="image/gif"/>
  <Override PartName="/ppt/media/image52.jpeg" ContentType="image/jpeg"/>
  <Override PartName="/ppt/media/image5.png" ContentType="image/png"/>
  <Override PartName="/ppt/media/image37.jpeg" ContentType="image/jpeg"/>
  <Override PartName="/ppt/media/image48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40.png" ContentType="image/png"/>
  <Override PartName="/ppt/media/image36.jpeg" ContentType="image/jpeg"/>
  <Override PartName="/ppt/media/image43.png" ContentType="image/png"/>
  <Override PartName="/ppt/media/image53.jpeg" ContentType="image/jpeg"/>
  <Override PartName="/ppt/media/image45.jpeg" ContentType="image/jpeg"/>
  <Override PartName="/ppt/media/image46.jpeg" ContentType="image/jpeg"/>
  <Override PartName="/ppt/media/image41.png" ContentType="image/png"/>
  <Override PartName="/ppt/media/image38.jpeg" ContentType="image/jpeg"/>
  <Override PartName="/ppt/media/image44.jpeg" ContentType="image/jpeg"/>
  <Override PartName="/ppt/media/image49.png" ContentType="image/png"/>
  <Override PartName="/ppt/media/image54.jpeg" ContentType="image/jpeg"/>
  <Override PartName="/ppt/media/image57.gif" ContentType="image/gif"/>
  <Override PartName="/ppt/media/image31.jpeg" ContentType="image/jpeg"/>
  <Override PartName="/ppt/media/image34.jpeg" ContentType="image/jpeg"/>
  <Override PartName="/ppt/media/image32.jpeg" ContentType="image/jpeg"/>
  <Override PartName="/ppt/media/image3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26.jpeg" ContentType="image/jpeg"/>
  <Override PartName="/ppt/media/image42.png" ContentType="image/png"/>
  <Override PartName="/ppt/media/image6.png" ContentType="image/png"/>
  <Override PartName="/ppt/media/image47.png" ContentType="image/png"/>
  <Override PartName="/ppt/media/image35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CCF-3AE4-435B-B8C7-1391CA47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2E6-BB4C-4439-893C-67682438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23F-5FF6-4F44-8C6D-495D13D7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7CA-553F-4B71-8363-CF8F39C2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955A-5611-4738-8B8C-62A234A1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3489-CB00-4747-817A-5D1A55B4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3CCB-0081-4CA3-8E91-1847D1D1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52CC-3A94-4A1A-9272-8CC124FA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1F71-2D61-4D4E-A810-916DE1DC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BBB4-2082-471D-A1B6-173A6F71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5753-212B-4155-A805-00D6A5F9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9E7-498E-47CE-B104-218856BB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9DC9-DD4D-45A4-85E3-DA454C19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08B1-4613-4F9A-A0BE-0DDBB40E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CD5C-70BE-4D2B-8F8A-DA3AD4F1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0151-F6B7-4CE4-9966-AA85E82C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1329-22BB-4208-9CF0-81347669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E2A-0AF7-49F7-BF0C-E365DD2D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F33-D789-4F6F-B4B5-BEC9F190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9A0-EB60-41C0-A0C7-B7BD81BB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09C-FCCA-47DA-B7E3-62CF4D97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A29-93B4-44D2-87D3-0921107E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D37-FDB8-402A-B38D-CAFFE53E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745-BEFF-450E-823A-E589B32C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4E94-3663-43EE-891A-C6A61D2EAB8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A9CB-85D4-41B6-AF39-740B93E586E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booksite.ru/burmagin/11.gif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5.jpeg"/><Relationship Id="rId5" Type="http://schemas.openxmlformats.org/officeDocument/2006/relationships/image" Target="../media/image53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hyperlink" Target="http://asgard.tgorod.ru/image/femnovg/bb1.jpg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hyperlink" Target="http://www.websib.ru/~gardarika/lavka/ryk4.gif" TargetMode="External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hyperlink" Target="http://sales-books.by.ru/images/big/upir/upir02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edu.ru/files/pics/93.jpg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www.hi-edu.ru/e-books/AK/images/0032-001.jpg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art.anaharsis.ru/design/image/WWW5/N17b.jpg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png"/><Relationship Id="rId3" Type="http://schemas.openxmlformats.org/officeDocument/2006/relationships/hyperlink" Target="http://artklimov.ru/pages/img/20071204164802600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www.binbon.ru/images/goods/3198b.jpg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www.trio54.ru/egedn/eg_tkan.jpg" TargetMode="External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hyperlink" Target="http://paramon30.narod.ru/Monograms/Mini/Avantitul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solovki-monastyr.ru/pod/view/14.jpg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www.free-lance.ru/users/dim3006/upload/fileGaT8IR.jpg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vivovoco.astronet.ru/VV/BOOKS/MERIAN/PART02/MM2.JPG" TargetMode="External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16000" y="0"/>
            <a:ext cx="6696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нига  - искусство слов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и изобра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10" name="favorites_off" descr=""/>
          <p:cNvPicPr/>
          <p:nvPr/>
        </p:nvPicPr>
        <p:blipFill>
          <a:blip r:embed="rId5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11" name="info" descr=""/>
          <p:cNvPicPr/>
          <p:nvPr/>
        </p:nvPicPr>
        <p:blipFill>
          <a:blip r:embed="rId6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12" name="8d07a5de57d2b171164413bb391f45a0" descr=""/>
          <p:cNvPicPr/>
          <p:nvPr/>
        </p:nvPicPr>
        <p:blipFill>
          <a:blip r:embed="rId7"/>
          <a:stretch/>
        </p:blipFill>
        <p:spPr>
          <a:xfrm>
            <a:off x="2700360" y="3573360"/>
            <a:ext cx="3600360" cy="2927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d1d7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479840" y="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a9b8c2"/>
                      </a:solidFill>
                    </a:lnR>
                    <a:lnT>
                      <a:noFill/>
                    </a:lnT>
                    <a:lnB w="5760">
                      <a:solidFill>
                        <a:srgbClr val="a9b8c2"/>
                      </a:solidFill>
                    </a:lnB>
                    <a:solidFill>
                      <a:srgbClr val="d1d7dc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5240" y="375480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27280" y="189000"/>
            <a:ext cx="343368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Шмуцтиту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2448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80624"/>
                </a:solidFill>
                <a:latin typeface="Tahoma"/>
              </a:rPr>
              <a:t>Помещается перед какой либо частью книг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80624"/>
                </a:solidFill>
                <a:latin typeface="Tahoma"/>
              </a:rPr>
              <a:t>может сочета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80624"/>
                </a:solidFill>
                <a:latin typeface="Tahoma"/>
              </a:rPr>
              <a:t>шрифт, орнамент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80624"/>
                </a:solidFill>
                <a:latin typeface="Tahoma"/>
              </a:rPr>
              <a:t>реалистическое или абстракт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80624"/>
                </a:solidFill>
                <a:latin typeface="Tahoma"/>
              </a:rPr>
              <a:t>изображ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Картинка 1 из 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260280"/>
            <a:ext cx="3068640" cy="4321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067280" y="1197000"/>
            <a:ext cx="4806720" cy="3505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2 из 14"/>
          <p:cNvPicPr/>
          <p:nvPr/>
        </p:nvPicPr>
        <p:blipFill>
          <a:blip r:embed="rId5"/>
          <a:stretch/>
        </p:blipFill>
        <p:spPr>
          <a:xfrm>
            <a:off x="2700360" y="1916280"/>
            <a:ext cx="5505480" cy="35780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03640" y="259920"/>
            <a:ext cx="249696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Форзац.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345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орзац используется как элемент художественного оформления. На нем могут быть помещены рисунок, орнамент, узор, текст, связанные с содержанием книги. Даже самый цвет форзаца может быть использован для того, чтобы связать оформление переплета и титульного листа. Своеобразной разновидностью узорного форзаца является форзац из тисненой бумаг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форзац"/>
          <p:cNvPicPr/>
          <p:nvPr/>
        </p:nvPicPr>
        <p:blipFill>
          <a:blip r:embed="rId2"/>
          <a:stretch/>
        </p:blipFill>
        <p:spPr>
          <a:xfrm>
            <a:off x="3635280" y="1052640"/>
            <a:ext cx="5326200" cy="3524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Картинка 9 из 543"/>
          <p:cNvPicPr/>
          <p:nvPr/>
        </p:nvPicPr>
        <p:blipFill>
          <a:blip r:embed="rId3"/>
          <a:stretch/>
        </p:blipFill>
        <p:spPr>
          <a:xfrm>
            <a:off x="3564000" y="1700280"/>
            <a:ext cx="5184720" cy="3862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3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1981080"/>
            <a:ext cx="30970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крыт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195640" y="189000"/>
            <a:ext cx="446400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репле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5" name="" descr="Книги в твердом переплете"/>
          <p:cNvPicPr/>
          <p:nvPr/>
        </p:nvPicPr>
        <p:blipFill>
          <a:blip r:embed="rId2"/>
          <a:stretch/>
        </p:blipFill>
        <p:spPr>
          <a:xfrm>
            <a:off x="4500720" y="1341360"/>
            <a:ext cx="3779640" cy="3780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Картинка 17 из 36"/>
          <p:cNvPicPr/>
          <p:nvPr/>
        </p:nvPicPr>
        <p:blipFill>
          <a:blip r:embed="rId3"/>
          <a:stretch/>
        </p:blipFill>
        <p:spPr>
          <a:xfrm>
            <a:off x="3492360" y="1916280"/>
            <a:ext cx="4240440" cy="3676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8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835280" y="1484280"/>
            <a:ext cx="59767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cript MT Bold"/>
              </a:rPr>
              <a:t>Особое внимание уделялось первой букве – буквице. Она рисовалась особенно нарядной и ярк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195640" y="333360"/>
            <a:ext cx="439236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Буквица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79" name="Knyaz1" descr="Knyaz1.gif"/>
          <p:cNvPicPr/>
          <p:nvPr/>
        </p:nvPicPr>
        <p:blipFill>
          <a:blip r:embed="rId1"/>
          <a:stretch/>
        </p:blipFill>
        <p:spPr>
          <a:xfrm>
            <a:off x="684360" y="2349360"/>
            <a:ext cx="2017440" cy="4321440"/>
          </a:xfrm>
          <a:prstGeom prst="rect">
            <a:avLst/>
          </a:prstGeom>
          <a:ln w="0">
            <a:noFill/>
          </a:ln>
        </p:spPr>
      </p:pic>
      <p:pic>
        <p:nvPicPr>
          <p:cNvPr id="180" name="Knyaz3" descr="Knyaz3.gif"/>
          <p:cNvPicPr/>
          <p:nvPr/>
        </p:nvPicPr>
        <p:blipFill>
          <a:blip r:embed="rId2"/>
          <a:stretch/>
        </p:blipFill>
        <p:spPr>
          <a:xfrm>
            <a:off x="6659640" y="2349360"/>
            <a:ext cx="1949400" cy="4176720"/>
          </a:xfrm>
          <a:prstGeom prst="rect">
            <a:avLst/>
          </a:prstGeom>
          <a:ln w="0">
            <a:noFill/>
          </a:ln>
        </p:spPr>
      </p:pic>
      <p:pic>
        <p:nvPicPr>
          <p:cNvPr id="181" name="Knyaz2" descr="Knyaz2.gif"/>
          <p:cNvPicPr/>
          <p:nvPr/>
        </p:nvPicPr>
        <p:blipFill>
          <a:blip r:embed="rId3"/>
          <a:stretch/>
        </p:blipFill>
        <p:spPr>
          <a:xfrm>
            <a:off x="3924360" y="2438280"/>
            <a:ext cx="2062080" cy="4419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07" descr=""/>
          <p:cNvPicPr/>
          <p:nvPr/>
        </p:nvPicPr>
        <p:blipFill>
          <a:blip r:embed="rId1"/>
          <a:stretch/>
        </p:blipFill>
        <p:spPr>
          <a:xfrm>
            <a:off x="108000" y="2421000"/>
            <a:ext cx="3481200" cy="3887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lackadder ITC"/>
              </a:rPr>
              <a:t>Вот она появляется в изобразительно орнаментальном окружении, то соседствует с изображением, то вписывается в него, то сама становится фантастическим предметом.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4140000" cy="3897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059280" y="2205000"/>
            <a:ext cx="4178160" cy="3932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572000" y="2060640"/>
            <a:ext cx="4464000" cy="4201920"/>
          </a:xfrm>
          <a:prstGeom prst="rect">
            <a:avLst/>
          </a:prstGeom>
          <a:ln w="0">
            <a:noFill/>
          </a:ln>
        </p:spPr>
      </p:pic>
      <p:pic>
        <p:nvPicPr>
          <p:cNvPr id="187" name="blue01" descr=""/>
          <p:cNvPicPr/>
          <p:nvPr/>
        </p:nvPicPr>
        <p:blipFill>
          <a:blip r:embed="rId5"/>
          <a:stretch/>
        </p:blipFill>
        <p:spPr>
          <a:xfrm>
            <a:off x="6162840" y="1773360"/>
            <a:ext cx="2981160" cy="4968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21" descr=""/>
          <p:cNvPicPr/>
          <p:nvPr/>
        </p:nvPicPr>
        <p:blipFill>
          <a:blip r:embed="rId1"/>
          <a:stretch/>
        </p:blipFill>
        <p:spPr>
          <a:xfrm>
            <a:off x="4211640" y="115920"/>
            <a:ext cx="3600360" cy="3530520"/>
          </a:xfrm>
          <a:prstGeom prst="rect">
            <a:avLst/>
          </a:prstGeom>
          <a:ln w="0">
            <a:noFill/>
          </a:ln>
        </p:spPr>
      </p:pic>
      <p:pic>
        <p:nvPicPr>
          <p:cNvPr id="189" name="10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076720" y="1916280"/>
            <a:ext cx="3781440" cy="388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3851280" cy="2722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1476360" y="4076640"/>
            <a:ext cx="4175280" cy="2435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6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29289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рнамент — это особый вид художественного творчества, который, как считают многие исследователи, не существует в виде самостоятельного произведения, он лишь украшает собой ту или иную вещь, но, тем не менее, «он... представляет собой достаточно сложную художественную структуру, для создания которой используются различные выразительные сред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image001" descr="Африка африканские узоры"/>
          <p:cNvPicPr/>
          <p:nvPr/>
        </p:nvPicPr>
        <p:blipFill>
          <a:blip r:embed="rId1"/>
          <a:srcRect l="0" t="86433" r="0" b="0"/>
          <a:stretch/>
        </p:blipFill>
        <p:spPr>
          <a:xfrm>
            <a:off x="3276720" y="189000"/>
            <a:ext cx="5759280" cy="852480"/>
          </a:xfrm>
          <a:prstGeom prst="rect">
            <a:avLst/>
          </a:prstGeom>
          <a:ln w="0">
            <a:noFill/>
          </a:ln>
        </p:spPr>
      </p:pic>
      <p:pic>
        <p:nvPicPr>
          <p:cNvPr id="195" name="image001" descr="египетские орнаменты"/>
          <p:cNvPicPr/>
          <p:nvPr/>
        </p:nvPicPr>
        <p:blipFill>
          <a:blip r:embed="rId2"/>
          <a:srcRect l="28406" t="0" r="30695" b="63792"/>
          <a:stretch/>
        </p:blipFill>
        <p:spPr>
          <a:xfrm>
            <a:off x="3203640" y="1125360"/>
            <a:ext cx="2197080" cy="2880000"/>
          </a:xfrm>
          <a:prstGeom prst="rect">
            <a:avLst/>
          </a:prstGeom>
          <a:ln w="0">
            <a:noFill/>
          </a:ln>
        </p:spPr>
      </p:pic>
      <p:pic>
        <p:nvPicPr>
          <p:cNvPr id="196" name="image001" descr="античная роспись"/>
          <p:cNvPicPr/>
          <p:nvPr/>
        </p:nvPicPr>
        <p:blipFill>
          <a:blip r:embed="rId3"/>
          <a:srcRect l="0" t="0" r="71554" b="57871"/>
          <a:stretch/>
        </p:blipFill>
        <p:spPr>
          <a:xfrm>
            <a:off x="5580000" y="1125360"/>
            <a:ext cx="1363680" cy="2880000"/>
          </a:xfrm>
          <a:prstGeom prst="rect">
            <a:avLst/>
          </a:prstGeom>
          <a:ln w="0">
            <a:noFill/>
          </a:ln>
        </p:spPr>
      </p:pic>
      <p:pic>
        <p:nvPicPr>
          <p:cNvPr id="197" name="image001" descr="античная роспись"/>
          <p:cNvPicPr/>
          <p:nvPr/>
        </p:nvPicPr>
        <p:blipFill>
          <a:blip r:embed="rId4"/>
          <a:srcRect l="28451" t="32717" r="30407" b="31281"/>
          <a:stretch/>
        </p:blipFill>
        <p:spPr>
          <a:xfrm>
            <a:off x="7215120" y="1125360"/>
            <a:ext cx="1928880" cy="3097440"/>
          </a:xfrm>
          <a:prstGeom prst="rect">
            <a:avLst/>
          </a:prstGeom>
          <a:ln w="0">
            <a:noFill/>
          </a:ln>
        </p:spPr>
      </p:pic>
      <p:pic>
        <p:nvPicPr>
          <p:cNvPr id="198" name="image001" descr="Африка африканские узоры"/>
          <p:cNvPicPr/>
          <p:nvPr/>
        </p:nvPicPr>
        <p:blipFill>
          <a:blip r:embed="rId5"/>
          <a:srcRect l="0" t="0" r="0" b="91233"/>
          <a:stretch/>
        </p:blipFill>
        <p:spPr>
          <a:xfrm>
            <a:off x="3276720" y="4221000"/>
            <a:ext cx="5543280" cy="706680"/>
          </a:xfrm>
          <a:prstGeom prst="rect">
            <a:avLst/>
          </a:prstGeom>
          <a:ln w="0">
            <a:noFill/>
          </a:ln>
        </p:spPr>
      </p:pic>
      <p:pic>
        <p:nvPicPr>
          <p:cNvPr id="199" name="image001" descr="античная роспись"/>
          <p:cNvPicPr/>
          <p:nvPr/>
        </p:nvPicPr>
        <p:blipFill>
          <a:blip r:embed="rId6"/>
          <a:srcRect l="0" t="48780" r="68345" b="31281"/>
          <a:stretch/>
        </p:blipFill>
        <p:spPr>
          <a:xfrm>
            <a:off x="4788000" y="4149720"/>
            <a:ext cx="2663640" cy="239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00000" y="1125360"/>
            <a:ext cx="3888000" cy="5472360"/>
          </a:xfrm>
          <a:prstGeom prst="rect">
            <a:avLst/>
          </a:pr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image001" descr="Африка африканские узоры"/>
          <p:cNvPicPr/>
          <p:nvPr/>
        </p:nvPicPr>
        <p:blipFill>
          <a:blip r:embed="rId1"/>
          <a:srcRect l="0" t="0" r="0" b="91433"/>
          <a:stretch/>
        </p:blipFill>
        <p:spPr>
          <a:xfrm>
            <a:off x="1116000" y="1268280"/>
            <a:ext cx="3456000" cy="343080"/>
          </a:xfrm>
          <a:prstGeom prst="rect">
            <a:avLst/>
          </a:prstGeom>
          <a:ln w="0">
            <a:noFill/>
          </a:ln>
        </p:spPr>
      </p:pic>
      <p:pic>
        <p:nvPicPr>
          <p:cNvPr id="202" name="image001" descr="античные орнаменты"/>
          <p:cNvPicPr/>
          <p:nvPr/>
        </p:nvPicPr>
        <p:blipFill>
          <a:blip r:embed="rId2"/>
          <a:srcRect l="0" t="0" r="48517" b="82763"/>
          <a:stretch/>
        </p:blipFill>
        <p:spPr>
          <a:xfrm>
            <a:off x="1476360" y="5229360"/>
            <a:ext cx="2629080" cy="1314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87280" y="162864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162864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066920" y="63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63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333360"/>
            <a:ext cx="4572000" cy="5040360"/>
          </a:xfrm>
          <a:prstGeom prst="verticalScroll">
            <a:avLst>
              <a:gd name="adj" fmla="val 12500"/>
            </a:avLst>
          </a:pr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траницы кни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огут украш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рнаментально – декорати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лос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ледняя полоса в книге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лаве или разде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акже мо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канчиваться  орнамент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екоративной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южетной концов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6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6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6816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99"/>
                </a:solidFill>
                <a:latin typeface="Monotype Corsiva"/>
              </a:rPr>
              <a:t>Спасибо</a:t>
            </a:r>
            <a:br>
              <a:rPr sz="8000"/>
            </a:br>
            <a:r>
              <a:rPr b="1" i="1" lang="en-US" sz="8000" spc="-1" strike="noStrike">
                <a:solidFill>
                  <a:srgbClr val="000099"/>
                </a:solidFill>
                <a:latin typeface="Monotype Corsiva"/>
              </a:rPr>
              <a:t>за внимание!!!</a:t>
            </a:r>
            <a:endParaRPr b="1" lang="en-US" sz="8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09" name="" descr="mw008"/>
          <p:cNvPicPr/>
          <p:nvPr/>
        </p:nvPicPr>
        <p:blipFill>
          <a:blip r:embed="rId1"/>
          <a:stretch/>
        </p:blipFill>
        <p:spPr>
          <a:xfrm>
            <a:off x="5724360" y="2924280"/>
            <a:ext cx="2800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3840" y="154440"/>
            <a:ext cx="7993440" cy="6101640"/>
            <a:chOff x="33840" y="154440"/>
            <a:chExt cx="7993440" cy="6101640"/>
          </a:xfrm>
        </p:grpSpPr>
        <p:sp>
          <p:nvSpPr>
            <p:cNvPr id="118" name="_s59417"/>
            <p:cNvSpPr/>
            <p:nvPr/>
          </p:nvSpPr>
          <p:spPr>
            <a:xfrm flipH="1">
              <a:off x="1402200" y="3126600"/>
              <a:ext cx="6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59416"/>
            <p:cNvSpPr/>
            <p:nvPr/>
          </p:nvSpPr>
          <p:spPr>
            <a:xfrm>
              <a:off x="33840" y="2383920"/>
              <a:ext cx="1368360" cy="1485360"/>
            </a:xfrm>
            <a:prstGeom prst="ellipse">
              <a:avLst/>
            </a:prstGeom>
            <a:solidFill>
              <a:srgbClr val="bfde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Зрелищно-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игров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59415"/>
            <p:cNvSpPr/>
            <p:nvPr/>
          </p:nvSpPr>
          <p:spPr>
            <a:xfrm>
              <a:off x="2770200" y="3869640"/>
              <a:ext cx="0" cy="74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59414"/>
            <p:cNvSpPr/>
            <p:nvPr/>
          </p:nvSpPr>
          <p:spPr>
            <a:xfrm>
              <a:off x="2086560" y="4612680"/>
              <a:ext cx="1368000" cy="1486080"/>
            </a:xfrm>
            <a:prstGeom prst="ellipse">
              <a:avLst/>
            </a:prstGeom>
            <a:solidFill>
              <a:srgbClr val="bfde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зву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59413"/>
            <p:cNvSpPr/>
            <p:nvPr/>
          </p:nvSpPr>
          <p:spPr>
            <a:xfrm>
              <a:off x="3454560" y="3126600"/>
              <a:ext cx="6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59412"/>
            <p:cNvSpPr/>
            <p:nvPr/>
          </p:nvSpPr>
          <p:spPr>
            <a:xfrm>
              <a:off x="4138920" y="2383920"/>
              <a:ext cx="1368360" cy="1485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сло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59411"/>
            <p:cNvSpPr/>
            <p:nvPr/>
          </p:nvSpPr>
          <p:spPr>
            <a:xfrm flipV="1">
              <a:off x="2770200" y="1640880"/>
              <a:ext cx="0" cy="74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59410"/>
            <p:cNvSpPr/>
            <p:nvPr/>
          </p:nvSpPr>
          <p:spPr>
            <a:xfrm>
              <a:off x="2086560" y="154440"/>
              <a:ext cx="1368000" cy="1486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изображ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59409"/>
            <p:cNvSpPr/>
            <p:nvPr/>
          </p:nvSpPr>
          <p:spPr>
            <a:xfrm>
              <a:off x="2086560" y="2383920"/>
              <a:ext cx="1368000" cy="1485360"/>
            </a:xfrm>
            <a:prstGeom prst="ellipse">
              <a:avLst/>
            </a:prstGeom>
            <a:solidFill>
              <a:srgbClr val="bfde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Вид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искус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mw003"/>
            <p:cNvPicPr/>
            <p:nvPr/>
          </p:nvPicPr>
          <p:blipFill>
            <a:blip r:embed="rId3"/>
            <a:stretch/>
          </p:blipFill>
          <p:spPr>
            <a:xfrm>
              <a:off x="5578560" y="3069000"/>
              <a:ext cx="2448720" cy="318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619280" y="333360"/>
            <a:ext cx="576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чем писали 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предки?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94560" y="189000"/>
            <a:ext cx="1549440" cy="3097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826560" y="2133360"/>
            <a:ext cx="2449800" cy="431964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Первая в мире исписанная береста была обнаружена в 1951 году в Великом Новгороде, на Неревском раскопе, на древней мостовой Холопьей улице в слоях 14-15 веков. ***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987640" y="2276640"/>
            <a:ext cx="5184720" cy="2955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Картинка 29 из 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35280" y="2492280"/>
            <a:ext cx="3038400" cy="378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3995640" y="3068640"/>
            <a:ext cx="3745080" cy="2809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а 6 из 40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140360" y="2637000"/>
            <a:ext cx="3460680" cy="4221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99"/>
                </a:solidFill>
                <a:latin typeface="Monotype Corsiva"/>
              </a:rPr>
              <a:t>Первые книги на Руси</a:t>
            </a:r>
            <a:endParaRPr b="1" lang="en-US" sz="6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042560"/>
            <a:ext cx="2808360" cy="6677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</a:rPr>
              <a:t>  </a:t>
            </a:r>
            <a:r>
              <a:rPr b="1" i="1" lang="ru-RU" sz="2400" spc="-1" strike="noStrike">
                <a:solidFill>
                  <a:srgbClr val="ff3300"/>
                </a:solidFill>
                <a:latin typeface="Edwardian Script ITC"/>
              </a:rPr>
              <a:t>Печатный станок Ивана Федор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Edwardian Script ITC"/>
              </a:rPr>
              <a:t>Разхворот из книги «Апостол»156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Edwardian Script ITC"/>
              </a:rPr>
              <a:t>Страницы из «Азбуки Ивана Федорова. Львов. 1564 год»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Edwardian Script ITC"/>
              </a:rPr>
              <a:t>                                                </a:t>
            </a:r>
            <a:r>
              <a:rPr b="1" i="1" lang="ru-RU" sz="2400" spc="-1" strike="noStrike">
                <a:solidFill>
                  <a:srgbClr val="000000"/>
                </a:solidFill>
                <a:latin typeface="Edwardian Script ITC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76720" y="1484280"/>
            <a:ext cx="4279680" cy="4897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wpe278.jpg (27541 bytes)"/>
          <p:cNvPicPr/>
          <p:nvPr/>
        </p:nvPicPr>
        <p:blipFill>
          <a:blip r:embed="rId2"/>
          <a:stretch/>
        </p:blipFill>
        <p:spPr>
          <a:xfrm>
            <a:off x="3851280" y="1989000"/>
            <a:ext cx="5423040" cy="3819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616200" cy="506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Monotype Corsiva"/>
              </a:rPr>
              <a:t>«Деяние святых апостолов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314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Brush Script MT"/>
              </a:rPr>
              <a:t>Напечатана 1 марта 1564 года Иваном Федоровым и Петром Мстиславц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2889360" cy="4248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8 из 1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1557360"/>
            <a:ext cx="2889360" cy="468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2 из 1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08360" y="1844640"/>
            <a:ext cx="3403800" cy="453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а 2 из 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87640" y="2924280"/>
            <a:ext cx="3589200" cy="3933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Monotype Corsiva"/>
              </a:rPr>
              <a:t>Искусство книги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6961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rush Script MT"/>
              </a:rPr>
              <a:t>В </a:t>
            </a:r>
            <a:r>
              <a:rPr b="1" i="1" lang="en-US" sz="2800" spc="-1" strike="noStrike">
                <a:solidFill>
                  <a:srgbClr val="000000"/>
                </a:solidFill>
                <a:latin typeface="Brush Script MT"/>
              </a:rPr>
              <a:t>XX </a:t>
            </a:r>
            <a:r>
              <a:rPr b="1" i="1" lang="ru-RU" sz="2800" spc="-1" strike="noStrike">
                <a:solidFill>
                  <a:srgbClr val="000000"/>
                </a:solidFill>
                <a:latin typeface="Brush Script MT"/>
              </a:rPr>
              <a:t>веке возникает такое понятие как ДИЗАЙН КНИГ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Картинка 19 из 22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06064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40360" y="1844640"/>
            <a:ext cx="2735280" cy="4753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Все элементы книж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оформления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располож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внут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книги, а так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внешние элеме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соз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целостное произ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3311640" cy="194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Script MT Bold"/>
              </a:rPr>
              <a:t>Супероблож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Script MT Bold"/>
              </a:rPr>
              <a:t>Перепл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Script MT Bold"/>
              </a:rPr>
              <a:t>Облож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360" y="404640"/>
            <a:ext cx="7704000" cy="136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нешние элементы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формления книг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2" name="" descr="Картинка 9 из 9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90920" y="1773360"/>
            <a:ext cx="4753080" cy="2814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53" name="" descr="Картинка 12 из 9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2133720"/>
            <a:ext cx="3256200" cy="4724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Картинка 29 из 9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3068640"/>
            <a:ext cx="4170240" cy="3106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3527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ladimir Script"/>
              </a:rPr>
              <a:t>Авантитул, фортитул - (Франц. avant - перед) - книгоиздательский термин, которым обозначают страницу, предшествующую титульному листу. С авантитула начинается большинство книг, хотя, в отличие от титула, он не является обязательным в структуре издания. На авантитул, как правило, выносятся некоторые титульные данные: название серии, заголовок, издательская марка и т. 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6920" y="260280"/>
            <a:ext cx="7561440" cy="1473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agneto"/>
              </a:rPr>
              <a:t>внутренние элемент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agneto"/>
              <a:ea typeface="Magnet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agneto"/>
              </a:rPr>
              <a:t>оформления книг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agneto"/>
              <a:ea typeface="Magneto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651640" y="1628640"/>
            <a:ext cx="3706560" cy="4680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Картинка 13 из 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1916280"/>
            <a:ext cx="3683160" cy="48132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280" y="2060640"/>
            <a:ext cx="27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Kunstler Script"/>
              </a:rPr>
              <a:t>Размещается на правой нечетной половине первого развор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059280" y="189000"/>
            <a:ext cx="252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Sylfaen"/>
              </a:rPr>
              <a:t>Титу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61" name="" descr="Картинка 16 из 43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98100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Картинка 7 из 4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3240" y="1773360"/>
            <a:ext cx="5000760" cy="2825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Картинка 78 из 43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48000" y="2349360"/>
            <a:ext cx="3098880" cy="4104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4:01:41Z</dcterms:created>
  <dc:creator>net00</dc:creator>
  <dc:description/>
  <dc:language>en-US</dc:language>
  <cp:lastModifiedBy>net00</cp:lastModifiedBy>
  <dcterms:modified xsi:type="dcterms:W3CDTF">2009-12-26T04:11:39Z</dcterms:modified>
  <cp:revision>10</cp:revision>
  <dc:subject/>
  <dc:title>Слайд 1</dc:title>
</cp:coreProperties>
</file>