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56.jpeg" ContentType="image/jpeg"/>
  <Override PartName="/ppt/media/image22.jpeg" ContentType="image/jpeg"/>
  <Override PartName="/ppt/media/image4.gif" ContentType="image/gif"/>
  <Override PartName="/ppt/media/image8.png" ContentType="image/png"/>
  <Override PartName="/ppt/media/image39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5.png" ContentType="image/png"/>
  <Override PartName="/ppt/media/image37.jpeg" ContentType="image/jpeg"/>
  <Override PartName="/ppt/media/image48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40.png" ContentType="image/png"/>
  <Override PartName="/ppt/media/image36.jpeg" ContentType="image/jpeg"/>
  <Override PartName="/ppt/media/image43.png" ContentType="image/png"/>
  <Override PartName="/ppt/media/image53.jpeg" ContentType="image/jpeg"/>
  <Override PartName="/ppt/media/image45.jpeg" ContentType="image/jpeg"/>
  <Override PartName="/ppt/media/image46.jpeg" ContentType="image/jpeg"/>
  <Override PartName="/ppt/media/image41.png" ContentType="image/png"/>
  <Override PartName="/ppt/media/image38.jpeg" ContentType="image/jpeg"/>
  <Override PartName="/ppt/media/image44.jpeg" ContentType="image/jpeg"/>
  <Override PartName="/ppt/media/image49.png" ContentType="image/png"/>
  <Override PartName="/ppt/media/image54.jpeg" ContentType="image/jpeg"/>
  <Override PartName="/ppt/media/image57.gif" ContentType="image/gif"/>
  <Override PartName="/ppt/media/image31.jpeg" ContentType="image/jpeg"/>
  <Override PartName="/ppt/media/image34.jpeg" ContentType="image/jpeg"/>
  <Override PartName="/ppt/media/image32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26.jpeg" ContentType="image/jpeg"/>
  <Override PartName="/ppt/media/image42.png" ContentType="image/png"/>
  <Override PartName="/ppt/media/image6.png" ContentType="image/pn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E9E-B604-4A9B-91A0-566E3740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E4F-4B06-49DB-9BA6-8D0142FB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CE9-CD73-4344-ADCB-69A7D31E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7A7-E927-4135-84D8-75EA0E41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DD7D-F9F2-494E-B944-B4FE2A6F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6D7-0E81-49FE-A016-E61FCB4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6DB-DF33-447C-BAF8-A14C65F5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49C2-740C-4CBE-B6D1-FBC401A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5602-8F81-4E04-AD89-375E866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6E37-A2D6-4D4D-83E2-75EE8D15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4543-8A01-4754-9907-C090921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FC5-632A-41C2-B29C-E4BED3A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3B4-D592-4736-8624-E5DBF7D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7D46-691A-4CD6-A71C-059D712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855-FEBE-413F-A10B-B6FF1737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DB56-AB8A-4A4D-B83D-0A87FF9A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E602-6446-4BEE-A2E3-66A29046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CC1-6E05-4673-BCA2-E4AC3238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492-E7FA-49D7-9559-FA47DF5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AEA-26AD-4B01-BB03-4619F9C7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5A0-4DE4-4AC2-ADF0-895CFB71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A3D-1F94-4CC2-889E-622C2C61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06D-824D-4518-9AD3-D06BB201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4A2-AC6A-4933-B8B8-377311D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98B7-16C4-4486-BFD3-500ADD9980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774B-6829-4A4E-95D4-F645C3148CD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ooksite.ru/burmagin/11.gif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3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hyperlink" Target="http://asgard.tgorod.ru/image/femnovg/bb1.jpg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hyperlink" Target="http://www.websib.ru/~gardarika/lavka/ryk4.gif" TargetMode="External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hyperlink" Target="http://sales-books.by.ru/images/big/upir/upir02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edu.ru/files/pics/93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hi-edu.ru/e-books/AK/images/0032-001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rt.anaharsis.ru/design/image/WWW5/N17b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png"/><Relationship Id="rId3" Type="http://schemas.openxmlformats.org/officeDocument/2006/relationships/hyperlink" Target="http://artklimov.ru/pages/img/20071204164802600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www.binbon.ru/images/goods/3198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www.trio54.ru/egedn/eg_tkan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hyperlink" Target="http://paramon30.narod.ru/Monograms/Mini/Avantitul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olovki-monastyr.ru/pod/view/14.jpg" TargetMode="External"/><Relationship Id="rId3" Type="http://schemas.openxmlformats.org/officeDocument/2006/relationships/image" Target="../media/image30.jpeg"/><Relationship Id="rId4" Type="http://schemas.openxmlformats.org/officeDocument/2006/relationships/hyperlink" Target="http://www.free-lance.ru/users/dim3006/upload/fileGaT8IR.jpg" TargetMode="External"/><Relationship Id="rId5" Type="http://schemas.openxmlformats.org/officeDocument/2006/relationships/image" Target="../media/image31.jpeg"/><Relationship Id="rId6" Type="http://schemas.openxmlformats.org/officeDocument/2006/relationships/hyperlink" Target="http://vivovoco.astronet.ru/VV/BOOKS/MERIAN/PART02/MM2.JPG" TargetMode="External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16000" y="0"/>
            <a:ext cx="669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нига  - искусство сл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изобра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0" name="favorites_off" descr=""/>
          <p:cNvPicPr/>
          <p:nvPr/>
        </p:nvPicPr>
        <p:blipFill>
          <a:blip r:embed="rId5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1" name="info" descr=""/>
          <p:cNvPicPr/>
          <p:nvPr/>
        </p:nvPicPr>
        <p:blipFill>
          <a:blip r:embed="rId6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12" name="8d07a5de57d2b171164413bb391f45a0" descr=""/>
          <p:cNvPicPr/>
          <p:nvPr/>
        </p:nvPicPr>
        <p:blipFill>
          <a:blip r:embed="rId7"/>
          <a:stretch/>
        </p:blipFill>
        <p:spPr>
          <a:xfrm>
            <a:off x="2700360" y="3573360"/>
            <a:ext cx="3600360" cy="2927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d1d7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479840" y="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a9b8c2"/>
                      </a:solidFill>
                    </a:lnR>
                    <a:lnT>
                      <a:noFill/>
                    </a:lnT>
                    <a:lnB w="5760">
                      <a:solidFill>
                        <a:srgbClr val="a9b8c2"/>
                      </a:solidFill>
                    </a:lnB>
                    <a:solidFill>
                      <a:srgbClr val="d1d7d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575240" y="375480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27280" y="189000"/>
            <a:ext cx="343368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Шмуцтиту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2448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Помещается перед какой либо частью книг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может сочета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шрифт, орнамент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реалистическое или абстрак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80624"/>
                </a:solidFill>
                <a:latin typeface="Tahoma"/>
              </a:rPr>
              <a:t>изображ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Картинка 1 из 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60280"/>
            <a:ext cx="3068640" cy="432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067280" y="1197000"/>
            <a:ext cx="480672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2 из 14"/>
          <p:cNvPicPr/>
          <p:nvPr/>
        </p:nvPicPr>
        <p:blipFill>
          <a:blip r:embed="rId5"/>
          <a:stretch/>
        </p:blipFill>
        <p:spPr>
          <a:xfrm>
            <a:off x="2700360" y="1916280"/>
            <a:ext cx="5505480" cy="35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24969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Форзац.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345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орзац используется как элемент художественного оформления. На нем могут быть помещены рисунок, орнамент, узор, текст, связанные с содержанием книги. Даже самый цвет форзаца может быть использован для того, чтобы связать оформление переплета и титульного листа. Своеобразной разновидностью узорного форзаца является форзац из тисненой бумаг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форзац"/>
          <p:cNvPicPr/>
          <p:nvPr/>
        </p:nvPicPr>
        <p:blipFill>
          <a:blip r:embed="rId2"/>
          <a:stretch/>
        </p:blipFill>
        <p:spPr>
          <a:xfrm>
            <a:off x="3635280" y="1052640"/>
            <a:ext cx="5326200" cy="3524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а 9 из 543"/>
          <p:cNvPicPr/>
          <p:nvPr/>
        </p:nvPicPr>
        <p:blipFill>
          <a:blip r:embed="rId3"/>
          <a:stretch/>
        </p:blipFill>
        <p:spPr>
          <a:xfrm>
            <a:off x="3564000" y="1700280"/>
            <a:ext cx="5184720" cy="3862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1981080"/>
            <a:ext cx="30970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верд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195640" y="189000"/>
            <a:ext cx="446400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ерепл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5" name="" descr="Книги в твердом переплете"/>
          <p:cNvPicPr/>
          <p:nvPr/>
        </p:nvPicPr>
        <p:blipFill>
          <a:blip r:embed="rId2"/>
          <a:stretch/>
        </p:blipFill>
        <p:spPr>
          <a:xfrm>
            <a:off x="4500720" y="134136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Картинка 17 из 36"/>
          <p:cNvPicPr/>
          <p:nvPr/>
        </p:nvPicPr>
        <p:blipFill>
          <a:blip r:embed="rId3"/>
          <a:stretch/>
        </p:blipFill>
        <p:spPr>
          <a:xfrm>
            <a:off x="3492360" y="1916280"/>
            <a:ext cx="4240440" cy="3676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835280" y="1484280"/>
            <a:ext cx="59767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cript MT Bold"/>
              </a:rPr>
              <a:t>Особое внимание уделялось первой букве – буквице. Она рисовалась особенно нарядной и ярк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95640" y="333360"/>
            <a:ext cx="4392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Буквица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9" name="Knyaz1" descr="Knyaz1.gif"/>
          <p:cNvPicPr/>
          <p:nvPr/>
        </p:nvPicPr>
        <p:blipFill>
          <a:blip r:embed="rId1"/>
          <a:stretch/>
        </p:blipFill>
        <p:spPr>
          <a:xfrm>
            <a:off x="684360" y="2349360"/>
            <a:ext cx="2017440" cy="4321440"/>
          </a:xfrm>
          <a:prstGeom prst="rect">
            <a:avLst/>
          </a:prstGeom>
          <a:ln w="0">
            <a:noFill/>
          </a:ln>
        </p:spPr>
      </p:pic>
      <p:pic>
        <p:nvPicPr>
          <p:cNvPr id="180" name="Knyaz3" descr="Knyaz3.gif"/>
          <p:cNvPicPr/>
          <p:nvPr/>
        </p:nvPicPr>
        <p:blipFill>
          <a:blip r:embed="rId2"/>
          <a:stretch/>
        </p:blipFill>
        <p:spPr>
          <a:xfrm>
            <a:off x="6659640" y="2349360"/>
            <a:ext cx="1949400" cy="4176720"/>
          </a:xfrm>
          <a:prstGeom prst="rect">
            <a:avLst/>
          </a:prstGeom>
          <a:ln w="0">
            <a:noFill/>
          </a:ln>
        </p:spPr>
      </p:pic>
      <p:pic>
        <p:nvPicPr>
          <p:cNvPr id="181" name="Knyaz2" descr="Knyaz2.gif"/>
          <p:cNvPicPr/>
          <p:nvPr/>
        </p:nvPicPr>
        <p:blipFill>
          <a:blip r:embed="rId3"/>
          <a:stretch/>
        </p:blipFill>
        <p:spPr>
          <a:xfrm>
            <a:off x="3924360" y="2438280"/>
            <a:ext cx="2062080" cy="4419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07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3481200" cy="3887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lackadder ITC"/>
              </a:rPr>
              <a:t>Вот она появляется в изобразительно орнаментальном окружении, то соседствует с изображением, то вписывается в него, то сама становится фантастическим предметом.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4140000" cy="389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4178160" cy="393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572000" y="2060640"/>
            <a:ext cx="4464000" cy="4201920"/>
          </a:xfrm>
          <a:prstGeom prst="rect">
            <a:avLst/>
          </a:prstGeom>
          <a:ln w="0">
            <a:noFill/>
          </a:ln>
        </p:spPr>
      </p:pic>
      <p:pic>
        <p:nvPicPr>
          <p:cNvPr id="187" name="blue01" descr=""/>
          <p:cNvPicPr/>
          <p:nvPr/>
        </p:nvPicPr>
        <p:blipFill>
          <a:blip r:embed="rId5"/>
          <a:stretch/>
        </p:blipFill>
        <p:spPr>
          <a:xfrm>
            <a:off x="6162840" y="1773360"/>
            <a:ext cx="2981160" cy="4968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21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3600360" cy="3530520"/>
          </a:xfrm>
          <a:prstGeom prst="rect">
            <a:avLst/>
          </a:prstGeom>
          <a:ln w="0">
            <a:noFill/>
          </a:ln>
        </p:spPr>
      </p:pic>
      <p:pic>
        <p:nvPicPr>
          <p:cNvPr id="189" name="10" descr=""/>
          <p:cNvPicPr/>
          <p:nvPr/>
        </p:nvPicPr>
        <p:blipFill>
          <a:blip r:embed="rId2"/>
          <a:stretch/>
        </p:blipFill>
        <p:spPr>
          <a:xfrm>
            <a:off x="0" y="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76720" y="1916280"/>
            <a:ext cx="3781440" cy="388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3851280" cy="2722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1476360" y="4076640"/>
            <a:ext cx="4175280" cy="2435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292896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рнамент — это особый вид художественного творчества, который, как считают многие исследователи, не существует в виде самостоятельного произведения, он лишь украшает собой ту или иную вещь, но, тем не менее, «он... представляет собой достаточно сложную художественную структуру, для создания которой используются различные выразительные сред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image001" descr="Африка африканские узоры"/>
          <p:cNvPicPr/>
          <p:nvPr/>
        </p:nvPicPr>
        <p:blipFill>
          <a:blip r:embed="rId1"/>
          <a:srcRect l="0" t="86433" r="0" b="0"/>
          <a:stretch/>
        </p:blipFill>
        <p:spPr>
          <a:xfrm>
            <a:off x="3276720" y="189000"/>
            <a:ext cx="5759280" cy="852480"/>
          </a:xfrm>
          <a:prstGeom prst="rect">
            <a:avLst/>
          </a:prstGeom>
          <a:ln w="0">
            <a:noFill/>
          </a:ln>
        </p:spPr>
      </p:pic>
      <p:pic>
        <p:nvPicPr>
          <p:cNvPr id="195" name="image001" descr="египетские орнаменты"/>
          <p:cNvPicPr/>
          <p:nvPr/>
        </p:nvPicPr>
        <p:blipFill>
          <a:blip r:embed="rId2"/>
          <a:srcRect l="28406" t="0" r="30695" b="63792"/>
          <a:stretch/>
        </p:blipFill>
        <p:spPr>
          <a:xfrm>
            <a:off x="3203640" y="1125360"/>
            <a:ext cx="2197080" cy="2880000"/>
          </a:xfrm>
          <a:prstGeom prst="rect">
            <a:avLst/>
          </a:prstGeom>
          <a:ln w="0">
            <a:noFill/>
          </a:ln>
        </p:spPr>
      </p:pic>
      <p:pic>
        <p:nvPicPr>
          <p:cNvPr id="196" name="image001" descr="античная роспись"/>
          <p:cNvPicPr/>
          <p:nvPr/>
        </p:nvPicPr>
        <p:blipFill>
          <a:blip r:embed="rId3"/>
          <a:srcRect l="0" t="0" r="71554" b="57871"/>
          <a:stretch/>
        </p:blipFill>
        <p:spPr>
          <a:xfrm>
            <a:off x="5580000" y="1125360"/>
            <a:ext cx="1363680" cy="2880000"/>
          </a:xfrm>
          <a:prstGeom prst="rect">
            <a:avLst/>
          </a:prstGeom>
          <a:ln w="0">
            <a:noFill/>
          </a:ln>
        </p:spPr>
      </p:pic>
      <p:pic>
        <p:nvPicPr>
          <p:cNvPr id="197" name="image001" descr="античная роспись"/>
          <p:cNvPicPr/>
          <p:nvPr/>
        </p:nvPicPr>
        <p:blipFill>
          <a:blip r:embed="rId4"/>
          <a:srcRect l="28451" t="32717" r="30407" b="31281"/>
          <a:stretch/>
        </p:blipFill>
        <p:spPr>
          <a:xfrm>
            <a:off x="7215120" y="1125360"/>
            <a:ext cx="1928880" cy="3097440"/>
          </a:xfrm>
          <a:prstGeom prst="rect">
            <a:avLst/>
          </a:prstGeom>
          <a:ln w="0">
            <a:noFill/>
          </a:ln>
        </p:spPr>
      </p:pic>
      <p:pic>
        <p:nvPicPr>
          <p:cNvPr id="198" name="image001" descr="Африка африканские узоры"/>
          <p:cNvPicPr/>
          <p:nvPr/>
        </p:nvPicPr>
        <p:blipFill>
          <a:blip r:embed="rId5"/>
          <a:srcRect l="0" t="0" r="0" b="91233"/>
          <a:stretch/>
        </p:blipFill>
        <p:spPr>
          <a:xfrm>
            <a:off x="3276720" y="4221000"/>
            <a:ext cx="5543280" cy="706680"/>
          </a:xfrm>
          <a:prstGeom prst="rect">
            <a:avLst/>
          </a:prstGeom>
          <a:ln w="0">
            <a:noFill/>
          </a:ln>
        </p:spPr>
      </p:pic>
      <p:pic>
        <p:nvPicPr>
          <p:cNvPr id="199" name="image001" descr="античная роспись"/>
          <p:cNvPicPr/>
          <p:nvPr/>
        </p:nvPicPr>
        <p:blipFill>
          <a:blip r:embed="rId6"/>
          <a:srcRect l="0" t="48780" r="68345" b="31281"/>
          <a:stretch/>
        </p:blipFill>
        <p:spPr>
          <a:xfrm>
            <a:off x="4788000" y="4149720"/>
            <a:ext cx="2663640" cy="23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00000" y="1125360"/>
            <a:ext cx="3888000" cy="5472360"/>
          </a:xfrm>
          <a:prstGeom prst="rect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image001" descr="Африка африканские узоры"/>
          <p:cNvPicPr/>
          <p:nvPr/>
        </p:nvPicPr>
        <p:blipFill>
          <a:blip r:embed="rId1"/>
          <a:srcRect l="0" t="0" r="0" b="91433"/>
          <a:stretch/>
        </p:blipFill>
        <p:spPr>
          <a:xfrm>
            <a:off x="1116000" y="1268280"/>
            <a:ext cx="3456000" cy="343080"/>
          </a:xfrm>
          <a:prstGeom prst="rect">
            <a:avLst/>
          </a:prstGeom>
          <a:ln w="0">
            <a:noFill/>
          </a:ln>
        </p:spPr>
      </p:pic>
      <p:pic>
        <p:nvPicPr>
          <p:cNvPr id="202" name="image001" descr="античные орнаменты"/>
          <p:cNvPicPr/>
          <p:nvPr/>
        </p:nvPicPr>
        <p:blipFill>
          <a:blip r:embed="rId2"/>
          <a:srcRect l="0" t="0" r="48517" b="82763"/>
          <a:stretch/>
        </p:blipFill>
        <p:spPr>
          <a:xfrm>
            <a:off x="1476360" y="5229360"/>
            <a:ext cx="2629080" cy="1314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728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066920" y="63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63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33360"/>
            <a:ext cx="4572000" cy="5040360"/>
          </a:xfrm>
          <a:prstGeom prst="verticalScroll">
            <a:avLst>
              <a:gd name="adj" fmla="val 12500"/>
            </a:avLst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траницы кни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гут украш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рнаментально – декорати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о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ледняя полоса в книге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лаве или разде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кже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канчиваться  орнамен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екоративной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южетной концо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6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681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99"/>
                </a:solidFill>
                <a:latin typeface="Monotype Corsiva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000099"/>
                </a:solidFill>
                <a:latin typeface="Monotype Corsiva"/>
              </a:rPr>
              <a:t>за внимание!!!</a:t>
            </a:r>
            <a:endParaRPr b="1" lang="en-US" sz="8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09" name="" descr="mw008"/>
          <p:cNvPicPr/>
          <p:nvPr/>
        </p:nvPicPr>
        <p:blipFill>
          <a:blip r:embed="rId1"/>
          <a:stretch/>
        </p:blipFill>
        <p:spPr>
          <a:xfrm>
            <a:off x="5724360" y="2924280"/>
            <a:ext cx="2800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3840" y="154440"/>
            <a:ext cx="7993440" cy="6101640"/>
            <a:chOff x="33840" y="154440"/>
            <a:chExt cx="7993440" cy="6101640"/>
          </a:xfrm>
        </p:grpSpPr>
        <p:sp>
          <p:nvSpPr>
            <p:cNvPr id="118" name="_s59417"/>
            <p:cNvSpPr/>
            <p:nvPr/>
          </p:nvSpPr>
          <p:spPr>
            <a:xfrm flipH="1">
              <a:off x="1402200" y="312660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59416"/>
            <p:cNvSpPr/>
            <p:nvPr/>
          </p:nvSpPr>
          <p:spPr>
            <a:xfrm>
              <a:off x="33840" y="2383920"/>
              <a:ext cx="1368360" cy="148536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Зрелищно-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гров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9415"/>
            <p:cNvSpPr/>
            <p:nvPr/>
          </p:nvSpPr>
          <p:spPr>
            <a:xfrm>
              <a:off x="2770200" y="386964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59414"/>
            <p:cNvSpPr/>
            <p:nvPr/>
          </p:nvSpPr>
          <p:spPr>
            <a:xfrm>
              <a:off x="2086560" y="4612680"/>
              <a:ext cx="1368000" cy="148608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зву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59413"/>
            <p:cNvSpPr/>
            <p:nvPr/>
          </p:nvSpPr>
          <p:spPr>
            <a:xfrm>
              <a:off x="3454560" y="3126600"/>
              <a:ext cx="6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59412"/>
            <p:cNvSpPr/>
            <p:nvPr/>
          </p:nvSpPr>
          <p:spPr>
            <a:xfrm>
              <a:off x="4138920" y="2383920"/>
              <a:ext cx="1368360" cy="1485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сл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59411"/>
            <p:cNvSpPr/>
            <p:nvPr/>
          </p:nvSpPr>
          <p:spPr>
            <a:xfrm flipV="1">
              <a:off x="2770200" y="1640880"/>
              <a:ext cx="0" cy="7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59410"/>
            <p:cNvSpPr/>
            <p:nvPr/>
          </p:nvSpPr>
          <p:spPr>
            <a:xfrm>
              <a:off x="2086560" y="154440"/>
              <a:ext cx="1368000" cy="148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зобра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59409"/>
            <p:cNvSpPr/>
            <p:nvPr/>
          </p:nvSpPr>
          <p:spPr>
            <a:xfrm>
              <a:off x="2086560" y="2383920"/>
              <a:ext cx="1368000" cy="1485360"/>
            </a:xfrm>
            <a:prstGeom prst="ellipse">
              <a:avLst/>
            </a:prstGeom>
            <a:solidFill>
              <a:srgbClr val="bfde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Вид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искусст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mw003"/>
            <p:cNvPicPr/>
            <p:nvPr/>
          </p:nvPicPr>
          <p:blipFill>
            <a:blip r:embed="rId3"/>
            <a:stretch/>
          </p:blipFill>
          <p:spPr>
            <a:xfrm>
              <a:off x="5578560" y="3069000"/>
              <a:ext cx="2448720" cy="318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619280" y="333360"/>
            <a:ext cx="576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чем писали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предки?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94560" y="189000"/>
            <a:ext cx="1549440" cy="3097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826560" y="2133360"/>
            <a:ext cx="2449800" cy="431964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Первая в мире исписанная береста была обнаружена в 1951 году в Великом Новгороде, на Неревском раскопе, на древней мостовой Холопьей улице в слоях 14-15 веков. ***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87640" y="2276640"/>
            <a:ext cx="5184720" cy="2955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Картинка 29 из 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35280" y="2492280"/>
            <a:ext cx="3038400" cy="378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3995640" y="30686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6 из 40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140360" y="2637000"/>
            <a:ext cx="3460680" cy="422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99"/>
                </a:solidFill>
                <a:latin typeface="Monotype Corsiva"/>
              </a:rPr>
              <a:t>Первые книги на Руси</a:t>
            </a:r>
            <a:endParaRPr b="1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42560"/>
            <a:ext cx="2808360" cy="667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Печатный станок Ивана Федо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Разхворот из книги «Апостол»156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Страницы из «Азбуки Ивана Федорова. Львов. 1564 год»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Edwardian Script ITC"/>
              </a:rPr>
              <a:t>                                                </a:t>
            </a:r>
            <a:r>
              <a:rPr b="1" i="1" lang="ru-RU" sz="2400" spc="-1" strike="noStrike">
                <a:solidFill>
                  <a:srgbClr val="000000"/>
                </a:solidFill>
                <a:latin typeface="Edwardian Script ITC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484280"/>
            <a:ext cx="4279680" cy="489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wpe278.jpg (27541 bytes)"/>
          <p:cNvPicPr/>
          <p:nvPr/>
        </p:nvPicPr>
        <p:blipFill>
          <a:blip r:embed="rId2"/>
          <a:stretch/>
        </p:blipFill>
        <p:spPr>
          <a:xfrm>
            <a:off x="3851280" y="1989000"/>
            <a:ext cx="5423040" cy="381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16200" cy="506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Monotype Corsiva"/>
              </a:rPr>
              <a:t>«Деяние святых апостолов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31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Brush Script MT"/>
              </a:rPr>
              <a:t>Напечатана 1 марта 1564 года Иваном Федоровым и Петром Мстиславц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2889360" cy="4248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8 из 1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1557360"/>
            <a:ext cx="28893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Картинка 2 из 1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08360" y="184464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2 из 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87640" y="2924280"/>
            <a:ext cx="3589200" cy="3933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Monotype Corsiva"/>
              </a:rPr>
              <a:t>Искусство книги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69613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rush Script MT"/>
              </a:rPr>
              <a:t>В </a:t>
            </a:r>
            <a:r>
              <a:rPr b="1" i="1" lang="en-US" sz="2800" spc="-1" strike="noStrike">
                <a:solidFill>
                  <a:srgbClr val="000000"/>
                </a:solidFill>
                <a:latin typeface="Brush Script MT"/>
              </a:rPr>
              <a:t>XX </a:t>
            </a:r>
            <a:r>
              <a:rPr b="1" i="1" lang="ru-RU" sz="2800" spc="-1" strike="noStrike">
                <a:solidFill>
                  <a:srgbClr val="000000"/>
                </a:solidFill>
                <a:latin typeface="Brush Script MT"/>
              </a:rPr>
              <a:t>веке возникает такое понятие как ДИЗАЙН КНИГ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Картинка 19 из 22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1844640"/>
            <a:ext cx="2735280" cy="4753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се элементы книж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оформлени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располож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ну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книги, а так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внешние элем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соз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целостное произ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iner Hand ITC"/>
              </a:rPr>
              <a:t>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3311640" cy="194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Суперобло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Переп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Script MT Bold"/>
              </a:rPr>
              <a:t>Облож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404640"/>
            <a:ext cx="7704000" cy="136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ешние элемент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формления книг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2" name="" descr="Картинка 9 из 9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90920" y="1773360"/>
            <a:ext cx="4753080" cy="2814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53" name="" descr="Картинка 12 из 9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2133720"/>
            <a:ext cx="3256200" cy="4724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29 из 9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3068640"/>
            <a:ext cx="4170240" cy="3106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352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ladimir Script"/>
              </a:rPr>
              <a:t>Авантитул, фортитул - (Франц. avant - перед) - книгоиздательский термин, которым обозначают страницу, предшествующую титульному листу. С авантитула начинается большинство книг, хотя, в отличие от титула, он не является обязательным в структуре издания. На авантитул, как правило, выносятся некоторые титульные данные: название серии, заголовок, издательская марка и т. 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6920" y="260280"/>
            <a:ext cx="7561440" cy="1473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agneto"/>
              </a:rPr>
              <a:t>внутренние элемен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agneto"/>
              <a:ea typeface="Magnet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agneto"/>
              </a:rPr>
              <a:t>оформления книг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agneto"/>
              <a:ea typeface="Magneto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3706560" cy="4680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13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916280"/>
            <a:ext cx="3683160" cy="48132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27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Kunstler Script"/>
              </a:rPr>
              <a:t>Размещается на правой нечетной половине первого развор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59280" y="189000"/>
            <a:ext cx="252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Sylfaen"/>
              </a:rPr>
              <a:t>Титу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1" name="" descr="Картинка 16 из 4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98100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7 из 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1773360"/>
            <a:ext cx="5000760" cy="2825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артинка 78 из 43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2349360"/>
            <a:ext cx="3098880" cy="4104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4:01:41Z</dcterms:created>
  <dc:creator>net00</dc:creator>
  <dc:description/>
  <dc:language>en-US</dc:language>
  <cp:lastModifiedBy>net00</cp:lastModifiedBy>
  <dcterms:modified xsi:type="dcterms:W3CDTF">2009-12-26T04:11:39Z</dcterms:modified>
  <cp:revision>10</cp:revision>
  <dc:subject/>
  <dc:title>Слайд 1</dc:title>
</cp:coreProperties>
</file>