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2.jpeg" ContentType="image/jpeg"/>
  <Override PartName="/ppt/media/image4.gif" ContentType="image/gif"/>
  <Override PartName="/ppt/media/image8.png" ContentType="image/png"/>
  <Override PartName="/ppt/media/image39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5.png" ContentType="image/png"/>
  <Override PartName="/ppt/media/image37.jpeg" ContentType="image/jpeg"/>
  <Override PartName="/ppt/media/image4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40.png" ContentType="image/png"/>
  <Override PartName="/ppt/media/image36.jpeg" ContentType="image/jpeg"/>
  <Override PartName="/ppt/media/image43.png" ContentType="image/png"/>
  <Override PartName="/ppt/media/image53.jpeg" ContentType="image/jpeg"/>
  <Override PartName="/ppt/media/image45.jpeg" ContentType="image/jpeg"/>
  <Override PartName="/ppt/media/image46.jpeg" ContentType="image/jpeg"/>
  <Override PartName="/ppt/media/image41.png" ContentType="image/png"/>
  <Override PartName="/ppt/media/image38.jpeg" ContentType="image/jpeg"/>
  <Override PartName="/ppt/media/image44.jpeg" ContentType="image/jpeg"/>
  <Override PartName="/ppt/media/image49.png" ContentType="image/png"/>
  <Override PartName="/ppt/media/image54.jpeg" ContentType="image/jpeg"/>
  <Override PartName="/ppt/media/image57.gif" ContentType="image/gif"/>
  <Override PartName="/ppt/media/image31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91B-7CD5-4A7E-A97E-7B23F8A8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0CF-A755-4A16-A2A7-9B4E71F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279-8D60-4097-8264-9DCC3DDC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FB3-99E7-47FB-8ECF-D09D2314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60F-80B0-4942-93E3-2E8F0D94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BB2-D9D3-4C0A-AD1D-F6E69A5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3CE8-69F2-4A3C-BD1E-6F3776D6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EE8E-39DE-4002-84FC-37327A1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6B0A-A4A5-40D9-BC8B-48338C8A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8972-3594-4F32-9CCC-D306E073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6A6-C12A-46B3-A848-02477A6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909-6548-4105-8409-C9D3092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131-B037-4D42-BBFA-F6522EF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3FAD-52ED-4613-B4ED-BB399A1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295-879F-4723-9639-AE23F79B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FABD-A3C5-4EBF-865B-F4E3D64E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0B43-5164-4DF7-A70D-A19F4B83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071-D7D6-4F32-9476-C86041E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68E-CA2A-42E7-866C-186FB6E8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68B-C241-4569-8275-33E0F6C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D71-E540-415D-BCE4-440684B1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21C-FB27-4034-A098-D6BC162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F8C-F34F-42EE-8AB3-7337B5CA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0D8-2BC7-4098-A6EB-472DB45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5C70-5D8C-4B5D-8929-B85909CEAE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B736-6B57-4BF5-9D90-D670CE8A9E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ooksite.ru/burmagin/11.gif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3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http://asgard.tgorod.ru/image/femnovg/bb1.jpg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http://www.websib.ru/~gardarika/lavka/ryk4.gif" TargetMode="External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hyperlink" Target="http://sales-books.by.ru/images/big/upir/upir02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edu.ru/files/pics/93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hi-edu.ru/e-books/AK/images/0032-001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rt.anaharsis.ru/design/image/WWW5/N17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hyperlink" Target="http://artklimov.ru/pages/img/20071204164802600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binbon.ru/images/goods/3198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www.trio54.ru/egedn/eg_tkan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hyperlink" Target="http://paramon30.narod.ru/Monograms/Mini/Avantitul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olovki-monastyr.ru/pod/view/14.jp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free-lance.ru/users/dim3006/upload/fileGaT8IR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vivovoco.astronet.ru/VV/BOOKS/MERIAN/PART02/MM2.JPG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0"/>
            <a:ext cx="669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нига  - искусство сл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изобра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0" name="favorites_off" descr=""/>
          <p:cNvPicPr/>
          <p:nvPr/>
        </p:nvPicPr>
        <p:blipFill>
          <a:blip r:embed="rId5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info" descr=""/>
          <p:cNvPicPr/>
          <p:nvPr/>
        </p:nvPicPr>
        <p:blipFill>
          <a:blip r:embed="rId6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2" name="8d07a5de57d2b171164413bb391f45a0" descr=""/>
          <p:cNvPicPr/>
          <p:nvPr/>
        </p:nvPicPr>
        <p:blipFill>
          <a:blip r:embed="rId7"/>
          <a:stretch/>
        </p:blipFill>
        <p:spPr>
          <a:xfrm>
            <a:off x="2700360" y="3573360"/>
            <a:ext cx="3600360" cy="292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d1d7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47984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9b8c2"/>
                      </a:solidFill>
                    </a:lnR>
                    <a:lnT>
                      <a:noFill/>
                    </a:lnT>
                    <a:lnB w="5760">
                      <a:solidFill>
                        <a:srgbClr val="a9b8c2"/>
                      </a:solidFill>
                    </a:lnB>
                    <a:solidFill>
                      <a:srgbClr val="d1d7d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5240" y="375480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43368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Шмуц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2448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Помещается перед какой либо частью книг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может сочета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шрифт, орнамен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реалистическое или абстрак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Картинка 1 из 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60280"/>
            <a:ext cx="3068640" cy="432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80672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2 из 14"/>
          <p:cNvPicPr/>
          <p:nvPr/>
        </p:nvPicPr>
        <p:blipFill>
          <a:blip r:embed="rId5"/>
          <a:stretch/>
        </p:blipFill>
        <p:spPr>
          <a:xfrm>
            <a:off x="2700360" y="1916280"/>
            <a:ext cx="5505480" cy="35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4969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орзац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орзац используется как элемент художественного оформления. На нем могут быть помещены рисунок, орнамент, узор, текст, связанные с содержанием книги. Даже самый цвет форзаца может быть использован для того, чтобы связать оформление переплета и титульного листа. Своеобразной разновидностью узорного форзаца является форзац из тисненой бума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форзац"/>
          <p:cNvPicPr/>
          <p:nvPr/>
        </p:nvPicPr>
        <p:blipFill>
          <a:blip r:embed="rId2"/>
          <a:stretch/>
        </p:blipFill>
        <p:spPr>
          <a:xfrm>
            <a:off x="3635280" y="1052640"/>
            <a:ext cx="5326200" cy="3524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9 из 543"/>
          <p:cNvPicPr/>
          <p:nvPr/>
        </p:nvPicPr>
        <p:blipFill>
          <a:blip r:embed="rId3"/>
          <a:stretch/>
        </p:blipFill>
        <p:spPr>
          <a:xfrm>
            <a:off x="3564000" y="1700280"/>
            <a:ext cx="5184720" cy="3862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30970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95640" y="18900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епл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5" name="" descr="Книги в твердом переплете"/>
          <p:cNvPicPr/>
          <p:nvPr/>
        </p:nvPicPr>
        <p:blipFill>
          <a:blip r:embed="rId2"/>
          <a:stretch/>
        </p:blipFill>
        <p:spPr>
          <a:xfrm>
            <a:off x="4500720" y="134136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7 из 36"/>
          <p:cNvPicPr/>
          <p:nvPr/>
        </p:nvPicPr>
        <p:blipFill>
          <a:blip r:embed="rId3"/>
          <a:stretch/>
        </p:blipFill>
        <p:spPr>
          <a:xfrm>
            <a:off x="3492360" y="1916280"/>
            <a:ext cx="4240440" cy="3676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835280" y="1484280"/>
            <a:ext cx="5976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cript MT Bold"/>
              </a:rPr>
              <a:t>Особое внимание уделялось первой букве – буквице. Она рисовалась особенно нарядной и ярк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95640" y="33336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Буквица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9" name="Knyaz1" descr="Knyaz1.gif"/>
          <p:cNvPicPr/>
          <p:nvPr/>
        </p:nvPicPr>
        <p:blipFill>
          <a:blip r:embed="rId1"/>
          <a:stretch/>
        </p:blipFill>
        <p:spPr>
          <a:xfrm>
            <a:off x="684360" y="2349360"/>
            <a:ext cx="2017440" cy="4321440"/>
          </a:xfrm>
          <a:prstGeom prst="rect">
            <a:avLst/>
          </a:prstGeom>
          <a:ln w="0">
            <a:noFill/>
          </a:ln>
        </p:spPr>
      </p:pic>
      <p:pic>
        <p:nvPicPr>
          <p:cNvPr id="180" name="Knyaz3" descr="Knyaz3.gif"/>
          <p:cNvPicPr/>
          <p:nvPr/>
        </p:nvPicPr>
        <p:blipFill>
          <a:blip r:embed="rId2"/>
          <a:stretch/>
        </p:blipFill>
        <p:spPr>
          <a:xfrm>
            <a:off x="6659640" y="2349360"/>
            <a:ext cx="1949400" cy="4176720"/>
          </a:xfrm>
          <a:prstGeom prst="rect">
            <a:avLst/>
          </a:prstGeom>
          <a:ln w="0">
            <a:noFill/>
          </a:ln>
        </p:spPr>
      </p:pic>
      <p:pic>
        <p:nvPicPr>
          <p:cNvPr id="181" name="Knyaz2" descr="Knyaz2.gif"/>
          <p:cNvPicPr/>
          <p:nvPr/>
        </p:nvPicPr>
        <p:blipFill>
          <a:blip r:embed="rId3"/>
          <a:stretch/>
        </p:blipFill>
        <p:spPr>
          <a:xfrm>
            <a:off x="3924360" y="2438280"/>
            <a:ext cx="2062080" cy="4419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07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3481200" cy="3887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lackadder ITC"/>
              </a:rPr>
              <a:t>Вот она появляется в изобразительно орнаментальном окружении, то соседствует с изображением, то вписывается в него, то сама становится фантастическим предметом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4140000" cy="38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4178160" cy="393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060640"/>
            <a:ext cx="4464000" cy="4201920"/>
          </a:xfrm>
          <a:prstGeom prst="rect">
            <a:avLst/>
          </a:prstGeom>
          <a:ln w="0">
            <a:noFill/>
          </a:ln>
        </p:spPr>
      </p:pic>
      <p:pic>
        <p:nvPicPr>
          <p:cNvPr id="187" name="blue01" descr=""/>
          <p:cNvPicPr/>
          <p:nvPr/>
        </p:nvPicPr>
        <p:blipFill>
          <a:blip r:embed="rId5"/>
          <a:stretch/>
        </p:blipFill>
        <p:spPr>
          <a:xfrm>
            <a:off x="6162840" y="1773360"/>
            <a:ext cx="2981160" cy="496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21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3600360" cy="3530520"/>
          </a:xfrm>
          <a:prstGeom prst="rect">
            <a:avLst/>
          </a:prstGeom>
          <a:ln w="0">
            <a:noFill/>
          </a:ln>
        </p:spPr>
      </p:pic>
      <p:pic>
        <p:nvPicPr>
          <p:cNvPr id="189" name="10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3781440" cy="38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3851280" cy="2722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476360" y="4076640"/>
            <a:ext cx="4175280" cy="243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29289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рнамент — это особый вид художественного творчества, который, как считают многие исследователи, не существует в виде самостоятельного произведения, он лишь украшает собой ту или иную вещь, но, тем не менее, «он... представляет собой достаточно сложную художественную структуру, для создания которой используются различные выразительные сред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image001" descr="Африка африканские узоры"/>
          <p:cNvPicPr/>
          <p:nvPr/>
        </p:nvPicPr>
        <p:blipFill>
          <a:blip r:embed="rId1"/>
          <a:srcRect l="0" t="86433" r="0" b="0"/>
          <a:stretch/>
        </p:blipFill>
        <p:spPr>
          <a:xfrm>
            <a:off x="3276720" y="189000"/>
            <a:ext cx="5759280" cy="852480"/>
          </a:xfrm>
          <a:prstGeom prst="rect">
            <a:avLst/>
          </a:prstGeom>
          <a:ln w="0">
            <a:noFill/>
          </a:ln>
        </p:spPr>
      </p:pic>
      <p:pic>
        <p:nvPicPr>
          <p:cNvPr id="195" name="image001" descr="египетские орнаменты"/>
          <p:cNvPicPr/>
          <p:nvPr/>
        </p:nvPicPr>
        <p:blipFill>
          <a:blip r:embed="rId2"/>
          <a:srcRect l="28406" t="0" r="30695" b="63792"/>
          <a:stretch/>
        </p:blipFill>
        <p:spPr>
          <a:xfrm>
            <a:off x="3203640" y="1125360"/>
            <a:ext cx="2197080" cy="2880000"/>
          </a:xfrm>
          <a:prstGeom prst="rect">
            <a:avLst/>
          </a:prstGeom>
          <a:ln w="0">
            <a:noFill/>
          </a:ln>
        </p:spPr>
      </p:pic>
      <p:pic>
        <p:nvPicPr>
          <p:cNvPr id="196" name="image001" descr="античная роспись"/>
          <p:cNvPicPr/>
          <p:nvPr/>
        </p:nvPicPr>
        <p:blipFill>
          <a:blip r:embed="rId3"/>
          <a:srcRect l="0" t="0" r="71554" b="57871"/>
          <a:stretch/>
        </p:blipFill>
        <p:spPr>
          <a:xfrm>
            <a:off x="5580000" y="1125360"/>
            <a:ext cx="1363680" cy="2880000"/>
          </a:xfrm>
          <a:prstGeom prst="rect">
            <a:avLst/>
          </a:prstGeom>
          <a:ln w="0">
            <a:noFill/>
          </a:ln>
        </p:spPr>
      </p:pic>
      <p:pic>
        <p:nvPicPr>
          <p:cNvPr id="197" name="image001" descr="античная роспись"/>
          <p:cNvPicPr/>
          <p:nvPr/>
        </p:nvPicPr>
        <p:blipFill>
          <a:blip r:embed="rId4"/>
          <a:srcRect l="28451" t="32717" r="30407" b="31281"/>
          <a:stretch/>
        </p:blipFill>
        <p:spPr>
          <a:xfrm>
            <a:off x="7215120" y="1125360"/>
            <a:ext cx="1928880" cy="3097440"/>
          </a:xfrm>
          <a:prstGeom prst="rect">
            <a:avLst/>
          </a:prstGeom>
          <a:ln w="0">
            <a:noFill/>
          </a:ln>
        </p:spPr>
      </p:pic>
      <p:pic>
        <p:nvPicPr>
          <p:cNvPr id="198" name="image001" descr="Африка африканские узоры"/>
          <p:cNvPicPr/>
          <p:nvPr/>
        </p:nvPicPr>
        <p:blipFill>
          <a:blip r:embed="rId5"/>
          <a:srcRect l="0" t="0" r="0" b="91233"/>
          <a:stretch/>
        </p:blipFill>
        <p:spPr>
          <a:xfrm>
            <a:off x="3276720" y="4221000"/>
            <a:ext cx="5543280" cy="706680"/>
          </a:xfrm>
          <a:prstGeom prst="rect">
            <a:avLst/>
          </a:prstGeom>
          <a:ln w="0">
            <a:noFill/>
          </a:ln>
        </p:spPr>
      </p:pic>
      <p:pic>
        <p:nvPicPr>
          <p:cNvPr id="199" name="image001" descr="античная роспись"/>
          <p:cNvPicPr/>
          <p:nvPr/>
        </p:nvPicPr>
        <p:blipFill>
          <a:blip r:embed="rId6"/>
          <a:srcRect l="0" t="48780" r="68345" b="31281"/>
          <a:stretch/>
        </p:blipFill>
        <p:spPr>
          <a:xfrm>
            <a:off x="4788000" y="4149720"/>
            <a:ext cx="2663640" cy="23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1125360"/>
            <a:ext cx="3888000" cy="5472360"/>
          </a:xfrm>
          <a:prstGeom prst="rect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mage001" descr="Африка африканские узоры"/>
          <p:cNvPicPr/>
          <p:nvPr/>
        </p:nvPicPr>
        <p:blipFill>
          <a:blip r:embed="rId1"/>
          <a:srcRect l="0" t="0" r="0" b="91433"/>
          <a:stretch/>
        </p:blipFill>
        <p:spPr>
          <a:xfrm>
            <a:off x="1116000" y="1268280"/>
            <a:ext cx="345600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image001" descr="античные орнаменты"/>
          <p:cNvPicPr/>
          <p:nvPr/>
        </p:nvPicPr>
        <p:blipFill>
          <a:blip r:embed="rId2"/>
          <a:srcRect l="0" t="0" r="48517" b="82763"/>
          <a:stretch/>
        </p:blipFill>
        <p:spPr>
          <a:xfrm>
            <a:off x="1476360" y="5229360"/>
            <a:ext cx="2629080" cy="1314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06692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33360"/>
            <a:ext cx="4572000" cy="5040360"/>
          </a:xfrm>
          <a:prstGeom prst="verticalScroll">
            <a:avLst>
              <a:gd name="adj" fmla="val 12500"/>
            </a:avLst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аницы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гут украш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наментально – декора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о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дняя полоса в книге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лаве или разде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кже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анчиваться  орна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коративной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южетной конц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6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за внимание!!!</a:t>
            </a:r>
            <a:endParaRPr b="1" lang="en-US" sz="8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09" name="" descr="mw008"/>
          <p:cNvPicPr/>
          <p:nvPr/>
        </p:nvPicPr>
        <p:blipFill>
          <a:blip r:embed="rId1"/>
          <a:stretch/>
        </p:blipFill>
        <p:spPr>
          <a:xfrm>
            <a:off x="5724360" y="2924280"/>
            <a:ext cx="2800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3840" y="154440"/>
            <a:ext cx="7993440" cy="6101640"/>
            <a:chOff x="33840" y="154440"/>
            <a:chExt cx="7993440" cy="6101640"/>
          </a:xfrm>
        </p:grpSpPr>
        <p:sp>
          <p:nvSpPr>
            <p:cNvPr id="118" name="_s59417"/>
            <p:cNvSpPr/>
            <p:nvPr/>
          </p:nvSpPr>
          <p:spPr>
            <a:xfrm flipH="1">
              <a:off x="140220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59416"/>
            <p:cNvSpPr/>
            <p:nvPr/>
          </p:nvSpPr>
          <p:spPr>
            <a:xfrm>
              <a:off x="33840" y="2383920"/>
              <a:ext cx="136836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релищно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гров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9415"/>
            <p:cNvSpPr/>
            <p:nvPr/>
          </p:nvSpPr>
          <p:spPr>
            <a:xfrm>
              <a:off x="2770200" y="386964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59414"/>
            <p:cNvSpPr/>
            <p:nvPr/>
          </p:nvSpPr>
          <p:spPr>
            <a:xfrm>
              <a:off x="2086560" y="4612680"/>
              <a:ext cx="1368000" cy="148608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ву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59413"/>
            <p:cNvSpPr/>
            <p:nvPr/>
          </p:nvSpPr>
          <p:spPr>
            <a:xfrm>
              <a:off x="345456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59412"/>
            <p:cNvSpPr/>
            <p:nvPr/>
          </p:nvSpPr>
          <p:spPr>
            <a:xfrm>
              <a:off x="4138920" y="2383920"/>
              <a:ext cx="1368360" cy="1485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сл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59411"/>
            <p:cNvSpPr/>
            <p:nvPr/>
          </p:nvSpPr>
          <p:spPr>
            <a:xfrm flipV="1">
              <a:off x="2770200" y="164088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9410"/>
            <p:cNvSpPr/>
            <p:nvPr/>
          </p:nvSpPr>
          <p:spPr>
            <a:xfrm>
              <a:off x="2086560" y="154440"/>
              <a:ext cx="1368000" cy="148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зобра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9409"/>
            <p:cNvSpPr/>
            <p:nvPr/>
          </p:nvSpPr>
          <p:spPr>
            <a:xfrm>
              <a:off x="2086560" y="2383920"/>
              <a:ext cx="136800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Вид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скус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mw003"/>
            <p:cNvPicPr/>
            <p:nvPr/>
          </p:nvPicPr>
          <p:blipFill>
            <a:blip r:embed="rId3"/>
            <a:stretch/>
          </p:blipFill>
          <p:spPr>
            <a:xfrm>
              <a:off x="5578560" y="3069000"/>
              <a:ext cx="2448720" cy="318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19280" y="333360"/>
            <a:ext cx="57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чем писали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предки?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4560" y="189000"/>
            <a:ext cx="1549440" cy="3097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2449800" cy="431964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ервая в мире исписанная береста была обнаружена в 1951 году в Великом Новгороде, на Неревском раскопе, на древней мостовой Холопьей улице в слоях 14-15 веков. **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5184720" cy="295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9 из 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2492280"/>
            <a:ext cx="3038400" cy="37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3995640" y="30686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6 из 40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40360" y="2637000"/>
            <a:ext cx="346068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Monotype Corsiva"/>
              </a:rPr>
              <a:t>Первые книги на Руси</a:t>
            </a:r>
            <a:endParaRPr b="1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42560"/>
            <a:ext cx="2808360" cy="667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Печатный станок Ивана Федо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Разхворот из книги «Апостол»156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Страницы из «Азбуки Ивана Федорова. Львов. 1564 год»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                                                </a:t>
            </a:r>
            <a:r>
              <a:rPr b="1" i="1" lang="ru-RU" sz="2400" spc="-1" strike="noStrike">
                <a:solidFill>
                  <a:srgbClr val="000000"/>
                </a:solidFill>
                <a:latin typeface="Edwardian Script ITC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4279680" cy="489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wpe278.jpg (27541 bytes)"/>
          <p:cNvPicPr/>
          <p:nvPr/>
        </p:nvPicPr>
        <p:blipFill>
          <a:blip r:embed="rId2"/>
          <a:stretch/>
        </p:blipFill>
        <p:spPr>
          <a:xfrm>
            <a:off x="3851280" y="1989000"/>
            <a:ext cx="5423040" cy="381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16200" cy="506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Monotype Corsiva"/>
              </a:rPr>
              <a:t>«Деяние святых апостолов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31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Brush Script MT"/>
              </a:rPr>
              <a:t>Напечатана 1 марта 1564 года Иваном Федоровым и Петром Мстиславц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2889360" cy="424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8 из 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557360"/>
            <a:ext cx="28893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 из 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18446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2 из 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924280"/>
            <a:ext cx="358920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Monotype Corsiva"/>
              </a:rPr>
              <a:t>Искусство книги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6961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Brush Script MT"/>
              </a:rPr>
              <a:t>XX </a:t>
            </a: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еке возникает такое понятие как ДИЗАЙН КНИГ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Картинка 19 из 22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1844640"/>
            <a:ext cx="2735280" cy="4753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се элементы книж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оформлени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располож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у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книги, а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ешние эле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соз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целостное 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3311640" cy="194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Супер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Переп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40464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шние элемент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формления книг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Картинка 9 из 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90920" y="1773360"/>
            <a:ext cx="4753080" cy="2814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53" name="" descr="Картинка 12 из 9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2133720"/>
            <a:ext cx="3256200" cy="472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9 из 9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3068640"/>
            <a:ext cx="4170240" cy="3106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352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ladimir Script"/>
              </a:rPr>
              <a:t>Авантитул, фортитул - (Франц. avant - перед) - книгоиздательский термин, которым обозначают страницу, предшествующую титульному листу. С авантитула начинается большинство книг, хотя, в отличие от титула, он не является обязательным в структуре издания. На авантитул, как правило, выносятся некоторые титульные данные: название серии, заголовок, издательская марка и т. 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920" y="260280"/>
            <a:ext cx="7561440" cy="147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внутренние элемен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оформления книг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3706560" cy="468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3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916280"/>
            <a:ext cx="3683160" cy="4813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Kunstler Script"/>
              </a:rPr>
              <a:t>Размещается на правой нечетной половине первого развор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59280" y="189000"/>
            <a:ext cx="252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Sylfaen"/>
              </a:rPr>
              <a:t>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1" name="" descr="Картинка 16 из 4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98100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7 из 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1773360"/>
            <a:ext cx="5000760" cy="282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78 из 4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2349360"/>
            <a:ext cx="3098880" cy="410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01:41Z</dcterms:created>
  <dc:creator>net00</dc:creator>
  <dc:description/>
  <dc:language>en-US</dc:language>
  <cp:lastModifiedBy>net00</cp:lastModifiedBy>
  <dcterms:modified xsi:type="dcterms:W3CDTF">2009-12-26T04:11:39Z</dcterms:modified>
  <cp:revision>10</cp:revision>
  <dc:subject/>
  <dc:title>Слайд 1</dc:title>
</cp:coreProperties>
</file>