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C2E-971C-451F-B05A-C49F3E64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F83-FE03-4676-83CC-37956AD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910-539A-4C38-A073-3A2B268E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9E0-5EB9-429B-A792-304C5FE4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9C56-92E8-4305-A5AB-8EF448B3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4C74-32DD-406F-9525-9CBCBD45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5231-674C-4E10-B007-B4D6AA6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115F-673C-4A34-80F2-8868E3B5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9E7-5F2E-4810-8E91-843BBF94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5438-8D94-48B7-81AD-DCF8070B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9CD-3FBA-4394-B341-740DFFB4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9C0-D4BF-4092-B42D-17E624D2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789E-4725-4C8C-A50B-68F5E91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866D-DF76-4B47-B9EC-19EB301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B10B-B4C2-46C0-9A50-F9EDA7D8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554-3CBF-48E2-BDEF-19D7D21D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087D-2C57-473B-AB7D-7E249A61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E591-9463-40C8-8414-E4522022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52E1-E7CE-41FD-9DF2-F52272A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6A10-E892-4187-B709-3ECADC72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64E2-E5CD-4C11-A2B8-BDE67C7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C8A5-6261-4718-B5BC-68BC47B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D6F-B265-4B5B-9154-174DD1C3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F4BC-7223-4BE6-A818-F02E0CAB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27EC-2AAF-4553-A711-35079C0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2992-E89F-4306-BD8A-DFC462B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45FA-A73E-4398-BB8B-FA773882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6D3E-38C7-4A4D-B378-A99F6E0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5A13-0102-4890-A6C3-DE431342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7568-C58D-4F16-A682-52B59B54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971A-4060-4139-BCB8-95923311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F94B-CC7C-4531-9CF7-5BC63DC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B7DD-1447-43E1-B227-EA6F64B3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1AA-8E3E-42B4-930A-B6818F2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FD33C-340E-4F96-899E-70DD0CE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368C-BC90-430E-94EA-7DD9259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C6B1-78CA-435F-98CD-FFD5BDBA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66A62-B772-464C-8288-0E413D2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13BF-9E3B-4942-9144-0386F94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3F1A-867A-4375-9F6D-F94C799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66F7B-D338-4D5C-9FD0-1F863A97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ECAD-FB77-489D-97F6-62E08DBB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615C-FEAC-45B5-AB16-ED2F2183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E460-AB32-40DE-BEED-35BD08BC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E8F-9330-4B2D-86EB-438CC33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369F9-F267-4CB3-8909-2CF415F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19A5-3605-4CAF-95E2-4F191CCE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9328-0934-47A1-94F0-EEA0D2CD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34BDA-71C2-46E4-ACDC-143BD65E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3BF81-C09C-41AC-8209-6DEC9F59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3A4B-CEDC-4F6F-ACA7-62021FAD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286B-9CB7-4E0F-848D-1E258A0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CECE-9F7B-44E9-883A-A7D13200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63C7-C152-48D7-968E-CB0F8CD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5E91-5E90-4F7E-9520-BF57A2BF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720-274E-4656-A92C-1CA5E0BB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5437-E63C-411F-A2C8-B04A5ADF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797-E423-408A-A129-BD5C7972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56B-03DA-4A60-9898-6D288C6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04F-B53C-401F-9BFB-06371E1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6887-7F4A-40E0-A9C5-FA33253343C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94D-18A3-4964-8DAD-E479E5EF6B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B68-A58E-4C67-BE5D-CF287685BB6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5540-35D3-4CF3-9498-2E1C0720DA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6BA-6C7D-4C77-938D-0196C964F3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39.radikal.ru/i083/0903/f4/d40dba347ab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rradio.ru/forum/files/_____2_1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14.radikal.ru/0803/3f/3700cca625c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zn.rodgor.ru/nafisha/pictures/clubevent/259/konstantinov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28600"/>
            <a:ext cx="7580160" cy="9144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b95c00"/>
                </a:solidFill>
                <a:latin typeface="Verdana"/>
              </a:rPr>
              <a:t>Тема Родины в стихах Сергея 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user\Desktop\луч света.jpeg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икакая родина друг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е вольет мне в грудь мою теплынь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4 из 20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бы забоченилис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и всех-то п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3" descr="Картинка 12 из 20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5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685800" y="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685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ломенская груст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 заброшенны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пустырь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конст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62720" y="685800"/>
            <a:ext cx="3581280" cy="601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Потонула деревня в ухаб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Заслонили избенки л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Только видно, на кочках и впад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Как синеют кругом неб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**   **     **   **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Но люблю тебя, родина кротка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А за что – разгадать не могу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зима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55555555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914400" y="30492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ирды солнца в водах ло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тел бы зате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зеленях твоих стозвонны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350532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говорила роща золотая», «Письмо матери», «Над окошком месяц. Под окошком ветер...», «Сыпь, тальянка, звонко сыпь, тальянка, смело...», «Клен ты мой опавший, клен заледенелый...»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-  Почему народ так любит стихи, ставшие песня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7" descr="i?id=142129521&amp;tov=4"/>
          <p:cNvPicPr/>
          <p:nvPr/>
        </p:nvPicPr>
        <p:blipFill>
          <a:blip r:embed="rId1"/>
          <a:stretch/>
        </p:blipFill>
        <p:spPr>
          <a:xfrm>
            <a:off x="36576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помощь и отра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несказанный св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9" descr="esenin014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Поэт наделен божественным даром слышать «песни дождей и черемух», слышать. Как «плачут вербы» и «золотеющая осень... листвою плачет на песок», чувствовать сердцем, «Что яблоне тоже больно/Терять своих листьев медь»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6666666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5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685800" y="7621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0"/>
            <a:ext cx="4419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крикнет рать св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инь ты Русь, живи в р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скажу: «Не надо 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Родину мо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055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Я буду воспевать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сем существом в поэт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Шестую часть земли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 названьем кратким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усь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”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Есени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15" descr="4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За 30 лет, отпущенных ему на земле, Есенин успел так много, словно прожил огромную жизнь.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8" descr="6668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ой ты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Рус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моя родная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Картинка 8 из 20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57200"/>
            <a:ext cx="728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 Есениных в се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нстантино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Картинка 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5720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0880" y="304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И над ка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c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трокой без кон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Отражает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режняя уда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Забияки и сорванца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7" descr="Картинка 20 из 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397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 Русь – малиновое по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 син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упавшая в реку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Картинка 17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943600" y="304920"/>
            <a:ext cx="3200400" cy="62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ь мо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янная Русь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один тв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вец и глашата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555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57440" y="762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А в сердце свет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Картинка 2 из 3"/>
          <p:cNvPicPr/>
          <p:nvPr/>
        </p:nvPicPr>
        <p:blipFill>
          <a:blip r:embed="rId1"/>
          <a:stretch/>
        </p:blipFill>
        <p:spPr>
          <a:xfrm>
            <a:off x="762120" y="5335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18:23:2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