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DB3-98F2-4573-97AF-534C4187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7FE-EC27-449F-A9BB-15B7A99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0F4-1390-4631-B527-61F329AE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389-2C9E-4258-B2D4-035F2981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769-4061-4972-A815-F1574D6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3770-0366-4176-AA87-50EF5DB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811-3423-47D1-BAA0-B959433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9591-4A04-4636-A0B2-22A5DE2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7A01-B262-48D3-A06D-7BB710B7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B99-FABC-45D5-BCE0-593C4B0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5C5-E6F3-4F32-944C-DD633FD5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205-D829-4CF9-9024-276C2C9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4FA3-D450-4E47-B5AC-6C99355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D8D8-B212-4069-9F18-3145C33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A384-C7E4-41A0-B1F7-769D082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2BD6-9653-45CF-8B2C-AD0E28BB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561-73F7-4C49-AA8E-7FD38DD8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A5E9-CF00-4BF3-AD8D-EAC1C9B3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2AE2-6053-4068-B18E-05801FA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558C-27EF-4F25-94D2-023B4C5D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7A31-DFC3-4895-9D84-81E9ACA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6E18-ADF0-4150-AB13-698A0F02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71B-DE8B-45A5-AB81-A73B8FC1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CE08-136D-4144-8FA3-3BBF2231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FE5D-EBB7-4D11-9D62-475762D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6CFA-F135-48CE-9686-96DA5689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E59A-A9B0-46EB-802B-57A8B91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D222-2FB0-4C63-97B6-E93674EF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D8DE-2EC4-4696-88FF-3CE19960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AA87-EE92-4640-8834-D7E5570F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039E-E1C3-4A97-8763-E3E4B781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3B8D-8C44-4163-B1E5-92BD05F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2E1F3-73DE-421E-8F87-3E3C0FC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CE7-E655-433C-8E89-1D70B849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33A3F-A43B-4EDD-B9BC-C4BF45A5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EADC-A50A-4EF6-826A-06D32BF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ACE1-AD75-4E9E-959C-B3E4C33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5F9C-B39F-4A7F-86AF-9F108CB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D176-4490-4579-AB3C-F5FAC38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B58C-5AFC-47E6-8FC1-CEA47DD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9195-B801-4733-956E-D9C3DC4C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9CF9-79D5-41E1-AD46-95068B10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0494-2640-4D90-8EA4-4E884EF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31B0-1084-46FE-82F5-B2345158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B70-1364-4072-85A0-1F3135AA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B3BB-199B-4B6B-A9A2-CEEDAF7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B07C9-6866-47E6-BA3B-D797CBA1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7A2C-B47F-40CF-AB85-B0BDFF8C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9FC14-B5A6-4D3E-A466-00C34C0E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10F52-3DCD-43A9-A37E-4D46905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EDB0-60E0-43ED-8FC3-B084E6B2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C8F7E-C7C1-4BEE-B0FB-3F96EE9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82C8-842C-4553-904B-00A6842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C079-5356-4B86-BB2D-5060B755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642B-B870-47F4-A9C4-35C15478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731-9B35-492D-B509-0D64AEC3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627E5-E97A-404D-B990-42FA2BC0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0DE-F3C2-4820-8508-2A829D4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7AC-768E-429C-8A93-C94E6D3B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9E4-7C9F-479A-8D0A-103550B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ABA3-0209-45A2-A20B-00766F17073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53D1-C471-42BB-941A-B1C85DFBFB8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8BD-70DB-4216-8610-26B6C68A61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21E0-92E4-46AE-8BD6-8413B5F4AA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3F5B-C657-476D-91FF-2A458FBDB7C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39.radikal.ru/i083/0903/f4/d40dba347ab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arradio.ru/forum/files/_____2_10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14.radikal.ru/0803/3f/3700cca625c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zn.rodgor.ru/nafisha/pictures/clubevent/259/konstantinovo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228600"/>
            <a:ext cx="7580160" cy="9144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b95c00"/>
                </a:solidFill>
                <a:latin typeface="Verdana"/>
              </a:rPr>
              <a:t>Тема Родины в стихах Сергея Есенина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user\Desktop\луч света.jpeg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икакая родина друга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Не вольет мне в грудь мою теплынь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4 из 20"/>
          <p:cNvPicPr/>
          <p:nvPr/>
        </p:nvPicPr>
        <p:blipFill>
          <a:blip r:embed="rId1"/>
          <a:stretch/>
        </p:blipFill>
        <p:spPr>
          <a:xfrm>
            <a:off x="1143000" y="1371600"/>
            <a:ext cx="65530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бы забоченилис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и всех-то п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3" descr="Картинка 12 из 20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685800" y="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6858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пашни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ломенская грусть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533520" y="49525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 заброшенны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Край ты мой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пустырь</a:t>
            </a: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5" descr="констант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62720" y="685800"/>
            <a:ext cx="3581280" cy="6019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Потонула деревня в ухаб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Заслонили избенки л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Только видно, на кочках и впадинах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Как синеют кругом небес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**   **     **   **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Но люблю тебя, родина кроткая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Verdana"/>
              </a:rPr>
              <a:t>А за что – разгадать не могу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зима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55555555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914400" y="304920"/>
            <a:ext cx="79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й любимый! Сердцу с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ирды солнца в водах ло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 хотел бы зате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зеленях твоих стозвонны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3505320" cy="586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говорила роща золотая», «Письмо матери», «Над окошком месяц. Под окошком ветер...», «Сыпь, тальянка, звонко сыпь, тальянка, смело...», «Клен ты мой опавший, клен заледенелый...»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-  Почему народ так любит стихи, ставшие песням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7" descr="i?id=142129521&amp;tov=4"/>
          <p:cNvPicPr/>
          <p:nvPr/>
        </p:nvPicPr>
        <p:blipFill>
          <a:blip r:embed="rId1"/>
          <a:stretch/>
        </p:blipFill>
        <p:spPr>
          <a:xfrm>
            <a:off x="36576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помощь и отра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одна мне несказанный све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9" descr="esenin014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Поэт наделен божественным даром слышать «песни дождей и черемух», слышать. Как «плачут вербы» и «золотеющая осень... листвою плачет на песок», чувствовать сердцем, «Что яблоне тоже больно/Терять своих листьев медь»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6666666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58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685800" y="7621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0" y="0"/>
            <a:ext cx="4419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крикнет рать свята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Кинь ты Русь, живи в р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 скажу: «Не надо р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Родину мо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055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Я буду воспевать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сем существом в поэт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Шестую часть земли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 названьем кратким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Русь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”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С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Есенин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Picture 15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За 30 лет, отпущенных ему на земле, Есенин успел так много, словно прожил огромную жизнь.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8" descr="6668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ой ты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Рус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моя родная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44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Картинка 8 из 20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28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 Есениных в се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онстантинов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Картинка 1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5720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0880" y="304920"/>
            <a:ext cx="8382240" cy="167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“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И над кажд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c</a:t>
            </a: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трокой без кон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Отражает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прежняя уда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Verdana"/>
              </a:rPr>
              <a:t>Забияки и сорванца</a:t>
            </a: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7" descr="Картинка 20 из 3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04920"/>
            <a:ext cx="4397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“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 Русь – малиновое поле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 синь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,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упавшая в реку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…”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Картинка 17 из 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943600" y="304920"/>
            <a:ext cx="3200400" cy="62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сь мо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ревянная Русь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один тв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вец и глашата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555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257440" y="76212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А в сердце свет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800000"/>
                </a:solidFill>
                <a:latin typeface="Verdana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Картинка 2 из 3"/>
          <p:cNvPicPr/>
          <p:nvPr/>
        </p:nvPicPr>
        <p:blipFill>
          <a:blip r:embed="rId1"/>
          <a:stretch/>
        </p:blipFill>
        <p:spPr>
          <a:xfrm>
            <a:off x="762120" y="5335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3-20T18:23:2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