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04A7-CAC3-4803-A815-11A363AAB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6FE9-3276-4600-B3FA-345862BF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F345-7560-49BE-B3E7-27A2A10A5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9D77-D700-4F44-9C4C-46CCB09CA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739B-30C6-4D75-85F2-C6A251FF7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7215-4B63-4052-BE60-EB6EA025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B6C6-3455-48C9-85C2-DD9277E1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DC2BE-CDE2-4990-A10B-51BB9B80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843D-782A-4D5B-AB18-251E8FE8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F6E9-8EC5-4E70-8A9A-1C6401E4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DE3A-5911-4080-8DEA-03B52CC0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31CB-372D-408B-9475-DFBDADF4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ABC9-4EC3-47EC-9335-E1ECC3F8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78763-4159-4747-8287-34B8E78D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BA7C-CFBC-413F-8373-70828486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E5BB-4ED4-477A-96E2-704751786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454D-17B1-4021-A363-4A012B7A5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30D50-68B9-46EF-BF22-83388B4E2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B7141-BAE0-45AE-AC53-54C7DE98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A1411-8C8E-4AF2-87C4-DBDC1D56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D96C6-30CD-48CA-9AA8-F74ADC3A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6D8A1-3375-4C01-888B-8C221E3D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D5B3-2394-4001-8316-48491F0B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960E5-7259-4A02-ABA9-32A7BF3C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A13EF-B16D-46E8-AD7F-9E0A0A9C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96E08-3382-4080-A989-2878B8BA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DAB3D-359C-4133-A49E-F40A6DEF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B25E0-3C8A-4464-8499-8FBE9A8A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1DCEA-D606-4716-9B25-808B70B6C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4A82F-6A49-44D5-98BC-4ACC6B815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BD41A-E803-4CA6-91D0-C4D35E5FC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009D1-B740-4632-B4B5-18047277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895CC-255A-4BAC-BBC3-EFC9AFA6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CB14-4953-463F-82EA-F676057C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A132B-37CB-4E23-9E3E-D4EC174A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8E6CD-E0C8-4FA5-8D9E-A3E02D78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9A8F4-F1C8-41B9-8832-B56C2AA3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91037-C9C1-4F45-9F01-067A4266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420D0-7343-48FE-94E9-3CCBF567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07E53-135B-4440-A38B-8FAC8EBA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E9B2D-0343-4C21-A259-BC421FDE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30A91-2875-4BA9-B7E2-B823CAD13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1CEAE-E146-462C-804D-0B9123C10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2A918-191C-4C13-B7DB-E64EF0978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F682-7506-4888-9F6E-43D538B7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58F14-8ED2-47CE-B35D-5B5BBEE9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615BB-BCC0-4912-BDB5-C32AD3B0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EBAE6-6EFB-4644-A4C7-967146B1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F64B1-7829-424C-874E-E8829759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ECE48-5127-4FEF-AD72-9312D207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A064D-C6F5-4DB0-BE54-F5063CD7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AFA05-41A1-4488-B779-A27F6A3F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F85CE-0B89-42BA-B629-73A98882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01FA2-0DC3-4F65-8DE3-8D1BE81E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06748-9307-41EE-9272-8826E1947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871B-FA66-4CA6-9AD7-6840FE01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D20C2-E20E-402F-ADF5-E850FF857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B623-790F-4E87-B856-9AE13F47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8983-D3FB-4E30-BA71-0FCA446C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68D4-73EC-4830-B531-DB934F21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8221-C069-4486-8839-A263DA86DF2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2E04-1ECE-4954-92A0-0BC26B718EB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1180-2E39-4A89-9986-1CB945D8159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C328-4D81-433E-9404-4CA01752E08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9843-B9E2-498B-8B5C-5B44531ECB7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39.radikal.ru/i083/0903/f4/d40dba347ab5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karradio.ru/forum/files/_____2_100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014.radikal.ru/0803/3f/3700cca625cd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rzn.rodgor.ru/nafisha/pictures/clubevent/259/konstantinovo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228600"/>
            <a:ext cx="7580160" cy="91440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b95c00"/>
                </a:solidFill>
                <a:latin typeface="Verdana"/>
              </a:rPr>
              <a:t>Тема Родины в стихах Сергея Есенина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2" descr="C:\Users\user\Desktop\луч света.jpeg"/>
          <p:cNvPicPr/>
          <p:nvPr/>
        </p:nvPicPr>
        <p:blipFill>
          <a:blip r:embed="rId1"/>
          <a:stretch/>
        </p:blipFill>
        <p:spPr>
          <a:xfrm>
            <a:off x="533520" y="1143000"/>
            <a:ext cx="8381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9144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“</a:t>
            </a: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Никакая родина друга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  </a:t>
            </a: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Не вольет мне в грудь мою теплынь</a:t>
            </a: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Picture 7" descr="Картинка 4 из 20"/>
          <p:cNvPicPr/>
          <p:nvPr/>
        </p:nvPicPr>
        <p:blipFill>
          <a:blip r:embed="rId1"/>
          <a:stretch/>
        </p:blipFill>
        <p:spPr>
          <a:xfrm>
            <a:off x="1143000" y="1371600"/>
            <a:ext cx="655308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бы забоченилис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 и всех-то пя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…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3" descr="Картинка 12 из 20"/>
          <p:cNvPicPr/>
          <p:nvPr/>
        </p:nvPicPr>
        <p:blipFill>
          <a:blip r:embed="rId1"/>
          <a:stretch/>
        </p:blipFill>
        <p:spPr>
          <a:xfrm>
            <a:off x="838080" y="1676520"/>
            <a:ext cx="70106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5" descr="333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7"/>
          <p:cNvSpPr/>
          <p:nvPr/>
        </p:nvSpPr>
        <p:spPr>
          <a:xfrm>
            <a:off x="685800" y="0"/>
            <a:ext cx="8153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533520" y="68580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О пашни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пашни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пашни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Коломенская грусть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533520" y="495252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“</a:t>
            </a:r>
            <a:r>
              <a:rPr b="1" lang="ru-RU" sz="2800" spc="-1" strike="noStrike">
                <a:solidFill>
                  <a:srgbClr val="800000"/>
                </a:solidFill>
                <a:latin typeface="Verdana"/>
              </a:rPr>
              <a:t>Край ты мой заброшенный</a:t>
            </a: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800000"/>
                </a:solidFill>
                <a:latin typeface="Verdana"/>
              </a:rPr>
              <a:t>Край ты мой</a:t>
            </a: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,</a:t>
            </a:r>
            <a:r>
              <a:rPr b="1" lang="ru-RU" sz="2800" spc="-1" strike="noStrike">
                <a:solidFill>
                  <a:srgbClr val="800000"/>
                </a:solidFill>
                <a:latin typeface="Verdana"/>
              </a:rPr>
              <a:t> пустырь</a:t>
            </a: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…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Picture 5" descr="констант"/>
          <p:cNvPicPr/>
          <p:nvPr/>
        </p:nvPicPr>
        <p:blipFill>
          <a:blip r:embed="rId1"/>
          <a:stretch/>
        </p:blipFill>
        <p:spPr>
          <a:xfrm>
            <a:off x="0" y="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5562720" y="685800"/>
            <a:ext cx="3581280" cy="6019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Verdana"/>
              </a:rPr>
              <a:t>Потонула деревня в ухабинах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Verdana"/>
              </a:rPr>
              <a:t>Заслонили избенки лес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Verdana"/>
              </a:rPr>
              <a:t>Только видно, на кочках и впадинах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Verdana"/>
              </a:rPr>
              <a:t>Как синеют кругом небес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Verdana"/>
              </a:rPr>
              <a:t>         </a:t>
            </a:r>
            <a:r>
              <a:rPr b="0" lang="ru-RU" sz="2600" spc="-1" strike="noStrike">
                <a:solidFill>
                  <a:srgbClr val="000066"/>
                </a:solidFill>
                <a:latin typeface="Verdana"/>
              </a:rPr>
              <a:t>**   **     **   **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Verdana"/>
              </a:rPr>
              <a:t>Но люблю тебя, родина кроткая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Verdana"/>
              </a:rPr>
              <a:t>А за что – разгадать не могу..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4" descr="зима"/>
          <p:cNvPicPr/>
          <p:nvPr/>
        </p:nvPicPr>
        <p:blipFill>
          <a:blip r:embed="rId1"/>
          <a:stretch/>
        </p:blipFill>
        <p:spPr>
          <a:xfrm>
            <a:off x="0" y="0"/>
            <a:ext cx="510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55555555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5"/>
          <p:cNvSpPr/>
          <p:nvPr/>
        </p:nvSpPr>
        <p:spPr>
          <a:xfrm>
            <a:off x="914400" y="304920"/>
            <a:ext cx="7915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ай любимый! Сердцу сня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кирды солнца в водах лон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Я хотел бы затеря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зеленях твоих стозвонных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-360" y="380520"/>
            <a:ext cx="3505320" cy="5867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«</a:t>
            </a:r>
            <a:r>
              <a:rPr b="1" lang="ru-RU" sz="2400" spc="-1" strike="noStrike">
                <a:solidFill>
                  <a:srgbClr val="800000"/>
                </a:solidFill>
                <a:latin typeface="Verdana"/>
              </a:rPr>
              <a:t>Отговорила роща золотая», «Письмо матери», «Над окошком месяц. Под окошком ветер...», «Сыпь, тальянка, звонко сыпь, тальянка, смело...», «Клен ты мой опавший, клен заледенелый...»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Verdana"/>
              </a:rPr>
              <a:t>-  Почему народ так любит стихи, ставшие песням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Picture 7" descr="i?id=142129521&amp;tov=4"/>
          <p:cNvPicPr/>
          <p:nvPr/>
        </p:nvPicPr>
        <p:blipFill>
          <a:blip r:embed="rId1"/>
          <a:stretch/>
        </p:blipFill>
        <p:spPr>
          <a:xfrm>
            <a:off x="3657600" y="0"/>
            <a:ext cx="594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9144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lvl="1" marL="54756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ы одна мне помощь и отрад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ы одна мне несказанный свет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9" descr="esenin014"/>
          <p:cNvPicPr/>
          <p:nvPr/>
        </p:nvPicPr>
        <p:blipFill>
          <a:blip r:embed="rId1"/>
          <a:stretch/>
        </p:blipFill>
        <p:spPr>
          <a:xfrm>
            <a:off x="685800" y="1523880"/>
            <a:ext cx="769608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4572000" cy="6095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800000"/>
                </a:solidFill>
                <a:latin typeface="Verdana"/>
              </a:rPr>
              <a:t>Поэт наделен божественным даром слышать «песни дождей и черемух», слышать. Как «плачут вербы» и «золотеющая осень... листвою плачет на песок», чувствовать сердцем, «Что яблоне тоже больно/Терять своих листьев медь»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4" descr="6666666"/>
          <p:cNvPicPr/>
          <p:nvPr/>
        </p:nvPicPr>
        <p:blipFill>
          <a:blip r:embed="rId1"/>
          <a:stretch/>
        </p:blipFill>
        <p:spPr>
          <a:xfrm>
            <a:off x="5076720" y="0"/>
            <a:ext cx="406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Picture 4" descr="58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5"/>
          <p:cNvSpPr/>
          <p:nvPr/>
        </p:nvSpPr>
        <p:spPr>
          <a:xfrm>
            <a:off x="685800" y="7621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0" y="0"/>
            <a:ext cx="44197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сли крикнет рать свята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Кинь ты Русь, живи в раю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Я скажу: «Не надо р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айте Родину мою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105520" y="380880"/>
            <a:ext cx="40384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Я буду воспевать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Всем существом в поэте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Шестую часть земли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С названьем кратким </a:t>
            </a: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“</a:t>
            </a: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Русь</a:t>
            </a: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”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С</a:t>
            </a: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.</a:t>
            </a: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Есенин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4" name="Picture 15" descr="4"/>
          <p:cNvPicPr/>
          <p:nvPr/>
        </p:nvPicPr>
        <p:blipFill>
          <a:blip r:embed="rId1"/>
          <a:stretch/>
        </p:blipFill>
        <p:spPr>
          <a:xfrm>
            <a:off x="228600" y="228600"/>
            <a:ext cx="44956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3760" y="457200"/>
            <a:ext cx="38098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За 30 лет, отпущенных ему на земле, Есенин успел так много, словно прожил огромную жизнь.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6" name="Picture 8" descr="6668"/>
          <p:cNvPicPr/>
          <p:nvPr/>
        </p:nvPicPr>
        <p:blipFill>
          <a:blip r:embed="rId1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“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Гой ты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,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Русь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,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моя родная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…”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9144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5" descr="Картинка 8 из 203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457200"/>
            <a:ext cx="72867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ом Есениных в селе</a:t>
            </a:r>
            <a:br>
              <a:rPr sz="3600"/>
            </a:b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Константиново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5" descr="Картинка 1 из 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457200"/>
            <a:ext cx="6477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80880" y="304920"/>
            <a:ext cx="8382240" cy="1676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“</a:t>
            </a: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И над кажд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c</a:t>
            </a: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трокой без конц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Отражаетс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прежняя удал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Забияки и сорванца</a:t>
            </a: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Picture 7" descr="Картинка 20 из 36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304920"/>
            <a:ext cx="43974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“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 Русь – малиновое поле</a:t>
            </a:r>
            <a:br>
              <a:rPr sz="3600"/>
            </a:b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И синь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,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упавшая в реку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…”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5" descr="Картинка 17 из 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304920"/>
            <a:ext cx="81536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5943600" y="304920"/>
            <a:ext cx="3200400" cy="6248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сь мо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еревянная Русь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 один тво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вец и глашата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…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Picture 4" descr="555"/>
          <p:cNvPicPr/>
          <p:nvPr/>
        </p:nvPicPr>
        <p:blipFill>
          <a:blip r:embed="rId1"/>
          <a:stretch/>
        </p:blipFill>
        <p:spPr>
          <a:xfrm>
            <a:off x="0" y="0"/>
            <a:ext cx="6019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5257440" y="762120"/>
            <a:ext cx="3886200" cy="4419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Verdana"/>
              </a:rPr>
              <a:t>А в сердце свети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Verdana"/>
              </a:rPr>
              <a:t>                        </a:t>
            </a:r>
            <a:r>
              <a:rPr b="1" lang="ru-RU" sz="2800" spc="-1" strike="noStrike">
                <a:solidFill>
                  <a:srgbClr val="800000"/>
                </a:solidFill>
                <a:latin typeface="Verdana"/>
              </a:rPr>
              <a:t>Рус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6" descr="Картинка 2 из 3"/>
          <p:cNvPicPr/>
          <p:nvPr/>
        </p:nvPicPr>
        <p:blipFill>
          <a:blip r:embed="rId1"/>
          <a:stretch/>
        </p:blipFill>
        <p:spPr>
          <a:xfrm>
            <a:off x="762120" y="533520"/>
            <a:ext cx="4495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3-20T18:23:29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