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253-9541-4AC6-905B-8F515BB5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ACA-8B2D-4606-A4FA-7B39AF3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A4F-C37F-431B-BAF7-8E74433B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A05-8E48-430D-A4C5-E3CBA78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619-F651-41AA-802F-728E4CEF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3984-C936-4ED1-A842-9A08AA95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CA9-6DFD-4183-9DAA-7A7E2E68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14D1-DAE1-4977-9916-4CFB9CCF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3F9-9788-4245-A959-F052E2B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3A1C-746C-4C7C-B664-D31A053C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595A-1669-404A-8E6C-8A11B297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D5E-CE9A-4BD5-A19F-2B33AA87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55A0-BA3B-4E60-8477-D9437E27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A34E-555F-42A5-AC60-7162F3C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39C-F0BD-433D-AAE2-B0FC485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B80D-CB8A-4D6F-B019-16F0D511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2A14-9293-4E51-9090-60630F1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57-5E14-443B-AB69-6FF47BD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E95-30E6-4B5C-9C00-8A41D5E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6B8-284F-44E7-B176-CE105C2A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F65-467D-4E9D-AC71-A8842AE6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E54-3353-4E91-BB69-2629324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C17-88FC-4769-9F74-5DAFAA0B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985-744D-4E4A-822D-AB56EAE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DE6-296C-43F7-9098-D7353EDD7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F676-065E-48EB-BDDD-514FA3EAF65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672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57240"/>
            <a:ext cx="9144000" cy="249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рок биологии в 6 классе</a:t>
            </a:r>
            <a:br>
              <a:rPr sz="2800"/>
            </a:br>
            <a:br>
              <a:rPr sz="6600"/>
            </a:br>
            <a:r>
              <a:rPr b="1" lang="ru-RU" sz="9600" spc="-1" strike="noStrike">
                <a:solidFill>
                  <a:srgbClr val="ffffcc"/>
                </a:solidFill>
                <a:latin typeface="Arial"/>
              </a:rPr>
              <a:t>ВОДОРОСЛИ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раграф 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лните таблицу в тетрад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чините сказку о жизни в подводном царстве, где главные действующие лица, водоросл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7120" y="2500200"/>
          <a:ext cx="8286840" cy="1011240"/>
        </p:xfrm>
        <a:graphic>
          <a:graphicData uri="http://schemas.openxmlformats.org/drawingml/2006/table">
            <a:tbl>
              <a:tblPr/>
              <a:tblGrid>
                <a:gridCol w="1314360"/>
                <a:gridCol w="2000520"/>
                <a:gridCol w="1657080"/>
                <a:gridCol w="1657440"/>
                <a:gridCol w="165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едставит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  <p:sp>
        <p:nvSpPr>
          <p:cNvPr id="16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9045360" cy="1597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image448.gif"/>
          <p:cNvPicPr/>
          <p:nvPr/>
        </p:nvPicPr>
        <p:blipFill>
          <a:blip r:embed="rId2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3357720" y="1714680"/>
            <a:ext cx="53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рок не понравился,  не узнал ниче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3429000" y="3571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Урок прошел как обыч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357720" y="521496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alibri"/>
              </a:rPr>
              <a:t>Урок  понравился,   узнал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лассификация водоросл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Содержимое 8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285400" cy="454176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10"/>
          <p:cNvCxnSpPr/>
          <p:nvPr/>
        </p:nvCxnSpPr>
        <p:spPr>
          <a:xfrm flipH="1">
            <a:off x="2071440" y="1143000"/>
            <a:ext cx="107208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 flipH="1">
            <a:off x="4570200" y="1214280"/>
            <a:ext cx="36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5999760" y="1143000"/>
            <a:ext cx="12150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де обитают водоросли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какие две большие группы в зависимости от строения делятся растения?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чему водоросли относятся к низшим растениям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Organization Chart 6"/>
          <p:cNvGrpSpPr/>
          <p:nvPr/>
        </p:nvGrpSpPr>
        <p:grpSpPr>
          <a:xfrm>
            <a:off x="0" y="1490760"/>
            <a:ext cx="9142920" cy="4745160"/>
            <a:chOff x="0" y="1490760"/>
            <a:chExt cx="9142920" cy="4745160"/>
          </a:xfrm>
        </p:grpSpPr>
        <p:cxnSp>
          <p:nvCxnSpPr>
            <p:cNvPr id="127" name="_s1028"/>
            <p:cNvCxnSpPr>
              <a:stCxn id="128" idx="0"/>
              <a:endCxn id="129" idx="1"/>
            </p:cNvCxnSpPr>
            <p:nvPr/>
          </p:nvCxnSpPr>
          <p:spPr>
            <a:xfrm flipV="1" rot="16200000">
              <a:off x="5329800" y="2634480"/>
              <a:ext cx="949680" cy="245736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30" name="_s1029"/>
            <p:cNvCxnSpPr>
              <a:stCxn id="131" idx="0"/>
              <a:endCxn id="129" idx="0"/>
            </p:cNvCxnSpPr>
            <p:nvPr/>
          </p:nvCxnSpPr>
          <p:spPr>
            <a:xfrm flipH="1" flipV="1" rot="5400000">
              <a:off x="2868120" y="2629800"/>
              <a:ext cx="949680" cy="246708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29" name="_s1030"/>
            <p:cNvSpPr/>
            <p:nvPr/>
          </p:nvSpPr>
          <p:spPr>
            <a:xfrm>
              <a:off x="1900440" y="1490760"/>
              <a:ext cx="5347440" cy="1897920"/>
            </a:xfrm>
            <a:prstGeom prst="bevel">
              <a:avLst>
                <a:gd name="adj" fmla="val 125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ВОДОРОСЛИ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одн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>
              <a:off x="492300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мног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дноклеточные водоросли</a:t>
            </a:r>
            <a:r>
              <a:rPr b="1" lang="ru-RU" sz="8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16" descr="F:\Урок-путешествие по теме Одноклеточные водоросли  Фестиваль «Открытый урок».files\img1.jpg"/>
          <p:cNvPicPr/>
          <p:nvPr/>
        </p:nvPicPr>
        <p:blipFill>
          <a:blip r:embed="rId1"/>
          <a:stretch/>
        </p:blipFill>
        <p:spPr>
          <a:xfrm>
            <a:off x="1428840" y="2000160"/>
            <a:ext cx="6215040" cy="4613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Хламидомон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msoAF25A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57680" y="1268280"/>
            <a:ext cx="4333680" cy="558972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6012000" y="1700280"/>
            <a:ext cx="17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5364000" y="2707920"/>
            <a:ext cx="2448000" cy="115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6012000" y="3573000"/>
            <a:ext cx="172872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5292720" y="4437000"/>
            <a:ext cx="266400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6012000" y="5805360"/>
            <a:ext cx="19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1835280" y="3357360"/>
            <a:ext cx="2016000" cy="50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3200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7667640" y="114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81200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774072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795672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7956720" y="544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4200" y="26431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болоч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524720" y="1500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Жгути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215120" y="2428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Цитоплазм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286760" y="342900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Крас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«глазок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885080" y="47149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Ядр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93080" y="52862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Хроматофо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305257"/>
          <p:cNvPicPr/>
          <p:nvPr/>
        </p:nvPicPr>
        <p:blipFill>
          <a:blip r:embed="rId2"/>
          <a:stretch/>
        </p:blipFill>
        <p:spPr>
          <a:xfrm>
            <a:off x="357120" y="3929040"/>
            <a:ext cx="1676520" cy="269388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хема 5" descr=""/>
          <p:cNvPicPr/>
          <p:nvPr/>
        </p:nvPicPr>
        <p:blipFill>
          <a:blip r:embed="rId1"/>
          <a:stretch/>
        </p:blipFill>
        <p:spPr>
          <a:xfrm>
            <a:off x="-6480" y="1341360"/>
            <a:ext cx="9156960" cy="419436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начение водорослей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в  природе и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дукты питания для челове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добр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рм для ско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химической промышлен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иологическая очистка сточных 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лучение  лекарственных препара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огащение воды кислород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ща для водных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ют для многих организм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9152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. Красный «глазок» 2. Хроматофор          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3. Цитоплазма           4. Жгу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5 Ядро                        6. Ризоид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ой частью клетки хламидомонада ощущает све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 помощи какой части клетки хламидомонада передвигается в вод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называется плотное округлое тельце в клетке водоросл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придает зеленую окраску водоросля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ая часть клетки заполнена клеточным соко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способления для  прикрепления водорослей ко дн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1:55:19Z</dcterms:created>
  <dc:creator>Наталья Нестерович</dc:creator>
  <dc:description/>
  <dc:language>en-US</dc:language>
  <cp:lastModifiedBy>1</cp:lastModifiedBy>
  <dcterms:modified xsi:type="dcterms:W3CDTF">2009-09-29T16:19:37Z</dcterms:modified>
  <cp:revision>10</cp:revision>
  <dc:subject/>
  <dc:title>ВОДОРОСЛИ</dc:title>
</cp:coreProperties>
</file>