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D696-5B7C-4941-88A8-BE76711D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B82-89D6-4E9A-B173-5EF1FE4C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3C3-9FCE-4FBB-BF32-24D24D3F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87E-D1C5-4ABE-945F-501B864F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CEFD-F6EA-4141-A36A-C18A332C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FD54-DEE2-4F19-9B03-CBB577B2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B033-FC6E-49E1-9C70-74987839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A523-8F73-43A0-9370-300ADCA9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21A2-9F60-49A5-A766-0975B35B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A462-715F-4996-ACBA-B74C2D81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31A4-16A7-45E0-8822-56187F79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7CC-0B39-4C92-A77F-4FC340B5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5F0B-FC48-4798-B720-1D581B38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9078-ABB2-4BEE-9B78-F9B38E99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2698-B163-4058-A0A3-F4B0FC9E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53E5-C674-4AFE-946A-68B6B0B9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EF26-8F0D-438A-85CB-CB1B4811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345-C5FA-4156-99CB-8A5AC491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724-CE53-499D-B635-50BCC090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AD65-D9FF-44CF-AD40-726EAFEA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DAA-1E76-4E37-8485-3D6338C8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B25D-462B-4ECE-BAEB-8C516DC2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2C52-C3C9-487C-8563-86DC962B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02D-35FB-407F-A9D6-2D17878B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4252-BF25-4464-812D-1E9797FCD8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8C84-3091-42FA-A043-023580526C6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672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57240"/>
            <a:ext cx="9144000" cy="2492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Урок биологии в 6 классе</a:t>
            </a:r>
            <a:br>
              <a:rPr sz="2800"/>
            </a:br>
            <a:br>
              <a:rPr sz="6600"/>
            </a:br>
            <a:r>
              <a:rPr b="1" lang="ru-RU" sz="9600" spc="-1" strike="noStrike">
                <a:solidFill>
                  <a:srgbClr val="ffffcc"/>
                </a:solidFill>
                <a:latin typeface="Arial"/>
              </a:rPr>
              <a:t>ВОДОРОСЛИ</a:t>
            </a:r>
            <a:endParaRPr b="0" lang="en-US" sz="9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28760" y="1285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араграф 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полните таблицу в тетрад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чините сказку о жизни в подводном царстве, где главные действующие лица, водоросл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57120" y="2500200"/>
          <a:ext cx="8286840" cy="1011240"/>
        </p:xfrm>
        <a:graphic>
          <a:graphicData uri="http://schemas.openxmlformats.org/drawingml/2006/table">
            <a:tbl>
              <a:tblPr/>
              <a:tblGrid>
                <a:gridCol w="1314360"/>
                <a:gridCol w="2000520"/>
                <a:gridCol w="1657080"/>
                <a:gridCol w="1657440"/>
                <a:gridCol w="1657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тдел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редставит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Место обитан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начение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</a:tbl>
          </a:graphicData>
        </a:graphic>
      </p:graphicFrame>
      <p:sp>
        <p:nvSpPr>
          <p:cNvPr id="16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9045360" cy="15973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image448.gif"/>
          <p:cNvPicPr/>
          <p:nvPr/>
        </p:nvPicPr>
        <p:blipFill>
          <a:blip r:embed="rId2"/>
          <a:stretch/>
        </p:blipFill>
        <p:spPr>
          <a:xfrm>
            <a:off x="1143000" y="307188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3"/>
          <a:srcRect l="11548" t="0" r="0" b="0"/>
          <a:stretch/>
        </p:blipFill>
        <p:spPr>
          <a:xfrm>
            <a:off x="1143000" y="485784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4"/>
          <a:srcRect l="19319" t="11653" r="22758" b="26165"/>
          <a:stretch/>
        </p:blipFill>
        <p:spPr>
          <a:xfrm>
            <a:off x="1143000" y="1428840"/>
            <a:ext cx="1785960" cy="15872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7"/>
          <p:cNvSpPr/>
          <p:nvPr/>
        </p:nvSpPr>
        <p:spPr>
          <a:xfrm>
            <a:off x="3357720" y="1714680"/>
            <a:ext cx="535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рок не понравился,  не узнал ничего новог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3429000" y="3571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Урок прошел как обычн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3357720" y="5214960"/>
            <a:ext cx="514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alibri"/>
              </a:rPr>
              <a:t>Урок  понравился,   узнал много новог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Классификация водоросле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Содержимое 8" descr=""/>
          <p:cNvPicPr/>
          <p:nvPr/>
        </p:nvPicPr>
        <p:blipFill>
          <a:blip r:embed="rId1"/>
          <a:stretch/>
        </p:blipFill>
        <p:spPr>
          <a:xfrm>
            <a:off x="407880" y="1596960"/>
            <a:ext cx="8285400" cy="4541760"/>
          </a:xfrm>
          <a:prstGeom prst="rect">
            <a:avLst/>
          </a:prstGeom>
          <a:ln w="0">
            <a:noFill/>
          </a:ln>
        </p:spPr>
      </p:pic>
      <p:cxnSp>
        <p:nvCxnSpPr>
          <p:cNvPr id="119" name="Прямая со стрелкой 10"/>
          <p:cNvCxnSpPr/>
          <p:nvPr/>
        </p:nvCxnSpPr>
        <p:spPr>
          <a:xfrm flipH="1">
            <a:off x="2071440" y="1143000"/>
            <a:ext cx="1072080" cy="12866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0" name="Прямая со стрелкой 12"/>
          <p:cNvCxnSpPr/>
          <p:nvPr/>
        </p:nvCxnSpPr>
        <p:spPr>
          <a:xfrm flipH="1">
            <a:off x="4570200" y="1214280"/>
            <a:ext cx="3600" cy="12866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1" name="Прямая со стрелкой 14"/>
          <p:cNvCxnSpPr/>
          <p:nvPr/>
        </p:nvCxnSpPr>
        <p:spPr>
          <a:xfrm>
            <a:off x="5999760" y="1143000"/>
            <a:ext cx="1215000" cy="12866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Где обитают водоросли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743040" indent="-743040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 какие две большие группы в зависимости от строения делятся растения?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743040" indent="-743040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очему водоросли относятся к низшим растениям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Organization Chart 6"/>
          <p:cNvGrpSpPr/>
          <p:nvPr/>
        </p:nvGrpSpPr>
        <p:grpSpPr>
          <a:xfrm>
            <a:off x="0" y="1490760"/>
            <a:ext cx="9142920" cy="4745160"/>
            <a:chOff x="0" y="1490760"/>
            <a:chExt cx="9142920" cy="4745160"/>
          </a:xfrm>
        </p:grpSpPr>
        <p:cxnSp>
          <p:nvCxnSpPr>
            <p:cNvPr id="127" name="_s1028"/>
            <p:cNvCxnSpPr>
              <a:stCxn id="128" idx="0"/>
              <a:endCxn id="129" idx="1"/>
            </p:cNvCxnSpPr>
            <p:nvPr/>
          </p:nvCxnSpPr>
          <p:spPr>
            <a:xfrm flipV="1" rot="16200000">
              <a:off x="5329800" y="2634480"/>
              <a:ext cx="949680" cy="2457360"/>
            </a:xfrm>
            <a:prstGeom prst="bentConnector3">
              <a:avLst>
                <a:gd name="adj1" fmla="val 12021"/>
              </a:avLst>
            </a:prstGeom>
            <a:ln w="9360">
              <a:solidFill>
                <a:srgbClr val="eaeaea"/>
              </a:solidFill>
              <a:miter/>
            </a:ln>
          </p:spPr>
        </p:cxnSp>
        <p:cxnSp>
          <p:nvCxnSpPr>
            <p:cNvPr id="130" name="_s1029"/>
            <p:cNvCxnSpPr>
              <a:stCxn id="131" idx="0"/>
              <a:endCxn id="129" idx="0"/>
            </p:cNvCxnSpPr>
            <p:nvPr/>
          </p:nvCxnSpPr>
          <p:spPr>
            <a:xfrm flipH="1" flipV="1" rot="5400000">
              <a:off x="2868120" y="2629800"/>
              <a:ext cx="949680" cy="2467080"/>
            </a:xfrm>
            <a:prstGeom prst="bentConnector3">
              <a:avLst>
                <a:gd name="adj1" fmla="val 12021"/>
              </a:avLst>
            </a:prstGeom>
            <a:ln w="9360">
              <a:solidFill>
                <a:srgbClr val="eaeaea"/>
              </a:solidFill>
              <a:miter/>
            </a:ln>
          </p:spPr>
        </p:cxnSp>
        <p:sp>
          <p:nvSpPr>
            <p:cNvPr id="129" name="_s1030"/>
            <p:cNvSpPr/>
            <p:nvPr/>
          </p:nvSpPr>
          <p:spPr>
            <a:xfrm>
              <a:off x="1900440" y="1490760"/>
              <a:ext cx="5347440" cy="1897920"/>
            </a:xfrm>
            <a:prstGeom prst="bevel">
              <a:avLst>
                <a:gd name="adj" fmla="val 12500"/>
              </a:avLst>
            </a:prstGeom>
            <a:solidFill>
              <a:srgbClr val="339966">
                <a:alpha val="50000"/>
              </a:srgbClr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eaeaea"/>
                  </a:solidFill>
                  <a:latin typeface="Verdana"/>
                </a:rPr>
                <a:t>ВОДОРОСЛИ</a:t>
              </a:r>
              <a:endParaRPr b="0" lang="en-US" sz="2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1" name="_s1031"/>
            <p:cNvSpPr/>
            <p:nvPr/>
          </p:nvSpPr>
          <p:spPr>
            <a:xfrm>
              <a:off x="0" y="4338000"/>
              <a:ext cx="4219920" cy="1897920"/>
            </a:xfrm>
            <a:prstGeom prst="bevel">
              <a:avLst>
                <a:gd name="adj" fmla="val 12500"/>
              </a:avLst>
            </a:prstGeom>
            <a:solidFill>
              <a:srgbClr val="5e855b">
                <a:alpha val="50000"/>
              </a:srgbClr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eaeaea"/>
                  </a:solidFill>
                  <a:latin typeface="Verdana"/>
                </a:rPr>
                <a:t>одноклеточные</a:t>
              </a:r>
              <a:endParaRPr b="0" lang="en-US" sz="29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8" name="_s1032"/>
            <p:cNvSpPr/>
            <p:nvPr/>
          </p:nvSpPr>
          <p:spPr>
            <a:xfrm>
              <a:off x="4923000" y="4338000"/>
              <a:ext cx="4219920" cy="1897920"/>
            </a:xfrm>
            <a:prstGeom prst="bevel">
              <a:avLst>
                <a:gd name="adj" fmla="val 12500"/>
              </a:avLst>
            </a:prstGeom>
            <a:solidFill>
              <a:srgbClr val="5e855b">
                <a:alpha val="50000"/>
              </a:srgbClr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eaeaea"/>
                  </a:solidFill>
                  <a:latin typeface="Verdana"/>
                </a:rPr>
                <a:t>многоклеточные</a:t>
              </a:r>
              <a:endParaRPr b="0" lang="en-US" sz="29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дноклеточные водоросли</a:t>
            </a:r>
            <a:r>
              <a:rPr b="1" lang="ru-RU" sz="8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Рисунок 16" descr="F:\Урок-путешествие по теме Одноклеточные водоросли  Фестиваль «Открытый урок».files\img1.jpg"/>
          <p:cNvPicPr/>
          <p:nvPr/>
        </p:nvPicPr>
        <p:blipFill>
          <a:blip r:embed="rId1"/>
          <a:stretch/>
        </p:blipFill>
        <p:spPr>
          <a:xfrm>
            <a:off x="1428840" y="2000160"/>
            <a:ext cx="6215040" cy="461340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Хламидомон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5" descr="msoAF25A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857680" y="1268280"/>
            <a:ext cx="4333680" cy="5589720"/>
          </a:xfrm>
          <a:prstGeom prst="rect">
            <a:avLst/>
          </a:prstGeom>
          <a:ln w="0">
            <a:noFill/>
          </a:ln>
        </p:spPr>
      </p:pic>
      <p:sp>
        <p:nvSpPr>
          <p:cNvPr id="138" name="Line 6"/>
          <p:cNvSpPr/>
          <p:nvPr/>
        </p:nvSpPr>
        <p:spPr>
          <a:xfrm>
            <a:off x="6012000" y="1700280"/>
            <a:ext cx="172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5364000" y="2707920"/>
            <a:ext cx="2448000" cy="1152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Line 8"/>
          <p:cNvSpPr/>
          <p:nvPr/>
        </p:nvSpPr>
        <p:spPr>
          <a:xfrm flipV="1">
            <a:off x="6012000" y="3573000"/>
            <a:ext cx="1728720" cy="36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5292720" y="4437000"/>
            <a:ext cx="2664000" cy="287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6012000" y="5805360"/>
            <a:ext cx="1944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Line 11"/>
          <p:cNvSpPr/>
          <p:nvPr/>
        </p:nvSpPr>
        <p:spPr>
          <a:xfrm flipH="1" flipV="1">
            <a:off x="1835280" y="3357360"/>
            <a:ext cx="2016000" cy="502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1332000" y="2997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7667640" y="1143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7812000" y="21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7740720" y="321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7956720" y="4437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7956720" y="54450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214200" y="264312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Оболоч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7524720" y="15001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Жгути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7215120" y="24289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Цитоплазм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7286760" y="342900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Красны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«глазок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7885080" y="471492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Ядр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7093080" y="528624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Хроматофо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4" descr="j0305257"/>
          <p:cNvPicPr/>
          <p:nvPr/>
        </p:nvPicPr>
        <p:blipFill>
          <a:blip r:embed="rId2"/>
          <a:stretch/>
        </p:blipFill>
        <p:spPr>
          <a:xfrm>
            <a:off x="357120" y="3929040"/>
            <a:ext cx="1676520" cy="269388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Схема 5" descr=""/>
          <p:cNvPicPr/>
          <p:nvPr/>
        </p:nvPicPr>
        <p:blipFill>
          <a:blip r:embed="rId1"/>
          <a:stretch/>
        </p:blipFill>
        <p:spPr>
          <a:xfrm>
            <a:off x="-6480" y="1341360"/>
            <a:ext cx="9156960" cy="419436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начение водорослей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в  природе и жизни челове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одукты питания для челове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добр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орм для ско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химической промышленно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иологическая очистка сточных вод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лучение  лекарственных препарат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огащение воды кислород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ища для водных животных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иют для многих организм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91520" cy="192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9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1. Красный «глазок» 2. Хроматофор           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3. Цитоплазма           4. Жгутики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5 Ядро                        6. Ризоид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857240"/>
            <a:ext cx="91440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ой частью клетки хламидомонада ощущает свет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и помощи какой части клетки хламидомонада передвигается в воде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 называется плотное округлое тельце в клетке водоросли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то придает зеленую окраску водоросля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ая часть клетки заполнена клеточным соком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испособления для  прикрепления водорослей ко дн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Сусанинская средняя школа учитель биологии Карпушева Анна Эдуардовна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01:55:19Z</dcterms:created>
  <dc:creator>Наталья Нестерович</dc:creator>
  <dc:description/>
  <dc:language>en-US</dc:language>
  <cp:lastModifiedBy>1</cp:lastModifiedBy>
  <dcterms:modified xsi:type="dcterms:W3CDTF">2009-09-29T16:19:37Z</dcterms:modified>
  <cp:revision>10</cp:revision>
  <dc:subject/>
  <dc:title>ВОДОРОСЛИ</dc:title>
</cp:coreProperties>
</file>