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F5D-5527-4F99-BC2E-3BBF2E35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BD5-8B94-446F-AA3D-05490156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3E3F-EE77-45D3-BC52-FE33C21C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944C-A059-4B14-ACD1-B075E1A2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3BF0-5C0B-4B66-8312-DEBFB82E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4414-8B49-47B0-98BA-56D0F4CD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E0CD-4C01-445C-BE33-3D4880F0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CE03-24A8-4B66-B068-CB51FF5B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9091-5853-4DDD-BFF6-221A8E48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F5FD-9B8E-4C99-849C-1458944C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4CE5-C535-4195-A9D7-DB52086F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E538-B012-47C9-919A-D2E37A24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ECAD-34E4-4A44-9C82-9D3CB361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6A5A-427B-4404-BE42-B42565DB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020D-1770-4665-98AD-4ABFFB4A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6FA1-AA35-4FFE-AE80-D02D36A1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CE25-C530-4E04-B34D-771785B9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A1E-E6AA-42B1-898A-527A8BFB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1DAE-1F9D-483F-9D22-5894D5EC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1E9E-5FAE-4BA8-8C60-2F619DD6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FCC-3291-407B-81AC-96A197D4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DF72-72BB-4F7A-89D7-EA2E57A0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5A9F-DC2A-440B-9B35-C640CB03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70B6-6C9C-49E0-96D9-CA33C4EA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A3BF-E170-4A09-B9FD-43FC8BFF6D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9657-D31F-4E11-8FED-27509E72EB54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672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57240"/>
            <a:ext cx="9144000" cy="2492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Урок биологии в 6 классе</a:t>
            </a:r>
            <a:br>
              <a:rPr sz="2800"/>
            </a:br>
            <a:br>
              <a:rPr sz="6600"/>
            </a:br>
            <a:r>
              <a:rPr b="1" lang="ru-RU" sz="9600" spc="-1" strike="noStrike">
                <a:solidFill>
                  <a:srgbClr val="ffffcc"/>
                </a:solidFill>
                <a:latin typeface="Arial"/>
              </a:rPr>
              <a:t>ВОДОРОСЛИ</a:t>
            </a:r>
            <a:endParaRPr b="0" lang="en-US" sz="9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28760" y="1285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араграф 1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Заполните таблицу в тетрад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очините сказку о жизни в подводном царстве, где главные действующие лица, водоросл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57120" y="2500200"/>
          <a:ext cx="8286840" cy="1011240"/>
        </p:xfrm>
        <a:graphic>
          <a:graphicData uri="http://schemas.openxmlformats.org/drawingml/2006/table">
            <a:tbl>
              <a:tblPr/>
              <a:tblGrid>
                <a:gridCol w="1314360"/>
                <a:gridCol w="2000520"/>
                <a:gridCol w="1657080"/>
                <a:gridCol w="1657440"/>
                <a:gridCol w="1657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тдел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редставит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Место обитан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Значение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</a:tbl>
          </a:graphicData>
        </a:graphic>
      </p:graphicFrame>
      <p:sp>
        <p:nvSpPr>
          <p:cNvPr id="16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208080" y="-6480"/>
            <a:ext cx="9045360" cy="159732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" descr="image448.gif"/>
          <p:cNvPicPr/>
          <p:nvPr/>
        </p:nvPicPr>
        <p:blipFill>
          <a:blip r:embed="rId2"/>
          <a:stretch/>
        </p:blipFill>
        <p:spPr>
          <a:xfrm>
            <a:off x="1143000" y="307188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3"/>
          <a:srcRect l="11548" t="0" r="0" b="0"/>
          <a:stretch/>
        </p:blipFill>
        <p:spPr>
          <a:xfrm>
            <a:off x="1143000" y="485784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4"/>
          <a:srcRect l="19319" t="11653" r="22758" b="26165"/>
          <a:stretch/>
        </p:blipFill>
        <p:spPr>
          <a:xfrm>
            <a:off x="1143000" y="1428840"/>
            <a:ext cx="1785960" cy="15872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7"/>
          <p:cNvSpPr/>
          <p:nvPr/>
        </p:nvSpPr>
        <p:spPr>
          <a:xfrm>
            <a:off x="3357720" y="1714680"/>
            <a:ext cx="535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Урок не понравился,  не узнал ничего новог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3429000" y="3571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Урок прошел как обычн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3357720" y="5214960"/>
            <a:ext cx="514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Calibri"/>
              </a:rPr>
              <a:t>Урок  понравился,   узнал много новог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Классификация водорослей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Содержимое 8" descr=""/>
          <p:cNvPicPr/>
          <p:nvPr/>
        </p:nvPicPr>
        <p:blipFill>
          <a:blip r:embed="rId1"/>
          <a:stretch/>
        </p:blipFill>
        <p:spPr>
          <a:xfrm>
            <a:off x="407880" y="1596960"/>
            <a:ext cx="8285400" cy="4541760"/>
          </a:xfrm>
          <a:prstGeom prst="rect">
            <a:avLst/>
          </a:prstGeom>
          <a:ln w="0">
            <a:noFill/>
          </a:ln>
        </p:spPr>
      </p:pic>
      <p:cxnSp>
        <p:nvCxnSpPr>
          <p:cNvPr id="119" name="Прямая со стрелкой 10"/>
          <p:cNvCxnSpPr/>
          <p:nvPr/>
        </p:nvCxnSpPr>
        <p:spPr>
          <a:xfrm flipH="1">
            <a:off x="2071440" y="1143000"/>
            <a:ext cx="1072080" cy="12866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0" name="Прямая со стрелкой 12"/>
          <p:cNvCxnSpPr/>
          <p:nvPr/>
        </p:nvCxnSpPr>
        <p:spPr>
          <a:xfrm flipH="1">
            <a:off x="4570200" y="1214280"/>
            <a:ext cx="3600" cy="12866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1" name="Прямая со стрелкой 14"/>
          <p:cNvCxnSpPr/>
          <p:nvPr/>
        </p:nvCxnSpPr>
        <p:spPr>
          <a:xfrm>
            <a:off x="5999760" y="1143000"/>
            <a:ext cx="1215000" cy="12866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Где обитают водоросли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743040" indent="-743040">
              <a:spcBef>
                <a:spcPts val="9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На какие две большие группы в зависимости от строения делятся растения?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743040" indent="-743040">
              <a:spcBef>
                <a:spcPts val="9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очему водоросли относятся к низшим растениям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Organization Chart 6"/>
          <p:cNvGrpSpPr/>
          <p:nvPr/>
        </p:nvGrpSpPr>
        <p:grpSpPr>
          <a:xfrm>
            <a:off x="0" y="1490760"/>
            <a:ext cx="9142920" cy="4745160"/>
            <a:chOff x="0" y="1490760"/>
            <a:chExt cx="9142920" cy="4745160"/>
          </a:xfrm>
        </p:grpSpPr>
        <p:cxnSp>
          <p:nvCxnSpPr>
            <p:cNvPr id="127" name="_s1028"/>
            <p:cNvCxnSpPr>
              <a:stCxn id="128" idx="0"/>
              <a:endCxn id="129" idx="1"/>
            </p:cNvCxnSpPr>
            <p:nvPr/>
          </p:nvCxnSpPr>
          <p:spPr>
            <a:xfrm flipV="1" rot="16200000">
              <a:off x="5329800" y="2634480"/>
              <a:ext cx="949680" cy="2457360"/>
            </a:xfrm>
            <a:prstGeom prst="bentConnector3">
              <a:avLst>
                <a:gd name="adj1" fmla="val 12021"/>
              </a:avLst>
            </a:prstGeom>
            <a:ln w="9360">
              <a:solidFill>
                <a:srgbClr val="eaeaea"/>
              </a:solidFill>
              <a:miter/>
            </a:ln>
          </p:spPr>
        </p:cxnSp>
        <p:cxnSp>
          <p:nvCxnSpPr>
            <p:cNvPr id="130" name="_s1029"/>
            <p:cNvCxnSpPr>
              <a:stCxn id="131" idx="0"/>
              <a:endCxn id="129" idx="0"/>
            </p:cNvCxnSpPr>
            <p:nvPr/>
          </p:nvCxnSpPr>
          <p:spPr>
            <a:xfrm flipH="1" flipV="1" rot="5400000">
              <a:off x="2868120" y="2629800"/>
              <a:ext cx="949680" cy="2467080"/>
            </a:xfrm>
            <a:prstGeom prst="bentConnector3">
              <a:avLst>
                <a:gd name="adj1" fmla="val 12021"/>
              </a:avLst>
            </a:prstGeom>
            <a:ln w="9360">
              <a:solidFill>
                <a:srgbClr val="eaeaea"/>
              </a:solidFill>
              <a:miter/>
            </a:ln>
          </p:spPr>
        </p:cxnSp>
        <p:sp>
          <p:nvSpPr>
            <p:cNvPr id="129" name="_s1030"/>
            <p:cNvSpPr/>
            <p:nvPr/>
          </p:nvSpPr>
          <p:spPr>
            <a:xfrm>
              <a:off x="1900440" y="1490760"/>
              <a:ext cx="5347440" cy="1897920"/>
            </a:xfrm>
            <a:prstGeom prst="bevel">
              <a:avLst>
                <a:gd name="adj" fmla="val 12500"/>
              </a:avLst>
            </a:prstGeom>
            <a:solidFill>
              <a:srgbClr val="339966">
                <a:alpha val="50000"/>
              </a:srgbClr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240" rIns="6624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eaeaea"/>
                  </a:solidFill>
                  <a:latin typeface="Verdana"/>
                </a:rPr>
                <a:t>ВОДОРОСЛИ</a:t>
              </a:r>
              <a:endParaRPr b="0" lang="en-US" sz="2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1" name="_s1031"/>
            <p:cNvSpPr/>
            <p:nvPr/>
          </p:nvSpPr>
          <p:spPr>
            <a:xfrm>
              <a:off x="0" y="4338000"/>
              <a:ext cx="4219920" cy="1897920"/>
            </a:xfrm>
            <a:prstGeom prst="bevel">
              <a:avLst>
                <a:gd name="adj" fmla="val 12500"/>
              </a:avLst>
            </a:prstGeom>
            <a:solidFill>
              <a:srgbClr val="5e855b">
                <a:alpha val="50000"/>
              </a:srgbClr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240" rIns="6624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eaeaea"/>
                  </a:solidFill>
                  <a:latin typeface="Verdana"/>
                </a:rPr>
                <a:t>одноклеточные</a:t>
              </a:r>
              <a:endParaRPr b="0" lang="en-US" sz="2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8" name="_s1032"/>
            <p:cNvSpPr/>
            <p:nvPr/>
          </p:nvSpPr>
          <p:spPr>
            <a:xfrm>
              <a:off x="4923000" y="4338000"/>
              <a:ext cx="4219920" cy="1897920"/>
            </a:xfrm>
            <a:prstGeom prst="bevel">
              <a:avLst>
                <a:gd name="adj" fmla="val 12500"/>
              </a:avLst>
            </a:prstGeom>
            <a:solidFill>
              <a:srgbClr val="5e855b">
                <a:alpha val="50000"/>
              </a:srgbClr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240" rIns="6624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eaeaea"/>
                  </a:solidFill>
                  <a:latin typeface="Verdana"/>
                </a:rPr>
                <a:t>многоклеточные</a:t>
              </a:r>
              <a:endParaRPr b="0" lang="en-US" sz="29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дноклеточные водоросли</a:t>
            </a:r>
            <a:r>
              <a:rPr b="1" lang="ru-RU" sz="8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Рисунок 16" descr="F:\Урок-путешествие по теме Одноклеточные водоросли  Фестиваль «Открытый урок».files\img1.jpg"/>
          <p:cNvPicPr/>
          <p:nvPr/>
        </p:nvPicPr>
        <p:blipFill>
          <a:blip r:embed="rId1"/>
          <a:stretch/>
        </p:blipFill>
        <p:spPr>
          <a:xfrm>
            <a:off x="1428840" y="2000160"/>
            <a:ext cx="6215040" cy="4613400"/>
          </a:xfrm>
          <a:prstGeom prst="rect">
            <a:avLst/>
          </a:prstGeom>
          <a:ln w="0">
            <a:noFill/>
          </a:ln>
        </p:spPr>
      </p:pic>
      <p:sp>
        <p:nvSpPr>
          <p:cNvPr id="13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Хламидомона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5" descr="msoAF25A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857680" y="1268280"/>
            <a:ext cx="4333680" cy="5589720"/>
          </a:xfrm>
          <a:prstGeom prst="rect">
            <a:avLst/>
          </a:prstGeom>
          <a:ln w="0">
            <a:noFill/>
          </a:ln>
        </p:spPr>
      </p:pic>
      <p:sp>
        <p:nvSpPr>
          <p:cNvPr id="138" name="Line 6"/>
          <p:cNvSpPr/>
          <p:nvPr/>
        </p:nvSpPr>
        <p:spPr>
          <a:xfrm>
            <a:off x="6012000" y="1700280"/>
            <a:ext cx="1728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Line 7"/>
          <p:cNvSpPr/>
          <p:nvPr/>
        </p:nvSpPr>
        <p:spPr>
          <a:xfrm flipV="1">
            <a:off x="5364000" y="2707920"/>
            <a:ext cx="2448000" cy="1152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Line 8"/>
          <p:cNvSpPr/>
          <p:nvPr/>
        </p:nvSpPr>
        <p:spPr>
          <a:xfrm flipV="1">
            <a:off x="6012000" y="3573000"/>
            <a:ext cx="1728720" cy="36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5292720" y="4437000"/>
            <a:ext cx="2664000" cy="287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6012000" y="5805360"/>
            <a:ext cx="1944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Line 11"/>
          <p:cNvSpPr/>
          <p:nvPr/>
        </p:nvSpPr>
        <p:spPr>
          <a:xfrm flipH="1" flipV="1">
            <a:off x="1835280" y="3357360"/>
            <a:ext cx="2016000" cy="50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1332000" y="2997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7667640" y="1143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7812000" y="21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7740720" y="321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7956720" y="44370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7956720" y="54450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214200" y="264312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Оболоч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7524720" y="15001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Жгутик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7215120" y="242892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Цитоплазм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7286760" y="3429000"/>
            <a:ext cx="208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Красны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«глазок»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7885080" y="471492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Ядр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7093080" y="528624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Хроматофор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Picture 4" descr="j0305257"/>
          <p:cNvPicPr/>
          <p:nvPr/>
        </p:nvPicPr>
        <p:blipFill>
          <a:blip r:embed="rId2"/>
          <a:stretch/>
        </p:blipFill>
        <p:spPr>
          <a:xfrm>
            <a:off x="357120" y="3929040"/>
            <a:ext cx="1676520" cy="269388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Схема 5" descr=""/>
          <p:cNvPicPr/>
          <p:nvPr/>
        </p:nvPicPr>
        <p:blipFill>
          <a:blip r:embed="rId1"/>
          <a:stretch/>
        </p:blipFill>
        <p:spPr>
          <a:xfrm>
            <a:off x="-6480" y="1341360"/>
            <a:ext cx="9156960" cy="4194360"/>
          </a:xfrm>
          <a:prstGeom prst="rect">
            <a:avLst/>
          </a:prstGeom>
          <a:ln w="0">
            <a:noFill/>
          </a:ln>
        </p:spPr>
      </p:pic>
      <p:sp>
        <p:nvSpPr>
          <p:cNvPr id="15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начение водорослей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в  природе и жизни челове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одукты питания для челове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добр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орм для ско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химической промышленно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Биологическая очистка сточных вод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олучение  лекарственных препарат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богащение воды кислород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ища для водных животных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иют для многих организм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91520" cy="192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9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1. Красный «глазок» 2. Хроматофор           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3. Цитоплазма           4. Жгутики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5 Ядро                        6. Ризоид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857240"/>
            <a:ext cx="914400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кой частью клетки хламидомонада ощущает свет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и помощи какой части клетки хламидомонада передвигается в воде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к называется плотное округлое тельце в клетке водоросли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то придает зеленую окраску водоросля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кая часть клетки заполнена клеточным соком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испособления для  прикрепления водорослей ко дн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01:55:19Z</dcterms:created>
  <dc:creator>Наталья Нестерович</dc:creator>
  <dc:description/>
  <dc:language>en-US</dc:language>
  <cp:lastModifiedBy>1</cp:lastModifiedBy>
  <dcterms:modified xsi:type="dcterms:W3CDTF">2009-09-29T16:19:37Z</dcterms:modified>
  <cp:revision>10</cp:revision>
  <dc:subject/>
  <dc:title>ВОДОРОСЛИ</dc:title>
</cp:coreProperties>
</file>