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5E1-94A2-44A0-AB00-1148961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CB6-A080-47C2-8668-129E0149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6BB-FB6C-46F9-8A50-C070DD69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F62-5339-4F0B-928D-54ACDE11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0F6-9E4E-4829-9ADD-CA33EC0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BB6-ECF7-4FD6-BC32-BE7C1A6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F81-AB8D-4F5A-9308-670168F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AD1-6017-4D9A-8F70-F3315452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6A6-B39D-494E-B554-E7E9F520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B64-B4BB-45D0-BBC0-3AD1FF2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450-4DD6-498B-88F0-D3B405A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543-5220-4704-B1C1-732CCD8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76C-05E5-458E-9A97-2BB2D8AE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taly.tj/photo/peopl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Итал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76720" y="3805200"/>
            <a:ext cx="4067280" cy="305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1116000" y="702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4537080" cy="3818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1648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 Ковлягина Елизавета 10 "А"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и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4626000"/>
            <a:ext cx="612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мско-католической церкви в Италии составляет от 57 610 000 до 55 752 000 человек (около 96,77 % населения Италии), из них от 33 до 38 % являются активными прихожанами; 10 % катол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35640" y="1628640"/>
            <a:ext cx="4608360" cy="3063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31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мволы государст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4653000"/>
            <a:ext cx="3538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января 179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4537080" cy="302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9052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алия на ка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5300640"/>
            <a:ext cx="565164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ничит с Францией на северо-западе (протяжённость границы — 488 км), со Швейцарией (740 км) и Австрией (430 км) — на севере и со Словенией — на северо-востоке (232 км). Также имеет внутренние границы с Ватиканом (3,2 км) и Сан-Марино (39 к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41680" cy="458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34 из 39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997360"/>
            <a:ext cx="3143160" cy="3616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0" y="2060640"/>
            <a:ext cx="5338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енность населения Италии превысила 60 млн человек.4е месте по населению среди стран Европейского союза,23е место среди стран всего мира. Плотность населения составляет 199,2 человека на кв. километр — пятое место в Евросою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4076640"/>
            <a:ext cx="485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е густонаселённые области Италии — равнины Кампании, Ломбардии и Лигурии, где на один кв. км приходится свыше 300 ж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упнейшие города и аглом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40720" y="4653000"/>
            <a:ext cx="94608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205080" cy="2152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203640" cy="20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3173400" cy="2114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508720" y="4076640"/>
            <a:ext cx="3203640" cy="209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2000" y="3573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6880" y="3573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724,3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350028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5800" y="3500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295,7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9800" y="609300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7440" y="60930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2720" y="60930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8,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4160" y="609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3,6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мышленность в Ита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56000" y="2205000"/>
            <a:ext cx="29876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ономика Италии по-прежнему разделена на промышленно развитый север, где преобладают частные компании и менее развитый сельскохозяйственный юг с 20% безработицы. Большинство сырьевых материалов необходимых в промышленности и более 75% энергетических ресурсов Италия получает за счет им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745080" cy="2262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49272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322920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3673440" cy="193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3591000" cy="3146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71640" y="692280"/>
            <a:ext cx="2846160" cy="355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907920"/>
            <a:ext cx="3635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43280" y="1196640"/>
            <a:ext cx="360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льское хозяйство Италии дает 10% валового национального дохода страны. В нем занято 14% экономически активного населения странам Европы.Сельское хозяйство достигло высокого уровня продуктивности только на Севере, особенно на Паданской равн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3816360" cy="2422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8000" y="4022640"/>
            <a:ext cx="377964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5b65"/>
            </a:gs>
            <a:gs pos="100000">
              <a:srgbClr val="23c7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7280" y="3876480"/>
            <a:ext cx="47163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талия имеет развитую сеть железных и автомобильных дорог. Более 90 % пассажиров и свыше 80 % грузов перевозятся автомобилями. Во внешних перевозках преобладает морской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3743640" cy="255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3457800" cy="2787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3816360" cy="28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58:00Z</dcterms:created>
  <dc:creator>Елизавета</dc:creator>
  <dc:description/>
  <dc:language>en-US</dc:language>
  <cp:lastModifiedBy>Елизавета</cp:lastModifiedBy>
  <dcterms:modified xsi:type="dcterms:W3CDTF">2010-04-11T07:56:22Z</dcterms:modified>
  <cp:revision>7</cp:revision>
  <dc:subject/>
  <dc:title>Слайд 1</dc:title>
</cp:coreProperties>
</file>