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430-7459-46A8-B63C-9ECDE61D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F3C-F929-4334-9F69-14042674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024-CB30-4F59-B972-4ACD4BB4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C38-9144-4EED-9678-1BB42721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D09-4198-4EDD-9D91-475A9018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4CE-75EC-4D5B-959F-89D9B6C8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0CA-BFDF-4B1C-9760-A9EFE4F9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863-5D3F-4E51-88B3-5031E56F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5E9-1282-4BEF-927A-1BDE6652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9C7-A989-4F80-84C0-B6A0B474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0A6-EABD-4573-A6AC-BAA384E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E6C-FF14-42B4-8BA2-0AF1A76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8F6-2F46-4FB2-8D28-1C257389F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taly.tj/photo/peopl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6720" y="3805200"/>
            <a:ext cx="4067280" cy="305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1116000" y="702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537080" cy="3818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21648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 Ковлягина Елизавета 10 "А"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4626000"/>
            <a:ext cx="612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мско-католической церкви в Италии составляет от 57 610 000 до 55 752 000 человек (около 96,77 % населения Италии), из них от 33 до 38 % являются активными прихожанами; 10 % катол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35640" y="1628640"/>
            <a:ext cx="4608360" cy="3063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31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мволы государ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4653000"/>
            <a:ext cx="353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января 17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905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алия на ка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5300640"/>
            <a:ext cx="56516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ничит с Францией на северо-западе (протяжённость границы — 488 км), со Швейцарией (740 км) и Австрией (430 км) — на севере и со Словенией — на северо-востоке (232 км). Также имеет внутренние границы с Ватиканом (3,2 км) и Сан-Марино (39 к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41680" cy="458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34 из 39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997360"/>
            <a:ext cx="3143160" cy="3616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0" y="2060640"/>
            <a:ext cx="5338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енность населения Италии превысила 60 млн человек.4е месте по населению среди стран Европейского союза,23е место среди стран всего мира. Плотность населения составляет 199,2 человека на кв. километр — пятое место в Евросою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4076640"/>
            <a:ext cx="48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е густонаселённые области Италии — равнины Кампании, Ломбардии и Лигурии, где на один кв. км приходится свыше 300 ж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упнейшие города и аглом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40720" y="4653000"/>
            <a:ext cx="9460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205080" cy="2152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203640" cy="20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3173400" cy="211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508720" y="4076640"/>
            <a:ext cx="3203640" cy="209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357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6880" y="3573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724,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350028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5800" y="3500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95,7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9800" y="609300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7440" y="6093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6093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8,8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4160" y="609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3,6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мышленность в Ит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56000" y="2205000"/>
            <a:ext cx="2987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номика Италии по-прежнему разделена на промышленно развитый север, где преобладают частные компании и менее развитый сельскохозяйственный юг с 20% безработицы. Большинство сырьевых материалов необходимых в промышленности и более 75% энергетических ресурсов Италия получает за счет им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745080" cy="226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49272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322920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673440" cy="19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591000" cy="3146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71640" y="692280"/>
            <a:ext cx="2846160" cy="3551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36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43280" y="1196640"/>
            <a:ext cx="360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хозяйство Италии дает 10% валового национального дохода страны. В нем занято 14% экономически активного населения странам Европы.Сельское хозяйство достигло высокого уровня продуктивности только на Севере, особенно на Паданской рав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3816360" cy="2422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8000" y="402264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7280" y="3876480"/>
            <a:ext cx="47163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алия имеет развитую сеть железных и автомобильных дорог. Более 90 % пассажиров и свыше 80 % грузов перевозятся автомобилями. Во внешних перевозках преобладает морской тран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3743640" cy="255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3457800" cy="278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8000" y="3860640"/>
            <a:ext cx="3816360" cy="28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58:00Z</dcterms:created>
  <dc:creator>Елизавета</dc:creator>
  <dc:description/>
  <dc:language>en-US</dc:language>
  <cp:lastModifiedBy>Елизавета</cp:lastModifiedBy>
  <dcterms:modified xsi:type="dcterms:W3CDTF">2010-04-11T07:56:22Z</dcterms:modified>
  <cp:revision>7</cp:revision>
  <dc:subject/>
  <dc:title>Слайд 1</dc:title>
</cp:coreProperties>
</file>