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57E-E0BA-4D88-A955-965A7413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2FB-A59F-4F2F-BA74-A72D7A69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383-D9BA-4196-96DA-ADE39176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4A8-386A-40F1-94AC-30680185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BD9-B517-48A3-BA7F-C20410C6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81E-1634-427F-AF1C-EEBC12AD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8DC-F284-4BC6-9C00-92E3D97D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F6C-78C7-415C-9810-FE65A101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22D-C5A2-4843-BA8E-0239EDC6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88A-26C8-46C0-8676-0C7BBFD6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3D4-89E7-4BC0-BFE7-4C2177F2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9A7-37AF-4A0F-8501-EAD89E7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9D10-EF67-4F3D-A3BA-54D7F5227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taly.tj/photo/peopl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76720" y="3805200"/>
            <a:ext cx="4067280" cy="3052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1116000" y="702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537080" cy="3818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216480"/>
            <a:ext cx="31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 Ковлягина Елизавета 10 "А"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4626000"/>
            <a:ext cx="612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мско-католической церкви в Италии составляет от 57 610 000 до 55 752 000 человек (около 96,77 % населения Италии), из них от 33 до 38 % являются активными прихожанами; 10 % катол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35640" y="1628640"/>
            <a:ext cx="4608360" cy="3063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31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мволы государ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4653000"/>
            <a:ext cx="3538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января 17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4537080" cy="302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9052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алия на ка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5300640"/>
            <a:ext cx="56516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ничит с Францией на северо-западе (протяжённость границы — 488 км), со Швейцарией (740 км) и Австрией (430 км) — на севере и со Словенией — на северо-востоке (232 км). Также имеет внутренние границы с Ватиканом (3,2 км) и Сан-Марино (39 к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41680" cy="458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34 из 39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997360"/>
            <a:ext cx="3143160" cy="3616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0" y="2060640"/>
            <a:ext cx="5338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енность населения Италии превысила 60 млн человек.4е месте по населению среди стран Европейского союза,23е место среди стран всего мира. Плотность населения составляет 199,2 человека на кв. километр — пятое место в Евросою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4076640"/>
            <a:ext cx="485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е густонаселённые области Италии — равнины Кампании, Ломбардии и Лигурии, где на один кв. км приходится свыше 300 ж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упнейшие города и аглом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40720" y="4653000"/>
            <a:ext cx="94608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205080" cy="2152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203640" cy="20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3173400" cy="211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508720" y="4076640"/>
            <a:ext cx="3203640" cy="209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357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6880" y="3573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724,3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350028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5800" y="3500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95,7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9800" y="609300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7440" y="6093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60930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8,8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4160" y="609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3,6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мышленность в Ита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56000" y="2205000"/>
            <a:ext cx="2987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номика Италии по-прежнему разделена на промышленно развитый север, где преобладают частные компании и менее развитый сельскохозяйственный юг с 20% безработицы. Большинство сырьевых материалов необходимых в промышленности и более 75% энергетических ресурсов Италия получает за счет имп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745080" cy="226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349272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322920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673440" cy="193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3591000" cy="3146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71640" y="692280"/>
            <a:ext cx="2846160" cy="3551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907920"/>
            <a:ext cx="36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43280" y="1196640"/>
            <a:ext cx="3600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хозяйство Италии дает 10% валового национального дохода страны. В нем занято 14% экономически активного населения странам Европы.Сельское хозяйство достигло высокого уровня продуктивности только на Севере, особенно на Паданской равн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3816360" cy="2422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8000" y="4022640"/>
            <a:ext cx="377964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195640" y="407664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7280" y="3876480"/>
            <a:ext cx="47163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талия имеет развитую сеть железных и автомобильных дорог. Более 90 % пассажиров и свыше 80 % грузов перевозятся автомобилями. Во внешних перевозках преобладает морской тран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3743640" cy="2557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187280" y="2060640"/>
            <a:ext cx="3457800" cy="2787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8000" y="3860640"/>
            <a:ext cx="3816360" cy="28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0:58:00Z</dcterms:created>
  <dc:creator>Елизавета</dc:creator>
  <dc:description/>
  <dc:language>en-US</dc:language>
  <cp:lastModifiedBy>Елизавета</cp:lastModifiedBy>
  <dcterms:modified xsi:type="dcterms:W3CDTF">2010-04-11T07:56:22Z</dcterms:modified>
  <cp:revision>7</cp:revision>
  <dc:subject/>
  <dc:title>Слайд 1</dc:title>
</cp:coreProperties>
</file>