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2D9-015B-4CFD-8D2C-7D8D7FD1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62A-B7FC-48C8-8DE3-ACB924E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05D-C92A-46FE-ABE6-04158D6B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248-0361-4A46-A242-BC8A21D4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7CB8-B2B2-44D3-9763-93C8D00E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73B-87AF-4EFD-BB31-F684228B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AAB4-4B47-4C93-86A8-B573BA3B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C3ED-A1ED-4CFC-97E0-AAB125E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587-6363-4065-A4B9-5A0A8031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FF0-E7AE-4FBC-94FF-3EB6F55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131-609A-4B82-8B81-2458A43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4D2-2CBC-4BC2-80C6-760C207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6EF-898A-47C4-BABC-9D09F90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3C65-51C2-41FC-9CB8-7E85CD1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D9C9-478B-4AD7-9E0E-182B2A6B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2926-B819-4790-BFF6-29EFE9DA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ADA-DD44-40B5-9F96-9DC2742C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9B06-89FF-409F-B7FA-FA589C2C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610F-9730-4881-A4B0-03204B36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293F-09C9-4BE3-9C3A-B4F5BAAD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2EE2-4BF6-4656-B42A-91E3D690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77C0-A035-4D15-A4B1-02C50DB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43A-D559-4E6B-873C-54980BC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D6AA-01B3-4D30-BB99-7B0154E5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4C78-4D6C-4BE1-9AB3-D647B99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3B93-CF98-4ECD-B3AF-C61B73F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248F-ED99-437B-89C0-83A4EC5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0B21-0769-4081-9AA7-EAD31D1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1640-4F3E-4B5A-83BF-45C480EC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AFD4-5EED-4A52-84E7-B17B8F77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74CA-1FE6-4A68-894D-5EEC8FC1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0253-B376-4360-A20F-625D302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227A-EC2A-4820-8D93-EDC2D15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3D8-532C-451B-A7AB-28C5BDB7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FA29-B7D9-4CD0-A601-84965347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DA91-C9DD-4902-85FA-190F261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19CB-D79A-4179-B7A6-611CAC84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336A-F70F-4142-89CB-7B93B32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DB4D-D91D-4882-AC23-1C1DA73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FAE1-FEA2-4944-AA90-FACCB18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A8ED-8F40-4C24-977F-9F80CB45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2620-1162-420F-AC99-F06C847D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EDA4-666F-4606-A373-77C87D48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E302A-0258-4374-8FF6-3368D084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B7D-A9A2-486F-8399-A86D1B3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F592-054C-4FC8-A24D-4839482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4A2B-5C96-43A7-B606-9577E8AE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1DDC-D20A-41C6-8812-2F6234EE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6751-6D20-4E24-8064-4610AA5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4C5A-B148-4A8A-83A3-51E18D1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D4BF-62C9-4D68-9E3C-9D1DB06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6679-0649-40A1-9B6C-5D0C636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2D9E-BB78-488F-A8CE-04D09ED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645B-C6A4-4DDB-8033-6977E268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14DFB-E18A-49F2-AAA3-83A3CFDB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4AD-08B3-44D6-84E1-50383FA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FF60-52AE-423F-A55C-FF29B98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6BB76-70D3-4FBC-BD08-E2F7A8B3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90957-F0F0-4D91-A756-B782C974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1106-BEC6-4E2F-83A8-17EFF586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26888-9A17-4012-87BC-FB12D17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42FB-02A3-4EA5-8B57-6CA560F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619A-7336-417E-9522-119931C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BFD6-6E93-498D-944E-4136FC0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8CCD-3C53-41FA-AD7A-5E76253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0BDF-2B60-408F-8B0A-940FF9F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37B-65B7-49F8-9A49-5C50E92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2ACA-EC9E-416F-939C-9AFCD7A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3E17-5612-4DBF-A72B-E501DD2C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DFBA-4212-4D02-8D28-17C1781D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D38-0300-4F81-AA72-7073488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E52-578A-4B8C-93BF-85F0B22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7E2-A608-40D9-A842-881BE1E7DF86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B68-1EEB-4C5F-A25B-4EE2F01585A7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070-219E-4583-8694-C7915BC4884E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FD6-A463-4E36-88EE-35F435E5FDE4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49E-E8EE-4278-8F64-B1EA82F9452E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DA82-4AAF-4F91-B3A6-3EBE93CB6083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ПРЕЗЕНТАЦИЯ ПО МАТЕМАТИКЕ</a:t>
            </a:r>
            <a:br>
              <a:rPr sz="4000"/>
            </a:b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                    2 КЛАСС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иалковская Н.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итель начальных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ассо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У «ООШ №81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.Сарат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3" descr="iCAGM4S5V.jpg"/>
          <p:cNvPicPr/>
          <p:nvPr/>
        </p:nvPicPr>
        <p:blipFill>
          <a:blip r:embed="rId1"/>
          <a:stretch/>
        </p:blipFill>
        <p:spPr>
          <a:xfrm>
            <a:off x="857160" y="3214800"/>
            <a:ext cx="194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Найдите длину ломанной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Прямая соединительная линия 3"/>
          <p:cNvSpPr/>
          <p:nvPr/>
        </p:nvSpPr>
        <p:spPr>
          <a:xfrm>
            <a:off x="785880" y="23572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>
            <a:off x="2928960" y="2357280"/>
            <a:ext cx="0" cy="185760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>
            <a:off x="2928960" y="42148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437840" y="142884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3509280" y="43578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3009240" y="264312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d3e0"/>
                </a:solidFill>
                <a:latin typeface="Franklin Gothic Book"/>
              </a:rPr>
              <a:t>Тема. Задачи на умнож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c4e2c5"/>
                </a:solidFill>
                <a:latin typeface="Arial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6 + 30             28 +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6             68 – 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0           68 – 0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6           68 –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d4a7"/>
                </a:solidFill>
                <a:latin typeface="Arial"/>
              </a:rPr>
              <a:t>Найдите в каждом столбике «лишний» прим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3" descr="girl_grad_philosophy_sx.gif"/>
          <p:cNvPicPr/>
          <p:nvPr/>
        </p:nvPicPr>
        <p:blipFill>
          <a:blip r:embed="rId1"/>
          <a:stretch/>
        </p:blipFill>
        <p:spPr>
          <a:xfrm>
            <a:off x="6786720" y="22860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1429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6d4a7"/>
                </a:solidFill>
                <a:latin typeface="Arial"/>
              </a:rPr>
              <a:t>Найдите устно сумму удобным способом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2 + 4 + 6 + 8 + 10 + 12 + 14 + 16 + 18 =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857880" y="928800"/>
            <a:ext cx="52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6d4a7"/>
                </a:solidFill>
                <a:latin typeface="Arial"/>
              </a:rPr>
              <a:t>Решите задач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" descr="iCA2AXX61.jpg"/>
          <p:cNvPicPr/>
          <p:nvPr/>
        </p:nvPicPr>
        <p:blipFill>
          <a:blip r:embed="rId1"/>
          <a:stretch/>
        </p:blipFill>
        <p:spPr>
          <a:xfrm>
            <a:off x="928800" y="271476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595960" y="242892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455560" y="4714920"/>
            <a:ext cx="70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5400" spc="-1" strike="noStrike">
                <a:solidFill>
                  <a:srgbClr val="9a3130"/>
                </a:solidFill>
                <a:latin typeface="Arial"/>
              </a:rPr>
              <a:t>?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, на 35 кг больш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im6-tub-ru.yandex.net/i?id=296314249-36-72"/>
          <p:cNvPicPr/>
          <p:nvPr/>
        </p:nvPicPr>
        <p:blipFill>
          <a:blip r:embed="rId1"/>
          <a:stretch/>
        </p:blipFill>
        <p:spPr>
          <a:xfrm>
            <a:off x="357120" y="42876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im6-tub-ru.yandex.net/i?id=296314249-36-72"/>
          <p:cNvPicPr/>
          <p:nvPr/>
        </p:nvPicPr>
        <p:blipFill>
          <a:blip r:embed="rId2"/>
          <a:stretch/>
        </p:blipFill>
        <p:spPr>
          <a:xfrm>
            <a:off x="357120" y="257184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6-tub-ru.yandex.net/i?id=296314249-36-72"/>
          <p:cNvPicPr/>
          <p:nvPr/>
        </p:nvPicPr>
        <p:blipFill>
          <a:blip r:embed="rId3"/>
          <a:stretch/>
        </p:blipFill>
        <p:spPr>
          <a:xfrm>
            <a:off x="357120" y="471492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154320" y="5572080"/>
            <a:ext cx="18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 ?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0d3e0"/>
                </a:solidFill>
                <a:latin typeface="Franklin Gothic Book"/>
              </a:rPr>
              <a:t>Работа над новым материалом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357120" y="1143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28760" y="3286080"/>
            <a:ext cx="1928520" cy="14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428760" y="5072040"/>
            <a:ext cx="1928520" cy="1440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42920" y="257184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авая фигурная скобка 7"/>
          <p:cNvSpPr/>
          <p:nvPr/>
        </p:nvSpPr>
        <p:spPr>
          <a:xfrm>
            <a:off x="2857680" y="1285920"/>
            <a:ext cx="1226880" cy="5357880"/>
          </a:xfrm>
          <a:custGeom>
            <a:avLst/>
            <a:gdLst>
              <a:gd name="textAreaLeft" fmla="*/ 0 w 1226880"/>
              <a:gd name="textAreaRight" fmla="*/ 443160 w 122688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4429080" y="3500280"/>
            <a:ext cx="39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?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горош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Закрепление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             </a:t>
            </a: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285840" y="1143000"/>
            <a:ext cx="7858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0 + 50 = 60(р.)– бы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0 – 15 = 45 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ǁ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0 – 15 = 35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35 + 10 = 45(р.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има</cp:lastModifiedBy>
  <dcterms:modified xsi:type="dcterms:W3CDTF">2011-10-07T15:28:27Z</dcterms:modified>
  <cp:revision>8</cp:revision>
  <dc:subject/>
  <dc:title>ПРЕЗЕНТАЦИЯ ПО МАТЕМАТИКЕ                     2 КЛАСС</dc:title>
</cp:coreProperties>
</file>