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FAB-ED40-4A4B-B61B-E2AC22D3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FB8-C371-4BFC-9CC5-2C0379C7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AF0-BBEA-4889-99EC-7A76136C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F62-69E8-4B83-A9AD-10C43777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8F18-93B3-4949-BBE4-747813CF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478A-BAF7-4F73-94B4-FFD8867C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BA73-7D65-4F7F-89AA-2D722786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614D-1D44-4288-AC81-A8E27E99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8D21-8DD6-4542-ACEE-EC4DA87E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D9F6-B1CF-47B8-A948-51FD3F56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01DA-B6E5-4ADA-9987-993C814F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72A-505C-4FBA-8CF3-5733C5FF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CCC9-3639-4E21-9839-BE4F884B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BD0B-713F-4A5A-97E2-0D8FC9A0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7234-471D-43D7-AB8D-E4423033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E7C6-211A-48D1-9BE6-DE43B5E5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9D35-8948-4B75-AFB1-553C815C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1DEC2-1D3B-4B57-ACF0-E3AF4609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FC0B-B7B8-4251-AE45-18BC9515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A4AF-A88C-4A0D-841D-06828324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C9369-4608-446D-81BA-42BA633E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B625-C6E5-4F6B-B955-ABAF899E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8B0-8931-48E2-BD07-23A2C1B3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3A3F-6478-4649-A063-3681B9B6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9ADA-2F6C-49DB-87D2-49C7DAA6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661D-01F6-4BCB-A487-D2D5D219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4E37-D34F-4094-B803-386FE52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8FA1-3D9F-43CB-88EF-01EC2AB3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48EB-EEBB-4DBB-A731-E013489E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41DC9-64A0-411F-9426-89086D30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A1B43-2D3A-4619-BCB5-3CA6C5CF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8C17-1131-410A-8644-41A6D70D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BC06-9CD6-4866-A3A3-3A33888F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801-00C0-4254-9310-9A241CD0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F0123-90B1-4A5C-B94D-CCEF5FE9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0A311-9142-4F09-964B-FED1E093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4CD0-C0AE-4C56-AC5B-21FCF0D3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6DA3C-9265-4AE4-B8B1-1AE780E1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61D0D-8DFC-4E85-9099-C147F2CD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46B1F-321B-4EDE-BDDF-7F13131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2A123-7746-49D1-BBAA-2192BB8E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6AD80-EAE1-4917-9038-CED5A1D9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F98B-419F-4C70-8B1C-39CDDC01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0865D-104E-476C-BEE7-BA3E6189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2D5-6439-4C99-A485-9839B7B1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77568-D70F-4D1D-9ABD-8D4CB576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67CAF-7C1C-40D8-8443-1313C2E6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E7EF7-9376-4505-8DF0-FACA778D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72954-BA70-4511-819F-EDD01368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04484-E9C8-4DE6-B496-4DFA9A38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BE59-DC89-48A1-85B0-F77C1D6A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9387E-2CEE-4492-8E7B-4BFD87D6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7A80-993A-4870-914C-AD5F7FB9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D5356-8227-4EE1-B518-9F4E829C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73DBA-33BE-42B9-AC95-DCF2CD03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269-C3CD-4535-8C39-BC21EE76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835D4-9B50-420F-A27C-785CE4BF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109BC-43E3-4040-815A-E2944739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2197F-1A81-4035-9F86-4D47B24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5208B-BF68-4260-9E53-0E5005D0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9A8DA-798C-477A-9FAE-9CC1CB71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0EFF9-5121-43A1-8A85-DB8648B8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D578B-8D84-4AF1-8CCF-E280694C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08DE-4D68-4ED8-B183-98424B67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CF790-7106-43F2-A001-DA921D01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D1A94-53D2-4F18-A04A-782681AB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10E-84F2-414F-B7CA-850221FB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C29A7-2DAE-4B80-9EF0-AEF6CF58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E0824-1623-4F6B-9DD2-69627CC9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0D6C4-7AF5-496C-9F65-7DEBC007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330-A047-4060-A44D-948B832B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1F8-D09B-45DD-BEF0-844DC18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5E73-E3DD-4C2C-BBD2-951EB540736B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4D72-8A34-4B3E-9E5A-1FA320461A95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9E63-4F69-412E-BF4F-B1530BA5F006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219E-2EAC-47C9-8D82-A5450D7EF5A8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735E-AE02-4794-BD5F-D78BF9C1422F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8558-460B-471B-8279-8D1F82B98F8C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0d3e0"/>
                </a:solidFill>
                <a:latin typeface="Arial"/>
              </a:rPr>
              <a:t>ПРЕЗЕНТАЦИЯ ПО МАТЕМАТИКЕ</a:t>
            </a:r>
            <a:br>
              <a:rPr sz="4000"/>
            </a:br>
            <a:r>
              <a:rPr b="1" i="1" lang="ru-RU" sz="4000" spc="-1" strike="noStrike">
                <a:solidFill>
                  <a:srgbClr val="a0d3e0"/>
                </a:solidFill>
                <a:latin typeface="Arial"/>
              </a:rPr>
              <a:t>                    2 КЛАСС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278604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иалковская Н.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читель начальных                        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лассо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У «ООШ №81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.Сарато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Рисунок 3" descr="iCAGM4S5V.jpg"/>
          <p:cNvPicPr/>
          <p:nvPr/>
        </p:nvPicPr>
        <p:blipFill>
          <a:blip r:embed="rId1"/>
          <a:stretch/>
        </p:blipFill>
        <p:spPr>
          <a:xfrm>
            <a:off x="857160" y="3214800"/>
            <a:ext cx="1943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Franklin Gothic Book"/>
              </a:rPr>
              <a:t>Найдите длину ломанной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Прямая соединительная линия 3"/>
          <p:cNvSpPr/>
          <p:nvPr/>
        </p:nvSpPr>
        <p:spPr>
          <a:xfrm>
            <a:off x="785880" y="2357280"/>
            <a:ext cx="2143080" cy="0"/>
          </a:xfrm>
          <a:prstGeom prst="line">
            <a:avLst/>
          </a:prstGeom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ямая соединительная линия 6"/>
          <p:cNvSpPr/>
          <p:nvPr/>
        </p:nvSpPr>
        <p:spPr>
          <a:xfrm>
            <a:off x="2928960" y="2357280"/>
            <a:ext cx="0" cy="1857600"/>
          </a:xfrm>
          <a:prstGeom prst="line">
            <a:avLst/>
          </a:prstGeom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ая соединительная линия 8"/>
          <p:cNvSpPr/>
          <p:nvPr/>
        </p:nvSpPr>
        <p:spPr>
          <a:xfrm>
            <a:off x="2928960" y="4214880"/>
            <a:ext cx="2143080" cy="0"/>
          </a:xfrm>
          <a:prstGeom prst="line">
            <a:avLst/>
          </a:prstGeom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1"/>
          <p:cNvSpPr/>
          <p:nvPr/>
        </p:nvSpPr>
        <p:spPr>
          <a:xfrm>
            <a:off x="1437840" y="142884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15"/>
          <p:cNvSpPr/>
          <p:nvPr/>
        </p:nvSpPr>
        <p:spPr>
          <a:xfrm>
            <a:off x="3509280" y="43578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16"/>
          <p:cNvSpPr/>
          <p:nvPr/>
        </p:nvSpPr>
        <p:spPr>
          <a:xfrm>
            <a:off x="3009240" y="2643120"/>
            <a:ext cx="156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0d3e0"/>
                </a:solidFill>
                <a:latin typeface="Franklin Gothic Book"/>
              </a:rPr>
              <a:t>Тема. Задачи на умнож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4800" spc="-1" strike="noStrike">
                <a:solidFill>
                  <a:srgbClr val="c4e2c5"/>
                </a:solidFill>
                <a:latin typeface="Arial"/>
              </a:rPr>
              <a:t>Устный счё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6 + 30             28 + 4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6 – 6             68 – 2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6 – 30           68 – 0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6 – 36           68 – 4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d4a7"/>
                </a:solidFill>
                <a:latin typeface="Arial"/>
              </a:rPr>
              <a:t>Найдите в каждом столбике «лишний» приме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Рисунок 3" descr="girl_grad_philosophy_sx.gif"/>
          <p:cNvPicPr/>
          <p:nvPr/>
        </p:nvPicPr>
        <p:blipFill>
          <a:blip r:embed="rId1"/>
          <a:stretch/>
        </p:blipFill>
        <p:spPr>
          <a:xfrm>
            <a:off x="6786720" y="228600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0" y="14292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6d4a7"/>
                </a:solidFill>
                <a:latin typeface="Arial"/>
              </a:rPr>
              <a:t>Найдите устно сумму удобным способом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2 + 4 + 6 + 8 + 10 + 12 + 14 + 16 + 18 =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857880" y="928800"/>
            <a:ext cx="52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6d4a7"/>
                </a:solidFill>
                <a:latin typeface="Arial"/>
              </a:rPr>
              <a:t>Решите задачи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" descr="iCA2AXX61.jpg"/>
          <p:cNvPicPr/>
          <p:nvPr/>
        </p:nvPicPr>
        <p:blipFill>
          <a:blip r:embed="rId1"/>
          <a:stretch/>
        </p:blipFill>
        <p:spPr>
          <a:xfrm>
            <a:off x="928800" y="271476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"/>
          <p:cNvSpPr/>
          <p:nvPr/>
        </p:nvSpPr>
        <p:spPr>
          <a:xfrm>
            <a:off x="2595960" y="2428920"/>
            <a:ext cx="521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ыло – 24 м мате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али -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талось – 17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000080" y="1000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http://im5-tub-ru.yandex.net/i?id=132070653-36-72"/>
          <p:cNvPicPr/>
          <p:nvPr/>
        </p:nvPicPr>
        <p:blipFill>
          <a:blip r:embed="rId1"/>
          <a:stretch/>
        </p:blipFill>
        <p:spPr>
          <a:xfrm>
            <a:off x="571680" y="928800"/>
            <a:ext cx="1347480" cy="1714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http://im3-tub-ru.yandex.net/i?id=93204014-01-72"/>
          <p:cNvPicPr/>
          <p:nvPr/>
        </p:nvPicPr>
        <p:blipFill>
          <a:blip r:embed="rId2"/>
          <a:stretch/>
        </p:blipFill>
        <p:spPr>
          <a:xfrm>
            <a:off x="642960" y="3857760"/>
            <a:ext cx="1285920" cy="19285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"/>
          <p:cNvSpPr/>
          <p:nvPr/>
        </p:nvSpPr>
        <p:spPr>
          <a:xfrm>
            <a:off x="500040" y="264312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н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785880" y="571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2156040" y="1643040"/>
            <a:ext cx="243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- 20 кг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2455560" y="4714920"/>
            <a:ext cx="706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5400" spc="-1" strike="noStrike">
                <a:solidFill>
                  <a:srgbClr val="9a3130"/>
                </a:solidFill>
                <a:latin typeface="Arial"/>
              </a:rPr>
              <a:t>?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, на 35 кг больш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im6-tub-ru.yandex.net/i?id=296314249-36-72"/>
          <p:cNvPicPr/>
          <p:nvPr/>
        </p:nvPicPr>
        <p:blipFill>
          <a:blip r:embed="rId1"/>
          <a:stretch/>
        </p:blipFill>
        <p:spPr>
          <a:xfrm>
            <a:off x="357120" y="428760"/>
            <a:ext cx="2214720" cy="1654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im6-tub-ru.yandex.net/i?id=296314249-36-72"/>
          <p:cNvPicPr/>
          <p:nvPr/>
        </p:nvPicPr>
        <p:blipFill>
          <a:blip r:embed="rId2"/>
          <a:stretch/>
        </p:blipFill>
        <p:spPr>
          <a:xfrm>
            <a:off x="357120" y="2571840"/>
            <a:ext cx="2214720" cy="1654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im6-tub-ru.yandex.net/i?id=296314249-36-72"/>
          <p:cNvPicPr/>
          <p:nvPr/>
        </p:nvPicPr>
        <p:blipFill>
          <a:blip r:embed="rId3"/>
          <a:stretch/>
        </p:blipFill>
        <p:spPr>
          <a:xfrm>
            <a:off x="357120" y="4714920"/>
            <a:ext cx="2286000" cy="17064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2940840" y="1071720"/>
            <a:ext cx="185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6 кг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939040" y="335772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9 к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3154320" y="5572080"/>
            <a:ext cx="18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4800" spc="-1" strike="noStrike">
                <a:solidFill>
                  <a:srgbClr val="901929"/>
                </a:solidFill>
                <a:latin typeface="Arial"/>
              </a:rPr>
              <a:t> ?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авая фигурная скобка 9"/>
          <p:cNvSpPr/>
          <p:nvPr/>
        </p:nvSpPr>
        <p:spPr>
          <a:xfrm>
            <a:off x="5072040" y="1214280"/>
            <a:ext cx="798480" cy="5072400"/>
          </a:xfrm>
          <a:custGeom>
            <a:avLst/>
            <a:gdLst>
              <a:gd name="textAreaLeft" fmla="*/ 0 w 798480"/>
              <a:gd name="textAreaRight" fmla="*/ 288360 w 798480"/>
              <a:gd name="textAreaTop" fmla="*/ 20520 h 5072400"/>
              <a:gd name="textAreaBottom" fmla="*/ 5051880 h 507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3"/>
                </a:cubicBezTo>
                <a:lnTo>
                  <a:pt x="10800" y="10517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3"/>
                </a:cubicBezTo>
                <a:lnTo>
                  <a:pt x="10800" y="21317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6000840" y="3286080"/>
            <a:ext cx="23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 24 к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0d3e0"/>
                </a:solidFill>
                <a:latin typeface="Franklin Gothic Book"/>
              </a:rPr>
              <a:t>Работа над новым материалом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Picture 2" descr="http://im2-tub-ru.yandex.net/i?id=337123473-23-72"/>
          <p:cNvPicPr/>
          <p:nvPr/>
        </p:nvPicPr>
        <p:blipFill>
          <a:blip r:embed="rId1"/>
          <a:stretch/>
        </p:blipFill>
        <p:spPr>
          <a:xfrm>
            <a:off x="357120" y="1143000"/>
            <a:ext cx="1913040" cy="1428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http://im2-tub-ru.yandex.net/i?id=337123473-23-72"/>
          <p:cNvPicPr/>
          <p:nvPr/>
        </p:nvPicPr>
        <p:blipFill>
          <a:blip r:embed="rId2"/>
          <a:stretch/>
        </p:blipFill>
        <p:spPr>
          <a:xfrm>
            <a:off x="428760" y="3286080"/>
            <a:ext cx="1928520" cy="1440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http://im2-tub-ru.yandex.net/i?id=337123473-23-72"/>
          <p:cNvPicPr/>
          <p:nvPr/>
        </p:nvPicPr>
        <p:blipFill>
          <a:blip r:embed="rId3"/>
          <a:stretch/>
        </p:blipFill>
        <p:spPr>
          <a:xfrm>
            <a:off x="428760" y="5072040"/>
            <a:ext cx="1928520" cy="1440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142920" y="2571840"/>
            <a:ext cx="28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 горош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авая фигурная скобка 7"/>
          <p:cNvSpPr/>
          <p:nvPr/>
        </p:nvSpPr>
        <p:spPr>
          <a:xfrm>
            <a:off x="2857680" y="1285920"/>
            <a:ext cx="1226880" cy="5357880"/>
          </a:xfrm>
          <a:custGeom>
            <a:avLst/>
            <a:gdLst>
              <a:gd name="textAreaLeft" fmla="*/ 0 w 1226880"/>
              <a:gd name="textAreaRight" fmla="*/ 443160 w 1226880"/>
              <a:gd name="textAreaTop" fmla="*/ 31680 h 5357880"/>
              <a:gd name="textAreaBottom" fmla="*/ 5326200 h 535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6"/>
                  <a:pt x="10800" y="412"/>
                </a:cubicBezTo>
                <a:lnTo>
                  <a:pt x="10800" y="10388"/>
                </a:lnTo>
                <a:cubicBezTo>
                  <a:pt x="10800" y="10594"/>
                  <a:pt x="16200" y="10800"/>
                  <a:pt x="21600" y="10800"/>
                </a:cubicBezTo>
                <a:cubicBezTo>
                  <a:pt x="16200" y="10800"/>
                  <a:pt x="10800" y="11006"/>
                  <a:pt x="10800" y="11212"/>
                </a:cubicBezTo>
                <a:lnTo>
                  <a:pt x="10800" y="21188"/>
                </a:lnTo>
                <a:cubicBezTo>
                  <a:pt x="10800" y="213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4429080" y="3500280"/>
            <a:ext cx="39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4800" spc="-1" strike="noStrike">
                <a:solidFill>
                  <a:srgbClr val="901929"/>
                </a:solidFill>
                <a:latin typeface="Arial"/>
              </a:rPr>
              <a:t>?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гороши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0d3e0"/>
                </a:solidFill>
                <a:latin typeface="Franklin Gothic Book"/>
              </a:rPr>
              <a:t>Закрепление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0" y="1714680"/>
            <a:ext cx="1023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ыло -?,10 рублей и  50 рубл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стратила – 15 рубл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сталось - ? рубл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0d3e0"/>
                </a:solidFill>
                <a:latin typeface="Franklin Gothic Book"/>
              </a:rPr>
              <a:t>             </a:t>
            </a:r>
            <a:r>
              <a:rPr b="1" lang="ru-RU" sz="5400" spc="-1" strike="noStrike">
                <a:solidFill>
                  <a:srgbClr val="a0d3e0"/>
                </a:solidFill>
                <a:latin typeface="Franklin Gothic Book"/>
              </a:rPr>
              <a:t>Проверка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285840" y="1143000"/>
            <a:ext cx="7858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- способ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0 + 50 = 60(р.)– бы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60 – 15 = 45 (р.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ǁ - способ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0 – 15 = 35(р.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35 + 10 = 45(р.)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7:29:01Z</dcterms:created>
  <dc:creator>Дима</dc:creator>
  <dc:description/>
  <dc:language>en-US</dc:language>
  <cp:lastModifiedBy>Дима</cp:lastModifiedBy>
  <dcterms:modified xsi:type="dcterms:W3CDTF">2011-10-07T15:28:27Z</dcterms:modified>
  <cp:revision>8</cp:revision>
  <dc:subject/>
  <dc:title>ПРЕЗЕНТАЦИЯ ПО МАТЕМАТИКЕ                     2 КЛАСС</dc:title>
</cp:coreProperties>
</file>