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4C51-24E9-4266-B6A3-C1797EF4B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69E5-3BC1-4856-93CC-0862B6B0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0640-346D-46E8-939F-A9CAE203B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9AF1-2645-4666-8EA5-6F57D825D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E199-0794-4229-839E-52769DBA0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885B-E53A-4AF5-A2A8-0A8BACA2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8DD8-9AEB-4ABC-827B-9B757559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9793-C327-4B22-8C87-F3B2FB42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D670-50A3-4C54-BC60-376DAF10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16BB-1893-49B3-8931-86BDB490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DFEA-97B4-4675-AC46-0BC57448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E1B0-974A-48F4-94D8-FC97CFD1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F6EA-F322-48EC-B69C-CC1A9EF5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EE10-27BA-4082-B223-74ED82BE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E177-E17B-44C7-8DC4-1382C92C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F88E-3818-4551-9958-77EF8A2FB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D19E-7A08-40ED-AD48-94E26683C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152D1-8958-4526-A580-90BAC5695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CC39C-A47D-4F80-B6D5-EF2A9183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56EE6-77CB-4BC0-AC0E-00B1A7CC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FFBD5-7573-4AC8-AB5E-6DD42C9C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E1EAF-9D94-4CB2-9AA6-A7D98813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1CA2-4933-45A1-9132-8F793C25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2FE11-C55A-45C5-B649-6DCEE9E2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8F146-1B3E-4DC9-BC04-7DDD42C9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AF374-5D73-4B09-A73F-0D40BAD1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5021C-1088-4F10-8AF3-F33F7B23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B6C11-4D3F-4C62-B0F3-1A3624A2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27705-CBE3-4D6A-9950-129B0CB50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0FADC-D616-4ECE-98D7-23A5BB76B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BD5B8-A010-4442-94EE-DB0063ED6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58F90-D182-453A-8D7D-E830AFAF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A3138-99F5-4CC5-BF4D-2DA5B1AB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F4B7-B2E3-4AEA-AD20-7D46688A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6B5F3-0F61-48DC-8A4D-16274D9D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07C31-C3D1-45EE-942F-D426F74B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FA815-A2BD-4371-BD9C-74A798D6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0CC15-A2D2-46DD-AF36-6BA6067D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C773E-AA32-4827-A8BE-211EC0F3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2746D-AE30-44AF-B4FF-7238B107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D03EC-14A8-4AF9-9C92-0F2A4096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1FE47-44AF-4443-8659-3CE75FA1E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1FB8F-1820-4E92-83A4-5F8150CC6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E3B5B-0471-467F-9610-6CECB8E39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9F6F-DF7C-4938-AC76-94631E47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6717F-D340-40E8-A2DA-C35B3E9E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D9F6F-B3F9-4C2B-B763-BED41836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5BE2F-B3A3-4E30-814C-75270071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B7BBC-0531-48C3-A9C5-4374A533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E3009-C27F-4E73-883F-7485072B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70DA5-EBA1-4880-AAD5-1284BB9D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9136E-FA72-4936-8A76-6DE713A5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D890F-7CA8-4103-9990-25CFF2E9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7C979-9B45-4D32-97D7-10500BF5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B0702-9BD0-40EE-B0E6-B1BD615C5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B2EA-CA98-4243-A0AD-96153C11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E2A80-AA71-4F04-B7E8-87B68445C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C7888-2219-475E-8F00-8252F2FDA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A5813-8D2F-4857-9DF0-56EB3405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C303C-0971-4C22-B185-480553F6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DEAD7-BD88-4F42-9BE2-86B47591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20652-CD81-4D32-95DB-EAC6740E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685A0-9ECC-41EA-B3C8-74675279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C9152-2B71-4972-A185-6EE3916B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D843A-C317-43C8-89E0-86E216D4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9E6B7-4856-4410-BCDF-64F8333B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FC3E-74FC-4BEB-B18F-49F38320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61BFB-6DCA-406C-A50F-FBECBF07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13097-7ABD-463B-8AA8-B8534EBCD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892FE-4A82-40EC-B080-A2B159CB5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5A3A-E6E4-4FA2-B492-2CBC27B6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3AC0-4700-4536-BF6F-8AF1FBB6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2B1A-EE59-4EFC-BB13-DDD34620CE6E}" type="slidenum">
              <a:rPr b="0" lang="ru-RU" sz="1000" spc="-1" strike="noStrike">
                <a:solidFill>
                  <a:srgbClr val="9b9b9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d53"/>
            </a:gs>
            <a:gs pos="100000">
              <a:srgbClr val="828ba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928B-67F5-4857-99FF-F532250EFA2C}" type="slidenum">
              <a:rPr b="0" lang="ru-RU" sz="1000" spc="-1" strike="noStrike">
                <a:solidFill>
                  <a:srgbClr val="9b9b9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d53"/>
            </a:gs>
            <a:gs pos="100000">
              <a:srgbClr val="828ba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2C30-FAB6-47DD-9C45-76E28E8FB681}" type="slidenum">
              <a:rPr b="0" lang="ru-RU" sz="1000" spc="-1" strike="noStrike">
                <a:solidFill>
                  <a:srgbClr val="9b9b9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A1DB-A525-48C8-986E-46F8D3F30DCA}" type="slidenum">
              <a:rPr b="0" lang="ru-RU" sz="1000" spc="-1" strike="noStrike">
                <a:solidFill>
                  <a:srgbClr val="9b9b9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F2A2-0E30-4E4C-B85A-FC7D9FB9A177}" type="slidenum">
              <a:rPr b="0" lang="ru-RU" sz="1000" spc="-1" strike="noStrike">
                <a:solidFill>
                  <a:srgbClr val="9b9b9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B599-1C30-4A19-BFDE-0B0EE2DAA8D6}" type="slidenum">
              <a:rPr b="0" lang="ru-RU" sz="1000" spc="-1" strike="noStrike">
                <a:solidFill>
                  <a:srgbClr val="9b9b9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78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0d3e0"/>
                </a:solidFill>
                <a:latin typeface="Arial"/>
              </a:rPr>
              <a:t>ПРЕЗЕНТАЦИЯ ПО МАТЕМАТИКЕ</a:t>
            </a:r>
            <a:br>
              <a:rPr sz="4000"/>
            </a:br>
            <a:r>
              <a:rPr b="1" i="1" lang="ru-RU" sz="4000" spc="-1" strike="noStrike">
                <a:solidFill>
                  <a:srgbClr val="a0d3e0"/>
                </a:solidFill>
                <a:latin typeface="Arial"/>
              </a:rPr>
              <a:t>                    2 КЛАСС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6840" y="2786040"/>
            <a:ext cx="74674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81240" indent="-348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81240" indent="-348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81240" indent="-348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81240" indent="-348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Фиалковская Н.В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81240" indent="-348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учитель начальных                                                                                        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81240" indent="-348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лассов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81240" indent="-348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ОУ «ООШ №81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81240" indent="-348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                      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г.Саратов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81240" indent="-348120">
              <a:lnSpc>
                <a:spcPct val="80000"/>
              </a:lnSpc>
              <a:spcBef>
                <a:spcPts val="64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Рисунок 3" descr="iCAGM4S5V.jpg"/>
          <p:cNvPicPr/>
          <p:nvPr/>
        </p:nvPicPr>
        <p:blipFill>
          <a:blip r:embed="rId1"/>
          <a:stretch/>
        </p:blipFill>
        <p:spPr>
          <a:xfrm>
            <a:off x="857160" y="3214800"/>
            <a:ext cx="19432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Franklin Gothic Book"/>
              </a:rPr>
              <a:t>Найдите длину ломанной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Прямая соединительная линия 3"/>
          <p:cNvSpPr/>
          <p:nvPr/>
        </p:nvSpPr>
        <p:spPr>
          <a:xfrm>
            <a:off x="785880" y="2357280"/>
            <a:ext cx="2143080" cy="0"/>
          </a:xfrm>
          <a:prstGeom prst="line">
            <a:avLst/>
          </a:prstGeom>
          <a:ln w="9360">
            <a:solidFill>
              <a:srgbClr val="ff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Прямая соединительная линия 6"/>
          <p:cNvSpPr/>
          <p:nvPr/>
        </p:nvSpPr>
        <p:spPr>
          <a:xfrm>
            <a:off x="2928960" y="2357280"/>
            <a:ext cx="0" cy="1857600"/>
          </a:xfrm>
          <a:prstGeom prst="line">
            <a:avLst/>
          </a:prstGeom>
          <a:ln w="9360">
            <a:solidFill>
              <a:srgbClr val="ff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Прямая соединительная линия 8"/>
          <p:cNvSpPr/>
          <p:nvPr/>
        </p:nvSpPr>
        <p:spPr>
          <a:xfrm>
            <a:off x="2928960" y="4214880"/>
            <a:ext cx="2143080" cy="0"/>
          </a:xfrm>
          <a:prstGeom prst="line">
            <a:avLst/>
          </a:prstGeom>
          <a:ln w="9360">
            <a:solidFill>
              <a:srgbClr val="ff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Box 11"/>
          <p:cNvSpPr/>
          <p:nvPr/>
        </p:nvSpPr>
        <p:spPr>
          <a:xfrm>
            <a:off x="1437840" y="1428840"/>
            <a:ext cx="164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4 с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Прямоугольник 15"/>
          <p:cNvSpPr/>
          <p:nvPr/>
        </p:nvSpPr>
        <p:spPr>
          <a:xfrm>
            <a:off x="3509280" y="4357800"/>
            <a:ext cx="164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4 с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Box 16"/>
          <p:cNvSpPr/>
          <p:nvPr/>
        </p:nvSpPr>
        <p:spPr>
          <a:xfrm>
            <a:off x="3009240" y="2643120"/>
            <a:ext cx="156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 с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39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0d3e0"/>
                </a:solidFill>
                <a:latin typeface="Franklin Gothic Book"/>
              </a:rPr>
              <a:t>Тема. Задачи на умножение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00008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10400" indent="-3747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ru-RU" sz="4800" spc="-1" strike="noStrike">
                <a:solidFill>
                  <a:srgbClr val="c4e2c5"/>
                </a:solidFill>
                <a:latin typeface="Arial"/>
              </a:rPr>
              <a:t>Устный счё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6 + 30             28 + 4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36 – 6             68 – 2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36 – 30           68 – 0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36 – 36           68 – 40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6d4a7"/>
                </a:solidFill>
                <a:latin typeface="Arial"/>
              </a:rPr>
              <a:t>Найдите в каждом столбике «лишний» пример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Рисунок 3" descr="girl_grad_philosophy_sx.gif"/>
          <p:cNvPicPr/>
          <p:nvPr/>
        </p:nvPicPr>
        <p:blipFill>
          <a:blip r:embed="rId1"/>
          <a:stretch/>
        </p:blipFill>
        <p:spPr>
          <a:xfrm>
            <a:off x="6786720" y="228600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1"/>
          <p:cNvSpPr/>
          <p:nvPr/>
        </p:nvSpPr>
        <p:spPr>
          <a:xfrm>
            <a:off x="0" y="142920"/>
            <a:ext cx="9144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a6d4a7"/>
                </a:solidFill>
                <a:latin typeface="Arial"/>
              </a:rPr>
              <a:t>Найдите устно сумму удобным способом: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2 + 4 + 6 + 8 + 10 + 12 + 14 + 16 + 18 =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Box 1"/>
          <p:cNvSpPr/>
          <p:nvPr/>
        </p:nvSpPr>
        <p:spPr>
          <a:xfrm>
            <a:off x="857880" y="928800"/>
            <a:ext cx="524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a6d4a7"/>
                </a:solidFill>
                <a:latin typeface="Arial"/>
              </a:rPr>
              <a:t>Решите задачи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Рисунок 2" descr="iCA2AXX61.jpg"/>
          <p:cNvPicPr/>
          <p:nvPr/>
        </p:nvPicPr>
        <p:blipFill>
          <a:blip r:embed="rId1"/>
          <a:stretch/>
        </p:blipFill>
        <p:spPr>
          <a:xfrm>
            <a:off x="928800" y="2714760"/>
            <a:ext cx="1428480" cy="1428480"/>
          </a:xfrm>
          <a:prstGeom prst="rect">
            <a:avLst/>
          </a:prstGeom>
          <a:ln w="0">
            <a:noFill/>
          </a:ln>
        </p:spPr>
      </p:pic>
      <p:sp>
        <p:nvSpPr>
          <p:cNvPr id="263" name="TextBox 4"/>
          <p:cNvSpPr/>
          <p:nvPr/>
        </p:nvSpPr>
        <p:spPr>
          <a:xfrm>
            <a:off x="2595960" y="2428920"/>
            <a:ext cx="5212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ыло – 24 м матер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дали -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сталось – 17 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1"/>
          <p:cNvSpPr/>
          <p:nvPr/>
        </p:nvSpPr>
        <p:spPr>
          <a:xfrm>
            <a:off x="1000080" y="10000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2" descr="http://im5-tub-ru.yandex.net/i?id=132070653-36-72"/>
          <p:cNvPicPr/>
          <p:nvPr/>
        </p:nvPicPr>
        <p:blipFill>
          <a:blip r:embed="rId1"/>
          <a:stretch/>
        </p:blipFill>
        <p:spPr>
          <a:xfrm>
            <a:off x="571680" y="928800"/>
            <a:ext cx="1347480" cy="17143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http://im3-tub-ru.yandex.net/i?id=93204014-01-72"/>
          <p:cNvPicPr/>
          <p:nvPr/>
        </p:nvPicPr>
        <p:blipFill>
          <a:blip r:embed="rId2"/>
          <a:stretch/>
        </p:blipFill>
        <p:spPr>
          <a:xfrm>
            <a:off x="642960" y="3857760"/>
            <a:ext cx="1285920" cy="1928520"/>
          </a:xfrm>
          <a:prstGeom prst="rect">
            <a:avLst/>
          </a:prstGeom>
          <a:ln w="0">
            <a:noFill/>
          </a:ln>
        </p:spPr>
      </p:pic>
      <p:sp>
        <p:nvSpPr>
          <p:cNvPr id="267" name="TextBox 4"/>
          <p:cNvSpPr/>
          <p:nvPr/>
        </p:nvSpPr>
        <p:spPr>
          <a:xfrm>
            <a:off x="500040" y="264312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н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5"/>
          <p:cNvSpPr/>
          <p:nvPr/>
        </p:nvSpPr>
        <p:spPr>
          <a:xfrm>
            <a:off x="785880" y="5715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м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Box 6"/>
          <p:cNvSpPr/>
          <p:nvPr/>
        </p:nvSpPr>
        <p:spPr>
          <a:xfrm>
            <a:off x="2156040" y="1643040"/>
            <a:ext cx="243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- 20 кг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Box 7"/>
          <p:cNvSpPr/>
          <p:nvPr/>
        </p:nvSpPr>
        <p:spPr>
          <a:xfrm>
            <a:off x="2455560" y="4714920"/>
            <a:ext cx="706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5400" spc="-1" strike="noStrike">
                <a:solidFill>
                  <a:srgbClr val="9a3130"/>
                </a:solidFill>
                <a:latin typeface="Arial"/>
              </a:rPr>
              <a:t>?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, на 35 кг больше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http://im6-tub-ru.yandex.net/i?id=296314249-36-72"/>
          <p:cNvPicPr/>
          <p:nvPr/>
        </p:nvPicPr>
        <p:blipFill>
          <a:blip r:embed="rId1"/>
          <a:stretch/>
        </p:blipFill>
        <p:spPr>
          <a:xfrm>
            <a:off x="357120" y="428760"/>
            <a:ext cx="2214720" cy="16542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http://im6-tub-ru.yandex.net/i?id=296314249-36-72"/>
          <p:cNvPicPr/>
          <p:nvPr/>
        </p:nvPicPr>
        <p:blipFill>
          <a:blip r:embed="rId2"/>
          <a:stretch/>
        </p:blipFill>
        <p:spPr>
          <a:xfrm>
            <a:off x="357120" y="2571840"/>
            <a:ext cx="2214720" cy="16542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http://im6-tub-ru.yandex.net/i?id=296314249-36-72"/>
          <p:cNvPicPr/>
          <p:nvPr/>
        </p:nvPicPr>
        <p:blipFill>
          <a:blip r:embed="rId3"/>
          <a:stretch/>
        </p:blipFill>
        <p:spPr>
          <a:xfrm>
            <a:off x="357120" y="4714920"/>
            <a:ext cx="2286000" cy="1706400"/>
          </a:xfrm>
          <a:prstGeom prst="rect">
            <a:avLst/>
          </a:prstGeom>
          <a:ln w="0">
            <a:noFill/>
          </a:ln>
        </p:spPr>
      </p:pic>
      <p:sp>
        <p:nvSpPr>
          <p:cNvPr id="274" name="TextBox 5"/>
          <p:cNvSpPr/>
          <p:nvPr/>
        </p:nvSpPr>
        <p:spPr>
          <a:xfrm>
            <a:off x="2940840" y="1071720"/>
            <a:ext cx="185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- 6 кг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2939040" y="3357720"/>
            <a:ext cx="16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- 9 кг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Box 7"/>
          <p:cNvSpPr/>
          <p:nvPr/>
        </p:nvSpPr>
        <p:spPr>
          <a:xfrm>
            <a:off x="3154320" y="5572080"/>
            <a:ext cx="182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4800" spc="-1" strike="noStrike">
                <a:solidFill>
                  <a:srgbClr val="901929"/>
                </a:solidFill>
                <a:latin typeface="Arial"/>
              </a:rPr>
              <a:t> ?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кг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Правая фигурная скобка 9"/>
          <p:cNvSpPr/>
          <p:nvPr/>
        </p:nvSpPr>
        <p:spPr>
          <a:xfrm>
            <a:off x="5072040" y="1214280"/>
            <a:ext cx="798480" cy="5072400"/>
          </a:xfrm>
          <a:custGeom>
            <a:avLst/>
            <a:gdLst>
              <a:gd name="textAreaLeft" fmla="*/ 0 w 798480"/>
              <a:gd name="textAreaRight" fmla="*/ 288360 w 798480"/>
              <a:gd name="textAreaTop" fmla="*/ 20520 h 5072400"/>
              <a:gd name="textAreaBottom" fmla="*/ 5051880 h 507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2"/>
                  <a:pt x="10800" y="283"/>
                </a:cubicBezTo>
                <a:lnTo>
                  <a:pt x="10800" y="10517"/>
                </a:lnTo>
                <a:cubicBezTo>
                  <a:pt x="10800" y="10659"/>
                  <a:pt x="16200" y="10800"/>
                  <a:pt x="21600" y="10800"/>
                </a:cubicBezTo>
                <a:cubicBezTo>
                  <a:pt x="16200" y="10800"/>
                  <a:pt x="10800" y="10942"/>
                  <a:pt x="10800" y="11083"/>
                </a:cubicBezTo>
                <a:lnTo>
                  <a:pt x="10800" y="21317"/>
                </a:lnTo>
                <a:cubicBezTo>
                  <a:pt x="10800" y="2145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Box 12"/>
          <p:cNvSpPr/>
          <p:nvPr/>
        </p:nvSpPr>
        <p:spPr>
          <a:xfrm>
            <a:off x="6000840" y="3286080"/>
            <a:ext cx="232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-  24 кг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0d3e0"/>
                </a:solidFill>
                <a:latin typeface="Franklin Gothic Book"/>
              </a:rPr>
              <a:t>Работа над новым материалом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0" name="Picture 2" descr="http://im2-tub-ru.yandex.net/i?id=337123473-23-72"/>
          <p:cNvPicPr/>
          <p:nvPr/>
        </p:nvPicPr>
        <p:blipFill>
          <a:blip r:embed="rId1"/>
          <a:stretch/>
        </p:blipFill>
        <p:spPr>
          <a:xfrm>
            <a:off x="357120" y="1143000"/>
            <a:ext cx="1913040" cy="14288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http://im2-tub-ru.yandex.net/i?id=337123473-23-72"/>
          <p:cNvPicPr/>
          <p:nvPr/>
        </p:nvPicPr>
        <p:blipFill>
          <a:blip r:embed="rId2"/>
          <a:stretch/>
        </p:blipFill>
        <p:spPr>
          <a:xfrm>
            <a:off x="428760" y="3286080"/>
            <a:ext cx="1928520" cy="1440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http://im2-tub-ru.yandex.net/i?id=337123473-23-72"/>
          <p:cNvPicPr/>
          <p:nvPr/>
        </p:nvPicPr>
        <p:blipFill>
          <a:blip r:embed="rId3"/>
          <a:stretch/>
        </p:blipFill>
        <p:spPr>
          <a:xfrm>
            <a:off x="428760" y="5072040"/>
            <a:ext cx="1928520" cy="1440000"/>
          </a:xfrm>
          <a:prstGeom prst="rect">
            <a:avLst/>
          </a:prstGeom>
          <a:ln w="0">
            <a:noFill/>
          </a:ln>
        </p:spPr>
      </p:pic>
      <p:sp>
        <p:nvSpPr>
          <p:cNvPr id="283" name="TextBox 5"/>
          <p:cNvSpPr/>
          <p:nvPr/>
        </p:nvSpPr>
        <p:spPr>
          <a:xfrm>
            <a:off x="142920" y="2571840"/>
            <a:ext cx="28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7 гороши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Правая фигурная скобка 7"/>
          <p:cNvSpPr/>
          <p:nvPr/>
        </p:nvSpPr>
        <p:spPr>
          <a:xfrm>
            <a:off x="2857680" y="1285920"/>
            <a:ext cx="1226880" cy="5357880"/>
          </a:xfrm>
          <a:custGeom>
            <a:avLst/>
            <a:gdLst>
              <a:gd name="textAreaLeft" fmla="*/ 0 w 1226880"/>
              <a:gd name="textAreaRight" fmla="*/ 443160 w 1226880"/>
              <a:gd name="textAreaTop" fmla="*/ 31680 h 5357880"/>
              <a:gd name="textAreaBottom" fmla="*/ 5326200 h 5357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6"/>
                  <a:pt x="10800" y="412"/>
                </a:cubicBezTo>
                <a:lnTo>
                  <a:pt x="10800" y="10388"/>
                </a:lnTo>
                <a:cubicBezTo>
                  <a:pt x="10800" y="10594"/>
                  <a:pt x="16200" y="10800"/>
                  <a:pt x="21600" y="10800"/>
                </a:cubicBezTo>
                <a:cubicBezTo>
                  <a:pt x="16200" y="10800"/>
                  <a:pt x="10800" y="11006"/>
                  <a:pt x="10800" y="11212"/>
                </a:cubicBezTo>
                <a:lnTo>
                  <a:pt x="10800" y="21188"/>
                </a:lnTo>
                <a:cubicBezTo>
                  <a:pt x="10800" y="2139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8"/>
          <p:cNvSpPr/>
          <p:nvPr/>
        </p:nvSpPr>
        <p:spPr>
          <a:xfrm>
            <a:off x="4429080" y="3500280"/>
            <a:ext cx="392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4800" spc="-1" strike="noStrike">
                <a:solidFill>
                  <a:srgbClr val="901929"/>
                </a:solidFill>
                <a:latin typeface="Arial"/>
              </a:rPr>
              <a:t>?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гороши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0d3e0"/>
                </a:solidFill>
                <a:latin typeface="Franklin Gothic Book"/>
              </a:rPr>
              <a:t>Закрепление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TextBox 3"/>
          <p:cNvSpPr/>
          <p:nvPr/>
        </p:nvSpPr>
        <p:spPr>
          <a:xfrm>
            <a:off x="0" y="1714680"/>
            <a:ext cx="10236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Было -?,10 рублей и  50 рубле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Истратила – 15 рубле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Осталось - ? рубле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0d3e0"/>
                </a:solidFill>
                <a:latin typeface="Franklin Gothic Book"/>
              </a:rPr>
              <a:t>             </a:t>
            </a:r>
            <a:r>
              <a:rPr b="1" lang="ru-RU" sz="5400" spc="-1" strike="noStrike">
                <a:solidFill>
                  <a:srgbClr val="a0d3e0"/>
                </a:solidFill>
                <a:latin typeface="Franklin Gothic Book"/>
              </a:rPr>
              <a:t>Проверка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TextBox 2"/>
          <p:cNvSpPr/>
          <p:nvPr/>
        </p:nvSpPr>
        <p:spPr>
          <a:xfrm>
            <a:off x="285840" y="1143000"/>
            <a:ext cx="7858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ǀ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- способ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10 + 50 = 60(р.)– был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60 – 15 = 45 (р.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ǁ - способ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50 – 15 = 35(р.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35 + 10 = 45(р.)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07:29:01Z</dcterms:created>
  <dc:creator>Дима</dc:creator>
  <dc:description/>
  <dc:language>en-US</dc:language>
  <cp:lastModifiedBy>Дима</cp:lastModifiedBy>
  <dcterms:modified xsi:type="dcterms:W3CDTF">2011-10-07T15:28:27Z</dcterms:modified>
  <cp:revision>8</cp:revision>
  <dc:subject/>
  <dc:title>ПРЕЗЕНТАЦИЯ ПО МАТЕМАТИКЕ                     2 КЛАСС</dc:title>
</cp:coreProperties>
</file>