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BFE-E9C5-4CC8-9CDB-E2446D89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ABB-D0CB-4389-89D6-FF9486E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D09-7F2D-4474-A3A6-22B4A6C0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BC7-99BC-4073-AC5F-C88440D8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83F-F71D-4DCD-9BD2-45C3F6DA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4BE-63AB-4AF2-B057-D3AACAA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B84-096F-4EBE-BF7E-7210435E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07A-60AE-4777-9068-D8E6FB0E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434-99B2-44CF-9B15-BC1F913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83C-5DE1-41A9-A314-51C666AF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EC2-7798-484B-B814-7D082A7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6D3-B4A5-4AC4-8D56-C5CC323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67AE-402A-484E-875A-668C3FFA6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7js7eeQkO10/TOPzEih5NOI/AAAAAAAAANg/VnLcA06Vtqg/s1600/2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kompass.ua/_nw/127/s3858644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timurovets.nios.ru/userfiles/22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moya7ya.com/wp-content/uploads/2011/05/Jizn_i_zdorovje_detey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tewom.ru/uploads/posts/2011-06/1309354883_9aa77e11d7ca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Pictures\small_Фон%20для%20сайтов%20(1).jp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332200">
            <a:off x="755280" y="69192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ЕДИНОЕ ОБЩЕШКОЛЬНОЕ РОДИТЕЛЬСКОЕ СОБР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Pictures\zdorov_e[1].jpg"/>
          <p:cNvPicPr/>
          <p:nvPr/>
        </p:nvPicPr>
        <p:blipFill>
          <a:blip r:embed="rId1"/>
          <a:stretch/>
        </p:blipFill>
        <p:spPr>
          <a:xfrm>
            <a:off x="0" y="0"/>
            <a:ext cx="9334440" cy="670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тран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ужны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8800" spc="-1" strike="noStrike">
                <a:solidFill>
                  <a:srgbClr val="ffff00"/>
                </a:solidFill>
                <a:latin typeface="Calibri"/>
              </a:rPr>
              <a:t>здоровые граждан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1.bp.blogspot.com/_7js7eeQkO10/TOPzEih5NOI/AAAAAAAAANg/VnLcA06Vtqg/s1600/2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«ПРЕДУПРЕДИТЬ – ЗНАЧИТ </a:t>
            </a: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Calibri"/>
              </a:rPr>
              <a:t>СПАСТИ!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news.kompass.ua/_nw/127/s385864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00ff"/>
                </a:solidFill>
                <a:latin typeface="Calibri"/>
              </a:rPr>
              <a:t>Здоровье детей – наше общее дел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timurovets.nios.ru/userfiles/2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781360"/>
            <a:ext cx="4859280" cy="40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moya7ya.com/wp-content/uploads/2011/05/Jizn_i_zdorovje_dete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2637000"/>
            <a:ext cx="4608360" cy="42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tewom.ru/uploads/posts/2011-06/1309354883_9aa77e11d7c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mk.ru/upload/iblock/f9d/f9dd03b2f52c948c98eb35160d7d8a1c.jpg"/>
          <p:cNvPicPr/>
          <p:nvPr/>
        </p:nvPicPr>
        <p:blipFill>
          <a:blip r:embed="rId9"/>
          <a:stretch/>
        </p:blipFill>
        <p:spPr>
          <a:xfrm>
            <a:off x="0" y="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yuga.ru/media/dtp_b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беспечение безопасности сохранности жизни и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ТРАШНЫЕ  ЦИФРЫ И ФАКТ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39640" y="185904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Ростовской области с начала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авмировано – 8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ющихся во врем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жара, удара молнией, поражения электрическим ток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34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яжелые трав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1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результате ДТП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о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2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1 пассажиров, 9 пешеходов, 3 велосипеди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тонуло – 14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likar.info/pictures/news/cropr_425x250/0045411_12990846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b0f0"/>
                </a:solidFill>
                <a:latin typeface="Bookman Old Style"/>
              </a:rPr>
              <a:t>НЕ ОСТАВЛЯЙТЕ СВОИХ ДЕТЕЙ БЕЗ ВНИМ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User\Pictures\antinarko1011[1]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Comic Sans MS"/>
              </a:rPr>
              <a:t>НАРКОМАНИ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–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АШНАЯ Б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4geo.ru/news/images/150514050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ff"/>
                </a:solidFill>
                <a:latin typeface="Comic Sans MS"/>
              </a:rPr>
              <a:t>Бродяжничество, уход из дома. </a:t>
            </a:r>
            <a:br>
              <a:rPr sz="4400"/>
            </a:br>
            <a:r>
              <a:rPr b="0" i="1" lang="ru-RU" sz="9600" spc="-1" strike="noStrike">
                <a:solidFill>
                  <a:srgbClr val="ff0000"/>
                </a:solidFill>
                <a:latin typeface="Calibri"/>
              </a:rPr>
              <a:t>Кто виноват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www.medikforum.ru/news/uploads/posts/2011-10/1320053203_0b08029616011034365ab51e8ad32f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omic Sans MS"/>
              </a:rPr>
              <a:t>Детский суицид.</a:t>
            </a:r>
            <a:br>
              <a:rPr sz="7200"/>
            </a:br>
            <a:br>
              <a:rPr sz="72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ак помочь детям избежать 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14:24Z</dcterms:created>
  <dc:creator>User</dc:creator>
  <dc:description/>
  <dc:language>en-US</dc:language>
  <cp:lastModifiedBy>Коля</cp:lastModifiedBy>
  <dcterms:modified xsi:type="dcterms:W3CDTF">2013-04-18T11:43:39Z</dcterms:modified>
  <cp:revision>12</cp:revision>
  <dc:subject/>
  <dc:title>ЕДИНОЕ ОБЩЕШКОЛЬНОЕ РОДИТЕЛЬСКОЕ СОБРАНИЕ</dc:title>
</cp:coreProperties>
</file>