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2F4-4A86-4D64-A62A-319174E9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385-B9F1-48EE-A187-47446FC4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93B-A63B-45D6-BFE5-E5681937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334-3D5A-4F69-90F7-281C6A3F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BAA-B473-4840-970D-64BB31E5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EA5-B8DF-4B5F-A65F-3F65EE88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1FA-386C-4BDC-BC83-5B892BAB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ECB6-1961-495E-A3C7-15EA41A0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6B8-448E-4F90-B7E4-05185184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6E3-44E2-4D05-AA3A-FCFBAD1D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A60-3963-4115-AC91-714B1D69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F6E-8AE8-4599-B92A-784F1848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730D-30C6-41B3-8C77-FBD5E2642B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1.bp.blogspot.com/_7js7eeQkO10/TOPzEih5NOI/AAAAAAAAANg/VnLcA06Vtqg/s1600/21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ews.kompass.ua/_nw/127/s38586446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timurovets.nios.ru/userfiles/22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moya7ya.com/wp-content/uploads/2011/05/Jizn_i_zdorovje_detey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tewom.ru/uploads/posts/2011-06/1309354883_9aa77e11d7ca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Users\User\Pictures\small_Фон%20для%20сайтов%20(1).jpg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 rot="20332200">
            <a:off x="755280" y="691920"/>
            <a:ext cx="7772400" cy="42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ЕДИНОЕ ОБЩЕШКОЛЬНОЕ РОДИТЕЛЬСКОЕ СОБРА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User\Pictures\zdorov_e[1].jpg"/>
          <p:cNvPicPr/>
          <p:nvPr/>
        </p:nvPicPr>
        <p:blipFill>
          <a:blip r:embed="rId1"/>
          <a:stretch/>
        </p:blipFill>
        <p:spPr>
          <a:xfrm>
            <a:off x="0" y="0"/>
            <a:ext cx="9334440" cy="6705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Стране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нужны</a:t>
            </a: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8800" spc="-1" strike="noStrike">
                <a:solidFill>
                  <a:srgbClr val="ffff00"/>
                </a:solidFill>
                <a:latin typeface="Calibri"/>
              </a:rPr>
              <a:t>здоровые граждан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1.bp.blogspot.com/_7js7eeQkO10/TOPzEih5NOI/AAAAAAAAANg/VnLcA06Vtqg/s1600/21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012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Тем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8000" spc="-1" strike="noStrike">
                <a:solidFill>
                  <a:srgbClr val="ff0000"/>
                </a:solidFill>
                <a:latin typeface="Calibri"/>
              </a:rPr>
              <a:t>«ПРЕДУПРЕДИТЬ – ЗНАЧИТ </a:t>
            </a:r>
            <a:r>
              <a:rPr b="1" i="1" lang="ru-RU" sz="8000" spc="-1" strike="noStrike" u="sng">
                <a:solidFill>
                  <a:srgbClr val="ff0000"/>
                </a:solidFill>
                <a:uFillTx/>
                <a:latin typeface="Calibri"/>
              </a:rPr>
              <a:t>СПАСТИ!</a:t>
            </a:r>
            <a:r>
              <a:rPr b="1" i="1" lang="ru-RU" sz="8000" spc="-1" strike="noStrike">
                <a:solidFill>
                  <a:srgbClr val="ff0000"/>
                </a:solidFill>
                <a:latin typeface="Calibri"/>
              </a:rPr>
              <a:t>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news.kompass.ua/_nw/127/s3858644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9900ff"/>
                </a:solidFill>
                <a:latin typeface="Calibri"/>
              </a:rPr>
              <a:t>Здоровье детей – наше общее дел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://www.timurovets.nios.ru/userfiles/2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781360"/>
            <a:ext cx="4859280" cy="4076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moya7ya.com/wp-content/uploads/2011/05/Jizn_i_zdorovje_detey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7640" y="2637000"/>
            <a:ext cx="4608360" cy="422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tewom.ru/uploads/posts/2011-06/1309354883_9aa77e11d7ca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0"/>
            <a:ext cx="4427640" cy="3141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ww.mk.ru/upload/iblock/f9d/f9dd03b2f52c948c98eb35160d7d8a1c.jpg"/>
          <p:cNvPicPr/>
          <p:nvPr/>
        </p:nvPicPr>
        <p:blipFill>
          <a:blip r:embed="rId9"/>
          <a:stretch/>
        </p:blipFill>
        <p:spPr>
          <a:xfrm>
            <a:off x="0" y="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yuga.ru/media/dtp_b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Обеспечение безопасности сохранности жизни и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СТРАШНЫЕ  ЦИФРЫ И ФАКТЫ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39640" y="185904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</a:rPr>
              <a:t>В Ростовской области с начала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равмировано – 87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учающихся во врем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результат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жара, удара молнией, поражения электрическим током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гибл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34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яжелые травм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ил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17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 результате ДТП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гибло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23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бенка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1 пассажиров, 9 пешеходов, 3 велосипедис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Утонуло – 14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www.likar.info/pictures/news/cropr_425x250/0045411_12990846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b0f0"/>
                </a:solidFill>
                <a:latin typeface="Bookman Old Style"/>
              </a:rPr>
              <a:t>НЕ ОСТАВЛЯЙТЕ СВОИХ ДЕТЕЙ БЕЗ ВНИМАНИ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Users\User\Pictures\antinarko1011[1].jpg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Comic Sans MS"/>
              </a:rPr>
              <a:t>НАРКОМАНИЯ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 –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ТРАШНАЯ БЕ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4geo.ru/news/images/150514050_large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ff"/>
                </a:solidFill>
                <a:latin typeface="Comic Sans MS"/>
              </a:rPr>
              <a:t>Бродяжничество, уход из дома. </a:t>
            </a:r>
            <a:br>
              <a:rPr sz="4400"/>
            </a:br>
            <a:r>
              <a:rPr b="0" i="1" lang="ru-RU" sz="9600" spc="-1" strike="noStrike">
                <a:solidFill>
                  <a:srgbClr val="ff0000"/>
                </a:solidFill>
                <a:latin typeface="Calibri"/>
              </a:rPr>
              <a:t>Кто виноват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www.medikforum.ru/news/uploads/posts/2011-10/1320053203_0b08029616011034365ab51e8ad32f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Comic Sans MS"/>
              </a:rPr>
              <a:t>Детский суицид.</a:t>
            </a:r>
            <a:br>
              <a:rPr sz="7200"/>
            </a:br>
            <a:br>
              <a:rPr sz="72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Как помочь детям избежать ег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5:14:24Z</dcterms:created>
  <dc:creator>User</dc:creator>
  <dc:description/>
  <dc:language>en-US</dc:language>
  <cp:lastModifiedBy>Коля</cp:lastModifiedBy>
  <dcterms:modified xsi:type="dcterms:W3CDTF">2013-04-18T11:43:39Z</dcterms:modified>
  <cp:revision>12</cp:revision>
  <dc:subject/>
  <dc:title>ЕДИНОЕ ОБЩЕШКОЛЬНОЕ РОДИТЕЛЬСКОЕ СОБРАНИЕ</dc:title>
</cp:coreProperties>
</file>