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488-BA22-48B1-8527-B11101FA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FC4-68F2-4995-AB22-846A1D3A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25E-1962-4202-9DD3-B64236F0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3AB-0051-4649-B2FE-78E51135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F2C-76F8-4896-BEC8-253B6188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4E9-656B-41ED-A25E-B45EA816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324-A4BC-4618-88DD-B08C7EA2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DC9-A0AD-4587-9F42-C6C398F0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1A8-D817-4346-BAC8-23647E10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233-D758-4CFC-8945-541B748D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28E-116E-4DF3-8EEF-57EFC796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809-2B77-406F-8E9D-BBC5F22D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8A8C-80A9-401A-938E-A2B0DA8E72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.bp.blogspot.com/_7js7eeQkO10/TOPzEih5NOI/AAAAAAAAANg/VnLcA06Vtqg/s1600/21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kompass.ua/_nw/127/s38586446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timurovets.nios.ru/userfiles/22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moya7ya.com/wp-content/uploads/2011/05/Jizn_i_zdorovje_detey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tewom.ru/uploads/posts/2011-06/1309354883_9aa77e11d7ca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User\Pictures\small_Фон%20для%20сайтов%20(1).jpg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 rot="20332200">
            <a:off x="755280" y="691920"/>
            <a:ext cx="7772400" cy="42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ЕДИНОЕ ОБЩЕШКОЛЬНОЕ РОДИТЕЛЬСКОЕ СОБР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er\Pictures\zdorov_e[1].jpg"/>
          <p:cNvPicPr/>
          <p:nvPr/>
        </p:nvPicPr>
        <p:blipFill>
          <a:blip r:embed="rId1"/>
          <a:stretch/>
        </p:blipFill>
        <p:spPr>
          <a:xfrm>
            <a:off x="0" y="0"/>
            <a:ext cx="9334440" cy="6705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Стран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ужны</a:t>
            </a: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8800" spc="-1" strike="noStrike">
                <a:solidFill>
                  <a:srgbClr val="ffff00"/>
                </a:solidFill>
                <a:latin typeface="Calibri"/>
              </a:rPr>
              <a:t>здоровые граждан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1.bp.blogspot.com/_7js7eeQkO10/TOPzEih5NOI/AAAAAAAAANg/VnLcA06Vtqg/s1600/21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Тем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«ПРЕДУПРЕДИТЬ – ЗНАЧИТ </a:t>
            </a:r>
            <a:r>
              <a:rPr b="1" i="1" lang="ru-RU" sz="8000" spc="-1" strike="noStrike" u="sng">
                <a:solidFill>
                  <a:srgbClr val="ff0000"/>
                </a:solidFill>
                <a:uFillTx/>
                <a:latin typeface="Calibri"/>
              </a:rPr>
              <a:t>СПАСТИ!</a:t>
            </a: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news.kompass.ua/_nw/127/s385864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9900ff"/>
                </a:solidFill>
                <a:latin typeface="Calibri"/>
              </a:rPr>
              <a:t>Здоровье детей – наше общее дел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www.timurovets.nios.ru/userfiles/2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781360"/>
            <a:ext cx="4859280" cy="407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moya7ya.com/wp-content/uploads/2011/05/Jizn_i_zdorovje_detey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2637000"/>
            <a:ext cx="4608360" cy="422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tewom.ru/uploads/posts/2011-06/1309354883_9aa77e11d7c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mk.ru/upload/iblock/f9d/f9dd03b2f52c948c98eb35160d7d8a1c.jpg"/>
          <p:cNvPicPr/>
          <p:nvPr/>
        </p:nvPicPr>
        <p:blipFill>
          <a:blip r:embed="rId9"/>
          <a:stretch/>
        </p:blipFill>
        <p:spPr>
          <a:xfrm>
            <a:off x="0" y="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yuga.ru/media/dtp_b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беспечение безопасности сохранности жизни и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СТРАШНЫЕ  ЦИФРЫ И ФАКТ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39640" y="185904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Ростовской области с начала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равмировано – 87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учающихся во врем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жара, удара молнией, поражения электрическим ток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гибл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34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яжелые травм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л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17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 результате ДТП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гибло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2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бенка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1 пассажиров, 9 пешеходов, 3 велосипедис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тонуло – 14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www.likar.info/pictures/news/cropr_425x250/0045411_12990846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b0f0"/>
                </a:solidFill>
                <a:latin typeface="Bookman Old Style"/>
              </a:rPr>
              <a:t>НЕ ОСТАВЛЯЙТЕ СВОИХ ДЕТЕЙ БЕЗ ВНИМАНИ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Users\User\Pictures\antinarko1011[1].jpg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Comic Sans MS"/>
              </a:rPr>
              <a:t>НАРКОМАНИЯ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–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ТРАШНАЯ БЕ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4geo.ru/news/images/150514050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ff"/>
                </a:solidFill>
                <a:latin typeface="Comic Sans MS"/>
              </a:rPr>
              <a:t>Бродяжничество, уход из дома. </a:t>
            </a:r>
            <a:br>
              <a:rPr sz="4400"/>
            </a:br>
            <a:r>
              <a:rPr b="0" i="1" lang="ru-RU" sz="9600" spc="-1" strike="noStrike">
                <a:solidFill>
                  <a:srgbClr val="ff0000"/>
                </a:solidFill>
                <a:latin typeface="Calibri"/>
              </a:rPr>
              <a:t>Кто виноват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www.medikforum.ru/news/uploads/posts/2011-10/1320053203_0b08029616011034365ab51e8ad32f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Comic Sans MS"/>
              </a:rPr>
              <a:t>Детский суицид.</a:t>
            </a:r>
            <a:br>
              <a:rPr sz="7200"/>
            </a:br>
            <a:br>
              <a:rPr sz="72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Как помочь детям избежать ег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5:14:24Z</dcterms:created>
  <dc:creator>User</dc:creator>
  <dc:description/>
  <dc:language>en-US</dc:language>
  <cp:lastModifiedBy>Коля</cp:lastModifiedBy>
  <dcterms:modified xsi:type="dcterms:W3CDTF">2013-04-18T11:43:39Z</dcterms:modified>
  <cp:revision>12</cp:revision>
  <dc:subject/>
  <dc:title>ЕДИНОЕ ОБЩЕШКОЛЬНОЕ РОДИТЕЛЬСКОЕ СОБРАНИЕ</dc:title>
</cp:coreProperties>
</file>