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C1C1-FB60-4F4A-931A-6A21EC367B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ACFA-B519-4CAD-A082-108942152C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E80B-2AB3-41F4-B588-19E004CECF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5BA4-BB4C-486B-B5B7-100FA132D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878A-2BEA-4200-B68D-5D00C6665B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A0C8-C39F-4BD7-B433-4DB36E0A1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40A-4757-4F85-B7C2-B2942227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092-BAA2-4B50-BEF3-889028A7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E52-F7A1-4D57-AF08-3FAEEA8D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936-DD0E-4410-9422-DAA0F81E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507-4ACC-4CFB-B641-0DA480B9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AF5-ADC6-47A8-8A44-0C5AED54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426-EF72-459E-92A2-196C0C12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02F-39DD-4EA4-B15A-CE37EA22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0B2-E5A8-4858-907A-80AB48A3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BA7-7C40-4659-8C78-3FF8FEC2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76B-E595-4934-9989-0335300B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C15-05BB-4F9D-B549-956958E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3F9E-F577-40F9-9588-821E3238E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1/60/359/60359608_2p7021299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avonru.ru/_bl/2/13624920.gif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unphoto.ua/img/photogallery/svechka_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gandex.ru/upl/oboi/u3013_9766_17160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mymobilka.net.ru/modules/Album/album/240x400/rasteniya/cvety-rasteniya-2541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g0.liveinternet.ru/images/attach/c/1/56/879/56879732_11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www.profittotal.com/images/stories/Post/life-insurance.jpg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lovestih.ru/kartinki/russia.png" TargetMode="External"/><Relationship Id="rId14" Type="http://schemas.openxmlformats.org/officeDocument/2006/relationships/image" Target="../media/image10.png"/><Relationship Id="rId15" Type="http://schemas.openxmlformats.org/officeDocument/2006/relationships/hyperlink" Target="http://hiblogger.net/img/articles_img/f/8/3/761009_294433.jpg" TargetMode="External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apic.co.za/images/WhyInvestH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s4.images.drive2.ru/user.blog.photos/x2/4400/000/000/016/7a4/88cd0a7692d2ac5f-large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9937.vkontakte.ru/u6008375/-1/x_816c0bb9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lks.su/images/!T4/alkogol6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al7.ucoz.ru/_ph/1/2/509751858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s52.radikal.ru/i136/0912/6e/8de318df8d4a.jp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stmedkol.bashmed.ru/zog/6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www.aspg2010.ru/image/Novosty_6/narcotiki3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wiki.iteach.ru/images/e/e6/&#1056;&#1080;&#1089;&#1091;&#1085;&#1086;&#1082;1111.jpg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D:\фоны\фоны\optics1_m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116000" y="333360"/>
            <a:ext cx="6985080" cy="15829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й час – размыш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Что такое жизнь?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артинка 74 из 439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205000"/>
            <a:ext cx="507672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6" descr="Картинка 22 из 62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3357720"/>
            <a:ext cx="274788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:\фоны\фоны\optics1_m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619280" y="189000"/>
            <a:ext cx="5689440" cy="3456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А.Сухомлинский: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Вы живете среди людей. Каждый ваш поступок, каждое ваше желание отражаются на людях. Знайте, что существует граница между тем, что вам хочется, и тем, что можно. Ваши желания – это радости или слезы ваших близких. Проверяйте свои поступки сознанием: не причиняете ли вы зла, неприятностей, неудобств людям своими поступками. Делайте так, чтобы людям, которые окружают вас, было хорошо 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Картинка 9 из 26950"/>
          <p:cNvPicPr/>
          <p:nvPr/>
        </p:nvPicPr>
        <p:blipFill>
          <a:blip r:embed="rId2"/>
          <a:stretch/>
        </p:blipFill>
        <p:spPr>
          <a:xfrm>
            <a:off x="5940360" y="3860640"/>
            <a:ext cx="3030480" cy="252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5" name="Скругленный прямоугольник 8"/>
          <p:cNvSpPr/>
          <p:nvPr/>
        </p:nvSpPr>
        <p:spPr>
          <a:xfrm>
            <a:off x="2916360" y="522936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ите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знь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www.mdk-arbat.ru/main-book-image/347086"/>
          <p:cNvPicPr/>
          <p:nvPr/>
        </p:nvPicPr>
        <p:blipFill>
          <a:blip r:embed="rId3"/>
          <a:stretch/>
        </p:blipFill>
        <p:spPr>
          <a:xfrm>
            <a:off x="179280" y="3933720"/>
            <a:ext cx="2570400" cy="259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http://im5-tub.yandex.net/i?id=35045922-02"/>
          <p:cNvPicPr/>
          <p:nvPr/>
        </p:nvPicPr>
        <p:blipFill>
          <a:blip r:embed="rId2"/>
          <a:stretch/>
        </p:blipFill>
        <p:spPr>
          <a:xfrm>
            <a:off x="684360" y="692280"/>
            <a:ext cx="4032000" cy="5246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Картинка 4 из 14"/>
          <p:cNvPicPr/>
          <p:nvPr/>
        </p:nvPicPr>
        <p:blipFill>
          <a:blip r:embed="rId3"/>
          <a:stretch/>
        </p:blipFill>
        <p:spPr>
          <a:xfrm>
            <a:off x="5219640" y="692280"/>
            <a:ext cx="3240000" cy="3682800"/>
          </a:xfrm>
          <a:prstGeom prst="rect">
            <a:avLst/>
          </a:prstGeom>
          <a:ln w="0">
            <a:noFill/>
          </a:ln>
        </p:spPr>
      </p:pic>
      <p:sp>
        <p:nvSpPr>
          <p:cNvPr id="161" name="Стрелка вниз 6"/>
          <p:cNvSpPr/>
          <p:nvPr/>
        </p:nvSpPr>
        <p:spPr>
          <a:xfrm>
            <a:off x="6659640" y="4365720"/>
            <a:ext cx="288720" cy="1193760"/>
          </a:xfrm>
          <a:prstGeom prst="downArrow">
            <a:avLst>
              <a:gd name="adj1" fmla="val 50000"/>
              <a:gd name="adj2" fmla="val 5003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7"/>
          <p:cNvSpPr/>
          <p:nvPr/>
        </p:nvSpPr>
        <p:spPr>
          <a:xfrm>
            <a:off x="5364000" y="5589720"/>
            <a:ext cx="2880000" cy="1268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сё в твоих руках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Картинка 3 из 57766"/>
          <p:cNvPicPr/>
          <p:nvPr/>
        </p:nvPicPr>
        <p:blipFill>
          <a:blip r:embed="rId2"/>
          <a:stretch/>
        </p:blipFill>
        <p:spPr>
          <a:xfrm>
            <a:off x="1692360" y="260280"/>
            <a:ext cx="5811840" cy="3816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66" name="Скругленный прямоугольник 6"/>
          <p:cNvSpPr/>
          <p:nvPr/>
        </p:nvSpPr>
        <p:spPr>
          <a:xfrm>
            <a:off x="1835280" y="4292640"/>
            <a:ext cx="5689440" cy="2089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ю вам шагать по жизни см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ю счастья каждому най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сбудется, что каждому хоте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орогу, друг! Счастливого пу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Шарнина Эльвира Мироновна, учитель истории, классный руководи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БОУ Республики Марий Эл «Казанская специальная (коррекционная) общеобразовательная школа – интернат для обучающихся, воспитанников с ограниченными возможностями здоровья  </a:t>
            </a:r>
            <a:r>
              <a:rPr b="0" lang="en-US" sz="2400" spc="-1" strike="noStrike">
                <a:solidFill>
                  <a:srgbClr val="0070c0"/>
                </a:solidFill>
                <a:latin typeface="Arial Black"/>
              </a:rPr>
              <a:t>VIII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вид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артинка 50 из 15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205000"/>
            <a:ext cx="1873080" cy="225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Овал 10"/>
          <p:cNvSpPr/>
          <p:nvPr/>
        </p:nvSpPr>
        <p:spPr>
          <a:xfrm>
            <a:off x="3635280" y="2349360"/>
            <a:ext cx="1944720" cy="18716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знь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http://im0-tub.yandex.net/i?id=17317249-17-24"/>
          <p:cNvPicPr/>
          <p:nvPr/>
        </p:nvPicPr>
        <p:blipFill>
          <a:blip r:embed="rId4"/>
          <a:stretch/>
        </p:blipFill>
        <p:spPr>
          <a:xfrm>
            <a:off x="250920" y="189000"/>
            <a:ext cx="269244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17" descr="http://www.gandex.ru/upl/oboi/u3013_9766_17160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653000"/>
            <a:ext cx="269424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19" descr="Картинка 162 из 8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2133720"/>
            <a:ext cx="175572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21" descr="Картинка 13 из 5088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4653000"/>
            <a:ext cx="2664000" cy="188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23" descr="Картинка 64 из 8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27640" y="333360"/>
            <a:ext cx="2737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25" descr="Картинка 34 из 84000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549360"/>
            <a:ext cx="267948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27" descr="Картинка 35 из 8400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03640" y="4365720"/>
            <a:ext cx="278928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64" name="Прямая со стрелкой 20"/>
          <p:cNvCxnSpPr/>
          <p:nvPr/>
        </p:nvCxnSpPr>
        <p:spPr>
          <a:xfrm>
            <a:off x="2484000" y="3335400"/>
            <a:ext cx="2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2"/>
          <p:cNvCxnSpPr/>
          <p:nvPr/>
        </p:nvCxnSpPr>
        <p:spPr>
          <a:xfrm flipH="1" flipV="1">
            <a:off x="2555640" y="3284280"/>
            <a:ext cx="1080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5"/>
          <p:cNvCxnSpPr>
            <a:stCxn id="56" idx="6"/>
          </p:cNvCxnSpPr>
          <p:nvPr/>
        </p:nvCxnSpPr>
        <p:spPr>
          <a:xfrm>
            <a:off x="5580000" y="3284640"/>
            <a:ext cx="11534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27"/>
          <p:cNvCxnSpPr>
            <a:stCxn id="56" idx="1"/>
          </p:cNvCxnSpPr>
          <p:nvPr/>
        </p:nvCxnSpPr>
        <p:spPr>
          <a:xfrm flipH="1" flipV="1">
            <a:off x="2843280" y="2133360"/>
            <a:ext cx="1078200" cy="489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9"/>
          <p:cNvCxnSpPr>
            <a:stCxn id="56" idx="7"/>
          </p:cNvCxnSpPr>
          <p:nvPr/>
        </p:nvCxnSpPr>
        <p:spPr>
          <a:xfrm flipV="1">
            <a:off x="5295960" y="2059920"/>
            <a:ext cx="1148040" cy="562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31"/>
          <p:cNvCxnSpPr>
            <a:stCxn id="56" idx="3"/>
          </p:cNvCxnSpPr>
          <p:nvPr/>
        </p:nvCxnSpPr>
        <p:spPr>
          <a:xfrm flipH="1">
            <a:off x="2555640" y="3946320"/>
            <a:ext cx="1365840" cy="635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33"/>
          <p:cNvCxnSpPr>
            <a:stCxn id="56" idx="5"/>
          </p:cNvCxnSpPr>
          <p:nvPr/>
        </p:nvCxnSpPr>
        <p:spPr>
          <a:xfrm>
            <a:off x="5294880" y="3946320"/>
            <a:ext cx="1221480" cy="562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D:\фоны\фоны\optics1_m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Прямоугольник 5"/>
          <p:cNvSpPr/>
          <p:nvPr/>
        </p:nvSpPr>
        <p:spPr>
          <a:xfrm>
            <a:off x="1979640" y="620640"/>
            <a:ext cx="5329080" cy="9367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ЖИЗНЬ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179280" y="5661000"/>
            <a:ext cx="8785440" cy="1008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Жизнь – это грязная дорога, на которой иногда попадаются золотые монет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Картинка 23 из 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2781360"/>
            <a:ext cx="3181320" cy="21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9" descr="Картинка 12 из 989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2421000"/>
            <a:ext cx="3816360" cy="24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76" name="Прямая со стрелкой 13"/>
          <p:cNvCxnSpPr/>
          <p:nvPr/>
        </p:nvCxnSpPr>
        <p:spPr>
          <a:xfrm>
            <a:off x="4211640" y="3933360"/>
            <a:ext cx="1224720" cy="25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1979640" y="476280"/>
            <a:ext cx="518472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о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Картинка 12 из 8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1628640"/>
            <a:ext cx="3505320" cy="4673880"/>
          </a:xfrm>
          <a:prstGeom prst="rect">
            <a:avLst/>
          </a:prstGeom>
          <a:ln w="0">
            <a:noFill/>
          </a:ln>
        </p:spPr>
      </p:pic>
      <p:sp>
        <p:nvSpPr>
          <p:cNvPr id="81" name="Овал 13"/>
          <p:cNvSpPr/>
          <p:nvPr/>
        </p:nvSpPr>
        <p:spPr>
          <a:xfrm>
            <a:off x="539640" y="2205000"/>
            <a:ext cx="576360" cy="503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5"/>
          <p:cNvSpPr/>
          <p:nvPr/>
        </p:nvSpPr>
        <p:spPr>
          <a:xfrm flipV="1">
            <a:off x="971640" y="1917720"/>
            <a:ext cx="14436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16"/>
          <p:cNvSpPr/>
          <p:nvPr/>
        </p:nvSpPr>
        <p:spPr>
          <a:xfrm rot="3155400">
            <a:off x="447840" y="1874520"/>
            <a:ext cx="544320" cy="217440"/>
          </a:xfrm>
          <a:custGeom>
            <a:avLst/>
            <a:gdLst>
              <a:gd name="textAreaLeft" fmla="*/ 79560 w 544320"/>
              <a:gd name="textAreaRight" fmla="*/ 464760 w 5443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4513" h="217487">
                <a:moveTo>
                  <a:pt x="0" y="108744"/>
                </a:moveTo>
                <a:lnTo>
                  <a:pt x="0" y="108744"/>
                </a:lnTo>
                <a:arcTo wR="272257" hR="108744" stAng="10800000" swAng="5400000"/>
                <a:lnTo>
                  <a:pt x="408384" y="0"/>
                </a:lnTo>
                <a:lnTo>
                  <a:pt x="544513" y="0"/>
                </a:lnTo>
                <a:lnTo>
                  <a:pt x="544513" y="81558"/>
                </a:lnTo>
                <a:arcTo wR="0" hR="27186" stAng="0" swAng="0"/>
                <a:lnTo>
                  <a:pt x="504642" y="201563"/>
                </a:lnTo>
                <a:arcTo wR="-136129" hR="54372" stAng="1306356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8"/>
          <p:cNvSpPr/>
          <p:nvPr/>
        </p:nvSpPr>
        <p:spPr>
          <a:xfrm>
            <a:off x="1258920" y="3141720"/>
            <a:ext cx="576360" cy="50328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9"/>
          <p:cNvSpPr/>
          <p:nvPr/>
        </p:nvSpPr>
        <p:spPr>
          <a:xfrm>
            <a:off x="7524720" y="2637000"/>
            <a:ext cx="57636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0"/>
          <p:cNvSpPr/>
          <p:nvPr/>
        </p:nvSpPr>
        <p:spPr>
          <a:xfrm>
            <a:off x="7020000" y="4365720"/>
            <a:ext cx="576360" cy="50328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1"/>
          <p:cNvSpPr/>
          <p:nvPr/>
        </p:nvSpPr>
        <p:spPr>
          <a:xfrm>
            <a:off x="1187280" y="4365720"/>
            <a:ext cx="576360" cy="503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2"/>
          <p:cNvSpPr/>
          <p:nvPr/>
        </p:nvSpPr>
        <p:spPr>
          <a:xfrm flipV="1">
            <a:off x="7380360" y="4149720"/>
            <a:ext cx="14436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 flipV="1">
            <a:off x="1619280" y="4221000"/>
            <a:ext cx="14436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 flipV="1">
            <a:off x="7885080" y="2421000"/>
            <a:ext cx="14292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5"/>
          <p:cNvSpPr/>
          <p:nvPr/>
        </p:nvSpPr>
        <p:spPr>
          <a:xfrm flipV="1">
            <a:off x="1692360" y="2997000"/>
            <a:ext cx="142920" cy="21564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Капля 26"/>
          <p:cNvSpPr/>
          <p:nvPr/>
        </p:nvSpPr>
        <p:spPr>
          <a:xfrm rot="3155400">
            <a:off x="7431840" y="2378520"/>
            <a:ext cx="546120" cy="217440"/>
          </a:xfrm>
          <a:custGeom>
            <a:avLst/>
            <a:gdLst>
              <a:gd name="textAreaLeft" fmla="*/ 79920 w 546120"/>
              <a:gd name="textAreaRight" fmla="*/ 466200 w 5461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6100" h="217487">
                <a:moveTo>
                  <a:pt x="0" y="108744"/>
                </a:moveTo>
                <a:lnTo>
                  <a:pt x="0" y="108744"/>
                </a:lnTo>
                <a:arcTo wR="273050" hR="108744" stAng="10800000" swAng="5400000"/>
                <a:lnTo>
                  <a:pt x="409575" y="0"/>
                </a:lnTo>
                <a:lnTo>
                  <a:pt x="546100" y="0"/>
                </a:lnTo>
                <a:lnTo>
                  <a:pt x="546100" y="81558"/>
                </a:lnTo>
                <a:arcTo wR="0" hR="27186" stAng="0" swAng="0"/>
                <a:lnTo>
                  <a:pt x="506113" y="201563"/>
                </a:lnTo>
                <a:arcTo wR="-136525" hR="54372" stAng="1302915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Капля 27"/>
          <p:cNvSpPr/>
          <p:nvPr/>
        </p:nvSpPr>
        <p:spPr>
          <a:xfrm rot="3155400">
            <a:off x="1166760" y="4106520"/>
            <a:ext cx="544320" cy="217440"/>
          </a:xfrm>
          <a:custGeom>
            <a:avLst/>
            <a:gdLst>
              <a:gd name="textAreaLeft" fmla="*/ 79560 w 544320"/>
              <a:gd name="textAreaRight" fmla="*/ 464760 w 5443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4513" h="217488">
                <a:moveTo>
                  <a:pt x="0" y="108744"/>
                </a:moveTo>
                <a:lnTo>
                  <a:pt x="0" y="108744"/>
                </a:lnTo>
                <a:arcTo wR="272257" hR="108744" stAng="10800000" swAng="5400000"/>
                <a:lnTo>
                  <a:pt x="408384" y="0"/>
                </a:lnTo>
                <a:lnTo>
                  <a:pt x="544513" y="0"/>
                </a:lnTo>
                <a:lnTo>
                  <a:pt x="544513" y="81558"/>
                </a:lnTo>
                <a:arcTo wR="0" hR="27186" stAng="0" swAng="0"/>
                <a:lnTo>
                  <a:pt x="504642" y="201563"/>
                </a:lnTo>
                <a:arcTo wR="-136129" hR="54372" stAng="1306356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Капля 28"/>
          <p:cNvSpPr/>
          <p:nvPr/>
        </p:nvSpPr>
        <p:spPr>
          <a:xfrm rot="3155400">
            <a:off x="1239840" y="2882520"/>
            <a:ext cx="544320" cy="217440"/>
          </a:xfrm>
          <a:custGeom>
            <a:avLst/>
            <a:gdLst>
              <a:gd name="textAreaLeft" fmla="*/ 79560 w 544320"/>
              <a:gd name="textAreaRight" fmla="*/ 464760 w 5443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4512" h="217488">
                <a:moveTo>
                  <a:pt x="0" y="108744"/>
                </a:moveTo>
                <a:lnTo>
                  <a:pt x="0" y="108744"/>
                </a:lnTo>
                <a:arcTo wR="272256" hR="108744" stAng="10800000" swAng="5400000"/>
                <a:lnTo>
                  <a:pt x="408384" y="0"/>
                </a:lnTo>
                <a:lnTo>
                  <a:pt x="544512" y="0"/>
                </a:lnTo>
                <a:lnTo>
                  <a:pt x="544512" y="81558"/>
                </a:lnTo>
                <a:arcTo wR="0" hR="27186" stAng="0" swAng="0"/>
                <a:lnTo>
                  <a:pt x="504641" y="201563"/>
                </a:lnTo>
                <a:arcTo wR="-136128" hR="54372" stAng="1306360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Капля 29"/>
          <p:cNvSpPr/>
          <p:nvPr/>
        </p:nvSpPr>
        <p:spPr>
          <a:xfrm rot="3846600">
            <a:off x="7052400" y="4142520"/>
            <a:ext cx="414360" cy="171360"/>
          </a:xfrm>
          <a:custGeom>
            <a:avLst/>
            <a:gdLst>
              <a:gd name="textAreaLeft" fmla="*/ 60480 w 414360"/>
              <a:gd name="textAreaRight" fmla="*/ 353880 w 414360"/>
              <a:gd name="textAreaTop" fmla="*/ 24840 h 171360"/>
              <a:gd name="textAreaBottom" fmla="*/ 146520 h 171360"/>
            </a:gdLst>
            <a:ahLst/>
            <a:rect l="textAreaLeft" t="textAreaTop" r="textAreaRight" b="textAreaBottom"/>
            <a:pathLst>
              <a:path w="414337" h="171450">
                <a:moveTo>
                  <a:pt x="0" y="85725"/>
                </a:moveTo>
                <a:lnTo>
                  <a:pt x="0" y="85725"/>
                </a:lnTo>
                <a:arcTo wR="207169" hR="85725" stAng="10800000" swAng="5400000"/>
                <a:lnTo>
                  <a:pt x="310753" y="0"/>
                </a:lnTo>
                <a:lnTo>
                  <a:pt x="414337" y="0"/>
                </a:lnTo>
                <a:lnTo>
                  <a:pt x="414337" y="64294"/>
                </a:lnTo>
                <a:arcTo wR="0" hR="21432" stAng="0" swAng="0"/>
                <a:lnTo>
                  <a:pt x="383998" y="158896"/>
                </a:lnTo>
                <a:arcTo wR="-103585" hR="42863" stAng="1348765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1763640" y="260280"/>
            <a:ext cx="5832720" cy="108108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стница вашей меч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1619280" y="530064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611280" y="587700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627280" y="472428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635280" y="4149720"/>
            <a:ext cx="2016360" cy="57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4643280" y="3573360"/>
            <a:ext cx="201636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5651640" y="2997360"/>
            <a:ext cx="201600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6659640" y="242100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268360" y="1773360"/>
            <a:ext cx="165600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5148360" y="5013360"/>
            <a:ext cx="16556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6227640" y="6021360"/>
            <a:ext cx="16574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арт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395280" y="2421000"/>
            <a:ext cx="16556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7343640" y="5229360"/>
            <a:ext cx="180036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7236000" y="1628640"/>
            <a:ext cx="1657080" cy="50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3348000" y="2708280"/>
            <a:ext cx="1655640" cy="50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1116000" y="3429000"/>
            <a:ext cx="187164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3924360" y="6021360"/>
            <a:ext cx="16556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395280" y="4365720"/>
            <a:ext cx="205272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ая зар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5003640" y="1773360"/>
            <a:ext cx="165600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ь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7020000" y="4149720"/>
            <a:ext cx="194472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-11160"/>
            <a:ext cx="9129600" cy="686916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4"/>
          <p:cNvSpPr/>
          <p:nvPr/>
        </p:nvSpPr>
        <p:spPr>
          <a:xfrm>
            <a:off x="1619280" y="333360"/>
            <a:ext cx="612144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бровольное сумасшеств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5"/>
          <p:cNvSpPr/>
          <p:nvPr/>
        </p:nvSpPr>
        <p:spPr>
          <a:xfrm>
            <a:off x="395280" y="1557360"/>
            <a:ext cx="252108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6"/>
          <p:cNvSpPr/>
          <p:nvPr/>
        </p:nvSpPr>
        <p:spPr>
          <a:xfrm>
            <a:off x="3348000" y="2276640"/>
            <a:ext cx="251928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7"/>
          <p:cNvSpPr/>
          <p:nvPr/>
        </p:nvSpPr>
        <p:spPr>
          <a:xfrm>
            <a:off x="6227640" y="1557360"/>
            <a:ext cx="252108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Прямая со стрелкой 9"/>
          <p:cNvCxnSpPr>
            <a:endCxn id="120" idx="0"/>
          </p:cNvCxnSpPr>
          <p:nvPr/>
        </p:nvCxnSpPr>
        <p:spPr>
          <a:xfrm flipH="1">
            <a:off x="1654920" y="979920"/>
            <a:ext cx="756360" cy="577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Прямая со стрелкой 11"/>
          <p:cNvCxnSpPr>
            <a:endCxn id="122" idx="0"/>
          </p:cNvCxnSpPr>
          <p:nvPr/>
        </p:nvCxnSpPr>
        <p:spPr>
          <a:xfrm>
            <a:off x="6516360" y="980640"/>
            <a:ext cx="972360" cy="577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5" name="Прямая со стрелкой 15"/>
          <p:cNvCxnSpPr/>
          <p:nvPr/>
        </p:nvCxnSpPr>
        <p:spPr>
          <a:xfrm flipH="1">
            <a:off x="4570200" y="980640"/>
            <a:ext cx="3600" cy="12978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26" name="Picture 4" descr="Картинка 38 из 8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565360"/>
            <a:ext cx="3065400" cy="23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6" descr="Картинка 153 из 40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3284640"/>
            <a:ext cx="2232000" cy="29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8" descr="Картинка 185 из 4088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565360"/>
            <a:ext cx="295272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фоны\фоны\optics1_m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395280" y="404640"/>
            <a:ext cx="8064360" cy="1008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71840" y="407160"/>
            <a:ext cx="736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причины побуждают подростков приним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тические препар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1258920" y="5732640"/>
            <a:ext cx="6553080" cy="909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мания неразрывно связана с чумой XXI века - СПИ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324000" y="1628640"/>
            <a:ext cx="208728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пы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0"/>
          <p:cNvSpPr/>
          <p:nvPr/>
        </p:nvSpPr>
        <p:spPr>
          <a:xfrm>
            <a:off x="324000" y="2421000"/>
            <a:ext cx="208728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ели это в ки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1"/>
          <p:cNvSpPr/>
          <p:nvPr/>
        </p:nvSpPr>
        <p:spPr>
          <a:xfrm>
            <a:off x="324000" y="4005360"/>
            <a:ext cx="208728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и взрос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2"/>
          <p:cNvSpPr/>
          <p:nvPr/>
        </p:nvSpPr>
        <p:spPr>
          <a:xfrm>
            <a:off x="324000" y="4797360"/>
            <a:ext cx="208728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тав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3"/>
          <p:cNvSpPr/>
          <p:nvPr/>
        </p:nvSpPr>
        <p:spPr>
          <a:xfrm>
            <a:off x="324000" y="3213000"/>
            <a:ext cx="208728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оворили другие реб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Картинка 28 из 13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2852640"/>
            <a:ext cx="290844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10" descr="Картинка 16 из 35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1773360"/>
            <a:ext cx="2952720" cy="22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6" descr="Картинка 81 из 139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1763640" y="476280"/>
            <a:ext cx="5761080" cy="792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о словарё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e-slovar.ru/img/logo.gif"/>
          <p:cNvPicPr/>
          <p:nvPr/>
        </p:nvPicPr>
        <p:blipFill>
          <a:blip r:embed="rId2"/>
          <a:stretch/>
        </p:blipFill>
        <p:spPr>
          <a:xfrm>
            <a:off x="395280" y="3213000"/>
            <a:ext cx="2005200" cy="19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4" name="Скругленный прямоугольник 6"/>
          <p:cNvSpPr/>
          <p:nvPr/>
        </p:nvSpPr>
        <p:spPr>
          <a:xfrm>
            <a:off x="2771640" y="1413000"/>
            <a:ext cx="6121440" cy="29527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и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яют собой цель, к которой стремятся люди, поскольку они связаны с удовлетворением потребностей людей. Ценности биологически не наследуются. Для достижения ценности необходимо приложить самостоятельные усилия.</a:t>
            </a:r>
            <a:br>
              <a:rPr sz="1900"/>
            </a:b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и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ятся на материальные (золото, деньги, недвижимость и т. д.) и нематериальные (любовь, честь, достоинство, свобода и т. д.)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7"/>
          <p:cNvSpPr/>
          <p:nvPr/>
        </p:nvSpPr>
        <p:spPr>
          <a:xfrm>
            <a:off x="2771640" y="4365720"/>
            <a:ext cx="6121440" cy="17272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а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тоимость чего-нибудь (товара), выраженная в денежных единицах. Цена товара не всегда совпадает с его стоимостью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а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лата, вознаграждение за что-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а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Победа досталась дорогой це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9"/>
          <p:cNvCxnSpPr/>
          <p:nvPr/>
        </p:nvCxnSpPr>
        <p:spPr>
          <a:xfrm flipV="1">
            <a:off x="1397160" y="2348640"/>
            <a:ext cx="1375200" cy="864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7" name="Прямая со стрелкой 11"/>
          <p:cNvCxnSpPr/>
          <p:nvPr/>
        </p:nvCxnSpPr>
        <p:spPr>
          <a:xfrm>
            <a:off x="1397160" y="5157360"/>
            <a:ext cx="1375200" cy="5756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258920" y="404640"/>
            <a:ext cx="6842160" cy="1224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е: «Что я ценю в людях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5"/>
          <p:cNvSpPr/>
          <p:nvPr/>
        </p:nvSpPr>
        <p:spPr>
          <a:xfrm>
            <a:off x="2411280" y="1773360"/>
            <a:ext cx="4464360" cy="4824360"/>
          </a:xfrm>
          <a:custGeom>
            <a:avLst/>
            <a:gdLst>
              <a:gd name="textAreaLeft" fmla="*/ 217800 w 4464360"/>
              <a:gd name="textAreaRight" fmla="*/ 4246560 w 4464360"/>
              <a:gd name="textAreaTop" fmla="*/ 217800 h 4824360"/>
              <a:gd name="textAreaBottom" fmla="*/ 4606560 h 4824360"/>
            </a:gdLst>
            <a:ahLst/>
            <a:rect l="textAreaLeft" t="textAreaTop" r="textAreaRight" b="textAreaBottom"/>
            <a:pathLst>
              <a:path w="21600" h="23342">
                <a:moveTo>
                  <a:pt x="3600" y="0"/>
                </a:moveTo>
                <a:arcTo wR="3600" hR="3600" stAng="16200000" swAng="-5400000"/>
                <a:lnTo>
                  <a:pt x="0" y="19742"/>
                </a:lnTo>
                <a:arcTo wR="3600" hR="3600" stAng="10800000" swAng="-5400000"/>
                <a:lnTo>
                  <a:pt x="18000" y="23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чные ц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ж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едлив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л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2:35:36Z</dcterms:created>
  <dc:creator>Admin</dc:creator>
  <dc:description/>
  <dc:language>en-US</dc:language>
  <cp:lastModifiedBy>КарМаН</cp:lastModifiedBy>
  <dcterms:modified xsi:type="dcterms:W3CDTF">2012-01-28T09:37:23Z</dcterms:modified>
  <cp:revision>75</cp:revision>
  <dc:subject/>
  <dc:title>Слайд 1</dc:title>
</cp:coreProperties>
</file>