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3D5-1D9C-4CB3-BF2C-E6CB1B93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0D3-0C8D-4C73-9E42-DB6869B8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28B-EF76-4B51-9A18-581889FF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3EB-7537-472E-BF88-DE01E8DE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8F60-5F2E-4C21-B78B-6A7AFA08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9FD-7683-48CF-9BB1-B6DCFE29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7F9-BFA0-442D-B7D6-43C19E4C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094-1813-4840-9829-22343572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6365-87D4-4FFA-81D2-450D930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775-FD5F-4044-8371-BEEEB15E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3BB9-8A15-4037-AE57-439194F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3DC-5B65-41F6-A774-AA185A39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18FB-7078-4F8E-B1F0-1639B09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E9E1-1C44-4025-A76E-C65DFCC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680-50D2-4486-967B-2733F1BD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E7DB-7DA7-484A-96BF-A76798A2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03C-4AE2-41D6-BB56-50468552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26A-6546-4CAC-89FC-CC5C4B2F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9F6-CA92-4B94-BCB8-30D6DECE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AF0-3062-4452-87B1-78992F3C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ECD-9CA3-4668-89BF-F1281E4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A12-025D-4AC7-87CE-B72A5B4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DE2-49D6-4DD8-A8FE-C88DD2A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B65-5BA7-4289-B602-3538D09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D96-B962-4AB6-958C-619A418932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B313-7B73-4DDB-B8AE-68FC8DB73B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&#1056;&#1072;&#1079;&#1088;&#1072;&#1073;&#1086;&#1090;&#1082;&#1072; &#1082;&#1083;. &#1095;&#1072;&#1089;&#1086;&#1074; &#1074;&#1074;&#1077;&#1076;&#1077;&#1085;&#1080;&#1077; &#1074; &#1101;&#1090;&#1080;&#1082;&#1077;&#1090;.doc" TargetMode="External"/><Relationship Id="rId2" Type="http://schemas.openxmlformats.org/officeDocument/2006/relationships/hyperlink" Target="&#1056;&#1072;&#1079;&#1088;&#1072;&#1073;&#1086;&#1090;&#1082;&#1072; &#1082;&#1083;. &#1095;&#1072;&#1089;&#1086;&#1074; &#1074;&#1074;&#1077;&#1076;&#1077;&#1085;&#1080;&#1077; &#1074; &#1101;&#1090;&#1080;&#1082;&#1077;&#1090;.doc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1"/>
              </a:rPr>
              <a:t>Сервантеса:</a:t>
            </a:r>
            <a:r>
              <a:rPr b="0" lang="ru-RU" sz="44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2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ahoma"/>
                <a:ea typeface="Times New Roman"/>
              </a:rPr>
              <a:t>«Ничего не стоит так дешево и не ценится так дорого, как вежливость».</a:t>
            </a:r>
            <a:r>
              <a:rPr b="1" lang="ru-RU" sz="4400" spc="-1" strike="noStrike">
                <a:solidFill>
                  <a:srgbClr val="6600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ак выбирать подарок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изучить вкусы, интересы человека, которому вы собираетесь преподнести подарок</a:t>
            </a:r>
            <a:r>
              <a:rPr b="0" i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 rot="612600">
            <a:off x="5579640" y="162864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127160" cy="11746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148360" y="4292640"/>
            <a:ext cx="27432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Самый популярный подарок – цветы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дарят цветы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чтобы п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дчеркнуть свое внимание к человеку, которому преподносят такой подар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Цветы все скажут сами, нужно только внимательно отнестись к выбору букета, учитывая, кому они предназначаются и по какому случаю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295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Рисунок 40" descr="http://pravila-etiketa.com/40013_2.jpg"/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ледует узнать любимые цветы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На 8 марта принято дарить мимозу, тюльпаны, нарциссы и гиацинты. В День защитников Отечества и в День Победы традиционны красные и белые гвоздики, в День Победы – букет, перевязанный красным бантом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Для официальных встреч подойдут яркие, свободно собранные букеты из цветов красных и оранжевых оттенков, символизирующих дружбу, тепло и радушие. Например, 5-7 тюльпанов или гвоздик либо 3-5 роз с зеленью аспарагус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Если вы хотите вручить букет любимому артисту, то он должен состоять из благородных однотонных цветов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Помните: по русской традиции, принято дарить нечетное количество цветов (четное количество цветов служит знаком скорби и последнего прощания). Букет лучше нести завернутым в бумагу, чтобы цветы не повредить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Вручая букет, держите его в левой руке, чтобы цветы были головками вверх. Правая рука должна быть свободной для приветствия. Передавая букет, нужно не просто сунуть его хозяйке в руки, а сопроводить несколькими любезными словами и легким поклон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1291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Рисунок 58" descr="http://pravila-etiketa.com/40013_3.jpg"/>
          <p:cNvPicPr/>
          <p:nvPr/>
        </p:nvPicPr>
        <p:blipFill>
          <a:blip r:embed="rId2"/>
          <a:stretch/>
        </p:blipFill>
        <p:spPr>
          <a:xfrm>
            <a:off x="4572000" y="2149560"/>
            <a:ext cx="48769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оветы принимающему букет: Не следует говорить: «Не стоило тратить столько денег», «К чему такая роскошь» и т.п. Цветы вам дарят от души, за что и поблагодарите искренне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Ни в коем случае не откладывайте цветы в сторону и, тем более, не забывайте о них. Цветы следует после приветствия и благодарности развернуть, поставить в вазу и оставить в комнате, где идет прием гостей, а не на кухне или в другом месте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спомним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1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20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2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Вы звоните маме на работу. К телефону подходит незнакомый человек. Выберите наиболее вежливую форму выражения своей просьбы и дайте вариант отв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Позовите ма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Здравствуйте, позовите мою ма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Здравствуйте. Это звонит (ф.и.). Пригласите, пожалуйста, мою маму (и.о.)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Вы опоздали на урок и хотите войти в класс. Ваш вариант наиболее вежливого выражения просьб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Я войду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Извините, можно войти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Можно войти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Игра “Найди лишнее слово”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1. Здравствуй, прошу вас, приве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2. Спасибо, до свидания, до скорой встречи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3. Счастливо, извините, прости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4. Прошу прощения, вы очень добры, прошу извинен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ahoma"/>
              </a:rPr>
              <a:t>Почему мы дарим подарки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Следуем традициям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Выражаем нашу любовь и уважени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Хотим понравиться</a:t>
            </a: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</a:rPr>
              <a:t>_x000b_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Чтобы подарить подарок надо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Разумней к праздничному событию подготовиться заранее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62412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Рисунок 29" descr="http://pravila-etiketa.com/40013.jpg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чем ценность подар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 размер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 цен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несенной рад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86704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Рисунок 33" descr="http://pravila-etiketa.com/40013_1.jpg"/>
          <p:cNvPicPr/>
          <p:nvPr/>
        </p:nvPicPr>
        <p:blipFill>
          <a:blip r:embed="rId4"/>
          <a:stretch/>
        </p:blipFill>
        <p:spPr>
          <a:xfrm>
            <a:off x="762120" y="17524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ена подарка зависит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1)от чувств, с которым его дарят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2)Насколько он подходит к празднику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3) Манера дари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48:27Z</dcterms:created>
  <dc:creator>Скворцова Н.В.</dc:creator>
  <dc:description/>
  <dc:language>en-US</dc:language>
  <cp:lastModifiedBy>скворцова</cp:lastModifiedBy>
  <dcterms:modified xsi:type="dcterms:W3CDTF">2010-09-12T03:59:32Z</dcterms:modified>
  <cp:revision>4</cp:revision>
  <dc:subject/>
  <dc:title>Презентация PowerPoint</dc:title>
</cp:coreProperties>
</file>