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647-EC7E-4DE0-8ADF-D313E636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488-D187-4C59-AFAE-070B9A90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40D-D1D3-4981-AD23-C9A35655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F3A-1888-4A37-A798-D0AE1953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EA03-7C69-45AC-AE24-7E928A62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7068-B8B4-4FEA-AFD5-6640AEC3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43A-F48C-4A9C-950C-4073DA48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04BA-E21B-4738-91A4-FA2C8638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1CF4-217E-410B-848E-4DB9FDA2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E2A1-9ED8-4798-A151-3EF8E151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F191-7048-422B-8D72-8EA0F836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20A-4B5E-415E-9895-C44336F2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38BE-06A6-4982-B640-0438DFB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DC96-4C55-47E1-99DA-A70702D0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5690-7794-44E8-82CB-ED038F78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D358-DADF-4653-BC1E-575BA21E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1430-1F3A-418F-825D-46539766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327-2AA7-4FD7-9589-0A53CFF3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587-BCDD-48E0-AB52-E17BB9C0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FD4-31E6-443D-A198-40BA727E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0CC-E832-4CDB-B95D-A8217019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395-4DDD-4C18-A8A4-89579631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EDD-05A0-4782-A057-96FDD26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2CE-C118-45B5-869F-EF6E9775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E6F7-DD2B-4107-8D18-47CD27D154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311F-F7D1-468D-B327-0850F1A9F3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&#1056;&#1072;&#1079;&#1088;&#1072;&#1073;&#1086;&#1090;&#1082;&#1072; &#1082;&#1083;. &#1095;&#1072;&#1089;&#1086;&#1074; &#1074;&#1074;&#1077;&#1076;&#1077;&#1085;&#1080;&#1077; &#1074; &#1101;&#1090;&#1080;&#1082;&#1077;&#1090;.doc" TargetMode="External"/><Relationship Id="rId2" Type="http://schemas.openxmlformats.org/officeDocument/2006/relationships/hyperlink" Target="&#1056;&#1072;&#1079;&#1088;&#1072;&#1073;&#1086;&#1090;&#1082;&#1072; &#1082;&#1083;. &#1095;&#1072;&#1089;&#1086;&#1074; &#1074;&#1074;&#1077;&#1076;&#1077;&#1085;&#1080;&#1077; &#1074; &#1101;&#1090;&#1080;&#1082;&#1077;&#1090;.doc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  <a:hlinkClick r:id="rId1"/>
              </a:rPr>
              <a:t>Сервантеса:</a:t>
            </a:r>
            <a:r>
              <a:rPr b="0" lang="ru-RU" sz="44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  <a:hlinkClick r:id="rId2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ahoma"/>
                <a:ea typeface="Times New Roman"/>
              </a:rPr>
              <a:t>«Ничего не стоит так дешево и не ценится так дорого, как вежливость».</a:t>
            </a:r>
            <a:r>
              <a:rPr b="1" lang="ru-RU" sz="4400" spc="-1" strike="noStrike">
                <a:solidFill>
                  <a:srgbClr val="6600cc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ак выбирать подарок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0458c"/>
                </a:solidFill>
                <a:latin typeface="Tahoma"/>
                <a:ea typeface="Times New Roman"/>
              </a:rPr>
              <a:t>изучить вкусы, интересы человека, которому вы собираетесь преподнести подарок</a:t>
            </a:r>
            <a:r>
              <a:rPr b="0" i="1" lang="en-US" sz="36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 rot="612600">
            <a:off x="5579640" y="1628640"/>
            <a:ext cx="3030480" cy="2273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451640" y="3933720"/>
            <a:ext cx="1127160" cy="11746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148360" y="4292640"/>
            <a:ext cx="27432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Самый популярный подарок – цветы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дарят цветы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чтобы п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дчеркнуть свое внимание к человеку, которому преподносят такой подар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Цветы все скажут сами, нужно только внимательно отнестись к выбору букета, учитывая, кому они предназначаются и по какому случаю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2958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Рисунок 40" descr="http://pravila-etiketa.com/40013_2.jpg"/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ледует узнать любимые цветы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На 8 марта принято дарить мимозу, тюльпаны, нарциссы и гиацинты. В День защитников Отечества и в День Победы традиционны красные и белые гвоздики, в День Победы – букет, перевязанный красным бантом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Для официальных встреч подойдут яркие, свободно собранные букеты из цветов красных и оранжевых оттенков, символизирующих дружбу, тепло и радушие. Например, 5-7 тюльпанов или гвоздик либо 3-5 роз с зеленью аспарагус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Если вы хотите вручить букет любимому артисту, то он должен состоять из благородных однотонных цветов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Помните: по русской традиции, принято дарить нечетное количество цветов (четное количество цветов служит знаком скорби и последнего прощания). Букет лучше нести завернутым в бумагу, чтобы цветы не повредить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Вручая букет, держите его в левой руке, чтобы цветы были головками вверх. Правая рука должна быть свободной для приветствия. Передавая букет, нужно не просто сунуть его хозяйке в руки, а сопроводить несколькими любезными словами и легким поклон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1291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Рисунок 58" descr="http://pravila-etiketa.com/40013_3.jpg"/>
          <p:cNvPicPr/>
          <p:nvPr/>
        </p:nvPicPr>
        <p:blipFill>
          <a:blip r:embed="rId2"/>
          <a:stretch/>
        </p:blipFill>
        <p:spPr>
          <a:xfrm>
            <a:off x="4572000" y="2149560"/>
            <a:ext cx="48769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оветы принимающему букет: Не следует говорить: «Не стоило тратить столько денег», «К чему такая роскошь» и т.п. Цветы вам дарят от души, за что и поблагодарите искренне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Ни в коем случае не откладывайте цветы в сторону и, тем более, не забывайте о них. Цветы следует после приветствия и благодарности развернуть, поставить в вазу и оставить в комнате, где идет прием гостей, а не на кухне или в другом месте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спомним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15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5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20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25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Вы звоните маме на работу. К телефону подходит незнакомый человек. Выберите наиболее вежливую форму выражения своей просьбы и дайте вариант отв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Позовите мам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Здравствуйте, позовите мою мам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Здравствуйте. Это звонит (ф.и.). Пригласите, пожалуйста, мою маму (и.о.)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Вы опоздали на урок и хотите войти в класс. Ваш вариант наиболее вежливого выражения просьб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Я войду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Извините, можно войти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Можно войти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Игра “Найди лишнее слово”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1. Здравствуй, прошу вас, приве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2. Спасибо, до свидания, до скорой встречи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3. Счастливо, извините, прости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4. Прошу прощения, вы очень добры, прошу извинения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ahoma"/>
              </a:rPr>
              <a:t>Почему мы дарим подарки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</a:rPr>
              <a:t>Следуем традициям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</a:rPr>
              <a:t>Выражаем нашу любовь и уважение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</a:rPr>
              <a:t>Хотим понравиться</a:t>
            </a: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</a:rPr>
              <a:t>_x000b_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Чтобы подарить подарок надо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  <a:ea typeface="Times New Roman"/>
              </a:rPr>
              <a:t>Разумней к праздничному событию подготовиться заранее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62412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2" name="Рисунок 29" descr="http://pravila-etiketa.com/40013.jpg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чем ценность подар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 размер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 цен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инесенной радо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86704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Рисунок 33" descr="http://pravila-etiketa.com/40013_1.jpg"/>
          <p:cNvPicPr/>
          <p:nvPr/>
        </p:nvPicPr>
        <p:blipFill>
          <a:blip r:embed="rId4"/>
          <a:stretch/>
        </p:blipFill>
        <p:spPr>
          <a:xfrm>
            <a:off x="762120" y="1752480"/>
            <a:ext cx="308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Цена подарка зависит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1)от чувств, с которым его дарят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2)Насколько он подходит к празднику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3) Манера дарит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48:27Z</dcterms:created>
  <dc:creator>Скворцова Н.В.</dc:creator>
  <dc:description/>
  <dc:language>en-US</dc:language>
  <cp:lastModifiedBy>скворцова</cp:lastModifiedBy>
  <dcterms:modified xsi:type="dcterms:W3CDTF">2010-09-12T03:59:32Z</dcterms:modified>
  <cp:revision>4</cp:revision>
  <dc:subject/>
  <dc:title>Презентация PowerPoint</dc:title>
</cp:coreProperties>
</file>