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AB9D-A839-4E79-8E9E-1321AF02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CC86-EFE0-442D-AF2F-027013FE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AD37-AC62-42EC-A9DE-7819CEAD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E84C-075C-4346-9426-AA0922E6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E5D5-997B-464C-ABFB-7C1A9788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4008-EC88-4792-BC80-00B25C13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4CF9-3CE7-4749-B7B7-4E69E3FF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5783-E10F-4905-90D9-0E81561B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6393-A191-4CF8-B1D8-5391B992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AFE5-B880-4C5C-A91A-80D09C47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4608-F069-4AEF-84D9-281231F7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6D20-605A-4CAD-9388-6EEB7427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875F-FEE0-4E79-9858-3AA2D2AE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2817-C07F-42FB-9E28-1E4746CB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5F61-25BF-41C3-A2DF-1F8A1E53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55FA-2D76-4DAD-9BA6-8C8CA193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8D72-810D-4645-A720-8D7CDAF9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91D8-DC36-46A9-9C32-96E849FA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B0CD-7ADC-4A65-A0FF-EFC2E5A3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899D-82A2-4626-88B2-58E17B24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B6D0-7C90-4134-BCD2-65EF6376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F5E2-3E53-4C03-8AF4-036B3719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3A0D-B9B1-4A33-89CA-0777EE23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E887-D5B3-437F-92B7-8DBC38F4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EA43-3BC6-4EA5-9D21-15DF8E81B90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6C0B-8C61-44BF-AF97-F6EBCED76B6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&#1056;&#1072;&#1079;&#1088;&#1072;&#1073;&#1086;&#1090;&#1082;&#1072; &#1082;&#1083;. &#1095;&#1072;&#1089;&#1086;&#1074; &#1074;&#1074;&#1077;&#1076;&#1077;&#1085;&#1080;&#1077; &#1074; &#1101;&#1090;&#1080;&#1082;&#1077;&#1090;.doc" TargetMode="External"/><Relationship Id="rId2" Type="http://schemas.openxmlformats.org/officeDocument/2006/relationships/hyperlink" Target="&#1056;&#1072;&#1079;&#1088;&#1072;&#1073;&#1086;&#1090;&#1082;&#1072; &#1082;&#1083;. &#1095;&#1072;&#1089;&#1086;&#1074; &#1074;&#1074;&#1077;&#1076;&#1077;&#1085;&#1080;&#1077; &#1074; &#1101;&#1090;&#1080;&#1082;&#1077;&#1090;.doc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6f89f7"/>
                </a:solidFill>
                <a:uFillTx/>
                <a:latin typeface="Tahoma"/>
                <a:ea typeface="Times New Roman"/>
                <a:hlinkClick r:id="rId1"/>
              </a:rPr>
              <a:t>Сервантеса:</a:t>
            </a:r>
            <a:r>
              <a:rPr b="0" lang="ru-RU" sz="4400" spc="-1" strike="noStrike" u="sng">
                <a:solidFill>
                  <a:srgbClr val="6f89f7"/>
                </a:solidFill>
                <a:uFillTx/>
                <a:latin typeface="Tahoma"/>
                <a:ea typeface="Times New Roman"/>
                <a:hlinkClick r:id="rId2"/>
              </a:rPr>
              <a:t> 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cc"/>
                </a:solidFill>
                <a:latin typeface="Tahoma"/>
                <a:ea typeface="Times New Roman"/>
              </a:rPr>
              <a:t>«Ничего не стоит так дешево и не ценится так дорого, как вежливость».</a:t>
            </a:r>
            <a:r>
              <a:rPr b="1" lang="ru-RU" sz="4400" spc="-1" strike="noStrike">
                <a:solidFill>
                  <a:srgbClr val="6600cc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ак выбирать подарок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0458c"/>
                </a:solidFill>
                <a:latin typeface="Tahoma"/>
                <a:ea typeface="Times New Roman"/>
              </a:rPr>
              <a:t>изучить вкусы, интересы человека, которому вы собираетесь преподнести подарок</a:t>
            </a:r>
            <a:r>
              <a:rPr b="0" i="1" lang="en-US" sz="36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 rot="612600">
            <a:off x="5579640" y="1628640"/>
            <a:ext cx="3030480" cy="22734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7451640" y="3933720"/>
            <a:ext cx="1127160" cy="11746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5148360" y="4292640"/>
            <a:ext cx="274320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Самый популярный подарок – цветы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дарят цветы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чтобы п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одчеркнуть свое внимание к человеку, которому преподносят такой подарок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Цветы все скажут сами, нужно только внимательно отнестись к выбору букета, учитывая, кому они предназначаются и по какому случаю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329580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Рисунок 40" descr="http://pravila-etiketa.com/40013_2.jpg"/>
          <p:cNvPicPr/>
          <p:nvPr/>
        </p:nvPicPr>
        <p:blipFill>
          <a:blip r:embed="rId3"/>
          <a:stretch/>
        </p:blipFill>
        <p:spPr>
          <a:xfrm>
            <a:off x="480060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Следует узнать любимые цветы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На 8 марта принято дарить мимозу, тюльпаны, нарциссы и гиацинты. В День защитников Отечества и в День Победы традиционны красные и белые гвоздики, в День Победы – букет, перевязанный красным бантом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Для официальных встреч подойдут яркие, свободно собранные букеты из цветов красных и оранжевых оттенков, символизирующих дружбу, тепло и радушие. Например, 5-7 тюльпанов или гвоздик либо 3-5 роз с зеленью аспарагуса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Если вы хотите вручить букет любимому артисту, то он должен состоять из благородных однотонных цветов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Помните: по русской традиции, принято дарить нечетное количество цветов (четное количество цветов служит знаком скорби и последнего прощания). Букет лучше нести завернутым в бумагу, чтобы цветы не повредить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Вручая букет, держите его в левой руке, чтобы цветы были головками вверх. Правая рука должна быть свободной для приветствия. Передавая букет, нужно не просто сунуть его хозяйке в руки, а сопроводить несколькими любезными словами и легким поклоно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312912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Рисунок 58" descr="http://pravila-etiketa.com/40013_3.jpg"/>
          <p:cNvPicPr/>
          <p:nvPr/>
        </p:nvPicPr>
        <p:blipFill>
          <a:blip r:embed="rId2"/>
          <a:stretch/>
        </p:blipFill>
        <p:spPr>
          <a:xfrm>
            <a:off x="4572000" y="2149560"/>
            <a:ext cx="487692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Советы принимающему букет: Не следует говорить: «Не стоило тратить столько денег», «К чему такая роскошь» и т.п. Цветы вам дарят от души, за что и поблагодарите искренне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Ни в коем случае не откладывайте цветы в сторону и, тем более, не забывайте о них. Цветы следует после приветствия и благодарности развернуть, поставить в вазу и оставить в комнате, где идет прием гостей, а не на кухне или в другом месте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спомним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838080" y="190512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6f89f7"/>
                          </a:solidFill>
                          <a:uFillTx/>
                          <a:latin typeface="Tahoma"/>
                        </a:rPr>
                        <a:t>15</a:t>
                      </a:r>
                      <a:endParaRPr b="0" lang="en-US" sz="4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6f89f7"/>
                          </a:solidFill>
                          <a:uFillTx/>
                          <a:latin typeface="Tahoma"/>
                        </a:rPr>
                        <a:t>5</a:t>
                      </a:r>
                      <a:endParaRPr b="0" lang="en-US" sz="4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6f89f7"/>
                          </a:solidFill>
                          <a:uFillTx/>
                          <a:latin typeface="Tahoma"/>
                        </a:rPr>
                        <a:t>20</a:t>
                      </a:r>
                      <a:endParaRPr b="0" lang="en-US" sz="4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6f89f7"/>
                          </a:solidFill>
                          <a:uFillTx/>
                          <a:latin typeface="Tahoma"/>
                        </a:rPr>
                        <a:t>25</a:t>
                      </a:r>
                      <a:endParaRPr b="0" lang="en-US" sz="4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Arial"/>
                <a:ea typeface="Arial"/>
              </a:rPr>
              <a:t>Вы звоните маме на работу. К телефону подходит незнакомый человек. Выберите наиболее вежливую форму выражения своей просьбы и дайте вариант ответ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Arial"/>
                <a:ea typeface="Arial"/>
              </a:rPr>
              <a:t>Позовите мам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Arial"/>
                <a:ea typeface="Arial"/>
              </a:rPr>
              <a:t>Здравствуйте, позовите мою мам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f89f7"/>
                </a:solidFill>
                <a:uFillTx/>
                <a:latin typeface="Arial"/>
                <a:ea typeface="Arial"/>
              </a:rPr>
              <a:t>Здравствуйте. Это звонит (ф.и.). Пригласите, пожалуйста, мою маму (и.о.)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Arial"/>
                <a:ea typeface="Arial"/>
              </a:rPr>
              <a:t>Вы опоздали на урок и хотите войти в класс. Ваш вариант наиболее вежливого выражения просьбы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Arial"/>
                <a:ea typeface="Arial"/>
              </a:rPr>
              <a:t>Я войду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Arial"/>
                <a:ea typeface="Arial"/>
              </a:rPr>
              <a:t>Извините, можно войти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Arial"/>
                <a:ea typeface="Arial"/>
              </a:rPr>
              <a:t>Можно войти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f89f7"/>
                </a:solidFill>
                <a:uFillTx/>
                <a:latin typeface="Arial"/>
                <a:ea typeface="Arial"/>
              </a:rPr>
              <a:t>Игра “Найди лишнее слово”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  <a:ea typeface="Arial"/>
              </a:rPr>
              <a:t>1. Здравствуй, прошу вас, привет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  <a:ea typeface="Arial"/>
              </a:rPr>
              <a:t>2. Спасибо, до свидания, до скорой встречи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  <a:ea typeface="Arial"/>
              </a:rPr>
              <a:t>3. Счастливо, извините, простит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  <a:ea typeface="Arial"/>
              </a:rPr>
              <a:t>4. Прошу прощения, вы очень добры, прошу извинения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ahoma"/>
              </a:rPr>
              <a:t>Почему мы дарим подарки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f89f7"/>
                </a:solidFill>
                <a:uFillTx/>
                <a:latin typeface="Tahoma"/>
              </a:rPr>
              <a:t>Следуем традициям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f89f7"/>
                </a:solidFill>
                <a:uFillTx/>
                <a:latin typeface="Tahoma"/>
              </a:rPr>
              <a:t>Выражаем нашу любовь и уважение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f89f7"/>
                </a:solidFill>
                <a:uFillTx/>
                <a:latin typeface="Tahoma"/>
              </a:rPr>
              <a:t>Хотим понравиться</a:t>
            </a:r>
            <a:r>
              <a:rPr b="0" lang="en-US" sz="4000" spc="-1" strike="noStrike" u="sng">
                <a:solidFill>
                  <a:srgbClr val="6f89f7"/>
                </a:solidFill>
                <a:uFillTx/>
                <a:latin typeface="Tahoma"/>
                <a:ea typeface="Times New Roman"/>
              </a:rPr>
              <a:t>_x000b_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Чтобы подарить подарок надо: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  <a:ea typeface="Times New Roman"/>
              </a:rPr>
              <a:t>Разумней к праздничному событию подготовиться заранее</a:t>
            </a: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362412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2" name="Рисунок 29" descr="http://pravila-etiketa.com/40013.jpg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В чем ценность подарка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В размер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В цен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ринесенной радост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2867040" y="11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6" name="Рисунок 33" descr="http://pravila-etiketa.com/40013_1.jpg"/>
          <p:cNvPicPr/>
          <p:nvPr/>
        </p:nvPicPr>
        <p:blipFill>
          <a:blip r:embed="rId4"/>
          <a:stretch/>
        </p:blipFill>
        <p:spPr>
          <a:xfrm>
            <a:off x="762120" y="1752480"/>
            <a:ext cx="3087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Цена подарка зависит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1)от чувств, с которым его дарят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2)Насколько он подходит к празднику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3) Манера дарить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22:48:27Z</dcterms:created>
  <dc:creator>Скворцова Н.В.</dc:creator>
  <dc:description/>
  <dc:language>en-US</dc:language>
  <cp:lastModifiedBy>скворцова</cp:lastModifiedBy>
  <dcterms:modified xsi:type="dcterms:W3CDTF">2010-09-12T03:59:32Z</dcterms:modified>
  <cp:revision>4</cp:revision>
  <dc:subject/>
  <dc:title>Презентация PowerPoint</dc:title>
</cp:coreProperties>
</file>