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9B1-B8D4-42B9-A789-E7C02F1F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438-99D7-415C-861A-5F5815B2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615-BF39-4CBE-8100-CF0CC069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A22-F226-454D-BE45-83DCA111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E49A-5455-419A-A92A-B3CC7B37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E96F-79B8-4950-8ADE-2D40D85A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9057-414F-4BC7-807D-54DF5E71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B009-0665-4AEC-89A9-5B070BA2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D659-979D-43C0-B8AF-F697026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0A62-AAE2-486B-B6E4-08F47269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C52C-AAFD-45D1-B43E-F82E3C2B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529-E704-46A9-A45F-0A31E5AF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8AA8-5829-45F0-9F54-294ED357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D743-E5E8-4BE0-8A74-55867FCD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194-C122-4B29-A507-4B04F1FA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289C-5B99-44ED-B73E-28D36373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E893-FB66-4D72-AA71-89120536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C4B3-0469-4E09-B4B4-479A6BC0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5F4F-EC35-4A59-903B-A6CF3282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C31D-364A-424A-BE57-8BDB3451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5E42-DEEB-4CBA-A028-6E3A1601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E457-D832-489C-8E47-86E9645D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386-935F-4E73-B438-24ECB322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31E8-F7AD-4474-9732-D49BD6D4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1AE8-A9BD-4497-8467-792EFCDB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F3CE-DFCE-41CD-ACD6-728EB2CF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99F1-2BD3-4654-A188-074DB77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854D-A3E8-4C00-AF24-9DA394F6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B6EA-9405-4DDD-AFD9-921E6092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CB90-53F3-4E75-B29C-EAF7D1D2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D5B39-1C72-40F4-AB6C-D2A866AF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F2BBF-23D2-4625-A04A-45551BD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BB57F-017A-4891-8014-E420F321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03B-0843-4460-9959-CCCCB654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3F8D-1F67-4570-B0C0-914FF999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2203-F1AA-44D5-A427-6091AD2E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DDDC-A4F9-46CF-AE18-9DE7AB61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67B6-11BF-44BA-AC60-17CBF9A5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55CDD-DE3A-4E81-956A-EE841B21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0CA1-C0F7-44B8-8F1A-351F0D0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123C-C9E8-465C-B0E5-A2082343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EF91F-2A26-4B5B-B5AA-199BA863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D855-F204-4247-8014-38A2BA80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5C7C-87DA-48D5-BD0C-5FCEDD0B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1BF-F7C3-4329-B9F9-54C08B39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52A81-8ED5-41D8-B2F4-6F307CA2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7DD9-013C-480F-8A57-6B68902F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A0124-8F02-410B-B8C3-A7A48F6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94404-335F-41F1-A9EA-74387CF1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2FB4D-0B7E-47AE-8F9C-8124771C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FC1E8-D770-4679-9852-8E029582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F145D-4183-4417-9FC5-AF492D8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ADE2F-D7F5-46BB-86FD-78CA1AB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D66E-C383-4353-90FA-2CD4E8A1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6ACCF-5192-47BE-A6D4-AEA5E955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E9B-6E9A-4908-BC36-9A1C772B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0774-3B0B-47BB-88FE-5CB17439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2364-8F7C-4FBC-AE77-6BAD0200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9BE93-C701-4503-AE51-75E8CC0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476A7-6118-48F2-AF55-17E80A3D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E0DD5-5323-4E1D-998E-62AA17ED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0A67-DB13-4FB2-A4D0-C95116DD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B0CF4-C8DE-47F7-85E0-C897D5DB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B6B3E-42D1-422B-986A-26944F1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260FB-F5D0-4300-9836-77503B8F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A5BA-0F5F-4A78-B759-A5E3EAB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CA3-23E3-4D4E-9AD1-EE83BD3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1E49-64A9-4520-8DF4-2103C71A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8393C-91B1-4286-85A1-3407DFAC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E4E9A-A740-4F61-A4B9-F5574523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80502-9CA3-43CC-A2B5-B7415EA0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7D3D1-14EC-43AA-8CFE-EDEE30E6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AF74-030B-4AB8-9AE5-EAA70281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AABE-5847-4A3C-BD89-206C0AF2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CC9C6-E5D3-4064-B677-729011DF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55137-FD42-406E-A60A-72D04CEC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BA097-FDA8-4855-A1CC-43BA7B09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190-3822-4BC1-9384-20405C0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9126F-3B91-4930-B665-1DE9C4A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1EE78-BC1B-469C-982E-FA31043A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F8DB8-1517-43D3-9E20-FA610285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BC480-792C-48D0-B940-FC2065C3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D64F-3F47-4023-A95F-E502BA0B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4AF47-9EA8-449E-B00F-6946F0AC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D810-9362-4D17-8587-8EC9A161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119A-4A3E-4B97-9892-0DAF12BE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4DA2E-0955-4F72-B231-4340F2BA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A4030-88D4-4115-BF7D-C95F2AF3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DE6-FEE2-4FE5-A8F3-C65F3E5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D7B3B-BF94-47A5-92EA-3C61ACBF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F3DD3-A1A7-4630-860C-EB38874D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EDE32-26F7-4214-B4E1-FB56828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A2DE0-4C9C-4479-8387-07353BA4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8E673-0511-4CBA-9ECC-601F748D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84922-F4F8-4145-AAC0-CF8266AC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8643A-A7D7-4059-96FA-5775F92B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769-1CE8-4C5C-BB34-A706E761CAA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5AF-4458-44C0-B6F6-3A4899A1E64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AFB2-D07E-4A93-94B0-81357D9CDE4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EEDF-FE48-4174-A316-BFB7903A898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0530-5329-4061-8623-819D7E09FC6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F44-98FF-42E8-9BC5-FFFCF4311E0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9704-6EEA-44C1-83D4-999DBAEAA41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D179-C507-4BDA-BDEC-150382B4934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07880" y="1749600"/>
            <a:ext cx="85042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едагог-психолог </a:t>
            </a:r>
            <a:br>
              <a:rPr sz="2700"/>
            </a:b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Исакова Светлана Александров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285840" y="750960"/>
            <a:ext cx="84294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Авторитарная гиперсоциализация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тражает форму и направление контроля за поведением ребенка. При высоком балле по этой шкале в родительском отношении отчетливо просматривается авторитаризм. Родитель требует от ребенка безоговорочного послушания и дисциплины. Он старается навязать ребенку во всем свою волю, не в состоянии стать на его точку зрения. За проявления своеволия ребенка сурово наказывают. Родитель пристально следит за социальными достижениями ребенка  и требует социального успеха. При этом родитель хорошо знает ребенка, его индивидуальные способности, привычки, мысли,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285840" y="336600"/>
            <a:ext cx="8429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Маленький неудачник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жает особенности восприятия и понимания ребенка родителем. При высоких значениях по этой шкале  в родительском отношении имеется стремление инфантилизировать  ребенка, приписать ему личную и социальную несостоятельность. Родитель видит ребенка младшим по сравнению с его реальным возрастом. Интересы, увлечения, мысли и чувства ребенка кажутся родителю детскими, несерьезными. Ребенок представляется неприспособленным, неуспешным, открытым для дурных влияний. Родитель не доверяет своему ребенку, досадует на его неуспешность и неумелость. В связи с этим родитель старается оградить ребенка от трудностей жизни и строго контролировать его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1714680" y="500040"/>
            <a:ext cx="4572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 – концеп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индивида о том, какой он есть.  «Я – концепция» включает в себя компон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ую – образ своих качеств, способностей, внешности, социальной значимости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ую – самоуважение, себялюбие, сумоуничижение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очно – волевую – стремление повысить самооценку, завоевать уважение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2428920" y="357120"/>
            <a:ext cx="457200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 Я – концепци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посылка и  следствие социального взаимодействия – определяется социальным опытом. В составляющие ее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реальное – 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ставление о себе в настоящем врем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идеальное – 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, каким субъект, по его мнению, должен бы стать, ориентируясь на моральные но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динамическое – 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, каким субъект намерен ст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фантастическое – 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, каким субъект желал бы стать, будь это возмож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286000" y="642960"/>
            <a:ext cx="45720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Я – концепци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жный структурный элемент психологического облика личности, складывающаяся в общении и деятельности, идеальная представленность индивида о себе как о другом. Становление «Я – концепции», в конечном счете обусловленное широким социально – культурным контекстом, возникает в результате обмена деятельностью между людьми, в ходе которого субъект «смотрится как в зеркало, в другого человека» и таким образом отлаживает, уточняет, корректирует образы своего «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4"/>
          <p:cNvSpPr/>
          <p:nvPr/>
        </p:nvSpPr>
        <p:spPr>
          <a:xfrm>
            <a:off x="1285920" y="714240"/>
            <a:ext cx="69292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одительская эффекти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услышать то, что беспокоит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действительно быть полезным ребенку в разрешении стоящей перед ним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нять чувства ребенка такими, какие они есть, не пытаясь изменить их, осудить или отверг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еры в возможность ребенка успешно разрешить свои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ребенку как к уникальной личности, имеющей право на собственную жизнь со своими чувствами и желан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642960" y="357120"/>
            <a:ext cx="792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одительское отношени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ется как система разнообразных чувств по отношению к ребенку, поведенческих стереотипов, практикуемых в общении с ним, особенностей восприятия и понимания характера и личности ребенка, его поступк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357120" y="336600"/>
            <a:ext cx="84297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 Принятие – отвержение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отражает интегральное эмоциональное отношение к ребенку. Содержание одного полюса шкалы: родителю нравится ребенок таким, какой он есть. Родитель уважает индивидуальность ребенка, симпатизирует ему. Родитель стремится проводить много времени вместе с ребенком, одобряет его интересы и планы. На другом полюсе шкалы: родитель воспринимает своего ребенка плохим, неприспособленным, неудачливым. Ему кажется, что ребенок не добьется успеха в жизни из – за низких способностей, небольшого ума, дурных наклонностей. По большей части родитель испытывает к ребенку злость, досаду, раздражение, обиду. Он не доверяет ребенку и не уважает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500040" y="357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Кооперация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о – желательный образ родительского отношения. Содержательно эта шкала раскрывается так: родитель заинтересован в делах и планах ребенка, старается во всем помочь ребенку, сочувствует ему. Родитель высоко оценивает интеллектуальные и творческие способности ребенка, испытывает чувство гордости за него. Он поощряет инициативу и самостоятельность ребенка, старается быть с ним на равных. Родитель доверяет ребенку, старается стать на его точку зрения в спорных вопро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428760" y="474840"/>
            <a:ext cx="82152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Симбиоз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кала отражает межличностную дистанцию в общении с ребенком. При высоких баллах по этой шкале можно считать, что родитель стремится к симбиотическим отношениям с ребенком. Содержательно эта тенденция описывается так: родитель ощущает себя с ребенком одним целым, стремится удовлетворить все потребности ребенка, оградить его от трудностей и неприятностей жизни. Родитель постоянно ощущает тревогу за ребенка, ребенок кажется ему маленьким и беззащитным. Тревога родителей повышается, когда ребенок начинает автономизироваться волей обстоятельств, так как по своей воле родитель не предоставляет  ребенку самостоятельности 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33:23Z</dcterms:created>
  <dc:creator>Светлана</dc:creator>
  <dc:description/>
  <dc:language>en-US</dc:language>
  <cp:lastModifiedBy>Светлана</cp:lastModifiedBy>
  <dcterms:modified xsi:type="dcterms:W3CDTF">2009-02-28T07:46:41Z</dcterms:modified>
  <cp:revision>7</cp:revision>
  <dc:subject/>
  <dc:title>Отношения родителей и детей</dc:title>
</cp:coreProperties>
</file>