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165-4DBA-4643-9DA5-5EA09386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7DE-8F5E-4FBD-A149-FD405734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FBD-B56C-4AAE-9C92-B9C3FE40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C5F-18F1-4309-9871-10D0E715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C4BC-42AE-4B72-8353-5AF27A9E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E7B9-5F09-4CB5-AAE5-B6232271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263-80ED-417A-BBE4-F8E42AF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AE5E-0575-4172-A4AB-6A73283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B370-C639-4F7A-AC47-D53E25A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21AF-8583-4271-9E66-90BCA069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1728-1D37-4CA3-AC5E-06D389F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885-2C89-4035-BF38-CDCC9CC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836-D8A7-4CF0-86CD-5A22A42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9AAE-9151-4DA9-9D2F-896494CD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6130-06E3-46D6-90A5-5EF5ED77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370-2AD0-47FB-A489-DA0534E7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039E-72E5-4998-80C6-F4FE9116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08F1-A80F-4CBD-8A9A-9335B030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2E46-0AF1-467B-972C-C350F559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310B-5177-4CBD-9D98-3DB4C5D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A751-5D34-435C-8C5C-13751C49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2420-65F6-4429-8249-1C7FB9D9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32A-8F67-45DA-AB05-0E4DA04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B983-04B5-4F75-87B0-12EE9F8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A330-6ED1-40C0-B4F7-697FC98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1440-3EF5-4A5A-A048-67C62AD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8E94-8422-4B07-BFF7-3AC54BA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5D04-34F5-45B3-B46B-35EEDF2F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F5B6-4C51-4E8C-A3D0-A4B4DF00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C964-0D92-42EE-A5D9-9B941AB6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D4A0-A92C-439A-BC3C-AD740721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C2ADA-AC01-4C79-AFFD-EA2870AF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DADA-8DE2-4030-B97C-03B819CF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E53-F136-4551-A7B5-9A9E3C36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1B71-8E0C-45E7-A6B0-71E9311E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E8EF-9B55-46CF-8C64-68E59D3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DFA2D-975B-4081-AC66-4097AC21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EF8D-332F-4C38-B257-85B7CB6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480D-BA2B-463D-90CA-302AC9E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2B18-07E1-4045-AA3A-B6DB2115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057F-EF85-4D7E-8F09-EDC4CCFE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A0EF-57EB-40CC-A734-D4E13047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6835-0F6E-431F-8881-44240D4D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E170-3DCA-4355-8B64-4923ACE4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F67-AEE5-466F-9544-9128D82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136B-A65F-49BD-9E3F-AF15D100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08ACF-C45A-40F8-BF30-27CA9C2D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9749-A51B-42A9-AD5B-7D3BE05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1ADC-9077-4EED-93E2-80E1966A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15E59-E3FE-4869-ADB4-FE6129B5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8A10-3070-410F-99EB-7CAFA6D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A2A5-5CB7-4416-938E-2D69AB9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66E1-0278-42C6-BECF-01299BF3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E57D4-4492-43B5-BFDF-AD224B11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36AA5-6B12-418C-AAA8-593C615B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EBD-82C5-4A9B-977C-7A6ADFF4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FF76-CB8A-44EC-BFF9-FDE3C510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76FB-AA84-4876-9EA7-F891E102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3525D-3EEA-447A-956A-01C40F83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DEAF-DC4E-4DD9-B534-A6FD5377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FB3A3-E97F-4795-8AB3-033058C5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7A49D-DAF6-4A48-8571-7883282A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1B299-4691-47BD-BE8A-60F46A0C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DC94-4C2C-40C2-A0A7-1C5B219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16047-A74B-479E-B5DF-48B47C7D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695E1-808E-4D1C-B3E7-DBAF42D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02E-F7B6-4A9C-B0B6-01E4133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12F21-7DD7-4C39-83A1-0659149D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2BB2A-1317-4F66-B492-CF23EA64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F0F0-F31F-4660-A1D3-EBBDF34C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7D839-7E7B-4E20-AE83-A5D6B66C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0DAD7-0101-4A11-B6C0-831096F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85FA6-B137-47A1-9009-06D1A57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B41A-0620-4EFB-8F45-3CF9A77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2713-F474-4C4B-97C6-BE1CF6BE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55D8-FE90-4F33-B297-31FCD7B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1670-4646-4F17-94FC-87E8C1C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652-C4E5-48C0-ADEC-66B08D3E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AC71C-48AC-467F-B8F1-109A826B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5BBC1-A26F-443E-9512-6F39DE87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3F3C-DA81-4950-BF1D-91B3B55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E5902-C88B-4F4D-8DFF-A669D938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22BEB-8DE5-48BE-9476-821B9440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8400C-D3B0-4715-B7D8-02562D3B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93F12-DAAD-4FE2-82AE-713F7DC5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82D0-2072-486A-B5D2-36769AC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F951-A136-4F01-81A9-96CDFE72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A019-B281-4944-8819-5566D641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435-576F-45FD-A07E-9AB7AE3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4282-7CA3-4697-938D-B3078817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B2045-9FCD-417F-B9C1-42A16B9C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6D59-A9DD-4AE4-B9E8-E0EAAD0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3B777-1835-4631-B00F-6AE81EB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ACA5-5F03-4DEC-A161-C1120CA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BB86-48EA-4F38-80E3-E118A408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FFA3-0105-4F93-82C3-8EECABB1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75A2-A306-41BE-9182-919E1CA1A18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0C29-FBB4-4A4E-B6A3-AEF8E54219D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D5D9-B1FD-494A-8CCA-7293F4321F8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9777-C352-499D-A59C-063970E70A2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161C-A9D0-433D-9789-315ED111DEF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E09-F3D3-4CF1-B3D0-828AE169765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9919-18E2-4E72-A0FC-2098A506E5F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45DC-08A3-45E2-A74B-38580048F8E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07880" y="1749600"/>
            <a:ext cx="85042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едагог-психолог </a:t>
            </a:r>
            <a:br>
              <a:rPr sz="2700"/>
            </a:b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Исакова Светлана Александров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285840" y="750960"/>
            <a:ext cx="84294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Авторитарная гиперсоциализация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ражает форму и направление контроля за поведением ребенка. При высоком балле по этой шкале в родительском отношении отчетливо просматривается авторитаризм. Родитель требует от ребенка безоговорочного послушания и дисциплины. Он старается навязать ребенку во всем свою волю, не в состоянии стать на его точку зрения. За проявления своеволия ребенка сурово наказывают. Родитель пристально следит за социальными достижениями ребенка  и требует социального успеха. При этом родитель хорошо знает ребенка, его индивидуальные способности, привычки, мысли,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285840" y="336600"/>
            <a:ext cx="8429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Маленький неудачник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жает особенности восприятия и понимания ребенка родителем. При высоких значениях по этой шкале  в родительском отношении имеется стремление инфантилизировать  ребенка, приписать ему личную и социальную несостоятельность. Родитель видит ребенка младшим по сравнению с его реальным возрастом. Интересы, увлечения, мысли и чувства ребенка кажутся родителю детскими, несерьезными. Ребенок представляется неприспособленным, неуспешным, открытым для дурных влияний. Родитель не доверяет своему ребенку, досадует на его неуспешность и неумелость. В связи с этим родитель старается оградить ребенка от трудностей жизни и строго контролировать его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1714680" y="500040"/>
            <a:ext cx="4572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 – концеп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индивида о том, какой он есть.  «Я – концепция» включает в себя компон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ую – образ своих качеств, способностей, внешности, социальной значимости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ую – самоуважение, себялюбие, сумоуничижение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очно – волевую – стремление повысить самооценку, завоевать уважение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2428920" y="357120"/>
            <a:ext cx="457200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 Я – концепци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сылка и  следствие социального взаимодействия – определяется социальным опытом. В составляющие ее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реальн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ставление о себе в настоящем врем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идеальн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, каким субъект, по его мнению, должен бы стать, ориентируясь на моральные н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динамическ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, каким субъект намерен ст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фантастическое – 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, каким субъект желал бы стать, будь это возмож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286000" y="642960"/>
            <a:ext cx="45720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Я – концепция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жный структурный элемент психологического облика личности, складывающаяся в общении и деятельности, идеальная представленность индивида о себе как о другом. Становление «Я – концепции», в конечном счете обусловленное широким социально – культурным контекстом, возникает в результате обмена деятельностью между людьми, в ходе которого субъект «смотрится как в зеркало, в другого человека» и таким образом отлаживает, уточняет, корректирует образы своего «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4"/>
          <p:cNvSpPr/>
          <p:nvPr/>
        </p:nvSpPr>
        <p:spPr>
          <a:xfrm>
            <a:off x="1285920" y="714240"/>
            <a:ext cx="69292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одительская эффекти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слышать то, что беспокоит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действительно быть полезным ребенку в разрешении стоящей перед ним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нять чувства ребенка такими, какие они есть, не пытаясь изменить их, осудить или отверг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еры в возможность ребенка успешно разрешить свои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ребенку как к уникальной личности, имеющей право на собственную жизнь со своими чувствами и жела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642960" y="357120"/>
            <a:ext cx="792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одительское отношени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ется как система разнообразных чувств по отношению к ребенку, поведенческих стереотипов, практикуемых в общении с ним, особенностей восприятия и понимания характера и личности ребенка, его поступк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57120" y="336600"/>
            <a:ext cx="84297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 Принятие – отвержение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отражает интегральное эмоциональное отношение к ребенку. Содержание одного полюса шкалы: родителю нравится ребенок таким, какой он есть. Родитель уважает индивидуальность ребенка, симпатизирует ему. Родитель стремится проводить много времени вместе с ребенком, одобряет его интересы и планы. На другом полюсе шкалы: родитель воспринимает своего ребенка плохим, неприспособленным, неудачливым. Ему кажется, что ребенок не добьется успеха в жизни из – за низких способностей, небольшого ума, дурных наклонностей. По большей части родитель испытывает к ребенку злость, досаду, раздражение, обиду. Он не доверяет ребенку и не уважает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500040" y="357120"/>
            <a:ext cx="8001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Кооперация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о – желательный образ родительского отношения. Содержательно эта шкала раскрывается так: родитель заинтересован в делах и планах ребенка, старается во всем помочь ребенку, сочувствует ему. Родитель высоко оценивает интеллектуальные и творческие способности ребенка, испытывает чувство гордости за него. Он поощряет инициативу и самостоятельность ребенка, старается быть с ним на равных. Родитель доверяет ребенку, старается стать на его точку зрения в спорных в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428760" y="474840"/>
            <a:ext cx="82152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Симбиоз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кала отражает межличностную дистанцию в общении с ребенком. При высоких баллах по этой шкале можно считать, что родитель стремится к симбиотическим отношениям с ребенком. Содержательно эта тенденция описывается так: родитель ощущает себя с ребенком одним целым, стремится удовлетворить все потребности ребенка, оградить его от трудностей и неприятностей жизни. Родитель постоянно ощущает тревогу за ребенка, ребенок кажется ему маленьким и беззащитным. Тревога родителей повышается, когда ребенок начинает автономизироваться волей обстоятельств, так как по своей воле родитель не предоставляет  ребенку самостоятельности 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33:23Z</dcterms:created>
  <dc:creator>Светлана</dc:creator>
  <dc:description/>
  <dc:language>en-US</dc:language>
  <cp:lastModifiedBy>Светлана</cp:lastModifiedBy>
  <dcterms:modified xsi:type="dcterms:W3CDTF">2009-02-28T07:46:41Z</dcterms:modified>
  <cp:revision>7</cp:revision>
  <dc:subject/>
  <dc:title>Отношения родителей и детей</dc:title>
</cp:coreProperties>
</file>