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14F-CF7B-4D90-9B90-086CEDD1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9A8-3564-46E6-B65F-79F6BC71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532-20B3-46EB-832B-2E319404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777-FD71-4274-8AD8-B835DC44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6015-7EB3-42FC-855D-BDC00345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EA7D-25BA-4760-B8A6-CA13CBE6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61B-B1C7-46E5-867C-2E22338D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14D0-3118-4CBE-BE50-0E5E6EF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4DF7-6FF1-4F6C-90A6-2DB58D90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E776-AE23-4577-9E1B-E54668C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9B07-F14D-4D4E-804F-765A125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485-01E8-46D5-A985-4E671618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9AA2-5E50-4277-921A-37AFE7FC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B52E-EC70-4F8E-8B59-43DD6FF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F04E-BB9C-471D-824C-F2A9AAE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6E30-2406-4FFB-8C3B-53DD0A1E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EF5-AAB8-46C4-807C-8B29D26F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532-01FB-4E33-85C1-B620C011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3E4-AD89-4FE6-A434-93F799E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856-613E-4F82-B1D6-6C7A3D4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EA7-EDDC-4A02-8C98-D10B7973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0D0-2041-46BD-A058-6DBF6D9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13F-A538-4909-BE57-849C7B4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69A-83DD-4519-9EA8-4862322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2B0A-BFB5-4BF0-8EDE-71C79591FC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77E-E08C-40F2-91D4-64EE3031BF4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9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араллельность прямы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апченкова Татьяна Ивановна 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 Сосновская СОШ №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 rot="10800000">
            <a:off x="3123360" y="4875120"/>
            <a:ext cx="3886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09680" y="228600"/>
            <a:ext cx="4800600" cy="685800"/>
          </a:xfrm>
          <a:prstGeom prst="horizontalScroll">
            <a:avLst>
              <a:gd name="adj" fmla="val 12500"/>
            </a:avLst>
          </a:prstGeom>
          <a:solidFill>
            <a:srgbClr val="00800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Прям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 rot="8926200">
            <a:off x="3199680" y="91440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 rot="2588400">
            <a:off x="5387760" y="936720"/>
            <a:ext cx="609480" cy="565200"/>
          </a:xfrm>
          <a:custGeom>
            <a:avLst/>
            <a:gdLst>
              <a:gd name="textAreaLeft" fmla="*/ 38160 w 609480"/>
              <a:gd name="textAreaRight" fmla="*/ 571320 w 609480"/>
              <a:gd name="textAreaTop" fmla="*/ 219600 h 565200"/>
              <a:gd name="textAreaBottom" fmla="*/ 345600 h 56520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7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396216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2486160" cy="495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"/>
          <p:cNvPicPr/>
          <p:nvPr/>
        </p:nvPicPr>
        <p:blipFill>
          <a:blip r:embed="rId4"/>
          <a:stretch/>
        </p:blipFill>
        <p:spPr>
          <a:xfrm>
            <a:off x="3505320" y="5410080"/>
            <a:ext cx="2133360" cy="4953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5"/>
          <p:cNvSpPr/>
          <p:nvPr/>
        </p:nvSpPr>
        <p:spPr>
          <a:xfrm rot="7344000">
            <a:off x="1528920" y="2661120"/>
            <a:ext cx="471240" cy="330120"/>
          </a:xfrm>
          <a:custGeom>
            <a:avLst/>
            <a:gdLst>
              <a:gd name="textAreaLeft" fmla="*/ 29520 w 471240"/>
              <a:gd name="textAreaRight" fmla="*/ 441720 w 47124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 rot="3676800">
            <a:off x="2895840" y="26661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 rot="1473600">
            <a:off x="3986280" y="2631600"/>
            <a:ext cx="1386000" cy="330480"/>
          </a:xfrm>
          <a:custGeom>
            <a:avLst/>
            <a:gdLst>
              <a:gd name="textAreaLeft" fmla="*/ 87120 w 1386000"/>
              <a:gd name="textAreaRight" fmla="*/ 1298880 w 1386000"/>
              <a:gd name="textAreaTop" fmla="*/ 128520 h 330480"/>
              <a:gd name="textAreaBottom" fmla="*/ 201960 h 33048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2"/>
          <p:cNvSpPr/>
          <p:nvPr/>
        </p:nvSpPr>
        <p:spPr>
          <a:xfrm rot="5400000">
            <a:off x="4348440" y="5099760"/>
            <a:ext cx="471600" cy="330120"/>
          </a:xfrm>
          <a:custGeom>
            <a:avLst/>
            <a:gdLst>
              <a:gd name="textAreaLeft" fmla="*/ 29520 w 471600"/>
              <a:gd name="textAreaRight" fmla="*/ 442080 w 471600"/>
              <a:gd name="textAreaTop" fmla="*/ 128160 h 330120"/>
              <a:gd name="textAreaBottom" fmla="*/ 201960 h 330120"/>
            </a:gdLst>
            <a:ahLst/>
            <a:rect l="textAreaLeft" t="textAreaTop" r="textAreaRight" b="textAreaBottom"/>
            <a:pathLst>
              <a:path w="21600" h="21600">
                <a:moveTo>
                  <a:pt x="0" y="8399"/>
                </a:moveTo>
                <a:lnTo>
                  <a:pt x="15485" y="8399"/>
                </a:lnTo>
                <a:lnTo>
                  <a:pt x="15485" y="0"/>
                </a:lnTo>
                <a:lnTo>
                  <a:pt x="21600" y="10800"/>
                </a:lnTo>
                <a:lnTo>
                  <a:pt x="15485" y="21600"/>
                </a:lnTo>
                <a:lnTo>
                  <a:pt x="15485" y="13201"/>
                </a:lnTo>
                <a:lnTo>
                  <a:pt x="0" y="13201"/>
                </a:lnTo>
                <a:lnTo>
                  <a:pt x="1359" y="10800"/>
                </a:lnTo>
                <a:lnTo>
                  <a:pt x="0" y="839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6" descr="Изображение 401"/>
          <p:cNvPicPr/>
          <p:nvPr/>
        </p:nvPicPr>
        <p:blipFill>
          <a:blip r:embed="rId5"/>
          <a:stretch/>
        </p:blipFill>
        <p:spPr>
          <a:xfrm>
            <a:off x="7112160" y="3886200"/>
            <a:ext cx="91116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Изображение 401"/>
          <p:cNvPicPr/>
          <p:nvPr/>
        </p:nvPicPr>
        <p:blipFill>
          <a:blip r:embed="rId6"/>
          <a:stretch/>
        </p:blipFill>
        <p:spPr>
          <a:xfrm>
            <a:off x="1379520" y="3962520"/>
            <a:ext cx="87012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Oval 39"/>
          <p:cNvSpPr/>
          <p:nvPr/>
        </p:nvSpPr>
        <p:spPr>
          <a:xfrm>
            <a:off x="762120" y="1676520"/>
            <a:ext cx="3200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0"/>
          <p:cNvSpPr/>
          <p:nvPr/>
        </p:nvSpPr>
        <p:spPr>
          <a:xfrm>
            <a:off x="5334120" y="1752480"/>
            <a:ext cx="297180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есекающиес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3"/>
          <p:cNvSpPr/>
          <p:nvPr/>
        </p:nvSpPr>
        <p:spPr>
          <a:xfrm>
            <a:off x="2743200" y="3733920"/>
            <a:ext cx="3733920" cy="1218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ксиома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раллельных  прямых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01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У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становите  соответстви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3840" y="3044880"/>
            <a:ext cx="770868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7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8 и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6 и 8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2 и 5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195640" y="1628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42840" y="914400"/>
            <a:ext cx="86364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4284720" y="907920"/>
            <a:ext cx="15112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334800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305928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35600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478800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2843280" y="170028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5435640" y="170028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3564000" y="1197000"/>
            <a:ext cx="1998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048120"/>
            <a:ext cx="830592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крест лежащ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3,  7 и 4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оответствен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5 и 4 ,  1 и 6,  2 и 3, 7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дносторонни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7 и 3,   1 и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вертикальные 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2,  5 и 7,  3 и 6,  4 и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межные</a:t>
            </a:r>
            <a:r>
              <a:rPr b="1" lang="en-US" sz="2400" spc="-1" strike="noStrike">
                <a:solidFill>
                  <a:srgbClr val="2b5481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1 и 5,  5 и 2,  2 и 7,  7 и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            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3 и 8,  8 и 6,  6 и 4,  4 и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209680" y="175248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 flipH="1">
            <a:off x="2590920" y="914400"/>
            <a:ext cx="10159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4284720" y="907920"/>
            <a:ext cx="1811160" cy="19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3352680" y="1828800"/>
            <a:ext cx="1526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8" name="WordArt 8"/>
          <p:cNvSpPr txBox="1"/>
          <p:nvPr/>
        </p:nvSpPr>
        <p:spPr>
          <a:xfrm>
            <a:off x="2895480" y="1219320"/>
            <a:ext cx="276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WordArt 9"/>
          <p:cNvSpPr txBox="1"/>
          <p:nvPr/>
        </p:nvSpPr>
        <p:spPr>
          <a:xfrm>
            <a:off x="4343400" y="12952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WordArt 10"/>
          <p:cNvSpPr txBox="1"/>
          <p:nvPr/>
        </p:nvSpPr>
        <p:spPr>
          <a:xfrm>
            <a:off x="4800600" y="1981080"/>
            <a:ext cx="200160" cy="3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1" name="WordArt 11"/>
          <p:cNvSpPr txBox="1"/>
          <p:nvPr/>
        </p:nvSpPr>
        <p:spPr>
          <a:xfrm>
            <a:off x="2743200" y="18288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5562720" y="1828800"/>
            <a:ext cx="2030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3505320" y="1295280"/>
            <a:ext cx="228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5003640" y="1197000"/>
            <a:ext cx="20016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Проверьте  себ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4"/>
          <p:cNvSpPr/>
          <p:nvPr/>
        </p:nvSpPr>
        <p:spPr>
          <a:xfrm flipH="1">
            <a:off x="304920" y="1295280"/>
            <a:ext cx="548640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533160" y="1600200"/>
            <a:ext cx="205740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2209320" y="1752480"/>
            <a:ext cx="1143000" cy="426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H="1" flipV="1">
            <a:off x="3962160" y="1523880"/>
            <a:ext cx="335268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657240" y="1828800"/>
            <a:ext cx="35053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5105160" y="1523880"/>
            <a:ext cx="114300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 flipV="1">
            <a:off x="456840" y="3276720"/>
            <a:ext cx="6095880" cy="761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895480" y="1447920"/>
            <a:ext cx="1981440" cy="4724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 flipH="1">
            <a:off x="1676160" y="2438280"/>
            <a:ext cx="5257800" cy="251460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52280" y="277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кие  из  данных  прямых  параллельны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91320" y="838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4644360" y="9144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259680" y="1143000"/>
            <a:ext cx="3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ookman Old Style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7453440" y="2630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7224840" y="3164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768000" y="3773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996600" y="2097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2287440" y="1219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049200" y="144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1353240" y="413064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роверьте  себ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6402240" y="426708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       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6400800" y="470376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        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6401520" y="518148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         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6477120" y="571500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        d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9" descr=""/>
          <p:cNvPicPr/>
          <p:nvPr/>
        </p:nvPicPr>
        <p:blipFill>
          <a:blip r:embed="rId2"/>
          <a:stretch/>
        </p:blipFill>
        <p:spPr>
          <a:xfrm>
            <a:off x="693432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0" descr=""/>
          <p:cNvPicPr/>
          <p:nvPr/>
        </p:nvPicPr>
        <p:blipFill>
          <a:blip r:embed="rId3"/>
          <a:stretch/>
        </p:blipFill>
        <p:spPr>
          <a:xfrm>
            <a:off x="6934320" y="52578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1" descr=""/>
          <p:cNvPicPr/>
          <p:nvPr/>
        </p:nvPicPr>
        <p:blipFill>
          <a:blip r:embed="rId4"/>
          <a:stretch/>
        </p:blipFill>
        <p:spPr>
          <a:xfrm>
            <a:off x="6934320" y="47242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2" descr=""/>
          <p:cNvPicPr/>
          <p:nvPr/>
        </p:nvPicPr>
        <p:blipFill>
          <a:blip r:embed="rId5"/>
          <a:stretch/>
        </p:blipFill>
        <p:spPr>
          <a:xfrm>
            <a:off x="6934320" y="4267080"/>
            <a:ext cx="542880" cy="6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1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1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2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6"/>
          <p:cNvSpPr/>
          <p:nvPr/>
        </p:nvSpPr>
        <p:spPr>
          <a:xfrm flipH="1">
            <a:off x="380520" y="1981080"/>
            <a:ext cx="3962520" cy="175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H="1">
            <a:off x="990720" y="3352680"/>
            <a:ext cx="396216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419720" y="16002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025600" y="297180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1523520"/>
            <a:ext cx="1371600" cy="3962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729160" y="1335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29160" y="277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043360" y="300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71960" y="399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7"/>
          <p:cNvSpPr/>
          <p:nvPr/>
        </p:nvSpPr>
        <p:spPr>
          <a:xfrm rot="17176800">
            <a:off x="2702520" y="2550240"/>
            <a:ext cx="596880" cy="6649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615640" y="14875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b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"/>
          <p:cNvPicPr/>
          <p:nvPr/>
        </p:nvPicPr>
        <p:blipFill>
          <a:blip r:embed="rId2"/>
          <a:stretch/>
        </p:blipFill>
        <p:spPr>
          <a:xfrm>
            <a:off x="7391520" y="1447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3"/>
          <p:cNvSpPr/>
          <p:nvPr/>
        </p:nvSpPr>
        <p:spPr>
          <a:xfrm>
            <a:off x="7376760" y="201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7239960" y="20574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5" descr=""/>
          <p:cNvPicPr/>
          <p:nvPr/>
        </p:nvPicPr>
        <p:blipFill>
          <a:blip r:embed="rId4"/>
          <a:stretch/>
        </p:blipFill>
        <p:spPr>
          <a:xfrm>
            <a:off x="8381880" y="1905120"/>
            <a:ext cx="362160" cy="49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6"/>
          <p:cNvSpPr/>
          <p:nvPr/>
        </p:nvSpPr>
        <p:spPr>
          <a:xfrm>
            <a:off x="5640840" y="266688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7" descr=""/>
          <p:cNvPicPr/>
          <p:nvPr/>
        </p:nvPicPr>
        <p:blipFill>
          <a:blip r:embed="rId5"/>
          <a:stretch/>
        </p:blipFill>
        <p:spPr>
          <a:xfrm>
            <a:off x="6858000" y="26668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"/>
          <p:cNvPicPr/>
          <p:nvPr/>
        </p:nvPicPr>
        <p:blipFill>
          <a:blip r:embed="rId6"/>
          <a:stretch/>
        </p:blipFill>
        <p:spPr>
          <a:xfrm>
            <a:off x="6858000" y="32004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"/>
          <p:cNvPicPr/>
          <p:nvPr/>
        </p:nvPicPr>
        <p:blipFill>
          <a:blip r:embed="rId7"/>
          <a:stretch/>
        </p:blipFill>
        <p:spPr>
          <a:xfrm>
            <a:off x="6858000" y="3733920"/>
            <a:ext cx="447840" cy="48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0"/>
          <p:cNvSpPr/>
          <p:nvPr/>
        </p:nvSpPr>
        <p:spPr>
          <a:xfrm>
            <a:off x="73170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7301160" y="316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2"/>
          <p:cNvSpPr/>
          <p:nvPr/>
        </p:nvSpPr>
        <p:spPr>
          <a:xfrm>
            <a:off x="73170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563800" y="441972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6" descr=""/>
          <p:cNvPicPr/>
          <p:nvPr/>
        </p:nvPicPr>
        <p:blipFill>
          <a:blip r:embed="rId8"/>
          <a:stretch/>
        </p:blipFill>
        <p:spPr>
          <a:xfrm>
            <a:off x="6705720" y="441972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7"/>
          <p:cNvSpPr/>
          <p:nvPr/>
        </p:nvSpPr>
        <p:spPr>
          <a:xfrm>
            <a:off x="7086240" y="449568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 =  30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8" descr=""/>
          <p:cNvPicPr/>
          <p:nvPr/>
        </p:nvPicPr>
        <p:blipFill>
          <a:blip r:embed="rId9"/>
          <a:stretch/>
        </p:blipFill>
        <p:spPr>
          <a:xfrm>
            <a:off x="8229600" y="426708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9" descr=""/>
          <p:cNvPicPr/>
          <p:nvPr/>
        </p:nvPicPr>
        <p:blipFill>
          <a:blip r:embed="rId10"/>
          <a:stretch/>
        </p:blipFill>
        <p:spPr>
          <a:xfrm>
            <a:off x="6705720" y="5410080"/>
            <a:ext cx="447480" cy="48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0" descr=""/>
          <p:cNvPicPr/>
          <p:nvPr/>
        </p:nvPicPr>
        <p:blipFill>
          <a:blip r:embed="rId11"/>
          <a:stretch/>
        </p:blipFill>
        <p:spPr>
          <a:xfrm>
            <a:off x="6705720" y="4952880"/>
            <a:ext cx="447480" cy="486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1"/>
          <p:cNvSpPr/>
          <p:nvPr/>
        </p:nvSpPr>
        <p:spPr>
          <a:xfrm>
            <a:off x="7086960" y="49528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  =  15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2" descr=""/>
          <p:cNvPicPr/>
          <p:nvPr/>
        </p:nvPicPr>
        <p:blipFill>
          <a:blip r:embed="rId12"/>
          <a:stretch/>
        </p:blipFill>
        <p:spPr>
          <a:xfrm>
            <a:off x="8381880" y="4800600"/>
            <a:ext cx="362160" cy="49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3" descr=""/>
          <p:cNvPicPr/>
          <p:nvPr/>
        </p:nvPicPr>
        <p:blipFill>
          <a:blip r:embed="rId13"/>
          <a:stretch/>
        </p:blipFill>
        <p:spPr>
          <a:xfrm>
            <a:off x="8229600" y="5334120"/>
            <a:ext cx="361800" cy="495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4"/>
          <p:cNvSpPr/>
          <p:nvPr/>
        </p:nvSpPr>
        <p:spPr>
          <a:xfrm>
            <a:off x="7086600" y="5410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  =  3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 flipH="1">
            <a:off x="990360" y="1600200"/>
            <a:ext cx="1447560" cy="365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438280" y="1600200"/>
            <a:ext cx="1828800" cy="16765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914040" y="3276720"/>
            <a:ext cx="3352680" cy="20574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752480" y="2362320"/>
            <a:ext cx="1524240" cy="99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1752120" y="3276720"/>
            <a:ext cx="2514600" cy="759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743200" y="32004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 flipV="1">
            <a:off x="1371240" y="3962160"/>
            <a:ext cx="22860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595800" y="529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2364480" y="121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2692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228780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967400" y="262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281600" y="453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822240" y="56988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Задач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5175720" y="144792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ано: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= 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169960" y="27432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йти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5181120" y="342900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лан  решения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3639240" y="41148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    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3643560" y="464832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641760" y="518148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)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3641760" y="571500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)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 = 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20220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129744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3338640" y="194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0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1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2" descr=""/>
          <p:cNvPicPr/>
          <p:nvPr/>
        </p:nvPicPr>
        <p:blipFill>
          <a:blip r:embed="rId4"/>
          <a:stretch/>
        </p:blipFill>
        <p:spPr>
          <a:xfrm>
            <a:off x="7391520" y="2743200"/>
            <a:ext cx="447480" cy="485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5"/>
          <a:stretch/>
        </p:blipFill>
        <p:spPr>
          <a:xfrm>
            <a:off x="502920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7" descr=""/>
          <p:cNvPicPr/>
          <p:nvPr/>
        </p:nvPicPr>
        <p:blipFill>
          <a:blip r:embed="rId6"/>
          <a:stretch/>
        </p:blipFill>
        <p:spPr>
          <a:xfrm>
            <a:off x="6095880" y="41148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8" descr=""/>
          <p:cNvPicPr/>
          <p:nvPr/>
        </p:nvPicPr>
        <p:blipFill>
          <a:blip r:embed="rId7"/>
          <a:stretch/>
        </p:blipFill>
        <p:spPr>
          <a:xfrm>
            <a:off x="502920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9" descr=""/>
          <p:cNvPicPr/>
          <p:nvPr/>
        </p:nvPicPr>
        <p:blipFill>
          <a:blip r:embed="rId8"/>
          <a:stretch/>
        </p:blipFill>
        <p:spPr>
          <a:xfrm>
            <a:off x="6095880" y="4572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0" descr=""/>
          <p:cNvPicPr/>
          <p:nvPr/>
        </p:nvPicPr>
        <p:blipFill>
          <a:blip r:embed="rId9"/>
          <a:stretch/>
        </p:blipFill>
        <p:spPr>
          <a:xfrm>
            <a:off x="609588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1" descr=""/>
          <p:cNvPicPr/>
          <p:nvPr/>
        </p:nvPicPr>
        <p:blipFill>
          <a:blip r:embed="rId10"/>
          <a:stretch/>
        </p:blipFill>
        <p:spPr>
          <a:xfrm>
            <a:off x="5029200" y="5181480"/>
            <a:ext cx="447840" cy="486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2" descr=""/>
          <p:cNvPicPr/>
          <p:nvPr/>
        </p:nvPicPr>
        <p:blipFill>
          <a:blip r:embed="rId11"/>
          <a:stretch/>
        </p:blipFill>
        <p:spPr>
          <a:xfrm>
            <a:off x="609588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3" descr=""/>
          <p:cNvPicPr/>
          <p:nvPr/>
        </p:nvPicPr>
        <p:blipFill>
          <a:blip r:embed="rId12"/>
          <a:stretch/>
        </p:blipFill>
        <p:spPr>
          <a:xfrm>
            <a:off x="5029200" y="5715000"/>
            <a:ext cx="447840" cy="48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4" descr=""/>
          <p:cNvPicPr/>
          <p:nvPr/>
        </p:nvPicPr>
        <p:blipFill>
          <a:blip r:embed="rId13"/>
          <a:stretch/>
        </p:blipFill>
        <p:spPr>
          <a:xfrm>
            <a:off x="7620120" y="55627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5" descr=""/>
          <p:cNvPicPr/>
          <p:nvPr/>
        </p:nvPicPr>
        <p:blipFill>
          <a:blip r:embed="rId14"/>
          <a:stretch/>
        </p:blipFill>
        <p:spPr>
          <a:xfrm>
            <a:off x="7620120" y="502920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6" descr=""/>
          <p:cNvPicPr/>
          <p:nvPr/>
        </p:nvPicPr>
        <p:blipFill>
          <a:blip r:embed="rId15"/>
          <a:stretch/>
        </p:blipFill>
        <p:spPr>
          <a:xfrm>
            <a:off x="7772400" y="1219320"/>
            <a:ext cx="361800" cy="4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0" descr=""/>
          <p:cNvPicPr/>
          <p:nvPr/>
        </p:nvPicPr>
        <p:blipFill>
          <a:blip r:embed="rId16"/>
          <a:stretch/>
        </p:blipFill>
        <p:spPr>
          <a:xfrm>
            <a:off x="1447920" y="2971800"/>
            <a:ext cx="62064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2" descr=""/>
          <p:cNvPicPr/>
          <p:nvPr/>
        </p:nvPicPr>
        <p:blipFill>
          <a:blip r:embed="rId17"/>
          <a:stretch/>
        </p:blipFill>
        <p:spPr>
          <a:xfrm>
            <a:off x="7010280" y="2209680"/>
            <a:ext cx="447840" cy="49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27040" y="47304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Самостоятельная 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H="1">
            <a:off x="380520" y="1523880"/>
            <a:ext cx="2514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 flipH="1">
            <a:off x="533520" y="2362320"/>
            <a:ext cx="259056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7"/>
          <p:cNvSpPr/>
          <p:nvPr/>
        </p:nvSpPr>
        <p:spPr>
          <a:xfrm flipH="1" flipV="1">
            <a:off x="5409720" y="2209680"/>
            <a:ext cx="266724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H="1" flipV="1">
            <a:off x="5638320" y="1447560"/>
            <a:ext cx="259092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4343400" y="14479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838080" y="1447560"/>
            <a:ext cx="304920" cy="20574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V="1">
            <a:off x="7315200" y="1371600"/>
            <a:ext cx="152280" cy="1905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1523880" y="1219320"/>
            <a:ext cx="10670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6095880" y="1295280"/>
            <a:ext cx="914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0" y="26668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1450080" y="13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2059920" y="3048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6022440" y="114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5412240" y="2590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6707880" y="1981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2881800" y="13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186000" y="2093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8215560" y="18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8062920" y="2627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4"/>
          <p:cNvSpPr/>
          <p:nvPr/>
        </p:nvSpPr>
        <p:spPr>
          <a:xfrm>
            <a:off x="839520" y="3276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7316640" y="3048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509840" y="3287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005520" y="3059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2817000" y="37339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По  данным  рисунка 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343400" y="4419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"/>
          <p:cNvSpPr/>
          <p:nvPr/>
        </p:nvSpPr>
        <p:spPr>
          <a:xfrm>
            <a:off x="300600" y="4419720"/>
            <a:ext cx="38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докажите , что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 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1"/>
          <p:cNvSpPr/>
          <p:nvPr/>
        </p:nvSpPr>
        <p:spPr>
          <a:xfrm>
            <a:off x="23641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2"/>
          <p:cNvSpPr/>
          <p:nvPr/>
        </p:nvSpPr>
        <p:spPr>
          <a:xfrm>
            <a:off x="74696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4721400" y="5029200"/>
            <a:ext cx="25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найдите      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4796280" y="4495680"/>
            <a:ext cx="37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А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докажите , что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a      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301680" y="502920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»: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йдите       1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олилиния 37"/>
          <p:cNvSpPr/>
          <p:nvPr/>
        </p:nvSpPr>
        <p:spPr>
          <a:xfrm rot="12243600">
            <a:off x="1139400" y="1529640"/>
            <a:ext cx="358920" cy="36972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лилиния 37"/>
          <p:cNvSpPr/>
          <p:nvPr/>
        </p:nvSpPr>
        <p:spPr>
          <a:xfrm rot="6840600">
            <a:off x="461520" y="2738160"/>
            <a:ext cx="479160" cy="18432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олилиния 37"/>
          <p:cNvSpPr/>
          <p:nvPr/>
        </p:nvSpPr>
        <p:spPr>
          <a:xfrm rot="17689800">
            <a:off x="1810080" y="2837520"/>
            <a:ext cx="420840" cy="23148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олилиния 37"/>
          <p:cNvSpPr/>
          <p:nvPr/>
        </p:nvSpPr>
        <p:spPr>
          <a:xfrm rot="2211600">
            <a:off x="7086600" y="1981080"/>
            <a:ext cx="304920" cy="108000"/>
          </a:xfrm>
          <a:prstGeom prst="pie">
            <a:avLst/>
          </a:prstGeom>
          <a:noFill/>
          <a:ln cap="rnd"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олилиния 37"/>
          <p:cNvSpPr/>
          <p:nvPr/>
        </p:nvSpPr>
        <p:spPr>
          <a:xfrm rot="7825200">
            <a:off x="6450840" y="1423080"/>
            <a:ext cx="433440" cy="200160"/>
          </a:xfrm>
          <a:prstGeom prst="pie">
            <a:avLst/>
          </a:prstGeom>
          <a:noFill/>
          <a:ln cap="rnd"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олилиния 37"/>
          <p:cNvSpPr/>
          <p:nvPr/>
        </p:nvSpPr>
        <p:spPr>
          <a:xfrm rot="2146200">
            <a:off x="5943240" y="2437920"/>
            <a:ext cx="420840" cy="231840"/>
          </a:xfrm>
          <a:prstGeom prst="pie">
            <a:avLst/>
          </a:prstGeom>
          <a:noFill/>
          <a:ln cap="rnd"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2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3" descr=""/>
          <p:cNvPicPr/>
          <p:nvPr/>
        </p:nvPicPr>
        <p:blipFill>
          <a:blip r:embed="rId3"/>
          <a:stretch/>
        </p:blipFill>
        <p:spPr>
          <a:xfrm>
            <a:off x="7772400" y="4495680"/>
            <a:ext cx="457200" cy="495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4" descr=""/>
          <p:cNvPicPr/>
          <p:nvPr/>
        </p:nvPicPr>
        <p:blipFill>
          <a:blip r:embed="rId4"/>
          <a:stretch/>
        </p:blipFill>
        <p:spPr>
          <a:xfrm>
            <a:off x="22860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5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438120" cy="4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6" descr=""/>
          <p:cNvPicPr/>
          <p:nvPr/>
        </p:nvPicPr>
        <p:blipFill>
          <a:blip r:embed="rId6"/>
          <a:stretch/>
        </p:blipFill>
        <p:spPr>
          <a:xfrm>
            <a:off x="5486400" y="24382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7" descr=""/>
          <p:cNvPicPr/>
          <p:nvPr/>
        </p:nvPicPr>
        <p:blipFill>
          <a:blip r:embed="rId7"/>
          <a:stretch/>
        </p:blipFill>
        <p:spPr>
          <a:xfrm>
            <a:off x="6248520" y="9907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8" descr=""/>
          <p:cNvPicPr/>
          <p:nvPr/>
        </p:nvPicPr>
        <p:blipFill>
          <a:blip r:embed="rId8"/>
          <a:stretch/>
        </p:blipFill>
        <p:spPr>
          <a:xfrm>
            <a:off x="1523880" y="121932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9" descr=""/>
          <p:cNvPicPr/>
          <p:nvPr/>
        </p:nvPicPr>
        <p:blipFill>
          <a:blip r:embed="rId9"/>
          <a:stretch/>
        </p:blipFill>
        <p:spPr>
          <a:xfrm>
            <a:off x="2286000" y="289548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0" descr=""/>
          <p:cNvPicPr/>
          <p:nvPr/>
        </p:nvPicPr>
        <p:blipFill>
          <a:blip r:embed="rId10"/>
          <a:stretch/>
        </p:blipFill>
        <p:spPr>
          <a:xfrm>
            <a:off x="6705720" y="1828800"/>
            <a:ext cx="895320" cy="495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"/>
          <p:cNvPicPr/>
          <p:nvPr/>
        </p:nvPicPr>
        <p:blipFill>
          <a:blip r:embed="rId11"/>
          <a:stretch/>
        </p:blipFill>
        <p:spPr>
          <a:xfrm>
            <a:off x="152280" y="2514600"/>
            <a:ext cx="895320" cy="4953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2"/>
          <p:cNvSpPr/>
          <p:nvPr/>
        </p:nvSpPr>
        <p:spPr>
          <a:xfrm>
            <a:off x="120528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106884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54"/>
          <p:cNvSpPr/>
          <p:nvPr/>
        </p:nvSpPr>
        <p:spPr>
          <a:xfrm>
            <a:off x="67176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5"/>
          <p:cNvSpPr/>
          <p:nvPr/>
        </p:nvSpPr>
        <p:spPr>
          <a:xfrm>
            <a:off x="18306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472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663120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638676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9"/>
          <p:cNvSpPr/>
          <p:nvPr/>
        </p:nvSpPr>
        <p:spPr>
          <a:xfrm>
            <a:off x="602172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0-09-27T12:04:2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