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F10-C9A4-4187-9B7B-67D350F7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251-73B8-43F8-ACEE-5E60A26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CF8-9477-4AFA-AF05-16B2B804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D65-FD40-406B-8F59-17F645EB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B02E-1AE4-4EBE-9F72-EAFBE599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EDA5-1B73-45D9-A503-8056079C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916B-6B63-485E-B703-D7863B5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8F82-099B-403F-9AFE-EA3C86DA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19CA-BF1E-44EB-9CA4-19289245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04D7-A46F-4EED-99C5-8AF14B68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4A7C-5170-48F5-BCB0-D1265ABD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03F-33F7-49A3-933C-42C04AC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8145-D0D7-4EED-988B-B7DB7BA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68F1-839B-4A4F-9E72-FA9B7B8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2C22-A90F-4AAF-9473-3B91BB9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60D-1138-4EE4-AE16-98818F6F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0327-43FB-42E1-BE86-8864500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21A-0618-4524-82A4-5844F90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A34-04C5-4A04-950B-6A8FCB2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C06-4A2B-4D3C-95CB-D436753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9B8-8467-46F1-939B-81901C6E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0A9-4733-48ED-8F50-394F365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B33-DC54-44E4-8472-4FF47DF2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525-4D24-4286-8F8C-DC936B4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AE35-3F1A-45FB-B4B7-E5C9EDB970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18E9-F383-488D-922D-66C6031A3A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ллельность прям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пченкова Татьяна Ивановна 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 Сосновская СОШ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 rot="10800000">
            <a:off x="3123360" y="4875120"/>
            <a:ext cx="3886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09680" y="228600"/>
            <a:ext cx="4800600" cy="685800"/>
          </a:xfrm>
          <a:prstGeom prst="horizontalScroll">
            <a:avLst>
              <a:gd name="adj" fmla="val 12500"/>
            </a:avLst>
          </a:prstGeom>
          <a:solidFill>
            <a:srgbClr val="008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ям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 rot="8926200">
            <a:off x="3199680" y="91440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rot="2588400">
            <a:off x="5387760" y="93672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962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486160" cy="49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"/>
          <p:cNvPicPr/>
          <p:nvPr/>
        </p:nvPicPr>
        <p:blipFill>
          <a:blip r:embed="rId4"/>
          <a:stretch/>
        </p:blipFill>
        <p:spPr>
          <a:xfrm>
            <a:off x="3505320" y="5410080"/>
            <a:ext cx="213336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5"/>
          <p:cNvSpPr/>
          <p:nvPr/>
        </p:nvSpPr>
        <p:spPr>
          <a:xfrm rot="7344000">
            <a:off x="1528920" y="2661120"/>
            <a:ext cx="471240" cy="330120"/>
          </a:xfrm>
          <a:custGeom>
            <a:avLst/>
            <a:gdLst>
              <a:gd name="textAreaLeft" fmla="*/ 29520 w 471240"/>
              <a:gd name="textAreaRight" fmla="*/ 441720 w 47124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 rot="3676800">
            <a:off x="2895840" y="26661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 rot="1473600">
            <a:off x="3986280" y="2631600"/>
            <a:ext cx="1386000" cy="330480"/>
          </a:xfrm>
          <a:custGeom>
            <a:avLst/>
            <a:gdLst>
              <a:gd name="textAreaLeft" fmla="*/ 87120 w 1386000"/>
              <a:gd name="textAreaRight" fmla="*/ 1298880 w 1386000"/>
              <a:gd name="textAreaTop" fmla="*/ 128520 h 330480"/>
              <a:gd name="textAreaBottom" fmla="*/ 201960 h 33048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4348440" y="50997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Изображение 401"/>
          <p:cNvPicPr/>
          <p:nvPr/>
        </p:nvPicPr>
        <p:blipFill>
          <a:blip r:embed="rId5"/>
          <a:stretch/>
        </p:blipFill>
        <p:spPr>
          <a:xfrm>
            <a:off x="7112160" y="3886200"/>
            <a:ext cx="9111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Изображение 401"/>
          <p:cNvPicPr/>
          <p:nvPr/>
        </p:nvPicPr>
        <p:blipFill>
          <a:blip r:embed="rId6"/>
          <a:stretch/>
        </p:blipFill>
        <p:spPr>
          <a:xfrm>
            <a:off x="1379520" y="3962520"/>
            <a:ext cx="8701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Oval 39"/>
          <p:cNvSpPr/>
          <p:nvPr/>
        </p:nvSpPr>
        <p:spPr>
          <a:xfrm>
            <a:off x="762120" y="1676520"/>
            <a:ext cx="3200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5334120" y="1752480"/>
            <a:ext cx="297180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секающиес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3"/>
          <p:cNvSpPr/>
          <p:nvPr/>
        </p:nvSpPr>
        <p:spPr>
          <a:xfrm>
            <a:off x="2743200" y="3733920"/>
            <a:ext cx="3733920" cy="121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сиома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х  прямых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1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тановите  соответств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3840" y="3044880"/>
            <a:ext cx="770868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7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 и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6 и 8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5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195640" y="162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42840" y="914400"/>
            <a:ext cx="863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284720" y="907920"/>
            <a:ext cx="15112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34800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05928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35600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478800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284328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43564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356400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3059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,  7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 ,  1 и 6,  2 и 3, 7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,   1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2,  5 и 7,  3 и 6,  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5,  5 и 2,  2 и 7,  7 и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8,  8 и 6,  6 и 4,  4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09680" y="175248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2590920" y="914400"/>
            <a:ext cx="10159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284720" y="907920"/>
            <a:ext cx="181116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352680" y="1828800"/>
            <a:ext cx="152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895480" y="1219320"/>
            <a:ext cx="276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4343400" y="12952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00600" y="19810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2743200" y="18288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5562720" y="1828800"/>
            <a:ext cx="20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3505320" y="1295280"/>
            <a:ext cx="228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Проверьте 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4"/>
          <p:cNvSpPr/>
          <p:nvPr/>
        </p:nvSpPr>
        <p:spPr>
          <a:xfrm flipH="1">
            <a:off x="304920" y="1295280"/>
            <a:ext cx="548640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533160" y="1600200"/>
            <a:ext cx="205740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209320" y="1752480"/>
            <a:ext cx="1143000" cy="426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 flipV="1">
            <a:off x="3962160" y="1523880"/>
            <a:ext cx="335268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657240" y="1828800"/>
            <a:ext cx="35053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5105160" y="1523880"/>
            <a:ext cx="114300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56840" y="3276720"/>
            <a:ext cx="6095880" cy="761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1447920"/>
            <a:ext cx="198144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1676160" y="2438280"/>
            <a:ext cx="5257800" cy="25146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52280" y="277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кие  из  данных  прямых  параллельны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91320" y="838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4360" y="9144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259680" y="1143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7453440" y="263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24840" y="3164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768000" y="377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996600" y="20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8744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0492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353240" y="41306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верьте  себ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402240" y="42670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400800" y="470376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       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401520" y="518148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        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477120" y="5715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        d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9" descr=""/>
          <p:cNvPicPr/>
          <p:nvPr/>
        </p:nvPicPr>
        <p:blipFill>
          <a:blip r:embed="rId2"/>
          <a:stretch/>
        </p:blipFill>
        <p:spPr>
          <a:xfrm>
            <a:off x="693432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0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5428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6"/>
          <p:cNvSpPr/>
          <p:nvPr/>
        </p:nvSpPr>
        <p:spPr>
          <a:xfrm flipH="1">
            <a:off x="380520" y="1981080"/>
            <a:ext cx="396252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990720" y="3352680"/>
            <a:ext cx="396216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41972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025600" y="2971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1523520"/>
            <a:ext cx="1371600" cy="3962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729160" y="133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29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0433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719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7"/>
          <p:cNvSpPr/>
          <p:nvPr/>
        </p:nvSpPr>
        <p:spPr>
          <a:xfrm rot="17176800">
            <a:off x="2702520" y="2550240"/>
            <a:ext cx="596880" cy="6649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615640" y="14875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2"/>
          <a:stretch/>
        </p:blipFill>
        <p:spPr>
          <a:xfrm>
            <a:off x="7391520" y="1447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3"/>
          <p:cNvSpPr/>
          <p:nvPr/>
        </p:nvSpPr>
        <p:spPr>
          <a:xfrm>
            <a:off x="7376760" y="201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23996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5" descr=""/>
          <p:cNvPicPr/>
          <p:nvPr/>
        </p:nvPicPr>
        <p:blipFill>
          <a:blip r:embed="rId4"/>
          <a:stretch/>
        </p:blipFill>
        <p:spPr>
          <a:xfrm>
            <a:off x="8381880" y="1905120"/>
            <a:ext cx="362160" cy="49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6"/>
          <p:cNvSpPr/>
          <p:nvPr/>
        </p:nvSpPr>
        <p:spPr>
          <a:xfrm>
            <a:off x="5640840" y="2666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7" descr=""/>
          <p:cNvPicPr/>
          <p:nvPr/>
        </p:nvPicPr>
        <p:blipFill>
          <a:blip r:embed="rId5"/>
          <a:stretch/>
        </p:blipFill>
        <p:spPr>
          <a:xfrm>
            <a:off x="6858000" y="26668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"/>
          <p:cNvPicPr/>
          <p:nvPr/>
        </p:nvPicPr>
        <p:blipFill>
          <a:blip r:embed="rId6"/>
          <a:stretch/>
        </p:blipFill>
        <p:spPr>
          <a:xfrm>
            <a:off x="6858000" y="32004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"/>
          <p:cNvPicPr/>
          <p:nvPr/>
        </p:nvPicPr>
        <p:blipFill>
          <a:blip r:embed="rId7"/>
          <a:stretch/>
        </p:blipFill>
        <p:spPr>
          <a:xfrm>
            <a:off x="6858000" y="373392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0"/>
          <p:cNvSpPr/>
          <p:nvPr/>
        </p:nvSpPr>
        <p:spPr>
          <a:xfrm>
            <a:off x="73170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730116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7317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56380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"/>
          <p:cNvPicPr/>
          <p:nvPr/>
        </p:nvPicPr>
        <p:blipFill>
          <a:blip r:embed="rId8"/>
          <a:stretch/>
        </p:blipFill>
        <p:spPr>
          <a:xfrm>
            <a:off x="6705720" y="441972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7086240" y="449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=  3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9"/>
          <a:stretch/>
        </p:blipFill>
        <p:spPr>
          <a:xfrm>
            <a:off x="8229600" y="426708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"/>
          <p:cNvPicPr/>
          <p:nvPr/>
        </p:nvPicPr>
        <p:blipFill>
          <a:blip r:embed="rId10"/>
          <a:stretch/>
        </p:blipFill>
        <p:spPr>
          <a:xfrm>
            <a:off x="6705720" y="5410080"/>
            <a:ext cx="44748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"/>
          <p:cNvPicPr/>
          <p:nvPr/>
        </p:nvPicPr>
        <p:blipFill>
          <a:blip r:embed="rId11"/>
          <a:stretch/>
        </p:blipFill>
        <p:spPr>
          <a:xfrm>
            <a:off x="6705720" y="4952880"/>
            <a:ext cx="447480" cy="48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1"/>
          <p:cNvSpPr/>
          <p:nvPr/>
        </p:nvSpPr>
        <p:spPr>
          <a:xfrm>
            <a:off x="7086960" y="4952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2"/>
          <a:stretch/>
        </p:blipFill>
        <p:spPr>
          <a:xfrm>
            <a:off x="8381880" y="4800600"/>
            <a:ext cx="362160" cy="49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3" descr=""/>
          <p:cNvPicPr/>
          <p:nvPr/>
        </p:nvPicPr>
        <p:blipFill>
          <a:blip r:embed="rId13"/>
          <a:stretch/>
        </p:blipFill>
        <p:spPr>
          <a:xfrm>
            <a:off x="8229600" y="5334120"/>
            <a:ext cx="36180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4"/>
          <p:cNvSpPr/>
          <p:nvPr/>
        </p:nvSpPr>
        <p:spPr>
          <a:xfrm>
            <a:off x="7086600" y="5410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=  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 flipH="1">
            <a:off x="990360" y="1600200"/>
            <a:ext cx="1447560" cy="365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438280" y="1600200"/>
            <a:ext cx="1828800" cy="16765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914040" y="3276720"/>
            <a:ext cx="3352680" cy="20574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752480" y="2362320"/>
            <a:ext cx="1524240" cy="99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752120" y="3276720"/>
            <a:ext cx="2514600" cy="759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743200" y="32004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 flipV="1">
            <a:off x="1371240" y="39621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580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644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2692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28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967400" y="262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281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75720" y="144792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169960" y="2743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181120" y="34290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лан  решения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639240" y="41148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    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643560" y="464832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641760" y="5181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3641760" y="571500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202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2974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33864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9" descr=""/>
          <p:cNvPicPr/>
          <p:nvPr/>
        </p:nvPicPr>
        <p:blipFill>
          <a:blip r:embed="rId8"/>
          <a:stretch/>
        </p:blipFill>
        <p:spPr>
          <a:xfrm>
            <a:off x="609588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"/>
          <p:cNvPicPr/>
          <p:nvPr/>
        </p:nvPicPr>
        <p:blipFill>
          <a:blip r:embed="rId9"/>
          <a:stretch/>
        </p:blipFill>
        <p:spPr>
          <a:xfrm>
            <a:off x="609588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1" descr=""/>
          <p:cNvPicPr/>
          <p:nvPr/>
        </p:nvPicPr>
        <p:blipFill>
          <a:blip r:embed="rId10"/>
          <a:stretch/>
        </p:blipFill>
        <p:spPr>
          <a:xfrm>
            <a:off x="502920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"/>
          <p:cNvPicPr/>
          <p:nvPr/>
        </p:nvPicPr>
        <p:blipFill>
          <a:blip r:embed="rId11"/>
          <a:stretch/>
        </p:blipFill>
        <p:spPr>
          <a:xfrm>
            <a:off x="609588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3" descr=""/>
          <p:cNvPicPr/>
          <p:nvPr/>
        </p:nvPicPr>
        <p:blipFill>
          <a:blip r:embed="rId12"/>
          <a:stretch/>
        </p:blipFill>
        <p:spPr>
          <a:xfrm>
            <a:off x="502920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"/>
          <p:cNvPicPr/>
          <p:nvPr/>
        </p:nvPicPr>
        <p:blipFill>
          <a:blip r:embed="rId13"/>
          <a:stretch/>
        </p:blipFill>
        <p:spPr>
          <a:xfrm>
            <a:off x="7620120" y="55627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5" descr=""/>
          <p:cNvPicPr/>
          <p:nvPr/>
        </p:nvPicPr>
        <p:blipFill>
          <a:blip r:embed="rId14"/>
          <a:stretch/>
        </p:blipFill>
        <p:spPr>
          <a:xfrm>
            <a:off x="7620120" y="502920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6" descr=""/>
          <p:cNvPicPr/>
          <p:nvPr/>
        </p:nvPicPr>
        <p:blipFill>
          <a:blip r:embed="rId15"/>
          <a:stretch/>
        </p:blipFill>
        <p:spPr>
          <a:xfrm>
            <a:off x="7772400" y="12193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"/>
          <p:cNvPicPr/>
          <p:nvPr/>
        </p:nvPicPr>
        <p:blipFill>
          <a:blip r:embed="rId16"/>
          <a:stretch/>
        </p:blipFill>
        <p:spPr>
          <a:xfrm>
            <a:off x="1447920" y="2971800"/>
            <a:ext cx="62064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"/>
          <p:cNvPicPr/>
          <p:nvPr/>
        </p:nvPicPr>
        <p:blipFill>
          <a:blip r:embed="rId17"/>
          <a:stretch/>
        </p:blipFill>
        <p:spPr>
          <a:xfrm>
            <a:off x="7010280" y="2209680"/>
            <a:ext cx="447840" cy="49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27040" y="47304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амостоятельная 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80520" y="15238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33520" y="2362320"/>
            <a:ext cx="259056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 flipV="1">
            <a:off x="5409720" y="2209680"/>
            <a:ext cx="266724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5638320" y="1447560"/>
            <a:ext cx="25909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343400" y="1447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838080" y="1447560"/>
            <a:ext cx="30492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V="1">
            <a:off x="7315200" y="1371600"/>
            <a:ext cx="152280" cy="1905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1523880" y="1219320"/>
            <a:ext cx="10670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6095880" y="12952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0" y="26668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450080" y="13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059920" y="30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022440" y="114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4122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7078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28818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186000" y="209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2155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062920" y="262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39520" y="32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31664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509840" y="3287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005520" y="305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281700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о  данным  рисунка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343400" y="4419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300600" y="441972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докажите , что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23641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469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21400" y="50292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найдите      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796280" y="4495680"/>
            <a:ext cx="37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докажите , что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a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01680" y="5029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йдите       1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олилиния 37"/>
          <p:cNvSpPr/>
          <p:nvPr/>
        </p:nvSpPr>
        <p:spPr>
          <a:xfrm rot="12243600">
            <a:off x="1139400" y="1529640"/>
            <a:ext cx="358920" cy="36972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лилиния 37"/>
          <p:cNvSpPr/>
          <p:nvPr/>
        </p:nvSpPr>
        <p:spPr>
          <a:xfrm rot="6840600">
            <a:off x="461520" y="2738160"/>
            <a:ext cx="479160" cy="1843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олилиния 37"/>
          <p:cNvSpPr/>
          <p:nvPr/>
        </p:nvSpPr>
        <p:spPr>
          <a:xfrm rot="17689800">
            <a:off x="1810080" y="2837520"/>
            <a:ext cx="420840" cy="23148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олилиния 37"/>
          <p:cNvSpPr/>
          <p:nvPr/>
        </p:nvSpPr>
        <p:spPr>
          <a:xfrm rot="2211600">
            <a:off x="7086600" y="1981080"/>
            <a:ext cx="304920" cy="10800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37"/>
          <p:cNvSpPr/>
          <p:nvPr/>
        </p:nvSpPr>
        <p:spPr>
          <a:xfrm rot="7825200">
            <a:off x="6450840" y="1423080"/>
            <a:ext cx="433440" cy="20016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37"/>
          <p:cNvSpPr/>
          <p:nvPr/>
        </p:nvSpPr>
        <p:spPr>
          <a:xfrm rot="2146200">
            <a:off x="5943240" y="2437920"/>
            <a:ext cx="420840" cy="23184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2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4" descr=""/>
          <p:cNvPicPr/>
          <p:nvPr/>
        </p:nvPicPr>
        <p:blipFill>
          <a:blip r:embed="rId4"/>
          <a:stretch/>
        </p:blipFill>
        <p:spPr>
          <a:xfrm>
            <a:off x="22860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5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"/>
          <p:cNvPicPr/>
          <p:nvPr/>
        </p:nvPicPr>
        <p:blipFill>
          <a:blip r:embed="rId6"/>
          <a:stretch/>
        </p:blipFill>
        <p:spPr>
          <a:xfrm>
            <a:off x="5486400" y="24382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7"/>
          <a:stretch/>
        </p:blipFill>
        <p:spPr>
          <a:xfrm>
            <a:off x="6248520" y="9907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8" descr=""/>
          <p:cNvPicPr/>
          <p:nvPr/>
        </p:nvPicPr>
        <p:blipFill>
          <a:blip r:embed="rId8"/>
          <a:stretch/>
        </p:blipFill>
        <p:spPr>
          <a:xfrm>
            <a:off x="1523880" y="12193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9" descr=""/>
          <p:cNvPicPr/>
          <p:nvPr/>
        </p:nvPicPr>
        <p:blipFill>
          <a:blip r:embed="rId9"/>
          <a:stretch/>
        </p:blipFill>
        <p:spPr>
          <a:xfrm>
            <a:off x="2286000" y="28954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"/>
          <p:cNvPicPr/>
          <p:nvPr/>
        </p:nvPicPr>
        <p:blipFill>
          <a:blip r:embed="rId10"/>
          <a:stretch/>
        </p:blipFill>
        <p:spPr>
          <a:xfrm>
            <a:off x="6705720" y="182880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"/>
          <p:cNvPicPr/>
          <p:nvPr/>
        </p:nvPicPr>
        <p:blipFill>
          <a:blip r:embed="rId11"/>
          <a:stretch/>
        </p:blipFill>
        <p:spPr>
          <a:xfrm>
            <a:off x="152280" y="251460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2"/>
          <p:cNvSpPr/>
          <p:nvPr/>
        </p:nvSpPr>
        <p:spPr>
          <a:xfrm>
            <a:off x="1205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0688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17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18306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4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663120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63867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9"/>
          <p:cNvSpPr/>
          <p:nvPr/>
        </p:nvSpPr>
        <p:spPr>
          <a:xfrm>
            <a:off x="6021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9-27T12:04:2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