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13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2CD1-C826-414A-84E5-E756F728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631-0533-44A3-9D25-586CCE96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EC3-DD35-46B8-B39B-9436C92C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DDE-7318-4B23-A2FF-E17EE194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3332-70E3-4397-9926-20688A53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331E-9A6D-4006-83F9-52F4743D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AF85-4680-4E38-98E4-E8A08FD3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6495-9C71-4516-9E55-A9E6F08F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6258-3C1C-4690-8B1A-8127CEA9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CBE0-4E0D-4D1E-978B-867784C6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E5D2-EC47-4223-AED8-EEED9FA3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3BE-EB3B-4F7D-A60F-2CAD6A8F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A671-9BC7-4B4C-9E5D-D9E1CD57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4427-30F5-4853-AD7A-26698463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0B6F-434B-4884-AC9C-3B1973F1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C24F-F60E-40E7-9D46-3D64E9F2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3763-2D35-4EF3-844C-92D995B2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1005A-5B37-46F3-9A00-CEE1A8E0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130B2-FC24-46C0-ACB2-BB20423D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FF000-3C65-474B-8D11-D9B4DB86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48099-1FEF-4E75-BDC5-24AAF8EC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51F8-9D2D-4330-B88F-5417CB20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BC3-F1B2-4E35-BFE6-96CEE63F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D3C26-BFE5-48BF-9595-D5891A0C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B851A-59EB-478C-8E37-550F3486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EC3B5-3302-40B8-9F56-4CEE8741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21190-7774-4169-9BC5-171130ED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BCE05-F524-442B-A158-2A8D353B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BB5A0-1954-45D5-B8F6-17785AF5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3F64D-8456-4C0A-9CCB-EF0389B5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1DE58-2F2B-455F-9E3F-913F14C8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FD833-E8DA-41B9-AEDB-E650B690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CF770-6626-4645-B49F-2A73239B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727-DC5A-4719-AFE2-659CB171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AB7C3-3D3D-4DEA-A52F-F8985490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EE5B2-6C17-4663-91D2-20BDBE85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C7B51-B91B-4B09-8700-9939ABD4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F8E9D-CA3F-4489-8E89-487E04C8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24315-1BB1-43A4-B101-412DA6A6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184B9-6E68-4B8A-88E9-A53EA90B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AE911-CF55-4C55-AAA8-B7CFB27E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8BF37-F736-467C-BCE3-AA4949DD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935E1-BEAF-4C26-8BA4-2BE9A8D1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FFA7F-D140-4632-9D26-0454E7D5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976-318C-41D2-B52E-93BD6510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AA418-3AFB-4921-8F9F-36ABB212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48751-51C7-4266-AFFA-ECD13F4A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DCC34-7250-4510-8FD4-83190B51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9BEBF-45ED-467C-8F27-92407BDB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D0EAB-37A7-4145-8A5C-6388E1DA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D9275-6139-4BEE-B9C1-A6E00484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C7D98-401C-48F4-BB3A-1A615D92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42D6C-BA51-4A74-9590-AC7F9374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E59B7-8A5B-4821-8ECF-B2390808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91E15-612A-412C-94F3-A01D1034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DED-D03B-47C4-8594-50EFDEAA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9F81F-9448-4E17-A8E9-D08E7FC0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6A3F1-AF09-419D-BB93-B5C0ADB1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F6D9A-2028-4578-9D16-359FA8C0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57B39-5472-45A2-AE14-EADD12AC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B007B-7E44-472E-BFA1-7E5832E9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80BE2-945D-487F-AEE9-61D48F38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93B31-1D9B-42E5-9144-55D72638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B63EF-EBFB-4C67-A7C3-75EBD324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7370B-4465-4D12-ACC1-F112F1F7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6937E-29D7-49AD-8931-2D28E1CC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E1E-49C6-455E-A6FB-E7CB4E79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EDD65-AFEC-40B4-9E06-914CA445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32FAA-5888-4DD8-8AC9-2DF48543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1EF9D-7851-4448-A291-2BF7E3DF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6C155-4A17-47D9-822E-EF2EB775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1F101-BD53-4BD3-B5EF-247B9C53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269D8-B13B-40C7-80BD-A6B6C687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64A0C-0866-4991-9118-2B291A7D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81E76-0EE6-44A4-84AC-27BA23CD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E6B78-1E16-4284-986B-969D5E86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4B360-40BF-446F-8E44-C164E2B9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EF1-A683-4E99-830C-8A43F996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595A8-B40E-48F8-A3B7-0C912A9B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1E6EB-20C6-40DC-A65C-C250781B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2EDD2-6DC9-438E-853E-0E573F9A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6D42F-8C6E-4F04-AE8D-D407885D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2BC4F-C9DA-4095-B282-5B8307C5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CF70-2B30-44C9-B682-C781B274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7860-AE48-4935-98BA-2F2380D45F54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3129-7534-4713-A784-DB4BB6E3D41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F0B1-F532-4C68-A4A1-2CD00B5724B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F434-F18C-4EC6-9EC4-5A2D896E7920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AD5E-6ED2-4555-8574-F36415E2085D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8F98-6A26-4929-97D3-DF535C0250BB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5E72-FF4C-46AB-9DBA-9F75DF7089A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Picture 2" descr="K:\Открытые уроки\004.jpg"/>
          <p:cNvPicPr/>
          <p:nvPr/>
        </p:nvPicPr>
        <p:blipFill>
          <a:blip r:embed="rId1"/>
          <a:stretch/>
        </p:blipFill>
        <p:spPr>
          <a:xfrm>
            <a:off x="928800" y="2428920"/>
            <a:ext cx="3809880" cy="3784680"/>
          </a:xfrm>
          <a:prstGeom prst="rect">
            <a:avLst/>
          </a:prstGeom>
          <a:ln w="0">
            <a:noFill/>
          </a:ln>
        </p:spPr>
      </p:pic>
      <p:pic>
        <p:nvPicPr>
          <p:cNvPr id="321" name="Прямоугольник 4" descr=""/>
          <p:cNvPicPr/>
          <p:nvPr/>
        </p:nvPicPr>
        <p:blipFill>
          <a:blip r:embed="rId2"/>
          <a:stretch/>
        </p:blipFill>
        <p:spPr>
          <a:xfrm>
            <a:off x="2054160" y="225360"/>
            <a:ext cx="6967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Corbel"/>
              </a:rPr>
              <a:t>Размин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600" y="1447560"/>
            <a:ext cx="3994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ть профессии на первую букву своего имен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3" descr="K:\Открытые уроки\785846.JPG"/>
          <p:cNvPicPr/>
          <p:nvPr/>
        </p:nvPicPr>
        <p:blipFill>
          <a:blip r:embed="rId1"/>
          <a:stretch/>
        </p:blipFill>
        <p:spPr>
          <a:xfrm>
            <a:off x="7000920" y="214200"/>
            <a:ext cx="1957320" cy="3568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K:\Открытые уроки\48216097_Teacher1.jpg"/>
          <p:cNvPicPr/>
          <p:nvPr/>
        </p:nvPicPr>
        <p:blipFill>
          <a:blip r:embed="rId2"/>
          <a:stretch/>
        </p:blipFill>
        <p:spPr>
          <a:xfrm>
            <a:off x="3929040" y="3143160"/>
            <a:ext cx="279396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89344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еобходимая для общества область приложения физических и духовных сил человека, дающая ему взамен приложенного им труда возможность существования и развития. (Социологический словарь)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(лат.professio) – род трудовой деятельности (занятий) человека, владеющего комплексом специальных теоретических знаний и практических навыков, приобретенных в результате специальной подготовки, опыта работы.(Словарь иностранных языков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WordArt 4"/>
          <p:cNvSpPr txBox="1"/>
          <p:nvPr/>
        </p:nvSpPr>
        <p:spPr>
          <a:xfrm>
            <a:off x="1116000" y="549360"/>
            <a:ext cx="66978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Профессия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507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еятельность, связанная с изучением требований, предъявляемых профессией к личностным качествам, психологическим способностям и физиологическим возможностям человека, уровню его образования и личного опыт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WordArt 4"/>
          <p:cNvSpPr txBox="1"/>
          <p:nvPr/>
        </p:nvSpPr>
        <p:spPr>
          <a:xfrm>
            <a:off x="2050920" y="54936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Профессиография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2" name="Picture 5" descr="1231067601_e2fbe1eef020eff0eef4e5f1f1e8e81"/>
          <p:cNvPicPr/>
          <p:nvPr/>
        </p:nvPicPr>
        <p:blipFill>
          <a:blip r:embed="rId1"/>
          <a:stretch/>
        </p:blipFill>
        <p:spPr>
          <a:xfrm>
            <a:off x="4932360" y="2136600"/>
            <a:ext cx="396072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434960" y="1484280"/>
            <a:ext cx="749952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исание особенностей определенной профессии, раскрывающее содержание профессионального труда, требований, которые она предъявляет человек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34" name="WordArt 4"/>
          <p:cNvGrpSpPr/>
          <p:nvPr/>
        </p:nvGrpSpPr>
        <p:grpSpPr>
          <a:xfrm>
            <a:off x="1609560" y="334800"/>
            <a:ext cx="7534440" cy="1170000"/>
            <a:chOff x="1609560" y="334800"/>
            <a:chExt cx="7534440" cy="1170000"/>
          </a:xfrm>
        </p:grpSpPr>
        <p:pic>
          <p:nvPicPr>
            <p:cNvPr id="335" name="WordArt 4" descr=""/>
            <p:cNvPicPr/>
            <p:nvPr/>
          </p:nvPicPr>
          <p:blipFill>
            <a:blip r:embed="rId1"/>
            <a:stretch/>
          </p:blipFill>
          <p:spPr>
            <a:xfrm>
              <a:off x="1609560" y="334800"/>
              <a:ext cx="75344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1630440" y="352440"/>
              <a:ext cx="7499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808080"/>
                  </a:solidFill>
                  <a:latin typeface="Times New Roman"/>
                  <a:ea typeface="Times New Roman"/>
                </a:rPr>
                <a:t>Профессиограмм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7" name="Picture 5" descr="9107211a9514d2a7c240ebbfbcd13850"/>
          <p:cNvPicPr/>
          <p:nvPr/>
        </p:nvPicPr>
        <p:blipFill>
          <a:blip r:embed="rId2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feldcher500"/>
          <p:cNvPicPr/>
          <p:nvPr/>
        </p:nvPicPr>
        <p:blipFill>
          <a:blip r:embed="rId3"/>
          <a:stretch/>
        </p:blipFill>
        <p:spPr>
          <a:xfrm>
            <a:off x="1763640" y="4221000"/>
            <a:ext cx="31035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Домашнее задание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844280"/>
            <a:ext cx="74995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дготовить презентацию по выбранным профессия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4" descr="j0195384"/>
          <p:cNvPicPr/>
          <p:nvPr/>
        </p:nvPicPr>
        <p:blipFill>
          <a:blip r:embed="rId1"/>
          <a:stretch/>
        </p:blipFill>
        <p:spPr>
          <a:xfrm>
            <a:off x="5148360" y="357336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компьютера</cp:lastModifiedBy>
  <dcterms:modified xsi:type="dcterms:W3CDTF">2010-02-03T11:23:33Z</dcterms:modified>
  <cp:revision>5</cp:revision>
  <dc:subject/>
  <dc:title>Слайд 1</dc:title>
</cp:coreProperties>
</file>