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media/image13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A6A-F35D-4649-84B3-3EC039F4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196-ECFA-4EBF-8079-6EABDE5F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F2A-F463-4D04-A6A6-818E7FAD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E65-824C-47BF-9D01-1704B62B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0CFE-9894-433E-96AA-93A87E87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C3EE-0EAC-4C78-BFF4-3906B035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16E-8795-458D-8AA9-8FD326ED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460D-84C0-413A-9778-8173D901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8D2E-FAF5-49ED-B4F7-90001C79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468E-799E-4E99-857B-9A7DCCE8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5B3A-ED29-4F18-88E7-DCCA84DB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2B7-D519-44FC-99D1-19936F38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4542-A4A5-44CD-87EA-E6B03B39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CCBB-9D76-4201-96FB-B6B820B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43D9-6829-4B8E-B64D-A4A26666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D061-AD55-40EE-8F3B-29276A6F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D42C-7A54-45F0-A388-2B89BDEE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476F-B953-4475-86D7-CCE13618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6D2B-1CEE-4B96-A537-B7AB8BC3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2983-BACC-4BF8-B1B7-5F60F2EB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0688-05B8-4F06-B9F5-525E9B9C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C8CFA-2F02-4B46-BB6E-382147A8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F34-761C-4AE6-B7EF-E48FE3E8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435E-B501-42C3-B475-0B115F6D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39D08-D8F3-4BB6-9E71-DE0E1A14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D780-BCD1-4D11-BC00-F0756CAC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870B-B467-46D7-9893-97D9D452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C199-342C-4B29-8F02-2D48D2BF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8D96-856C-4B89-86DC-7DA06B82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FAAA-3A7D-4BD2-8FC0-75462E99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0792-5B9A-45D4-81C9-09D53287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C34C-4085-42CC-B392-52D56752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0435F-1907-446B-A07A-6D26B9C6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7C8-183D-48E0-A6D3-1587DD60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ED6AA-3B51-4B60-B597-A15D4822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7CB6-3CD7-49A1-9A56-12677E75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B3DE7-C524-45F8-B9F3-018487E1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36BD-5C6B-4A19-8D74-535CD46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F96A3-EF63-4AED-B203-17A84DE9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DDEE3-8140-426A-8330-88C22098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0C88-B5A8-4C8B-8BD4-502C8AD1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A0050-EFC2-41B3-A4A6-59A79D04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0A34-5EE4-428C-977D-A1A79E5A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771FB-5449-4629-8E82-561C9A9C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AE4-B3D0-494F-ADF9-4A3C15E3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1C101-DE79-4921-8E3C-079C6ECF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30C5-85DF-441C-AF91-22201137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BD45E-7121-48C4-A1CA-EE1E76A2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1568-E1B4-4B08-BED2-0E9EF8ED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C4BC7-6E8A-451E-AA73-3DDD0206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7F8AF-2877-4C1A-9107-5A30A1A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0E188-CDA1-4BF8-A7C7-12FC1D6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42272-A60F-448E-A0C1-F2680C4A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B6A6C-7569-48C3-B18E-C75F431D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A14C-B196-4910-9500-94A221A2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1D9-2438-47EB-9563-89263BE0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53D85-87C1-49AD-96DE-217C1CB5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2F9EB-BA40-4F32-97C1-1FA58CA5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729AC-1176-4979-AA88-D9857AD1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BC526-9E22-45A0-AD4C-EBFD8BB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6525D-A31B-429D-A163-76686A13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E4C52-4824-426C-A3C6-CEA77F63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E541E-F14D-43BB-9140-557857EB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8F22-5E0F-4FAF-A084-79A9156E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31481-5F85-4A64-889D-C58DE303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C05DC-5ADD-43B3-AF47-E6DED8BF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1F8-42B2-46B5-9B5F-00C10AC8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1DAD6-3D18-42D3-A4A1-67978E88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23172-2023-440B-8EE9-EC98A2F5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F13CA-C671-494C-8938-FEA167F6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983BC-A558-4C54-AF16-635C69B2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274F1-3DF8-42EB-9004-E293BD5E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C249-43B0-4396-A75F-7AF96EF8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6C3CB-21E9-4859-BC0C-E6063A2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8EDD6-F1D2-43EB-BA7A-1D76FC1A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E0438-6FD8-499D-87D6-23D46349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2963A-FCAB-48A8-BE71-74E4151A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4AA-D453-41D4-87BD-2F8E1ABF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1E593-B21A-4B94-B1F9-20025D64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D6E70-BCAB-4F1A-806D-28F2A724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CD6F9-CB1B-4BAD-A156-B87362A7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14CC9-5E29-4AB8-9643-9EB280BA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985D7-079B-4F07-818C-7370A95B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1E7-EC5B-4BD4-AFDD-5A154E64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5835-55AB-46AF-A695-D0F735C74D3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3579-18FB-4B9A-BD4B-A24E6C34C86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1C31-D911-45BF-A6CA-80D23825BE7B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166A-6E30-47BE-AB17-8862125596C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57BB-99A1-49E4-BDFB-3F53F5109C62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E02F-E416-428E-BA41-9653CE718CB7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CCAB-7A7B-49CB-AB34-E462AF97993F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K:\Открытые уроки\004.jpg"/>
          <p:cNvPicPr/>
          <p:nvPr/>
        </p:nvPicPr>
        <p:blipFill>
          <a:blip r:embed="rId1"/>
          <a:stretch/>
        </p:blipFill>
        <p:spPr>
          <a:xfrm>
            <a:off x="928800" y="2428920"/>
            <a:ext cx="3809880" cy="378468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4" descr=""/>
          <p:cNvPicPr/>
          <p:nvPr/>
        </p:nvPicPr>
        <p:blipFill>
          <a:blip r:embed="rId2"/>
          <a:stretch/>
        </p:blipFill>
        <p:spPr>
          <a:xfrm>
            <a:off x="2054160" y="225360"/>
            <a:ext cx="6967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Corbel"/>
              </a:rPr>
              <a:t>Размин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600" y="1447560"/>
            <a:ext cx="3994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ть профессии на первую букву своего име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3" descr="K:\Открытые уроки\785846.JPG"/>
          <p:cNvPicPr/>
          <p:nvPr/>
        </p:nvPicPr>
        <p:blipFill>
          <a:blip r:embed="rId1"/>
          <a:stretch/>
        </p:blipFill>
        <p:spPr>
          <a:xfrm>
            <a:off x="7000920" y="214200"/>
            <a:ext cx="1957320" cy="3568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K:\Открытые уроки\48216097_Teacher1.jpg"/>
          <p:cNvPicPr/>
          <p:nvPr/>
        </p:nvPicPr>
        <p:blipFill>
          <a:blip r:embed="rId2"/>
          <a:stretch/>
        </p:blipFill>
        <p:spPr>
          <a:xfrm>
            <a:off x="3929040" y="3143160"/>
            <a:ext cx="279396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9344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еобходимая для общества область приложения физических и духовных сил человека, дающая ему взамен приложенного им труда возможность существования и развития. (Социологический словарь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 (лат.professio) – род трудовой деятельности (занятий) человека, владеющего комплексом специальных теоретических знаний и практических навыков, приобретенных в результате специальной подготовки, опыта работы.(Словарь иностранных языков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1116000" y="549360"/>
            <a:ext cx="6697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Професс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07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ятельность, связанная с изучением требований, предъявляемых профессией к личностным качествам, психологическим способностям и физиологическим возможностям человека, уровню его образования и личного опыт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2050920" y="54936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Профессиография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2" name="Picture 5" descr="1231067601_e2fbe1eef020eff0eef4e5f1f1e8e81"/>
          <p:cNvPicPr/>
          <p:nvPr/>
        </p:nvPicPr>
        <p:blipFill>
          <a:blip r:embed="rId1"/>
          <a:stretch/>
        </p:blipFill>
        <p:spPr>
          <a:xfrm>
            <a:off x="4932360" y="2136600"/>
            <a:ext cx="39607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1434960" y="1484280"/>
            <a:ext cx="74995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исание особенностей определенной профессии, раскрывающее содержание профессионального труда, требований, которые она предъявляет челове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34" name="WordArt 4"/>
          <p:cNvGrpSpPr/>
          <p:nvPr/>
        </p:nvGrpSpPr>
        <p:grpSpPr>
          <a:xfrm>
            <a:off x="1609560" y="334800"/>
            <a:ext cx="7534440" cy="1170000"/>
            <a:chOff x="1609560" y="334800"/>
            <a:chExt cx="7534440" cy="1170000"/>
          </a:xfrm>
        </p:grpSpPr>
        <p:pic>
          <p:nvPicPr>
            <p:cNvPr id="335" name="WordArt 4" descr=""/>
            <p:cNvPicPr/>
            <p:nvPr/>
          </p:nvPicPr>
          <p:blipFill>
            <a:blip r:embed="rId1"/>
            <a:stretch/>
          </p:blipFill>
          <p:spPr>
            <a:xfrm>
              <a:off x="1609560" y="334800"/>
              <a:ext cx="75344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630440" y="352440"/>
              <a:ext cx="7499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рофессиограмм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7" name="Picture 5" descr="9107211a9514d2a7c240ebbfbcd13850"/>
          <p:cNvPicPr/>
          <p:nvPr/>
        </p:nvPicPr>
        <p:blipFill>
          <a:blip r:embed="rId2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feldcher500"/>
          <p:cNvPicPr/>
          <p:nvPr/>
        </p:nvPicPr>
        <p:blipFill>
          <a:blip r:embed="rId3"/>
          <a:stretch/>
        </p:blipFill>
        <p:spPr>
          <a:xfrm>
            <a:off x="1763640" y="4221000"/>
            <a:ext cx="31035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Домашнее зад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готовить презентацию по выбранным профессия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4" descr="j0195384"/>
          <p:cNvPicPr/>
          <p:nvPr/>
        </p:nvPicPr>
        <p:blipFill>
          <a:blip r:embed="rId1"/>
          <a:stretch/>
        </p:blipFill>
        <p:spPr>
          <a:xfrm>
            <a:off x="5148360" y="357336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компьютера</cp:lastModifiedBy>
  <dcterms:modified xsi:type="dcterms:W3CDTF">2010-02-03T11:23:33Z</dcterms:modified>
  <cp:revision>5</cp:revision>
  <dc:subject/>
  <dc:title>Слайд 1</dc:title>
</cp:coreProperties>
</file>