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C91-29A9-4C96-BD28-43D37DE5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070-7E07-47AD-9091-2955EAC5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FEB-7ADF-43A0-A06E-88BF00D7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E3E-25A1-4213-96BD-CE969B34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E408-24E2-4F74-B52A-FCCCB9ED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F14-26B1-4304-9841-CCB2EF49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6E2-C985-4DDF-AD48-77FBFE90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C32-3D5F-4185-AF16-48352599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7344-6E76-410B-9371-DAEEC24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D3E-470B-4366-AB4A-78853A20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143-3B99-4B0F-B2D3-FB7D4F8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56A-C035-4B99-AB56-21FA43E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A184-07EF-4EB7-9387-825D3CA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9F2E-5CAB-4C6A-9986-D533681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FAEF-F746-4943-A289-747C5F1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8AA4-A848-45B5-9E61-2332371D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9CD-2C9A-4223-BD6C-7CE93708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431C-221F-4FDF-BDA3-C87525D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F0D1-16D7-4D0B-8F62-F02AC8D0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D055-5220-4043-9636-DC083CA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6151-0986-45CE-A4B6-4DD33F7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6B6B-4B3E-4D0D-83AD-74E4DFD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352-6B6F-4E74-B5CF-2818B7BF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2162-311D-4989-AEED-80D219E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4CA4-5320-454D-8EC1-0A76B6D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F6EF-4891-4A33-AFE2-C59278A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4143-5346-4260-8117-7C3546F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A839-559D-468F-855D-FE0D07A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E0DC-306A-4B9D-9255-FB789700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F84E-E5A0-42DE-A696-F47A2C90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23F9-A709-43A3-9CF3-92D4C413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7B14-B3B0-4F7D-86F5-18905036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A2E30-4FCE-4089-9E2B-F0454FC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EE5-1C53-49D7-B29F-2106422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D995-5A24-4D0E-AF1F-03408A78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82A5-83BC-4B3F-9BEE-1C21A0C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F8A3-683C-4EC3-82F1-227544EF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6FB3-29CF-4E74-B65B-4FE0756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3467-965E-4C24-8D52-535AF5B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B3E5-55D3-4330-AE82-49FB3A3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8D7B-4B07-40FF-A880-825BB165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D5D6-1645-4EAE-B810-712E4152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FAAA-66A3-4F15-8E8C-85C926D1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E095-F3A6-43E2-8BF6-A6FD411F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A5C-650E-4421-93D5-C8D786FD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7CAA-9914-4B2F-AD52-2C7EC97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E4BC-AF8D-47A6-99C4-6903C6C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84F31-F4E2-4AE4-8FEA-17118068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F06C-1102-45D2-8B1A-2D7D771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92A2-2663-4F33-BB0C-5FA9D78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6003-ECDB-4862-85E8-32F7782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206F-8C00-436C-A055-FA31822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720F-5B9E-4C64-ADA4-FE3665A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521A-D232-4C5C-BA6E-3E8603C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E9A4-1FA4-4C00-BB48-E23F4EB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545-A192-4E09-B448-93A029D5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6A73-8BB7-432B-885F-19EF4407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E456E-629A-46A9-B6EE-80514C61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681D-FFFC-440C-AB66-BF22F884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718C-0E94-4D94-B0C1-15EB456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BDAE-B809-4009-A9BE-17944C0B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7529A-8E8F-4A76-851F-5BDE445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826D-D506-401E-BB48-A87A2EE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5409-FD2D-45AD-9A71-F8EB30D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CDA7-BFE9-46BB-A948-A08A8DC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0268-A215-4219-AD73-BEB846E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C74-0BE9-41AA-91C0-33B265A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80B9-709A-433A-83E0-A821F76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B651-8FFC-44ED-B3CD-145514E0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DEC3-9860-4388-AB52-1BA136D6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C960-3F35-41B6-B1CF-B727819E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47C1-7766-4FB0-AE81-99965C64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9CC6-8C7E-49EB-ADED-3BBEE6E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B073-6A1F-4025-B5AB-2F31C825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6CDC1-EABD-49E7-8245-F5885D5A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764D-DF18-400A-8FBC-6AD0BEA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4E1E-CA7B-4595-95C9-F308E04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915-28FD-4CE1-92E3-B5E6B53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4EAF-F245-44F0-AEE2-7CC5EC9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F9853-27DF-4AA1-8177-DC35B8B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9137-C70C-4578-A0B6-1ABA00A1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E297-8ABC-4E94-9479-A4350FE2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F488A-160E-4D6C-BC26-43000418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E92-B90A-43C1-899E-0C7E3E6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AE8F-3709-49B7-95D0-04981B150A5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4B6-DD2B-45B2-B53C-B91D83593DE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25C5-83BC-4BEA-B4D4-3EFD33E5060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4984-5CFB-42FC-8F4E-5556A99B72F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DBC-F869-47C9-9918-540F6420209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C37B-C194-45E6-905B-54C8259D656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E78-ECEB-4F23-BA01-6FEB357FCA6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Открытые уроки\004.jpg"/>
          <p:cNvPicPr/>
          <p:nvPr/>
        </p:nvPicPr>
        <p:blipFill>
          <a:blip r:embed="rId1"/>
          <a:stretch/>
        </p:blipFill>
        <p:spPr>
          <a:xfrm>
            <a:off x="928800" y="2428920"/>
            <a:ext cx="3809880" cy="37846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225360"/>
            <a:ext cx="696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rbel"/>
              </a:rPr>
              <a:t>Разми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600" y="1447560"/>
            <a:ext cx="3994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профессии на первую букву своего име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3" descr="K:\Открытые уроки\785846.JPG"/>
          <p:cNvPicPr/>
          <p:nvPr/>
        </p:nvPicPr>
        <p:blipFill>
          <a:blip r:embed="rId1"/>
          <a:stretch/>
        </p:blipFill>
        <p:spPr>
          <a:xfrm>
            <a:off x="7000920" y="214200"/>
            <a:ext cx="1957320" cy="356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K:\Открытые уроки\48216097_Teacher1.jpg"/>
          <p:cNvPicPr/>
          <p:nvPr/>
        </p:nvPicPr>
        <p:blipFill>
          <a:blip r:embed="rId2"/>
          <a:stretch/>
        </p:blipFill>
        <p:spPr>
          <a:xfrm>
            <a:off x="3929040" y="3143160"/>
            <a:ext cx="27939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344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обходимая для общества область приложения физических и духовных сил человека, дающая ему взамен приложенного им труда возможность существования и развития. (Социологический словарь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(лат.professio) – род трудовой деятельности (занятий) человека, владеющего комплексом специальных теоретических знаний и практических навыков, приобретенных в результате специальной подготовки, опыта работы.(Словарь иностранных языков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1116000" y="54936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ятельность, связанная с изучением требований, предъявляемых профессией к личностным качествам, психологическим способностям и физиологическим возможностям человека, уровню его образования и личного опы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2050920" y="54936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ограф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2" name="Picture 5" descr="1231067601_e2fbe1eef020eff0eef4e5f1f1e8e81"/>
          <p:cNvPicPr/>
          <p:nvPr/>
        </p:nvPicPr>
        <p:blipFill>
          <a:blip r:embed="rId1"/>
          <a:stretch/>
        </p:blipFill>
        <p:spPr>
          <a:xfrm>
            <a:off x="4932360" y="2136600"/>
            <a:ext cx="39607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434960" y="1484280"/>
            <a:ext cx="74995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исание особенностей определенной профессии, раскрывающее содержание профессионального труда, требований, которые она предъявляет челове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4" name="WordArt 4"/>
          <p:cNvGrpSpPr/>
          <p:nvPr/>
        </p:nvGrpSpPr>
        <p:grpSpPr>
          <a:xfrm>
            <a:off x="1609560" y="334800"/>
            <a:ext cx="7534440" cy="1170000"/>
            <a:chOff x="1609560" y="334800"/>
            <a:chExt cx="7534440" cy="1170000"/>
          </a:xfrm>
        </p:grpSpPr>
        <p:pic>
          <p:nvPicPr>
            <p:cNvPr id="335" name="WordArt 4" descr=""/>
            <p:cNvPicPr/>
            <p:nvPr/>
          </p:nvPicPr>
          <p:blipFill>
            <a:blip r:embed="rId1"/>
            <a:stretch/>
          </p:blipFill>
          <p:spPr>
            <a:xfrm>
              <a:off x="1609560" y="334800"/>
              <a:ext cx="75344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630440" y="352440"/>
              <a:ext cx="7499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рофессиограм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5" descr="9107211a9514d2a7c240ebbfbcd13850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feldcher500"/>
          <p:cNvPicPr/>
          <p:nvPr/>
        </p:nvPicPr>
        <p:blipFill>
          <a:blip r:embed="rId3"/>
          <a:stretch/>
        </p:blipFill>
        <p:spPr>
          <a:xfrm>
            <a:off x="1763640" y="4221000"/>
            <a:ext cx="31035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готовить презентацию по выбранным профессия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j0195384"/>
          <p:cNvPicPr/>
          <p:nvPr/>
        </p:nvPicPr>
        <p:blipFill>
          <a:blip r:embed="rId1"/>
          <a:stretch/>
        </p:blipFill>
        <p:spPr>
          <a:xfrm>
            <a:off x="5148360" y="35733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компьютера</cp:lastModifiedBy>
  <dcterms:modified xsi:type="dcterms:W3CDTF">2010-02-03T11:23:33Z</dcterms:modified>
  <cp:revision>5</cp:revision>
  <dc:subject/>
  <dc:title>Слайд 1</dc:title>
</cp:coreProperties>
</file>