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16B-45CF-4081-AF16-8C0F57D1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6F7-107D-4037-9B77-1C307A49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571-071E-42AD-B39A-633CA6A1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BF2-863C-4AF7-8658-915A10AE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87B8-EB9D-49B4-B0AA-B42FE375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7805-5910-41A2-9054-3792C9EC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008F-AC52-41F8-BA66-0BE2D23E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469D-9ED0-4C6B-BCD7-FB59EDBB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3C90-30C0-429E-B88E-ACBD3B26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2904-3F2D-4A76-91CB-BF10A7FC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208E-8070-426B-9293-2CF1D5AC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12B-6079-448A-8899-B5649083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92FE-3DA0-42E6-AAA1-F25E8C20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E236-5C9E-4526-AB8B-F2BD0833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4531-D612-4CD7-AB17-F34619EA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E87D-C15D-4CFE-ACE5-FCD53FE1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2B00-9A8B-4C30-BAD5-BCAD4996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FC9-78EB-406A-A069-2C955575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044-1B4E-4FE1-B559-85461020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C50-69C0-4264-85EF-2BC748AD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716-6A57-48C6-8D18-7A94100C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9EF-344F-4318-9666-F45B24F2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1A2-B6A2-4EFC-99BC-A8CFC04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989-0C29-4E3E-B6F0-E62B6F1A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3919-B161-4D60-A92A-5931305EC7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c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5113-38D7-4CC7-9E76-96C9A22D3E6B}" type="slidenum">
              <a:rPr b="0" lang="ru-RU" sz="1200" spc="-1" strike="noStrike">
                <a:solidFill>
                  <a:srgbClr val="0000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WordArt 6"/>
          <p:cNvSpPr txBox="1"/>
          <p:nvPr/>
        </p:nvSpPr>
        <p:spPr>
          <a:xfrm>
            <a:off x="611280" y="1268280"/>
            <a:ext cx="7812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спрягаемые глаголы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47280" y="277920"/>
            <a:ext cx="7139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3300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58560" y="159984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олч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– 2 спряжение, определяем по окончанию, которое в этом слове под ударение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шь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е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исовать, отдавать, накрыв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– 1 спряжение, определяем по суффиксу неопределённой формы глагол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8675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92000" y="277920"/>
            <a:ext cx="69944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3300"/>
                </a:solidFill>
                <a:latin typeface="Garamond"/>
              </a:rPr>
              <a:t>«Четвёртый лишний»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763640" y="170028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ол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1692360" y="321300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Беж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5724360" y="321300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ор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2" name="AutoShape 11"/>
          <p:cNvSpPr/>
          <p:nvPr/>
        </p:nvSpPr>
        <p:spPr>
          <a:xfrm>
            <a:off x="5724360" y="170028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ри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1692360" y="4869000"/>
            <a:ext cx="2374920" cy="79200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f4f9"/>
                </a:solidFill>
                <a:latin typeface="Arial"/>
              </a:rPr>
              <a:t>Подсказка</a:t>
            </a:r>
            <a:r>
              <a:rPr b="0" lang="ru-RU" sz="2400" spc="-1" strike="noStrike">
                <a:solidFill>
                  <a:srgbClr val="faf4f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5580000" y="4869000"/>
            <a:ext cx="2879640" cy="792000"/>
          </a:xfrm>
          <a:prstGeom prst="hexagon">
            <a:avLst>
              <a:gd name="adj" fmla="val 90898"/>
              <a:gd name="vf" fmla="val 115470"/>
            </a:avLst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4f9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47280" y="76500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Поставьте эти глаголы </a:t>
            </a:r>
            <a:br>
              <a:rPr sz="4200"/>
            </a:b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в форму 3 лица единственного и множественного числа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pic>
        <p:nvPicPr>
          <p:cNvPr id="277" name="Picture 5" descr="d5828bf99d3a4d00359dddbb7b95778c"/>
          <p:cNvPicPr/>
          <p:nvPr/>
        </p:nvPicPr>
        <p:blipFill>
          <a:blip r:embed="rId2"/>
          <a:stretch/>
        </p:blipFill>
        <p:spPr>
          <a:xfrm>
            <a:off x="1835280" y="47242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d5828bf99d3a4d00359dddbb7b95778c"/>
          <p:cNvPicPr/>
          <p:nvPr/>
        </p:nvPicPr>
        <p:blipFill>
          <a:blip r:embed="rId3"/>
          <a:stretch/>
        </p:blipFill>
        <p:spPr>
          <a:xfrm>
            <a:off x="1835280" y="566100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294edfc6fd31efe82b3db48fddb2499"/>
          <p:cNvPicPr/>
          <p:nvPr/>
        </p:nvPicPr>
        <p:blipFill>
          <a:blip r:embed="rId4"/>
          <a:stretch/>
        </p:blipFill>
        <p:spPr>
          <a:xfrm>
            <a:off x="2771640" y="566100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6aef4b57d0dfa88c16a174bbdc817349"/>
          <p:cNvPicPr/>
          <p:nvPr/>
        </p:nvPicPr>
        <p:blipFill>
          <a:blip r:embed="rId5"/>
          <a:stretch/>
        </p:blipFill>
        <p:spPr>
          <a:xfrm>
            <a:off x="2340000" y="47242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6aef4b57d0dfa88c16a174bbdc817349"/>
          <p:cNvPicPr/>
          <p:nvPr/>
        </p:nvPicPr>
        <p:blipFill>
          <a:blip r:embed="rId6"/>
          <a:stretch/>
        </p:blipFill>
        <p:spPr>
          <a:xfrm>
            <a:off x="2268360" y="5661000"/>
            <a:ext cx="571680" cy="476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0"/>
          <p:cNvSpPr/>
          <p:nvPr/>
        </p:nvSpPr>
        <p:spPr>
          <a:xfrm>
            <a:off x="3132000" y="4581360"/>
            <a:ext cx="3384720" cy="648000"/>
          </a:xfrm>
          <a:prstGeom prst="rect">
            <a:avLst/>
          </a:prstGeom>
          <a:solidFill>
            <a:srgbClr val="faf4f9"/>
          </a:solidFill>
          <a:ln w="9360">
            <a:solidFill>
              <a:srgbClr val="faf4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что делает?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348000" y="5516640"/>
            <a:ext cx="3384720" cy="647640"/>
          </a:xfrm>
          <a:prstGeom prst="rect">
            <a:avLst/>
          </a:prstGeom>
          <a:solidFill>
            <a:srgbClr val="faf4f9"/>
          </a:solidFill>
          <a:ln w="9360">
            <a:solidFill>
              <a:srgbClr val="faf4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что делают?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4" name="AutoShape 12"/>
          <p:cNvSpPr/>
          <p:nvPr/>
        </p:nvSpPr>
        <p:spPr>
          <a:xfrm>
            <a:off x="824400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51120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Беж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н беж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но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ни бег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56000" y="2852640"/>
            <a:ext cx="3888000" cy="576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c0c"/>
                </a:solidFill>
                <a:latin typeface="Arial"/>
              </a:rPr>
              <a:t>окончание 2 спряже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357800" y="4286160"/>
            <a:ext cx="3887640" cy="576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c0c"/>
                </a:solidFill>
                <a:latin typeface="Arial"/>
              </a:rPr>
              <a:t>окончание 1 спряже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416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С каким подобным лингвистическим явлением мы уже встречались при изучении имени существительного?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1187280" y="3429000"/>
            <a:ext cx="7848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Разносклоняемые существительные: десять существительных на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-мя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 и существительные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путь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 и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дитя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.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8101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Как можно назвать глагол </a:t>
            </a: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бежать</a:t>
            </a: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, если он совмещает окончания </a:t>
            </a:r>
            <a:br>
              <a:rPr sz="4200"/>
            </a:b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1 и 2 спряжения?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1476360" y="3645000"/>
            <a:ext cx="720108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cc"/>
                </a:solidFill>
                <a:latin typeface="Garamond"/>
              </a:rPr>
              <a:t>РАЗНОСПРЯГАЕМЫМ</a:t>
            </a:r>
            <a:r>
              <a:rPr b="0" lang="ru-RU" sz="3800" spc="-1" strike="noStrike">
                <a:solidFill>
                  <a:srgbClr val="a40c0c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40c0c"/>
                </a:solidFill>
                <a:latin typeface="Garamond"/>
              </a:rPr>
              <a:t>Изучение нового материал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Откройте учебник (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  <a:ea typeface="Times New Roman"/>
              </a:rPr>
              <a:t>§ 81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), рассмотрите таблицу, докажите, что глаголы </a:t>
            </a:r>
            <a:r>
              <a:rPr b="1" lang="ru-RU" sz="4200" spc="-1" strike="noStrike">
                <a:solidFill>
                  <a:srgbClr val="0000cc"/>
                </a:solidFill>
                <a:latin typeface="Garamond"/>
              </a:rPr>
              <a:t>хотеть 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и </a:t>
            </a:r>
            <a:r>
              <a:rPr b="1" lang="ru-RU" sz="4200" spc="-1" strike="noStrike">
                <a:solidFill>
                  <a:srgbClr val="0000cc"/>
                </a:solidFill>
                <a:latin typeface="Garamond"/>
              </a:rPr>
              <a:t>бежать 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являются разноспрягаемыми.</a:t>
            </a: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4390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Garamond"/>
              </a:rPr>
              <a:t>Спряжение глагола </a:t>
            </a:r>
            <a:r>
              <a:rPr b="1" i="1" lang="ru-RU" sz="5100" spc="-1" strike="noStrike">
                <a:solidFill>
                  <a:srgbClr val="424456"/>
                </a:solidFill>
                <a:latin typeface="Comic Sans MS"/>
              </a:rPr>
              <a:t>хотеть</a:t>
            </a:r>
            <a:endParaRPr b="0" lang="en-US" sz="51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32000" y="1268280"/>
            <a:ext cx="7283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я   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хочу</a:t>
            </a:r>
            <a:r>
              <a:rPr b="0" lang="ru-RU" sz="5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ты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хоч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е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шь </a:t>
            </a:r>
            <a:endParaRPr b="0" lang="en-US" sz="51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 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хоч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е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т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мы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хот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м</a:t>
            </a:r>
            <a:endParaRPr b="0" lang="en-US" sz="51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вы 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хот</a:t>
            </a:r>
            <a:r>
              <a:rPr b="0" lang="ru-RU" sz="58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те</a:t>
            </a: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и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хот</a:t>
            </a:r>
            <a:r>
              <a:rPr b="0" lang="ru-RU" sz="5800" spc="-1" strike="noStrike">
                <a:solidFill>
                  <a:srgbClr val="cc0000"/>
                </a:solidFill>
                <a:latin typeface="Comic Sans MS"/>
              </a:rPr>
              <a:t>я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т</a:t>
            </a: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659640" y="2421000"/>
            <a:ext cx="2127240" cy="1368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6643800" y="4143240"/>
            <a:ext cx="2125440" cy="230364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4500"/>
                            </p:stCondLst>
                            <p:childTnLst>
                              <p:par>
                                <p:cTn id="7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500"/>
                            </p:stCondLst>
                            <p:childTnLst>
                              <p:par>
                                <p:cTn id="7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2835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Garamond"/>
              </a:rPr>
              <a:t>Спряжение глагола </a:t>
            </a:r>
            <a:r>
              <a:rPr b="1" i="1" lang="ru-RU" sz="5100" spc="-1" strike="noStrike">
                <a:solidFill>
                  <a:srgbClr val="424456"/>
                </a:solidFill>
                <a:latin typeface="Comic Sans MS"/>
              </a:rPr>
              <a:t>бежать</a:t>
            </a:r>
            <a:endParaRPr b="0" lang="en-US" sz="51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03280" y="1052280"/>
            <a:ext cx="735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я   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бегу</a:t>
            </a:r>
            <a:r>
              <a:rPr b="0" lang="ru-RU" sz="58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ты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беж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шь </a:t>
            </a:r>
            <a:endParaRPr b="0" lang="en-US" sz="51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 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беж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т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мы          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беж</a:t>
            </a:r>
            <a:r>
              <a:rPr b="0" lang="ru-RU" sz="51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100" spc="-1" strike="noStrike">
                <a:solidFill>
                  <a:srgbClr val="006600"/>
                </a:solidFill>
                <a:latin typeface="Comic Sans MS"/>
              </a:rPr>
              <a:t>м</a:t>
            </a:r>
            <a:endParaRPr b="0" lang="en-US" sz="51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вы 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беж</a:t>
            </a:r>
            <a:r>
              <a:rPr b="0" lang="ru-RU" sz="58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те</a:t>
            </a: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и          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бег</a:t>
            </a:r>
            <a:r>
              <a:rPr b="0" lang="ru-RU" sz="5800" spc="-1" strike="noStrike">
                <a:solidFill>
                  <a:srgbClr val="cc0000"/>
                </a:solidFill>
                <a:latin typeface="Comic Sans MS"/>
              </a:rPr>
              <a:t>у</a:t>
            </a:r>
            <a:r>
              <a:rPr b="0" lang="ru-RU" sz="5800" spc="-1" strike="noStrike">
                <a:solidFill>
                  <a:srgbClr val="006600"/>
                </a:solidFill>
                <a:latin typeface="Comic Sans MS"/>
              </a:rPr>
              <a:t>т     </a:t>
            </a: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7000920" y="5661000"/>
            <a:ext cx="1857240" cy="792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7020000" y="2276640"/>
            <a:ext cx="1871640" cy="295272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р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000"/>
                            </p:stCondLst>
                            <p:childTnLst>
                              <p:par>
                                <p:cTn id="8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0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6000"/>
                            </p:stCondLst>
                            <p:childTnLst>
                              <p:par>
                                <p:cTn id="8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8000"/>
                            </p:stCondLst>
                            <p:childTnLst>
                              <p:par>
                                <p:cTn id="8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9000"/>
                            </p:stCondLst>
                            <p:childTnLst>
                              <p:par>
                                <p:cTn id="8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63280" y="170028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Обратите внимание на окончания глаголов </a:t>
            </a:r>
            <a:r>
              <a:rPr b="1" lang="ru-RU" sz="5400" spc="-1" strike="noStrike">
                <a:solidFill>
                  <a:srgbClr val="a40c0c"/>
                </a:solidFill>
                <a:latin typeface="Garamond"/>
              </a:rPr>
              <a:t>есть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 и </a:t>
            </a:r>
            <a:r>
              <a:rPr b="1" lang="ru-RU" sz="5400" spc="-1" strike="noStrike">
                <a:solidFill>
                  <a:srgbClr val="a40c0c"/>
                </a:solidFill>
                <a:latin typeface="Garamond"/>
              </a:rPr>
              <a:t>дать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 в единственном числе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308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Цель:</a:t>
            </a:r>
            <a:r>
              <a:rPr b="0" lang="ru-RU" sz="38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98080" y="1087200"/>
            <a:ext cx="794556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азвить навыки правописания безударных личных окончаний в глаголах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ознакомить учащихся с разноспрягаемыми и особо спрягаемыми глаголами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ассмотреть лексическое значение разноспрягаемых глаголов, расширить словарный запас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50096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Спряжение глаголов </a:t>
            </a:r>
            <a:r>
              <a:rPr b="1" i="1" lang="ru-RU" sz="4000" spc="-1" strike="noStrike">
                <a:solidFill>
                  <a:srgbClr val="a40c0c"/>
                </a:solidFill>
                <a:latin typeface="Times New Roman"/>
              </a:rPr>
              <a:t>есть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и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a40c0c"/>
                </a:solidFill>
                <a:latin typeface="Times New Roman"/>
              </a:rPr>
              <a:t>дать</a:t>
            </a:r>
            <a:endParaRPr b="0" lang="en-US" sz="40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777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я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4700" spc="-1" strike="noStrike">
                <a:solidFill>
                  <a:srgbClr val="0000cc"/>
                </a:solidFill>
                <a:latin typeface="Comic Sans MS"/>
              </a:rPr>
              <a:t>          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4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ты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шь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             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шь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ст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ст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мы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м 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м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вы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е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е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и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я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   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у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00"/>
                </a:solidFill>
                <a:latin typeface="Comic Sans MS"/>
              </a:rPr>
              <a:t>  </a:t>
            </a:r>
            <a:endParaRPr b="0" lang="en-US" sz="4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32000" y="11556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40c0c"/>
                </a:solidFill>
                <a:latin typeface="Garamond"/>
              </a:rPr>
              <a:t>Являются ли такие окончания типичными для глаголов?</a:t>
            </a:r>
            <a:endParaRPr b="0" lang="en-US" sz="44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3280" y="2707920"/>
            <a:ext cx="73548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акие окончания являются архаическими, устаревшими, поэтому данные глаголы (и образованные от них однокоренные глаголы) называю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о спрягаемыми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489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40c0c"/>
                </a:solidFill>
                <a:latin typeface="Garamond"/>
              </a:rPr>
              <a:t>Свободный диктант.</a:t>
            </a:r>
            <a:r>
              <a:rPr b="0" lang="ru-RU" sz="4400" spc="-1" strike="noStrike">
                <a:solidFill>
                  <a:srgbClr val="a40c0c"/>
                </a:solidFill>
                <a:latin typeface="Garamond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a40c0c"/>
                </a:solidFill>
                <a:latin typeface="Garamond"/>
              </a:rPr>
              <a:t>Задание: </a:t>
            </a:r>
            <a:r>
              <a:rPr b="0" lang="ru-RU" sz="4800" spc="-1" strike="noStrike">
                <a:solidFill>
                  <a:srgbClr val="0000cc"/>
                </a:solidFill>
                <a:latin typeface="Garamond"/>
              </a:rPr>
              <a:t>сделайте вывод о том, к какому спряжению относится глагол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Garamond"/>
              </a:rPr>
              <a:t>чтить.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Словарная работа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76000" y="1267920"/>
            <a:ext cx="748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ить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— относиться к кому-нибудь (чему-нибудь) с глубоким уважением и любовью. </a:t>
            </a:r>
            <a:r>
              <a:rPr b="0" i="1" lang="ru-RU" sz="3600" spc="-1" strike="noStrike">
                <a:solidFill>
                  <a:srgbClr val="2a4b09"/>
                </a:solidFill>
                <a:latin typeface="Arial"/>
              </a:rPr>
              <a:t>Чтить память погибших.</a:t>
            </a:r>
            <a:r>
              <a:rPr b="0" i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(Словарь С.И.Ожегова, Н.Ю. Шведовой.)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Чту, чтишь, чтит, чтим, чтите, чт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т и чт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т</a:t>
            </a: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47280" y="764640"/>
            <a:ext cx="7201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a40c0c"/>
                </a:solidFill>
                <a:latin typeface="Garamond"/>
              </a:rPr>
              <a:t>Подберите синонимы к глаголу 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чтить.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76000" y="2997360"/>
            <a:ext cx="721044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Чтить –  уважать, ценить, обожать, боготворить, дорожить. 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7280" y="1413000"/>
            <a:ext cx="692316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33200" y="2999880"/>
            <a:ext cx="721044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§ 81, упражнение 474. 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Вывод. Рефлексия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Я вспомнил, что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Я понял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Было интересно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собенно понравилось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звало затруднение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Было сложно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ужно выучить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571680" y="2071800"/>
            <a:ext cx="8072280" cy="136656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езентацию подготовила Чурсина Людмила Николаевна, учитель русского языка и литературы Чановской СОШ № 2 Новосибирской област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49152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План урока</a:t>
            </a:r>
            <a:endParaRPr b="0" lang="en-US" sz="36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692280"/>
            <a:ext cx="7705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вторение частей речи. Кроссворд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вторение спряжения глаголов. Лингвистическая иг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Изучение нового материала. Знакомство с разноспрягаемыми глаголами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ренировочные упражнения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ловарная рабо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Итоги урока. Домашнее задание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Garamond"/>
              </a:rPr>
              <a:t>Кроссворд «Части речи»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34000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70036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05928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41964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78000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14036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50072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85928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1964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58000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94036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630072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65964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702000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738036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340000" y="1916280"/>
            <a:ext cx="358920" cy="3585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234000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2340000" y="263700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34000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2340000" y="33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2340000" y="371628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234000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2340000" y="443700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3780000" y="19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378000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Rectangle 28"/>
          <p:cNvSpPr/>
          <p:nvPr/>
        </p:nvSpPr>
        <p:spPr>
          <a:xfrm>
            <a:off x="3780000" y="26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378000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3780000" y="33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780000" y="37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Rectangle 32"/>
          <p:cNvSpPr/>
          <p:nvPr/>
        </p:nvSpPr>
        <p:spPr>
          <a:xfrm>
            <a:off x="378000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3780000" y="44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Rectangle 34"/>
          <p:cNvSpPr/>
          <p:nvPr/>
        </p:nvSpPr>
        <p:spPr>
          <a:xfrm>
            <a:off x="7740720" y="19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774072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7740720" y="26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Rectangle 38"/>
          <p:cNvSpPr/>
          <p:nvPr/>
        </p:nvSpPr>
        <p:spPr>
          <a:xfrm>
            <a:off x="7740720" y="33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>
            <a:off x="7740720" y="37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774072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740720" y="44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7740720" y="47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774072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740720" y="551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Rectangle 45"/>
          <p:cNvSpPr/>
          <p:nvPr/>
        </p:nvSpPr>
        <p:spPr>
          <a:xfrm>
            <a:off x="7740720" y="587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1" name="Rectangle 46"/>
          <p:cNvSpPr/>
          <p:nvPr/>
        </p:nvSpPr>
        <p:spPr>
          <a:xfrm>
            <a:off x="414036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450072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485928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521964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414036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341964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Rectangle 52"/>
          <p:cNvSpPr/>
          <p:nvPr/>
        </p:nvSpPr>
        <p:spPr>
          <a:xfrm>
            <a:off x="450072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Rectangle 53"/>
          <p:cNvSpPr/>
          <p:nvPr/>
        </p:nvSpPr>
        <p:spPr>
          <a:xfrm>
            <a:off x="485928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521964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Rectangle 55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Rectangle 56"/>
          <p:cNvSpPr/>
          <p:nvPr/>
        </p:nvSpPr>
        <p:spPr>
          <a:xfrm>
            <a:off x="594036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Rectangle 57"/>
          <p:cNvSpPr/>
          <p:nvPr/>
        </p:nvSpPr>
        <p:spPr>
          <a:xfrm>
            <a:off x="341964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3" name="Rectangle 58"/>
          <p:cNvSpPr/>
          <p:nvPr/>
        </p:nvSpPr>
        <p:spPr>
          <a:xfrm>
            <a:off x="305928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" name="Rectangle 59"/>
          <p:cNvSpPr/>
          <p:nvPr/>
        </p:nvSpPr>
        <p:spPr>
          <a:xfrm>
            <a:off x="414036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Rectangle 60"/>
          <p:cNvSpPr/>
          <p:nvPr/>
        </p:nvSpPr>
        <p:spPr>
          <a:xfrm>
            <a:off x="450072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Rectangle 61"/>
          <p:cNvSpPr/>
          <p:nvPr/>
        </p:nvSpPr>
        <p:spPr>
          <a:xfrm>
            <a:off x="738036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7" name="Rectangle 62"/>
          <p:cNvSpPr/>
          <p:nvPr/>
        </p:nvSpPr>
        <p:spPr>
          <a:xfrm>
            <a:off x="485928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Rectangle 63"/>
          <p:cNvSpPr/>
          <p:nvPr/>
        </p:nvSpPr>
        <p:spPr>
          <a:xfrm>
            <a:off x="521964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Rectangle 64"/>
          <p:cNvSpPr/>
          <p:nvPr/>
        </p:nvSpPr>
        <p:spPr>
          <a:xfrm>
            <a:off x="558000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0" name="Rectangle 65"/>
          <p:cNvSpPr/>
          <p:nvPr/>
        </p:nvSpPr>
        <p:spPr>
          <a:xfrm>
            <a:off x="594036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1" name="Rectangle 66"/>
          <p:cNvSpPr/>
          <p:nvPr/>
        </p:nvSpPr>
        <p:spPr>
          <a:xfrm>
            <a:off x="630072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" name="Rectangle 67"/>
          <p:cNvSpPr/>
          <p:nvPr/>
        </p:nvSpPr>
        <p:spPr>
          <a:xfrm>
            <a:off x="665964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702000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810108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738036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" name="Rectangle 71"/>
          <p:cNvSpPr/>
          <p:nvPr/>
        </p:nvSpPr>
        <p:spPr>
          <a:xfrm>
            <a:off x="702000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Rectangle 72"/>
          <p:cNvSpPr/>
          <p:nvPr/>
        </p:nvSpPr>
        <p:spPr>
          <a:xfrm>
            <a:off x="665964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Rectangle 73"/>
          <p:cNvSpPr/>
          <p:nvPr/>
        </p:nvSpPr>
        <p:spPr>
          <a:xfrm>
            <a:off x="630072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Rectangle 74"/>
          <p:cNvSpPr/>
          <p:nvPr/>
        </p:nvSpPr>
        <p:spPr>
          <a:xfrm>
            <a:off x="594036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Rectangle 75"/>
          <p:cNvSpPr/>
          <p:nvPr/>
        </p:nvSpPr>
        <p:spPr>
          <a:xfrm>
            <a:off x="845964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Rectangle 76"/>
          <p:cNvSpPr/>
          <p:nvPr/>
        </p:nvSpPr>
        <p:spPr>
          <a:xfrm>
            <a:off x="558000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2" name="Rectangle 77"/>
          <p:cNvSpPr/>
          <p:nvPr/>
        </p:nvSpPr>
        <p:spPr>
          <a:xfrm>
            <a:off x="521964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Rectangle 78"/>
          <p:cNvSpPr/>
          <p:nvPr/>
        </p:nvSpPr>
        <p:spPr>
          <a:xfrm>
            <a:off x="485928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4" name="Rectangle 79"/>
          <p:cNvSpPr/>
          <p:nvPr/>
        </p:nvSpPr>
        <p:spPr>
          <a:xfrm>
            <a:off x="234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5" name="Rectangle 80"/>
          <p:cNvSpPr/>
          <p:nvPr/>
        </p:nvSpPr>
        <p:spPr>
          <a:xfrm>
            <a:off x="234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324000" y="0"/>
            <a:ext cx="8569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4.</a:t>
            </a:r>
            <a:r>
              <a:rPr b="0" lang="ru-RU" sz="3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Отвечает на вопросы что делать? что сделать? и обозначает действие предме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7" name="Rectangle 82"/>
          <p:cNvSpPr/>
          <p:nvPr/>
        </p:nvSpPr>
        <p:spPr>
          <a:xfrm>
            <a:off x="25092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о горизонтали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1.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cc3300"/>
                </a:solidFill>
                <a:latin typeface="Garamond"/>
              </a:rPr>
              <a:t>Часть речи, обозначает предмет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8" name="Rectangle 83"/>
          <p:cNvSpPr/>
          <p:nvPr/>
        </p:nvSpPr>
        <p:spPr>
          <a:xfrm>
            <a:off x="3419640" y="227664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9" name="Rectangle 84"/>
          <p:cNvSpPr/>
          <p:nvPr/>
        </p:nvSpPr>
        <p:spPr>
          <a:xfrm>
            <a:off x="50328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Garamond"/>
              </a:rPr>
              <a:t>7. Указывает на предмет, признак или количество, не называя их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" name="Rectangle 85"/>
          <p:cNvSpPr/>
          <p:nvPr/>
        </p:nvSpPr>
        <p:spPr>
          <a:xfrm>
            <a:off x="3780000" y="299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1" name="Rectangle 86"/>
          <p:cNvSpPr/>
          <p:nvPr/>
        </p:nvSpPr>
        <p:spPr>
          <a:xfrm>
            <a:off x="287280" y="260280"/>
            <a:ext cx="8856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5. Часть речи, отвечает на вопросы где? куда?   откуда? как?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2" name="Rectangle 87"/>
          <p:cNvSpPr/>
          <p:nvPr/>
        </p:nvSpPr>
        <p:spPr>
          <a:xfrm>
            <a:off x="3059280" y="407664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Rectangle 88"/>
          <p:cNvSpPr/>
          <p:nvPr/>
        </p:nvSpPr>
        <p:spPr>
          <a:xfrm>
            <a:off x="32400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6. Обозначает признак предме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4" name="Rectangle 89"/>
          <p:cNvSpPr/>
          <p:nvPr/>
        </p:nvSpPr>
        <p:spPr>
          <a:xfrm>
            <a:off x="39528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3. Часть речи, которая обозначает число, количество предметов и порядок предметов при счёте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5" name="Rectangle 90"/>
          <p:cNvSpPr/>
          <p:nvPr/>
        </p:nvSpPr>
        <p:spPr>
          <a:xfrm>
            <a:off x="4859280" y="515772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6" name="Rectangle 91"/>
          <p:cNvSpPr/>
          <p:nvPr/>
        </p:nvSpPr>
        <p:spPr>
          <a:xfrm>
            <a:off x="39528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Garamond"/>
              </a:rPr>
              <a:t>По вертикали.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 1. Изменение глагола по лицам и числа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7" name="Rectangle 92"/>
          <p:cNvSpPr/>
          <p:nvPr/>
        </p:nvSpPr>
        <p:spPr>
          <a:xfrm>
            <a:off x="39528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2. Изменение именной части речи по падежа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Rectangle 93"/>
          <p:cNvSpPr/>
          <p:nvPr/>
        </p:nvSpPr>
        <p:spPr>
          <a:xfrm>
            <a:off x="378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9" name="Rectangle 94"/>
          <p:cNvSpPr/>
          <p:nvPr/>
        </p:nvSpPr>
        <p:spPr>
          <a:xfrm>
            <a:off x="7740720" y="1916280"/>
            <a:ext cx="360360" cy="3585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"/>
                            </p:stCondLst>
                            <p:childTnLst>
                              <p:par>
                                <p:cTn id="46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72668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cc3300"/>
                </a:solidFill>
                <a:latin typeface="Garamond"/>
              </a:rPr>
              <a:t>«Четвёртый лишний»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19280" y="220500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Рисо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692360" y="328464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олч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580000" y="220500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да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5580000" y="328464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кры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1692360" y="4653000"/>
            <a:ext cx="2232000" cy="503280"/>
          </a:xfrm>
          <a:prstGeom prst="foldedCorner">
            <a:avLst>
              <a:gd name="adj" fmla="val 12500"/>
            </a:avLst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дсказка 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5867280" y="4869000"/>
            <a:ext cx="2089440" cy="792000"/>
          </a:xfrm>
          <a:prstGeom prst="octagon">
            <a:avLst>
              <a:gd name="adj" fmla="val 29287"/>
            </a:avLst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4f9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1763640" y="5661000"/>
            <a:ext cx="2087640" cy="647640"/>
          </a:xfrm>
          <a:custGeom>
            <a:avLst/>
            <a:gdLst>
              <a:gd name="textAreaLeft" fmla="*/ 41760 w 2087640"/>
              <a:gd name="textAreaRight" fmla="*/ 2045880 w 208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9600" h="21600">
                <a:moveTo>
                  <a:pt x="0" y="0"/>
                </a:moveTo>
                <a:lnTo>
                  <a:pt x="69600" y="0"/>
                </a:lnTo>
                <a:lnTo>
                  <a:pt x="69600" y="21600"/>
                </a:lnTo>
                <a:lnTo>
                  <a:pt x="0" y="21600"/>
                </a:lnTo>
                <a:close/>
              </a:path>
              <a:path fill="lightenLess" w="69600" h="21600">
                <a:moveTo>
                  <a:pt x="0" y="0"/>
                </a:moveTo>
                <a:lnTo>
                  <a:pt x="69600" y="0"/>
                </a:lnTo>
                <a:lnTo>
                  <a:pt x="68200" y="1400"/>
                </a:lnTo>
                <a:lnTo>
                  <a:pt x="1400" y="1400"/>
                </a:lnTo>
                <a:close/>
              </a:path>
              <a:path fill="darken" w="69600" h="21600">
                <a:moveTo>
                  <a:pt x="69600" y="0"/>
                </a:moveTo>
                <a:lnTo>
                  <a:pt x="69600" y="21600"/>
                </a:lnTo>
                <a:lnTo>
                  <a:pt x="68200" y="20200"/>
                </a:lnTo>
                <a:lnTo>
                  <a:pt x="68200" y="1400"/>
                </a:lnTo>
                <a:close/>
              </a:path>
              <a:path fill="darkenLess" w="69600" h="21600">
                <a:moveTo>
                  <a:pt x="69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200" y="20200"/>
                </a:lnTo>
                <a:close/>
              </a:path>
              <a:path fill="lighten" w="69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дсказка 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58560" y="2349360"/>
            <a:ext cx="7705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тите внимание на спряжение глаголов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1" name="Picture 5" descr="p79_2_clr"/>
          <p:cNvPicPr/>
          <p:nvPr/>
        </p:nvPicPr>
        <p:blipFill>
          <a:blip r:embed="rId2"/>
          <a:stretch/>
        </p:blipFill>
        <p:spPr>
          <a:xfrm>
            <a:off x="6300720" y="5013360"/>
            <a:ext cx="522360" cy="104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p79_1_clr"/>
          <p:cNvPicPr/>
          <p:nvPr/>
        </p:nvPicPr>
        <p:blipFill>
          <a:blip r:embed="rId3"/>
          <a:stretch/>
        </p:blipFill>
        <p:spPr>
          <a:xfrm>
            <a:off x="3203640" y="476280"/>
            <a:ext cx="317520" cy="10796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4"/>
          <p:cNvSpPr/>
          <p:nvPr/>
        </p:nvSpPr>
        <p:spPr>
          <a:xfrm>
            <a:off x="8675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7058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Спряжение </a:t>
            </a:r>
            <a:r>
              <a:rPr b="0" i="1" lang="ru-RU" sz="2400" spc="-1" strike="noStrike">
                <a:solidFill>
                  <a:srgbClr val="424456"/>
                </a:solidFill>
                <a:latin typeface="Arial"/>
              </a:rPr>
              <a:t>— это изменение глаголов по лицам и числам в настоящем и будущем времени.</a:t>
            </a:r>
            <a:r>
              <a:rPr b="0" lang="ru-RU" sz="38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8353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ыделяют два типа спряжения. Глаголы первого 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торого спряжения различаются личными окончаниями.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1916280"/>
          <a:ext cx="7694640" cy="4176720"/>
        </p:xfrm>
        <a:graphic>
          <a:graphicData uri="http://schemas.openxmlformats.org/drawingml/2006/table">
            <a:tbl>
              <a:tblPr/>
              <a:tblGrid>
                <a:gridCol w="1368720"/>
                <a:gridCol w="1439640"/>
                <a:gridCol w="2505240"/>
                <a:gridCol w="23810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иц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лаголы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пряжения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лаголы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пряжения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3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Единст-венное 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ю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лю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шь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шь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, она, оно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3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ножест-венное 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и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Rectangle 81"/>
          <p:cNvSpPr/>
          <p:nvPr/>
        </p:nvSpPr>
        <p:spPr>
          <a:xfrm>
            <a:off x="5214960" y="2786040"/>
            <a:ext cx="358920" cy="2890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Rectangle 83"/>
          <p:cNvSpPr/>
          <p:nvPr/>
        </p:nvSpPr>
        <p:spPr>
          <a:xfrm>
            <a:off x="5214960" y="3286080"/>
            <a:ext cx="576360" cy="2890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0" name="Rectangle 84"/>
          <p:cNvSpPr/>
          <p:nvPr/>
        </p:nvSpPr>
        <p:spPr>
          <a:xfrm>
            <a:off x="7596360" y="3284640"/>
            <a:ext cx="574560" cy="28872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1" name="Rectangle 85"/>
          <p:cNvSpPr/>
          <p:nvPr/>
        </p:nvSpPr>
        <p:spPr>
          <a:xfrm>
            <a:off x="7596360" y="5157720"/>
            <a:ext cx="502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Rectangle 86"/>
          <p:cNvSpPr/>
          <p:nvPr/>
        </p:nvSpPr>
        <p:spPr>
          <a:xfrm>
            <a:off x="5214960" y="5143680"/>
            <a:ext cx="50328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3" name="Rectangle 87"/>
          <p:cNvSpPr/>
          <p:nvPr/>
        </p:nvSpPr>
        <p:spPr>
          <a:xfrm>
            <a:off x="5214960" y="3857760"/>
            <a:ext cx="358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4" name="Rectangle 88"/>
          <p:cNvSpPr/>
          <p:nvPr/>
        </p:nvSpPr>
        <p:spPr>
          <a:xfrm>
            <a:off x="5214960" y="4572000"/>
            <a:ext cx="358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5" name="Rectangle 89"/>
          <p:cNvSpPr/>
          <p:nvPr/>
        </p:nvSpPr>
        <p:spPr>
          <a:xfrm>
            <a:off x="5214960" y="5643720"/>
            <a:ext cx="43020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6" name="Rectangle 90"/>
          <p:cNvSpPr/>
          <p:nvPr/>
        </p:nvSpPr>
        <p:spPr>
          <a:xfrm>
            <a:off x="7596360" y="3860640"/>
            <a:ext cx="358560" cy="28764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Rectangle 91"/>
          <p:cNvSpPr/>
          <p:nvPr/>
        </p:nvSpPr>
        <p:spPr>
          <a:xfrm>
            <a:off x="7596360" y="4581360"/>
            <a:ext cx="431640" cy="28764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8" name="Rectangle 92"/>
          <p:cNvSpPr/>
          <p:nvPr/>
        </p:nvSpPr>
        <p:spPr>
          <a:xfrm>
            <a:off x="7596360" y="5661000"/>
            <a:ext cx="35856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9" name="AutoShape 93"/>
          <p:cNvSpPr/>
          <p:nvPr/>
        </p:nvSpPr>
        <p:spPr>
          <a:xfrm>
            <a:off x="853272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0" name="Rectangle 81"/>
          <p:cNvSpPr/>
          <p:nvPr/>
        </p:nvSpPr>
        <p:spPr>
          <a:xfrm>
            <a:off x="7812000" y="2781360"/>
            <a:ext cx="358920" cy="28872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Вспомните,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как определяем</a:t>
            </a:r>
            <a:r>
              <a:rPr b="0" lang="ru-RU" sz="48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спряжение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8459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29"/>
          <p:cNvSpPr/>
          <p:nvPr/>
        </p:nvSpPr>
        <p:spPr>
          <a:xfrm>
            <a:off x="7740720" y="5445000"/>
            <a:ext cx="144360" cy="432000"/>
          </a:xfrm>
          <a:prstGeom prst="downArrow">
            <a:avLst>
              <a:gd name="adj1" fmla="val 38685"/>
              <a:gd name="adj2" fmla="val 8491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 rot="18559800">
            <a:off x="7163640" y="4725360"/>
            <a:ext cx="142560" cy="430200"/>
          </a:xfrm>
          <a:prstGeom prst="downArrow">
            <a:avLst>
              <a:gd name="adj1" fmla="val 50000"/>
              <a:gd name="adj2" fmla="val 7544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7" name="AutoShape 29"/>
          <p:cNvSpPr/>
          <p:nvPr/>
        </p:nvSpPr>
        <p:spPr>
          <a:xfrm rot="3168000">
            <a:off x="4862520" y="4650840"/>
            <a:ext cx="177840" cy="470160"/>
          </a:xfrm>
          <a:prstGeom prst="downArrow">
            <a:avLst>
              <a:gd name="adj1" fmla="val 50000"/>
              <a:gd name="adj2" fmla="val 66093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4390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Garamond"/>
              </a:rPr>
              <a:t>Алгоритм определения спряжения глаголов</a:t>
            </a:r>
            <a:endParaRPr b="0" lang="en-US" sz="2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692360" y="692280"/>
            <a:ext cx="5329080" cy="4330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Личное окончание глагола ударное?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763640" y="1268280"/>
            <a:ext cx="50472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77080" y="1413000"/>
            <a:ext cx="57636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08000" y="1844640"/>
            <a:ext cx="450036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пределяем по гласной в окончани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179280" y="2708280"/>
            <a:ext cx="1297080" cy="1655640"/>
          </a:xfrm>
          <a:custGeom>
            <a:avLst/>
            <a:gdLst>
              <a:gd name="textAreaLeft" fmla="*/ 0 w 1297080"/>
              <a:gd name="textAreaRight" fmla="*/ 909720 w 1297080"/>
              <a:gd name="textAreaTop" fmla="*/ 68760 h 1655640"/>
              <a:gd name="textAreaBottom" fmla="*/ 15868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95280" y="314172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395280" y="285264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395280" y="342900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95280" y="371628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5280" y="400536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/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324000" y="479736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324000" y="450864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324000" y="5084640"/>
            <a:ext cx="792000" cy="287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324000" y="537372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324000" y="566100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/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179280" y="4437000"/>
            <a:ext cx="1224000" cy="1728720"/>
          </a:xfrm>
          <a:custGeom>
            <a:avLst/>
            <a:gdLst>
              <a:gd name="textAreaLeft" fmla="*/ 0 w 1224000"/>
              <a:gd name="textAreaRight" fmla="*/ 858600 w 122400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979640" y="3068640"/>
            <a:ext cx="1008000" cy="792000"/>
          </a:xfrm>
          <a:prstGeom prst="rect">
            <a:avLst/>
          </a:prstGeom>
          <a:solidFill>
            <a:srgbClr val="ffd9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6" name="AutoShape 25"/>
          <p:cNvSpPr/>
          <p:nvPr/>
        </p:nvSpPr>
        <p:spPr>
          <a:xfrm rot="3943800">
            <a:off x="2302920" y="101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40c0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16200000">
            <a:off x="1691280" y="3284640"/>
            <a:ext cx="144360" cy="432000"/>
          </a:xfrm>
          <a:prstGeom prst="downArrow">
            <a:avLst>
              <a:gd name="adj1" fmla="val 29630"/>
              <a:gd name="adj2" fmla="val 74037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 rot="18550200">
            <a:off x="6767280" y="101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6939000" y="1843200"/>
            <a:ext cx="225360" cy="433440"/>
          </a:xfrm>
          <a:prstGeom prst="downArrow">
            <a:avLst>
              <a:gd name="adj1" fmla="val 50000"/>
              <a:gd name="adj2" fmla="val 48083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 flipH="1" rot="16318800">
            <a:off x="1598400" y="5029560"/>
            <a:ext cx="108000" cy="503280"/>
          </a:xfrm>
          <a:prstGeom prst="downArrow">
            <a:avLst>
              <a:gd name="adj1" fmla="val 50000"/>
              <a:gd name="adj2" fmla="val 116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1" name="AutoShape 31"/>
          <p:cNvSpPr/>
          <p:nvPr/>
        </p:nvSpPr>
        <p:spPr>
          <a:xfrm rot="614400">
            <a:off x="891720" y="242100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3635280" y="3357720"/>
            <a:ext cx="5508720" cy="14414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н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(кроме брить и стелить) +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нать, держать, дышать, обидеть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ышать, видеть, ненавидеть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висеть, терпеть, вертеть, смотрет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3" name="AutoShape 33"/>
          <p:cNvSpPr/>
          <p:nvPr/>
        </p:nvSpPr>
        <p:spPr>
          <a:xfrm>
            <a:off x="8532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8481"/>
                </a:moveTo>
                <a:lnTo>
                  <a:pt x="7301" y="8481"/>
                </a:lnTo>
                <a:lnTo>
                  <a:pt x="7301" y="13816"/>
                </a:lnTo>
                <a:cubicBezTo>
                  <a:pt x="7301" y="14739"/>
                  <a:pt x="8102" y="15470"/>
                  <a:pt x="9138" y="15470"/>
                </a:cubicBezTo>
                <a:lnTo>
                  <a:pt x="10800" y="15470"/>
                </a:lnTo>
                <a:cubicBezTo>
                  <a:pt x="11836" y="15470"/>
                  <a:pt x="12636" y="14739"/>
                  <a:pt x="12636" y="13816"/>
                </a:cubicBezTo>
                <a:lnTo>
                  <a:pt x="12636" y="8481"/>
                </a:lnTo>
                <a:lnTo>
                  <a:pt x="10800" y="8481"/>
                </a:lnTo>
                <a:lnTo>
                  <a:pt x="14308" y="4973"/>
                </a:lnTo>
                <a:lnTo>
                  <a:pt x="17981" y="8481"/>
                </a:lnTo>
                <a:lnTo>
                  <a:pt x="16144" y="8481"/>
                </a:lnTo>
                <a:lnTo>
                  <a:pt x="16144" y="13816"/>
                </a:lnTo>
                <a:cubicBezTo>
                  <a:pt x="16144" y="16584"/>
                  <a:pt x="13568" y="19143"/>
                  <a:pt x="10800" y="19143"/>
                </a:cubicBezTo>
                <a:lnTo>
                  <a:pt x="9138" y="19143"/>
                </a:lnTo>
                <a:cubicBezTo>
                  <a:pt x="6370" y="19143"/>
                  <a:pt x="3794" y="16584"/>
                  <a:pt x="3794" y="13816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4" name="AutoShape 25"/>
          <p:cNvSpPr/>
          <p:nvPr/>
        </p:nvSpPr>
        <p:spPr>
          <a:xfrm>
            <a:off x="1908000" y="1628640"/>
            <a:ext cx="142920" cy="287640"/>
          </a:xfrm>
          <a:prstGeom prst="downArrow">
            <a:avLst>
              <a:gd name="adj1" fmla="val 50000"/>
              <a:gd name="adj2" fmla="val 50315"/>
            </a:avLst>
          </a:prstGeom>
          <a:solidFill>
            <a:srgbClr val="a40c0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 flipH="1" rot="16800">
            <a:off x="6947280" y="2923920"/>
            <a:ext cx="160560" cy="4014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4211640" y="5157720"/>
            <a:ext cx="792000" cy="433440"/>
          </a:xfrm>
          <a:prstGeom prst="rect">
            <a:avLst/>
          </a:prstGeom>
          <a:solidFill>
            <a:srgbClr val="ffe7f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7451640" y="5013360"/>
            <a:ext cx="792360" cy="433440"/>
          </a:xfrm>
          <a:prstGeom prst="rect">
            <a:avLst/>
          </a:prstGeom>
          <a:solidFill>
            <a:srgbClr val="ffe7f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8" name="AutoShape 29"/>
          <p:cNvSpPr/>
          <p:nvPr/>
        </p:nvSpPr>
        <p:spPr>
          <a:xfrm>
            <a:off x="4572000" y="5589720"/>
            <a:ext cx="144360" cy="301320"/>
          </a:xfrm>
          <a:prstGeom prst="downArrow">
            <a:avLst>
              <a:gd name="adj1" fmla="val 50000"/>
              <a:gd name="adj2" fmla="val 5218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2124000" y="5084640"/>
            <a:ext cx="1008000" cy="792360"/>
          </a:xfrm>
          <a:prstGeom prst="rect">
            <a:avLst/>
          </a:prstGeom>
          <a:solidFill>
            <a:srgbClr val="ffd9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995640" y="2349360"/>
            <a:ext cx="500400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авим глагол в неопределённую форму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пределяем по гласной в суффикс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4211640" y="6021360"/>
            <a:ext cx="100800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2" name="Rectangle 40"/>
          <p:cNvSpPr/>
          <p:nvPr/>
        </p:nvSpPr>
        <p:spPr>
          <a:xfrm>
            <a:off x="7308720" y="6021360"/>
            <a:ext cx="100836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5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80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900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9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150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6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7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3:48:08Z</dcterms:created>
  <dc:creator>123</dc:creator>
  <dc:description/>
  <dc:language>en-US</dc:language>
  <cp:lastModifiedBy>DLV</cp:lastModifiedBy>
  <dcterms:modified xsi:type="dcterms:W3CDTF">2009-06-16T16:15:04Z</dcterms:modified>
  <cp:revision>39</cp:revision>
  <dc:subject/>
  <dc:title>Разноспрягаемые глаголы</dc:title>
</cp:coreProperties>
</file>