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6.png" ContentType="image/png"/>
  <Override PartName="/ppt/media/image10.jpeg" ContentType="image/jpeg"/>
  <Override PartName="/ppt/media/image5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7.png" ContentType="image/png"/>
  <Override PartName="/ppt/media/image23.jpeg" ContentType="image/jpeg"/>
  <Override PartName="/ppt/media/image21.png" ContentType="image/png"/>
  <Override PartName="/ppt/media/image19.png" ContentType="image/png"/>
  <Override PartName="/ppt/media/image28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24.jpeg" ContentType="image/jpeg"/>
  <Override PartName="/ppt/media/image14.png" ContentType="image/png"/>
  <Override PartName="/ppt/media/image26.png" ContentType="image/png"/>
  <Override PartName="/ppt/media/image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5507C-FA36-44AE-99AA-6A8DA8020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87E98-2316-4129-A271-EBAEA9C20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A2DC3A-748E-4008-BBFB-0ACA7EA26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85E12F-07D7-4DDB-9B62-35BEE4ADF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9AB618-B031-415F-9B99-9E52A6CA4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9C9E84-9650-4690-B706-CC927EE73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F48CA2-646F-44B3-B26A-66DB37107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6E13BE-5C14-4242-9D78-162EA8B0C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B3F2CA-E048-4A31-9329-2A117F0A7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007595-5D1C-4980-8B80-FAB9640C3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F0E46C-0E38-4455-A1F0-7EED70A2B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8B9267-963E-4320-AE1C-74441B565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C02DB-F0BE-4171-9EA6-E1081AD60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421F94-2AE9-4F49-8D75-EDF1F549A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042D88-0036-4651-8150-BEDB71386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AA3EA0-7A8D-49B1-8525-120E2D9FD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37ADCB-857B-4847-A787-A3B556BD9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EE9554-4AE8-4820-909B-F23E5E561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5AA8CB-5E3B-4D9B-A2F2-2DF692D19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F992E5-F549-48CB-8EED-058132937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7331B7-6085-4532-9454-7A1F56B32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F194C4-BA5E-4DD2-AD7C-1EBF84BCC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AB4456-B11C-481D-879C-C3292D026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1E8A6-8D66-4F44-AF45-E49BB7AAE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D92769-4D36-4D1C-9AFA-3EEB6B1A4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6623DA-6C08-44F5-9CEB-B4671BA4A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1333F4-4F70-4012-B1D7-A7D5982F6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D1741B-F3FD-454E-87E4-AB4C155B6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F8420F-C665-40CF-BDA9-D7B02B0BC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7ACC7D-6318-4D37-8B30-77E47C036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7180DF-81D3-4706-ABE3-FB41EF660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3D7705-A522-430F-93FF-AC4E559B4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7999AF-77B4-4581-94B9-1C82EB36C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C95F5B-F062-4817-9182-758AC9294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C25FC-8648-44D9-8C22-3164A495B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82DF5E-68F5-4DB2-98D7-B881391F9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9E37FD-0696-46F4-A7D6-159CE22D7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79FEA2-67E8-4058-BBE9-282D198C1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DBF077-F6B6-4ED5-B970-B9C14AF9D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4F01C7-268E-45D5-805D-CC6A38403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C33B09-B48E-4CEF-9263-30425E9F9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639603-6B11-4040-AB2A-9A64EC20A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9B08CB-43B5-4D76-8188-42ECC8F2E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A853F4-D055-472F-A90E-5D0252E4A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6ACEE7-242F-4E98-B958-033FCBB57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73406-5589-4943-8BE2-90EB64F8B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3154ED-E590-4EE3-9C36-A59E8DDB6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3C02A7-7075-4A35-A4E6-990BFF54C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017156-FFE1-4881-B61F-378514931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53AF72-F095-4E08-A015-21F4508EC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5F8E42-4DF0-49FE-89B4-D3A73BC3D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5CF95-4F86-4F0A-B8CC-19485BC2E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D8589-E192-4521-BF78-D1473DEBF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12157-F90B-4892-9DB6-4168692C5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D6C7A-CEAD-43A4-B372-DC09C4304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F8419-BBC1-4398-8CE0-DABE962DA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8524D-A19D-46D3-A052-805B792F1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67F79-DABC-4C5A-9820-00AB50B83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9A5FE-8249-4F1B-A2EE-6EDB7F94D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9BC27-5013-434D-B82D-E34C3DAE8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FD691-6A6F-4488-AEEF-ED29E4241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2CCDA-4D99-488B-A8FA-A7E39C1FF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53A28C-B631-48F4-B520-2B3FCF1B1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2F83F7-628E-47EC-B5CD-7B5DFA484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502DCB-90BB-438D-AD3F-5930491D4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47B864-AB56-440D-940C-E462BEBE7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0BCD69-9C0F-4417-A46A-4EE968588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DB079-6D8A-4649-93E2-091111B61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B507B0-1334-4E04-B9EC-C54FB64BE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6FF5B6-14AF-48D1-ABB4-49FC3F15F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4EE34B-1B2B-452A-875D-51060B4A4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B19C20-C8DA-4358-B738-9850253C7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41A0BB-19F2-4B02-8475-F431D2042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96D23B-C7BF-456A-8BE1-E30C7C1FA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66B1C4-D19B-46A6-ABE5-19F2FC67D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9A981A-E040-4B83-92CD-85584BD7E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5B661B-9E96-448E-9311-38B118D96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3D5236-BE12-4DAB-AE33-66C9AD1D6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81D2A-2049-4115-BAB5-A436953D6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88ACF3-9189-4491-BD5B-E97CCA931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FD4B34-B54A-41CF-A100-058BB27D5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D8DBA2-3D5C-41F3-85E2-85D87BEE3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20391D-9647-4419-BDCC-2738C23FB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44F8B3-990E-454B-B65F-8170B6901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EE4A08-8DBA-4700-B056-1A02352C4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1F9EB1-0C40-4834-88BF-2AF1230E5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A9BFF9-11F2-44E7-90EF-0D2B36196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398821-76F2-4F29-A8C2-B36C14378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8C5F64-6575-467F-9B25-446FC8D0A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8ABBF-815A-448A-9546-797A5D79D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3C2F2F-6DDA-4CAA-B952-0F686DF0D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5DB926-8733-4B2B-9C25-C90A7B262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816467-B644-41D7-916D-BE1EF00C1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7AC8B1-CA48-4426-8CE6-A7EDF667A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07AB6D-B86F-4D45-86D6-ABBD28254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FBE854-2B56-49EB-B4FB-FA22334F1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758335-8330-4AD7-9EA4-090FA0095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3433E1-34F0-49E3-874E-FAEBAC664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6D77EE-85D1-410F-B439-03556B55B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00D2BC-DE00-4549-A08F-B5E4174AA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7FF03-BDB6-437F-B109-7955805B6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2269A3-8E56-4E3D-B80D-9F0EB82AC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63CA2A-322A-4358-8280-734587BE0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1CAF5C-3E7E-448D-9454-8AA5CA2BA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104BEB-F043-412E-89A4-943CB59C8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449C65-FB49-46A9-BC9D-129BF018D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FEBB44-3E60-4219-93FB-723839605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9BF16D-5061-4BD0-9AB4-52FAC1CC1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63658F-4ABF-443E-AF09-7211C4C9F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77CBC4-4B2D-4CF3-904C-C387EB95F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8E5651-899E-4CD0-A2B9-65B4C8F37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49F11-A6DB-4667-8FA0-05E8BD485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26CBE5-42C5-49C9-9273-159CE8197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C078BF-8C7E-4A46-90B5-76D64DE48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F59749-7033-4B27-8628-29D5CDC86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94B437-8A64-4CE7-B7C7-6ADF61897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3B05B9-A1A5-48C1-A553-F4F309EE6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924190-C7D4-4A70-9953-A77E2FA89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D1B600-8DBE-4EAF-83AE-031E88CFA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DA616E-141E-478D-B186-A63B7F47E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F6F768-1B81-4933-86E1-FAB525A4D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95D5EE-87E6-4902-B2DB-9AD05F1FF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B2A20-FD5B-4058-9D91-2F631A7F5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0FF8A0-3EB4-4294-9F8D-FE5D9D008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FE7967-D582-44C7-946E-8D815CC77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9B2197-80FA-43AC-B804-8A23AF7C6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47D29E-F8FD-40E2-B99C-6937C69E8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8C1F48-2285-4335-A94F-CE72C181B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D07ED4-60BB-47E0-817E-E76F5D157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66F3CC-219B-478C-AF95-7FE36DE31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83CEEB-F182-4D1E-8AC5-62A143FAA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48A4B5-FE12-4B87-9DB4-2C70C7E2C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0EE10A-C89C-4D53-AEF3-C202A101B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B3B4A-BBAA-4449-8611-D5D4F626C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3F3DF3-2267-4C2D-9E07-A338B4530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3E1E22-5CEC-40D7-B425-CF23D6C10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EF7B5B-C225-42E4-9805-0CC1AB951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8476DE-FC91-4138-B6D7-7346E75D5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94353F-2E2B-470E-84BE-348928AAD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179019-D908-4393-86E6-563F5D5DF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6D7163-0677-4F7E-9DF4-35642E432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B0B6B8-C3D8-4571-B8F1-C3BFC4451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701152-333C-4610-9188-8EE383EA1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B00F21-6414-4427-B291-6FDB65492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2D231-DECC-4E41-8DBA-7B40822CAB5E}" type="slidenum">
              <a:rPr b="0" lang="ru-RU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Прямая соединительная линия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Прямая соединительная линия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Равнобедренный треугольник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Равнобедренный треугольник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Прямоугольник 14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Cambr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 type="dt" idx="28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dde9e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 type="ftr" idx="29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 type="sldNum" idx="30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00FA4-C1EB-449C-83B4-023C76BE7736}" type="slidenum">
              <a:rPr b="0" lang="ru-RU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 type="dt" idx="3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 type="ftr" idx="3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 type="sldNum" idx="3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9A6B2-F11B-41A9-ABC8-D5FFAE34E728}" type="slidenum">
              <a:rPr b="0" lang="ru-RU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Равнобедренный треугольник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Прямая соединительная линия 14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 type="dt" idx="34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 type="ftr" idx="35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 type="sldNum" idx="36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1056E-A43E-450C-8199-99D9ADDB6F4F}" type="slidenum">
              <a:rPr b="0" lang="ru-RU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Прямоугольник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Прямоугольник 14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Прямоугольник 15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47D5E-5309-44E0-92B5-BF07C9DACC33}" type="slidenum">
              <a:rPr b="0" lang="ru-RU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5724A-7B60-4427-8891-3D75FF752E85}" type="slidenum">
              <a:rPr b="0" lang="ru-RU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Прямоугольник 10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Прямоугольник 11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Cambri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dde9e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11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2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0D1E2-9884-4D75-BEC0-C9A7B47201BB}" type="slidenum">
              <a:rPr b="0" lang="ru-RU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6C9BC-C1B1-4EA9-AC24-F59E8DCDADA7}" type="slidenum">
              <a:rPr b="0" lang="ru-RU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E38F2-9F33-4926-899C-1593F23D91B7}" type="slidenum">
              <a:rPr b="0" lang="ru-RU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Равнобедренный треугольник 10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A831E-4243-46C2-BF67-2FA6CB1EBA7D}" type="slidenum">
              <a:rPr b="0" lang="ru-RU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Равнобедренный треугольник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0787F-FE9B-4753-A744-DED0319166BD}" type="slidenum">
              <a:rPr b="0" lang="ru-RU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Прямая соединительная линия 11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Равнобедренный треугольник 14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25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ftr" idx="26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sldNum" idx="27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AD77D-4CE8-4E74-B82C-912313F9E108}" type="slidenum">
              <a:rPr b="0" lang="ru-RU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images.yandex.ru/yandsearch?p=107&amp;ed=1&amp;stype=simage&amp;text=&#1089;&#1077;&#1084;&#1100;&#1103;&amp;spsite=www.knnr.ru&amp;img_url=www.knnr.ru/images/family.jpg" TargetMode="External"/><Relationship Id="rId3" Type="http://schemas.openxmlformats.org/officeDocument/2006/relationships/image" Target="../media/image4.jpeg"/><Relationship Id="rId4" Type="http://schemas.openxmlformats.org/officeDocument/2006/relationships/hyperlink" Target="http://images.yandex.ru/yandsearch?p=54&amp;ed=1&amp;stype=simage&amp;text=&#1089;&#1077;&#1084;&#1100;&#1103;&amp;spsite=fake-005-321609.ru&amp;img_url=s44.radikal.ru/i103/0907/19/9c8e893e0323.jpg" TargetMode="External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p=70&amp;ed=1&amp;text=&#1089;&#1077;&#1084;&#1100;&#1103;&amp;spsite=fake-001-148759.ru&amp;img_url=otdih.nakubani.ru/media/bc473ca2558b8c7c0ebc033cb53ad053.jpg&amp;rpt=simage" TargetMode="External"/><Relationship Id="rId2" Type="http://schemas.openxmlformats.org/officeDocument/2006/relationships/image" Target="../media/image9.jpeg"/><Relationship Id="rId3" Type="http://schemas.openxmlformats.org/officeDocument/2006/relationships/hyperlink" Target="http://images.yandex.ru/yandsearch?p=83&amp;ed=1&amp;text=&#1089;&#1077;&#1084;&#1100;&#1103;&amp;spsite=fake-008-5169134.ru&amp;img_url=img.crazys.info/files/i/2008.11.20/1227119242_xfjt_2012.jpg&amp;rpt=simage" TargetMode="External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p=85&amp;ed=1&amp;text=&#1089;&#1077;&#1084;&#1100;&#1103;&amp;spsite=kovrovremeslo.elcom.ru&amp;img_url=kovrovremeslo.elcom.ru/family.jpg&amp;rpt=simage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p=92&amp;ed=1&amp;text=&#1089;&#1077;&#1084;&#1100;&#1103;&amp;spsite=fake-012-80398.ru&amp;img_url=wiki.iteach.ru/images/a/a4/1_&#1078;.JPG&amp;rpt=simage" TargetMode="External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hyperlink" Target="http://images.yandex.ru/yandsearch?p=99&amp;ed=1&amp;text=&#1089;&#1077;&#1084;&#1100;&#1103;&amp;spsite=fake-011-1882371.ru&amp;img_url=www.playcast.ru/uploads/work/352734.jpg&amp;rpt=simage" TargetMode="External"/><Relationship Id="rId3" Type="http://schemas.openxmlformats.org/officeDocument/2006/relationships/image" Target="../media/image22.jpeg"/><Relationship Id="rId4" Type="http://schemas.openxmlformats.org/officeDocument/2006/relationships/hyperlink" Target="http://images.yandex.ru/yandsearch?p=97&amp;ed=1&amp;text=&#1089;&#1077;&#1084;&#1100;&#1103;&amp;spsite=www.artlib.ru&amp;img_url=www.gspnet.ru/forum/uploads/post-422-1227907161.jpg&amp;rpt=simage" TargetMode="External"/><Relationship Id="rId5" Type="http://schemas.openxmlformats.org/officeDocument/2006/relationships/image" Target="../media/image23.jpeg"/><Relationship Id="rId6" Type="http://schemas.openxmlformats.org/officeDocument/2006/relationships/image" Target="../media/image24.jpeg"/><Relationship Id="rId7" Type="http://schemas.openxmlformats.org/officeDocument/2006/relationships/image" Target="../media/image25.jpeg"/><Relationship Id="rId8" Type="http://schemas.openxmlformats.org/officeDocument/2006/relationships/image" Target="../media/image26.png"/><Relationship Id="rId9" Type="http://schemas.openxmlformats.org/officeDocument/2006/relationships/image" Target="../media/image27.png"/><Relationship Id="rId10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642760" y="500040"/>
            <a:ext cx="6357960" cy="714240"/>
          </a:xfrm>
          <a:prstGeom prst="rect">
            <a:avLst/>
          </a:prstGeom>
          <a:solidFill>
            <a:srgbClr val="ffff00"/>
          </a:solidFill>
          <a:ln w="9360">
            <a:solidFill>
              <a:srgbClr val="0070c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mbria"/>
              </a:rPr>
              <a:t>СЕМЬЯ-ЯЧЕЙКА ОБЩЕСТВА.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64653"/>
                </a:solidFill>
                <a:latin typeface="Cambria"/>
              </a:rPr>
              <a:t>6 класс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5" name="Picture 2" descr=""/>
          <p:cNvPicPr/>
          <p:nvPr/>
        </p:nvPicPr>
        <p:blipFill>
          <a:blip r:embed="rId1"/>
          <a:stretch/>
        </p:blipFill>
        <p:spPr>
          <a:xfrm>
            <a:off x="0" y="1928880"/>
            <a:ext cx="6643800" cy="46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64653"/>
                </a:solidFill>
                <a:latin typeface="Cambria"/>
              </a:rPr>
              <a:t>Здесь может быть твой рисунок …….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pic>
        <p:nvPicPr>
          <p:cNvPr id="559" name="Picture 53" descr="http://im0-tub.yandex.net/i?id=100841278&amp;tov=0"/>
          <p:cNvPicPr/>
          <p:nvPr/>
        </p:nvPicPr>
        <p:blipFill>
          <a:blip r:embed="rId1"/>
          <a:stretch/>
        </p:blipFill>
        <p:spPr>
          <a:xfrm>
            <a:off x="2631960" y="1219320"/>
            <a:ext cx="3880080" cy="493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888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7030a0"/>
                </a:solidFill>
                <a:latin typeface="Cambria"/>
              </a:rPr>
              <a:t>Состав семьи</a:t>
            </a:r>
            <a:endParaRPr b="0" lang="en-US" sz="4800" spc="-1" strike="noStrike">
              <a:solidFill>
                <a:srgbClr val="464653"/>
              </a:solidFill>
              <a:latin typeface="Cambria"/>
            </a:endParaRPr>
          </a:p>
        </p:txBody>
      </p:sp>
      <p:pic>
        <p:nvPicPr>
          <p:cNvPr id="517" name="Содержимое 2" descr=""/>
          <p:cNvPicPr/>
          <p:nvPr/>
        </p:nvPicPr>
        <p:blipFill>
          <a:blip r:embed="rId1"/>
          <a:stretch/>
        </p:blipFill>
        <p:spPr>
          <a:xfrm>
            <a:off x="450720" y="725400"/>
            <a:ext cx="7255080" cy="5735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18" name=""/>
          <p:cNvGraphicFramePr/>
          <p:nvPr/>
        </p:nvGraphicFramePr>
        <p:xfrm>
          <a:off x="993600" y="3354480"/>
          <a:ext cx="7156800" cy="149040"/>
        </p:xfrm>
        <a:graphic>
          <a:graphicData uri="http://schemas.openxmlformats.org/drawingml/2006/table">
            <a:tbl>
              <a:tblPr/>
              <a:tblGrid>
                <a:gridCol w="111600"/>
                <a:gridCol w="111600"/>
                <a:gridCol w="111600"/>
                <a:gridCol w="111600"/>
                <a:gridCol w="111600"/>
                <a:gridCol w="111600"/>
                <a:gridCol w="111600"/>
                <a:gridCol w="111600"/>
                <a:gridCol w="111600"/>
                <a:gridCol w="111600"/>
                <a:gridCol w="111600"/>
                <a:gridCol w="111600"/>
                <a:gridCol w="111600"/>
                <a:gridCol w="111600"/>
                <a:gridCol w="111600"/>
                <a:gridCol w="111600"/>
                <a:gridCol w="111600"/>
                <a:gridCol w="111600"/>
                <a:gridCol w="111600"/>
                <a:gridCol w="111600"/>
                <a:gridCol w="111600"/>
                <a:gridCol w="111600"/>
                <a:gridCol w="111600"/>
                <a:gridCol w="111600"/>
                <a:gridCol w="111600"/>
                <a:gridCol w="111600"/>
                <a:gridCol w="111600"/>
                <a:gridCol w="111600"/>
                <a:gridCol w="111600"/>
                <a:gridCol w="111600"/>
                <a:gridCol w="111600"/>
                <a:gridCol w="111600"/>
                <a:gridCol w="111600"/>
                <a:gridCol w="111600"/>
                <a:gridCol w="111600"/>
                <a:gridCol w="111600"/>
                <a:gridCol w="111600"/>
                <a:gridCol w="111600"/>
                <a:gridCol w="111600"/>
                <a:gridCol w="111600"/>
                <a:gridCol w="111600"/>
                <a:gridCol w="111600"/>
                <a:gridCol w="111600"/>
                <a:gridCol w="111600"/>
                <a:gridCol w="111600"/>
                <a:gridCol w="111600"/>
                <a:gridCol w="111600"/>
                <a:gridCol w="111600"/>
                <a:gridCol w="111600"/>
                <a:gridCol w="111600"/>
                <a:gridCol w="111600"/>
                <a:gridCol w="111600"/>
                <a:gridCol w="111600"/>
                <a:gridCol w="111600"/>
                <a:gridCol w="111600"/>
                <a:gridCol w="111600"/>
                <a:gridCol w="111600"/>
                <a:gridCol w="111600"/>
                <a:gridCol w="111600"/>
                <a:gridCol w="111600"/>
                <a:gridCol w="111600"/>
                <a:gridCol w="111600"/>
                <a:gridCol w="111600"/>
                <a:gridCol w="111600"/>
                <a:gridCol w="111600"/>
                <a:gridCol w="111600"/>
                <a:gridCol w="111600"/>
                <a:gridCol w="111600"/>
                <a:gridCol w="111600"/>
                <a:gridCol w="111600"/>
                <a:gridCol w="111600"/>
              </a:tblGrid>
              <a:tr h="149040">
                <a:tc>
                  <a:txBody>
                    <a:bodyPr lIns="37800" rIns="37800" tIns="18720" bIns="187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7800" marR="37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7800" rIns="37800" tIns="18720" bIns="187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7800" marR="37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7800" rIns="37800" tIns="18720" bIns="187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7800" marR="37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7800" rIns="37800" tIns="18720" bIns="187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7800" marR="37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7800" rIns="37800" tIns="18720" bIns="187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7800" marR="37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7800" rIns="37800" tIns="18720" bIns="187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7800" marR="37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7800" rIns="37800" tIns="18720" bIns="187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7800" marR="37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7800" rIns="37800" tIns="18720" bIns="187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7800" marR="37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7800" rIns="37800" tIns="18720" bIns="187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7800" marR="37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7800" rIns="37800" tIns="18720" bIns="187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7800" marR="37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7800" rIns="37800" tIns="18720" bIns="187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7800" marR="37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7800" rIns="37800" tIns="18720" bIns="187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7800" marR="37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7800" rIns="37800" tIns="18720" bIns="187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7800" marR="37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7800" rIns="37800" tIns="18720" bIns="187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7800" marR="37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7800" rIns="37800" tIns="18720" bIns="187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7800" marR="37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7800" rIns="37800" tIns="18720" bIns="187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7800" marR="37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7800" rIns="37800" tIns="18720" bIns="187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7800" marR="37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7800" rIns="37800" tIns="18720" bIns="187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7800" marR="37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7800" rIns="37800" tIns="18720" bIns="187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7800" marR="37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7800" rIns="37800" tIns="18720" bIns="187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7800" marR="37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7800" rIns="37800" tIns="18720" bIns="187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7800" marR="37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7800" rIns="37800" tIns="18720" bIns="187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7800" marR="37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7800" rIns="37800" tIns="18720" bIns="187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7800" marR="37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7800" rIns="37800" tIns="18720" bIns="187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7800" marR="37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7800" rIns="37800" tIns="18720" bIns="187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7800" marR="37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7800" rIns="37800" tIns="18720" bIns="187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7800" marR="37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7800" rIns="37800" tIns="18720" bIns="187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7800" marR="37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7800" rIns="37800" tIns="18720" bIns="187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7800" marR="37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7800" rIns="37800" tIns="18720" bIns="187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7800" marR="37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7800" rIns="37800" tIns="18720" bIns="187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7800" marR="37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7800" rIns="37800" tIns="18720" bIns="187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7800" marR="37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7800" rIns="37800" tIns="18720" bIns="187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7800" marR="37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7800" rIns="37800" tIns="18720" bIns="187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7800" marR="37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7800" rIns="37800" tIns="18720" bIns="187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7800" marR="37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7800" rIns="37800" tIns="18720" bIns="187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7800" marR="37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7800" rIns="37800" tIns="18720" bIns="187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7800" marR="37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7800" rIns="37800" tIns="18720" bIns="187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7800" marR="37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7800" rIns="37800" tIns="18720" bIns="187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7800" marR="37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7800" rIns="37800" tIns="18720" bIns="187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7800" marR="37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7800" rIns="37800" tIns="18720" bIns="187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7800" marR="37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7800" rIns="37800" tIns="18720" bIns="187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7800" marR="37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7800" rIns="37800" tIns="18720" bIns="187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7800" marR="37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7800" rIns="37800" tIns="18720" bIns="187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7800" marR="37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7800" rIns="37800" tIns="18720" bIns="187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7800" marR="37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7800" rIns="37800" tIns="18720" bIns="187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7800" marR="37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7800" rIns="37800" tIns="18720" bIns="187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7800" marR="37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7800" rIns="37800" tIns="18720" bIns="187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7800" marR="37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7800" rIns="37800" tIns="18720" bIns="187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7800" marR="37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7800" rIns="37800" tIns="18720" bIns="187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7800" marR="37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7800" rIns="37800" tIns="18720" bIns="187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7800" marR="37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7800" rIns="37800" tIns="18720" bIns="187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7800" marR="37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7800" rIns="37800" tIns="18720" bIns="187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7800" marR="37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7800" rIns="37800" tIns="18720" bIns="187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7800" marR="37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7800" rIns="37800" tIns="18720" bIns="187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7800" marR="37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7800" rIns="37800" tIns="18720" bIns="187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7800" marR="37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7800" rIns="37800" tIns="18720" bIns="187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7800" marR="37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7800" rIns="37800" tIns="18720" bIns="187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7800" marR="37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7800" rIns="37800" tIns="18720" bIns="187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7800" marR="37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7800" rIns="37800" tIns="18720" bIns="187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7800" marR="37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7800" rIns="37800" tIns="18720" bIns="187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7800" marR="37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7800" rIns="37800" tIns="18720" bIns="187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7800" marR="37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7800" rIns="37800" tIns="18720" bIns="187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7800" marR="37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7800" rIns="37800" tIns="18720" bIns="187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7800" marR="37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7800" rIns="37800" tIns="18720" bIns="187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7800" marR="37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7800" rIns="37800" tIns="18720" bIns="187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7800" marR="37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7800" rIns="37800" tIns="18720" bIns="187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7800" marR="37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7800" rIns="37800" tIns="18720" bIns="187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7800" marR="37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7800" rIns="37800" tIns="18720" bIns="187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7800" marR="37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7800" rIns="37800" tIns="18720" bIns="187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7800" marR="37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7800" rIns="37800" tIns="18720" bIns="187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7800" marR="37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7800" rIns="37800" tIns="18720" bIns="187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7800" marR="37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9" name="Picture 55" descr="http://im8-tub.yandex.net/i?id=480049&amp;tov=8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57120" y="4429080"/>
            <a:ext cx="2786040" cy="1785960"/>
          </a:xfrm>
          <a:prstGeom prst="rect">
            <a:avLst/>
          </a:prstGeom>
          <a:ln w="0">
            <a:noFill/>
          </a:ln>
        </p:spPr>
      </p:pic>
      <p:pic>
        <p:nvPicPr>
          <p:cNvPr id="520" name="Picture 2" descr="http://im3-tub.yandex.net/i?id=37053915&amp;tov=3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0" y="-3968640"/>
            <a:ext cx="1038240" cy="1066680"/>
          </a:xfrm>
          <a:prstGeom prst="rect">
            <a:avLst/>
          </a:prstGeom>
          <a:ln w="0">
            <a:noFill/>
          </a:ln>
        </p:spPr>
      </p:pic>
      <p:pic>
        <p:nvPicPr>
          <p:cNvPr id="521" name="Picture 73" descr=""/>
          <p:cNvPicPr/>
          <p:nvPr/>
        </p:nvPicPr>
        <p:blipFill>
          <a:blip r:embed="rId6"/>
          <a:stretch/>
        </p:blipFill>
        <p:spPr>
          <a:xfrm>
            <a:off x="4572000" y="4000680"/>
            <a:ext cx="3214800" cy="2705040"/>
          </a:xfrm>
          <a:prstGeom prst="rect">
            <a:avLst/>
          </a:prstGeom>
          <a:ln w="0">
            <a:noFill/>
          </a:ln>
        </p:spPr>
      </p:pic>
      <p:pic>
        <p:nvPicPr>
          <p:cNvPr id="522" name="Picture 74" descr=""/>
          <p:cNvPicPr/>
          <p:nvPr/>
        </p:nvPicPr>
        <p:blipFill>
          <a:blip r:embed="rId7"/>
          <a:stretch/>
        </p:blipFill>
        <p:spPr>
          <a:xfrm>
            <a:off x="6357960" y="428760"/>
            <a:ext cx="2500200" cy="3500280"/>
          </a:xfrm>
          <a:prstGeom prst="rect">
            <a:avLst/>
          </a:prstGeom>
          <a:ln w="0">
            <a:noFill/>
          </a:ln>
        </p:spPr>
      </p:pic>
      <p:pic>
        <p:nvPicPr>
          <p:cNvPr id="523" name="Picture 75" descr=""/>
          <p:cNvPicPr/>
          <p:nvPr/>
        </p:nvPicPr>
        <p:blipFill>
          <a:blip r:embed="rId8"/>
          <a:stretch/>
        </p:blipFill>
        <p:spPr>
          <a:xfrm>
            <a:off x="642960" y="1428840"/>
            <a:ext cx="378612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b050"/>
                </a:solidFill>
                <a:latin typeface="Cambria"/>
              </a:rPr>
              <a:t>Особенности семейного коллектива</a:t>
            </a:r>
            <a:endParaRPr b="0" lang="en-US" sz="36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Общее хозяйство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Общее место жительства (дом, квартира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Общие доходы и расходы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Воспитание детей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Досуг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Главная особенность-любовь и привязанность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6" name="Picture 18" descr="http://im0-tub.yandex.net/i?id=35591755&amp;tov=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429080" y="4429080"/>
            <a:ext cx="2857680" cy="1928880"/>
          </a:xfrm>
          <a:prstGeom prst="rect">
            <a:avLst/>
          </a:prstGeom>
          <a:ln w="0">
            <a:noFill/>
          </a:ln>
        </p:spPr>
      </p:pic>
      <p:pic>
        <p:nvPicPr>
          <p:cNvPr id="527" name="Picture 31" descr="http://im8-tub.yandex.net/i?id=156098403&amp;tov=8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500800" y="571680"/>
            <a:ext cx="2786040" cy="12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Cambria"/>
              </a:rPr>
              <a:t>Пословицы и поговорки о семье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29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На что и клад, если в семье лад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Любовь да совет -  так и горя нет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Вся семья вместе, так и душа на месте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Задание классу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родолжите пословицы и поговорки о семье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0" name="Picture 33" descr="http://im3-tub.yandex.net/i?id=153896866&amp;tov=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857920" y="2643120"/>
            <a:ext cx="264312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1" name="Заголовок 1" descr=""/>
          <p:cNvPicPr/>
          <p:nvPr/>
        </p:nvPicPr>
        <p:blipFill>
          <a:blip r:embed="rId1"/>
          <a:stretch/>
        </p:blipFill>
        <p:spPr>
          <a:xfrm>
            <a:off x="298440" y="-353880"/>
            <a:ext cx="8394840" cy="1506240"/>
          </a:xfrm>
          <a:prstGeom prst="rect">
            <a:avLst/>
          </a:prstGeom>
          <a:ln w="0">
            <a:noFill/>
          </a:ln>
        </p:spPr>
      </p:pic>
      <p:sp>
        <p:nvSpPr>
          <p:cNvPr id="532" name=""/>
          <p:cNvSpPr txBox="1"/>
          <p:nvPr/>
        </p:nvSpPr>
        <p:spPr>
          <a:xfrm>
            <a:off x="428400" y="571680"/>
            <a:ext cx="7267320" cy="58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Мужчина 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женщина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=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3" name="Picture 1" descr=""/>
          <p:cNvPicPr/>
          <p:nvPr/>
        </p:nvPicPr>
        <p:blipFill>
          <a:blip r:embed="rId2"/>
          <a:stretch/>
        </p:blipFill>
        <p:spPr>
          <a:xfrm>
            <a:off x="4714920" y="4286160"/>
            <a:ext cx="3143160" cy="2571840"/>
          </a:xfrm>
          <a:prstGeom prst="rect">
            <a:avLst/>
          </a:prstGeom>
          <a:ln w="0">
            <a:noFill/>
          </a:ln>
        </p:spPr>
      </p:pic>
      <p:sp>
        <p:nvSpPr>
          <p:cNvPr id="534" name="Сердце 5"/>
          <p:cNvSpPr/>
          <p:nvPr/>
        </p:nvSpPr>
        <p:spPr>
          <a:xfrm>
            <a:off x="3429000" y="571680"/>
            <a:ext cx="785880" cy="714240"/>
          </a:xfrm>
          <a:prstGeom prst="pie">
            <a:avLst/>
          </a:prstGeom>
          <a:solidFill>
            <a:srgbClr val="c00000"/>
          </a:solidFill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Кольцо 6"/>
          <p:cNvSpPr/>
          <p:nvPr/>
        </p:nvSpPr>
        <p:spPr>
          <a:xfrm>
            <a:off x="7072200" y="642960"/>
            <a:ext cx="714600" cy="714240"/>
          </a:xfrm>
          <a:prstGeom prst="pie">
            <a:avLst/>
          </a:prstGeom>
          <a:solidFill>
            <a:srgbClr val="ffff00"/>
          </a:solidFill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Кольцо 7"/>
          <p:cNvSpPr/>
          <p:nvPr/>
        </p:nvSpPr>
        <p:spPr>
          <a:xfrm>
            <a:off x="6715080" y="642960"/>
            <a:ext cx="714600" cy="714240"/>
          </a:xfrm>
          <a:prstGeom prst="pie">
            <a:avLst/>
          </a:prstGeom>
          <a:solidFill>
            <a:srgbClr val="ffff00"/>
          </a:solidFill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7" name="Picture 2" descr=""/>
          <p:cNvPicPr/>
          <p:nvPr/>
        </p:nvPicPr>
        <p:blipFill>
          <a:blip r:embed="rId3"/>
          <a:stretch/>
        </p:blipFill>
        <p:spPr>
          <a:xfrm>
            <a:off x="357120" y="3429000"/>
            <a:ext cx="1849680" cy="2614680"/>
          </a:xfrm>
          <a:prstGeom prst="rect">
            <a:avLst/>
          </a:prstGeom>
          <a:ln w="0">
            <a:noFill/>
          </a:ln>
        </p:spPr>
      </p:pic>
      <p:pic>
        <p:nvPicPr>
          <p:cNvPr id="538" name="Picture 3" descr=""/>
          <p:cNvPicPr/>
          <p:nvPr/>
        </p:nvPicPr>
        <p:blipFill>
          <a:blip r:embed="rId4"/>
          <a:stretch/>
        </p:blipFill>
        <p:spPr>
          <a:xfrm>
            <a:off x="2428920" y="5086440"/>
            <a:ext cx="2000160" cy="1557360"/>
          </a:xfrm>
          <a:prstGeom prst="rect">
            <a:avLst/>
          </a:prstGeom>
          <a:ln w="0">
            <a:noFill/>
          </a:ln>
        </p:spPr>
      </p:pic>
      <p:pic>
        <p:nvPicPr>
          <p:cNvPr id="539" name="Picture 4" descr=""/>
          <p:cNvPicPr/>
          <p:nvPr/>
        </p:nvPicPr>
        <p:blipFill>
          <a:blip r:embed="rId5"/>
          <a:stretch/>
        </p:blipFill>
        <p:spPr>
          <a:xfrm>
            <a:off x="5214960" y="1428840"/>
            <a:ext cx="2214720" cy="2857320"/>
          </a:xfrm>
          <a:prstGeom prst="rect">
            <a:avLst/>
          </a:prstGeom>
          <a:ln w="0">
            <a:noFill/>
          </a:ln>
        </p:spPr>
      </p:pic>
      <p:pic>
        <p:nvPicPr>
          <p:cNvPr id="540" name="Picture 6" descr=""/>
          <p:cNvPicPr/>
          <p:nvPr/>
        </p:nvPicPr>
        <p:blipFill>
          <a:blip r:embed="rId6"/>
          <a:stretch/>
        </p:blipFill>
        <p:spPr>
          <a:xfrm>
            <a:off x="0" y="1428840"/>
            <a:ext cx="2227320" cy="1571400"/>
          </a:xfrm>
          <a:prstGeom prst="rect">
            <a:avLst/>
          </a:prstGeom>
          <a:ln w="0">
            <a:noFill/>
          </a:ln>
        </p:spPr>
      </p:pic>
      <p:pic>
        <p:nvPicPr>
          <p:cNvPr id="541" name="Picture 8" descr=""/>
          <p:cNvPicPr/>
          <p:nvPr/>
        </p:nvPicPr>
        <p:blipFill>
          <a:blip r:embed="rId7"/>
          <a:stretch/>
        </p:blipFill>
        <p:spPr>
          <a:xfrm>
            <a:off x="2357280" y="1428840"/>
            <a:ext cx="2343240" cy="35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72388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ambria"/>
              </a:rPr>
              <a:t>Семья и государство</a:t>
            </a:r>
            <a:endParaRPr b="0" lang="en-US" sz="36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500040" y="928440"/>
            <a:ext cx="7167600" cy="5357880"/>
          </a:xfrm>
          <a:prstGeom prst="rect">
            <a:avLst/>
          </a:prstGeom>
          <a:noFill/>
          <a:ln w="9360">
            <a:solidFill>
              <a:srgbClr val="92d05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Конституция РФ защищает семью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Жильё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Дошкольное учреждение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Бесплатное образование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Главная государственная забот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омощь молодой семье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Льготы - многодетным семьям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Выплаты при рождении ребёнк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4" name="Picture 2" descr=""/>
          <p:cNvPicPr/>
          <p:nvPr/>
        </p:nvPicPr>
        <p:blipFill>
          <a:blip r:embed="rId1"/>
          <a:stretch/>
        </p:blipFill>
        <p:spPr>
          <a:xfrm>
            <a:off x="3857760" y="4714920"/>
            <a:ext cx="378612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mbria"/>
              </a:rPr>
              <a:t>Права несовершеннолетних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46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-жить и воспитываться в семье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раво на заботу со стороны родителей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раво на имущество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раво общаться с обоими родителями и другими родственниками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7" name="Picture 40" descr="http://im5-tub.yandex.net/i?id=123998816&amp;tov=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71760" y="4071960"/>
            <a:ext cx="3929040" cy="26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71680" y="214200"/>
            <a:ext cx="72388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Cambria"/>
              </a:rPr>
              <a:t>Какими бывают семьи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pic>
        <p:nvPicPr>
          <p:cNvPr id="549" name="Содержимое 2" descr=""/>
          <p:cNvPicPr/>
          <p:nvPr/>
        </p:nvPicPr>
        <p:blipFill>
          <a:blip r:embed="rId1"/>
          <a:stretch/>
        </p:blipFill>
        <p:spPr>
          <a:xfrm>
            <a:off x="401760" y="804960"/>
            <a:ext cx="7304040" cy="5656320"/>
          </a:xfrm>
          <a:prstGeom prst="rect">
            <a:avLst/>
          </a:prstGeom>
          <a:ln w="0">
            <a:noFill/>
          </a:ln>
        </p:spPr>
      </p:pic>
      <p:pic>
        <p:nvPicPr>
          <p:cNvPr id="550" name="Picture 47" descr="http://im2-tub.yandex.net/i?id=57712972&amp;tov=2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357960" y="2428920"/>
            <a:ext cx="1519200" cy="1890720"/>
          </a:xfrm>
          <a:prstGeom prst="rect">
            <a:avLst/>
          </a:prstGeom>
          <a:ln w="0">
            <a:noFill/>
          </a:ln>
        </p:spPr>
      </p:pic>
      <p:pic>
        <p:nvPicPr>
          <p:cNvPr id="551" name="Picture 45" descr="http://im3-tub.yandex.net/i?id=42607582&amp;tov=3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357880" y="4286160"/>
            <a:ext cx="2608200" cy="1857600"/>
          </a:xfrm>
          <a:prstGeom prst="rect">
            <a:avLst/>
          </a:prstGeom>
          <a:ln w="0">
            <a:noFill/>
          </a:ln>
        </p:spPr>
      </p:pic>
      <p:pic>
        <p:nvPicPr>
          <p:cNvPr id="552" name="Picture 67" descr="http://im7-tub.yandex.net/i?id=43085869&amp;tov=7"/>
          <p:cNvPicPr/>
          <p:nvPr/>
        </p:nvPicPr>
        <p:blipFill>
          <a:blip r:embed="rId6"/>
          <a:stretch/>
        </p:blipFill>
        <p:spPr>
          <a:xfrm>
            <a:off x="857160" y="4500720"/>
            <a:ext cx="2786040" cy="1928520"/>
          </a:xfrm>
          <a:prstGeom prst="rect">
            <a:avLst/>
          </a:prstGeom>
          <a:ln w="0">
            <a:noFill/>
          </a:ln>
        </p:spPr>
      </p:pic>
      <p:pic>
        <p:nvPicPr>
          <p:cNvPr id="553" name="Picture 30" descr="http://im4-tub.yandex.net/i?id=17133795&amp;tov=4"/>
          <p:cNvPicPr/>
          <p:nvPr/>
        </p:nvPicPr>
        <p:blipFill>
          <a:blip r:embed="rId7"/>
          <a:stretch/>
        </p:blipFill>
        <p:spPr>
          <a:xfrm>
            <a:off x="214200" y="2643120"/>
            <a:ext cx="2357640" cy="185760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2" descr=""/>
          <p:cNvPicPr/>
          <p:nvPr/>
        </p:nvPicPr>
        <p:blipFill>
          <a:blip r:embed="rId8"/>
          <a:stretch/>
        </p:blipFill>
        <p:spPr>
          <a:xfrm>
            <a:off x="4500720" y="1071720"/>
            <a:ext cx="1928520" cy="1252440"/>
          </a:xfrm>
          <a:prstGeom prst="rect">
            <a:avLst/>
          </a:prstGeom>
          <a:ln w="0">
            <a:noFill/>
          </a:ln>
        </p:spPr>
      </p:pic>
      <p:pic>
        <p:nvPicPr>
          <p:cNvPr id="555" name="Picture 3" descr=""/>
          <p:cNvPicPr/>
          <p:nvPr/>
        </p:nvPicPr>
        <p:blipFill>
          <a:blip r:embed="rId9"/>
          <a:stretch/>
        </p:blipFill>
        <p:spPr>
          <a:xfrm>
            <a:off x="3643200" y="2286000"/>
            <a:ext cx="2143080" cy="16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mbria"/>
              </a:rPr>
              <a:t>Вопросы на повторение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5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1.что такое семья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2.как возникает семья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3.Какими бывают семьи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4.Для чего ребёнку нужна семья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5.Какое значение имеет семья для государства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2T14:12:42Z</dcterms:created>
  <dc:creator>eXPerience</dc:creator>
  <dc:description/>
  <dc:language>en-US</dc:language>
  <cp:lastModifiedBy>Admin</cp:lastModifiedBy>
  <dcterms:modified xsi:type="dcterms:W3CDTF">2011-07-22T14:26:47Z</dcterms:modified>
  <cp:revision>12</cp:revision>
  <dc:subject/>
  <dc:title>СЕМЬЯ-ЯЧЕЙКА ОБЩЕСТВА.</dc:title>
</cp:coreProperties>
</file>