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6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20C-2BFD-4DD9-B867-D2DB054A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AC4-3D31-48C6-9429-B83B023D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694F2-6771-400C-B1A4-4360835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9D6B4-C76A-46C1-893A-E236FE93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DD3F3-69D9-4FE0-B296-3AEF736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BBB71-6433-4172-9CBD-B961010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B5840-2296-4153-9468-12F0285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0CC9B-7CA6-4922-9914-22E3CB62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3C7E5-7429-4FCD-82E9-C208D83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09AB3-F3FC-43AE-A0D8-9BE4669D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94C0A-4F7D-4845-BE2D-B49373B0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7EB44-DD8F-4CB9-8F4E-9D9C58C8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631-1A53-4818-BC30-B0811B38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19E77-2471-4850-AE53-6BFBCB0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9B653-9A31-46AC-A35D-44620285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046C-930C-498B-8C5D-6D1C34A9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22BAE-E4B7-49BD-8E0E-C0C1020D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72D9D-9C3A-4053-883C-7AFCF28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AFF00-F85A-433D-9E8E-1C2B2C3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60E61-0A16-4B78-81DB-9EDEE49B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851C1-BE89-4C11-8F1A-36710EC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E1A5-0346-4A82-AB31-D2A2B28B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A329-03E8-4373-9DDD-9084C065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B2E-7790-42BF-B934-9C91435D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BBA2E-A6ED-448E-B8A8-448841CC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7E39-A2A0-4590-966D-16DA17ED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1932-873A-4FE7-924F-F158FA3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CFDE9-E788-4FBE-A6DE-E1C457D0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082F6-B24E-444C-9AE8-4DC1BD58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8D14A-354A-4A56-8D14-04FBD5B5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3424B-515F-481E-8E40-D272538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99BD9-31D5-420D-8366-B759A11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F8EEB-7CBA-4783-8403-210E1DD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C6269-548D-4E61-A557-08CC068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CE4B-210C-4A81-B3F2-5B4B088F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EA59D-57B5-4805-B026-BFA1095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41083-0C28-44DB-895C-F7B88DE3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095AD-FB63-4334-8380-DBFBDEB2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3219C-0C52-4B70-BC08-C654942A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52E22-7EAB-46F7-BF27-76D0F60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697E-6ED9-405C-B01F-DAFC6C3D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7E932-68E4-480E-B3CB-869C971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A5172-B813-418D-935F-845C2698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1F4C7-D7C6-40B1-8696-777CD52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2E3B-E016-4F8B-8EF8-57B1145A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579-9C76-45B8-8891-F3EA917F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04A9B-F4FA-4E81-83F4-AEBD484A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2FB89-9DAD-45B7-8D5E-DC20E0C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61F70-BF70-4FB1-86A4-748246FC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F7FC6-CB79-49CE-A186-EEEAE0EF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0E674-C784-4E70-BD43-643CA053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996D-20E2-4E60-8B6A-0B063B72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1FE0-37B2-4FF2-AC2D-72008404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1DFD-F96E-44AD-B988-2CDF5022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157C-65E3-42D9-AF89-B19DF78A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67CE-5E1D-4578-B13A-9DF15E4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049-F04E-4F99-8391-3326B27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878F-9A12-4A0C-BECE-CBD62EA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B5DC-65D4-4702-BCC8-54C5561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4A3-D071-477A-A3E5-97633158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1544-462D-49D7-A2BA-F3D6B903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80A-110A-41D1-9610-569C3905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2A9C-7E47-4C0F-A7CD-251614C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6FFB2-A8D5-4A2D-90DE-12FF04F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979D-E3B1-45C5-92FB-4FFEF5B4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AA192-F833-4FC9-9335-536CC882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E2DE-545D-4592-8BF7-EBF63B8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2BC-D233-4104-9FA5-CE90FC59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6C40-4147-4D72-B8E1-781D4460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8F68-1473-4672-BA2E-CE57438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3945-D84C-4747-8486-4994A08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722CF-C92F-4BC2-B1FF-3487F27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ACEF-FFEC-4F63-A165-E3580ED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AE0B-FC57-4A46-BCCC-B8847DF4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CCCB-6777-4CCA-B3B8-80F38EC8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D6DA-749F-4C40-9713-611E3E8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7F80-80C2-458C-9B51-9B4F9A4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6698-8B7F-409D-9858-CBAF9BF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360-FC26-4653-8C82-0C9AAF3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154FF-B3DC-41D4-833D-A8901BB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1A15-B438-49AA-9DB4-2802AF6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513C-36BC-486D-BE89-619AFB7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29E11-9479-4681-9351-074E73A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B20A-36B2-4E50-B476-DC570ED9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5302-32D1-4CDC-9628-BE424AB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A759-89E2-4860-8994-4406403E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24C7-BCA8-43B2-8708-95F58E2B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E7F5E-635B-4B20-8962-FF4D1533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4C84F-6D5F-4F8F-B77B-CBD064C6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EF9-12AF-40B7-998B-00CDD380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3BF6E-054E-4CA8-9C46-022EB6D9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F449-892B-4E40-A39F-00B44315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1568-D965-41F0-9852-9E2EA6AF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68CB-561F-4FE3-8748-DBDDCFA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3C02-0E9F-4EEA-A585-D1F401E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1AC4-E962-4886-8F22-2F3D34B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43B7-1E13-4919-9C3C-7907728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B0F5B-8A15-4CDF-88F6-D36C4944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3482-C326-41DA-8B02-DF711A0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26511-0709-4BB1-A7DB-1D1A9586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6E7-E739-4B5D-97B8-BC9A407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775B0-83AA-428A-AAB3-05779A47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5F9B0-1F10-497D-A591-1E5CE5C8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400B7-C791-46AB-AA56-50E271AE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A7DFA-19FD-439B-A2C3-41736C1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5A749-5074-4F31-9708-AE90C62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D851-B09F-4690-842F-875F4736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370B-6EF1-419E-8951-58C85AE8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31585-7008-44AD-9DD7-7E0357C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7C91-D315-447C-A63E-C6D195C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1118A-E19A-4D3D-B05B-7E7FA90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181-732C-4A99-9B10-3D8F403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55E1-0A84-428A-8777-39CF6098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95E91-DDEE-4F48-9522-36074ABA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80A92-9BCA-4E07-9997-95F6C412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3F07C-84F2-48A8-A26C-4F4515D1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6210-052F-4EC9-BC9E-7738E113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6350-63CA-49E9-93FC-27138FB2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9B07-718A-4FA6-B7EC-ACB5B0A8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AC663-2B43-4D0D-9590-ADB78A0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11CA2-2AB6-4E10-8FEB-A6F2647E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FF77-183E-4EFF-982F-B1B53CCF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B29-BE39-4BB4-A444-36AE32F3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86B8-07CA-4490-A178-29BC0B40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AEAF8-ABCF-40D1-92E6-92D68DC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65A54-9EB5-4ED1-9E99-17A9A6F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6011-66F1-47EF-98C5-21F66D68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F4E6-234B-4782-8D2F-CCFF7BC1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B3072-C03B-447E-AEC8-4C6BC69B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DD9B8-837E-481D-8495-26AFEDDE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E2BD-C9F7-423A-834A-D19CEB9C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12B6C-39C5-4048-AC52-7E3B4F6F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DD1E0-7005-4578-BC5E-B175845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A0A-01D8-41D9-AA8C-962DB36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9E3C6-19F6-4361-B0DD-54990BAC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949E-53BD-405F-A40B-440B257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25360-730E-42F6-8B1A-CB8C619C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2DFB-8B23-4AED-BAD5-4176576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1AEA7-4F53-4D80-A6F2-1C321CF5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36AAB-D31A-4622-9A90-64C9AB95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0842-CE4A-40B7-86AF-CEC2AA3E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0566-7CE5-4F77-9B5B-8C7B393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A2178-C840-4088-8D8D-D2DE1E1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91B40-9726-4E1E-8149-F852A045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441B-68E9-46D5-A51C-ACF76F44D52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7F5-A7AC-4798-9A85-2137F18679C5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E61-BEDC-4BB4-A12F-69102818BC5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530D-9CC7-48BC-8ECD-3DF26F1BC865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9087-4AE4-41E2-854B-E42A71D98B0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B1A-883D-45E8-9368-ABDC9D009D2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5C7E-F95C-4FBE-97E9-ECEB251DE53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0817-7B05-43B1-B1E7-EDB2C2E88FB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DB9-059F-42DF-8288-3F5EE85A8DB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036-B600-4418-A0B0-782CD86086F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B411-5750-4746-99CF-1C4C14ED224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4F70-5972-418C-80D4-88C13B3FCE0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p=107&amp;ed=1&amp;stype=simage&amp;text=&#1089;&#1077;&#1084;&#1100;&#1103;&amp;spsite=www.knnr.ru&amp;img_url=www.knnr.ru/images/family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yandex.ru/yandsearch?p=54&amp;ed=1&amp;stype=simage&amp;text=&#1089;&#1077;&#1084;&#1100;&#1103;&amp;spsite=fake-005-321609.ru&amp;img_url=s44.radikal.ru/i103/0907/19/9c8e893e0323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70&amp;ed=1&amp;text=&#1089;&#1077;&#1084;&#1100;&#1103;&amp;spsite=fake-001-148759.ru&amp;img_url=otdih.nakubani.ru/media/bc473ca2558b8c7c0ebc033cb53ad053.jpg&amp;rpt=s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p=83&amp;ed=1&amp;text=&#1089;&#1077;&#1084;&#1100;&#1103;&amp;spsite=fake-008-5169134.ru&amp;img_url=img.crazys.info/files/i/2008.11.20/1227119242_xfjt_2012.jpg&amp;rpt=simage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85&amp;ed=1&amp;text=&#1089;&#1077;&#1084;&#1100;&#1103;&amp;spsite=kovrovremeslo.elcom.ru&amp;img_url=kovrovremeslo.elcom.ru/family.jpg&amp;rpt=simage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92&amp;ed=1&amp;text=&#1089;&#1077;&#1084;&#1100;&#1103;&amp;spsite=fake-012-80398.ru&amp;img_url=wiki.iteach.ru/images/a/a4/1_&#1078;.JPG&amp;rpt=simage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yandex.ru/yandsearch?p=99&amp;ed=1&amp;text=&#1089;&#1077;&#1084;&#1100;&#1103;&amp;spsite=fake-011-1882371.ru&amp;img_url=www.playcast.ru/uploads/work/352734.jpg&amp;rpt=simage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yandex.ru/yandsearch?p=97&amp;ed=1&amp;text=&#1089;&#1077;&#1084;&#1100;&#1103;&amp;spsite=www.artlib.ru&amp;img_url=www.gspnet.ru/forum/uploads/post-422-1227907161.jpg&amp;rpt=simage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42760" y="500040"/>
            <a:ext cx="6357960" cy="71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СЕМЬЯ-ЯЧЕЙКА ОБЩЕСТВА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6643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десь может быть твой рисунок ……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59" name="Picture 53" descr="http://im0-tub.yandex.net/i?id=100841278&amp;tov=0"/>
          <p:cNvPicPr/>
          <p:nvPr/>
        </p:nvPicPr>
        <p:blipFill>
          <a:blip r:embed="rId1"/>
          <a:stretch/>
        </p:blipFill>
        <p:spPr>
          <a:xfrm>
            <a:off x="2631960" y="1219320"/>
            <a:ext cx="38800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mbria"/>
              </a:rPr>
              <a:t>Состав семьи</a:t>
            </a:r>
            <a:endParaRPr b="0" lang="en-US" sz="48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17" name="Содержимое 2" descr=""/>
          <p:cNvPicPr/>
          <p:nvPr/>
        </p:nvPicPr>
        <p:blipFill>
          <a:blip r:embed="rId1"/>
          <a:stretch/>
        </p:blipFill>
        <p:spPr>
          <a:xfrm>
            <a:off x="450720" y="725400"/>
            <a:ext cx="7255080" cy="573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8" name=""/>
          <p:cNvGraphicFramePr/>
          <p:nvPr/>
        </p:nvGraphicFramePr>
        <p:xfrm>
          <a:off x="993600" y="3354480"/>
          <a:ext cx="7156800" cy="149040"/>
        </p:xfrm>
        <a:graphic>
          <a:graphicData uri="http://schemas.openxmlformats.org/drawingml/2006/table">
            <a:tbl>
              <a:tblPr/>
              <a:tblGrid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  <a:gridCol w="111600"/>
              </a:tblGrid>
              <a:tr h="149040"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18720" bIns="18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9" name="Picture 55" descr="http://im8-tub.yandex.net/i?id=480049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442908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http://im3-tub.yandex.net/i?id=37053915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-3968640"/>
            <a:ext cx="1038240" cy="1066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3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3214800" cy="270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4" descr=""/>
          <p:cNvPicPr/>
          <p:nvPr/>
        </p:nvPicPr>
        <p:blipFill>
          <a:blip r:embed="rId7"/>
          <a:stretch/>
        </p:blipFill>
        <p:spPr>
          <a:xfrm>
            <a:off x="6357960" y="428760"/>
            <a:ext cx="2500200" cy="3500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5" descr=""/>
          <p:cNvPicPr/>
          <p:nvPr/>
        </p:nvPicPr>
        <p:blipFill>
          <a:blip r:embed="rId8"/>
          <a:stretch/>
        </p:blipFill>
        <p:spPr>
          <a:xfrm>
            <a:off x="642960" y="1428840"/>
            <a:ext cx="3786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mbria"/>
              </a:rPr>
              <a:t>Особенности семейного коллектив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хозяй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ее место жительства (дом, квартир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е доходы и рас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спитание де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с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особенность-любовь и привязанно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18" descr="http://im0-tub.yandex.net/i?id=35591755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442908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http://im8-tub.yandex.net/i?id=156098403&amp;tov=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571680"/>
            <a:ext cx="27860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mbria"/>
              </a:rPr>
              <a:t>Пословицы и поговорки о семь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что и клад, если в семье ла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бовь да совет -  так и горя н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я семья вместе, так и душа на мес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 класс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олжите пословицы и поговорки о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33" descr="http://im3-tub.yandex.net/i?id=153896866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2643120"/>
            <a:ext cx="2643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298440" y="-353880"/>
            <a:ext cx="8394840" cy="15062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428400" y="571680"/>
            <a:ext cx="7267320" cy="58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жчина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нщин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1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3143160" cy="2571840"/>
          </a:xfrm>
          <a:prstGeom prst="rect">
            <a:avLst/>
          </a:prstGeom>
          <a:ln w="0">
            <a:noFill/>
          </a:ln>
        </p:spPr>
      </p:pic>
      <p:sp>
        <p:nvSpPr>
          <p:cNvPr id="534" name="Сердце 5"/>
          <p:cNvSpPr/>
          <p:nvPr/>
        </p:nvSpPr>
        <p:spPr>
          <a:xfrm>
            <a:off x="3429000" y="571680"/>
            <a:ext cx="785880" cy="714240"/>
          </a:xfrm>
          <a:prstGeom prst="pie">
            <a:avLst/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Кольцо 6"/>
          <p:cNvSpPr/>
          <p:nvPr/>
        </p:nvSpPr>
        <p:spPr>
          <a:xfrm>
            <a:off x="707220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Кольцо 7"/>
          <p:cNvSpPr/>
          <p:nvPr/>
        </p:nvSpPr>
        <p:spPr>
          <a:xfrm>
            <a:off x="6715080" y="642960"/>
            <a:ext cx="714600" cy="714240"/>
          </a:xfrm>
          <a:prstGeom prst="pi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3"/>
          <a:stretch/>
        </p:blipFill>
        <p:spPr>
          <a:xfrm>
            <a:off x="357120" y="3429000"/>
            <a:ext cx="1849680" cy="26146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4"/>
          <a:stretch/>
        </p:blipFill>
        <p:spPr>
          <a:xfrm>
            <a:off x="2428920" y="5086440"/>
            <a:ext cx="2000160" cy="155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5"/>
          <a:stretch/>
        </p:blipFill>
        <p:spPr>
          <a:xfrm>
            <a:off x="5214960" y="142884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6"/>
          <a:stretch/>
        </p:blipFill>
        <p:spPr>
          <a:xfrm>
            <a:off x="0" y="1428840"/>
            <a:ext cx="2227320" cy="1571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"/>
          <p:cNvPicPr/>
          <p:nvPr/>
        </p:nvPicPr>
        <p:blipFill>
          <a:blip r:embed="rId7"/>
          <a:stretch/>
        </p:blipFill>
        <p:spPr>
          <a:xfrm>
            <a:off x="2357280" y="1428840"/>
            <a:ext cx="23432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емья и государство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00040" y="928440"/>
            <a:ext cx="7167600" cy="53578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 защищает семь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иль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школьное учреж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есплатное образова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лавная государственная заб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 молодой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ьготы - многодетным семья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латы при рождении ребён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3857760" y="4714920"/>
            <a:ext cx="3786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Права несовершеннолетни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жить и воспитываться в семь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заботу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на имуще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во общаться с обоими родителями и другими родственни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40" descr="http://im5-tub.yandex.net/i?id=123998816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407196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238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Какими бывают семь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549" name="Содержимое 2" descr=""/>
          <p:cNvPicPr/>
          <p:nvPr/>
        </p:nvPicPr>
        <p:blipFill>
          <a:blip r:embed="rId1"/>
          <a:stretch/>
        </p:blipFill>
        <p:spPr>
          <a:xfrm>
            <a:off x="401760" y="804960"/>
            <a:ext cx="7304040" cy="565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7" descr="http://im2-tub.yandex.net/i?id=57712972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57960" y="2428920"/>
            <a:ext cx="1519200" cy="189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5" descr="http://im3-tub.yandex.net/i?id=42607582&amp;tov=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57880" y="4286160"/>
            <a:ext cx="2608200" cy="1857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7" descr="http://im7-tub.yandex.net/i?id=43085869&amp;tov=7"/>
          <p:cNvPicPr/>
          <p:nvPr/>
        </p:nvPicPr>
        <p:blipFill>
          <a:blip r:embed="rId6"/>
          <a:stretch/>
        </p:blipFill>
        <p:spPr>
          <a:xfrm>
            <a:off x="857160" y="4500720"/>
            <a:ext cx="2786040" cy="1928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0" descr="http://im4-tub.yandex.net/i?id=17133795&amp;tov=4"/>
          <p:cNvPicPr/>
          <p:nvPr/>
        </p:nvPicPr>
        <p:blipFill>
          <a:blip r:embed="rId7"/>
          <a:stretch/>
        </p:blipFill>
        <p:spPr>
          <a:xfrm>
            <a:off x="214200" y="2643120"/>
            <a:ext cx="2357640" cy="1857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8"/>
          <a:stretch/>
        </p:blipFill>
        <p:spPr>
          <a:xfrm>
            <a:off x="4500720" y="1071720"/>
            <a:ext cx="1928520" cy="12524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9"/>
          <a:stretch/>
        </p:blipFill>
        <p:spPr>
          <a:xfrm>
            <a:off x="3643200" y="2286000"/>
            <a:ext cx="21430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опросы на повтор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что такое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как возникает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Какими бывают семь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Для чего ребёнку нужна семь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Какое значение имеет семья для государств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4:12:42Z</dcterms:created>
  <dc:creator>eXPerience</dc:creator>
  <dc:description/>
  <dc:language>en-US</dc:language>
  <cp:lastModifiedBy>Admin</cp:lastModifiedBy>
  <dcterms:modified xsi:type="dcterms:W3CDTF">2011-07-22T14:26:47Z</dcterms:modified>
  <cp:revision>12</cp:revision>
  <dc:subject/>
  <dc:title>СЕМЬЯ-ЯЧЕЙКА ОБЩЕСТВА.</dc:title>
</cp:coreProperties>
</file>