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6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D6E-5CA4-4149-AD5F-7E243F5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0B0-E2AF-4792-9A6B-A07682CA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DD0F8-BC69-4B2B-A23D-F3F76F67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60A65-822D-4B17-A8C9-50AB6594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47841-11E2-4275-9617-028C576C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1E868-D003-44FC-A0A1-68D9591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61E5A-0488-4929-A450-E6CE814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E050-60CC-4E11-B0B5-61306D2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401B5-D72C-4649-8455-79FD092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7AD0A-E515-47FD-9AFC-9576B4D5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223C0-BE85-4F51-A1C4-F495D705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9915B-9AD3-40FC-9D43-C088D19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65D-AF9F-493A-8EC4-B528E94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C4979-6A06-4957-8916-02C1087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ED495-2AEE-49AE-A9CB-B200423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F31FD-C040-4AAD-AFD7-FAC47FE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5FCEE-8A41-4FE2-BF72-938DD6C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15B1C-EB0F-4779-8F2A-98A58E45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98BA3-EFD6-4F60-850D-9505EC8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4E725-8B03-49EC-9040-AB6286E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10806-E058-4770-83D8-B4F4CF2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8299-4C77-41D1-9DEE-765AF4E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00C0-8683-48AF-B5B6-996C23A8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92C-7547-4A26-BD3F-10DCDF46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8ECD-AAA8-4A34-979C-C2FFDB1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2948-C750-4007-925D-FE9D5CB7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23E8-6871-4A84-8233-B46EBF4F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8B2C-3D0B-4269-AC19-9DEECFEA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C1F1B-BD56-46EB-932D-5983EC3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CABA0-7609-4BD1-8AE7-D7C8DB6B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7D99-EA18-4D9C-8020-5C039017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5F0E5-44CF-44FA-94D6-DE67CDA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81569-3333-4A24-AE95-AAA89C79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E8B9-B4CF-48F4-9897-51C5E41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CE9-3C88-4ACC-A2A7-9482E97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636BD-A1A5-49E4-9FE1-B4CDA17A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26B5C-2920-4201-9D20-20E845DE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330C-E251-468C-A19A-3110A1A7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30067-08F1-4D00-8BDB-8B299A38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B411F-4079-4A78-A100-C92A397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C5BB-1E1A-4B77-BB36-FECC7B6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8954D-1B83-4532-891C-FA8E637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A097A-26D8-4934-A3D0-A44DC87B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003AC-4272-4021-A507-C71A8A46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0F146-6496-43F3-AD7B-A198B7B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515-5551-4273-8DB7-4A9CA31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BADF2-394C-4BA4-A50E-3219447E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859E6-7D20-48EF-ADC5-BA30A99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2DA5-4289-4D9C-87FD-E8C6898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DAD08-F567-49DA-B7A0-71861761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9C1C8-CEFB-4B34-AA4F-8B567477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9EC3-6212-4008-90E3-F5BFF76A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E86D-EA6B-4C78-BBF8-643F5506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2CCC-BCEF-4932-869C-5B3D09C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17E-6041-4FFC-9A34-D3067C6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032F-DBF0-4DE5-9CE9-60FAA3B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438-02E2-4515-BB36-2420510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F47B-0F20-49E8-9EB1-E80B4C1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4934-2A72-499A-BFDA-3EED1CB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222-3D3B-4472-A7DF-30347DB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CC6D-66EE-43B1-B0BA-DF764F2C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A6E0-0D7B-4BCD-AADB-3CA200F4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CA99-54D5-41B0-9359-4D65C98B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5EAA-C183-4489-9E74-9792767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03E5-2F15-4383-B55F-92F02F57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3100-449D-4E0F-A751-D8557432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4BA4-5C8F-4E63-831B-08727E5D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819-B743-42AF-81A8-4E7621C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6DC8-FEC0-4BDF-B2E0-F694D68B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2BDE-93F9-427B-8FDF-78043F25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308B-5298-4CD5-93D0-1BB650D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4165-CF8F-4608-BFB4-3DAAB02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8AA9-2813-459C-9C9F-435BB2E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FC42-40D8-4610-9094-2E59FB9F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9646-DA31-440E-9C9F-41C8B6B9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B8B8-FE57-4125-AEAE-B4C9E780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A6B8-18BA-4F1E-B48A-DED461A7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562B-129E-49A5-8844-3263E4C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C23-3383-4D40-B709-4AC991F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8D60-6686-40C1-86EF-58210FB1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E015-E722-4D72-8F57-7B31FC8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7E8E-8B74-44DC-921E-776F60DE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4BD6-6753-4251-AC12-6FD5FC0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B3C6-E40B-4192-9F06-4535F1F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8A5A-5250-4761-B17D-96EEF6E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2B10-902E-4267-B3E0-E2C1D4E5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92E1-37B1-4B00-8928-CE7A34F0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E35E-5C4A-47F2-8DE4-2D844B0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2B01-4949-4EA1-B522-0191D80E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50F-ED2D-445B-9A2F-86120F2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93C2-6C07-4557-A405-03A49A5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A2C0-A4B8-4F6F-A909-F189CA4F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31D5-ED60-4153-A5AA-F28DB4C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D9D0-E324-4E2C-B6F0-2458A9C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2F82-1923-40D8-B2CB-87ED326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2F5A-1D2B-402C-AB1C-D6A2650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2970-0882-4134-A73F-08E5B56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9AFB-A7E6-4418-9B5C-51AD540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8A95-6BBD-4066-88CA-4487C484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AE7F-E689-458B-85FA-2957F867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288-0F32-4A9D-B961-719A6BA1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72A2-67BA-4E41-B58E-9E2D318F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ABC6-5437-4ECA-9A86-82A15949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922A-2B78-437C-84C8-80D985A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95E8-C9EF-4FC5-8E7B-07838B78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7144-3EF9-4582-A703-14859B7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A08B-0736-426A-ABF1-492E0B9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6A856-29CC-4F89-A6C5-AE673575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DB8F-C0B7-445E-A892-8F1EFFF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3D30-CDD5-4FC9-96A8-960B4E8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0042-8824-4F31-8AAF-19A86C6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1F2-169B-4ECC-AD3F-257F1F7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7469-E84C-4452-ACFD-6651755F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0D66A-84F7-4EFD-8A0C-E6C051F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0DDC-8F58-45E9-B4ED-3AAA2351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3A95-0810-4F5D-BB66-CE9EE44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AC89-9A7C-44E7-85AF-44AD1448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4289-E8BD-4390-B4C6-C264703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EAEF-DBBA-4784-8AE2-F2CCE53A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B875-D3FC-449D-B939-070BC4D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D972-D0DB-4B1D-8651-2206EF32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C7F5-FB79-46C4-B9B1-ACF2156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404-B16C-4013-BCD9-F79F76F4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AC9C-EC8B-4952-AB5E-20CD624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D2268-BEB9-4AA7-A7AA-842E309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4140E-3679-4327-B77A-C0E3AC2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FF313-C422-4C66-BE03-66F9B4F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E32C-8C15-4C3A-99F0-8C62E13E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66820-1A5F-45B4-A2F6-38B945A0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5800-5BBA-475A-8C8A-4D64C9B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3AD7B-021B-4DB7-A98E-4823974B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6355-E49D-43D4-8E99-0CCE50A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2AC9-2688-4C76-9246-057C8E9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FF6-6097-430E-ADEF-E732B50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4663-85B1-4502-A2C0-A5ECCAD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8747-BEBA-41C0-9834-97DF5CF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1DF1-FB0D-4874-96F9-5B5C808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9ED0-C0BC-4D3F-B8BA-DFC98E4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5A485-EA24-4E92-95D9-25E2653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517B-CA1C-4949-8192-DACF78CB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6D564-2E50-405A-B0ED-D66ABDB9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63810-305A-49B1-BC4B-506ADB09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E273E-FCF0-48D0-9627-25A082C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8C128-1756-45E4-8E8A-3595731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D347-F429-4B3C-94C2-E42FEFBE570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7C54-C6A3-4F1D-9861-B97DFF95AF64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8DDA-D5F4-4886-B6F6-44755E4F1BD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0DAE-33C9-441D-9CD9-FFA975535CB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EAF-1146-475D-92C8-A70AC725C02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FF44-5D3F-4FFB-8137-B4B02784E22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33CE-FA30-43F5-9A30-E16C3EBB0081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96A3-73EB-460B-9A5F-034C9C84227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DBE6-152F-46EA-967A-FDD7AC41B95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131C-3FAA-4EB5-AB3C-4088F9D2ED5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31FE-06F2-4B33-904A-62DAC6F8B1B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7BC-A044-4B18-89A7-DB7EE5C7D83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p=107&amp;ed=1&amp;stype=simage&amp;text=&#1089;&#1077;&#1084;&#1100;&#1103;&amp;spsite=www.knnr.ru&amp;img_url=www.knnr.ru/images/family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p=54&amp;ed=1&amp;stype=simage&amp;text=&#1089;&#1077;&#1084;&#1100;&#1103;&amp;spsite=fake-005-321609.ru&amp;img_url=s44.radikal.ru/i103/0907/19/9c8e893e0323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0&amp;ed=1&amp;text=&#1089;&#1077;&#1084;&#1100;&#1103;&amp;spsite=fake-001-148759.ru&amp;img_url=otdih.nakubani.ru/media/bc473ca2558b8c7c0ebc033cb53ad053.jpg&amp;rpt=s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p=83&amp;ed=1&amp;text=&#1089;&#1077;&#1084;&#1100;&#1103;&amp;spsite=fake-008-5169134.ru&amp;img_url=img.crazys.info/files/i/2008.11.20/1227119242_xfjt_2012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5&amp;ed=1&amp;text=&#1089;&#1077;&#1084;&#1100;&#1103;&amp;spsite=kovrovremeslo.elcom.ru&amp;img_url=kovrovremeslo.elcom.ru/family.jpg&amp;rpt=simag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92&amp;ed=1&amp;text=&#1089;&#1077;&#1084;&#1100;&#1103;&amp;spsite=fake-012-80398.ru&amp;img_url=wiki.iteach.ru/images/a/a4/1_&#1078;.JPG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yandex.ru/yandsearch?p=99&amp;ed=1&amp;text=&#1089;&#1077;&#1084;&#1100;&#1103;&amp;spsite=fake-011-1882371.ru&amp;img_url=www.playcast.ru/uploads/work/352734.jpg&amp;rpt=simage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yandex.ru/yandsearch?p=97&amp;ed=1&amp;text=&#1089;&#1077;&#1084;&#1100;&#1103;&amp;spsite=www.artlib.ru&amp;img_url=www.gspnet.ru/forum/uploads/post-422-1227907161.jpg&amp;rpt=simage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42760" y="500040"/>
            <a:ext cx="6357960" cy="71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ЕМЬЯ-ЯЧЕЙКА ОБЩЕСТВ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6643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десь может быть твой рисунок ……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59" name="Picture 53" descr="http://im0-tub.yandex.net/i?id=100841278&amp;tov=0"/>
          <p:cNvPicPr/>
          <p:nvPr/>
        </p:nvPicPr>
        <p:blipFill>
          <a:blip r:embed="rId1"/>
          <a:stretch/>
        </p:blipFill>
        <p:spPr>
          <a:xfrm>
            <a:off x="2631960" y="1219320"/>
            <a:ext cx="38800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mbria"/>
              </a:rPr>
              <a:t>Состав семьи</a:t>
            </a:r>
            <a:endParaRPr b="0" lang="en-US" sz="4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17" name="Содержимое 2" descr=""/>
          <p:cNvPicPr/>
          <p:nvPr/>
        </p:nvPicPr>
        <p:blipFill>
          <a:blip r:embed="rId1"/>
          <a:stretch/>
        </p:blipFill>
        <p:spPr>
          <a:xfrm>
            <a:off x="450720" y="725400"/>
            <a:ext cx="7255080" cy="573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993600" y="3354480"/>
          <a:ext cx="7156800" cy="149040"/>
        </p:xfrm>
        <a:graphic>
          <a:graphicData uri="http://schemas.openxmlformats.org/drawingml/2006/table">
            <a:tbl>
              <a:tblPr/>
              <a:tblGrid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</a:tblGrid>
              <a:tr h="149040"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9" name="Picture 55" descr="http://im8-tub.yandex.net/i?id=480049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442908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im3-tub.yandex.net/i?id=37053915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-3968640"/>
            <a:ext cx="1038240" cy="1066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3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3214800" cy="270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4" descr=""/>
          <p:cNvPicPr/>
          <p:nvPr/>
        </p:nvPicPr>
        <p:blipFill>
          <a:blip r:embed="rId7"/>
          <a:stretch/>
        </p:blipFill>
        <p:spPr>
          <a:xfrm>
            <a:off x="6357960" y="428760"/>
            <a:ext cx="2500200" cy="3500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5" descr=""/>
          <p:cNvPicPr/>
          <p:nvPr/>
        </p:nvPicPr>
        <p:blipFill>
          <a:blip r:embed="rId8"/>
          <a:stretch/>
        </p:blipFill>
        <p:spPr>
          <a:xfrm>
            <a:off x="642960" y="1428840"/>
            <a:ext cx="3786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mbria"/>
              </a:rPr>
              <a:t>Особенности семейного коллектив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хозяй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место жительства (дом, квартир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е доходы и рас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де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особенность-любовь и привязан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18" descr="http://im0-tub.yandex.net/i?id=35591755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442908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http://im8-tub.yandex.net/i?id=15609840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571680"/>
            <a:ext cx="27860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mbria"/>
              </a:rPr>
              <a:t>Пословицы и поговорки о семь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что и клад, если в семье ла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бовь да совет -  так и горя н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я семья вместе, так и душа на мес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 клас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олжите пословицы и поговорки о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33" descr="http://im3-tub.yandex.net/i?id=153896866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2643120"/>
            <a:ext cx="2643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298440" y="-353880"/>
            <a:ext cx="8394840" cy="1506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28400" y="571680"/>
            <a:ext cx="726732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жчина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нщин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3143160" cy="2571840"/>
          </a:xfrm>
          <a:prstGeom prst="rect">
            <a:avLst/>
          </a:prstGeom>
          <a:ln w="0">
            <a:noFill/>
          </a:ln>
        </p:spPr>
      </p:pic>
      <p:sp>
        <p:nvSpPr>
          <p:cNvPr id="534" name="Сердце 5"/>
          <p:cNvSpPr/>
          <p:nvPr/>
        </p:nvSpPr>
        <p:spPr>
          <a:xfrm>
            <a:off x="3429000" y="571680"/>
            <a:ext cx="785880" cy="714240"/>
          </a:xfrm>
          <a:prstGeom prst="pi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Кольцо 6"/>
          <p:cNvSpPr/>
          <p:nvPr/>
        </p:nvSpPr>
        <p:spPr>
          <a:xfrm>
            <a:off x="707220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Кольцо 7"/>
          <p:cNvSpPr/>
          <p:nvPr/>
        </p:nvSpPr>
        <p:spPr>
          <a:xfrm>
            <a:off x="671508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357120" y="3429000"/>
            <a:ext cx="1849680" cy="2614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4"/>
          <a:stretch/>
        </p:blipFill>
        <p:spPr>
          <a:xfrm>
            <a:off x="2428920" y="5086440"/>
            <a:ext cx="2000160" cy="155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5"/>
          <a:stretch/>
        </p:blipFill>
        <p:spPr>
          <a:xfrm>
            <a:off x="5214960" y="142884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6"/>
          <a:stretch/>
        </p:blipFill>
        <p:spPr>
          <a:xfrm>
            <a:off x="0" y="1428840"/>
            <a:ext cx="2227320" cy="1571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"/>
          <p:cNvPicPr/>
          <p:nvPr/>
        </p:nvPicPr>
        <p:blipFill>
          <a:blip r:embed="rId7"/>
          <a:stretch/>
        </p:blipFill>
        <p:spPr>
          <a:xfrm>
            <a:off x="2357280" y="1428840"/>
            <a:ext cx="2343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мья и государство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00040" y="928440"/>
            <a:ext cx="7167600" cy="53578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 защищает семь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иль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школьное учреж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есплатное образов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государственная заб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 молодой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ьготы - многодетным семь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латы при рождении ребён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3857760" y="47149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Права несовершеннолетни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жить и воспитыватьс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заботу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имуще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общаться с обоими родителями и другими родственни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40" descr="http://im5-tub.yandex.net/i?id=123998816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407196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Какими бывают семь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9" name="Содержимое 2" descr=""/>
          <p:cNvPicPr/>
          <p:nvPr/>
        </p:nvPicPr>
        <p:blipFill>
          <a:blip r:embed="rId1"/>
          <a:stretch/>
        </p:blipFill>
        <p:spPr>
          <a:xfrm>
            <a:off x="401760" y="804960"/>
            <a:ext cx="7304040" cy="565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7" descr="http://im2-tub.yandex.net/i?id=5771297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2428920"/>
            <a:ext cx="1519200" cy="189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5" descr="http://im3-tub.yandex.net/i?id=42607582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57880" y="4286160"/>
            <a:ext cx="2608200" cy="1857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7" descr="http://im7-tub.yandex.net/i?id=43085869&amp;tov=7"/>
          <p:cNvPicPr/>
          <p:nvPr/>
        </p:nvPicPr>
        <p:blipFill>
          <a:blip r:embed="rId6"/>
          <a:stretch/>
        </p:blipFill>
        <p:spPr>
          <a:xfrm>
            <a:off x="857160" y="4500720"/>
            <a:ext cx="2786040" cy="1928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0" descr="http://im4-tub.yandex.net/i?id=17133795&amp;tov=4"/>
          <p:cNvPicPr/>
          <p:nvPr/>
        </p:nvPicPr>
        <p:blipFill>
          <a:blip r:embed="rId7"/>
          <a:stretch/>
        </p:blipFill>
        <p:spPr>
          <a:xfrm>
            <a:off x="214200" y="2643120"/>
            <a:ext cx="2357640" cy="1857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8"/>
          <a:stretch/>
        </p:blipFill>
        <p:spPr>
          <a:xfrm>
            <a:off x="4500720" y="1071720"/>
            <a:ext cx="1928520" cy="12524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9"/>
          <a:stretch/>
        </p:blipFill>
        <p:spPr>
          <a:xfrm>
            <a:off x="3643200" y="2286000"/>
            <a:ext cx="2143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опросы на повтор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что такое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как возникает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Какими бывают семь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Для чего ребёнку нужна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Какое значение имеет семья для государ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4:12:42Z</dcterms:created>
  <dc:creator>eXPerience</dc:creator>
  <dc:description/>
  <dc:language>en-US</dc:language>
  <cp:lastModifiedBy>Admin</cp:lastModifiedBy>
  <dcterms:modified xsi:type="dcterms:W3CDTF">2011-07-22T14:26:47Z</dcterms:modified>
  <cp:revision>12</cp:revision>
  <dc:subject/>
  <dc:title>СЕМЬЯ-ЯЧЕЙКА ОБЩЕСТВА.</dc:title>
</cp:coreProperties>
</file>