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5AF-193D-44B9-8DC3-1BA338E3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AF9-9BD1-4A04-A5F0-9C493032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BD86B-1270-49FE-8933-E20527C8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4786F-E17C-4B0D-8C83-31924488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3C4E0-C5C7-461F-A87D-58A8EFE6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8864E-8EAC-4AD9-94E8-64F9DDBC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E7D27-588B-424A-9CB1-AA4FCD5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AB0F3-040E-40F9-939B-9A4AC3E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04F20-B893-4822-97D8-B904AEC2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69A49-0391-4A3F-87BE-774B2621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1F0A6-C9DA-406B-9DB2-A813E718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177-3315-42E8-BE3C-DE871194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46D-D78F-47C8-A892-374E3EBC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EE6E-6F46-4507-B4A3-14A500CF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3B19-AAA0-44DB-A3C3-1D0BC893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2B7C-D65D-4D03-BA81-C800FCF0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300F-E5DB-4203-ABD4-CFEF03EF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E6F1-C36B-4785-B5C3-10B3738B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E3E9-DDCF-41D3-AD2D-5FB34827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9192-0E5B-4439-8AB1-BC8AC616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0D6-C45B-4362-A859-41293810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A003-9A01-4CE7-B440-494AA5E5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81F8-CB86-4F26-AED9-547508E3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2C10-C5C9-4FB0-AA48-1DFDB836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E875-040A-467C-840C-CC1F5BF1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46D8-5663-4A12-A5A9-24ACFFC7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F212-12A5-4E06-9A42-DF86E3CF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AA3E-766F-487D-AEC7-35D604D9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98CD-FD41-4AA8-93A1-3DC8B00B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EE72-2AE8-4800-9AD4-97D2F354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648C-FAEB-4913-B5E9-1C3FE701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0A4-81A3-43B5-9737-0000DB97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DAE6-827A-405E-85CF-0F12BF00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05E5-23B5-4738-9AAB-C6B31238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12E1-321E-4525-81AF-9905A0E0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4C0D-4F60-4779-9474-9EE84FC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38A6-C3C6-4084-ADCB-7BA0334D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702D-FE6D-4778-8F1C-DA47B0E0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81E8-92C7-4F7D-8A2F-E6BCF1CD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9C729-8F01-4142-9A37-4B95F061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2A70-AFAC-4147-A3B3-C2332669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297F-33B3-4590-82A0-B8D131B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516-CF52-4C5D-A0C4-8C4B4015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E536-0DC8-47FC-ADD8-D825CEDC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AF749-D0A4-4424-9621-AE094F9C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6E82-5352-4530-9C1B-1D86E85A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F6F4-BFD3-4D08-8DB8-7AD13DD9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7E6B-9719-4ADC-927B-7A9B2A6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58A2-6DCC-4C9E-9582-FA58D301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CBDE-D18C-4946-A0F5-ECB06679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73CA-AC0B-496B-991D-88BC563A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8BD7-E693-4E6A-9D53-4DCE4056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C85A-DC44-4C75-A44C-097D602C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7BA-B914-4949-9DB0-5F312E0A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B54F-B455-4797-89CA-8EA48599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F573-7A58-4283-B76F-2A102402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AB50-12CF-4DE7-9B0A-4FE56DCA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FEED-459C-4C04-AD5C-835CDC99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67A8-B7CF-43D8-A180-BC1D259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47EB4-14D0-49EB-854D-A0A9E16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20F7-F376-4373-8A75-C3653C34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55435-28D4-42B4-B4CA-591483B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4DA3-7EBF-465F-B6C8-B78B7328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838E1-88EF-4109-B3A5-6C9E241D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A0C-FFFD-4C2D-AD97-EBC424AE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41B6-00FC-4890-A275-FFE1BE06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B9D4-CEE0-4C0F-9EA4-EB2DA328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24A0D-BD56-4505-9F13-C5FB1DC9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89EB8-7E26-4ADD-9949-AF8A693F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4C992-C7A9-402E-9097-6D2B8653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B6085-52F4-42D8-B2DF-19872CFB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76BDC-3C49-4511-9C71-D62EE4E4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4C8CA-49E0-46E9-8073-BAA7C126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8AC22-5BFD-4792-962A-E194D706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47735-074C-4BF3-AB02-C4D16B4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D48-D2EE-4284-A86C-5994D8A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0686-ECA8-4142-BDE9-2F115FFD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1521-779F-450E-85D2-510995DF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8A47C-F654-418E-AD53-5F3AE1FD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AB784-38BC-4F49-8E6B-4BB81F95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BA7DE-2DCF-47DA-8ADE-7F5EF1A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5894A-D0F4-46B5-8F1C-63946B4A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F038-1537-42C6-92AA-413ED346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30182-555D-4463-8B36-3AF30F93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C517-74E6-4A87-A073-4DE319FC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0CFD-2904-4C34-86C6-1357DD6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F2C-6930-49D4-8039-8734ED0D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179C-8153-4526-9F9F-8524ABC3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F154-16C0-478E-A402-9EC0F4C7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9FF72-13E3-4926-8AD3-BF781A88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AF4B7-D64C-4BC1-B5DB-F1754CC9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4C343-7E77-42AC-9658-49684E5F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90C0-8BCB-4962-B34D-1079FA1E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A8FA-27A9-4AE0-9639-2933F80B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6800-5499-4569-A6B5-6082681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BF2B4-60E3-4F90-A0E7-FE972ABC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AE005-F80C-4987-AF75-6292FCB0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AB3-37E0-4B16-812B-7AD8290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A415E-2850-468B-BB6C-627DCBCD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AC11D-BA8C-457F-9F07-FD09397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E3FFF-F460-48BA-A928-C748A46F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3222D-C0AC-4BFD-8170-6D32AE1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8FD05-265F-490B-B2FF-F9F28142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89B54-58A3-4CB0-B481-60B63F52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F8E67-685E-4825-8878-AA9A83DD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F0632-8E09-42D3-834D-EF217E45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D2CF3-5413-46E0-A6C2-D311423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D20FD-0EBB-4B30-95EB-1137F5D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BF25-1CE2-4CFB-B7FF-2837585A279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3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51EE-0F0F-489E-A29F-A72670C9506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21E9-3B99-4EFD-9504-F3A7F6545E70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6B81-B16B-4EB4-B344-47E3B453D777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DB73-9476-4DF4-9F4B-2F7CF51720A4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A9C1-AB4C-4D6A-8E21-003070314CED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DE87-45F9-4235-BC7D-ECF54BCD29E5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8664-EAD6-4448-8B78-2B8DCD094324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DBC5-2AA9-4B24-A445-574D09242C1A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1.imagilive.com/0110/795px-Brueghel-tower-of-babel.jpg" TargetMode="External"/><Relationship Id="rId2" Type="http://schemas.openxmlformats.org/officeDocument/2006/relationships/hyperlink" Target="http://mario.tomsk.fm/ximg/13034916958118.jpg" TargetMode="External"/><Relationship Id="rId3" Type="http://schemas.openxmlformats.org/officeDocument/2006/relationships/hyperlink" Target="http://www.mediagnosis.ru/HISTORY/GRAPH/Pictures/JPG/4-061-2.jpg" TargetMode="External"/><Relationship Id="rId4" Type="http://schemas.openxmlformats.org/officeDocument/2006/relationships/hyperlink" Target="http://islam.gmir.ru/catalog/B-4168_013-IV/image" TargetMode="External"/><Relationship Id="rId5" Type="http://schemas.openxmlformats.org/officeDocument/2006/relationships/hyperlink" Target="http://www.mutab0r.net/wp-content/uploads/2011/05/&#1057;&#1090;&#1086;&#1083;&#1087;&#1086;&#1090;&#1074;&#1086;&#1088;&#1077;&#1085;&#1080;&#1077;-&#1042;&#1072;&#1074;&#1080;&#1083;&#1086;&#1085;&#1089;&#1082;&#1086;&#1077;.jpg" TargetMode="External"/><Relationship Id="rId6" Type="http://schemas.openxmlformats.org/officeDocument/2006/relationships/hyperlink" Target="http://lh3.ggpht.com/_UYKc6o5HtHg/SiQ9GV2ZSdI/AAAAAAAAAII/wB5s8_31r2Q/tower_of_babel_abel+grimmer,+s.+16.jpg" TargetMode="External"/><Relationship Id="rId7" Type="http://schemas.openxmlformats.org/officeDocument/2006/relationships/hyperlink" Target="http://ib1.keep4u.ru/b/070721/b7f04c005080fcec50.jpg" TargetMode="External"/><Relationship Id="rId8" Type="http://schemas.openxmlformats.org/officeDocument/2006/relationships/hyperlink" Target="http://blog.onekoreanews.net/attach/14/1115483670.jpg" TargetMode="External"/><Relationship Id="rId9" Type="http://schemas.openxmlformats.org/officeDocument/2006/relationships/hyperlink" Target="http://blog.onekoreanews.net/attach/14/1277780509.jpg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13604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2"/>
          <p:cNvSpPr/>
          <p:nvPr/>
        </p:nvSpPr>
        <p:spPr>
          <a:xfrm>
            <a:off x="0" y="4267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6 кл. МХ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Учитель ИЗО и МХК МБОУ «СОШ №2» г. Мелен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Сорокина Агнесса Ива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8" name="Picture 2" descr="G:\Евгения\Презентации и проверочные работы по МХК 2009-2010\фото для уроков МХК\Брейгель Малая Вавилонская башня.jpg"/>
          <p:cNvPicPr/>
          <p:nvPr/>
        </p:nvPicPr>
        <p:blipFill>
          <a:blip r:embed="rId1"/>
          <a:stretch/>
        </p:blipFill>
        <p:spPr>
          <a:xfrm>
            <a:off x="1066680" y="380880"/>
            <a:ext cx="6934320" cy="5621400"/>
          </a:xfrm>
          <a:prstGeom prst="rect">
            <a:avLst/>
          </a:prstGeom>
          <a:ln w="0">
            <a:noFill/>
          </a:ln>
        </p:spPr>
      </p:pic>
      <p:sp>
        <p:nvSpPr>
          <p:cNvPr id="449" name="WordArt 6"/>
          <p:cNvSpPr/>
          <p:nvPr/>
        </p:nvSpPr>
        <p:spPr>
          <a:xfrm>
            <a:off x="-11160" y="6226200"/>
            <a:ext cx="9144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28640" y="385920"/>
            <a:ext cx="7696080" cy="599724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3"/>
          <p:cNvSpPr/>
          <p:nvPr/>
        </p:nvSpPr>
        <p:spPr>
          <a:xfrm>
            <a:off x="-20520" y="6404040"/>
            <a:ext cx="91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Абель Гримм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228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На вавилонском языке название столицы «Вавилон» означает «</a:t>
            </a:r>
            <a:r>
              <a:rPr b="0" i="1" lang="ru-RU" sz="2400" spc="-1" strike="noStrike" u="sng">
                <a:solidFill>
                  <a:srgbClr val="452e0e"/>
                </a:solidFill>
                <a:uFillTx/>
                <a:latin typeface="Times New Roman"/>
              </a:rPr>
              <a:t>врата божьи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» - </a:t>
            </a:r>
            <a:r>
              <a:rPr b="1" i="1" lang="ru-RU" sz="2400" spc="-1" strike="noStrike">
                <a:solidFill>
                  <a:srgbClr val="452e0e"/>
                </a:solidFill>
                <a:latin typeface="Times New Roman"/>
              </a:rPr>
              <a:t>баб-илу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. А на древне еврейском сходно звучащее слово «</a:t>
            </a:r>
            <a:r>
              <a:rPr b="1" i="1" lang="ru-RU" sz="2400" spc="-1" strike="noStrike">
                <a:solidFill>
                  <a:srgbClr val="452e0e"/>
                </a:solidFill>
                <a:latin typeface="Times New Roman"/>
              </a:rPr>
              <a:t>балал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» означает процесс смешения. В результате сходства обоих слов Вавилон мог легко стать символом языкового хаоса в мире, тем более что был многоязычным городом. Не нужно также удивляться тому, что евреи видели в Вавилоне и его пирамиде (</a:t>
            </a:r>
            <a:r>
              <a:rPr b="1" i="1" lang="ru-RU" sz="2400" spc="-1" strike="noStrike">
                <a:solidFill>
                  <a:srgbClr val="452e0e"/>
                </a:solidFill>
                <a:latin typeface="Times New Roman"/>
              </a:rPr>
              <a:t>зиккурате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) олицетворение дерзости и греховности по отношению к Богу. Вавилонские цари строили пирамиду, используя труд рабов и военнопленных, согнанных из разных стран. Среди рабов, наверное, были и  евреи. В их памяти сохранилось тяжелое вавилонское пленение и на основе этого воспоминания родился миф о Вавилонской башне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ЗЕНОН КОСИДОВСКИЙ, историк, библиовед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indent="45252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http://blog.onekoreanews.net/attach/14/1115483670.jpg"/>
          <p:cNvPicPr/>
          <p:nvPr/>
        </p:nvPicPr>
        <p:blipFill>
          <a:blip r:embed="rId1"/>
          <a:stretch/>
        </p:blipFill>
        <p:spPr>
          <a:xfrm>
            <a:off x="1052640" y="457200"/>
            <a:ext cx="7145280" cy="52354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1"/>
          <p:cNvSpPr/>
          <p:nvPr/>
        </p:nvSpPr>
        <p:spPr>
          <a:xfrm>
            <a:off x="1052640" y="5867280"/>
            <a:ext cx="71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Абель Грим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"/>
          <p:cNvSpPr/>
          <p:nvPr/>
        </p:nvSpPr>
        <p:spPr>
          <a:xfrm>
            <a:off x="0" y="6140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Питер Брейгель Старший.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2" descr="http://blog.onekoreanews.net/attach/14/1277780509.jpg"/>
          <p:cNvPicPr/>
          <p:nvPr/>
        </p:nvPicPr>
        <p:blipFill>
          <a:blip r:embed="rId1"/>
          <a:stretch/>
        </p:blipFill>
        <p:spPr>
          <a:xfrm>
            <a:off x="1014480" y="345960"/>
            <a:ext cx="716904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457200" y="336600"/>
            <a:ext cx="8292960" cy="57387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0" y="620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Франс Франк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1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 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Лукас ван Фалькенбор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2" descr="http://blog.onekoreanews.net/attach/14/1012984937.jpg"/>
          <p:cNvPicPr/>
          <p:nvPr/>
        </p:nvPicPr>
        <p:blipFill>
          <a:blip r:embed="rId1"/>
          <a:stretch/>
        </p:blipFill>
        <p:spPr>
          <a:xfrm>
            <a:off x="677880" y="469800"/>
            <a:ext cx="7788240" cy="529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4637160" cy="632448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1"/>
          <p:cNvSpPr/>
          <p:nvPr/>
        </p:nvSpPr>
        <p:spPr>
          <a:xfrm>
            <a:off x="304920" y="572616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.</a:t>
            </a:r>
            <a:br>
              <a:rPr sz="2400"/>
            </a:b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Жан Томассен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33412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1"/>
          <p:cNvSpPr/>
          <p:nvPr/>
        </p:nvSpPr>
        <p:spPr>
          <a:xfrm>
            <a:off x="0" y="6107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, 2000 г.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Роберто Гонсалес Фернанд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www.art-in-exile.com/forums/photopost/data/1359/ztower_b.jpg"/>
          <p:cNvPicPr/>
          <p:nvPr/>
        </p:nvPicPr>
        <p:blipFill>
          <a:blip r:embed="rId1"/>
          <a:stretch/>
        </p:blipFill>
        <p:spPr>
          <a:xfrm>
            <a:off x="2971800" y="247680"/>
            <a:ext cx="5638680" cy="643428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1"/>
          <p:cNvSpPr/>
          <p:nvPr/>
        </p:nvSpPr>
        <p:spPr>
          <a:xfrm>
            <a:off x="289080" y="4952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2e0e"/>
                </a:solidFill>
                <a:latin typeface="Times New Roman"/>
              </a:rPr>
              <a:t>Вавилонская башня.</a:t>
            </a:r>
            <a:br>
              <a:rPr sz="2400"/>
            </a:b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Безымянный немецкий мас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0880" y="22096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роисходило это, </a:t>
            </a:r>
            <a:r>
              <a:rPr b="0" i="1" lang="ru-RU" sz="2400" spc="-1" strike="noStrike">
                <a:solidFill>
                  <a:srgbClr val="262626"/>
                </a:solidFill>
                <a:latin typeface="Times New Roman"/>
              </a:rPr>
              <a:t>как утверждает Библия,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еще в те времена, когда все люди на свете разговаривали на одном языке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осле потопа люди снова размножились и занимали равнину в стране Сеннаар, в бассейне рек Тигра и Евфрата. Земля там была необыкновенно плодородная, так что им жилось всё лучше и лучше. И довольно скоро стали забывать Бога и наказание, посланное на землю за грехи людей. Думая, что они могут всё сделать без помощи Божьей и Его благоволения, они решили построить город Вавилон.  И вырос город. И был он велик и прекрасен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27" name="WordArt 5" descr=""/>
          <p:cNvPicPr/>
          <p:nvPr/>
        </p:nvPicPr>
        <p:blipFill>
          <a:blip r:embed="rId1"/>
          <a:stretch/>
        </p:blipFill>
        <p:spPr>
          <a:xfrm>
            <a:off x="12600" y="133200"/>
            <a:ext cx="914400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81960" cy="59166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2"/>
          <p:cNvSpPr/>
          <p:nvPr/>
        </p:nvSpPr>
        <p:spPr>
          <a:xfrm>
            <a:off x="0" y="6319800"/>
            <a:ext cx="91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вилонская башня, 1595 г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кас ван Фалькенбор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457200" y="30492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://img1.imagilive.com/0110/795px-Brueghel-tower-of-babel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mario.tomsk.fm/ximg/13034916958118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http://www.mediagnosis.ru/HISTORY/GRAPH/Pictures/JPG/4-061-2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http://islam.gmir.ru/catalog/B-4168_013-IV/im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http://www.mutab0r.net/wp-content/uploads/2011/05/%D0%A1%D1%82%D0%BE%D0%BB%D0%BF%D0%BE%D1%82%D0%B2%D0%BE%D1%80%D0%B5%D0%BD%D0%B8%D0%B5-%D0%92%D0%B0%D0%B2%D0%B8%D0%BB%D0%BE%D0%BD%D1%81%D0%BA%D0%BE%D0%B5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http://lh3.ggpht.com/_UYKc6o5HtHg/SiQ9GV2ZSdI/AAAAAAAAAII/wB5s8_31r2Q/tower_of_babel_abel+grimmer,+s.+16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http://ib1.keep4u.ru/b/070721/b7f04c005080fcec50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http://blog.onekoreanews.net/attach/14/1115483670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http://blog.onekoreanews.net/attach/14/1277780509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log.onekoreanews.net/attach/14/1122307604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log.onekoreanews.net/attach/14/1012984937.jp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pics.livejournal.com/lia_hantenbein/pic/0002wx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r-gonzalezfernandez.com/Imagenes/FONDOS/FONDO%20Babel%201%20%20640%20x%20487%20REDUCIDO.jp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art-in-exile.com/forums/photopost/data/1359/ztower_b.jp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myisrael.at.ua/index/0-2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0" name="Picture 2" descr="G:\Евгения\Презентации и проверочные работы по МХК 2009-2010\фото для уроков МХК\Брейгель Вавилонская башня.jpg"/>
          <p:cNvPicPr/>
          <p:nvPr/>
        </p:nvPicPr>
        <p:blipFill>
          <a:blip r:embed="rId1"/>
          <a:stretch/>
        </p:blipFill>
        <p:spPr>
          <a:xfrm>
            <a:off x="762120" y="243000"/>
            <a:ext cx="7619760" cy="5811840"/>
          </a:xfrm>
          <a:prstGeom prst="rect">
            <a:avLst/>
          </a:prstGeom>
          <a:ln w="0">
            <a:noFill/>
          </a:ln>
        </p:spPr>
      </p:pic>
      <p:sp>
        <p:nvSpPr>
          <p:cNvPr id="431" name="WordArt 6"/>
          <p:cNvSpPr/>
          <p:nvPr/>
        </p:nvSpPr>
        <p:spPr>
          <a:xfrm>
            <a:off x="0" y="6172200"/>
            <a:ext cx="9144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-6840" y="228240"/>
            <a:ext cx="4419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Это ввело их в гордыню и люди задумали построить в Вавилоне такую высокую башню, чтобы её верхушка доставала до самого неба.  Вместо камней они использовали  в качестве строительного материала обожженный кирпич, а вместо извести – глину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Самые гордые вавилоняне мечтали о том, чтобы по ней подняться в небо и стать выше самого бога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- Пусть знают все! – кричали они. – Мы – лучшие в мире! А скоро и сами станем как боги!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3" name="Picture 4" descr="башня"/>
          <p:cNvPicPr/>
          <p:nvPr/>
        </p:nvPicPr>
        <p:blipFill>
          <a:blip r:embed="rId1"/>
          <a:stretch/>
        </p:blipFill>
        <p:spPr>
          <a:xfrm>
            <a:off x="4621320" y="685800"/>
            <a:ext cx="43257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http://stat17.privet.ru/lr/091f3e63973edd3b5f4cc2a0cb0a7d6f"/>
          <p:cNvPicPr/>
          <p:nvPr/>
        </p:nvPicPr>
        <p:blipFill>
          <a:blip r:embed="rId1"/>
          <a:stretch/>
        </p:blipFill>
        <p:spPr>
          <a:xfrm>
            <a:off x="0" y="9360"/>
            <a:ext cx="913284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228600" y="206280"/>
            <a:ext cx="4267080" cy="64994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573280" y="628200"/>
            <a:ext cx="643104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Башня росла всё выше, пока Яхве не встревожился и не решил посмотреть, что она собой представляет. Человеческая гордость вызвала его гнев. И Бог наказал людей за их гордость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Однажды Господь смешал языки людей так, что они перестали друг друга понимать. Среди строителей вавилонской башни возникло замешательство – люди никак не могли договориться между собой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7" name="Прямоугольник 1"/>
          <p:cNvSpPr/>
          <p:nvPr/>
        </p:nvSpPr>
        <p:spPr>
          <a:xfrm>
            <a:off x="4440240" y="4397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И все они вынуждены были отказаться от дерзкого замысла. Рассеялись люди по всему свету, побросав груды материала и орудия, которыми они пользовалис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2573280" y="468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оительство Вавилонской башни (около 1370 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известный мас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"/>
          <p:cNvSpPr/>
          <p:nvPr/>
        </p:nvSpPr>
        <p:spPr>
          <a:xfrm>
            <a:off x="380880" y="6237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лпотворение вавилонское и разделение племен: Симове, Хамове, Яфетов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4" descr="&amp;Scy;&amp;tcy;&amp;ocy;&amp;lcy;&amp;pcy;&amp;ocy;&amp;tcy;&amp;vcy;&amp;ocy;&amp;rcy;&amp;iecy;&amp;ncy;&amp;icy;&amp;iecy; &amp;vcy;&amp;acy;&amp;vcy;&amp;icy;&amp;lcy;&amp;ocy;&amp;ncy;&amp;scy;&amp;kcy;&amp;ocy;&amp;iecy; &amp;icy; &amp;rcy;&amp;acy;&amp;zcy;&amp;dcy;&amp;iecy;&amp;lcy;&amp;iecy;&amp;ncy;&amp;icy;&amp;iecy; &amp;pcy;&amp;lcy;&amp;iecy;&amp;mcy;&amp;iecy;&amp;ncy;: &amp;Scy;&amp;icy;&amp;mcy;&amp;ocy;&amp;vcy;&amp;iecy;, &amp;KHcy;&amp;acy;&amp;mcy;&amp;ocy;&amp;vcy;&amp;iecy;, &amp;YAcy;&amp;fcy;&amp;iecy;&amp;tcy;&amp;ocy;&amp;vcy;&amp;iecy;"/>
          <p:cNvPicPr/>
          <p:nvPr/>
        </p:nvPicPr>
        <p:blipFill>
          <a:blip r:embed="rId1"/>
          <a:stretch/>
        </p:blipFill>
        <p:spPr>
          <a:xfrm>
            <a:off x="1295280" y="304920"/>
            <a:ext cx="6705720" cy="586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228600" y="304920"/>
            <a:ext cx="3124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Густав Доре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Столпотворение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(гравюра)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Зиккурат 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i="1" lang="ru-RU" sz="2800" spc="-1" strike="noStrike">
                <a:solidFill>
                  <a:srgbClr val="262626"/>
                </a:solidFill>
                <a:latin typeface="Times New Roman"/>
              </a:rPr>
              <a:t>семиярусная пирамида, сужающаяся кверху, на вершину которого ведет наружняя лестница.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3" name="Picture 4" descr="Гюстав Доре Башня"/>
          <p:cNvPicPr/>
          <p:nvPr/>
        </p:nvPicPr>
        <p:blipFill>
          <a:blip r:embed="rId1"/>
          <a:stretch/>
        </p:blipFill>
        <p:spPr>
          <a:xfrm>
            <a:off x="3352680" y="0"/>
            <a:ext cx="5504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1055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Вавилонская башня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Гобелен мастера герцога Бедфордского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4267080" cy="616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8-12T19:10:2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