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ABD0-CB1C-4CC6-97A2-E32898F90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2A01-4D61-4DBD-9E39-4807F0BB6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8A9FF2-7E8B-4E9D-93A0-A8F2BA488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A9ADFF-1044-4DF6-A557-20D485D65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33F691-8374-48C1-9FA8-90B936A1B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C48534-B161-4362-A6B5-117462B5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AF2337-A16A-42F7-944F-66661A73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406AA1-77C0-4FFD-88A6-3FB472D9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F9E94F-DFCC-4692-8C89-C5D4FBD46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628D63-48D3-475D-A1F7-29C511A7E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3B235B-21CA-4CAD-A562-D9F13EA98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6060-DE38-46C2-90AB-0456D71D6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2C59-2E6D-43DA-9606-C0175671D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84B4C-3D79-495C-ADC5-8693EA44B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1CB15-1579-4C0A-A35B-827E7A066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AFBBD-BD45-4D4A-820C-04719772B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86B50-CA4D-47BA-9637-0B91669EA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D36A9-2BDF-4215-89C9-1A6126A8B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446C9-591B-4ADE-8EF7-264633668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EDA8C-6A24-490A-A365-A402A8DE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0D68-A631-4A93-9DB4-DF0933008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7011E-D2CC-49FE-8C5E-BDA16B97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AE106-A11A-4CC1-8640-D0D80635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AA101-FCD5-4B0A-A11A-4D883A57A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588FE-6D4D-44ED-AFC4-2C5895CA6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C4452-AD51-4CCB-A108-E7C0571D6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5C429-D60C-4197-8B48-6308AC782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03D7A-DABC-4285-BC6B-9FF3D4BF2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78203-6B3C-49BB-BD83-B030D4ED7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78B29-283E-42BA-95A4-A2EC3D70D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797AE-3323-40BD-BFDA-26DF6FB06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FC66-C36D-4FC8-A812-729384511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0C770-357F-4994-A11C-59E1138C2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477DF-0F34-4847-BC3E-19E5518C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001A3-92BA-400C-90EB-A482D12C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3A3E9-2B2F-4B83-8000-8BF5736A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73952-647E-4DA8-9B35-1E87F3468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5855B-E36F-48E0-9D7A-228BEC4AD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A8975-D009-4261-A09E-3C91DD73A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6C083-C979-4A31-A6FA-EE7FACD4D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0BCD7-6F8D-4B74-B858-82E7A99C4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E2071-978A-43D2-BDB7-A070A5751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11FF-995E-4026-BFA2-3632B5111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5A29B-BA80-4AC8-A998-48177313C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46089-797F-444D-B7B9-EC6FA8212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10EBB-1152-45D2-AA5B-73263EDF9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45900-65E9-4064-A546-E965EFD4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F697B-8AEE-4822-94A5-4A7CB731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09A8A-06BC-4B10-8CCC-3A84BF50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903FB-C342-435F-9690-D131091C2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E3884-8C16-4810-BDCE-010FF99D0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4BD42-A078-452A-99F6-172BAAFAA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A8D92-E0A9-435A-803A-E8E74F435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7FA5-1744-47F0-979F-96DA2F574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D4F42-2719-4752-940E-82AB9C016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DB1E0-8547-4656-85B5-C3F64C34A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BF9A3-6281-4678-8EBA-62415BD57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66ED6-A601-4795-A821-389736C07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A171F-F944-464C-9B94-82BC8EA1C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F2CFC-B350-4371-8E9F-CB7D68FE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CE45E-F153-4278-B9AE-4AEF051F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1FC4E-72EB-4F5F-A0A2-A01A0391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AB0B2-08F6-424B-A3FB-C7D4559F6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77E21-077C-4AE0-AAC6-350AEEE54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33BC-C05B-4112-8BD4-E269079AA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F758E-EADF-4813-A650-437C5F71F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5E5A7-A89C-4485-88F2-44BA54876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BEFBC9-B5AC-486D-A3D7-C737B74A8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BBAE0-7EDE-4DF0-87DB-5B8FAAE7D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80A05-F7FD-4CA1-8D61-43FAE40BA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7EC29C-388A-4DFE-B90A-ED1E2166D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F2465-0C83-4F3E-82AB-AB84B8E70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E7CF6-2CE4-4EF4-BC87-6BA625A4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FCBC7B-876F-453C-AAEA-A4F8440A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5093D-2C7F-4768-A882-2874BE18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B21A-4FD2-467E-9CC9-6B162BFE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F750C-3E05-4273-9CB6-6A195A14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BB358-532D-4195-82DD-DF10D2CF7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CBD1F-807F-4965-8DA4-AC92ECC1D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A0A631-9D83-4154-B56B-1CB31FFD9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AED11-76DA-4E5C-BC56-E72E018FE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A560EE-034B-451C-B3B4-EA1D22E6E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2F7F92-5587-40A0-A727-F32AE99C1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FEE75-97AA-4F86-901F-ACAFA9151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58D5F-7FEA-4061-ACC1-49D2A9E92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3BA28-5CA3-46E5-BA94-534D88C2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3F2A-77E9-43EC-B603-AC87F869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63AB3-6A4B-4B27-BD39-81EE2A14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B3921A-91EC-42A5-9A16-110874A2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64379-3DE1-41DE-B473-724571009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1E463-2E2E-45E9-A5B8-0F5EDDDFC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A5199-F0D1-4402-A22D-953AB1288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565B7C-D1A1-47F9-8CF8-B15BEC1FA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2B75F6-8075-4D58-9B9B-3DE25753A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EA0BF-0F56-47C7-8687-858E4BC3A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F47CE6-CBCA-4372-9EA6-5962F00F2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BF4C0A-18A9-4717-AC92-283158C87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0D5E-6445-4CA9-A4BE-8B0FCAAD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7A7499-C88E-4F29-BA1B-64481D916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1C1A7-6AFA-4482-B266-99A9D82E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2353A8-E3A8-4BFD-B73F-CA686B8F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B034FC-B5C3-48BA-8678-79644B1F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16F78E-F2DD-4282-B7A3-7E3DF395D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D5613C-6B1B-4BBB-BA3A-70078C781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9CE4E7-ED82-4CA8-9C0D-033EC8908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98A47E-ADC1-4D77-9B55-369D186EA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8D33E5-6F41-4728-92BA-8D9C4B393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1F707F-5A56-484D-9261-A0CF8D8E4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0D006-8E37-4A4C-AA49-54B9A2AB82AE}" type="slidenum"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Cover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Group 7" descr=""/>
          <p:cNvPicPr/>
          <p:nvPr/>
        </p:nvPicPr>
        <p:blipFill>
          <a:blip r:embed="rId3"/>
          <a:stretch/>
        </p:blipFill>
        <p:spPr>
          <a:xfrm>
            <a:off x="1152360" y="2627280"/>
            <a:ext cx="6864480" cy="1590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BB4FC-DE7E-4908-9F4E-F204CD382B0B}" type="slidenum"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8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Group 11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91" name="TextBox 8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Straight Connector 13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Straight Connector 14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20FAF-8F7B-4042-8A1B-033979B885A0}" type="slidenum"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36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8" name="Picture 11" descr="Cover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7"/>
          <p:cNvGrpSpPr/>
          <p:nvPr/>
        </p:nvGrpSpPr>
        <p:grpSpPr>
          <a:xfrm>
            <a:off x="1172880" y="2887560"/>
            <a:ext cx="6778440" cy="916920"/>
            <a:chOff x="1172880" y="2887560"/>
            <a:chExt cx="6778440" cy="916920"/>
          </a:xfrm>
        </p:grpSpPr>
        <p:sp>
          <p:nvSpPr>
            <p:cNvPr id="140" name="TextBox 9"/>
            <p:cNvSpPr/>
            <p:nvPr/>
          </p:nvSpPr>
          <p:spPr>
            <a:xfrm>
              <a:off x="4308840" y="288756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Straight Connector 9"/>
            <p:cNvSpPr/>
            <p:nvPr/>
          </p:nvSpPr>
          <p:spPr>
            <a:xfrm flipH="1" flipV="1">
              <a:off x="1172880" y="343224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Straight Connector 10"/>
            <p:cNvSpPr/>
            <p:nvPr/>
          </p:nvSpPr>
          <p:spPr>
            <a:xfrm flipH="1" flipV="1">
              <a:off x="4831920" y="343368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E486C-E8F7-40E5-BD95-45A6DA464BCF}" type="slidenum"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85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Group 12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188" name="TextBox 8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Straight Connector 14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Straight Connector 15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27B92-BA69-462F-85EB-44992E3C7E50}" type="slidenum"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33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Group 13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236" name="TextBox 8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Straight Connector 16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Straight Connector 17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8F807-2C19-44A6-B427-88AECEC304FF}" type="slidenum"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81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Group 9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284" name="TextBox 8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Straight Connector 14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Straight Connector 15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F2424-7C94-4F22-A220-60B549D1727D}" type="slidenum"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29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10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332" name="TextBox 8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Straight Connector 15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Straight Connector 16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2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3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4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447EE-86A8-4984-8214-F7F21770FB27}" type="slidenum"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77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Group 10"/>
          <p:cNvGrpSpPr/>
          <p:nvPr/>
        </p:nvGrpSpPr>
        <p:grpSpPr>
          <a:xfrm>
            <a:off x="6193440" y="601560"/>
            <a:ext cx="916920" cy="5481720"/>
            <a:chOff x="6193440" y="601560"/>
            <a:chExt cx="916920" cy="5481720"/>
          </a:xfrm>
        </p:grpSpPr>
        <p:sp>
          <p:nvSpPr>
            <p:cNvPr id="380" name="TextBox 8"/>
            <p:cNvSpPr/>
            <p:nvPr/>
          </p:nvSpPr>
          <p:spPr>
            <a:xfrm rot="5400000">
              <a:off x="6374880" y="291420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Straight Connector 12"/>
            <p:cNvSpPr/>
            <p:nvPr/>
          </p:nvSpPr>
          <p:spPr>
            <a:xfrm flipV="1">
              <a:off x="6566040" y="601560"/>
              <a:ext cx="1440" cy="247032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Straight Connector 13"/>
            <p:cNvSpPr/>
            <p:nvPr/>
          </p:nvSpPr>
          <p:spPr>
            <a:xfrm flipV="1">
              <a:off x="6562800" y="3612960"/>
              <a:ext cx="1440" cy="247032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5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6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7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56FEE-4B74-4455-AAA0-946259F33E20}" type="slidenum"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g1.imagilive.com/0110/795px-Brueghel-tower-of-babel.jpg" TargetMode="External"/><Relationship Id="rId2" Type="http://schemas.openxmlformats.org/officeDocument/2006/relationships/hyperlink" Target="http://mario.tomsk.fm/ximg/13034916958118.jpg" TargetMode="External"/><Relationship Id="rId3" Type="http://schemas.openxmlformats.org/officeDocument/2006/relationships/hyperlink" Target="http://www.mediagnosis.ru/HISTORY/GRAPH/Pictures/JPG/4-061-2.jpg" TargetMode="External"/><Relationship Id="rId4" Type="http://schemas.openxmlformats.org/officeDocument/2006/relationships/hyperlink" Target="http://islam.gmir.ru/catalog/B-4168_013-IV/image" TargetMode="External"/><Relationship Id="rId5" Type="http://schemas.openxmlformats.org/officeDocument/2006/relationships/hyperlink" Target="http://www.mutab0r.net/wp-content/uploads/2011/05/&#1057;&#1090;&#1086;&#1083;&#1087;&#1086;&#1090;&#1074;&#1086;&#1088;&#1077;&#1085;&#1080;&#1077;-&#1042;&#1072;&#1074;&#1080;&#1083;&#1086;&#1085;&#1089;&#1082;&#1086;&#1077;.jpg" TargetMode="External"/><Relationship Id="rId6" Type="http://schemas.openxmlformats.org/officeDocument/2006/relationships/hyperlink" Target="http://lh3.ggpht.com/_UYKc6o5HtHg/SiQ9GV2ZSdI/AAAAAAAAAII/wB5s8_31r2Q/tower_of_babel_abel+grimmer,+s.+16.jpg" TargetMode="External"/><Relationship Id="rId7" Type="http://schemas.openxmlformats.org/officeDocument/2006/relationships/hyperlink" Target="http://ib1.keep4u.ru/b/070721/b7f04c005080fcec50.jpg" TargetMode="External"/><Relationship Id="rId8" Type="http://schemas.openxmlformats.org/officeDocument/2006/relationships/hyperlink" Target="http://blog.onekoreanews.net/attach/14/1115483670.jpg" TargetMode="External"/><Relationship Id="rId9" Type="http://schemas.openxmlformats.org/officeDocument/2006/relationships/hyperlink" Target="http://blog.onekoreanews.net/attach/14/1277780509.jpg" TargetMode="Externa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Прямоугольник 1" descr=""/>
          <p:cNvPicPr/>
          <p:nvPr/>
        </p:nvPicPr>
        <p:blipFill>
          <a:blip r:embed="rId1"/>
          <a:stretch/>
        </p:blipFill>
        <p:spPr>
          <a:xfrm>
            <a:off x="0" y="1163520"/>
            <a:ext cx="9144000" cy="1360440"/>
          </a:xfrm>
          <a:prstGeom prst="rect">
            <a:avLst/>
          </a:prstGeom>
          <a:ln w="0">
            <a:noFill/>
          </a:ln>
        </p:spPr>
      </p:pic>
      <p:sp>
        <p:nvSpPr>
          <p:cNvPr id="425" name="Прямоугольник 2"/>
          <p:cNvSpPr/>
          <p:nvPr/>
        </p:nvSpPr>
        <p:spPr>
          <a:xfrm>
            <a:off x="0" y="42670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52e0e"/>
                </a:solidFill>
                <a:latin typeface="Times New Roman"/>
              </a:rPr>
              <a:t>6 кл. МХ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52e0e"/>
                </a:solidFill>
                <a:latin typeface="Times New Roman"/>
              </a:rPr>
              <a:t>Учитель ИЗО и МХК МБОУ «СОШ №2» г. Меленк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52e0e"/>
                </a:solidFill>
                <a:latin typeface="Times New Roman"/>
              </a:rPr>
              <a:t>Сорокина Агнесса Ивано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pic>
        <p:nvPicPr>
          <p:cNvPr id="448" name="Picture 2" descr="G:\Евгения\Презентации и проверочные работы по МХК 2009-2010\фото для уроков МХК\Брейгель Малая Вавилонская башня.jpg"/>
          <p:cNvPicPr/>
          <p:nvPr/>
        </p:nvPicPr>
        <p:blipFill>
          <a:blip r:embed="rId1"/>
          <a:stretch/>
        </p:blipFill>
        <p:spPr>
          <a:xfrm>
            <a:off x="1066680" y="380880"/>
            <a:ext cx="6934320" cy="5621400"/>
          </a:xfrm>
          <a:prstGeom prst="rect">
            <a:avLst/>
          </a:prstGeom>
          <a:ln w="0">
            <a:noFill/>
          </a:ln>
        </p:spPr>
      </p:pic>
      <p:sp>
        <p:nvSpPr>
          <p:cNvPr id="449" name="WordArt 6"/>
          <p:cNvSpPr/>
          <p:nvPr/>
        </p:nvSpPr>
        <p:spPr>
          <a:xfrm>
            <a:off x="-11160" y="6226200"/>
            <a:ext cx="91440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pic>
        <p:nvPicPr>
          <p:cNvPr id="452" name="Picture 2" descr=""/>
          <p:cNvPicPr/>
          <p:nvPr/>
        </p:nvPicPr>
        <p:blipFill>
          <a:blip r:embed="rId1"/>
          <a:stretch/>
        </p:blipFill>
        <p:spPr>
          <a:xfrm>
            <a:off x="728640" y="385920"/>
            <a:ext cx="7696080" cy="5997240"/>
          </a:xfrm>
          <a:prstGeom prst="rect">
            <a:avLst/>
          </a:prstGeom>
          <a:ln w="0">
            <a:noFill/>
          </a:ln>
        </p:spPr>
      </p:pic>
      <p:sp>
        <p:nvSpPr>
          <p:cNvPr id="453" name="Прямоугольник 3"/>
          <p:cNvSpPr/>
          <p:nvPr/>
        </p:nvSpPr>
        <p:spPr>
          <a:xfrm>
            <a:off x="-20520" y="6404040"/>
            <a:ext cx="916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52e0e"/>
                </a:solidFill>
                <a:latin typeface="Times New Roman"/>
              </a:rPr>
              <a:t>Вавилонская башня </a:t>
            </a:r>
            <a:r>
              <a:rPr b="0" lang="ru-RU" sz="2400" spc="-1" strike="noStrike">
                <a:solidFill>
                  <a:srgbClr val="452e0e"/>
                </a:solidFill>
                <a:latin typeface="Times New Roman"/>
              </a:rPr>
              <a:t>Абель Гримме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152280" y="8377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52e0e"/>
                </a:solidFill>
                <a:latin typeface="Times New Roman"/>
              </a:rPr>
              <a:t>На вавилонском языке название столицы «Вавилон» означает «</a:t>
            </a:r>
            <a:r>
              <a:rPr b="0" i="1" lang="ru-RU" sz="2400" spc="-1" strike="noStrike" u="sng">
                <a:solidFill>
                  <a:srgbClr val="452e0e"/>
                </a:solidFill>
                <a:uFillTx/>
                <a:latin typeface="Times New Roman"/>
              </a:rPr>
              <a:t>врата божьи</a:t>
            </a:r>
            <a:r>
              <a:rPr b="0" i="1" lang="ru-RU" sz="2400" spc="-1" strike="noStrike">
                <a:solidFill>
                  <a:srgbClr val="452e0e"/>
                </a:solidFill>
                <a:latin typeface="Times New Roman"/>
              </a:rPr>
              <a:t>» - </a:t>
            </a:r>
            <a:r>
              <a:rPr b="1" i="1" lang="ru-RU" sz="2400" spc="-1" strike="noStrike">
                <a:solidFill>
                  <a:srgbClr val="452e0e"/>
                </a:solidFill>
                <a:latin typeface="Times New Roman"/>
              </a:rPr>
              <a:t>баб-илу</a:t>
            </a:r>
            <a:r>
              <a:rPr b="0" i="1" lang="ru-RU" sz="2400" spc="-1" strike="noStrike">
                <a:solidFill>
                  <a:srgbClr val="452e0e"/>
                </a:solidFill>
                <a:latin typeface="Times New Roman"/>
              </a:rPr>
              <a:t>. А на древне еврейском сходно звучащее слово «</a:t>
            </a:r>
            <a:r>
              <a:rPr b="1" i="1" lang="ru-RU" sz="2400" spc="-1" strike="noStrike">
                <a:solidFill>
                  <a:srgbClr val="452e0e"/>
                </a:solidFill>
                <a:latin typeface="Times New Roman"/>
              </a:rPr>
              <a:t>балал</a:t>
            </a:r>
            <a:r>
              <a:rPr b="0" i="1" lang="ru-RU" sz="2400" spc="-1" strike="noStrike">
                <a:solidFill>
                  <a:srgbClr val="452e0e"/>
                </a:solidFill>
                <a:latin typeface="Times New Roman"/>
              </a:rPr>
              <a:t>» означает процесс смешения. В результате сходства обоих слов Вавилон мог легко стать символом языкового хаоса в мире, тем более что был многоязычным городом. Не нужно также удивляться тому, что евреи видели в Вавилоне и его пирамиде (</a:t>
            </a:r>
            <a:r>
              <a:rPr b="1" i="1" lang="ru-RU" sz="2400" spc="-1" strike="noStrike">
                <a:solidFill>
                  <a:srgbClr val="452e0e"/>
                </a:solidFill>
                <a:latin typeface="Times New Roman"/>
              </a:rPr>
              <a:t>зиккурате</a:t>
            </a:r>
            <a:r>
              <a:rPr b="0" i="1" lang="ru-RU" sz="2400" spc="-1" strike="noStrike">
                <a:solidFill>
                  <a:srgbClr val="452e0e"/>
                </a:solidFill>
                <a:latin typeface="Times New Roman"/>
              </a:rPr>
              <a:t>) олицетворение дерзости и греховности по отношению к Богу. Вавилонские цари строили пирамиду, используя труд рабов и военнопленных, согнанных из разных стран. Среди рабов, наверное, были и  евреи. В их памяти сохранилось тяжелое вавилонское пленение и на основе этого воспоминания родился миф о Вавилонской башне.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52e0e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452e0e"/>
                </a:solidFill>
                <a:latin typeface="Times New Roman"/>
              </a:rPr>
              <a:t>ЗЕНОН КОСИДОВСКИЙ, историк, библиовед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indent="45252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Picture 2" descr="http://blog.onekoreanews.net/attach/14/1115483670.jpg"/>
          <p:cNvPicPr/>
          <p:nvPr/>
        </p:nvPicPr>
        <p:blipFill>
          <a:blip r:embed="rId1"/>
          <a:stretch/>
        </p:blipFill>
        <p:spPr>
          <a:xfrm>
            <a:off x="1052640" y="457200"/>
            <a:ext cx="7145280" cy="5235480"/>
          </a:xfrm>
          <a:prstGeom prst="rect">
            <a:avLst/>
          </a:prstGeom>
          <a:ln w="0">
            <a:noFill/>
          </a:ln>
        </p:spPr>
      </p:pic>
      <p:sp>
        <p:nvSpPr>
          <p:cNvPr id="456" name="Прямоугольник 1"/>
          <p:cNvSpPr/>
          <p:nvPr/>
        </p:nvSpPr>
        <p:spPr>
          <a:xfrm>
            <a:off x="1052640" y="5867280"/>
            <a:ext cx="714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52e0e"/>
                </a:solidFill>
                <a:latin typeface="Times New Roman"/>
              </a:rPr>
              <a:t>Вавилонская башня</a:t>
            </a:r>
            <a:r>
              <a:rPr b="0" lang="en-US" sz="2400" spc="-1" strike="noStrike">
                <a:solidFill>
                  <a:srgbClr val="452e0e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452e0e"/>
                </a:solidFill>
                <a:latin typeface="Times New Roman"/>
              </a:rPr>
              <a:t>Абель Гримм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Прямоугольник 1"/>
          <p:cNvSpPr/>
          <p:nvPr/>
        </p:nvSpPr>
        <p:spPr>
          <a:xfrm>
            <a:off x="0" y="6140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52e0e"/>
                </a:solidFill>
                <a:latin typeface="Times New Roman"/>
              </a:rPr>
              <a:t>Вавилонская башня </a:t>
            </a:r>
            <a:r>
              <a:rPr b="0" lang="ru-RU" sz="2400" spc="-1" strike="noStrike">
                <a:solidFill>
                  <a:srgbClr val="452e0e"/>
                </a:solidFill>
                <a:latin typeface="Times New Roman"/>
              </a:rPr>
              <a:t>Питер Брейгель Старший.</a:t>
            </a:r>
            <a:r>
              <a:rPr b="0" lang="en-US" sz="2400" spc="-1" strike="noStrike">
                <a:solidFill>
                  <a:srgbClr val="452e0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8" name="Picture 2" descr="http://blog.onekoreanews.net/attach/14/1277780509.jpg"/>
          <p:cNvPicPr/>
          <p:nvPr/>
        </p:nvPicPr>
        <p:blipFill>
          <a:blip r:embed="rId1"/>
          <a:stretch/>
        </p:blipFill>
        <p:spPr>
          <a:xfrm>
            <a:off x="1014480" y="345960"/>
            <a:ext cx="7169040" cy="5562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2" descr=""/>
          <p:cNvPicPr/>
          <p:nvPr/>
        </p:nvPicPr>
        <p:blipFill>
          <a:blip r:embed="rId1"/>
          <a:stretch/>
        </p:blipFill>
        <p:spPr>
          <a:xfrm>
            <a:off x="457200" y="336600"/>
            <a:ext cx="8292960" cy="5738760"/>
          </a:xfrm>
          <a:prstGeom prst="rect">
            <a:avLst/>
          </a:prstGeom>
          <a:ln w="0">
            <a:noFill/>
          </a:ln>
        </p:spPr>
      </p:pic>
      <p:sp>
        <p:nvSpPr>
          <p:cNvPr id="460" name="Прямоугольник 1"/>
          <p:cNvSpPr/>
          <p:nvPr/>
        </p:nvSpPr>
        <p:spPr>
          <a:xfrm>
            <a:off x="0" y="6207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52e0e"/>
                </a:solidFill>
                <a:latin typeface="Times New Roman"/>
              </a:rPr>
              <a:t>Вавилонская башня</a:t>
            </a:r>
            <a:r>
              <a:rPr b="0" lang="en-US" sz="2400" spc="-1" strike="noStrike">
                <a:solidFill>
                  <a:srgbClr val="452e0e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452e0e"/>
                </a:solidFill>
                <a:latin typeface="Times New Roman"/>
              </a:rPr>
              <a:t>Франс Франке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Прямоугольник 1"/>
          <p:cNvSpPr/>
          <p:nvPr/>
        </p:nvSpPr>
        <p:spPr>
          <a:xfrm>
            <a:off x="0" y="5943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52e0e"/>
                </a:solidFill>
                <a:latin typeface="Times New Roman"/>
              </a:rPr>
              <a:t>Вавилонская башня </a:t>
            </a:r>
            <a:r>
              <a:rPr b="0" lang="en-US" sz="2400" spc="-1" strike="noStrike">
                <a:solidFill>
                  <a:srgbClr val="452e0e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452e0e"/>
                </a:solidFill>
                <a:latin typeface="Times New Roman"/>
              </a:rPr>
              <a:t>Лукас ван Фалькенбор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Picture 2" descr="http://blog.onekoreanews.net/attach/14/1012984937.jpg"/>
          <p:cNvPicPr/>
          <p:nvPr/>
        </p:nvPicPr>
        <p:blipFill>
          <a:blip r:embed="rId1"/>
          <a:stretch/>
        </p:blipFill>
        <p:spPr>
          <a:xfrm>
            <a:off x="677880" y="469800"/>
            <a:ext cx="7788240" cy="5295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2" descr=""/>
          <p:cNvPicPr/>
          <p:nvPr/>
        </p:nvPicPr>
        <p:blipFill>
          <a:blip r:embed="rId1"/>
          <a:stretch/>
        </p:blipFill>
        <p:spPr>
          <a:xfrm>
            <a:off x="3809880" y="228600"/>
            <a:ext cx="4637160" cy="6324480"/>
          </a:xfrm>
          <a:prstGeom prst="rect">
            <a:avLst/>
          </a:prstGeom>
          <a:ln w="0">
            <a:noFill/>
          </a:ln>
        </p:spPr>
      </p:pic>
      <p:sp>
        <p:nvSpPr>
          <p:cNvPr id="464" name="Прямоугольник 1"/>
          <p:cNvSpPr/>
          <p:nvPr/>
        </p:nvSpPr>
        <p:spPr>
          <a:xfrm>
            <a:off x="304920" y="5726160"/>
            <a:ext cx="32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52e0e"/>
                </a:solidFill>
                <a:latin typeface="Times New Roman"/>
              </a:rPr>
              <a:t>Вавилонская башня.</a:t>
            </a:r>
            <a:br>
              <a:rPr sz="2400"/>
            </a:br>
            <a:r>
              <a:rPr b="0" lang="ru-RU" sz="2400" spc="-1" strike="noStrike">
                <a:solidFill>
                  <a:srgbClr val="452e0e"/>
                </a:solidFill>
                <a:latin typeface="Times New Roman"/>
              </a:rPr>
              <a:t>Жан Томассен</a:t>
            </a:r>
            <a:r>
              <a:rPr b="0" lang="en-US" sz="2400" spc="-1" strike="noStrike">
                <a:solidFill>
                  <a:srgbClr val="452e0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2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7010640" cy="5334120"/>
          </a:xfrm>
          <a:prstGeom prst="rect">
            <a:avLst/>
          </a:prstGeom>
          <a:ln w="0">
            <a:noFill/>
          </a:ln>
        </p:spPr>
      </p:pic>
      <p:sp>
        <p:nvSpPr>
          <p:cNvPr id="466" name="Прямоугольник 1"/>
          <p:cNvSpPr/>
          <p:nvPr/>
        </p:nvSpPr>
        <p:spPr>
          <a:xfrm>
            <a:off x="0" y="61070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52e0e"/>
                </a:solidFill>
                <a:latin typeface="Times New Roman"/>
              </a:rPr>
              <a:t>Вавилонская башня, 2000 г.</a:t>
            </a:r>
            <a:r>
              <a:rPr b="0" lang="en-US" sz="2400" spc="-1" strike="noStrike">
                <a:solidFill>
                  <a:srgbClr val="452e0e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452e0e"/>
                </a:solidFill>
                <a:latin typeface="Times New Roman"/>
              </a:rPr>
              <a:t>Роберто Гонсалес Фернанде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2" descr="http://www.art-in-exile.com/forums/photopost/data/1359/ztower_b.jpg"/>
          <p:cNvPicPr/>
          <p:nvPr/>
        </p:nvPicPr>
        <p:blipFill>
          <a:blip r:embed="rId1"/>
          <a:stretch/>
        </p:blipFill>
        <p:spPr>
          <a:xfrm>
            <a:off x="2971800" y="247680"/>
            <a:ext cx="5638680" cy="6434280"/>
          </a:xfrm>
          <a:prstGeom prst="rect">
            <a:avLst/>
          </a:prstGeom>
          <a:ln w="0">
            <a:noFill/>
          </a:ln>
        </p:spPr>
      </p:pic>
      <p:sp>
        <p:nvSpPr>
          <p:cNvPr id="468" name="Прямоугольник 1"/>
          <p:cNvSpPr/>
          <p:nvPr/>
        </p:nvSpPr>
        <p:spPr>
          <a:xfrm>
            <a:off x="289080" y="495288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2e0e"/>
                </a:solidFill>
                <a:latin typeface="Times New Roman"/>
              </a:rPr>
              <a:t>Вавилонская башня.</a:t>
            </a:r>
            <a:br>
              <a:rPr sz="2400"/>
            </a:br>
            <a:r>
              <a:rPr b="0" lang="en-US" sz="2400" spc="-1" strike="noStrike">
                <a:solidFill>
                  <a:srgbClr val="452e0e"/>
                </a:solidFill>
                <a:latin typeface="Times New Roman"/>
              </a:rPr>
              <a:t>Безымянный немецкий масте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380880" y="22096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Происходило это, </a:t>
            </a:r>
            <a:r>
              <a:rPr b="0" i="1" lang="ru-RU" sz="2400" spc="-1" strike="noStrike">
                <a:solidFill>
                  <a:srgbClr val="262626"/>
                </a:solidFill>
                <a:latin typeface="Times New Roman"/>
              </a:rPr>
              <a:t>как утверждает Библия,</a:t>
            </a: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 еще в те времена, когда все люди на свете разговаривали на одном языке. 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После потопа люди снова размножились и занимали равнину в стране Сеннаар, в бассейне рек Тигра и Евфрата. Земля там была необыкновенно плодородная, так что им жилось всё лучше и лучше. И довольно скоро стали забывать Бога и наказание, посланное на землю за грехи людей. Думая, что они могут всё сделать без помощи Божьей и Его благоволения, они решили построить город Вавилон.  И вырос город. И был он велик и прекрасен.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pic>
        <p:nvPicPr>
          <p:cNvPr id="427" name="WordArt 5" descr=""/>
          <p:cNvPicPr/>
          <p:nvPr/>
        </p:nvPicPr>
        <p:blipFill>
          <a:blip r:embed="rId1"/>
          <a:stretch/>
        </p:blipFill>
        <p:spPr>
          <a:xfrm>
            <a:off x="12600" y="133200"/>
            <a:ext cx="9144000" cy="1592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2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581960" cy="5916600"/>
          </a:xfrm>
          <a:prstGeom prst="rect">
            <a:avLst/>
          </a:prstGeom>
          <a:ln w="0">
            <a:noFill/>
          </a:ln>
        </p:spPr>
      </p:pic>
      <p:sp>
        <p:nvSpPr>
          <p:cNvPr id="470" name="Прямоугольник 2"/>
          <p:cNvSpPr/>
          <p:nvPr/>
        </p:nvSpPr>
        <p:spPr>
          <a:xfrm>
            <a:off x="0" y="6319800"/>
            <a:ext cx="915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вилонская башня, 1595 г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укас ван Фалькенбор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Прямоугольник 1"/>
          <p:cNvSpPr/>
          <p:nvPr/>
        </p:nvSpPr>
        <p:spPr>
          <a:xfrm>
            <a:off x="457200" y="304920"/>
            <a:ext cx="8381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00"/>
                </a:solidFill>
                <a:uFillTx/>
                <a:latin typeface="Times New Roman"/>
                <a:hlinkClick r:id="rId1"/>
              </a:rPr>
              <a:t>http://img1.imagilive.com/0110/795px-Brueghel-tower-of-babel.jp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00"/>
                </a:solidFill>
                <a:uFillTx/>
                <a:latin typeface="Times New Roman"/>
                <a:hlinkClick r:id="rId2"/>
              </a:rPr>
              <a:t>http://mario.tomsk.fm/ximg/13034916958118.jp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00"/>
                </a:solidFill>
                <a:uFillTx/>
                <a:latin typeface="Times New Roman"/>
                <a:hlinkClick r:id="rId3"/>
              </a:rPr>
              <a:t>http://www.mediagnosis.ru/HISTORY/GRAPH/Pictures/JPG/4-061-2.jp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00"/>
                </a:solidFill>
                <a:uFillTx/>
                <a:latin typeface="Times New Roman"/>
                <a:hlinkClick r:id="rId4"/>
              </a:rPr>
              <a:t>http://islam.gmir.ru/catalog/B-4168_013-IV/imag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00"/>
                </a:solidFill>
                <a:uFillTx/>
                <a:latin typeface="Times New Roman"/>
                <a:hlinkClick r:id="rId5"/>
              </a:rPr>
              <a:t>http://www.mutab0r.net/wp-content/uploads/2011/05/%D0%A1%D1%82%D0%BE%D0%BB%D0%BF%D0%BE%D1%82%D0%B2%D0%BE%D1%80%D0%B5%D0%BD%D0%B8%D0%B5-%D0%92%D0%B0%D0%B2%D0%B8%D0%BB%D0%BE%D0%BD%D1%81%D0%BA%D0%BE%D0%B5.jp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00"/>
                </a:solidFill>
                <a:uFillTx/>
                <a:latin typeface="Times New Roman"/>
                <a:hlinkClick r:id="rId6"/>
              </a:rPr>
              <a:t>http://lh3.ggpht.com/_UYKc6o5HtHg/SiQ9GV2ZSdI/AAAAAAAAAII/wB5s8_31r2Q/tower_of_babel_abel+grimmer,+s.+16.jp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00"/>
                </a:solidFill>
                <a:uFillTx/>
                <a:latin typeface="Times New Roman"/>
                <a:hlinkClick r:id="rId7"/>
              </a:rPr>
              <a:t>http://ib1.keep4u.ru/b/070721/b7f04c005080fcec50.jp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00"/>
                </a:solidFill>
                <a:uFillTx/>
                <a:latin typeface="Times New Roman"/>
                <a:hlinkClick r:id="rId8"/>
              </a:rPr>
              <a:t>http://blog.onekoreanews.net/attach/14/1115483670.jp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00"/>
                </a:solidFill>
                <a:uFillTx/>
                <a:latin typeface="Times New Roman"/>
                <a:hlinkClick r:id="rId9"/>
              </a:rPr>
              <a:t>http://blog.onekoreanews.net/attach/14/1277780509.jp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blog.onekoreanews.net/attach/14/1122307604.jp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blog.onekoreanews.net/attach/14/1012984937.jpg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pics.livejournal.com/lia_hantenbein/pic/0002wx3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r-gonzalezfernandez.com/Imagenes/FONDOS/FONDO%20Babel%201%20%20640%20x%20487%20REDUCIDO.jp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art-in-exile.com/forums/photopost/data/1359/ztower_b.jp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myisrael.at.ua/index/0-2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895d1d"/>
              </a:solidFill>
              <a:latin typeface="Times New Roman"/>
            </a:endParaRPr>
          </a:p>
        </p:txBody>
      </p:sp>
      <p:pic>
        <p:nvPicPr>
          <p:cNvPr id="430" name="Picture 2" descr="G:\Евгения\Презентации и проверочные работы по МХК 2009-2010\фото для уроков МХК\Брейгель Вавилонская башня.jpg"/>
          <p:cNvPicPr/>
          <p:nvPr/>
        </p:nvPicPr>
        <p:blipFill>
          <a:blip r:embed="rId1"/>
          <a:stretch/>
        </p:blipFill>
        <p:spPr>
          <a:xfrm>
            <a:off x="762120" y="243000"/>
            <a:ext cx="7619760" cy="5811840"/>
          </a:xfrm>
          <a:prstGeom prst="rect">
            <a:avLst/>
          </a:prstGeom>
          <a:ln w="0">
            <a:noFill/>
          </a:ln>
        </p:spPr>
      </p:pic>
      <p:sp>
        <p:nvSpPr>
          <p:cNvPr id="431" name="WordArt 6"/>
          <p:cNvSpPr/>
          <p:nvPr/>
        </p:nvSpPr>
        <p:spPr>
          <a:xfrm>
            <a:off x="0" y="6172200"/>
            <a:ext cx="91440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" dur="20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-6840" y="228240"/>
            <a:ext cx="441972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Это ввело их в гордыню и люди задумали построить в Вавилоне такую высокую башню, чтобы её верхушка доставала до самого неба.  Вместо камней они использовали  в качестве строительного материала обожженный кирпич, а вместо извести – глину. 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Самые гордые вавилоняне мечтали о том, чтобы по ней подняться в небо и стать выше самого бога.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- Пусть знают все! – кричали они. – Мы – лучшие в мире! А скоро и сами станем как боги!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pic>
        <p:nvPicPr>
          <p:cNvPr id="433" name="Picture 4" descr="башня"/>
          <p:cNvPicPr/>
          <p:nvPr/>
        </p:nvPicPr>
        <p:blipFill>
          <a:blip r:embed="rId1"/>
          <a:stretch/>
        </p:blipFill>
        <p:spPr>
          <a:xfrm>
            <a:off x="4621320" y="685800"/>
            <a:ext cx="4325760" cy="533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" dur="10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" dur="10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" dur="100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" dur="1000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" dur="1000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7" descr="http://stat17.privet.ru/lr/091f3e63973edd3b5f4cc2a0cb0a7d6f"/>
          <p:cNvPicPr/>
          <p:nvPr/>
        </p:nvPicPr>
        <p:blipFill>
          <a:blip r:embed="rId1"/>
          <a:stretch/>
        </p:blipFill>
        <p:spPr>
          <a:xfrm>
            <a:off x="0" y="9360"/>
            <a:ext cx="9132840" cy="6856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3" descr=""/>
          <p:cNvPicPr/>
          <p:nvPr/>
        </p:nvPicPr>
        <p:blipFill>
          <a:blip r:embed="rId1"/>
          <a:stretch/>
        </p:blipFill>
        <p:spPr>
          <a:xfrm>
            <a:off x="228600" y="206280"/>
            <a:ext cx="4267080" cy="649944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 txBox="1"/>
          <p:nvPr/>
        </p:nvSpPr>
        <p:spPr>
          <a:xfrm>
            <a:off x="2573280" y="628200"/>
            <a:ext cx="643104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Башня росла всё выше, пока Яхве не встревожился и не решил посмотреть, что она собой представляет. Человеческая гордость вызвала его гнев. И Бог наказал людей за их гордость. 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Однажды Господь смешал языки людей так, что они перестали друг друга понимать. Среди строителей вавилонской башни возникло замешательство – люди никак не могли договориться между собой. 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37" name="Прямоугольник 1"/>
          <p:cNvSpPr/>
          <p:nvPr/>
        </p:nvSpPr>
        <p:spPr>
          <a:xfrm>
            <a:off x="4440240" y="439740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И все они вынуждены были отказаться от дерзкого замысла. Рассеялись люди по всему свету, побросав груды материала и орудия, которыми они пользовалис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Прямоугольник 2"/>
          <p:cNvSpPr/>
          <p:nvPr/>
        </p:nvSpPr>
        <p:spPr>
          <a:xfrm>
            <a:off x="2573280" y="4680"/>
            <a:ext cx="643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троительство Вавилонской башни (около 1370 г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еизвестный мастер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Прямоугольник 3"/>
          <p:cNvSpPr/>
          <p:nvPr/>
        </p:nvSpPr>
        <p:spPr>
          <a:xfrm>
            <a:off x="380880" y="623736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олпотворение вавилонское и разделение племен: Симове, Хамове, Яфетов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Picture 4" descr="&amp;Scy;&amp;tcy;&amp;ocy;&amp;lcy;&amp;pcy;&amp;ocy;&amp;tcy;&amp;vcy;&amp;ocy;&amp;rcy;&amp;iecy;&amp;ncy;&amp;icy;&amp;iecy; &amp;vcy;&amp;acy;&amp;vcy;&amp;icy;&amp;lcy;&amp;ocy;&amp;ncy;&amp;scy;&amp;kcy;&amp;ocy;&amp;iecy; &amp;icy; &amp;rcy;&amp;acy;&amp;zcy;&amp;dcy;&amp;iecy;&amp;lcy;&amp;iecy;&amp;ncy;&amp;icy;&amp;iecy; &amp;pcy;&amp;lcy;&amp;iecy;&amp;mcy;&amp;iecy;&amp;ncy;: &amp;Scy;&amp;icy;&amp;mcy;&amp;ocy;&amp;vcy;&amp;iecy;, &amp;KHcy;&amp;acy;&amp;mcy;&amp;ocy;&amp;vcy;&amp;iecy;, &amp;YAcy;&amp;fcy;&amp;iecy;&amp;tcy;&amp;ocy;&amp;vcy;&amp;iecy;"/>
          <p:cNvPicPr/>
          <p:nvPr/>
        </p:nvPicPr>
        <p:blipFill>
          <a:blip r:embed="rId1"/>
          <a:stretch/>
        </p:blipFill>
        <p:spPr>
          <a:xfrm>
            <a:off x="1295280" y="304920"/>
            <a:ext cx="6705720" cy="5865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228600" y="304920"/>
            <a:ext cx="312408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Times New Roman"/>
              </a:rPr>
              <a:t>Густав Доре</a:t>
            </a:r>
            <a:endParaRPr b="0" lang="en-US" sz="2800" spc="-1" strike="noStrike">
              <a:solidFill>
                <a:srgbClr val="262626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Times New Roman"/>
              </a:rPr>
              <a:t>Столпотворение</a:t>
            </a:r>
            <a:endParaRPr b="0" lang="en-US" sz="2800" spc="-1" strike="noStrike">
              <a:solidFill>
                <a:srgbClr val="262626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Times New Roman"/>
              </a:rPr>
              <a:t>(гравюра)</a:t>
            </a:r>
            <a:endParaRPr b="0" lang="en-US" sz="2800" spc="-1" strike="noStrike">
              <a:solidFill>
                <a:srgbClr val="262626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Times New Roman"/>
              </a:rPr>
              <a:t>Зиккурат </a:t>
            </a:r>
            <a:r>
              <a:rPr b="0" lang="ru-RU" sz="2800" spc="-1" strike="noStrike">
                <a:solidFill>
                  <a:srgbClr val="262626"/>
                </a:solidFill>
                <a:latin typeface="Times New Roman"/>
              </a:rPr>
              <a:t>– </a:t>
            </a:r>
            <a:r>
              <a:rPr b="0" i="1" lang="ru-RU" sz="2800" spc="-1" strike="noStrike">
                <a:solidFill>
                  <a:srgbClr val="262626"/>
                </a:solidFill>
                <a:latin typeface="Times New Roman"/>
              </a:rPr>
              <a:t>семиярусная пирамида, сужающаяся кверху, на вершину которого ведет наружняя лестница.</a:t>
            </a:r>
            <a:endParaRPr b="0" lang="en-US" sz="28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pic>
        <p:nvPicPr>
          <p:cNvPr id="443" name="Picture 4" descr="Гюстав Доре Башня"/>
          <p:cNvPicPr/>
          <p:nvPr/>
        </p:nvPicPr>
        <p:blipFill>
          <a:blip r:embed="rId1"/>
          <a:stretch/>
        </p:blipFill>
        <p:spPr>
          <a:xfrm>
            <a:off x="3352680" y="0"/>
            <a:ext cx="550404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2000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5105520" y="0"/>
            <a:ext cx="40384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Times New Roman"/>
              </a:rPr>
              <a:t>Вавилонская башня </a:t>
            </a:r>
            <a:br>
              <a:rPr sz="2400"/>
            </a:b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Гобелен мастера герцога Бедфордского.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pic>
        <p:nvPicPr>
          <p:cNvPr id="445" name="Picture 4" descr=""/>
          <p:cNvPicPr/>
          <p:nvPr/>
        </p:nvPicPr>
        <p:blipFill>
          <a:blip r:embed="rId1"/>
          <a:stretch/>
        </p:blipFill>
        <p:spPr>
          <a:xfrm>
            <a:off x="457200" y="390600"/>
            <a:ext cx="4267080" cy="6162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ма</cp:lastModifiedBy>
  <dcterms:modified xsi:type="dcterms:W3CDTF">2013-08-12T19:10:24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