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95E-AB8B-4A76-8C19-FF549B8B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EBE-1278-4B21-9A14-22E6073C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73E4B-B59C-4CF9-9377-E43A33B4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8B56F-D157-4F98-B7DA-7DA3A3FD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0894B-BFC3-4B89-BF3C-A12E5BE7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5281D-1D0C-461B-AA87-06FA08BA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D44DF-B60F-4136-A03E-9ED3DDA5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F5E4D-17A3-4275-A14A-12AF765E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31161-35E9-48DA-A0AD-52864C15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7FA00-D362-4421-B123-E4921CA6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94AC6-0755-4511-AA0E-8F51829E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AE6-33DC-4C4D-B2F6-29C30146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545-7268-4839-8FE2-C4482E3D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8E47-0D28-4C54-9933-4E350B30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EA27-2FA5-499A-8BD6-40640640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BB40-24C5-4158-949B-5A3FD395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58C9-48B6-4142-96E3-6FA0FE55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5E96-0791-4BD0-AF87-AE9D0975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EDDB-F788-4F1F-ABE7-94C4817A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AA44-BB53-460A-9C8F-DEAE7FF0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9A5-5D05-4A55-8998-273D7ADA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505F-191A-49C9-9CDA-AA739C7C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D868-C6C2-456A-8D93-267C6A33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268A-0729-44FA-9D7D-DA21E01A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67F9-433B-4A6B-B8B6-D32FE310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92CC-953C-4F97-B625-EF452FF8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E67D-EE78-4767-A702-A5643D9F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B6F54-0045-4F0C-AB36-C192DA61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1D72-7263-40F6-97F1-BA9A9B46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AFC8-8D68-4F71-BD69-A1311FDD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F6AF4-7A7C-4392-89C2-C78D72ED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31E-94B9-4DBD-A2C8-7B9FED21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89FE-BB14-4CEA-AEB4-ECB69494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C67DB-61E8-4500-A387-901E46F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60E6-E17E-4DAC-B7CD-0700AE2B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E6D9C-968A-4315-A06B-C6C9EB6F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D1111-B232-4452-8A54-16906446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D3AB3-9235-4B7B-9CD5-13AE704D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0F19-AEBF-4096-8FF4-3733E047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DF7A-7CAD-4FDC-ACC3-16407F64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3B36-3F96-4C3C-804F-C3D9A69F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16192-80B2-46A8-A3F6-CB80E302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3F7-19D0-4AE9-A453-99DE0D90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694E-507C-4435-81A9-E5A61D23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321B9-C4D5-453D-90A0-ECA428AA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9955-FA78-4D84-9C2C-B17DD7AD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7C4A7-0375-4E9E-A843-9E91BD6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40963-BCF6-4732-82A2-591A4026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30AF4-DDA5-4BC3-8C03-414A9C63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1E5BD-8ECC-4CAE-93D2-1D8C0A3E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01B02-3B1E-4310-9D40-E8DC6B34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F3677-FF7C-4167-A706-9E324DA7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44992-1F84-4DA3-8462-778E15ED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59D-C476-435A-AD0C-02590FC4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97C41-865C-494B-83F8-60C5A9C5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65A8D-4742-4E6F-86D8-0112E0FD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7A496-0DE9-4260-99D8-6A0BE860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6715F-36F1-4189-8131-9A0D78BA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180AC-D378-4FC1-82C7-F89E7949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9D9FD-1B16-4C25-9F36-A4F223E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B9BD7-BB6A-43A2-988B-D8240C4D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943C1-5EF7-4C4D-BCCA-EBCC92E1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B6FA9-245B-4D6B-98C3-9271BA29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BDFEE-52FA-4C8D-8C81-E7F16267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BE6-687C-484B-9B17-EF0F27DE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1E3BE-6443-41FC-990D-FDFDCEF5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49C8-CB0F-46E5-9443-A758446E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8995C-61E9-42DA-88B1-599DC8A9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00766-566C-465A-B4B5-EA503827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9DA68-DD0A-429D-B064-FD9CC0C8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E27DD-FB74-44BE-8A51-3CFC9491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E7E9F-F0BF-4559-929A-7D970BBF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67E30-93A8-4052-A450-46967639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E8DBB-FF02-44D6-AFD7-5FE8D1E0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BD4E3-5996-4F82-B5B3-32A01514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F08-CBB9-46DA-A800-93588C59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BC7E6-EC13-473B-A8A2-D0E5ADBA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BD897-0921-4FBD-B428-D91E186C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1039B-7060-43A3-8230-9C367A00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D603B-5CA9-4234-B216-5E151455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AA0B4-62F5-4483-B44F-5804F463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EE285-6208-4BB5-964D-78BDABC6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7AB2A-F989-40BF-8955-CB7B386C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FFC54-8383-4FE4-9E0B-54786ACF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9398D-E15F-4959-B2FA-344FE94E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A5C66-60F2-485B-9B2D-5CEE9CC8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3B7-5597-429A-8E43-9FBC929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251DB-445C-487E-8EE6-AA7A592F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70D81-9C8B-45C6-B173-148FB425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19DC1-96A7-4ED6-A77A-822879FD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B0B04-1868-4A66-8AA1-DA6DBB61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07027-D0B9-4179-BF4B-99AF8699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A3FCE-B350-4644-AFA6-4A0D38A7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3A760-4EEB-4661-AD13-3EAE5624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CA02F-4DD2-4A86-94B1-8A81A6A5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3B591-B260-4080-8A98-E14F5B5D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9F981-285D-4499-9CF1-4079B304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983-4605-418E-B143-CF34E559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71812-DE54-4A63-8BA7-DCE499DB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9C56F-8D43-45AA-87E2-150A6211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99ECB-8CEF-409D-B7F1-C479ACBC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9D404-E018-45D9-9068-1C9A49AB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3602F-A800-439E-B93D-638EBA65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D2A83-0C35-4C94-9684-C119D565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C9192-6EEC-4DDC-894C-237E50E1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9B3EC-99B5-4384-8A4B-12F1DC0F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C0A74-6568-44E6-8C35-872D1A82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73DE5-7CA2-49BE-B723-EF766860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CA77-4826-41FC-8F89-40B9210E145E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3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1045-CBAA-4868-9A9B-3DCAA308C85E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0283-F044-45D2-AA54-1B433299BCAC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8F80-21E5-4968-BBAA-EF366D5201AF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3935-B2B9-4DF8-AF7A-884A15476E23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59C9-09C9-44F3-A578-8BF4F8340D0F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C95F-A3CA-4963-A05E-D7D032E592EC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C5E6-5C09-4B8D-9C68-ECD1163D9DF1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2CB0-37A4-4267-B5D7-15CE066E52BD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1.imagilive.com/0110/795px-Brueghel-tower-of-babel.jpg" TargetMode="External"/><Relationship Id="rId2" Type="http://schemas.openxmlformats.org/officeDocument/2006/relationships/hyperlink" Target="http://mario.tomsk.fm/ximg/13034916958118.jpg" TargetMode="External"/><Relationship Id="rId3" Type="http://schemas.openxmlformats.org/officeDocument/2006/relationships/hyperlink" Target="http://www.mediagnosis.ru/HISTORY/GRAPH/Pictures/JPG/4-061-2.jpg" TargetMode="External"/><Relationship Id="rId4" Type="http://schemas.openxmlformats.org/officeDocument/2006/relationships/hyperlink" Target="http://islam.gmir.ru/catalog/B-4168_013-IV/image" TargetMode="External"/><Relationship Id="rId5" Type="http://schemas.openxmlformats.org/officeDocument/2006/relationships/hyperlink" Target="http://www.mutab0r.net/wp-content/uploads/2011/05/&#1057;&#1090;&#1086;&#1083;&#1087;&#1086;&#1090;&#1074;&#1086;&#1088;&#1077;&#1085;&#1080;&#1077;-&#1042;&#1072;&#1074;&#1080;&#1083;&#1086;&#1085;&#1089;&#1082;&#1086;&#1077;.jpg" TargetMode="External"/><Relationship Id="rId6" Type="http://schemas.openxmlformats.org/officeDocument/2006/relationships/hyperlink" Target="http://lh3.ggpht.com/_UYKc6o5HtHg/SiQ9GV2ZSdI/AAAAAAAAAII/wB5s8_31r2Q/tower_of_babel_abel+grimmer,+s.+16.jpg" TargetMode="External"/><Relationship Id="rId7" Type="http://schemas.openxmlformats.org/officeDocument/2006/relationships/hyperlink" Target="http://ib1.keep4u.ru/b/070721/b7f04c005080fcec50.jpg" TargetMode="External"/><Relationship Id="rId8" Type="http://schemas.openxmlformats.org/officeDocument/2006/relationships/hyperlink" Target="http://blog.onekoreanews.net/attach/14/1115483670.jpg" TargetMode="External"/><Relationship Id="rId9" Type="http://schemas.openxmlformats.org/officeDocument/2006/relationships/hyperlink" Target="http://blog.onekoreanews.net/attach/14/1277780509.jpg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13604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2"/>
          <p:cNvSpPr/>
          <p:nvPr/>
        </p:nvSpPr>
        <p:spPr>
          <a:xfrm>
            <a:off x="0" y="4267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6 кл. МХ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Учитель ИЗО и МХК МБОУ «СОШ №2» г. Мелен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Сорокина Агнесса Иван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48" name="Picture 2" descr="G:\Евгения\Презентации и проверочные работы по МХК 2009-2010\фото для уроков МХК\Брейгель Малая Вавилонская башня.jpg"/>
          <p:cNvPicPr/>
          <p:nvPr/>
        </p:nvPicPr>
        <p:blipFill>
          <a:blip r:embed="rId1"/>
          <a:stretch/>
        </p:blipFill>
        <p:spPr>
          <a:xfrm>
            <a:off x="1066680" y="380880"/>
            <a:ext cx="6934320" cy="5621400"/>
          </a:xfrm>
          <a:prstGeom prst="rect">
            <a:avLst/>
          </a:prstGeom>
          <a:ln w="0">
            <a:noFill/>
          </a:ln>
        </p:spPr>
      </p:pic>
      <p:sp>
        <p:nvSpPr>
          <p:cNvPr id="449" name="WordArt 6"/>
          <p:cNvSpPr/>
          <p:nvPr/>
        </p:nvSpPr>
        <p:spPr>
          <a:xfrm>
            <a:off x="-11160" y="6226200"/>
            <a:ext cx="9144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28640" y="385920"/>
            <a:ext cx="7696080" cy="599724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3"/>
          <p:cNvSpPr/>
          <p:nvPr/>
        </p:nvSpPr>
        <p:spPr>
          <a:xfrm>
            <a:off x="-20520" y="6404040"/>
            <a:ext cx="91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Абель Гримм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5228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На вавилонском языке название столицы «Вавилон» означает «</a:t>
            </a:r>
            <a:r>
              <a:rPr b="0" i="1" lang="ru-RU" sz="2400" spc="-1" strike="noStrike" u="sng">
                <a:solidFill>
                  <a:srgbClr val="452e0e"/>
                </a:solidFill>
                <a:uFillTx/>
                <a:latin typeface="Times New Roman"/>
              </a:rPr>
              <a:t>врата божьи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» - </a:t>
            </a:r>
            <a:r>
              <a:rPr b="1" i="1" lang="ru-RU" sz="2400" spc="-1" strike="noStrike">
                <a:solidFill>
                  <a:srgbClr val="452e0e"/>
                </a:solidFill>
                <a:latin typeface="Times New Roman"/>
              </a:rPr>
              <a:t>баб-илу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. А на древне еврейском сходно звучащее слово «</a:t>
            </a:r>
            <a:r>
              <a:rPr b="1" i="1" lang="ru-RU" sz="2400" spc="-1" strike="noStrike">
                <a:solidFill>
                  <a:srgbClr val="452e0e"/>
                </a:solidFill>
                <a:latin typeface="Times New Roman"/>
              </a:rPr>
              <a:t>балал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» означает процесс смешения. В результате сходства обоих слов Вавилон мог легко стать символом языкового хаоса в мире, тем более что был многоязычным городом. Не нужно также удивляться тому, что евреи видели в Вавилоне и его пирамиде (</a:t>
            </a:r>
            <a:r>
              <a:rPr b="1" i="1" lang="ru-RU" sz="2400" spc="-1" strike="noStrike">
                <a:solidFill>
                  <a:srgbClr val="452e0e"/>
                </a:solidFill>
                <a:latin typeface="Times New Roman"/>
              </a:rPr>
              <a:t>зиккурате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) олицетворение дерзости и греховности по отношению к Богу. Вавилонские цари строили пирамиду, используя труд рабов и военнопленных, согнанных из разных стран. Среди рабов, наверное, были и  евреи. В их памяти сохранилось тяжелое вавилонское пленение и на основе этого воспоминания родился миф о Вавилонской башне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ЗЕНОН КОСИДОВСКИЙ, историк, библиовед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indent="45252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http://blog.onekoreanews.net/attach/14/1115483670.jpg"/>
          <p:cNvPicPr/>
          <p:nvPr/>
        </p:nvPicPr>
        <p:blipFill>
          <a:blip r:embed="rId1"/>
          <a:stretch/>
        </p:blipFill>
        <p:spPr>
          <a:xfrm>
            <a:off x="1052640" y="457200"/>
            <a:ext cx="7145280" cy="523548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1"/>
          <p:cNvSpPr/>
          <p:nvPr/>
        </p:nvSpPr>
        <p:spPr>
          <a:xfrm>
            <a:off x="1052640" y="5867280"/>
            <a:ext cx="71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Абель Грим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ик 1"/>
          <p:cNvSpPr/>
          <p:nvPr/>
        </p:nvSpPr>
        <p:spPr>
          <a:xfrm>
            <a:off x="0" y="6140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Питер Брейгель Старший.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2" descr="http://blog.onekoreanews.net/attach/14/1277780509.jpg"/>
          <p:cNvPicPr/>
          <p:nvPr/>
        </p:nvPicPr>
        <p:blipFill>
          <a:blip r:embed="rId1"/>
          <a:stretch/>
        </p:blipFill>
        <p:spPr>
          <a:xfrm>
            <a:off x="1014480" y="345960"/>
            <a:ext cx="716904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457200" y="336600"/>
            <a:ext cx="8292960" cy="57387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0" y="620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Франс Франк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1"/>
          <p:cNvSpPr/>
          <p:nvPr/>
        </p:nvSpPr>
        <p:spPr>
          <a:xfrm>
            <a:off x="0" y="5943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 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Лукас ван Фалькенбор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2" descr="http://blog.onekoreanews.net/attach/14/1012984937.jpg"/>
          <p:cNvPicPr/>
          <p:nvPr/>
        </p:nvPicPr>
        <p:blipFill>
          <a:blip r:embed="rId1"/>
          <a:stretch/>
        </p:blipFill>
        <p:spPr>
          <a:xfrm>
            <a:off x="677880" y="469800"/>
            <a:ext cx="7788240" cy="5295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4637160" cy="632448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1"/>
          <p:cNvSpPr/>
          <p:nvPr/>
        </p:nvSpPr>
        <p:spPr>
          <a:xfrm>
            <a:off x="304920" y="572616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.</a:t>
            </a:r>
            <a:br>
              <a:rPr sz="2400"/>
            </a:b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Жан Томассен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10640" cy="5334120"/>
          </a:xfrm>
          <a:prstGeom prst="rect">
            <a:avLst/>
          </a:prstGeom>
          <a:ln w="0">
            <a:noFill/>
          </a:ln>
        </p:spPr>
      </p:pic>
      <p:sp>
        <p:nvSpPr>
          <p:cNvPr id="466" name="Прямоугольник 1"/>
          <p:cNvSpPr/>
          <p:nvPr/>
        </p:nvSpPr>
        <p:spPr>
          <a:xfrm>
            <a:off x="0" y="6107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, 2000 г.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Роберто Гонсалес Фернанд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http://www.art-in-exile.com/forums/photopost/data/1359/ztower_b.jpg"/>
          <p:cNvPicPr/>
          <p:nvPr/>
        </p:nvPicPr>
        <p:blipFill>
          <a:blip r:embed="rId1"/>
          <a:stretch/>
        </p:blipFill>
        <p:spPr>
          <a:xfrm>
            <a:off x="2971800" y="247680"/>
            <a:ext cx="5638680" cy="6434280"/>
          </a:xfrm>
          <a:prstGeom prst="rect">
            <a:avLst/>
          </a:prstGeom>
          <a:ln w="0">
            <a:noFill/>
          </a:ln>
        </p:spPr>
      </p:pic>
      <p:sp>
        <p:nvSpPr>
          <p:cNvPr id="468" name="Прямоугольник 1"/>
          <p:cNvSpPr/>
          <p:nvPr/>
        </p:nvSpPr>
        <p:spPr>
          <a:xfrm>
            <a:off x="289080" y="4952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2e0e"/>
                </a:solidFill>
                <a:latin typeface="Times New Roman"/>
              </a:rPr>
              <a:t>Вавилонская башня.</a:t>
            </a:r>
            <a:br>
              <a:rPr sz="2400"/>
            </a:b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Безымянный немецкий мас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0880" y="22096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роисходило это, </a:t>
            </a:r>
            <a:r>
              <a:rPr b="0" i="1" lang="ru-RU" sz="2400" spc="-1" strike="noStrike">
                <a:solidFill>
                  <a:srgbClr val="262626"/>
                </a:solidFill>
                <a:latin typeface="Times New Roman"/>
              </a:rPr>
              <a:t>как утверждает Библия,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еще в те времена, когда все люди на свете разговаривали на одном языке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осле потопа люди снова размножились и занимали равнину в стране Сеннаар, в бассейне рек Тигра и Евфрата. Земля там была необыкновенно плодородная, так что им жилось всё лучше и лучше. И довольно скоро стали забывать Бога и наказание, посланное на землю за грехи людей. Думая, что они могут всё сделать без помощи Божьей и Его благоволения, они решили построить город Вавилон.  И вырос город. И был он велик и прекрасен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27" name="WordArt 5" descr=""/>
          <p:cNvPicPr/>
          <p:nvPr/>
        </p:nvPicPr>
        <p:blipFill>
          <a:blip r:embed="rId1"/>
          <a:stretch/>
        </p:blipFill>
        <p:spPr>
          <a:xfrm>
            <a:off x="12600" y="133200"/>
            <a:ext cx="9144000" cy="159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81960" cy="59166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2"/>
          <p:cNvSpPr/>
          <p:nvPr/>
        </p:nvSpPr>
        <p:spPr>
          <a:xfrm>
            <a:off x="0" y="6319800"/>
            <a:ext cx="91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вилонская башня, 1595 г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кас ван Фалькенбор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457200" y="30492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://img1.imagilive.com/0110/795px-Brueghel-tower-of-babel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http://mario.tomsk.fm/ximg/13034916958118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http://www.mediagnosis.ru/HISTORY/GRAPH/Pictures/JPG/4-061-2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http://islam.gmir.ru/catalog/B-4168_013-IV/im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http://www.mutab0r.net/wp-content/uploads/2011/05/%D0%A1%D1%82%D0%BE%D0%BB%D0%BF%D0%BE%D1%82%D0%B2%D0%BE%D1%80%D0%B5%D0%BD%D0%B8%D0%B5-%D0%92%D0%B0%D0%B2%D0%B8%D0%BB%D0%BE%D0%BD%D1%81%D0%BA%D0%BE%D0%B5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http://lh3.ggpht.com/_UYKc6o5HtHg/SiQ9GV2ZSdI/AAAAAAAAAII/wB5s8_31r2Q/tower_of_babel_abel+grimmer,+s.+16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http://ib1.keep4u.ru/b/070721/b7f04c005080fcec50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http://blog.onekoreanews.net/attach/14/1115483670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9"/>
              </a:rPr>
              <a:t>http://blog.onekoreanews.net/attach/14/1277780509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blog.onekoreanews.net/attach/14/1122307604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blog.onekoreanews.net/attach/14/1012984937.jp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pics.livejournal.com/lia_hantenbein/pic/0002wx3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r-gonzalezfernandez.com/Imagenes/FONDOS/FONDO%20Babel%201%20%20640%20x%20487%20REDUCIDO.jp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art-in-exile.com/forums/photopost/data/1359/ztower_b.jp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myisrael.at.ua/index/0-2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30" name="Picture 2" descr="G:\Евгения\Презентации и проверочные работы по МХК 2009-2010\фото для уроков МХК\Брейгель Вавилонская башня.jpg"/>
          <p:cNvPicPr/>
          <p:nvPr/>
        </p:nvPicPr>
        <p:blipFill>
          <a:blip r:embed="rId1"/>
          <a:stretch/>
        </p:blipFill>
        <p:spPr>
          <a:xfrm>
            <a:off x="762120" y="243000"/>
            <a:ext cx="7619760" cy="5811840"/>
          </a:xfrm>
          <a:prstGeom prst="rect">
            <a:avLst/>
          </a:prstGeom>
          <a:ln w="0">
            <a:noFill/>
          </a:ln>
        </p:spPr>
      </p:pic>
      <p:sp>
        <p:nvSpPr>
          <p:cNvPr id="431" name="WordArt 6"/>
          <p:cNvSpPr/>
          <p:nvPr/>
        </p:nvSpPr>
        <p:spPr>
          <a:xfrm>
            <a:off x="0" y="6172200"/>
            <a:ext cx="9144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-6840" y="228240"/>
            <a:ext cx="4419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Это ввело их в гордыню и люди задумали построить в Вавилоне такую высокую башню, чтобы её верхушка доставала до самого неба.  Вместо камней они использовали  в качестве строительного материала обожженный кирпич, а вместо извести – глину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Самые гордые вавилоняне мечтали о том, чтобы по ней подняться в небо и стать выше самого бога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- Пусть знают все! – кричали они. – Мы – лучшие в мире! А скоро и сами станем как боги!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33" name="Picture 4" descr="башня"/>
          <p:cNvPicPr/>
          <p:nvPr/>
        </p:nvPicPr>
        <p:blipFill>
          <a:blip r:embed="rId1"/>
          <a:stretch/>
        </p:blipFill>
        <p:spPr>
          <a:xfrm>
            <a:off x="4621320" y="685800"/>
            <a:ext cx="43257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http://stat17.privet.ru/lr/091f3e63973edd3b5f4cc2a0cb0a7d6f"/>
          <p:cNvPicPr/>
          <p:nvPr/>
        </p:nvPicPr>
        <p:blipFill>
          <a:blip r:embed="rId1"/>
          <a:stretch/>
        </p:blipFill>
        <p:spPr>
          <a:xfrm>
            <a:off x="0" y="9360"/>
            <a:ext cx="913284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228600" y="206280"/>
            <a:ext cx="4267080" cy="64994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573280" y="628200"/>
            <a:ext cx="643104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Башня росла всё выше, пока Яхве не встревожился и не решил посмотреть, что она собой представляет. Человеческая гордость вызвала его гнев. И Бог наказал людей за их гордость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Однажды Господь смешал языки людей так, что они перестали друг друга понимать. Среди строителей вавилонской башни возникло замешательство – люди никак не могли договориться между собой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7" name="Прямоугольник 1"/>
          <p:cNvSpPr/>
          <p:nvPr/>
        </p:nvSpPr>
        <p:spPr>
          <a:xfrm>
            <a:off x="4440240" y="43974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И все они вынуждены были отказаться от дерзкого замысла. Рассеялись люди по всему свету, побросав груды материала и орудия, которыми они пользовалис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Прямоугольник 2"/>
          <p:cNvSpPr/>
          <p:nvPr/>
        </p:nvSpPr>
        <p:spPr>
          <a:xfrm>
            <a:off x="2573280" y="468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роительство Вавилонской башни (около 1370 г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известный маст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3"/>
          <p:cNvSpPr/>
          <p:nvPr/>
        </p:nvSpPr>
        <p:spPr>
          <a:xfrm>
            <a:off x="380880" y="6237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лпотворение вавилонское и разделение племен: Симове, Хамове, Яфетов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4" descr="&amp;Scy;&amp;tcy;&amp;ocy;&amp;lcy;&amp;pcy;&amp;ocy;&amp;tcy;&amp;vcy;&amp;ocy;&amp;rcy;&amp;iecy;&amp;ncy;&amp;icy;&amp;iecy; &amp;vcy;&amp;acy;&amp;vcy;&amp;icy;&amp;lcy;&amp;ocy;&amp;ncy;&amp;scy;&amp;kcy;&amp;ocy;&amp;iecy; &amp;icy; &amp;rcy;&amp;acy;&amp;zcy;&amp;dcy;&amp;iecy;&amp;lcy;&amp;iecy;&amp;ncy;&amp;icy;&amp;iecy; &amp;pcy;&amp;lcy;&amp;iecy;&amp;mcy;&amp;iecy;&amp;ncy;: &amp;Scy;&amp;icy;&amp;mcy;&amp;ocy;&amp;vcy;&amp;iecy;, &amp;KHcy;&amp;acy;&amp;mcy;&amp;ocy;&amp;vcy;&amp;iecy;, &amp;YAcy;&amp;fcy;&amp;iecy;&amp;tcy;&amp;ocy;&amp;vcy;&amp;iecy;"/>
          <p:cNvPicPr/>
          <p:nvPr/>
        </p:nvPicPr>
        <p:blipFill>
          <a:blip r:embed="rId1"/>
          <a:stretch/>
        </p:blipFill>
        <p:spPr>
          <a:xfrm>
            <a:off x="1295280" y="304920"/>
            <a:ext cx="6705720" cy="586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228600" y="304920"/>
            <a:ext cx="3124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Густав Доре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Столпотворение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(гравюра)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Зиккурат 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– </a:t>
            </a:r>
            <a:r>
              <a:rPr b="0" i="1" lang="ru-RU" sz="2800" spc="-1" strike="noStrike">
                <a:solidFill>
                  <a:srgbClr val="262626"/>
                </a:solidFill>
                <a:latin typeface="Times New Roman"/>
              </a:rPr>
              <a:t>семиярусная пирамида, сужающаяся кверху, на вершину которого ведет наружняя лестница.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43" name="Picture 4" descr="Гюстав Доре Башня"/>
          <p:cNvPicPr/>
          <p:nvPr/>
        </p:nvPicPr>
        <p:blipFill>
          <a:blip r:embed="rId1"/>
          <a:stretch/>
        </p:blipFill>
        <p:spPr>
          <a:xfrm>
            <a:off x="3352680" y="0"/>
            <a:ext cx="5504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1055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Вавилонская башня 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Гобелен мастера герцога Бедфордского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4267080" cy="616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8-12T19:10:2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