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D12A-ED12-49B4-9993-4A29B131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98F0-A24C-4C24-AF2E-9C0B4B30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3E75-167E-4390-AEE3-FF50B6BC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B0A0-BD93-43EA-8262-F1685A5E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B2C0-D3D7-444C-9BC5-1D935E2A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B2CF-CE92-4CA6-AA12-E79CFA4C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BD9E-7239-4148-9FC7-4E7BD965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D31F-D196-4A2D-BF49-0D8D93ED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5539-3E43-4B45-BEB9-F2A5BF0E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F6AB-D2D6-466C-BAFB-50038623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0A31-3B9F-4089-B290-5A5AFA2C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BF6-7177-4300-A653-B1BF0409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762C-C7B3-4808-926E-94447BED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080A-DCDC-4BF4-8AE3-BB34461D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8D53-622E-4C60-9754-F2A385DF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48B8-E64B-422A-8B1C-4BFD2C24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0224-CDA8-4294-B042-05D7B5F0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209-5892-4E77-9D54-DB6B2D46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5198-F0EB-4A15-8A28-4410129E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2788-545B-41F3-BB82-2FD2655B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5B7-EB5A-4F03-A864-34F51ABC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9BC7-4AAE-4177-848B-D422BC13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F648-9EDD-4EDF-9514-FB78E99C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7EF7-27B4-438E-8425-D79105F8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34D1-3795-4ADA-9525-EE76ED297CE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3AE1-FB94-4DE1-BE6A-CBFB2F66048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Прямоугольник 3" descr=""/>
          <p:cNvPicPr/>
          <p:nvPr/>
        </p:nvPicPr>
        <p:blipFill>
          <a:blip r:embed="rId1"/>
          <a:stretch/>
        </p:blipFill>
        <p:spPr>
          <a:xfrm>
            <a:off x="304920" y="1968480"/>
            <a:ext cx="8474040" cy="178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Решить уравнение – это значит найти неизвестное число. Если подставить его в уравнение вместо буквы, то должно получиться верное равенств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бъясните ,как решить уравнения</a:t>
            </a: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+ у = 5      у – 3 = 3      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2 = 8        х + 6 = 9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шени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+ у = 5      у – 3 = 3     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1            у = 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2 = 8       х + 6 = 9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= 10           х = 3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Прямая соединительная линия 4"/>
          <p:cNvSpPr/>
          <p:nvPr/>
        </p:nvSpPr>
        <p:spPr>
          <a:xfrm>
            <a:off x="3928320" y="2286000"/>
            <a:ext cx="71640" cy="3857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Прямая соединительная линия 6"/>
          <p:cNvSpPr/>
          <p:nvPr/>
        </p:nvSpPr>
        <p:spPr>
          <a:xfrm flipV="1">
            <a:off x="642960" y="4071960"/>
            <a:ext cx="6715080" cy="7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randomBar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ерные ли решения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   2 группа    3 группа   4 групп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+ х = 4    у – 3 = 4     3 + х = 8   6 – у = 2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= 7           у = 7           х = 5         у = 3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=1                                                у = 4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Прямая соединительная линия 4"/>
          <p:cNvSpPr/>
          <p:nvPr/>
        </p:nvSpPr>
        <p:spPr>
          <a:xfrm>
            <a:off x="4643280" y="2143080"/>
            <a:ext cx="0" cy="2000160"/>
          </a:xfrm>
          <a:prstGeom prst="line">
            <a:avLst/>
          </a:prstGeom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Прямая соединительная линия 5"/>
          <p:cNvSpPr/>
          <p:nvPr/>
        </p:nvSpPr>
        <p:spPr>
          <a:xfrm>
            <a:off x="2500200" y="2143080"/>
            <a:ext cx="0" cy="2000160"/>
          </a:xfrm>
          <a:prstGeom prst="line">
            <a:avLst/>
          </a:prstGeom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Прямая соединительная линия 7"/>
          <p:cNvSpPr/>
          <p:nvPr/>
        </p:nvSpPr>
        <p:spPr>
          <a:xfrm>
            <a:off x="500040" y="3857760"/>
            <a:ext cx="1643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Прямая соединительная линия 6"/>
          <p:cNvSpPr/>
          <p:nvPr/>
        </p:nvSpPr>
        <p:spPr>
          <a:xfrm>
            <a:off x="6715080" y="2143080"/>
            <a:ext cx="0" cy="2000160"/>
          </a:xfrm>
          <a:prstGeom prst="line">
            <a:avLst/>
          </a:prstGeom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Прямая соединительная линия 11"/>
          <p:cNvSpPr/>
          <p:nvPr/>
        </p:nvSpPr>
        <p:spPr>
          <a:xfrm>
            <a:off x="6786720" y="3857760"/>
            <a:ext cx="1643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дач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ины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ипы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4 + 3 = 7 (д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Равнобедренный треугольник 8"/>
          <p:cNvSpPr/>
          <p:nvPr/>
        </p:nvSpPr>
        <p:spPr>
          <a:xfrm>
            <a:off x="1857240" y="1928880"/>
            <a:ext cx="428760" cy="35712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Равнобедренный треугольник 9"/>
          <p:cNvSpPr/>
          <p:nvPr/>
        </p:nvSpPr>
        <p:spPr>
          <a:xfrm>
            <a:off x="2357280" y="1928880"/>
            <a:ext cx="428760" cy="35712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Равнобедренный треугольник 10"/>
          <p:cNvSpPr/>
          <p:nvPr/>
        </p:nvSpPr>
        <p:spPr>
          <a:xfrm>
            <a:off x="2928960" y="1928880"/>
            <a:ext cx="428760" cy="35712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Равнобедренный треугольник 11"/>
          <p:cNvSpPr/>
          <p:nvPr/>
        </p:nvSpPr>
        <p:spPr>
          <a:xfrm>
            <a:off x="3500280" y="1928880"/>
            <a:ext cx="428760" cy="35712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Прямоугольник 12"/>
          <p:cNvSpPr/>
          <p:nvPr/>
        </p:nvSpPr>
        <p:spPr>
          <a:xfrm>
            <a:off x="1857240" y="2500200"/>
            <a:ext cx="357480" cy="414360"/>
          </a:xfrm>
          <a:prstGeom prst="rect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Прямоугольник 13"/>
          <p:cNvSpPr/>
          <p:nvPr/>
        </p:nvSpPr>
        <p:spPr>
          <a:xfrm>
            <a:off x="2357280" y="2500200"/>
            <a:ext cx="357480" cy="414360"/>
          </a:xfrm>
          <a:prstGeom prst="rect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Прямоугольник 14"/>
          <p:cNvSpPr/>
          <p:nvPr/>
        </p:nvSpPr>
        <p:spPr>
          <a:xfrm>
            <a:off x="2928960" y="2500200"/>
            <a:ext cx="357120" cy="414360"/>
          </a:xfrm>
          <a:prstGeom prst="rect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Правая фигурная скобка 15"/>
          <p:cNvSpPr/>
          <p:nvPr/>
        </p:nvSpPr>
        <p:spPr>
          <a:xfrm>
            <a:off x="4071960" y="1928880"/>
            <a:ext cx="369720" cy="1000080"/>
          </a:xfrm>
          <a:custGeom>
            <a:avLst/>
            <a:gdLst>
              <a:gd name="textAreaLeft" fmla="*/ 0 w 369720"/>
              <a:gd name="textAreaRight" fmla="*/ 133560 w 369720"/>
              <a:gd name="textAreaTop" fmla="*/ 9360 h 1000080"/>
              <a:gd name="textAreaBottom" fmla="*/ 99072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3"/>
                  <a:pt x="10800" y="665"/>
                </a:cubicBezTo>
                <a:lnTo>
                  <a:pt x="10800" y="10135"/>
                </a:lnTo>
                <a:cubicBezTo>
                  <a:pt x="10800" y="10468"/>
                  <a:pt x="16200" y="10800"/>
                  <a:pt x="21600" y="10800"/>
                </a:cubicBezTo>
                <a:cubicBezTo>
                  <a:pt x="16200" y="10800"/>
                  <a:pt x="10800" y="11133"/>
                  <a:pt x="10800" y="11465"/>
                </a:cubicBezTo>
                <a:lnTo>
                  <a:pt x="10800" y="20935"/>
                </a:lnTo>
                <a:cubicBezTo>
                  <a:pt x="10800" y="21268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TextBox 16"/>
          <p:cNvSpPr/>
          <p:nvPr/>
        </p:nvSpPr>
        <p:spPr>
          <a:xfrm>
            <a:off x="4572000" y="21430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Прямая соединительная линия 20"/>
          <p:cNvSpPr/>
          <p:nvPr/>
        </p:nvSpPr>
        <p:spPr>
          <a:xfrm>
            <a:off x="1571760" y="4357800"/>
            <a:ext cx="3000240" cy="0"/>
          </a:xfrm>
          <a:prstGeom prst="line">
            <a:avLst/>
          </a:prstGeom>
          <a:ln w="7632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Левая круглая скобка 22"/>
          <p:cNvSpPr/>
          <p:nvPr/>
        </p:nvSpPr>
        <p:spPr>
          <a:xfrm rot="5400000">
            <a:off x="2893320" y="2535840"/>
            <a:ext cx="357120" cy="3000240"/>
          </a:xfrm>
          <a:custGeom>
            <a:avLst/>
            <a:gdLst>
              <a:gd name="textAreaLeft" fmla="*/ 104760 w 357120"/>
              <a:gd name="textAreaRight" fmla="*/ 357480 w 357120"/>
              <a:gd name="textAreaTop" fmla="*/ 14760 h 3000240"/>
              <a:gd name="textAreaBottom" fmla="*/ 2985480 h 300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7"/>
                  <a:pt x="0" y="214"/>
                </a:cubicBezTo>
                <a:lnTo>
                  <a:pt x="0" y="21386"/>
                </a:lnTo>
                <a:cubicBezTo>
                  <a:pt x="0" y="21493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рямая соединительная линия 26"/>
          <p:cNvSpPr/>
          <p:nvPr/>
        </p:nvSpPr>
        <p:spPr>
          <a:xfrm>
            <a:off x="1571760" y="4286160"/>
            <a:ext cx="0" cy="142920"/>
          </a:xfrm>
          <a:prstGeom prst="line">
            <a:avLst/>
          </a:prstGeom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рямая соединительная линия 27"/>
          <p:cNvSpPr/>
          <p:nvPr/>
        </p:nvSpPr>
        <p:spPr>
          <a:xfrm>
            <a:off x="4572000" y="4286160"/>
            <a:ext cx="0" cy="142920"/>
          </a:xfrm>
          <a:prstGeom prst="line">
            <a:avLst/>
          </a:prstGeom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Прямая соединительная линия 28"/>
          <p:cNvSpPr/>
          <p:nvPr/>
        </p:nvSpPr>
        <p:spPr>
          <a:xfrm>
            <a:off x="3643200" y="4286160"/>
            <a:ext cx="0" cy="142920"/>
          </a:xfrm>
          <a:prstGeom prst="line">
            <a:avLst/>
          </a:prstGeom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TextBox 29"/>
          <p:cNvSpPr/>
          <p:nvPr/>
        </p:nvSpPr>
        <p:spPr>
          <a:xfrm>
            <a:off x="2000160" y="392904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н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TextBox 30"/>
          <p:cNvSpPr/>
          <p:nvPr/>
        </p:nvSpPr>
        <p:spPr>
          <a:xfrm>
            <a:off x="3786120" y="392904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ип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TextBox 35"/>
          <p:cNvSpPr/>
          <p:nvPr/>
        </p:nvSpPr>
        <p:spPr>
          <a:xfrm>
            <a:off x="2356200" y="44290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TextBox 36"/>
          <p:cNvSpPr/>
          <p:nvPr/>
        </p:nvSpPr>
        <p:spPr>
          <a:xfrm>
            <a:off x="3920040" y="44290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TextBox 37"/>
          <p:cNvSpPr/>
          <p:nvPr/>
        </p:nvSpPr>
        <p:spPr>
          <a:xfrm>
            <a:off x="2927520" y="3357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r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Как называются фигуры?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колько у каждой фигуры прямых углов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Прямоугольный треугольник 4"/>
          <p:cNvSpPr/>
          <p:nvPr/>
        </p:nvSpPr>
        <p:spPr>
          <a:xfrm>
            <a:off x="3286080" y="2286000"/>
            <a:ext cx="1500120" cy="3214800"/>
          </a:xfrm>
          <a:prstGeom prst="rtTriangle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Пятиугольник 5"/>
          <p:cNvSpPr/>
          <p:nvPr/>
        </p:nvSpPr>
        <p:spPr>
          <a:xfrm rot="5400000">
            <a:off x="3964320" y="3107160"/>
            <a:ext cx="3000240" cy="1357560"/>
          </a:xfrm>
          <a:custGeom>
            <a:avLst/>
            <a:gdLst>
              <a:gd name="textAreaLeft" fmla="*/ 0 w 3000240"/>
              <a:gd name="textAreaRight" fmla="*/ 3000600 w 300024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14" y="0"/>
                </a:lnTo>
                <a:lnTo>
                  <a:pt x="21600" y="10800"/>
                </a:lnTo>
                <a:lnTo>
                  <a:pt x="167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Прямоугольник 6"/>
          <p:cNvSpPr/>
          <p:nvPr/>
        </p:nvSpPr>
        <p:spPr>
          <a:xfrm>
            <a:off x="6643800" y="2571840"/>
            <a:ext cx="2071440" cy="1485720"/>
          </a:xfrm>
          <a:prstGeom prst="rect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Прямая соединительная линия 9"/>
          <p:cNvSpPr/>
          <p:nvPr/>
        </p:nvSpPr>
        <p:spPr>
          <a:xfrm>
            <a:off x="1143000" y="4214880"/>
            <a:ext cx="1785960" cy="0"/>
          </a:xfrm>
          <a:prstGeom prst="line">
            <a:avLst/>
          </a:prstGeom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Прямая соединительная линия 11"/>
          <p:cNvSpPr/>
          <p:nvPr/>
        </p:nvSpPr>
        <p:spPr>
          <a:xfrm>
            <a:off x="570960" y="2357280"/>
            <a:ext cx="571320" cy="1857600"/>
          </a:xfrm>
          <a:prstGeom prst="line">
            <a:avLst/>
          </a:prstGeom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Прямая соединительная линия 13"/>
          <p:cNvSpPr/>
          <p:nvPr/>
        </p:nvSpPr>
        <p:spPr>
          <a:xfrm>
            <a:off x="571680" y="2357280"/>
            <a:ext cx="2357280" cy="1857600"/>
          </a:xfrm>
          <a:prstGeom prst="line">
            <a:avLst/>
          </a:prstGeom>
          <a:ln w="57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0" name="Прямоугольник 5" descr=""/>
          <p:cNvPicPr/>
          <p:nvPr/>
        </p:nvPicPr>
        <p:blipFill>
          <a:blip r:embed="rId2"/>
          <a:stretch/>
        </p:blipFill>
        <p:spPr>
          <a:xfrm>
            <a:off x="281160" y="1542960"/>
            <a:ext cx="8650080" cy="3595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ставьте четыре равенст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  7,  5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5=7           7-2=5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+2=7           7-5=2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и 5 – части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- целое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❆     ❆     ❆   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 2 = 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 – 2 = 4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– </a:t>
            </a: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 = 5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 + 3 = 8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3214800" y="4357800"/>
            <a:ext cx="785880" cy="785880"/>
          </a:xfrm>
          <a:prstGeom prst="rect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3214800" y="2428920"/>
            <a:ext cx="714240" cy="785880"/>
          </a:xfrm>
          <a:prstGeom prst="rect">
            <a:avLst/>
          </a:prstGeom>
          <a:solidFill>
            <a:srgbClr val="0f6fc6"/>
          </a:solidFill>
          <a:ln w="381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3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eaf2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❆     ❆      ❆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8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+ 2 = 6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8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 - 3 = 5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plit dir="in" orient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❆    ❆    ❆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2 = 6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Овал 6"/>
          <p:cNvGrpSpPr/>
          <p:nvPr/>
        </p:nvGrpSpPr>
        <p:grpSpPr>
          <a:xfrm>
            <a:off x="2316240" y="4602240"/>
            <a:ext cx="3938400" cy="1566720"/>
            <a:chOff x="2316240" y="4602240"/>
            <a:chExt cx="3938400" cy="1566720"/>
          </a:xfrm>
        </p:grpSpPr>
        <p:pic>
          <p:nvPicPr>
            <p:cNvPr id="114" name="Овал 6" descr=""/>
            <p:cNvPicPr/>
            <p:nvPr/>
          </p:nvPicPr>
          <p:blipFill>
            <a:blip r:embed="rId1"/>
            <a:stretch/>
          </p:blipFill>
          <p:spPr>
            <a:xfrm>
              <a:off x="2316240" y="4602240"/>
              <a:ext cx="393840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973240" y="4911840"/>
              <a:ext cx="262584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16" name="Скругленный прямоугольник 5"/>
          <p:cNvGrpSpPr/>
          <p:nvPr/>
        </p:nvGrpSpPr>
        <p:grpSpPr>
          <a:xfrm>
            <a:off x="2462040" y="1749600"/>
            <a:ext cx="3865680" cy="2431800"/>
            <a:chOff x="2462040" y="1749600"/>
            <a:chExt cx="3865680" cy="2431800"/>
          </a:xfrm>
        </p:grpSpPr>
        <p:pic>
          <p:nvPicPr>
            <p:cNvPr id="117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462040" y="1749600"/>
              <a:ext cx="3865680" cy="24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679840" y="1965240"/>
              <a:ext cx="342720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 = 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Х +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= 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2786040" y="1928880"/>
            <a:ext cx="9144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hecker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3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ab8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b3eaf2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Уравн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х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 = 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= 4 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– 2 = 4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+ 2 =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3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3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1:07:26Z</dcterms:created>
  <dc:creator>User</dc:creator>
  <dc:description/>
  <dc:language>en-US</dc:language>
  <cp:lastModifiedBy>User</cp:lastModifiedBy>
  <dcterms:modified xsi:type="dcterms:W3CDTF">2002-01-01T04:22:12Z</dcterms:modified>
  <cp:revision>65</cp:revision>
  <dc:subject/>
  <dc:title>Слайд 1</dc:title>
</cp:coreProperties>
</file>