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DEB9-DD85-4885-B5D0-C277ECE4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65E-85D6-452B-AC96-E9825C88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2F8-0E3C-48C3-BEEE-E556B518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7C8-9290-461D-923A-0B13B714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EBB6-9C9E-4494-8B2D-9A6765F7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10B7-FE85-45A0-84B0-6254FE25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4D81-68A0-4FE1-8F0E-8BA090A6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7053-EDAC-4A70-8C82-FB5A6F8A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A9BF-F188-4478-8D65-F2703B4D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3F8C-7D6B-4731-82F1-C1F41D95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7BF7-0B7A-45EE-BE2B-DC5BD034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991-F54B-4126-BA52-C9482925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5FB3-BB0D-4318-BB70-B720996A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B95E-2458-4095-8742-7DF716D9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D373-D2F9-4D17-BDAD-627111DE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518E-E3AD-4DEC-922B-9955ECDF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650F-227C-4B86-82A2-27C1F628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516-DE41-4B73-AE65-6F182D6A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86F-891A-43BD-BFD5-7C6F3A36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510-277B-4D6F-8ADB-3FC10A90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EFD-1980-4544-BC8C-413CB96D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3DF-50CE-40B0-8B4B-839CFA5F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8DA-55C6-43F4-9F00-1299D1D9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3EC-BF08-4CF8-93AE-7CD23A83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77A2-9CCA-463D-AFF1-BFDE0218A9A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5D3F-5710-445A-9F42-AF581A7E81D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304920" y="1968480"/>
            <a:ext cx="847404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Решить уравнение – это значит найти неизвестное число. Если подставить его в уравнение вместо буквы, то должно получиться верное равенств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ъясните ,как решить уравнения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у = 5      у – 3 = 3     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2 = 8        х + 6 = 9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ше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у = 5      у – 3 = 3    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1            у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2 = 8       х + 6 = 9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10           х = 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Прямая соединительная линия 4"/>
          <p:cNvSpPr/>
          <p:nvPr/>
        </p:nvSpPr>
        <p:spPr>
          <a:xfrm>
            <a:off x="3928320" y="2286000"/>
            <a:ext cx="71640" cy="385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Прямая соединительная линия 6"/>
          <p:cNvSpPr/>
          <p:nvPr/>
        </p:nvSpPr>
        <p:spPr>
          <a:xfrm flipV="1">
            <a:off x="642960" y="4071960"/>
            <a:ext cx="671508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ерные ли решения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   2 группа    3 группа   4 групп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х = 4    у – 3 = 4     3 + х = 8   6 – у = 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7           у = 7           х = 5         у = 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1                                                у = 4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Прямая соединительная линия 4"/>
          <p:cNvSpPr/>
          <p:nvPr/>
        </p:nvSpPr>
        <p:spPr>
          <a:xfrm>
            <a:off x="4643280" y="2143080"/>
            <a:ext cx="0" cy="200016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Прямая соединительная линия 5"/>
          <p:cNvSpPr/>
          <p:nvPr/>
        </p:nvSpPr>
        <p:spPr>
          <a:xfrm>
            <a:off x="2500200" y="2143080"/>
            <a:ext cx="0" cy="200016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Прямая соединительная линия 7"/>
          <p:cNvSpPr/>
          <p:nvPr/>
        </p:nvSpPr>
        <p:spPr>
          <a:xfrm>
            <a:off x="500040" y="3857760"/>
            <a:ext cx="1643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Прямая соединительная линия 6"/>
          <p:cNvSpPr/>
          <p:nvPr/>
        </p:nvSpPr>
        <p:spPr>
          <a:xfrm>
            <a:off x="6715080" y="2143080"/>
            <a:ext cx="0" cy="200016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Прямая соединительная линия 11"/>
          <p:cNvSpPr/>
          <p:nvPr/>
        </p:nvSpPr>
        <p:spPr>
          <a:xfrm>
            <a:off x="6786720" y="3857760"/>
            <a:ext cx="1643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ины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пы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4 + 3 = 7 (д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Равнобедренный треугольник 8"/>
          <p:cNvSpPr/>
          <p:nvPr/>
        </p:nvSpPr>
        <p:spPr>
          <a:xfrm>
            <a:off x="185724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Равнобедренный треугольник 9"/>
          <p:cNvSpPr/>
          <p:nvPr/>
        </p:nvSpPr>
        <p:spPr>
          <a:xfrm>
            <a:off x="235728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Равнобедренный треугольник 10"/>
          <p:cNvSpPr/>
          <p:nvPr/>
        </p:nvSpPr>
        <p:spPr>
          <a:xfrm>
            <a:off x="292896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Равнобедренный треугольник 11"/>
          <p:cNvSpPr/>
          <p:nvPr/>
        </p:nvSpPr>
        <p:spPr>
          <a:xfrm>
            <a:off x="350028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Прямоугольник 12"/>
          <p:cNvSpPr/>
          <p:nvPr/>
        </p:nvSpPr>
        <p:spPr>
          <a:xfrm>
            <a:off x="1857240" y="2500200"/>
            <a:ext cx="357480" cy="41436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2357280" y="2500200"/>
            <a:ext cx="357480" cy="41436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2928960" y="2500200"/>
            <a:ext cx="357120" cy="41436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Правая фигурная скобка 15"/>
          <p:cNvSpPr/>
          <p:nvPr/>
        </p:nvSpPr>
        <p:spPr>
          <a:xfrm>
            <a:off x="4071960" y="1928880"/>
            <a:ext cx="369720" cy="1000080"/>
          </a:xfrm>
          <a:custGeom>
            <a:avLst/>
            <a:gdLst>
              <a:gd name="textAreaLeft" fmla="*/ 0 w 369720"/>
              <a:gd name="textAreaRight" fmla="*/ 133560 w 369720"/>
              <a:gd name="textAreaTop" fmla="*/ 9360 h 1000080"/>
              <a:gd name="textAreaBottom" fmla="*/ 9907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3"/>
                  <a:pt x="10800" y="665"/>
                </a:cubicBezTo>
                <a:lnTo>
                  <a:pt x="10800" y="10135"/>
                </a:lnTo>
                <a:cubicBezTo>
                  <a:pt x="10800" y="10468"/>
                  <a:pt x="16200" y="10800"/>
                  <a:pt x="21600" y="10800"/>
                </a:cubicBezTo>
                <a:cubicBezTo>
                  <a:pt x="16200" y="10800"/>
                  <a:pt x="10800" y="11133"/>
                  <a:pt x="10800" y="11465"/>
                </a:cubicBezTo>
                <a:lnTo>
                  <a:pt x="10800" y="20935"/>
                </a:lnTo>
                <a:cubicBezTo>
                  <a:pt x="10800" y="21268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TextBox 16"/>
          <p:cNvSpPr/>
          <p:nvPr/>
        </p:nvSpPr>
        <p:spPr>
          <a:xfrm>
            <a:off x="4572000" y="21430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Прямая соединительная линия 20"/>
          <p:cNvSpPr/>
          <p:nvPr/>
        </p:nvSpPr>
        <p:spPr>
          <a:xfrm>
            <a:off x="1571760" y="4357800"/>
            <a:ext cx="3000240" cy="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Левая круглая скобка 22"/>
          <p:cNvSpPr/>
          <p:nvPr/>
        </p:nvSpPr>
        <p:spPr>
          <a:xfrm rot="5400000">
            <a:off x="2893320" y="2535840"/>
            <a:ext cx="357120" cy="300024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3000240"/>
              <a:gd name="textAreaBottom" fmla="*/ 2985480 h 30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7"/>
                  <a:pt x="0" y="214"/>
                </a:cubicBezTo>
                <a:lnTo>
                  <a:pt x="0" y="21386"/>
                </a:lnTo>
                <a:cubicBezTo>
                  <a:pt x="0" y="21493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рямая соединительная линия 26"/>
          <p:cNvSpPr/>
          <p:nvPr/>
        </p:nvSpPr>
        <p:spPr>
          <a:xfrm>
            <a:off x="1571760" y="4286160"/>
            <a:ext cx="0" cy="14292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рямая соединительная линия 27"/>
          <p:cNvSpPr/>
          <p:nvPr/>
        </p:nvSpPr>
        <p:spPr>
          <a:xfrm>
            <a:off x="4572000" y="4286160"/>
            <a:ext cx="0" cy="14292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Прямая соединительная линия 28"/>
          <p:cNvSpPr/>
          <p:nvPr/>
        </p:nvSpPr>
        <p:spPr>
          <a:xfrm>
            <a:off x="3643200" y="4286160"/>
            <a:ext cx="0" cy="14292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2000160" y="39290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н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3786120" y="39290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п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TextBox 35"/>
          <p:cNvSpPr/>
          <p:nvPr/>
        </p:nvSpPr>
        <p:spPr>
          <a:xfrm>
            <a:off x="2356200" y="4429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Box 36"/>
          <p:cNvSpPr/>
          <p:nvPr/>
        </p:nvSpPr>
        <p:spPr>
          <a:xfrm>
            <a:off x="3920040" y="4429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2927520" y="3357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ак называются фигуры?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колько у каждой фигуры прямых углов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рямоугольный треугольник 4"/>
          <p:cNvSpPr/>
          <p:nvPr/>
        </p:nvSpPr>
        <p:spPr>
          <a:xfrm>
            <a:off x="3286080" y="2286000"/>
            <a:ext cx="1500120" cy="3214800"/>
          </a:xfrm>
          <a:prstGeom prst="rtTriangle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Пятиугольник 5"/>
          <p:cNvSpPr/>
          <p:nvPr/>
        </p:nvSpPr>
        <p:spPr>
          <a:xfrm rot="5400000">
            <a:off x="3964320" y="3107160"/>
            <a:ext cx="3000240" cy="135756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4" y="0"/>
                </a:lnTo>
                <a:lnTo>
                  <a:pt x="21600" y="10800"/>
                </a:lnTo>
                <a:lnTo>
                  <a:pt x="167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Прямоугольник 6"/>
          <p:cNvSpPr/>
          <p:nvPr/>
        </p:nvSpPr>
        <p:spPr>
          <a:xfrm>
            <a:off x="6643800" y="2571840"/>
            <a:ext cx="2071440" cy="148572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143000" y="4214880"/>
            <a:ext cx="1785960" cy="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Прямая соединительная линия 11"/>
          <p:cNvSpPr/>
          <p:nvPr/>
        </p:nvSpPr>
        <p:spPr>
          <a:xfrm>
            <a:off x="570960" y="2357280"/>
            <a:ext cx="571320" cy="185760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Прямая соединительная линия 13"/>
          <p:cNvSpPr/>
          <p:nvPr/>
        </p:nvSpPr>
        <p:spPr>
          <a:xfrm>
            <a:off x="571680" y="2357280"/>
            <a:ext cx="2357280" cy="185760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81160" y="1542960"/>
            <a:ext cx="8650080" cy="359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ставьте четыре равенст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 7,  5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5=7           7-2=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2=7           7-5=2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и 5 – части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- цело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❆     ❆     ❆   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 – 2 = 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–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= 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+ 3 = 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3214800" y="4357800"/>
            <a:ext cx="785880" cy="78588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3214800" y="2428920"/>
            <a:ext cx="714240" cy="78588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❆     ❆      ❆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+ 2 = 6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 - 3 = 5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in" orient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❆    ❆    ❆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2 = 6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Овал 6"/>
          <p:cNvGrpSpPr/>
          <p:nvPr/>
        </p:nvGrpSpPr>
        <p:grpSpPr>
          <a:xfrm>
            <a:off x="2316240" y="4602240"/>
            <a:ext cx="3938400" cy="1566720"/>
            <a:chOff x="2316240" y="4602240"/>
            <a:chExt cx="3938400" cy="1566720"/>
          </a:xfrm>
        </p:grpSpPr>
        <p:pic>
          <p:nvPicPr>
            <p:cNvPr id="114" name="Овал 6" descr=""/>
            <p:cNvPicPr/>
            <p:nvPr/>
          </p:nvPicPr>
          <p:blipFill>
            <a:blip r:embed="rId1"/>
            <a:stretch/>
          </p:blipFill>
          <p:spPr>
            <a:xfrm>
              <a:off x="2316240" y="4602240"/>
              <a:ext cx="39384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973240" y="4911840"/>
              <a:ext cx="26258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6" name="Скругленный прямоугольник 5"/>
          <p:cNvGrpSpPr/>
          <p:nvPr/>
        </p:nvGrpSpPr>
        <p:grpSpPr>
          <a:xfrm>
            <a:off x="2462040" y="1749600"/>
            <a:ext cx="3865680" cy="2431800"/>
            <a:chOff x="2462040" y="1749600"/>
            <a:chExt cx="3865680" cy="2431800"/>
          </a:xfrm>
        </p:grpSpPr>
        <p:pic>
          <p:nvPicPr>
            <p:cNvPr id="11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462040" y="1749600"/>
              <a:ext cx="386568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679840" y="1965240"/>
              <a:ext cx="342720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Х +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786040" y="192888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hecke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ab8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равн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х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4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2 = 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2 =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1:07:26Z</dcterms:created>
  <dc:creator>User</dc:creator>
  <dc:description/>
  <dc:language>en-US</dc:language>
  <cp:lastModifiedBy>User</cp:lastModifiedBy>
  <dcterms:modified xsi:type="dcterms:W3CDTF">2002-01-01T04:22:12Z</dcterms:modified>
  <cp:revision>65</cp:revision>
  <dc:subject/>
  <dc:title>Слайд 1</dc:title>
</cp:coreProperties>
</file>