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3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3606-3C2C-4E73-9DFD-F4AD41583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B9B-5CF7-4909-83B4-A17C1EC9FA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F656-3787-4127-9D79-0EABF445A0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0554-8C10-4CB7-ABEE-3C644786B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A92F-FC4C-4693-A232-479BCFA66B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949A-99E5-41F5-B214-44E4A44B2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C217-944E-462C-9404-6FF8D1D16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F8C-67D7-4025-B10F-816025E6E0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2BF3-E559-41FE-87AE-D7532618C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113-49A8-45A7-898B-DB013CA0A8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C1B-5A75-4509-B6F5-2F07CC1C20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56EB-7B5B-4922-A12C-4DCB343680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BF68-8BE0-45A0-B6F4-ED21A4F3E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BFE-F5F3-4791-89D0-338BA063A4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C1A-5246-4B24-AF30-6500E74AEA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0FE-446C-4C20-A476-9091CEFC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BD3-A03D-4BE8-916B-164E679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774-7DFB-42DC-A0EA-C8F65408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89D-CAA5-4A2E-833A-B35D625C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10E-F478-4B27-A9E9-322249E0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163-4F9F-4DA8-8DE7-78C7381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067-0887-4EB2-B503-6FDFF35D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B81-86AD-4E53-84A2-B403B7E5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62E-805B-4B71-B99F-8AD06F34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6E3-F1B1-4474-85EC-B713853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C1E-ED60-4A59-A029-71FCCCF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17B-0CF1-438A-B37B-8FA228A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726-BDE9-4D9A-97D2-31D52F581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действие дефект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риближении упругой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074480" y="4076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468360" y="333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деформации считают малыми, модульным эффектом (квадратичным по деформациям) пренебрегают и в выражении для энергии и силы оставляют линейное по упругим деформациям слагаем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"/>
          <p:cNvGraphicFramePr/>
          <p:nvPr/>
        </p:nvGraphicFramePr>
        <p:xfrm>
          <a:off x="971640" y="1341360"/>
          <a:ext cx="26114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2611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4356000" y="1341360"/>
          <a:ext cx="27608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341360"/>
                    <a:ext cx="27608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1692360" y="2276640"/>
          <a:ext cx="16714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76640"/>
                    <a:ext cx="1671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9"/>
          <p:cNvSpPr/>
          <p:nvPr/>
        </p:nvSpPr>
        <p:spPr>
          <a:xfrm>
            <a:off x="3592080" y="234936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тая изотропная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684360" y="2924280"/>
            <a:ext cx="7559640" cy="64260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и сила, действующую на центр дилатации,  выражается только через среднее гидростатическое давление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979640" y="3645000"/>
          <a:ext cx="240984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8">
                    <a:alphaModFix amt="16000"/>
                  </a:blip>
                  <a:stretch/>
                </p:blipFill>
                <p:spPr>
                  <a:xfrm>
                    <a:off x="1979640" y="3645000"/>
                    <a:ext cx="2409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9"/>
          <p:cNvGraphicFramePr/>
          <p:nvPr/>
        </p:nvGraphicFramePr>
        <p:xfrm>
          <a:off x="4643280" y="3645000"/>
          <a:ext cx="40737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0">
                    <a:alphaModFix amt="15000"/>
                  </a:blip>
                  <a:stretch/>
                </p:blipFill>
                <p:spPr>
                  <a:xfrm>
                    <a:off x="4643280" y="3645000"/>
                    <a:ext cx="4073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Прямоугольник 15"/>
          <p:cNvSpPr/>
          <p:nvPr/>
        </p:nvSpPr>
        <p:spPr>
          <a:xfrm>
            <a:off x="468360" y="4365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силы зависит от типа деф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дефекта с отрицательным дилатационным объемом                   (вакансии) сила направлена в сторону увеличения давления, то есть эти дефекты смещаются в более сжатые области крист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а, действующая на дефекты с положительным дилатационным объемом                    (междоузельные атомы), направлена в сторону понижения давления – дефекты смещаются в разреженные области крист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о сдвиговые деформации никак не взаимодействуют с дефек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1"/>
          <p:cNvGraphicFramePr/>
          <p:nvPr/>
        </p:nvGraphicFramePr>
        <p:xfrm>
          <a:off x="6300720" y="4724280"/>
          <a:ext cx="66348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4724280"/>
                    <a:ext cx="663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8172360" y="5516640"/>
          <a:ext cx="45252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72360" y="5516640"/>
                    <a:ext cx="45252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7524720" y="6237360"/>
          <a:ext cx="89208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24720" y="6237360"/>
                    <a:ext cx="892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ОЕ ВЗАИМОДЕЙСТВИЕ ТОЧЕЧНЫХ ДЕФЕКТ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785880"/>
            <a:ext cx="8715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теперь в кристалле имеется два дефекта. Один дефект создает в матрице поле смещения, а другой дефект, воспринимая это смещение, должен взаимодействовать с первым. Именно таким образом в рамках теории упругости удается описать взаимодействие дефектов. Взаимодействия такого рода принято назыв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формацио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точечный дефект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изотропном приближении создает только сдвиговые напря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едовательно,  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дефектов отсутству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точечных дефекта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тропной бесконечно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е в линейном приближении не взаимодейству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изотропных средах мощность точечных дефектов может быть достаточно велика, а упругие поля, создаваемые дефектами не являются чисто сдвиговыми. В таких веществах между дефектами возникает взаимодей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 деформационного взаимодействия удобно объяснить на приведённой ниже простой ана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836280"/>
            <a:ext cx="86439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м упругую горизонтальную поверхность, на которой на различных расстояниях друг от друга размещены небольшие шары (упругая поверхность имитирует плоскую кристаллическую решётку, а шары - дефекты в ней). Очевидно, что если расстояния между шарами велики, то они не будут "чувствовать" друг друга и расположатся каждый в своей лунке на поверхности. Однако стоит двум шарам сблизиться на некоторое минимальное расстояние, определяемое упругими свойствами поверхности и  весом шаров, как под действием упругих сил они начнут двигаться на встречу друг другу и в результате "свалятся" в общую лунку. Очевидно, что при соответствующем начальном расположении в лунке может оказаться и большее количество ша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простом примере видно, что деформационное взаимодействие обуславливает взаимное притяжение одноимённых дефектов и может являться реальной причиной образования скоплений деф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14200" y="356760"/>
            <a:ext cx="87156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расчет показывает, что в графите – слоистом веществе, обладающем сильными анизотропными свойствами, взаимодействие двух междоузельных атомов, расположенных между одной и той же парой базисных плоскостей графита, на расстояниях меньших величин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10 Å, носит характер притяжения. Причем энергия взаимодействия, величина которой достигает значения порядка 1 эВ, сопоставима с энергией ковалентной связи в базисных плоскостях (4.96 эВ). Подчеркнем, что благодаря анизотропии структуры графита область взаимодействия дефектов значительно превосходит межатомные расстояния – объем зоны, в пределах которой два междоузлия притягиваются друг к другу раве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4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Деформационный потенциал взаимодействия междоузлий, расположенных между соседними парами базисных плоскостей графита, соответствует отталкиванию дефектов. Величина энергии отталкивания на малых расстояниях достигает значения равного 2 э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картина взаимодействия междоузельных атомов  в графите – слоистом веществе, обладающем сильными анизотропными свой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16874" t="34173" r="23337" b="15007"/>
          <a:stretch/>
        </p:blipFill>
        <p:spPr>
          <a:xfrm>
            <a:off x="1187280" y="1700280"/>
            <a:ext cx="7123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ДЕФЕКТА ВО ВНЕШНЕМ ПОЛЕ СМЕЩ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0713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я описания поведения дефекта во внешнем поле воспользуемся уравнением статического равновесия упругой среды                        , здесь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лотность объемных сил, действующих внутри образц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м обе части этого уравнения скалярно на радиус-вектор и проинтегрируем по всему пространству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ем левую часть уравнения следующим образом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образовании было учтено, чт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интеграл определяется граничными условиями на поверхност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тором интеграле учтем, чт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, где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модуль объемного сжатия. Следовательно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тносительное изменение объема кристалла, связанное с действием внутренних сил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л на поверхности равно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2928960" y="1500120"/>
          <a:ext cx="1071720" cy="2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1500120"/>
                    <a:ext cx="10717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928960" y="2786040"/>
          <a:ext cx="22860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786040"/>
                    <a:ext cx="2286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1714680" y="3643200"/>
            <a:ext cx="6000480" cy="500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3857760" y="4143240"/>
          <a:ext cx="799920" cy="2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7760" y="4143240"/>
                    <a:ext cx="799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0"/>
          <p:cNvGraphicFramePr/>
          <p:nvPr/>
        </p:nvGraphicFramePr>
        <p:xfrm>
          <a:off x="6156360" y="4437000"/>
          <a:ext cx="107136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56360" y="4437000"/>
                    <a:ext cx="1071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12" descr=""/>
          <p:cNvPicPr/>
          <p:nvPr/>
        </p:nvPicPr>
        <p:blipFill>
          <a:blip r:embed="rId10"/>
          <a:stretch/>
        </p:blipFill>
        <p:spPr>
          <a:xfrm>
            <a:off x="3357720" y="5000760"/>
            <a:ext cx="2571480" cy="542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3"/>
          <p:cNvGraphicFramePr/>
          <p:nvPr/>
        </p:nvGraphicFramePr>
        <p:xfrm>
          <a:off x="4925880" y="5877000"/>
          <a:ext cx="2565360" cy="57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Object 13" descr=""/>
                  <p:cNvPicPr/>
                  <p:nvPr/>
                </p:nvPicPr>
                <p:blipFill>
                  <a:blip r:embed="rId12">
                    <a:alphaModFix amt="17000"/>
                  </a:blip>
                  <a:stretch/>
                </p:blipFill>
                <p:spPr>
                  <a:xfrm>
                    <a:off x="4925880" y="5877000"/>
                    <a:ext cx="2565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Прямая соединительная линия 17"/>
          <p:cNvSpPr/>
          <p:nvPr/>
        </p:nvSpPr>
        <p:spPr>
          <a:xfrm>
            <a:off x="4932360" y="4005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20"/>
          <p:cNvCxnSpPr/>
          <p:nvPr/>
        </p:nvCxnSpPr>
        <p:spPr>
          <a:xfrm flipH="1">
            <a:off x="4427280" y="4004280"/>
            <a:ext cx="72144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2"/>
          <p:cNvCxnSpPr/>
          <p:nvPr/>
        </p:nvCxnSpPr>
        <p:spPr>
          <a:xfrm>
            <a:off x="4643280" y="4365360"/>
            <a:ext cx="144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1"/>
          <p:cNvGraphicFramePr/>
          <p:nvPr/>
        </p:nvGraphicFramePr>
        <p:xfrm>
          <a:off x="3000240" y="1500120"/>
          <a:ext cx="2648160" cy="240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1500120"/>
                    <a:ext cx="26481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НУТРЕННИХ СИЛ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ИВАЛЕНТНЫХ ЦЕНТРУ ДИЛА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2560" y="1000080"/>
            <a:ext cx="871524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атомной модели точечного дефекта ближайшие к точечному дефекту атомы испытывают действие дилатационных сил, обладающих симметричным распределением в каждой координационной сфер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стема этих сил, разумеется, обладает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ирующей и полным моментом равными нулю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рнуться к макроскопическому рассмотрению дефекта, то можно увидеть, что их действие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вивалентно действию трех пар сил равной велич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ложенных к точке расположения междоузельного атома или вакансии и направленных по координатным ося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я из смещения вдали от дефе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найдем вид этих объемных си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кторной записи смещения можно представить как                   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3643200" y="5072040"/>
          <a:ext cx="56196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072040"/>
                    <a:ext cx="5619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5"/>
          <p:cNvGraphicFramePr/>
          <p:nvPr/>
        </p:nvGraphicFramePr>
        <p:xfrm>
          <a:off x="5000760" y="5429160"/>
          <a:ext cx="9428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5429160"/>
                    <a:ext cx="942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0" descr=""/>
          <p:cNvPicPr/>
          <p:nvPr/>
        </p:nvPicPr>
        <p:blipFill>
          <a:blip r:embed="rId7"/>
          <a:stretch/>
        </p:blipFill>
        <p:spPr>
          <a:xfrm>
            <a:off x="7380360" y="5013360"/>
            <a:ext cx="1322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8920" y="260280"/>
            <a:ext cx="86439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получим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им эти выражения в уравнение равновеси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                                                      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введено обозначение:                 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 теории упругости дефект можно описать δ-функционной плотностью сил. Мощность дефекта характеризуется величиной </a:t>
            </a:r>
            <a:r>
              <a:rPr b="0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среды на дефект определяется ее модулем сжатия 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нение объема для тела с указанным распределением плотности сил составит величину (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айд 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1928880" y="428760"/>
          <a:ext cx="421488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28760"/>
                    <a:ext cx="4214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2786040" y="1000080"/>
          <a:ext cx="25113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1000080"/>
                    <a:ext cx="2511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000160" y="1785960"/>
          <a:ext cx="39290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1785960"/>
                    <a:ext cx="392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042920" y="2349360"/>
          <a:ext cx="268776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8">
                    <a:alphaModFix amt="11000"/>
                  </a:blip>
                  <a:stretch/>
                </p:blipFill>
                <p:spPr>
                  <a:xfrm>
                    <a:off x="1042920" y="2349360"/>
                    <a:ext cx="2687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1"/>
          <p:cNvGraphicFramePr/>
          <p:nvPr/>
        </p:nvGraphicFramePr>
        <p:xfrm>
          <a:off x="1116000" y="3273480"/>
          <a:ext cx="49640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10">
                    <a:alphaModFix amt="10000"/>
                  </a:blip>
                  <a:stretch/>
                </p:blipFill>
                <p:spPr>
                  <a:xfrm>
                    <a:off x="1116000" y="3273480"/>
                    <a:ext cx="4964040" cy="515880"/>
                  </a:xfrm>
                  <a:prstGeom prst="rect">
                    <a:avLst/>
                  </a:prstGeom>
                  <a:ln w="9360">
                    <a:solidFill>
                      <a:srgbClr val="c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3"/>
          <p:cNvGraphicFramePr/>
          <p:nvPr/>
        </p:nvGraphicFramePr>
        <p:xfrm>
          <a:off x="2987640" y="4005360"/>
          <a:ext cx="150516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4005360"/>
                    <a:ext cx="1505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5"/>
          <p:cNvGraphicFramePr/>
          <p:nvPr/>
        </p:nvGraphicFramePr>
        <p:xfrm>
          <a:off x="2195640" y="5950080"/>
          <a:ext cx="631008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5950080"/>
                    <a:ext cx="63100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Прямая соединительная линия 18"/>
          <p:cNvSpPr/>
          <p:nvPr/>
        </p:nvSpPr>
        <p:spPr>
          <a:xfrm>
            <a:off x="2700360" y="1341360"/>
            <a:ext cx="26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20"/>
          <p:cNvCxnSpPr/>
          <p:nvPr/>
        </p:nvCxnSpPr>
        <p:spPr>
          <a:xfrm flipH="1">
            <a:off x="2555280" y="1341360"/>
            <a:ext cx="1440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Прямая соединительная линия 3"/>
          <p:cNvSpPr/>
          <p:nvPr/>
        </p:nvSpPr>
        <p:spPr>
          <a:xfrm>
            <a:off x="3274920" y="1773360"/>
            <a:ext cx="100980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"/>
          <p:cNvSpPr/>
          <p:nvPr/>
        </p:nvSpPr>
        <p:spPr>
          <a:xfrm flipH="1">
            <a:off x="3401640" y="1628640"/>
            <a:ext cx="755640" cy="64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691920"/>
            <a:ext cx="8715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латация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нулю везде, за исключением начала координат, то есть, как это получалось и раньше,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чечный дефект создает  только сдвиговую деформацию в окружающей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сконечной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ре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о, последний вывод справедлив только лишь тогда, когда среда являетс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уго изотроп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очечный дефект эквивалентен центру дилат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, упругое поле точечного дефекта, строго говоря, не является чисто сдвигов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общение - в общем случае неизотропной среды, возмущение можно записат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правило, характерный объем дефектов         для вакансий отрицателен, для междоузлий положител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простых металлов его величина составляет порядка 0.1</a:t>
            </a:r>
            <a:r>
              <a:rPr b="0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ω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однако, например, для анизотропного графита она достигает больших значений – порядка 5</a:t>
            </a:r>
            <a:r>
              <a:rPr b="0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ω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отметим, что введенный здесь способ описания точечных дефектов – через плотность объемных сил подходит и для описания других типов дефектов, например, дислока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"/>
          <p:cNvGraphicFramePr/>
          <p:nvPr/>
        </p:nvGraphicFramePr>
        <p:xfrm>
          <a:off x="2411280" y="549360"/>
          <a:ext cx="368964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49360"/>
                    <a:ext cx="3689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2340000" y="3141720"/>
          <a:ext cx="414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141720"/>
                    <a:ext cx="414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4932360" y="4076640"/>
          <a:ext cx="43164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076640"/>
                    <a:ext cx="4316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заимодействие дефектов с внешним упругим пол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68360" y="1962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ем считать, что дефект воздействует на кристалл, в котором он находится, тремя способ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жде всего, он вызывает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мещение атомов матр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ефект выступает в рол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локальной неоднород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есть он с одной стороны вносит изменение в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ассу элементарной ячей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 другой – дает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локальное изменение силовых конст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закон Г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1908000" y="4869000"/>
          <a:ext cx="55040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869000"/>
                    <a:ext cx="5504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468360" y="224640"/>
            <a:ext cx="831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кристалл, в котором находится точечный дефект, находится под действием внешней нагру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ссмотрим некоторую общую задачу: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дефект в упругом поле смещения, созданном внешней нагрузкой на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, которую совершает  внешнее поле над дефектом при малых смещениях последнего, найдем из работы внешних сил над образцом, содержащим дефект. Последняя рав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611280" y="3933720"/>
          <a:ext cx="761040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33720"/>
                    <a:ext cx="76104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"/>
          <p:cNvGraphicFramePr/>
          <p:nvPr/>
        </p:nvGraphicFramePr>
        <p:xfrm>
          <a:off x="6710400" y="2924280"/>
          <a:ext cx="210168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0400" y="2924280"/>
                    <a:ext cx="2101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3" name="Прямая со стрелкой 4"/>
          <p:cNvCxnSpPr/>
          <p:nvPr/>
        </p:nvCxnSpPr>
        <p:spPr>
          <a:xfrm flipH="1">
            <a:off x="2123640" y="3429000"/>
            <a:ext cx="5400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9640" y="476640"/>
            <a:ext cx="78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324000" y="1159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ем теперь явный вид для объемных сил, соответствующих наличию точечного дефекта в кристалле                                  , а для преобразования последнего слагаемого в нашем выражении используем закон Гу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63640" y="1052640"/>
          <a:ext cx="17384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052640"/>
                    <a:ext cx="1738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1332000" y="1638360"/>
          <a:ext cx="6696000" cy="16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638360"/>
                    <a:ext cx="669600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5003640" y="476280"/>
          <a:ext cx="187200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6">
                    <a:alphaModFix amt="19000"/>
                  </a:blip>
                  <a:stretch/>
                </p:blipFill>
                <p:spPr>
                  <a:xfrm>
                    <a:off x="5003640" y="476280"/>
                    <a:ext cx="1872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250920" y="353196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5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м интегрирование по частям в первом слагаемом, во втором – проведем тривиальное интегрирование, а в третьем учтем симметр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0"/>
          <p:cNvGraphicFramePr/>
          <p:nvPr/>
        </p:nvGraphicFramePr>
        <p:xfrm>
          <a:off x="1258920" y="4005360"/>
          <a:ext cx="733896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005360"/>
                    <a:ext cx="73389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2"/>
          <p:cNvGraphicFramePr/>
          <p:nvPr/>
        </p:nvGraphicFramePr>
        <p:xfrm>
          <a:off x="395280" y="5516640"/>
          <a:ext cx="8215200" cy="64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5516640"/>
                    <a:ext cx="8215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4"/>
          <p:cNvSpPr/>
          <p:nvPr/>
        </p:nvSpPr>
        <p:spPr>
          <a:xfrm>
            <a:off x="0" y="3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324000" y="4869000"/>
            <a:ext cx="16556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T=const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2"/>
          <p:cNvGraphicFramePr/>
          <p:nvPr/>
        </p:nvGraphicFramePr>
        <p:xfrm>
          <a:off x="6551640" y="1125360"/>
          <a:ext cx="2592360" cy="3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1640" y="1125360"/>
                    <a:ext cx="2592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5" name="Прямая со стрелкой 17"/>
          <p:cNvCxnSpPr/>
          <p:nvPr/>
        </p:nvCxnSpPr>
        <p:spPr>
          <a:xfrm flipH="1">
            <a:off x="2700000" y="1125000"/>
            <a:ext cx="3744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Прямая со стрелкой 19"/>
          <p:cNvCxnSpPr/>
          <p:nvPr/>
        </p:nvCxnSpPr>
        <p:spPr>
          <a:xfrm flipH="1">
            <a:off x="2555640" y="835560"/>
            <a:ext cx="2953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21"/>
          <p:cNvCxnSpPr/>
          <p:nvPr/>
        </p:nvCxnSpPr>
        <p:spPr>
          <a:xfrm>
            <a:off x="3492360" y="1267920"/>
            <a:ext cx="64836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8" name="Прямая соединительная линия 4"/>
          <p:cNvSpPr/>
          <p:nvPr/>
        </p:nvSpPr>
        <p:spPr>
          <a:xfrm>
            <a:off x="1258920" y="2708280"/>
            <a:ext cx="3313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2"/>
          <p:cNvSpPr/>
          <p:nvPr/>
        </p:nvSpPr>
        <p:spPr>
          <a:xfrm>
            <a:off x="4067280" y="5373720"/>
            <a:ext cx="4825800" cy="914400"/>
          </a:xfrm>
          <a:prstGeom prst="ellipse">
            <a:avLst/>
          </a:prstGeom>
          <a:solidFill>
            <a:srgbClr val="ffff00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два слагаемых определяет энергию взаимодействия дефекта с упругим по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"/>
          <p:cNvGraphicFramePr/>
          <p:nvPr/>
        </p:nvGraphicFramePr>
        <p:xfrm>
          <a:off x="1763640" y="1197000"/>
          <a:ext cx="6281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2">
                    <a:alphaModFix amt="15000"/>
                  </a:blip>
                  <a:stretch/>
                </p:blipFill>
                <p:spPr>
                  <a:xfrm>
                    <a:off x="1763640" y="1197000"/>
                    <a:ext cx="6281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5"/>
          <p:cNvSpPr/>
          <p:nvPr/>
        </p:nvSpPr>
        <p:spPr>
          <a:xfrm>
            <a:off x="372960" y="206064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ефект, находящийся в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3995640" y="2060640"/>
          <a:ext cx="2160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060640"/>
                    <a:ext cx="2160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Прямоугольник 8"/>
          <p:cNvSpPr/>
          <p:nvPr/>
        </p:nvSpPr>
        <p:spPr>
          <a:xfrm>
            <a:off x="484200" y="242100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нем дефект на велич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3564000" y="2421000"/>
          <a:ext cx="32688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421000"/>
                    <a:ext cx="3268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1979640" y="2852640"/>
          <a:ext cx="2108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2852640"/>
                    <a:ext cx="2108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9"/>
          <p:cNvGraphicFramePr/>
          <p:nvPr/>
        </p:nvGraphicFramePr>
        <p:xfrm>
          <a:off x="5292720" y="2924280"/>
          <a:ext cx="168120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2924280"/>
                    <a:ext cx="16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1"/>
          <p:cNvGraphicFramePr/>
          <p:nvPr/>
        </p:nvGraphicFramePr>
        <p:xfrm>
          <a:off x="95400" y="3459240"/>
          <a:ext cx="400032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12">
                    <a:alphaModFix amt="15000"/>
                  </a:blip>
                  <a:stretch/>
                </p:blipFill>
                <p:spPr>
                  <a:xfrm>
                    <a:off x="95400" y="3459240"/>
                    <a:ext cx="4000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3"/>
          <p:cNvSpPr/>
          <p:nvPr/>
        </p:nvSpPr>
        <p:spPr>
          <a:xfrm>
            <a:off x="4095720" y="354492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–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сила, с которой упруго деформированный кристалл действует на де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539640" y="4160520"/>
            <a:ext cx="78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идно, точечный дефект взаимодействует с упругим полем двояким обра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 одной стороны дефект выступает как источник дилатации, это отражено в первом слагаемом линейном по деформац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угой стороны дефект проявляет себя как локальная неоднородность упругих свойств, что передает второе (квадратичное по деформациям) слагаем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слагаемое называют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змерным эффек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второе –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одульным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э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8"/>
          <p:cNvSpPr/>
          <p:nvPr/>
        </p:nvSpPr>
        <p:spPr>
          <a:xfrm>
            <a:off x="971640" y="1125360"/>
            <a:ext cx="7848360" cy="914400"/>
          </a:xfrm>
          <a:prstGeom prst="ellipse">
            <a:avLst/>
          </a:prstGeom>
          <a:solidFill>
            <a:srgbClr val="ffff00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4:10:37Z</dcterms:created>
  <dc:creator>Nick</dc:creator>
  <dc:description/>
  <dc:language>en-US</dc:language>
  <cp:lastModifiedBy>Пользователь</cp:lastModifiedBy>
  <dcterms:modified xsi:type="dcterms:W3CDTF">2013-03-13T09:21:15Z</dcterms:modified>
  <cp:revision>41</cp:revision>
  <dc:subject/>
  <dc:title>Слайд 1</dc:title>
</cp:coreProperties>
</file>