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6.wmf" ContentType="image/x-wmf"/>
  <Override PartName="/ppt/media/image8.png" ContentType="image/png"/>
  <Override PartName="/ppt/media/image41.wmf" ContentType="image/x-wmf"/>
  <Override PartName="/ppt/media/image13.wmf" ContentType="image/x-wmf"/>
  <Override PartName="/ppt/media/image33.wmf" ContentType="image/x-wmf"/>
  <Override PartName="/ppt/media/image12.wmf" ContentType="image/x-wmf"/>
  <Override PartName="/ppt/media/image36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7.wmf" ContentType="image/x-wmf"/>
  <Override PartName="/ppt/media/image7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E23C-AB17-4FE5-A199-5585D14772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D13D-F183-4BB9-9F1F-66B347643B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3AC5-EA3D-4574-AC11-57B07357B5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364F-CC4F-4A4A-8420-F4C6300CB0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D37C-266C-45E3-8327-F4BE8B5AEC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9280-F39E-45FC-8A60-2C793DC118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6F3A-CDC7-4855-9077-E7E84E5FB5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EA09-A0C3-4B63-AA98-000C29F8A3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E290-DAFE-4689-8AD5-02A19D6F1F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B5DE-ED1F-4F74-8925-04CCC11270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CC29-106C-4804-ACE1-31D4C91CE0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868F-227B-486B-B5A3-D57A147A6A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F961-757F-4EBD-A519-D4F51535E1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87C6-4CC6-4DC6-A0C6-38F54B1C47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F7E8-E24C-4374-B347-324016D9CA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30B-7DB9-4F23-A975-C7355E31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EE7-B446-405B-BFD8-859A0085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8BB-BE86-455D-9A16-EB49EFF1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BD7-2689-47FB-9D1D-37AD05BA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6C8-8128-451C-B308-BA8AEA10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320-77E3-4A77-919B-D00D6B3C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0D2-C64B-42A2-923D-52BA32BA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3D4-528C-41F7-8511-F0C762B0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1C4-2B7B-475B-824F-ED9F8603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512F-099B-47DA-9BDC-D57EE54B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47A-ED73-402D-8334-62E1A86D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70D-25E2-42CD-A7D6-7F0AAB1E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22B9-21EA-4C57-BE0B-B6A9A06100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заимодействие дефект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приближении упругой сре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4074480" y="40766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я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2"/>
          <p:cNvSpPr/>
          <p:nvPr/>
        </p:nvSpPr>
        <p:spPr>
          <a:xfrm>
            <a:off x="468360" y="33336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деформации считают малыми, модульным эффектом (квадратичным по деформациям) пренебрегают и в выражении для энергии и силы оставляют линейное по упругим деформациям слагаем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"/>
          <p:cNvGraphicFramePr/>
          <p:nvPr/>
        </p:nvGraphicFramePr>
        <p:xfrm>
          <a:off x="971640" y="1341360"/>
          <a:ext cx="26114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341360"/>
                    <a:ext cx="26114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3"/>
          <p:cNvGraphicFramePr/>
          <p:nvPr/>
        </p:nvGraphicFramePr>
        <p:xfrm>
          <a:off x="4356000" y="1341360"/>
          <a:ext cx="276084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341360"/>
                    <a:ext cx="27608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1692360" y="2276640"/>
          <a:ext cx="167148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276640"/>
                    <a:ext cx="1671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Прямоугольник 9"/>
          <p:cNvSpPr/>
          <p:nvPr/>
        </p:nvSpPr>
        <p:spPr>
          <a:xfrm>
            <a:off x="3592080" y="2349360"/>
            <a:ext cx="28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стая изотропная с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0"/>
          <p:cNvSpPr/>
          <p:nvPr/>
        </p:nvSpPr>
        <p:spPr>
          <a:xfrm>
            <a:off x="684360" y="2924280"/>
            <a:ext cx="7559640" cy="642600"/>
          </a:xfrm>
          <a:prstGeom prst="rect">
            <a:avLst/>
          </a:pr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и сила, действующую на центр дилатации,  выражается только через среднее гидростатическое давление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979640" y="3645000"/>
          <a:ext cx="240984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8">
                    <a:alphaModFix amt="16000"/>
                  </a:blip>
                  <a:stretch/>
                </p:blipFill>
                <p:spPr>
                  <a:xfrm>
                    <a:off x="1979640" y="3645000"/>
                    <a:ext cx="2409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9"/>
          <p:cNvGraphicFramePr/>
          <p:nvPr/>
        </p:nvGraphicFramePr>
        <p:xfrm>
          <a:off x="4643280" y="3645000"/>
          <a:ext cx="407376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" name="Object 9" descr=""/>
                  <p:cNvPicPr/>
                  <p:nvPr/>
                </p:nvPicPr>
                <p:blipFill>
                  <a:blip r:embed="rId10">
                    <a:alphaModFix amt="15000"/>
                  </a:blip>
                  <a:stretch/>
                </p:blipFill>
                <p:spPr>
                  <a:xfrm>
                    <a:off x="4643280" y="3645000"/>
                    <a:ext cx="4073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Прямоугольник 15"/>
          <p:cNvSpPr/>
          <p:nvPr/>
        </p:nvSpPr>
        <p:spPr>
          <a:xfrm>
            <a:off x="468360" y="43657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силы зависит от типа деф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дефекта с отрицательным дилатационным объемом                   (вакансии) сила направлена в сторону увеличения давления, то есть эти дефекты смещаются в более сжатые области криста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а, действующая на дефекты с положительным дилатационным объемом                    (междоузельные атомы), направлена в сторону понижения давления – дефекты смещаются в разреженные области кристал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то сдвиговые деформации никак не взаимодействуют с дефек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11"/>
          <p:cNvGraphicFramePr/>
          <p:nvPr/>
        </p:nvGraphicFramePr>
        <p:xfrm>
          <a:off x="6300720" y="4724280"/>
          <a:ext cx="663480" cy="28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00720" y="4724280"/>
                    <a:ext cx="6634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3"/>
          <p:cNvGraphicFramePr/>
          <p:nvPr/>
        </p:nvGraphicFramePr>
        <p:xfrm>
          <a:off x="8172360" y="5516640"/>
          <a:ext cx="452520" cy="31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7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72360" y="5516640"/>
                    <a:ext cx="45252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7524720" y="6237360"/>
          <a:ext cx="892080" cy="36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24720" y="6237360"/>
                    <a:ext cx="8920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ОЕ ВЗАИМОДЕЙСТВИЕ ТОЧЕЧНЫХ ДЕФЕКТ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4200" y="785880"/>
            <a:ext cx="8715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теперь в кристалле имеется два дефекта. Один дефект создает в матрице поле смещения, а другой дефект, воспринимая это смещение, должен взаимодействовать с первым. Именно таким образом в рамках теории упругости удается описать взаимодействие дефектов. Взаимодействия такого рода принято называть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формацио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точечный дефект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изотропном приближении создает только сдвиговые напря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ледовательно,  и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заимодействие дефектов отсутству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 точечных дефекта 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отропной бесконечной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е в линейном приближении не взаимодействую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изотропных средах мощность точечных дефектов может быть достаточно велика, а упругие поля, создаваемые дефектами не являются чисто сдвиговыми. В таких веществах между дефектами возникает взаимодей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у деформационного взаимодействия удобно объяснить на приведённой ниже простой ана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0560" y="836280"/>
            <a:ext cx="864396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м упругую горизонтальную поверхность, на которой на различных расстояниях друг от друга размещены небольшие шары (упругая поверхность имитирует плоскую кристаллическую решётку, а шары - дефекты в ней). Очевидно, что если расстояния между шарами велики, то они не будут "чувствовать" друг друга и расположатся каждый в своей лунке на поверхности. Однако стоит двум шарам сблизиться на некоторое минимальное расстояние, определяемое упругими свойствами поверхности и  весом шаров, как под действием упругих сил они начнут двигаться на встречу друг другу и в результате "свалятся" в общую лунку. Очевидно, что при соответствующем начальном расположении в лунке может оказаться и большее количество ша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простом примере видно, что деформационное взаимодействие обуславливает взаимное притяжение одноимённых дефектов и может являться реальной причиной образования скоплений деф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14200" y="356760"/>
            <a:ext cx="87156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например, расчет показывает, что в графите – слоистом веществе, обладающем сильными анизотропными свойствами, взаимодействие двух междоузельных атомов, расположенных между одной и той же парой базисных плоскостей графита, на расстояниях меньших величины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10 Å, носит характер притяжения. Причем энергия взаимодействия, величина которой достигает значения порядка 1 эВ, сопоставима с энергией ковалентной связи в базисных плоскостях (4.96 эВ). Подчеркнем, что благодаря анизотропии структуры графита область взаимодействия дефектов значительно превосходит межатомные расстояния – объем зоны, в пределах которой два междоузлия притягиваются друг к другу раве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40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Деформационный потенциал взаимодействия междоузлий, расположенных между соседними парами базисных плоскостей графита, соответствует отталкиванию дефектов. Величина энергии отталкивания на малых расстояниях достигает значения равного 2 э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ая картина взаимодействия междоузельных атомов  в графите – слоистом веществе, обладающем сильными анизотропными свойств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rcRect l="16874" t="34173" r="23337" b="15007"/>
          <a:stretch/>
        </p:blipFill>
        <p:spPr>
          <a:xfrm>
            <a:off x="1187280" y="1700280"/>
            <a:ext cx="71233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ДЕФЕКТА ВО ВНЕШНЕМ ПОЛЕ СМЕЩ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107136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я описания поведения дефекта во внешнем поле воспользуемся уравнением статического равновесия упругой среды                        , здесь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i="1" lang="en-US" sz="1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лотность объемных сил, действующих внутри образц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им обе части этого уравнения скалярно на радиус-вектор и проинтегрируем по всему пространству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уем левую часть уравнения следующим образом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образовании было учтено, что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интеграл определяется граничными условиями на поверхност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втором интеграле учтем, что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, где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модуль объемного сжатия. Следовательно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3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тносительное изменение объема кристалла, связанное с действием внутренних сил 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ил на поверхности равно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"/>
          <p:cNvGraphicFramePr/>
          <p:nvPr/>
        </p:nvGraphicFramePr>
        <p:xfrm>
          <a:off x="2928960" y="1500120"/>
          <a:ext cx="1071720" cy="2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1500120"/>
                    <a:ext cx="107172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2928960" y="2786040"/>
          <a:ext cx="228600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786040"/>
                    <a:ext cx="2286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1714680" y="3643200"/>
            <a:ext cx="6000480" cy="5000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3857760" y="4143240"/>
          <a:ext cx="799920" cy="238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57760" y="4143240"/>
                    <a:ext cx="79992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0"/>
          <p:cNvGraphicFramePr/>
          <p:nvPr/>
        </p:nvGraphicFramePr>
        <p:xfrm>
          <a:off x="6156360" y="4437000"/>
          <a:ext cx="1071360" cy="28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56360" y="4437000"/>
                    <a:ext cx="107136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12" descr=""/>
          <p:cNvPicPr/>
          <p:nvPr/>
        </p:nvPicPr>
        <p:blipFill>
          <a:blip r:embed="rId10"/>
          <a:stretch/>
        </p:blipFill>
        <p:spPr>
          <a:xfrm>
            <a:off x="3357720" y="5000760"/>
            <a:ext cx="2571480" cy="542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3"/>
          <p:cNvGraphicFramePr/>
          <p:nvPr/>
        </p:nvGraphicFramePr>
        <p:xfrm>
          <a:off x="4925880" y="5877000"/>
          <a:ext cx="2565360" cy="571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" name="Object 13" descr=""/>
                  <p:cNvPicPr/>
                  <p:nvPr/>
                </p:nvPicPr>
                <p:blipFill>
                  <a:blip r:embed="rId12">
                    <a:alphaModFix amt="17000"/>
                  </a:blip>
                  <a:stretch/>
                </p:blipFill>
                <p:spPr>
                  <a:xfrm>
                    <a:off x="4925880" y="5877000"/>
                    <a:ext cx="2565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Прямая соединительная линия 17"/>
          <p:cNvSpPr/>
          <p:nvPr/>
        </p:nvSpPr>
        <p:spPr>
          <a:xfrm>
            <a:off x="4932360" y="400536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20"/>
          <p:cNvCxnSpPr/>
          <p:nvPr/>
        </p:nvCxnSpPr>
        <p:spPr>
          <a:xfrm flipH="1">
            <a:off x="4427280" y="4004280"/>
            <a:ext cx="72144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Прямая со стрелкой 22"/>
          <p:cNvCxnSpPr/>
          <p:nvPr/>
        </p:nvCxnSpPr>
        <p:spPr>
          <a:xfrm>
            <a:off x="4643280" y="4365360"/>
            <a:ext cx="14421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1"/>
          <p:cNvGraphicFramePr/>
          <p:nvPr/>
        </p:nvGraphicFramePr>
        <p:xfrm>
          <a:off x="3000240" y="1500120"/>
          <a:ext cx="2648160" cy="2409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1500120"/>
                    <a:ext cx="264816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ВНУТРЕННИХ СИЛ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ИВАЛЕНТНЫХ ЦЕНТРУ ДИЛА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2560" y="1000080"/>
            <a:ext cx="871524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атомной модели точечного дефекта ближайшие к точечному дефекту атомы испытывают действие дилатационных сил, обладающих симметричным распределением в каждой координационной сфер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истема этих сил, разумеется, обладает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ирующей и полным моментом равными нулю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ернуться к макроскопическому рассмотрению дефекта, то можно увидеть, что их действие </a:t>
            </a: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квивалентно действию трех пар сил равной величи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ложенных к точке расположения междоузельного атома или вакансии и направленных по координатным ося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ходя из смещения вдали от дефек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найдем вид этих объемных си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кторной записи смещения можно представить как                   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3643200" y="5072040"/>
          <a:ext cx="56196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072040"/>
                    <a:ext cx="5619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5"/>
          <p:cNvGraphicFramePr/>
          <p:nvPr/>
        </p:nvGraphicFramePr>
        <p:xfrm>
          <a:off x="5000760" y="5429160"/>
          <a:ext cx="94284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760" y="5429160"/>
                    <a:ext cx="942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Picture 20" descr=""/>
          <p:cNvPicPr/>
          <p:nvPr/>
        </p:nvPicPr>
        <p:blipFill>
          <a:blip r:embed="rId7"/>
          <a:stretch/>
        </p:blipFill>
        <p:spPr>
          <a:xfrm>
            <a:off x="7380360" y="5013360"/>
            <a:ext cx="1322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78920" y="260280"/>
            <a:ext cx="86439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получим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вим эти выражения в уравнение равновеси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                                                      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введено обозначение:                  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в теории упругости дефект можно описать δ-функционной плотностью сил. Мощность дефекта характеризуется величиной </a:t>
            </a:r>
            <a:r>
              <a:rPr b="0" lang="ru-RU" sz="17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1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среды на дефект определяется ее модулем сжатия К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менение объема для тела с указанным распределением плотности сил составит величину (</a:t>
            </a:r>
            <a:r>
              <a:rPr b="0" lang="ru-RU" sz="1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айд 1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1928880" y="428760"/>
          <a:ext cx="421488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428760"/>
                    <a:ext cx="42148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2786040" y="1000080"/>
          <a:ext cx="25113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1000080"/>
                    <a:ext cx="25113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2000160" y="1785960"/>
          <a:ext cx="392904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0160" y="1785960"/>
                    <a:ext cx="39290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9"/>
          <p:cNvGraphicFramePr/>
          <p:nvPr/>
        </p:nvGraphicFramePr>
        <p:xfrm>
          <a:off x="1042920" y="2349360"/>
          <a:ext cx="2687760" cy="64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Object 9" descr=""/>
                  <p:cNvPicPr/>
                  <p:nvPr/>
                </p:nvPicPr>
                <p:blipFill>
                  <a:blip r:embed="rId8">
                    <a:alphaModFix amt="11000"/>
                  </a:blip>
                  <a:stretch/>
                </p:blipFill>
                <p:spPr>
                  <a:xfrm>
                    <a:off x="1042920" y="2349360"/>
                    <a:ext cx="26877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11"/>
          <p:cNvGraphicFramePr/>
          <p:nvPr/>
        </p:nvGraphicFramePr>
        <p:xfrm>
          <a:off x="1116000" y="3273480"/>
          <a:ext cx="496404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Object 11" descr=""/>
                  <p:cNvPicPr/>
                  <p:nvPr/>
                </p:nvPicPr>
                <p:blipFill>
                  <a:blip r:embed="rId10">
                    <a:alphaModFix amt="10000"/>
                  </a:blip>
                  <a:stretch/>
                </p:blipFill>
                <p:spPr>
                  <a:xfrm>
                    <a:off x="1116000" y="3273480"/>
                    <a:ext cx="4964040" cy="515880"/>
                  </a:xfrm>
                  <a:prstGeom prst="rect">
                    <a:avLst/>
                  </a:prstGeom>
                  <a:ln w="9360">
                    <a:solidFill>
                      <a:srgbClr val="c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3"/>
          <p:cNvGraphicFramePr/>
          <p:nvPr/>
        </p:nvGraphicFramePr>
        <p:xfrm>
          <a:off x="2987640" y="4005360"/>
          <a:ext cx="150516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87640" y="4005360"/>
                    <a:ext cx="15051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5"/>
          <p:cNvGraphicFramePr/>
          <p:nvPr/>
        </p:nvGraphicFramePr>
        <p:xfrm>
          <a:off x="2195640" y="5950080"/>
          <a:ext cx="6310080" cy="56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7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95640" y="5950080"/>
                    <a:ext cx="63100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Прямая соединительная линия 18"/>
          <p:cNvSpPr/>
          <p:nvPr/>
        </p:nvSpPr>
        <p:spPr>
          <a:xfrm>
            <a:off x="2700360" y="1341360"/>
            <a:ext cx="266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20"/>
          <p:cNvCxnSpPr/>
          <p:nvPr/>
        </p:nvCxnSpPr>
        <p:spPr>
          <a:xfrm flipH="1">
            <a:off x="2555280" y="1341360"/>
            <a:ext cx="14403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Прямая соединительная линия 3"/>
          <p:cNvSpPr/>
          <p:nvPr/>
        </p:nvSpPr>
        <p:spPr>
          <a:xfrm>
            <a:off x="3274920" y="1773360"/>
            <a:ext cx="100980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5"/>
          <p:cNvSpPr/>
          <p:nvPr/>
        </p:nvSpPr>
        <p:spPr>
          <a:xfrm flipH="1">
            <a:off x="3401640" y="1628640"/>
            <a:ext cx="755640" cy="64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4200" y="691920"/>
            <a:ext cx="8715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илатация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нулю везде, за исключением начала координат, то есть, как это получалось и раньше,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чечный дефект создает  только сдвиговую деформацию в окружающей 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есконечной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сред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о, последний вывод справедлив только лишь тогда, когда среда является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руго изотроп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точечный дефект эквивалентен центру дилатаци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, упругое поле точечного дефекта, строго говоря, не является чисто сдвигов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общение - в общем случае неизотропной среды, возмущение можно записат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 правило, характерный объем дефектов         для вакансий отрицателен, для междоузлий положител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простых металлов его величина составляет порядка 0.1</a:t>
            </a:r>
            <a:r>
              <a:rPr b="0" lang="el-GR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ω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однако, например, для анизотропного графита она достигает больших значений – порядка 5</a:t>
            </a:r>
            <a:r>
              <a:rPr b="0" lang="el-GR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ω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и отметим, что введенный здесь способ описания точечных дефектов – через плотность объемных сил подходит и для описания других типов дефектов, например, дислокац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1"/>
          <p:cNvGraphicFramePr/>
          <p:nvPr/>
        </p:nvGraphicFramePr>
        <p:xfrm>
          <a:off x="2411280" y="549360"/>
          <a:ext cx="368964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549360"/>
                    <a:ext cx="36896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2340000" y="3141720"/>
          <a:ext cx="414000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141720"/>
                    <a:ext cx="4140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4932360" y="4076640"/>
          <a:ext cx="43164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4076640"/>
                    <a:ext cx="4316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заимодействие дефектов с внешним упругим пол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468360" y="19623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ем считать, что дефект воздействует на кристалл, в котором он находится, тремя способ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жде всего, он вызывает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смещение атомов матриц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6100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ме того, дефект выступает в роли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локальной неоднород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о есть он с одной стороны вносит изменение в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массу элементарной ячей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 другой – дает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локальное изменение силовых конст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ходящих в закон Г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2"/>
          <p:cNvGraphicFramePr/>
          <p:nvPr/>
        </p:nvGraphicFramePr>
        <p:xfrm>
          <a:off x="1908000" y="4869000"/>
          <a:ext cx="550404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869000"/>
                    <a:ext cx="5504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468360" y="224640"/>
            <a:ext cx="831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кристалл, в котором находится точечный дефект, находится под действием внешней нагруз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Рассмотрим некоторую общую задачу: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дефект в упругом поле смещения, созданном внешней нагрузкой на ср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, которую совершает  внешнее поле над дефектом при малых смещениях последнего, найдем из работы внешних сил над образцом, содержащим дефект. Последняя рав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611280" y="3933720"/>
          <a:ext cx="761040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33720"/>
                    <a:ext cx="761040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"/>
          <p:cNvGraphicFramePr/>
          <p:nvPr/>
        </p:nvGraphicFramePr>
        <p:xfrm>
          <a:off x="6710400" y="2924280"/>
          <a:ext cx="210168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0400" y="2924280"/>
                    <a:ext cx="21016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33" name="Прямая со стрелкой 4"/>
          <p:cNvCxnSpPr/>
          <p:nvPr/>
        </p:nvCxnSpPr>
        <p:spPr>
          <a:xfrm flipH="1">
            <a:off x="2123640" y="3429000"/>
            <a:ext cx="54000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39640" y="476640"/>
            <a:ext cx="78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324000" y="1159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уем теперь явный вид для объемных сил, соответствующих наличию точечного дефекта в кристалле                                  , а для преобразования последнего слагаемого в нашем выражении используем закон Гу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63640" y="1052640"/>
          <a:ext cx="173844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052640"/>
                    <a:ext cx="1738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6"/>
          <p:cNvGraphicFramePr/>
          <p:nvPr/>
        </p:nvGraphicFramePr>
        <p:xfrm>
          <a:off x="1332000" y="1638360"/>
          <a:ext cx="6696000" cy="16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638360"/>
                    <a:ext cx="669600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5003640" y="476280"/>
          <a:ext cx="1872000" cy="3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6">
                    <a:alphaModFix amt="19000"/>
                  </a:blip>
                  <a:stretch/>
                </p:blipFill>
                <p:spPr>
                  <a:xfrm>
                    <a:off x="5003640" y="476280"/>
                    <a:ext cx="18720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250920" y="3531960"/>
            <a:ext cx="82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5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м интегрирование по частям в первом слагаемом, во втором – проведем тривиальное интегрирование, а в третьем учтем симметр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10"/>
          <p:cNvGraphicFramePr/>
          <p:nvPr/>
        </p:nvGraphicFramePr>
        <p:xfrm>
          <a:off x="1258920" y="4005360"/>
          <a:ext cx="7338960" cy="71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005360"/>
                    <a:ext cx="733896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12"/>
          <p:cNvGraphicFramePr/>
          <p:nvPr/>
        </p:nvGraphicFramePr>
        <p:xfrm>
          <a:off x="395280" y="5516640"/>
          <a:ext cx="8215200" cy="64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5516640"/>
                    <a:ext cx="82152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14"/>
          <p:cNvSpPr/>
          <p:nvPr/>
        </p:nvSpPr>
        <p:spPr>
          <a:xfrm>
            <a:off x="0" y="3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324000" y="4869000"/>
            <a:ext cx="16556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T=const,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R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2"/>
          <p:cNvGraphicFramePr/>
          <p:nvPr/>
        </p:nvGraphicFramePr>
        <p:xfrm>
          <a:off x="6551640" y="1125360"/>
          <a:ext cx="2592360" cy="33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51640" y="1125360"/>
                    <a:ext cx="259236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5" name="Прямая со стрелкой 17"/>
          <p:cNvCxnSpPr/>
          <p:nvPr/>
        </p:nvCxnSpPr>
        <p:spPr>
          <a:xfrm flipH="1">
            <a:off x="2700000" y="1125000"/>
            <a:ext cx="3744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Прямая со стрелкой 19"/>
          <p:cNvCxnSpPr/>
          <p:nvPr/>
        </p:nvCxnSpPr>
        <p:spPr>
          <a:xfrm flipH="1">
            <a:off x="2555640" y="835560"/>
            <a:ext cx="295344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Прямая со стрелкой 21"/>
          <p:cNvCxnSpPr/>
          <p:nvPr/>
        </p:nvCxnSpPr>
        <p:spPr>
          <a:xfrm>
            <a:off x="3492360" y="1267920"/>
            <a:ext cx="648360" cy="505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8" name="Прямая соединительная линия 4"/>
          <p:cNvSpPr/>
          <p:nvPr/>
        </p:nvSpPr>
        <p:spPr>
          <a:xfrm>
            <a:off x="1258920" y="2708280"/>
            <a:ext cx="331308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2"/>
          <p:cNvSpPr/>
          <p:nvPr/>
        </p:nvSpPr>
        <p:spPr>
          <a:xfrm>
            <a:off x="4067280" y="5373720"/>
            <a:ext cx="4825800" cy="914400"/>
          </a:xfrm>
          <a:prstGeom prst="ellipse">
            <a:avLst/>
          </a:prstGeom>
          <a:solidFill>
            <a:srgbClr val="ffff00">
              <a:alpha val="1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"/>
          <p:cNvSpPr/>
          <p:nvPr/>
        </p:nvSpPr>
        <p:spPr>
          <a:xfrm>
            <a:off x="46836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е два слагаемых определяет энергию взаимодействия дефекта с упругим по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"/>
          <p:cNvGraphicFramePr/>
          <p:nvPr/>
        </p:nvGraphicFramePr>
        <p:xfrm>
          <a:off x="1763640" y="1197000"/>
          <a:ext cx="628164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" descr=""/>
                  <p:cNvPicPr/>
                  <p:nvPr/>
                </p:nvPicPr>
                <p:blipFill>
                  <a:blip r:embed="rId2">
                    <a:alphaModFix amt="15000"/>
                  </a:blip>
                  <a:stretch/>
                </p:blipFill>
                <p:spPr>
                  <a:xfrm>
                    <a:off x="1763640" y="1197000"/>
                    <a:ext cx="62816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Прямоугольник 5"/>
          <p:cNvSpPr/>
          <p:nvPr/>
        </p:nvSpPr>
        <p:spPr>
          <a:xfrm>
            <a:off x="372960" y="206064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ефект, находящийся в то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3"/>
          <p:cNvGraphicFramePr/>
          <p:nvPr/>
        </p:nvGraphicFramePr>
        <p:xfrm>
          <a:off x="3995640" y="2060640"/>
          <a:ext cx="21600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2060640"/>
                    <a:ext cx="21600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Прямоугольник 8"/>
          <p:cNvSpPr/>
          <p:nvPr/>
        </p:nvSpPr>
        <p:spPr>
          <a:xfrm>
            <a:off x="484200" y="242100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нем дефект на велич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5"/>
          <p:cNvGraphicFramePr/>
          <p:nvPr/>
        </p:nvGraphicFramePr>
        <p:xfrm>
          <a:off x="3564000" y="2421000"/>
          <a:ext cx="326880" cy="28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2421000"/>
                    <a:ext cx="3268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1979640" y="2852640"/>
          <a:ext cx="2108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2852640"/>
                    <a:ext cx="2108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9"/>
          <p:cNvGraphicFramePr/>
          <p:nvPr/>
        </p:nvGraphicFramePr>
        <p:xfrm>
          <a:off x="5292720" y="2924280"/>
          <a:ext cx="1681200" cy="433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92720" y="2924280"/>
                    <a:ext cx="16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11"/>
          <p:cNvGraphicFramePr/>
          <p:nvPr/>
        </p:nvGraphicFramePr>
        <p:xfrm>
          <a:off x="95400" y="3459240"/>
          <a:ext cx="400032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12">
                    <a:alphaModFix amt="15000"/>
                  </a:blip>
                  <a:stretch/>
                </p:blipFill>
                <p:spPr>
                  <a:xfrm>
                    <a:off x="95400" y="3459240"/>
                    <a:ext cx="4000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13"/>
          <p:cNvSpPr/>
          <p:nvPr/>
        </p:nvSpPr>
        <p:spPr>
          <a:xfrm>
            <a:off x="4095720" y="354492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–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сила, с которой упруго деформированный кристалл действует на деф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539640" y="4160520"/>
            <a:ext cx="78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идно, точечный дефект взаимодействует с упругим полем двояким образ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С одной стороны дефект выступает как источник дилатации, это отражено в первом слагаемом линейном по деформац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другой стороны дефект проявляет себя как локальная неоднородность упругих свойств, что передает второе (квадратичное по деформациям) слагаем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е слагаемое называют 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размерным эффект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а второе –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модульным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эф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18"/>
          <p:cNvSpPr/>
          <p:nvPr/>
        </p:nvSpPr>
        <p:spPr>
          <a:xfrm>
            <a:off x="971640" y="1125360"/>
            <a:ext cx="7848360" cy="914400"/>
          </a:xfrm>
          <a:prstGeom prst="ellipse">
            <a:avLst/>
          </a:prstGeom>
          <a:solidFill>
            <a:srgbClr val="ffff00">
              <a:alpha val="1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4:10:37Z</dcterms:created>
  <dc:creator>Nick</dc:creator>
  <dc:description/>
  <dc:language>en-US</dc:language>
  <cp:lastModifiedBy>Пользователь</cp:lastModifiedBy>
  <dcterms:modified xsi:type="dcterms:W3CDTF">2013-03-13T09:21:15Z</dcterms:modified>
  <cp:revision>41</cp:revision>
  <dc:subject/>
  <dc:title>Слайд 1</dc:title>
</cp:coreProperties>
</file>