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3D9D3-1D68-441B-8FCA-8D19A0D68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8BAFC-683D-4DAC-B93F-97BDF9E5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0D541-D4F2-4FFC-9FFA-CC7FFCEFE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5DF79-808F-4670-98DD-427656CD1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31ED-5E65-4BC0-8317-DC607067B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0DC7-AAAF-4BF5-B3AD-D1BBA1B0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6788-71B6-4EF7-AE61-1985BACE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5E5E-D09E-4F0C-9B66-2FBDBB6D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BC60-9A2D-4EFD-9BFA-58FD09C2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9AA5-8F05-42CE-AF37-E954EE69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0111-3784-492D-9ABE-EFF4F508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3E1EF-1C58-412E-A260-C2B900CE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8C85-72FD-4817-9EA2-1AFFE136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86FE-FC31-4DEE-93C1-6FF77A91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2417-46AE-4047-A476-004522B0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2045-4770-470B-95EB-0E8E8ABA3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5E99-14A8-4A1D-9817-5F0E9067C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F7A4E-8655-4216-8EFD-7C5B2807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0EC34-7AAF-420E-9478-A5C6A2F6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BC45E-126A-4D75-B24B-134EB236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A73CB-2507-4733-9FEF-5C0D6334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DE82E-5184-44F3-AAF7-B8B9D780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329A2-4D58-457B-A451-BDD528AD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57D07-021F-4399-9171-2E438CD4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3B26-B884-4BE7-8D01-71A0BA43DD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875d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791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bfa673"/>
                </a:gs>
                <a:gs pos="100000">
                  <a:srgbClr val="a18c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875d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791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bfa673"/>
                </a:gs>
                <a:gs pos="100000">
                  <a:srgbClr val="a18c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4C4B-95A6-4AA9-A70D-49F525BA6C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886200" y="2209680"/>
            <a:ext cx="472428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рок черч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8 клас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3429000" cy="3063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175280" y="3724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6e3aa"/>
                </a:solidFill>
                <a:latin typeface="Garamond"/>
              </a:rPr>
              <a:t>10.Начертите куб в изометрической проекции и впишите в каждый ромб овал</a:t>
            </a:r>
            <a:r>
              <a:rPr b="1" lang="en-US" sz="4000" spc="-1" strike="noStrike">
                <a:solidFill>
                  <a:srgbClr val="e6e3aa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302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480"/>
                            </p:stCondLst>
                            <p:childTnLst>
                              <p:par>
                                <p:cTn id="1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6e3aa"/>
                </a:solidFill>
                <a:latin typeface="Garamond"/>
              </a:rPr>
              <a:t>11. Начертите геометрическое тело - цилиндр</a:t>
            </a:r>
            <a:endParaRPr b="1" lang="en-US" sz="28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8224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60"/>
                            </p:stCondLst>
                            <p:childTnLst>
                              <p:par>
                                <p:cTn id="18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Проверь себя.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 называется окружность выполненная в осях изометрии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к называется геометрическая  фигура при вычерчивании квадрата в осях изометрии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колько центров надо найти при вычерчивании овала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ем на чертеже являются точки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b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, с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 rot="5400000">
            <a:off x="4357800" y="4937760"/>
            <a:ext cx="53352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e3aa"/>
                </a:solidFill>
                <a:latin typeface="Garamond"/>
              </a:rPr>
              <a:t>Автор проекта: Косова О.М. учитель черчения СОШ № 1 </a:t>
            </a:r>
            <a:br>
              <a:rPr sz="4000"/>
            </a:br>
            <a:r>
              <a:rPr b="1" lang="en-US" sz="4000" spc="-1" strike="noStrike">
                <a:solidFill>
                  <a:srgbClr val="e6e3aa"/>
                </a:solidFill>
                <a:latin typeface="Garamond"/>
              </a:rPr>
              <a:t>г. Усинска</a:t>
            </a:r>
            <a:endParaRPr b="1" lang="en-US" sz="40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565488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e6e3aa"/>
                </a:solidFill>
                <a:latin typeface="Garamond"/>
              </a:rPr>
              <a:t>Проекция окружности в аксонометрии</a:t>
            </a:r>
            <a:endParaRPr b="1" lang="en-US" sz="9600" spc="-1" strike="noStrike">
              <a:solidFill>
                <a:srgbClr val="e6e3aa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Цели урока: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крепить знания и умения по построению аксонометрических проекций геометрических фигур и плоскогранных предметов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звивать приемы работы с циркулем и линейкой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ормировать умения в построении аксонометрических проекций окружност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спитывать аккуратность и точность при выполнении рабо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e3aa"/>
                </a:solidFill>
                <a:latin typeface="Garamond"/>
              </a:rPr>
              <a:t>        </a:t>
            </a:r>
            <a:r>
              <a:rPr b="1" lang="en-US" sz="3200" spc="-1" strike="noStrike">
                <a:solidFill>
                  <a:srgbClr val="e6e3aa"/>
                </a:solidFill>
                <a:latin typeface="Garamond"/>
              </a:rPr>
              <a:t>Задание:</a:t>
            </a:r>
            <a:br>
              <a:rPr sz="3200"/>
            </a:br>
            <a:r>
              <a:rPr b="1" lang="en-US" sz="3200" spc="-1" strike="noStrike">
                <a:solidFill>
                  <a:srgbClr val="e6e3aa"/>
                </a:solidFill>
                <a:latin typeface="Garamond"/>
              </a:rPr>
              <a:t>1. Начертите оси изометрии (оси проходят под углом 30* к линии горизонта)</a:t>
            </a:r>
            <a:endParaRPr b="1" lang="en-US" sz="32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371600" y="2666880"/>
            <a:ext cx="6172200" cy="36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880"/>
                            </p:stCondLst>
                            <p:childTnLst>
                              <p:par>
                                <p:cTn id="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2.Начертите квадрат в изометрии</a:t>
            </a:r>
            <a:br>
              <a:rPr sz="2800"/>
            </a:b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(сторона квадрата 80 мм)</a:t>
            </a:r>
            <a:br>
              <a:rPr sz="2800"/>
            </a:b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3. Найдите точки сопряжения дуг (точки пересечения осей и сторон квадрата- а,</a:t>
            </a:r>
            <a:r>
              <a:rPr b="1" lang="en-US" sz="2800" spc="-1" strike="noStrike">
                <a:solidFill>
                  <a:srgbClr val="e6e3aa"/>
                </a:solidFill>
                <a:latin typeface="Garamond"/>
              </a:rPr>
              <a:t>b</a:t>
            </a: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,</a:t>
            </a:r>
            <a:r>
              <a:rPr b="1" lang="en-US" sz="2800" spc="-1" strike="noStrike">
                <a:solidFill>
                  <a:srgbClr val="e6e3aa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,</a:t>
            </a:r>
            <a:r>
              <a:rPr b="1" lang="en-US" sz="2800" spc="-1" strike="noStrike">
                <a:solidFill>
                  <a:srgbClr val="e6e3aa"/>
                </a:solidFill>
                <a:latin typeface="Garamond"/>
              </a:rPr>
              <a:t>d</a:t>
            </a: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)</a:t>
            </a:r>
            <a:br>
              <a:rPr sz="2800"/>
            </a:b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4.Найдите центры  больших дуг (А,В)</a:t>
            </a:r>
            <a:endParaRPr b="1" lang="en-US" sz="28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86000" y="2819520"/>
            <a:ext cx="42670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200"/>
                            </p:stCondLst>
                            <p:childTnLst>
                              <p:par>
                                <p:cTn id="9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5.Из вершин А и В проводят дуги радиусом </a:t>
            </a:r>
            <a:r>
              <a:rPr b="1" lang="en-US" sz="2800" spc="-1" strike="noStrike">
                <a:solidFill>
                  <a:srgbClr val="e6e3aa"/>
                </a:solidFill>
                <a:latin typeface="Garamond"/>
              </a:rPr>
              <a:t>R</a:t>
            </a: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=Ас=А</a:t>
            </a:r>
            <a:r>
              <a:rPr b="1" lang="en-US" sz="2800" spc="-1" strike="noStrike">
                <a:solidFill>
                  <a:srgbClr val="e6e3aa"/>
                </a:solidFill>
                <a:latin typeface="Garamond"/>
              </a:rPr>
              <a:t>d</a:t>
            </a: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=Ва=В</a:t>
            </a:r>
            <a:r>
              <a:rPr b="1" lang="en-US" sz="2800" spc="-1" strike="noStrike">
                <a:solidFill>
                  <a:srgbClr val="e6e3aa"/>
                </a:solidFill>
                <a:latin typeface="Garamond"/>
              </a:rPr>
              <a:t>b</a:t>
            </a:r>
            <a:endParaRPr b="1" lang="en-US" sz="28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56884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880"/>
                            </p:stCondLst>
                            <p:childTnLst>
                              <p:par>
                                <p:cTn id="1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6e3aa"/>
                </a:solidFill>
                <a:latin typeface="Garamond"/>
              </a:rPr>
              <a:t>6</a:t>
            </a: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 Соедините точки </a:t>
            </a:r>
            <a:r>
              <a:rPr b="1" lang="en-US" sz="2800" spc="-1" strike="noStrike">
                <a:solidFill>
                  <a:srgbClr val="e6e3aa"/>
                </a:solidFill>
                <a:latin typeface="Garamond"/>
              </a:rPr>
              <a:t>B</a:t>
            </a: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 и </a:t>
            </a:r>
            <a:r>
              <a:rPr b="1" lang="en-US" sz="2800" spc="-1" strike="noStrike">
                <a:solidFill>
                  <a:srgbClr val="e6e3aa"/>
                </a:solidFill>
                <a:latin typeface="Garamond"/>
              </a:rPr>
              <a:t>b</a:t>
            </a: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, В и а, </a:t>
            </a:r>
            <a:br>
              <a:rPr sz="2800"/>
            </a:b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7. Найдите центры  </a:t>
            </a:r>
            <a:r>
              <a:rPr b="1" lang="en-US" sz="2800" spc="-1" strike="noStrike">
                <a:solidFill>
                  <a:srgbClr val="e6e3aa"/>
                </a:solidFill>
                <a:latin typeface="Garamond"/>
              </a:rPr>
              <a:t>D</a:t>
            </a: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 и С малых дуг</a:t>
            </a:r>
            <a:endParaRPr b="1" lang="en-US" sz="28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476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40"/>
                            </p:stCondLst>
                            <p:childTnLst>
                              <p:par>
                                <p:cTn id="1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8. Радиусом </a:t>
            </a:r>
            <a:r>
              <a:rPr b="1" lang="en-US" sz="2800" spc="-1" strike="noStrike">
                <a:solidFill>
                  <a:srgbClr val="e6e3aa"/>
                </a:solidFill>
                <a:latin typeface="Garamond"/>
              </a:rPr>
              <a:t>r</a:t>
            </a: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 =</a:t>
            </a:r>
            <a:r>
              <a:rPr b="1" lang="en-US" sz="2800" spc="-1" strike="noStrike">
                <a:solidFill>
                  <a:srgbClr val="e6e3aa"/>
                </a:solidFill>
                <a:latin typeface="Garamond"/>
              </a:rPr>
              <a:t>Db=Dc=Ca=Cd </a:t>
            </a: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проведите дуги.</a:t>
            </a:r>
            <a:br>
              <a:rPr sz="2800"/>
            </a:b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9. У вас получился овал - замкнутая кривая, очерченная дугами окружностей.</a:t>
            </a:r>
            <a:endParaRPr b="1" lang="en-US" sz="28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17220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120"/>
                            </p:stCondLst>
                            <p:childTnLst>
                              <p:par>
                                <p:cTn id="1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сов Антон Александрович</cp:lastModifiedBy>
  <dcterms:modified xsi:type="dcterms:W3CDTF">2007-03-20T13:38:3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