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02AB-468A-4714-82B2-496D6F69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6B6D-B1A8-4C56-AC93-D3BDD24A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B15B-A90C-4164-97F0-A5331630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7FE1-45B6-41A4-AEA0-A5FD9FA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766E-DFE2-41A3-ACEF-D6F789B8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035-0D89-4DCE-9669-FBBF1AB5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5ED0-306E-4617-8A22-2BD821F1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58F-CC58-477D-BEDB-670CFE7D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64D-0A95-4AA3-AE77-F364D45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561-EF3E-4C38-B285-D6075ED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5F1D-8983-4AD0-9133-AB3D5D4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36CB-09A4-42B7-ABF8-E8C943AD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0AD-15B3-4540-8190-E96DF20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BC2-D668-4C19-8224-522EB47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C9D4-6529-49BA-B1F1-8F39DF1D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516-C274-46EB-B6FF-164DEEB7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835B-E9D3-4641-84C8-52E7FE55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6C77-190B-44E3-AE00-37BE5306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DD6FA-1C72-4E91-B8E0-6B9D12C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221B-AFCA-4CF7-9E90-3372F2A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3410-D309-4486-BB5C-6445D8E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6BC7-8006-4AEE-A430-4A520CF8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5133-687D-49F6-BC48-3FF04C0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1DD8-BC07-4B68-B2B5-AA6EEBC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097-C7BA-4E29-8BC2-FBDB4873D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F51-1888-43B9-A610-52134FA4A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6200" y="2209680"/>
            <a:ext cx="47242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 чер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429000" cy="306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75280" y="372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0.Начертите куб в изометрической проекции и впишите в каждый ромб овал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30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8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1. Начертите геометрическое тело - цилиндр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6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роверь себя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окружность выполненная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геометрическая  фигура при вычерчивании квадрата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центров надо найти при вычерчивании ова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на чертеже являются точк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с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5400000">
            <a:off x="4357800" y="4937760"/>
            <a:ext cx="5335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Автор проекта: Косова О.М. учитель черчения СОШ № 1 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г. Усинск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6548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6e3aa"/>
                </a:solidFill>
                <a:latin typeface="Garamond"/>
              </a:rPr>
              <a:t>Проекция окружности в аксонометрии</a:t>
            </a:r>
            <a:endParaRPr b="1" lang="en-US" sz="96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Цели урока: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епить знания и умения по построению аксонометрических проекций геометрических фигур и плоскогранных предмет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вать приемы работы с циркулем и линейк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ть умения в построении аксонометрических проекций окруж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ывать аккуратность и точность при выполнении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Задание:</a:t>
            </a:r>
            <a:br>
              <a:rPr sz="3200"/>
            </a:b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1. Начертите оси изометрии (оси проходят под углом 30* к линии горизонта)</a:t>
            </a:r>
            <a:endParaRPr b="1" lang="en-US" sz="32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17220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8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2.Начертите квадрат в изометрии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(сторона квадрата 80 мм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3. Найдите точки сопряжения дуг (точки пересечения осей и сторон квадрата- а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4.Найдите центры  больших дуг (А,В)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267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2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5.Из вершин А и В проводят дуги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Ас=А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Ва=В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5688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8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6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Соедините точк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 В и а, 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7. Найдите центры 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С малых дуг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4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8.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=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b=Dc=Ca=Cd 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проведите дуги.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9. У вас получился овал - замкнутая кривая, очерченная дугами окружностей.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12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сов Антон Александрович</cp:lastModifiedBy>
  <dcterms:modified xsi:type="dcterms:W3CDTF">2007-03-20T13:3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