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DE5E-4E77-42F7-B9A5-94D55968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3EDF-1DD5-4605-8C60-06208DE7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8F6F-9C3F-40C1-A08C-4BB1C0D7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CD63-4509-4B97-B4DD-97939299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3E4E-779B-43C4-B93A-098B283F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499B-4876-4094-9973-7A7E5EF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04DF-999B-4D3E-98E2-35FA148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2189-992C-4478-954C-9BEBD63B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BDB-AFEF-4CF9-857B-FD0AAA5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C4CE-8C24-44EE-BF68-7F03A48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B5EE-5B5E-4DCE-9A53-5B1D9D0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75AC-1DAF-448B-9A8F-B3BFB0E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E59-1D7A-42A0-8D6F-AB8DDDE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E489-59BE-4621-B95F-E30A1F7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825A-B67B-418A-AC2C-C71D254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94B6-144F-4F9E-B44B-A942EF48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95E-56AD-47ED-B09D-50D2B6FA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FA1B-7B82-4E19-9CE7-17C7F96D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97A9-BBAB-4226-9A08-B2266A7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DEFA-EB65-47C9-8E46-F0EBE7EC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D901-1618-459A-BBD7-BA1D08DA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53AA-2347-4FFD-BC9F-786061E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821D-B3C1-49BA-85A6-9A9FD6CA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A966-84FD-4339-9D9A-8944F09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856-5A00-454E-A201-F107589F3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992-69BD-4AE5-8A0E-519558937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6200" y="2209680"/>
            <a:ext cx="47242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 чер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429000" cy="306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75280" y="3724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10.Начертите куб в изометрической проекции и впишите в каждый ромб овал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30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8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11. Начертите геометрическое тело - цилиндр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6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роверь себя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окружность выполненная в осях изометр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геометрическая  фигура при вычерчивании квадрата в осях изометр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лько центров надо найти при вычерчивании ова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на чертеже являются точк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с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5400000">
            <a:off x="4357800" y="4937760"/>
            <a:ext cx="5335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Автор проекта: Косова О.М. учитель черчения СОШ № 1 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г. Усинск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6548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6e3aa"/>
                </a:solidFill>
                <a:latin typeface="Garamond"/>
              </a:rPr>
              <a:t>Проекция окружности в аксонометрии</a:t>
            </a:r>
            <a:endParaRPr b="1" lang="en-US" sz="96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Цели урока: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репить знания и умения по построению аксонометрических проекций геометрических фигур и плоскогранных предмет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вать приемы работы с циркулем и линейк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ть умения в построении аксонометрических проекций окруж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ывать аккуратность и точность при выполнении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Задание:</a:t>
            </a:r>
            <a:br>
              <a:rPr sz="3200"/>
            </a:b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1. Начертите оси изометрии (оси проходят под углом 30* к линии горизонта)</a:t>
            </a:r>
            <a:endParaRPr b="1" lang="en-US" sz="32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17220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88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2.Начертите квадрат в изометрии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(сторона квадрата 80 мм)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3. Найдите точки сопряжения дуг (точки пересечения осей и сторон квадрата- а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4.Найдите центры  больших дуг (А,В)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267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2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5.Из вершин А и В проводят дуги радиусом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R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=Ас=А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=Ва=В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5688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8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6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Соедините точки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и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 В и а, 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7. Найдите центры 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и С малых дуг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4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8. Радиусом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r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=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b=Dc=Ca=Cd 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проведите дуги.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9. У вас получился овал - замкнутая кривая, очерченная дугами окружностей.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722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12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сов Антон Александрович</cp:lastModifiedBy>
  <dcterms:modified xsi:type="dcterms:W3CDTF">2007-03-20T13:3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