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4.jpeg" ContentType="image/jpeg"/>
  <Override PartName="/ppt/media/image5.gif" ContentType="image/gif"/>
  <Override PartName="/ppt/media/image6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0" y="0"/>
            <a:ext cx="2955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3886200" y="0"/>
            <a:ext cx="2955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77880"/>
            <a:ext cx="4525920" cy="34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3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0" y="8667720"/>
            <a:ext cx="2955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18B9C-921D-4E51-9634-3057418219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09248-1604-410E-ACFD-5514099703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D0606-D67E-4D64-9F31-15A4DD600C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8077F-F246-4DD7-A8CF-C911D5E633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F5448-A19D-4A37-8F04-87E56029F3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BB957-EAC2-4D35-9565-33609E4D56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E53B6-75DA-4B8A-A131-B4D82FA271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61CFA-D02C-4126-9EC4-901DF9C10D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9EA83-3967-44CA-9E9C-52FA049A51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C684C-2E66-4153-B741-48B3C34544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0EBDC-874A-4452-9C59-6607D66DE6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FE00D-EE17-4B14-BDA9-7BD1F21BC3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99B1C-3CF8-4DC1-9DDA-E8AA755DF1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1676A-88CA-4B64-AF57-24FCC0B9F6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ED0DF-369F-426A-8F5C-2129C12469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78300-FB37-4A20-9AD8-588DBF86AD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B36EC-EA64-4138-BB03-1BDC97F4F2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D6D59-800C-40A5-B525-041ADD7C23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6418B-BF6E-4595-94C8-0C207EB30F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73FB2-5FA2-4BED-B908-9A10A34BDD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895D6-4BE5-4722-B1E0-37100D9EDA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22C08-7590-4548-80E9-7569E056C2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FC00B-2848-4625-9D8A-B1D227984A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FD00D-42FE-494F-A79A-F530CAA788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8DA71-D254-49E5-8836-99B9C1B225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5432C-F617-473A-A6A4-C2793D09E4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B060D-3432-45AC-BF91-6E811732D4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F2A89-AD35-4552-939D-D961E1E717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534EA-6691-4D04-824C-45CC340942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A89F4-4618-4EA7-B60B-3FA71CE9CA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27853-19C2-4371-9FD6-C0E48CB1D2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3DC06-F6DB-4BB8-8A3F-5C256A87C0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9DDA5-EAFA-4266-9489-33087A4382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A164D-26E4-4068-9563-6B85472311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3D267-14E4-48E2-B45D-6B648B30F6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78A41-2547-4F72-A3A5-EFB1102147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66E69-E216-4E4C-98AB-F39A7B83E9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85B9C-AF9C-4770-9BFF-D63EDC5A7D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0D748-F0F2-4F48-B3C3-DF27DA6E4A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3CF6F-74F7-49BF-AE37-01AAEBD4CD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D07BB-58A4-4D68-91E7-FF46535E6F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6EBC2-6A7A-42C8-A110-F9B44500FC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12441-25D8-4B2F-B14D-A7B3ECF709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75B27-2950-4335-A501-A881E6C7CB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4311A-4DAA-48D9-8ACF-32C35B53E4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C492C-5CA0-4AB0-93A8-8B5FF85CE3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8A21F-3559-40F2-ADBB-A2AE814D0B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7AFE7-40FB-4880-9F86-3881356896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0F258-F664-4875-AF27-CBB054788D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9DA0A-B0C8-40E5-A2D2-A825D85F0E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47042-31A1-456C-A335-DDE0592639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18EC5-A153-4592-A585-90FAA37997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C13F1-B5BE-4391-85A5-7391B84412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AEEF8-06D7-4EF8-B1C8-FD71E1F0B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0838C-4473-4EE4-9537-FA3C6E0A54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2689F-B3E4-4C58-8A89-D10E3C14A3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794EC-10AA-4D5B-81AB-4E5195B5B6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10F1A-5BAF-4675-9C29-241C06C3F7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22CD4-0850-4F6C-B3B4-06C4C53964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F9AE1-6768-4547-ABBC-42DEACCC50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744FA-BCB8-4EB6-8328-7412FC61AB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ACA88-BEE1-437C-A590-D34D89DFFD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16FF4-85EE-4188-B381-323863BDEF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A0886-7086-4F5D-A3E4-9DA3A8D076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35F94-D628-4D6E-8705-438891773B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CB095-5744-4A76-A3AB-4CEBBB30D3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8C462-4487-42F1-B904-08AEE4AFB4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39F02-16BD-42F0-8CE6-D6912DA1E9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2F64D-FF9D-4E7F-88C6-F5F37ACFAD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B70DE-B75D-4B1D-B659-B95A007E6B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59199-4DE6-40AD-B42A-AF629F5FD0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C45D8-21CE-47ED-A9D6-2ADF496122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41360" y="914400"/>
            <a:ext cx="4176720" cy="3133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86244-0218-461F-9FDB-859223A401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41360" y="914400"/>
            <a:ext cx="4176720" cy="31338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F4130-C1EC-4F1E-93B0-1F4D439B93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4E25A-1421-4223-9EAB-8A1D119CB5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B274A-A1D7-4461-9AAD-A4FBD31431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DAEAE-851F-4415-89EB-A0101D89AC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EC7AC-D131-4299-862B-7EE41F6472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987DB-AB80-4517-89DF-902B89B012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6D36E-950F-4D10-AB71-DE0DBA0E3C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18A99-C011-41A6-A1AE-BC3C2296A0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6FD3E-CAF6-4FC4-BC5A-104DB48FF6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D681B-D83A-4D5A-BD76-ABF774F475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838DD-24FC-4384-893F-E2E2F5FA84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85F98-FBE9-4748-B739-77C9AA6641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ED83-DC3C-44B8-89D6-5F24BAF1D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7A69-E0EA-4B9A-9518-F2A6F2345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209A-3346-4AC1-A81D-0F8E50B55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3734-8A15-4AC6-84D4-4E1FD59BC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E4C8-93AA-431B-807B-F9630D5F7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6D784-B241-4187-A4D1-09BD3546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DCDF4-13C7-479B-ABC9-76BDCBFD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00E82-72D6-456F-AC3A-8C170CFB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4310F-3132-4AE9-ADEA-D17640F4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8B7A1-C409-46EF-940F-4368E76D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C2E3-65CA-4124-ACC9-5B65966156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B0296-6121-4444-81E6-5988A4C4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1A6AE-8164-4C4A-B9C2-25D9AB24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6AE45-190E-4396-83E5-795E9E25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F39D7-D261-40F2-8989-714A9B41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5AA00-C3E5-4556-A38E-94EAEDA7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2B4C7-142C-4C62-B7F4-DA5D033A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1EF31-F7A9-40DE-87A6-91F0DDFD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D0F7-C717-45CB-A8C9-5E51A6ECF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7D14-51E5-41A5-AA54-A37333183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12FB-979E-40AC-807C-C9BAD0C35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6D35-4A60-4310-A318-F7815CD2E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903A-1DEA-4784-BBEE-A30924B25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57AC-2947-462E-A51E-E8F8D9698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6080" cy="6848640"/>
            <a:chOff x="0" y="0"/>
            <a:chExt cx="9136080" cy="6848640"/>
          </a:xfrm>
        </p:grpSpPr>
        <p:sp>
          <p:nvSpPr>
            <p:cNvPr id="1" name="AutoShape 2"/>
            <p:cNvSpPr/>
            <p:nvPr/>
          </p:nvSpPr>
          <p:spPr>
            <a:xfrm>
              <a:off x="0" y="19080"/>
              <a:ext cx="9132840" cy="51879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187960"/>
                <a:gd name="textAreaBottom" fmla="*/ 5188320 h 518796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236520" y="0"/>
              <a:ext cx="8896320" cy="5140440"/>
            </a:xfrm>
            <a:custGeom>
              <a:avLst/>
              <a:gdLst>
                <a:gd name="textAreaLeft" fmla="*/ 0 w 8896320"/>
                <a:gd name="textAreaRight" fmla="*/ 8896680 w 8896320"/>
                <a:gd name="textAreaTop" fmla="*/ 0 h 5140440"/>
                <a:gd name="textAreaBottom" fmla="*/ 5140440 h 514044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0" y="5445000"/>
              <a:ext cx="6402240" cy="300240"/>
            </a:xfrm>
            <a:custGeom>
              <a:avLst/>
              <a:gdLst>
                <a:gd name="textAreaLeft" fmla="*/ 0 w 6402240"/>
                <a:gd name="textAreaRight" fmla="*/ 6402600 w 64022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6405480" y="5673600"/>
              <a:ext cx="2725920" cy="100080"/>
            </a:xfrm>
            <a:custGeom>
              <a:avLst/>
              <a:gdLst>
                <a:gd name="textAreaLeft" fmla="*/ 0 w 2725920"/>
                <a:gd name="textAreaRight" fmla="*/ 2726280 w 2725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0" y="5910120"/>
              <a:ext cx="7586640" cy="519120"/>
            </a:xfrm>
            <a:custGeom>
              <a:avLst/>
              <a:gdLst>
                <a:gd name="textAreaLeft" fmla="*/ 0 w 7586640"/>
                <a:gd name="textAreaRight" fmla="*/ 7587000 w 75866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7589880" y="5872320"/>
              <a:ext cx="1542960" cy="1569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5740560" y="6051600"/>
              <a:ext cx="3390840" cy="311040"/>
            </a:xfrm>
            <a:custGeom>
              <a:avLst/>
              <a:gdLst>
                <a:gd name="textAreaLeft" fmla="*/ 0 w 3390840"/>
                <a:gd name="textAreaRight" fmla="*/ 3391200 w 33908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6299280"/>
              <a:ext cx="5737320" cy="549360"/>
            </a:xfrm>
            <a:custGeom>
              <a:avLst/>
              <a:gdLst>
                <a:gd name="textAreaLeft" fmla="*/ 0 w 5737320"/>
                <a:gd name="textAreaRight" fmla="*/ 5737680 w 5737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328920" y="6413400"/>
              <a:ext cx="3986280" cy="435240"/>
            </a:xfrm>
            <a:custGeom>
              <a:avLst/>
              <a:gdLst>
                <a:gd name="textAreaLeft" fmla="*/ 0 w 3986280"/>
                <a:gd name="textAreaRight" fmla="*/ 3986280 w 39862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6907320" y="6137280"/>
              <a:ext cx="2224080" cy="596880"/>
            </a:xfrm>
            <a:custGeom>
              <a:avLst/>
              <a:gdLst>
                <a:gd name="textAreaLeft" fmla="*/ 0 w 2224080"/>
                <a:gd name="textAreaRight" fmla="*/ 2224080 w 2224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7980480" y="4997520"/>
              <a:ext cx="1152360" cy="37764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2359080"/>
              <a:ext cx="7977240" cy="2646360"/>
            </a:xfrm>
            <a:custGeom>
              <a:avLst/>
              <a:gdLst>
                <a:gd name="textAreaLeft" fmla="*/ 0 w 7977240"/>
                <a:gd name="textAreaRight" fmla="*/ 7977600 w 7977240"/>
                <a:gd name="textAreaTop" fmla="*/ 0 h 2646360"/>
                <a:gd name="textAreaBottom" fmla="*/ 2646720 h 264636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980480" y="4835520"/>
              <a:ext cx="1152360" cy="50148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1452600"/>
              <a:ext cx="7977240" cy="3463920"/>
            </a:xfrm>
            <a:custGeom>
              <a:avLst/>
              <a:gdLst>
                <a:gd name="textAreaLeft" fmla="*/ 0 w 7977240"/>
                <a:gd name="textAreaRight" fmla="*/ 7977600 w 7977240"/>
                <a:gd name="textAreaTop" fmla="*/ 0 h 3463920"/>
                <a:gd name="textAreaBottom" fmla="*/ 3464280 h 346392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3641760" y="0"/>
              <a:ext cx="5006880" cy="4317840"/>
            </a:xfrm>
            <a:custGeom>
              <a:avLst/>
              <a:gdLst>
                <a:gd name="textAreaLeft" fmla="*/ 0 w 5006880"/>
                <a:gd name="textAreaRight" fmla="*/ 5007240 w 5006880"/>
                <a:gd name="textAreaTop" fmla="*/ 0 h 4317840"/>
                <a:gd name="textAreaBottom" fmla="*/ 4318200 h 431784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8623440" y="4284720"/>
              <a:ext cx="509400" cy="47160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8690040" y="4103640"/>
              <a:ext cx="442800" cy="52884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3892680" y="0"/>
              <a:ext cx="4943520" cy="4243320"/>
            </a:xfrm>
            <a:custGeom>
              <a:avLst/>
              <a:gdLst>
                <a:gd name="textAreaLeft" fmla="*/ 0 w 4943520"/>
                <a:gd name="textAreaRight" fmla="*/ 4943880 w 4943520"/>
                <a:gd name="textAreaTop" fmla="*/ 0 h 4243320"/>
                <a:gd name="textAreaBottom" fmla="*/ 4243320 h 424332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8926560" y="4017960"/>
              <a:ext cx="206280" cy="206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4935600" y="0"/>
              <a:ext cx="3986280" cy="401472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5532480" y="0"/>
              <a:ext cx="3484440" cy="3929040"/>
            </a:xfrm>
            <a:custGeom>
              <a:avLst/>
              <a:gdLst>
                <a:gd name="textAreaLeft" fmla="*/ 0 w 3484440"/>
                <a:gd name="textAreaRight" fmla="*/ 3484800 w 3484440"/>
                <a:gd name="textAreaTop" fmla="*/ 0 h 3929040"/>
                <a:gd name="textAreaBottom" fmla="*/ 3929400 h 392904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9002880" y="3922560"/>
              <a:ext cx="129960" cy="1494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8889840" y="1349280"/>
              <a:ext cx="243000" cy="8161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8102520" y="0"/>
              <a:ext cx="906480" cy="165096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8585280" y="0"/>
              <a:ext cx="538200" cy="1260360"/>
            </a:xfrm>
            <a:custGeom>
              <a:avLst/>
              <a:gdLst>
                <a:gd name="textAreaLeft" fmla="*/ 0 w 538200"/>
                <a:gd name="textAreaRight" fmla="*/ 538200 w 53820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AutoShape 27"/>
            <p:cNvSpPr/>
            <p:nvPr/>
          </p:nvSpPr>
          <p:spPr>
            <a:xfrm>
              <a:off x="9040680" y="1036800"/>
              <a:ext cx="92160" cy="4903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AutoShape 28"/>
            <p:cNvSpPr/>
            <p:nvPr/>
          </p:nvSpPr>
          <p:spPr>
            <a:xfrm>
              <a:off x="3240" y="2541600"/>
              <a:ext cx="9123120" cy="2951280"/>
            </a:xfrm>
            <a:custGeom>
              <a:avLst/>
              <a:gdLst>
                <a:gd name="textAreaLeft" fmla="*/ 0 w 9123120"/>
                <a:gd name="textAreaRight" fmla="*/ 9123480 w 9123120"/>
                <a:gd name="textAreaTop" fmla="*/ 0 h 2951280"/>
                <a:gd name="textAreaBottom" fmla="*/ 2951640 h 295128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AutoShape 29"/>
            <p:cNvSpPr/>
            <p:nvPr/>
          </p:nvSpPr>
          <p:spPr>
            <a:xfrm>
              <a:off x="9129600" y="5524560"/>
              <a:ext cx="6480" cy="61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AutoShape 30"/>
            <p:cNvSpPr/>
            <p:nvPr/>
          </p:nvSpPr>
          <p:spPr>
            <a:xfrm>
              <a:off x="3240" y="3411360"/>
              <a:ext cx="9123120" cy="2119320"/>
            </a:xfrm>
            <a:custGeom>
              <a:avLst/>
              <a:gdLst>
                <a:gd name="textAreaLeft" fmla="*/ 0 w 9123120"/>
                <a:gd name="textAreaRight" fmla="*/ 9123480 w 9123120"/>
                <a:gd name="textAreaTop" fmla="*/ 0 h 2119320"/>
                <a:gd name="textAreaBottom" fmla="*/ 2119320 h 211932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AutoShape 31"/>
            <p:cNvSpPr/>
            <p:nvPr/>
          </p:nvSpPr>
          <p:spPr>
            <a:xfrm>
              <a:off x="3240" y="5038560"/>
              <a:ext cx="9123120" cy="654120"/>
            </a:xfrm>
            <a:custGeom>
              <a:avLst/>
              <a:gdLst>
                <a:gd name="textAreaLeft" fmla="*/ 0 w 9123120"/>
                <a:gd name="textAreaRight" fmla="*/ 9123480 w 912312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AutoShape 32"/>
            <p:cNvSpPr/>
            <p:nvPr/>
          </p:nvSpPr>
          <p:spPr>
            <a:xfrm>
              <a:off x="2057400" y="0"/>
              <a:ext cx="7067520" cy="5035680"/>
            </a:xfrm>
            <a:custGeom>
              <a:avLst/>
              <a:gdLst>
                <a:gd name="textAreaLeft" fmla="*/ 0 w 7067520"/>
                <a:gd name="textAreaRight" fmla="*/ 7067880 w 706752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5267160" y="0"/>
              <a:ext cx="3856320" cy="4141800"/>
            </a:xfrm>
            <a:custGeom>
              <a:avLst/>
              <a:gdLst>
                <a:gd name="textAreaLeft" fmla="*/ 0 w 3856320"/>
                <a:gd name="textAreaRight" fmla="*/ 3856680 w 3856320"/>
                <a:gd name="textAreaTop" fmla="*/ 0 h 4141800"/>
                <a:gd name="textAreaBottom" fmla="*/ 4142160 h 414180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AutoShape 34"/>
            <p:cNvSpPr/>
            <p:nvPr/>
          </p:nvSpPr>
          <p:spPr>
            <a:xfrm>
              <a:off x="6265800" y="0"/>
              <a:ext cx="2860560" cy="3903840"/>
            </a:xfrm>
            <a:custGeom>
              <a:avLst/>
              <a:gdLst>
                <a:gd name="textAreaLeft" fmla="*/ 0 w 2860560"/>
                <a:gd name="textAreaRight" fmla="*/ 2860920 w 2860560"/>
                <a:gd name="textAreaTop" fmla="*/ 0 h 3903840"/>
                <a:gd name="textAreaBottom" fmla="*/ 3904200 h 390384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AutoShape 35"/>
            <p:cNvSpPr/>
            <p:nvPr/>
          </p:nvSpPr>
          <p:spPr>
            <a:xfrm>
              <a:off x="7169040" y="0"/>
              <a:ext cx="1957320" cy="3284640"/>
            </a:xfrm>
            <a:custGeom>
              <a:avLst/>
              <a:gdLst>
                <a:gd name="textAreaLeft" fmla="*/ 0 w 1957320"/>
                <a:gd name="textAreaRight" fmla="*/ 1957680 w 1957320"/>
                <a:gd name="textAreaTop" fmla="*/ 0 h 3284640"/>
                <a:gd name="textAreaBottom" fmla="*/ 3285000 h 328464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AutoShape 36"/>
            <p:cNvSpPr/>
            <p:nvPr/>
          </p:nvSpPr>
          <p:spPr>
            <a:xfrm>
              <a:off x="7446960" y="0"/>
              <a:ext cx="1679400" cy="3067200"/>
            </a:xfrm>
            <a:custGeom>
              <a:avLst/>
              <a:gdLst>
                <a:gd name="textAreaLeft" fmla="*/ 0 w 1679400"/>
                <a:gd name="textAreaRight" fmla="*/ 1679760 w 167940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AutoShape 37"/>
            <p:cNvSpPr/>
            <p:nvPr/>
          </p:nvSpPr>
          <p:spPr>
            <a:xfrm>
              <a:off x="7902720" y="0"/>
              <a:ext cx="1223640" cy="23558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8"/>
            <p:cNvGrpSpPr/>
            <p:nvPr/>
          </p:nvGrpSpPr>
          <p:grpSpPr>
            <a:xfrm>
              <a:off x="0" y="2590920"/>
              <a:ext cx="9128160" cy="2933640"/>
              <a:chOff x="0" y="2590920"/>
              <a:chExt cx="9128160" cy="2933640"/>
            </a:xfrm>
          </p:grpSpPr>
          <p:sp>
            <p:nvSpPr>
              <p:cNvPr id="38" name="AutoShape 39"/>
              <p:cNvSpPr/>
              <p:nvPr/>
            </p:nvSpPr>
            <p:spPr>
              <a:xfrm>
                <a:off x="0" y="2590920"/>
                <a:ext cx="5818320" cy="2076480"/>
              </a:xfrm>
              <a:custGeom>
                <a:avLst/>
                <a:gdLst>
                  <a:gd name="textAreaLeft" fmla="*/ 0 w 5818320"/>
                  <a:gd name="textAreaRight" fmla="*/ 5818680 w 5818320"/>
                  <a:gd name="textAreaTop" fmla="*/ 0 h 2076480"/>
                  <a:gd name="textAreaBottom" fmla="*/ 2076840 h 207648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AutoShape 40"/>
              <p:cNvSpPr/>
              <p:nvPr/>
            </p:nvSpPr>
            <p:spPr>
              <a:xfrm>
                <a:off x="5783400" y="4429080"/>
                <a:ext cx="3344760" cy="1095480"/>
              </a:xfrm>
              <a:custGeom>
                <a:avLst/>
                <a:gdLst>
                  <a:gd name="textAreaLeft" fmla="*/ 0 w 3344760"/>
                  <a:gd name="textAreaRight" fmla="*/ 3345120 w 334476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1835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2"/>
          <p:cNvSpPr/>
          <p:nvPr/>
        </p:nvSpPr>
        <p:spPr>
          <a:xfrm>
            <a:off x="457200" y="6222960"/>
            <a:ext cx="2117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3"/>
          <p:cNvSpPr/>
          <p:nvPr/>
        </p:nvSpPr>
        <p:spPr>
          <a:xfrm>
            <a:off x="3124080" y="6230880"/>
            <a:ext cx="28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2040"/>
            <a:ext cx="20876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311D6A-80B3-400E-93D0-238A15006787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1835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040" y="579240"/>
            <a:ext cx="78026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2040" y="1904760"/>
            <a:ext cx="7802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6466AC-6D80-423E-AC82-8238D7ECE1BA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571680" y="360360"/>
            <a:ext cx="8069040" cy="6497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80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565200" y="549360"/>
            <a:ext cx="79185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ческие задачи как средство гуманизации обучения учащихся на уроках химии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Составитель: Савченко А.Н.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читель химии и би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Березняковской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5580000" y="431964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7380360" y="475452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"/>
          <p:cNvSpPr/>
          <p:nvPr/>
        </p:nvSpPr>
        <p:spPr>
          <a:xfrm>
            <a:off x="684360" y="81000"/>
            <a:ext cx="457200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.К.Бабанский отмечал: «Наличие интереса положительно влияет на весь характер психической деятельности личности, поднимает ее на более высокую, качественно новую ступень. Когда активизируются мыслительные процессы: память, внимание, воображение – открываются благоприятные возможности для более глубокого овладения знаниями. Чтобы познавательная задача не только требовала размышления учащихся, но и глубоко заинтересовала их, учителя используют некоторые, так называемые универсальные эффекты возбуждения интереса к теме, в том числе занимательности, удивления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6659640" y="5040360"/>
          <a:ext cx="2160360" cy="16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5040360"/>
                    <a:ext cx="21603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Прямоугольник 1"/>
          <p:cNvSpPr/>
          <p:nvPr/>
        </p:nvSpPr>
        <p:spPr>
          <a:xfrm>
            <a:off x="2286000" y="119160"/>
            <a:ext cx="4572000" cy="65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на система занятий по теме «Водород», «Кисород», «Периодический закон и периодическая система Д.И.Менделеева», изучаемые в 8 клас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о-методический комплект: Н.Н.Гара. Химия. Рабочие программы. Предметная линия учебников Г.Е.Рудзитис, Ф.Г.Фельдман 8-9 классы. Москва: «Просвещение». 2011г. Г.Е.Рудзитис,Ф.Г.Фельдман Неорганическая химия. Учебник для 8класса общеобразовательных учреждений. Москва: «Просвещение», 2010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79280" y="1440000"/>
            <a:ext cx="93600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6937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делены элементы знани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6937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азана последова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6937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ования различных видов задач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11280" y="2700360"/>
            <a:ext cx="81374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чителя очень важно вызвать яркий эмоциональный отклик в душе ученика. Так как это побуждает учиться с интересом, вовлекает в активную работу, включает в процесс поз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962000" y="344520"/>
            <a:ext cx="5239080" cy="23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60360" y="1979640"/>
            <a:ext cx="75596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уроках использую занимательные факты из жизни ученых-химиков, легенды и предания об открытиях некоторых веществ и элементов, загадки о химических веществах, их свойствах и явлениях, о химических терминах и формулах. Я много лет собираю занимательные факты из разных источников, некоторые из них рифмую, облекая в стихотворную форму, так как практика показывает, что это позволяет активизировать внимание учащихся на уро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190476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ание каждого учителя – привить интерес и любовь к предмету. Как бы не проводился урок химии, поток информации очень велик, термины, определения, формулы – все это создает перегрузку, а значит, ухудшается усвоение материала. Снять усталость, эмоционально настроить учащихся на дальнейшую работу помогает художественное, литературное оформление урока хим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3060720" y="4319640"/>
            <a:ext cx="25192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25440" y="1773360"/>
            <a:ext cx="864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часто использую стихотворения, предлагаемые в методических пособиях, но и большое их количество пишу сама. В данном проекте так же представлены мои сти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879640" y="4149720"/>
            <a:ext cx="306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60360" y="144000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-189000" y="-146160"/>
            <a:ext cx="8650440" cy="57610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"/>
          <p:cNvSpPr/>
          <p:nvPr/>
        </p:nvSpPr>
        <p:spPr>
          <a:xfrm>
            <a:off x="2286000" y="1494000"/>
            <a:ext cx="4572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 flipV="1">
            <a:off x="971640" y="4940640"/>
            <a:ext cx="6913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2286000" y="119160"/>
            <a:ext cx="4572000" cy="65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ор ботаники, врач Резерфорд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удьба с ним сыграла интересную штук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л газ «удушливый» в воздух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 тех по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ым-химиком вошел в мировую нау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ал азотом этот 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 Лавуазь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зжизненным» - признал он элемен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й уступает кислороду, углероду, водороду, лишь, - в бел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ется основой каждого фермента. (8 класс, тема «Получение азота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0"/>
            <a:ext cx="878508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мбургский купец – Бранд Хенни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дежде избежать в финансах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оре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л счастие пытать в алхим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 сохранить свои вла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л найти 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философский камень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в золото – металлы обращ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этого – «мочу – в огонь и пламень!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ом с углем, песком, осадок тот меш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воздуха, в запаянной ретор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ойчиво и долго нагревае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, бог и дьявол, меж собой не спорь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т оно чудо! Светится, сия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белый фосфор был открыт случай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ес успех тот опыт и вознагражден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ил купец-алхимик свято эту тай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роже золота он продавал изобретенье.(8-9 класс. «Азот и фосфор»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571680" y="360360"/>
            <a:ext cx="8069040" cy="6119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80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61800" y="1808280"/>
            <a:ext cx="791856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образования на современном этапе развития России определяется задачами ее перехода к демократическому и правовому государству, к рыночной экономике, необходимостью преодоления опасности отставания страны от мировых тенденций экономического и общественного развития. Основные принципы образовательной политики России определены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ой доктрине образования в Российской Федерации до 2025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получили своё закрепление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е Российской Федерации «Об образовании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еральном законе «О высшем и послевузовском профессиональном образован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-225360" y="1208160"/>
            <a:ext cx="8820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499080" y="3141720"/>
            <a:ext cx="2394000" cy="32637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1"/>
          <p:cNvSpPr/>
          <p:nvPr/>
        </p:nvSpPr>
        <p:spPr>
          <a:xfrm>
            <a:off x="611280" y="84240"/>
            <a:ext cx="6102360" cy="62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з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оза отшумела, дышится легк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зрачен воздух, напоенный свеже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сле страшной бури – удивительно светл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койно, радостно, и наполняет нежно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чувство это – результат реакции химическ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слород----------молнии разряд-------озон – процесс эндотерм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ует жизни двуликий оз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ийца живого – необходим для жизни 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8 класс, «Аллотропные видоизменения кислорода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674640" y="1979640"/>
            <a:ext cx="864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34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281400" y="4680000"/>
            <a:ext cx="2477880" cy="21096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"/>
          <p:cNvSpPr/>
          <p:nvPr/>
        </p:nvSpPr>
        <p:spPr>
          <a:xfrm>
            <a:off x="684360" y="404640"/>
            <a:ext cx="617364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с загадками, на мой взгляд, помогает развивать у школьников наблюдательность, сообразительность и находчивость. Для того, чтобы отгадать загадку ученик должен хорошо знать материал учебника, программы, читать дополнительную литературу.  Предлагаю в проекте материал, который можно использовать на уроках и во внеклассной рабо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2600" y="161928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имеют кисл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их пробовать на вку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если это вдруг случится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же лимонной можно отрав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бесцветное кристаллическое ве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но в нашу жизнь вош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пчик надо посолить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у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трия хлори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480000" y="4859280"/>
            <a:ext cx="216072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ус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олочн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исл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ю я и знаешь 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яженка, кефир, смет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 лучшая рекла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шка не вел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сдаваться не прив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щает врагов в бег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испытанное средств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(муравьиная кислота - это органическая кисло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240000" y="4243320"/>
            <a:ext cx="2238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ты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яют ц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их окрашенных веще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 этом знаем я и 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добавляем в чай лим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растет на нашей гряд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одержит кисл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люблю пирог с ним сладки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ть и щиплет он во р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3341520" y="4800600"/>
            <a:ext cx="2238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11280" y="220680"/>
            <a:ext cx="813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1"/>
          <p:cNvSpPr/>
          <p:nvPr/>
        </p:nvSpPr>
        <p:spPr>
          <a:xfrm>
            <a:off x="2286000" y="119160"/>
            <a:ext cx="4572000" cy="65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алла связь с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дроксогрупп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ждает новое соеди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ы это вещество с водой не пута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дикато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ействуй, для срав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Щёлочь, кислота и соль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ытать среду изв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уй, но не на язык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на кухне ты привы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дикато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бе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краске посмот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 нейтрализации всегд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ль, вода, нейтральная сре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503280" y="143028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адки помогут «оживить»  такие части ур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прос и закрепление изученн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т быть использованы в играх и групповой работ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 же как проблемные зад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ующие прочного знания фактического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360360" y="144000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чественно изменяется характер психи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ятельности личности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зируются мыслительные процессы учащихс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ь, внимание, вообра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растает мотивация к познанию и творче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цессе изучения предметного матер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ют формирование учебно-познава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тентности учащихся в условиях актив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я и эмоционального подъе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89000" y="18900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радой служит т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й трудный предм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мия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имым предметом уче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5580000" y="431964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571680" y="360360"/>
            <a:ext cx="8069040" cy="6119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80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47760" y="1268280"/>
            <a:ext cx="79182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востепенной задачей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достижени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вого, современного качества образования…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 ориентация не только на усвоение обучающимися определенной суммы знаний, но и на развитие его личности, формирование универсальных ЗУН, опыта самостоятельной деятельности…, то есть современных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лючевых  компетентностей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Концепция модернизации Российского образова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60360" y="90000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659640" y="5224320"/>
            <a:ext cx="2219400" cy="14353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2286000" y="806400"/>
            <a:ext cx="457200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условиях реализации национальной образовательной инициативы «Наша новая школа» к современному образованию сегодня предъявляются новые требования, связанные с умением выпускников средней школы ориентироваться в потоке информации, творчески решать возникающие проблемы, применять на практике полученные знания, умения и навы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33400" y="870120"/>
            <a:ext cx="8237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ТРЕБОВАНИЯ К СИСТЕМЕ РОССИЙСКОГО ОБРАЗО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6960" indent="-3222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Школа должна стать важнейшим фактором </a:t>
            </a:r>
            <a:r>
              <a:rPr b="0" lang="ru-RU" sz="2900" spc="-1" strike="noStrike" u="sng">
                <a:solidFill>
                  <a:srgbClr val="280099"/>
                </a:solidFill>
                <a:uFillTx/>
                <a:latin typeface="Times New Roman"/>
              </a:rPr>
              <a:t>гуманизации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общественно-экономических отношений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Развивающемуся обществу нужны люди: предприимчивые, способные к самостоятельному принятию решения, способные к сотрудничеству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659640" y="5224320"/>
            <a:ext cx="2219400" cy="14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68360" y="360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020000" y="468000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835280" y="654120"/>
            <a:ext cx="502272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а учителя − научить творчески мыслить школьников, то есть вооружить таким важным умением, как умение учить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60360" y="1979640"/>
            <a:ext cx="864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2847960" y="4159080"/>
            <a:ext cx="3740040" cy="26402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"/>
          <p:cNvSpPr/>
          <p:nvPr/>
        </p:nvSpPr>
        <p:spPr>
          <a:xfrm>
            <a:off x="755640" y="260280"/>
            <a:ext cx="610236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ую науку достаточно часто рассматривают как источник зла, причиняемого природе, как виновницу экологических катастроф. Злободневность и серьезность экологических проблем не вызывает сомнений. В то же время представляется полезным показать в школьном курсе химии роль науки в становлении и развитии материальной 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ь именно благодаря накоплению и совершенствованию знаний о свойствах веществ и приемах их обработки человеку еще в древности удалось создать керамику, стекло, сплавы и другие материалы, из которых делали не только  бытовые предметы и орудия труда, но и другие великолепные вещи, украшавшие жизнь челове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352872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50920" y="260280"/>
            <a:ext cx="867564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940360" y="4157640"/>
            <a:ext cx="2519280" cy="27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720720" y="4680000"/>
          <a:ext cx="194616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0720" y="4680000"/>
                    <a:ext cx="194616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Прямоугольник 1"/>
          <p:cNvSpPr/>
          <p:nvPr/>
        </p:nvSpPr>
        <p:spPr>
          <a:xfrm>
            <a:off x="2286000" y="463680"/>
            <a:ext cx="457200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анном проекте я обращаюсь лишь к одному возможному направлению гуманизации содержания обучения химии: использованию в учебно-воспитательном процессе преподавания знаний о материалах и веществах, процессах и явлениях в стихотворной форме, как элементе занимательности, приема, повышающего интерес к изучаемому предмету и обеспечивающему активное восприятие учебного матер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закова</dc:creator>
  <dc:description/>
  <dc:language>en-US</dc:language>
  <cp:lastModifiedBy>учитель</cp:lastModifiedBy>
  <dcterms:modified xsi:type="dcterms:W3CDTF">2011-11-27T03:44:07Z</dcterms:modified>
  <cp:revision>85</cp:revision>
  <dc:subject/>
  <dc:title>Анализ проекта [Проект]</dc:title>
</cp:coreProperties>
</file>