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4.jpeg" ContentType="image/jpeg"/>
  <Override PartName="/ppt/media/image5.gif" ContentType="image/gif"/>
  <Override PartName="/ppt/media/image6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0" y="0"/>
            <a:ext cx="2955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3886200" y="0"/>
            <a:ext cx="2955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77880"/>
            <a:ext cx="452592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3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0" y="8667720"/>
            <a:ext cx="2955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308B5-A957-4109-B72C-39007D81D6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48954-08D6-4D03-A515-9ABA068E8D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70954-8EB8-4FC6-AD65-0CCCF278BD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0203F-6D90-41FE-BDD4-622965A74E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1F1FB-5313-4848-9F97-9342D00193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F35FE-1C73-4DEA-B24D-6403039CF2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0DB78-F9B7-4843-8CDD-298A0C3B4E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4C742-7334-4F7A-A330-969556A78E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05A77-412A-4029-B89C-74A07DC63B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B1A45-4C55-4A9B-974F-0B6F933CD9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EC7A5-F723-4934-8C56-E1B95A6F48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B3B3F-8105-480B-8A14-FA0BDA3251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0ED83-0682-42A1-8512-FAF42A1561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F8B62-EDC2-463F-8463-348B91DA56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3AAAD-837E-4AFC-BF8D-8B9319AE71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48258-6939-4413-AA31-C66A7CBF25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1403E-5336-4C1D-9B72-567A17970A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9D566-BAB3-4FC0-B184-DE85409AB9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43590-6046-4ACF-A414-6EF0866E1C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41950-4A87-4EC3-9A3C-956D4F7A18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70B00-169E-49F8-914E-B3D7B62B4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ED7A9-8D68-4B4C-A8D6-4DC5FD9F02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5BFE1-7DA9-4D66-8E28-7285D170EF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3307D-E7E9-4A76-A9BF-2B4C9321B4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F395B-50AA-4985-B467-DCAA72430F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AE905-E721-4912-B473-D08783D7DC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20974-F1DE-4492-9453-3002EE9E80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231B8-0B0B-4AAA-B217-08A8288B50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C3F04-1F72-4DA9-BC8B-104A544F30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50A15-1A63-4058-A327-7A46C7395E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DEBE0-7397-4D42-AE55-E4A31BBA88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9AD09-DC70-4A50-90C9-130A1ACF1A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A0FF1-9015-4DA5-9108-9B6C30AAF7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FC838-8B60-413E-9C1A-31267BE95E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F7342-1F8C-4A32-A641-49A129D6B2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4FD05-AD05-43BF-8402-FF0DC92191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F8FC3-1065-44ED-AE5B-D832F05B6B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929A3-ED8A-42B3-B902-F04BC04324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B5214-8439-466B-A608-56FAEB25D3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CE392-4ABD-4AE8-9955-E3580A5287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FBD2E-3076-43DD-9FA3-D69177CB5B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24C0B-F551-4892-ADC6-175370EDDD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9E965-BFED-4D3D-A021-72A7D0AF50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59E2C-13B2-455A-9F81-36A291CCA5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EA248-ABB3-422F-BFA4-5A99C880A3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844E9-6CAD-47B3-BC3A-61DFE026F3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1C33D-636C-4E8A-A623-DD9B46EDD3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209AD-9251-4474-AC33-390C261435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30CEB-9EAA-4E3A-BB19-A473D51A7E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ACCDD-02BF-4CE6-B342-1F885F203F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D6FD2-A1D9-4900-88E8-F448CA1128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ABF65-4BB8-49E2-A24A-C241DEF478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FFC31-FC93-4861-A067-F3121EA2BA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6CD3A-FBA5-4797-8664-0C3A561ECB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FDCDA-A537-492B-A680-CB3687B40A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1B254-DB9C-4FF2-BBBE-C7886CEFF8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F6263-6A4F-4A45-92E3-D53312F948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F643D-4FFD-4ED8-821E-FE7B108C4D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F4C17-CF9C-4A60-B6FD-E345DD3940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FE808-55EE-47B7-8B05-5FBFE10135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08AC0-1644-4C68-A445-F524E175B8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83F48-63CD-49EE-9796-3609AF06A1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CB293-81E8-4A08-8061-5FFE92B133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25DED-688A-4343-8F88-6A81A3F720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6F42C-0239-45A3-900D-678C6F58D6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971DD-68EC-4CD1-BD13-F17DA15875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FEFD4-0463-4E41-80CC-495832EEA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20AF7-BA73-4E4F-9AF4-03A6526947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5887D-3ADE-4EE5-AE2F-5337FD029B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5A501-CF7A-4ACE-A155-839F73C3A8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E9157-E7F9-4195-AAB1-DDCB029077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A9FE3-61A6-44C6-B6CE-0C9E6F0BE9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41360" y="914400"/>
            <a:ext cx="4176720" cy="3133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BA94F-AAE3-424A-8714-CC852E823F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41360" y="914400"/>
            <a:ext cx="4176720" cy="31338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D3EC3-46F7-4F6A-BBE4-C1DF566C44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3D532-86CD-4A9B-A76F-A6AC34C5A8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752BD-F1EF-4AB4-9EA9-2F5051300E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F524F-6691-4A79-B881-EF71175453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A2E25-2615-4FEB-8378-3DF8D73450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5A9D1-3082-4C6F-81EB-0D08ED8B14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FFB20-0C8C-4641-BEEC-63D589CB03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4116C-1DF7-4A74-AAF4-6C551775F1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F2F01-FFD7-48C9-83AC-05761A758F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B6D47-3CC2-42F0-9469-B4C14663DC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56C79-276B-43CF-A202-F55B58A656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6B012-B90A-4946-A209-5D099A775A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C2E6-43D8-4ED9-A128-D0C6D0D59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AC1F-1574-428A-AA86-DB129F077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BAC4-15E7-4525-9AB1-94FE6A7DB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4537-42DD-4CDE-B8EB-378989FEE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DF87-C38F-4851-B586-5D7CC5E76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DC4F0-D577-4EF4-A394-7A3BC543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E9FF5-A458-4B22-8E91-0DBF8C73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FEE94-51C1-45B6-9FCE-FBE6425C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C4D4E-2B81-4CA7-ABD5-87C990B3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7BD69-42A2-48FE-8A98-05CDF799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C369-8F3B-485D-B285-6358E4A7A7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C5903-6EEB-4503-9D83-514B9A07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6D0BA-C489-465A-9BE4-E9949671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98E36-57FB-49F9-BDF5-08C5BE6A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2BF0D-63E4-4C6C-9CCC-4F365A59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5080A-FA46-441F-B0E9-6B701AFE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FF914-C7A9-4CF2-9626-A798E338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95817-692C-41AC-BDA8-43D92A2D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276E-C017-4725-ADF8-72934E675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993D-9E99-4C72-9726-16F2C5D73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F479-4784-48D4-BAF7-6A7751A76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2EE7-5FCD-4CBB-9B89-09F4D482A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A3B8-FAC8-4F4B-B9F2-DE92E98CD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EE89-1A13-4A0F-8E95-A89FA0678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6080" cy="6848640"/>
            <a:chOff x="0" y="0"/>
            <a:chExt cx="9136080" cy="6848640"/>
          </a:xfrm>
        </p:grpSpPr>
        <p:sp>
          <p:nvSpPr>
            <p:cNvPr id="1" name="AutoShape 2"/>
            <p:cNvSpPr/>
            <p:nvPr/>
          </p:nvSpPr>
          <p:spPr>
            <a:xfrm>
              <a:off x="0" y="19080"/>
              <a:ext cx="9132840" cy="51879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187960"/>
                <a:gd name="textAreaBottom" fmla="*/ 5188320 h 518796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236520" y="0"/>
              <a:ext cx="8896320" cy="5140440"/>
            </a:xfrm>
            <a:custGeom>
              <a:avLst/>
              <a:gdLst>
                <a:gd name="textAreaLeft" fmla="*/ 0 w 8896320"/>
                <a:gd name="textAreaRight" fmla="*/ 8896680 w 8896320"/>
                <a:gd name="textAreaTop" fmla="*/ 0 h 5140440"/>
                <a:gd name="textAreaBottom" fmla="*/ 5140440 h 514044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0" y="5445000"/>
              <a:ext cx="6402240" cy="300240"/>
            </a:xfrm>
            <a:custGeom>
              <a:avLst/>
              <a:gdLst>
                <a:gd name="textAreaLeft" fmla="*/ 0 w 6402240"/>
                <a:gd name="textAreaRight" fmla="*/ 6402600 w 64022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6405480" y="5673600"/>
              <a:ext cx="2725920" cy="100080"/>
            </a:xfrm>
            <a:custGeom>
              <a:avLst/>
              <a:gdLst>
                <a:gd name="textAreaLeft" fmla="*/ 0 w 2725920"/>
                <a:gd name="textAreaRight" fmla="*/ 2726280 w 2725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0" y="5910120"/>
              <a:ext cx="7586640" cy="519120"/>
            </a:xfrm>
            <a:custGeom>
              <a:avLst/>
              <a:gdLst>
                <a:gd name="textAreaLeft" fmla="*/ 0 w 7586640"/>
                <a:gd name="textAreaRight" fmla="*/ 7587000 w 75866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7589880" y="5872320"/>
              <a:ext cx="1542960" cy="1569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5740560" y="6051600"/>
              <a:ext cx="3390840" cy="311040"/>
            </a:xfrm>
            <a:custGeom>
              <a:avLst/>
              <a:gdLst>
                <a:gd name="textAreaLeft" fmla="*/ 0 w 3390840"/>
                <a:gd name="textAreaRight" fmla="*/ 3391200 w 33908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6299280"/>
              <a:ext cx="5737320" cy="549360"/>
            </a:xfrm>
            <a:custGeom>
              <a:avLst/>
              <a:gdLst>
                <a:gd name="textAreaLeft" fmla="*/ 0 w 5737320"/>
                <a:gd name="textAreaRight" fmla="*/ 5737680 w 5737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328920" y="6413400"/>
              <a:ext cx="3986280" cy="435240"/>
            </a:xfrm>
            <a:custGeom>
              <a:avLst/>
              <a:gdLst>
                <a:gd name="textAreaLeft" fmla="*/ 0 w 3986280"/>
                <a:gd name="textAreaRight" fmla="*/ 3986280 w 39862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6907320" y="6137280"/>
              <a:ext cx="2224080" cy="596880"/>
            </a:xfrm>
            <a:custGeom>
              <a:avLst/>
              <a:gdLst>
                <a:gd name="textAreaLeft" fmla="*/ 0 w 2224080"/>
                <a:gd name="textAreaRight" fmla="*/ 2224080 w 2224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7980480" y="4997520"/>
              <a:ext cx="1152360" cy="37764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2359080"/>
              <a:ext cx="7977240" cy="2646360"/>
            </a:xfrm>
            <a:custGeom>
              <a:avLst/>
              <a:gdLst>
                <a:gd name="textAreaLeft" fmla="*/ 0 w 7977240"/>
                <a:gd name="textAreaRight" fmla="*/ 7977600 w 7977240"/>
                <a:gd name="textAreaTop" fmla="*/ 0 h 2646360"/>
                <a:gd name="textAreaBottom" fmla="*/ 2646720 h 264636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980480" y="4835520"/>
              <a:ext cx="1152360" cy="50148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1452600"/>
              <a:ext cx="7977240" cy="3463920"/>
            </a:xfrm>
            <a:custGeom>
              <a:avLst/>
              <a:gdLst>
                <a:gd name="textAreaLeft" fmla="*/ 0 w 7977240"/>
                <a:gd name="textAreaRight" fmla="*/ 7977600 w 7977240"/>
                <a:gd name="textAreaTop" fmla="*/ 0 h 3463920"/>
                <a:gd name="textAreaBottom" fmla="*/ 3464280 h 346392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3641760" y="0"/>
              <a:ext cx="5006880" cy="4317840"/>
            </a:xfrm>
            <a:custGeom>
              <a:avLst/>
              <a:gdLst>
                <a:gd name="textAreaLeft" fmla="*/ 0 w 5006880"/>
                <a:gd name="textAreaRight" fmla="*/ 5007240 w 5006880"/>
                <a:gd name="textAreaTop" fmla="*/ 0 h 4317840"/>
                <a:gd name="textAreaBottom" fmla="*/ 4318200 h 431784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8623440" y="4284720"/>
              <a:ext cx="509400" cy="47160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8690040" y="4103640"/>
              <a:ext cx="442800" cy="5288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3892680" y="0"/>
              <a:ext cx="4943520" cy="4243320"/>
            </a:xfrm>
            <a:custGeom>
              <a:avLst/>
              <a:gdLst>
                <a:gd name="textAreaLeft" fmla="*/ 0 w 4943520"/>
                <a:gd name="textAreaRight" fmla="*/ 4943880 w 4943520"/>
                <a:gd name="textAreaTop" fmla="*/ 0 h 4243320"/>
                <a:gd name="textAreaBottom" fmla="*/ 4243320 h 424332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8926560" y="4017960"/>
              <a:ext cx="206280" cy="206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4935600" y="0"/>
              <a:ext cx="3986280" cy="401472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5532480" y="0"/>
              <a:ext cx="3484440" cy="3929040"/>
            </a:xfrm>
            <a:custGeom>
              <a:avLst/>
              <a:gdLst>
                <a:gd name="textAreaLeft" fmla="*/ 0 w 3484440"/>
                <a:gd name="textAreaRight" fmla="*/ 3484800 w 3484440"/>
                <a:gd name="textAreaTop" fmla="*/ 0 h 3929040"/>
                <a:gd name="textAreaBottom" fmla="*/ 3929400 h 392904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9002880" y="3922560"/>
              <a:ext cx="129960" cy="1494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8889840" y="1349280"/>
              <a:ext cx="243000" cy="8161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8102520" y="0"/>
              <a:ext cx="906480" cy="165096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8585280" y="0"/>
              <a:ext cx="538200" cy="1260360"/>
            </a:xfrm>
            <a:custGeom>
              <a:avLst/>
              <a:gdLst>
                <a:gd name="textAreaLeft" fmla="*/ 0 w 538200"/>
                <a:gd name="textAreaRight" fmla="*/ 538200 w 53820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AutoShape 27"/>
            <p:cNvSpPr/>
            <p:nvPr/>
          </p:nvSpPr>
          <p:spPr>
            <a:xfrm>
              <a:off x="9040680" y="1036800"/>
              <a:ext cx="92160" cy="4903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AutoShape 28"/>
            <p:cNvSpPr/>
            <p:nvPr/>
          </p:nvSpPr>
          <p:spPr>
            <a:xfrm>
              <a:off x="3240" y="2541600"/>
              <a:ext cx="9123120" cy="2951280"/>
            </a:xfrm>
            <a:custGeom>
              <a:avLst/>
              <a:gdLst>
                <a:gd name="textAreaLeft" fmla="*/ 0 w 9123120"/>
                <a:gd name="textAreaRight" fmla="*/ 9123480 w 9123120"/>
                <a:gd name="textAreaTop" fmla="*/ 0 h 2951280"/>
                <a:gd name="textAreaBottom" fmla="*/ 2951640 h 295128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AutoShape 29"/>
            <p:cNvSpPr/>
            <p:nvPr/>
          </p:nvSpPr>
          <p:spPr>
            <a:xfrm>
              <a:off x="9129600" y="5524560"/>
              <a:ext cx="6480" cy="61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AutoShape 30"/>
            <p:cNvSpPr/>
            <p:nvPr/>
          </p:nvSpPr>
          <p:spPr>
            <a:xfrm>
              <a:off x="3240" y="3411360"/>
              <a:ext cx="9123120" cy="2119320"/>
            </a:xfrm>
            <a:custGeom>
              <a:avLst/>
              <a:gdLst>
                <a:gd name="textAreaLeft" fmla="*/ 0 w 9123120"/>
                <a:gd name="textAreaRight" fmla="*/ 9123480 w 9123120"/>
                <a:gd name="textAreaTop" fmla="*/ 0 h 2119320"/>
                <a:gd name="textAreaBottom" fmla="*/ 2119320 h 211932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>
              <a:off x="3240" y="5038560"/>
              <a:ext cx="9123120" cy="654120"/>
            </a:xfrm>
            <a:custGeom>
              <a:avLst/>
              <a:gdLst>
                <a:gd name="textAreaLeft" fmla="*/ 0 w 9123120"/>
                <a:gd name="textAreaRight" fmla="*/ 9123480 w 912312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>
              <a:off x="2057400" y="0"/>
              <a:ext cx="7067520" cy="5035680"/>
            </a:xfrm>
            <a:custGeom>
              <a:avLst/>
              <a:gdLst>
                <a:gd name="textAreaLeft" fmla="*/ 0 w 7067520"/>
                <a:gd name="textAreaRight" fmla="*/ 7067880 w 706752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5267160" y="0"/>
              <a:ext cx="3856320" cy="4141800"/>
            </a:xfrm>
            <a:custGeom>
              <a:avLst/>
              <a:gdLst>
                <a:gd name="textAreaLeft" fmla="*/ 0 w 3856320"/>
                <a:gd name="textAreaRight" fmla="*/ 3856680 w 3856320"/>
                <a:gd name="textAreaTop" fmla="*/ 0 h 4141800"/>
                <a:gd name="textAreaBottom" fmla="*/ 4142160 h 414180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>
              <a:off x="6265800" y="0"/>
              <a:ext cx="2860560" cy="3903840"/>
            </a:xfrm>
            <a:custGeom>
              <a:avLst/>
              <a:gdLst>
                <a:gd name="textAreaLeft" fmla="*/ 0 w 2860560"/>
                <a:gd name="textAreaRight" fmla="*/ 2860920 w 2860560"/>
                <a:gd name="textAreaTop" fmla="*/ 0 h 3903840"/>
                <a:gd name="textAreaBottom" fmla="*/ 3904200 h 390384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>
              <a:off x="7169040" y="0"/>
              <a:ext cx="1957320" cy="3284640"/>
            </a:xfrm>
            <a:custGeom>
              <a:avLst/>
              <a:gdLst>
                <a:gd name="textAreaLeft" fmla="*/ 0 w 1957320"/>
                <a:gd name="textAreaRight" fmla="*/ 1957680 w 1957320"/>
                <a:gd name="textAreaTop" fmla="*/ 0 h 3284640"/>
                <a:gd name="textAreaBottom" fmla="*/ 3285000 h 328464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>
              <a:off x="7446960" y="0"/>
              <a:ext cx="1679400" cy="3067200"/>
            </a:xfrm>
            <a:custGeom>
              <a:avLst/>
              <a:gdLst>
                <a:gd name="textAreaLeft" fmla="*/ 0 w 1679400"/>
                <a:gd name="textAreaRight" fmla="*/ 1679760 w 167940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>
              <a:off x="7902720" y="0"/>
              <a:ext cx="1223640" cy="23558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8"/>
            <p:cNvGrpSpPr/>
            <p:nvPr/>
          </p:nvGrpSpPr>
          <p:grpSpPr>
            <a:xfrm>
              <a:off x="0" y="2590920"/>
              <a:ext cx="9128160" cy="2933640"/>
              <a:chOff x="0" y="2590920"/>
              <a:chExt cx="9128160" cy="2933640"/>
            </a:xfrm>
          </p:grpSpPr>
          <p:sp>
            <p:nvSpPr>
              <p:cNvPr id="38" name="AutoShape 39"/>
              <p:cNvSpPr/>
              <p:nvPr/>
            </p:nvSpPr>
            <p:spPr>
              <a:xfrm>
                <a:off x="0" y="2590920"/>
                <a:ext cx="5818320" cy="2076480"/>
              </a:xfrm>
              <a:custGeom>
                <a:avLst/>
                <a:gdLst>
                  <a:gd name="textAreaLeft" fmla="*/ 0 w 5818320"/>
                  <a:gd name="textAreaRight" fmla="*/ 5818680 w 5818320"/>
                  <a:gd name="textAreaTop" fmla="*/ 0 h 2076480"/>
                  <a:gd name="textAreaBottom" fmla="*/ 2076840 h 207648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AutoShape 40"/>
              <p:cNvSpPr/>
              <p:nvPr/>
            </p:nvSpPr>
            <p:spPr>
              <a:xfrm>
                <a:off x="5783400" y="4429080"/>
                <a:ext cx="3344760" cy="1095480"/>
              </a:xfrm>
              <a:custGeom>
                <a:avLst/>
                <a:gdLst>
                  <a:gd name="textAreaLeft" fmla="*/ 0 w 3344760"/>
                  <a:gd name="textAreaRight" fmla="*/ 3345120 w 334476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1835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2"/>
          <p:cNvSpPr/>
          <p:nvPr/>
        </p:nvSpPr>
        <p:spPr>
          <a:xfrm>
            <a:off x="457200" y="6222960"/>
            <a:ext cx="2117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3"/>
          <p:cNvSpPr/>
          <p:nvPr/>
        </p:nvSpPr>
        <p:spPr>
          <a:xfrm>
            <a:off x="3124080" y="6230880"/>
            <a:ext cx="28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20876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1184EB-C952-4081-A8EA-983ED0F21D5E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1835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040" y="579240"/>
            <a:ext cx="78026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802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B91E03-79C3-4338-B031-009E398807FC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571680" y="360360"/>
            <a:ext cx="8069040" cy="6497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80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565200" y="549360"/>
            <a:ext cx="79185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ческие задачи как средство гуманизации обучения учащихся на уроках химии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Составитель: Савченко А.Н.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читель химии и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Березняковской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5580000" y="431964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7380360" y="475452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"/>
          <p:cNvSpPr/>
          <p:nvPr/>
        </p:nvSpPr>
        <p:spPr>
          <a:xfrm>
            <a:off x="684360" y="81000"/>
            <a:ext cx="457200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.К.Бабанский отмечал: «Наличие интереса положительно влияет на весь характер психической деятельности личности, поднимает ее на более высокую, качественно новую ступень. Когда активизируются мыслительные процессы: память, внимание, воображение – открываются благоприятные возможности для более глубокого овладения знаниями. Чтобы познавательная задача не только требовала размышления учащихся, но и глубоко заинтересовала их, учителя используют некоторые, так называемые универсальные эффекты возбуждения интереса к теме, в том числе занимательности, удивления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6659640" y="5040360"/>
          <a:ext cx="2160360" cy="16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5040360"/>
                    <a:ext cx="21603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Прямоугольник 1"/>
          <p:cNvSpPr/>
          <p:nvPr/>
        </p:nvSpPr>
        <p:spPr>
          <a:xfrm>
            <a:off x="2286000" y="119160"/>
            <a:ext cx="4572000" cy="65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на система занятий по теме «Водород», «Кисород», «Периодический закон и периодическая система Д.И.Менделеева», изучаемые в 8 клас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о-методический комплект: Н.Н.Гара. Химия. Рабочие программы. Предметная линия учебников Г.Е.Рудзитис, Ф.Г.Фельдман 8-9 классы. Москва: «Просвещение». 2011г. Г.Е.Рудзитис,Ф.Г.Фельдман Неорганическая химия. Учебник для 8класса общеобразовательных учреждений. Москва: «Просвещение», 2010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79280" y="1440000"/>
            <a:ext cx="9360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6937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делены элементы знани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6937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азана последова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6937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ования различных видов задач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11280" y="2700360"/>
            <a:ext cx="81374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чителя очень важно вызвать яркий эмоциональный отклик в душе ученика. Так как это побуждает учиться с интересом, вовлекает в активную работу, включает в процесс п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962000" y="344520"/>
            <a:ext cx="5239080" cy="23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60360" y="1979640"/>
            <a:ext cx="75596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уроках использую занимательные факты из жизни ученых-химиков, легенды и предания об открытиях некоторых веществ и элементов, загадки о химических веществах, их свойствах и явлениях, о химических терминах и формулах. Я много лет собираю занимательные факты из разных источников, некоторые из них рифмую, облекая в стихотворную форму, так как практика показывает, что это позволяет активизировать внимание учащихся на уро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190476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ание каждого учителя – привить интерес и любовь к предмету. Как бы не проводился урок химии, поток информации очень велик, термины, определения, формулы – все это создает перегрузку, а значит, ухудшается усвоение материала. Снять усталость, эмоционально настроить учащихся на дальнейшую работу помогает художественное, литературное оформление урока хим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3060720" y="4319640"/>
            <a:ext cx="25192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25440" y="1773360"/>
            <a:ext cx="864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часто использую стихотворения, предлагаемые в методических пособиях, но и большое их количество пишу сама. В данном проекте так же представлены мои сти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879640" y="4149720"/>
            <a:ext cx="306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60360" y="1440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-189000" y="-146160"/>
            <a:ext cx="8650440" cy="57610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"/>
          <p:cNvSpPr/>
          <p:nvPr/>
        </p:nvSpPr>
        <p:spPr>
          <a:xfrm>
            <a:off x="2286000" y="1494000"/>
            <a:ext cx="4572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 flipV="1">
            <a:off x="971640" y="4940640"/>
            <a:ext cx="6913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2286000" y="119160"/>
            <a:ext cx="4572000" cy="65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ор ботаники, врач Резерфорд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удьба с ним сыграла интересную штук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л газ «удушливый» в воздух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 тех по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ым-химиком вошел в мировую нау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ал азотом этот 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 Лавуазь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зжизненным» - признал он элемен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й уступает кислороду, углероду, водороду, лишь, - в бел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ется основой каждого фермента. (8 класс, тема «Получение азот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0"/>
            <a:ext cx="878508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мбургский купец – Бранд Хенни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дежде избежать в финансах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оре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л счастие пытать в алхим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 сохранить свои вла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л найти 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философский камень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в золото – металлы обращ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этого – «мочу – в огонь и пламень!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ом с углем, песком, осадок тот меш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воздуха, в запаянной ретор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ойчиво и долго нагревае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, бог и дьявол, меж собой не спор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оно чудо! Светится, сия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белый фосфор был открыт случай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ес успех тот опыт и вознагражден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ил купец-алхимик свято эту тай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роже золота он продавал изобретенье.(8-9 класс. «Азот и фосфор»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571680" y="360360"/>
            <a:ext cx="8069040" cy="6119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80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61800" y="1808280"/>
            <a:ext cx="791856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образования на современном этапе развития России определяется задачами ее перехода к демократическому и правовому государству, к рыночной экономике, необходимостью преодоления опасности отставания страны от мировых тенденций экономического и общественного развития. Основные принципы образовательной политики России определены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ой доктрине образования в Российской Федерации до 2025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получили своё закрепление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е Российской Федерации «Об образовании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еральном законе «О высшем и послевузовском профессиональном образован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-225360" y="1208160"/>
            <a:ext cx="8820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499080" y="3141720"/>
            <a:ext cx="2394000" cy="32637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1"/>
          <p:cNvSpPr/>
          <p:nvPr/>
        </p:nvSpPr>
        <p:spPr>
          <a:xfrm>
            <a:off x="611280" y="84240"/>
            <a:ext cx="6102360" cy="62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з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оза отшумела, дышится легк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зрачен воздух, напоенный свеже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сле страшной бури – удивительно светл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койно, радостно, и наполняет нежно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чувство это – результат реакции химическ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слород----------молнии разряд-------озон – процесс эндотерм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жизни двуликий оз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ийца живого – необходим для жизни 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8 класс, «Аллотропные видоизменения кислород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674640" y="1979640"/>
            <a:ext cx="864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34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281400" y="4680000"/>
            <a:ext cx="2477880" cy="21096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"/>
          <p:cNvSpPr/>
          <p:nvPr/>
        </p:nvSpPr>
        <p:spPr>
          <a:xfrm>
            <a:off x="684360" y="404640"/>
            <a:ext cx="617364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загадками, на мой взгляд, помогает развивать у школьников наблюдательность, сообразительность и находчивость. Для того, чтобы отгадать загадку ученик должен хорошо знать материал учебника, программы, читать дополнительную литературу.  Предлагаю в проекте материал, который можно использовать на уроках и во внеклассной рабо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2600" y="161928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имеют кисл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их пробовать на вку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если это вдруг случится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же лимонной можно отрав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бесцветное кристаллическое ве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но в нашу жизнь вош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пчик надо посолить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у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трия хлори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480000" y="4859280"/>
            <a:ext cx="216072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ус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олочн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исл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ю я и знаешь 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яженка, кефир, смет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 лучшая рекла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шка не вел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даваться не прив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щает врагов в бег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испытанное средств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(муравьиная кислота - это органическая кисло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240000" y="4243320"/>
            <a:ext cx="2238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ы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яют ц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их окрашенных веще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 этом знаем я и 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добавляем в чай лим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растет на нашей гряд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одержит кисл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люблю пирог с ним сладки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ть и щиплет он во р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3341520" y="4800600"/>
            <a:ext cx="2238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11280" y="220680"/>
            <a:ext cx="813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1"/>
          <p:cNvSpPr/>
          <p:nvPr/>
        </p:nvSpPr>
        <p:spPr>
          <a:xfrm>
            <a:off x="2286000" y="119160"/>
            <a:ext cx="4572000" cy="65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алла связь с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дроксогрупп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ждает новое соеди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ы это вещество с водой не пута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дикато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ействуй, для срав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Щёлочь, кислота и соль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ытать среду изв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уй, но не на язык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на кухне ты привы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дикато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бе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краске посмот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 нейтрализации всегд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ль, вода, нейтральная сре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503280" y="143028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адки помогут «оживить»  такие части ур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прос и закрепление изученн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т быть использованы в играх и групповой работ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 же как проблемные зад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ующие прочного знания фактическ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360360" y="1440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ественно изменяется характер психи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ятельности личности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зируются мыслительные процессы учащихс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ь, внимание, вообра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растает мотивация к познанию и творче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цессе изучения предметного матер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ют формирование учебно-познав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тентности учащихся в условиях актив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я и эмоционального подъе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89000" y="189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радой служит т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й трудный предм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мия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имым предметом уче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5580000" y="431964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571680" y="360360"/>
            <a:ext cx="8069040" cy="6119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80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47760" y="1268280"/>
            <a:ext cx="79182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востепенной задачей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достижени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вого, современного качества образования…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 ориентация не только на усвоение обучающимися определенной суммы знаний, но и на развитие его личности, формирование универсальных ЗУН, опыта самостоятельной деятельности…, то есть современных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лючевых  компетентностей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Концепция модернизации Российского образова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60360" y="90000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659640" y="5224320"/>
            <a:ext cx="2219400" cy="14353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2286000" y="806400"/>
            <a:ext cx="457200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условиях реализации национальной образовательной инициативы «Наша новая школа» к современному образованию сегодня предъявляются новые требования, связанные с умением выпускников средней школы ориентироваться в потоке информации, творчески решать возникающие проблемы, применять на практике полученные знания, умения и навы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33400" y="870120"/>
            <a:ext cx="8237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ТРЕБОВАНИЯ К СИСТЕМЕ РОССИЙСКОГО ОБРАЗО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6960" indent="-3222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Школа должна стать важнейшим фактором </a:t>
            </a:r>
            <a:r>
              <a:rPr b="0" lang="ru-RU" sz="2900" spc="-1" strike="noStrike" u="sng">
                <a:solidFill>
                  <a:srgbClr val="280099"/>
                </a:solidFill>
                <a:uFillTx/>
                <a:latin typeface="Times New Roman"/>
              </a:rPr>
              <a:t>гуманизации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общественно-экономических отношений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азвивающемуся обществу нужны люди: предприимчивые, способные к самостоятельному принятию решения, способные к сотрудничеству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659640" y="5224320"/>
            <a:ext cx="2219400" cy="14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68360" y="360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020000" y="468000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835280" y="654120"/>
            <a:ext cx="502272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а учителя − научить творчески мыслить школьников, то есть вооружить таким важным умением, как умение учить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60360" y="1979640"/>
            <a:ext cx="864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2847960" y="4159080"/>
            <a:ext cx="3740040" cy="26402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"/>
          <p:cNvSpPr/>
          <p:nvPr/>
        </p:nvSpPr>
        <p:spPr>
          <a:xfrm>
            <a:off x="755640" y="260280"/>
            <a:ext cx="610236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ую науку достаточно часто рассматривают как источник зла, причиняемого природе, как виновницу экологических катастроф. Злободневность и серьезность экологических проблем не вызывает сомнений. В то же время представляется полезным показать в школьном курсе химии роль науки в становлении и развитии материальной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ь именно благодаря накоплению и совершенствованию знаний о свойствах веществ и приемах их обработки человеку еще в древности удалось создать керамику, стекло, сплавы и другие материалы, из которых делали не только  бытовые предметы и орудия труда, но и другие великолепные вещи, украшавшие жизнь челове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352872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50920" y="260280"/>
            <a:ext cx="86756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940360" y="4157640"/>
            <a:ext cx="2519280" cy="27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720720" y="4680000"/>
          <a:ext cx="194616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0720" y="4680000"/>
                    <a:ext cx="19461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Прямоугольник 1"/>
          <p:cNvSpPr/>
          <p:nvPr/>
        </p:nvSpPr>
        <p:spPr>
          <a:xfrm>
            <a:off x="2286000" y="463680"/>
            <a:ext cx="457200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анном проекте я обращаюсь лишь к одному возможному направлению гуманизации содержания обучения химии: использованию в учебно-воспитательном процессе преподавания знаний о материалах и веществах, процессах и явлениях в стихотворной форме, как элементе занимательности, приема, повышающего интерес к изучаемому предмету и обеспечивающему активное восприятие учебного матер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закова</dc:creator>
  <dc:description/>
  <dc:language>en-US</dc:language>
  <cp:lastModifiedBy>учитель</cp:lastModifiedBy>
  <dcterms:modified xsi:type="dcterms:W3CDTF">2011-11-27T03:44:07Z</dcterms:modified>
  <cp:revision>85</cp:revision>
  <dc:subject/>
  <dc:title>Анализ проекта [Проект]</dc:title>
</cp:coreProperties>
</file>