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jpeg" ContentType="image/jpeg"/>
  <Override PartName="/ppt/media/image5.gif" ContentType="image/gif"/>
  <Override PartName="/ppt/media/image6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886200" y="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77880"/>
            <a:ext cx="4525920" cy="34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83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4"/>
          <p:cNvSpPr/>
          <p:nvPr/>
        </p:nvSpPr>
        <p:spPr>
          <a:xfrm>
            <a:off x="0" y="8667720"/>
            <a:ext cx="2955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E1229-B751-4EB1-B849-D3E2E5A664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F1D83-CCC8-4608-8E91-6F5EA97F4E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B0ED-6208-4837-877C-E344A3158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C2750-8F3C-4272-AE9A-0454D5C73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5595E-08B7-4625-B1C7-964BD2F6D08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772F0-A630-4E4E-9B4C-560826F5B5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DA67C-78F9-4B15-AA3F-F61E3279B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E3CCD-09A0-4A3B-965C-BA2A885118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8E0DE-DDEF-4A91-BAB7-90AB084DB7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0203F-0CEF-47D6-BC92-480CF065DB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BC95-F6E2-4A29-A706-88578861BE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6E1A0-0AB9-409E-9679-7E8D8041E8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B38DE-E14C-42F3-9AA5-F248F8978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34D3-6245-44AE-BB28-6A998CF119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40354-6CEA-4E27-BEDE-3B588A661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548BD-D215-4D19-B7BD-6635D6A3F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BD47D-63A7-40B1-8100-91ECF2C5C1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9251A-611F-445C-B97C-5E1542C71F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FEA7C-1D99-4618-9AB6-642118469D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310EF-0297-463A-9ECB-2A69458EF3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A29F6-6C8A-4856-BB97-664C7E64B4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67CE-7738-435D-93EE-FEFF9FE28D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E47D-22F0-4F8F-BE0B-769E1D4527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188EE-43BE-4860-9EA4-E70B6173AB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CB0A0-2D70-4DC8-8113-A82B8D3CE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F9F69-2109-4B62-9B22-B499EB57FE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2854-9AE6-41CA-AD8B-96BD4198FB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EEA4D-C307-4B50-86FC-0EDBA464A4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63260-8D95-4AE2-9BC9-422F57682A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C1732-0620-4E88-A9B5-30F462AB0A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84DBC-AA82-4372-B56C-5FF988390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2DA5A-C415-45BD-B24B-26B04E6589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98A81-DA73-420F-830A-6D1331B907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EEA48-D095-4B0C-970D-3D2EB5202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E1D89-7219-41C3-86B9-853E2F6A6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496A4-310E-489E-9125-3E4CDBE87C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7EFE6-743E-45E5-9F14-643EE4DDD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FD84E-9E6A-406C-BC18-CBD8E2A25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8E7D-B876-4BC1-AFB6-20AF0C6C0E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E6040-30DB-406E-8539-C00A25EC7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482EE-AA53-4726-8F80-1C583464A1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C74DD-76CE-431F-840F-F694C0464D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0E59C-6FF5-4625-8D3D-7DB965DBC2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C48F-89B0-47CB-8861-C02393F2B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09851-AF87-465B-9197-52AA8B7F84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6D810-6454-4527-90A4-25CEE28BE4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5FF14-CB65-4686-A608-B8A3A32977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B41F2-81C7-451B-A709-99CF8292CEA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1CC4A-60B1-4700-9B08-235ADCF138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35035-6CD4-40B2-A110-F6BF7A0FE4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D2882-A8A4-478E-9B01-17D2898251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DC111-142C-4C98-94B9-DE0853B044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F446F-3E7D-479A-82E4-4B0F20120F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82A43-B76D-41E8-8E34-4ED11D348A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003A5-DB8B-41A2-AE70-BAC446F74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F56A3-3FF1-4C87-925B-E8E4748BD5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6200" y="8686800"/>
            <a:ext cx="2916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ED098-828E-42CF-8CF4-FECE38657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756EC-79DD-4A66-860F-369A607978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9C3F7-9AB2-4F51-B612-64A0EB9844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496584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5884B-6D9A-4B31-8A00-51CD42A83E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8BF7B-E637-41F7-AAF7-3531C6808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D3026-AED8-42DB-A923-682939C51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98F7C-865A-4488-9F97-BE0CDC7183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91DA9-1AE2-4888-B922-C606495C08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6F00-C0DF-4A51-8C16-D27407560B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DC508-846C-4656-A779-ADDCC1533E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347B2-0423-4CE2-8625-6BF67E3D45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D2BC-BF76-475F-A34F-DDD88881CB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2406D-F494-406E-B1E7-55143A6D01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6C0B0-9B30-44E6-A168-C0246E7C98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8DCFB-DB2C-4FD6-876A-A60C3D5381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49524-BA69-46B5-9D9C-5CE0915708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AB390-5924-4328-9CFC-A3DF2675C1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41360" y="914400"/>
            <a:ext cx="4176720" cy="3133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EF7B3-DAC4-4929-A95E-020F82A3EC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05F0-EDAE-41ED-836A-49C05F4EE0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2601D-C669-42F3-91C9-91376CAB54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49D50-1CD6-4702-B984-2066FFE056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5E7FD-A10F-4E3D-B1F6-6BE9E0569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3477A-859F-412E-8160-F1C093B32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ED402-15F1-4A37-A9CC-DC19038B6E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06916-67C8-41EB-A310-E4E72D378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C0295-AD4D-48F6-91D5-657EAF8F1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5"/>
          <p:cNvSpPr/>
          <p:nvPr/>
        </p:nvSpPr>
        <p:spPr>
          <a:xfrm>
            <a:off x="3886200" y="8686800"/>
            <a:ext cx="2925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E942-8643-4281-B344-D5BD975344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3886200" y="8686800"/>
            <a:ext cx="2954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0CCA3-249F-463D-9A27-273F092C54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886200" y="8686800"/>
            <a:ext cx="2955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5D1CD-8918-4962-AF24-F64C041156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1143000" y="677880"/>
            <a:ext cx="4560840" cy="34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49878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81E-1DD2-43B9-9372-31E8EA840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8E88-701B-44E9-9786-F9AA8E736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4024-9211-4160-9868-68A09EA1F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F6CB-08B9-4183-98B8-42289233B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9328-D7C8-4CC2-8B28-2876FFFD1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A9CAF-1102-4072-A1FF-E91A07ED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1DB51-4CE5-4A0C-94DC-640177C4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AFF70-8EB5-47ED-A511-716C426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B2F61-4232-4916-AC71-30AEF7AC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6E4AA-92B0-481E-BC8B-BCA4699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3301-8476-4C8D-84B9-F84B955BB4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7409A-BC90-4FF7-8AAA-FCFC031C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46119-D83E-4C30-A233-97D874C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5C13A-4BAA-4987-8064-13F3B94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530ED-39F8-4E1D-95F4-1B1BC0E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1F73-B532-4F0C-94AF-B84B9EA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BDC4A-C381-421F-8075-00D8EBA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487B-AB4E-4ADA-A86B-E12DF14B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A8A2-68E6-4C25-B841-BAEEF1A59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DAFF-2FA5-4D76-BE7B-171E9EC96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72E5-D70F-490E-8F73-DAC7EF49BC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B248-8FAE-4AE5-96BC-710C287A2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E16D-09A8-4009-82B6-647840644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D2DA-2AC6-4749-BF7F-9AB97C42B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6080" cy="6848640"/>
            <a:chOff x="0" y="0"/>
            <a:chExt cx="9136080" cy="6848640"/>
          </a:xfrm>
        </p:grpSpPr>
        <p:sp>
          <p:nvSpPr>
            <p:cNvPr id="1" name="AutoShape 2"/>
            <p:cNvSpPr/>
            <p:nvPr/>
          </p:nvSpPr>
          <p:spPr>
            <a:xfrm>
              <a:off x="0" y="19080"/>
              <a:ext cx="9132840" cy="51879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187960"/>
                <a:gd name="textAreaBottom" fmla="*/ 5188320 h 518796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236520" y="0"/>
              <a:ext cx="8896320" cy="5140440"/>
            </a:xfrm>
            <a:custGeom>
              <a:avLst/>
              <a:gdLst>
                <a:gd name="textAreaLeft" fmla="*/ 0 w 8896320"/>
                <a:gd name="textAreaRight" fmla="*/ 8896680 w 8896320"/>
                <a:gd name="textAreaTop" fmla="*/ 0 h 5140440"/>
                <a:gd name="textAreaBottom" fmla="*/ 5140440 h 514044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0" y="5445000"/>
              <a:ext cx="6402240" cy="3002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405480" y="5673600"/>
              <a:ext cx="2725920" cy="100080"/>
            </a:xfrm>
            <a:custGeom>
              <a:avLst/>
              <a:gdLst>
                <a:gd name="textAreaLeft" fmla="*/ 0 w 2725920"/>
                <a:gd name="textAreaRight" fmla="*/ 2726280 w 27259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0" y="5910120"/>
              <a:ext cx="7586640" cy="519120"/>
            </a:xfrm>
            <a:custGeom>
              <a:avLst/>
              <a:gdLst>
                <a:gd name="textAreaLeft" fmla="*/ 0 w 7586640"/>
                <a:gd name="textAreaRight" fmla="*/ 7587000 w 75866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7589880" y="5872320"/>
              <a:ext cx="1542960" cy="156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740560" y="6051600"/>
              <a:ext cx="3390840" cy="311040"/>
            </a:xfrm>
            <a:custGeom>
              <a:avLst/>
              <a:gdLst>
                <a:gd name="textAreaLeft" fmla="*/ 0 w 3390840"/>
                <a:gd name="textAreaRight" fmla="*/ 3391200 w 3390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6299280"/>
              <a:ext cx="5737320" cy="549360"/>
            </a:xfrm>
            <a:custGeom>
              <a:avLst/>
              <a:gdLst>
                <a:gd name="textAreaLeft" fmla="*/ 0 w 5737320"/>
                <a:gd name="textAreaRight" fmla="*/ 5737680 w 5737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328920" y="6413400"/>
              <a:ext cx="3986280" cy="435240"/>
            </a:xfrm>
            <a:custGeom>
              <a:avLst/>
              <a:gdLst>
                <a:gd name="textAreaLeft" fmla="*/ 0 w 3986280"/>
                <a:gd name="textAreaRight" fmla="*/ 3986280 w 39862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907320" y="6137280"/>
              <a:ext cx="2224080" cy="596880"/>
            </a:xfrm>
            <a:custGeom>
              <a:avLst/>
              <a:gdLst>
                <a:gd name="textAreaLeft" fmla="*/ 0 w 2224080"/>
                <a:gd name="textAreaRight" fmla="*/ 2224080 w 2224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7980480" y="4997520"/>
              <a:ext cx="1152360" cy="37764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2359080"/>
              <a:ext cx="7977240" cy="264636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2646360"/>
                <a:gd name="textAreaBottom" fmla="*/ 2646720 h 264636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7980480" y="4835520"/>
              <a:ext cx="1152360" cy="50148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1452600"/>
              <a:ext cx="7977240" cy="3463920"/>
            </a:xfrm>
            <a:custGeom>
              <a:avLst/>
              <a:gdLst>
                <a:gd name="textAreaLeft" fmla="*/ 0 w 7977240"/>
                <a:gd name="textAreaRight" fmla="*/ 7977600 w 7977240"/>
                <a:gd name="textAreaTop" fmla="*/ 0 h 3463920"/>
                <a:gd name="textAreaBottom" fmla="*/ 3464280 h 346392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3641760" y="0"/>
              <a:ext cx="5006880" cy="4317840"/>
            </a:xfrm>
            <a:custGeom>
              <a:avLst/>
              <a:gdLst>
                <a:gd name="textAreaLeft" fmla="*/ 0 w 5006880"/>
                <a:gd name="textAreaRight" fmla="*/ 5007240 w 5006880"/>
                <a:gd name="textAreaTop" fmla="*/ 0 h 4317840"/>
                <a:gd name="textAreaBottom" fmla="*/ 4318200 h 431784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623440" y="4284720"/>
              <a:ext cx="509400" cy="47160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8690040" y="4103640"/>
              <a:ext cx="442800" cy="5288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92680" y="0"/>
              <a:ext cx="4943520" cy="4243320"/>
            </a:xfrm>
            <a:custGeom>
              <a:avLst/>
              <a:gdLst>
                <a:gd name="textAreaLeft" fmla="*/ 0 w 4943520"/>
                <a:gd name="textAreaRight" fmla="*/ 4943880 w 4943520"/>
                <a:gd name="textAreaTop" fmla="*/ 0 h 4243320"/>
                <a:gd name="textAreaBottom" fmla="*/ 4243320 h 424332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8926560" y="4017960"/>
              <a:ext cx="206280" cy="206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935600" y="0"/>
              <a:ext cx="3986280" cy="401472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5532480" y="0"/>
              <a:ext cx="3484440" cy="3929040"/>
            </a:xfrm>
            <a:custGeom>
              <a:avLst/>
              <a:gdLst>
                <a:gd name="textAreaLeft" fmla="*/ 0 w 3484440"/>
                <a:gd name="textAreaRight" fmla="*/ 3484800 w 3484440"/>
                <a:gd name="textAreaTop" fmla="*/ 0 h 3929040"/>
                <a:gd name="textAreaBottom" fmla="*/ 3929400 h 392904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9002880" y="3922560"/>
              <a:ext cx="129960" cy="1494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889840" y="1349280"/>
              <a:ext cx="243000" cy="816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102520" y="0"/>
              <a:ext cx="906480" cy="165096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585280" y="0"/>
              <a:ext cx="538200" cy="1260360"/>
            </a:xfrm>
            <a:custGeom>
              <a:avLst/>
              <a:gdLst>
                <a:gd name="textAreaLeft" fmla="*/ 0 w 538200"/>
                <a:gd name="textAreaRight" fmla="*/ 538200 w 538200"/>
                <a:gd name="textAreaTop" fmla="*/ 0 h 1260360"/>
                <a:gd name="textAreaBottom" fmla="*/ 1260720 h 126036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AutoShape 27"/>
            <p:cNvSpPr/>
            <p:nvPr/>
          </p:nvSpPr>
          <p:spPr>
            <a:xfrm>
              <a:off x="9040680" y="1036800"/>
              <a:ext cx="92160" cy="490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AutoShape 28"/>
            <p:cNvSpPr/>
            <p:nvPr/>
          </p:nvSpPr>
          <p:spPr>
            <a:xfrm>
              <a:off x="3240" y="2541600"/>
              <a:ext cx="9123120" cy="295128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951280"/>
                <a:gd name="textAreaBottom" fmla="*/ 2951640 h 295128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AutoShape 29"/>
            <p:cNvSpPr/>
            <p:nvPr/>
          </p:nvSpPr>
          <p:spPr>
            <a:xfrm>
              <a:off x="9129600" y="5524560"/>
              <a:ext cx="6480" cy="61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AutoShape 30"/>
            <p:cNvSpPr/>
            <p:nvPr/>
          </p:nvSpPr>
          <p:spPr>
            <a:xfrm>
              <a:off x="3240" y="3411360"/>
              <a:ext cx="9123120" cy="21193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2119320"/>
                <a:gd name="textAreaBottom" fmla="*/ 2119320 h 211932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>
              <a:off x="3240" y="5038560"/>
              <a:ext cx="9123120" cy="654120"/>
            </a:xfrm>
            <a:custGeom>
              <a:avLst/>
              <a:gdLst>
                <a:gd name="textAreaLeft" fmla="*/ 0 w 9123120"/>
                <a:gd name="textAreaRight" fmla="*/ 9123480 w 912312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>
              <a:off x="2057400" y="0"/>
              <a:ext cx="7067520" cy="5035680"/>
            </a:xfrm>
            <a:custGeom>
              <a:avLst/>
              <a:gdLst>
                <a:gd name="textAreaLeft" fmla="*/ 0 w 7067520"/>
                <a:gd name="textAreaRight" fmla="*/ 7067880 w 706752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5267160" y="0"/>
              <a:ext cx="3856320" cy="4141800"/>
            </a:xfrm>
            <a:custGeom>
              <a:avLst/>
              <a:gdLst>
                <a:gd name="textAreaLeft" fmla="*/ 0 w 3856320"/>
                <a:gd name="textAreaRight" fmla="*/ 3856680 w 3856320"/>
                <a:gd name="textAreaTop" fmla="*/ 0 h 4141800"/>
                <a:gd name="textAreaBottom" fmla="*/ 4142160 h 414180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6265800" y="0"/>
              <a:ext cx="2860560" cy="3903840"/>
            </a:xfrm>
            <a:custGeom>
              <a:avLst/>
              <a:gdLst>
                <a:gd name="textAreaLeft" fmla="*/ 0 w 2860560"/>
                <a:gd name="textAreaRight" fmla="*/ 2860920 w 2860560"/>
                <a:gd name="textAreaTop" fmla="*/ 0 h 3903840"/>
                <a:gd name="textAreaBottom" fmla="*/ 3904200 h 390384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7169040" y="0"/>
              <a:ext cx="1957320" cy="328464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284640"/>
                <a:gd name="textAreaBottom" fmla="*/ 3285000 h 328464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7446960" y="0"/>
              <a:ext cx="1679400" cy="3067200"/>
            </a:xfrm>
            <a:custGeom>
              <a:avLst/>
              <a:gdLst>
                <a:gd name="textAreaLeft" fmla="*/ 0 w 1679400"/>
                <a:gd name="textAreaRight" fmla="*/ 1679760 w 1679400"/>
                <a:gd name="textAreaTop" fmla="*/ 0 h 3067200"/>
                <a:gd name="textAreaBottom" fmla="*/ 3067560 h 306720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>
              <a:off x="7902720" y="0"/>
              <a:ext cx="1223640" cy="23558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8"/>
            <p:cNvGrpSpPr/>
            <p:nvPr/>
          </p:nvGrpSpPr>
          <p:grpSpPr>
            <a:xfrm>
              <a:off x="0" y="2590920"/>
              <a:ext cx="9128160" cy="2933640"/>
              <a:chOff x="0" y="2590920"/>
              <a:chExt cx="9128160" cy="2933640"/>
            </a:xfrm>
          </p:grpSpPr>
          <p:sp>
            <p:nvSpPr>
              <p:cNvPr id="38" name="AutoShape 39"/>
              <p:cNvSpPr/>
              <p:nvPr/>
            </p:nvSpPr>
            <p:spPr>
              <a:xfrm>
                <a:off x="0" y="2590920"/>
                <a:ext cx="5818320" cy="2076480"/>
              </a:xfrm>
              <a:custGeom>
                <a:avLst/>
                <a:gdLst>
                  <a:gd name="textAreaLeft" fmla="*/ 0 w 5818320"/>
                  <a:gd name="textAreaRight" fmla="*/ 5818680 w 5818320"/>
                  <a:gd name="textAreaTop" fmla="*/ 0 h 2076480"/>
                  <a:gd name="textAreaBottom" fmla="*/ 2076840 h 207648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AutoShape 40"/>
              <p:cNvSpPr/>
              <p:nvPr/>
            </p:nvSpPr>
            <p:spPr>
              <a:xfrm>
                <a:off x="5783400" y="4429080"/>
                <a:ext cx="3344760" cy="1095480"/>
              </a:xfrm>
              <a:custGeom>
                <a:avLst/>
                <a:gdLst>
                  <a:gd name="textAreaLeft" fmla="*/ 0 w 3344760"/>
                  <a:gd name="textAreaRight" fmla="*/ 3345120 w 334476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835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2"/>
          <p:cNvSpPr/>
          <p:nvPr/>
        </p:nvSpPr>
        <p:spPr>
          <a:xfrm>
            <a:off x="457200" y="6222960"/>
            <a:ext cx="2117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3"/>
          <p:cNvSpPr/>
          <p:nvPr/>
        </p:nvSpPr>
        <p:spPr>
          <a:xfrm>
            <a:off x="3124080" y="6230880"/>
            <a:ext cx="288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0876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E3BACC3-8B0A-472D-8471-AD878D22A05C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1835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2040" y="579240"/>
            <a:ext cx="780264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040" y="1904760"/>
            <a:ext cx="7802640" cy="43146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373040" cy="6858000"/>
          </a:xfrm>
          <a:custGeom>
            <a:avLst/>
            <a:gdLst>
              <a:gd name="textAreaLeft" fmla="*/ 360 w 1373040"/>
              <a:gd name="textAreaRight" fmla="*/ 1372680 w 137304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107864">
                <a:moveTo>
                  <a:pt x="25" y="0"/>
                </a:moveTo>
                <a:arcTo wR="25" hR="25" stAng="16200000" swAng="-5400000"/>
                <a:lnTo>
                  <a:pt x="0" y="107839"/>
                </a:lnTo>
                <a:arcTo wR="25" hR="25" stAng="10800000" swAng="-5400000"/>
                <a:lnTo>
                  <a:pt x="21575" y="107864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384200" y="0"/>
            <a:ext cx="34920" cy="6858000"/>
          </a:xfrm>
          <a:custGeom>
            <a:avLst/>
            <a:gdLst>
              <a:gd name="textAreaLeft" fmla="*/ 360 w 34920"/>
              <a:gd name="textAreaRight" fmla="*/ 34560 w 34920"/>
              <a:gd name="textAreaTop" fmla="*/ 360 h 6858000"/>
              <a:gd name="textAreaBottom" fmla="*/ 6857640 h 6858000"/>
            </a:gdLst>
            <a:ahLst/>
            <a:rect l="textAreaLeft" t="textAreaTop" r="textAreaRight" b="textAreaBottom"/>
            <a:pathLst>
              <a:path w="21600" h="4198996">
                <a:moveTo>
                  <a:pt x="981" y="0"/>
                </a:moveTo>
                <a:arcTo wR="981" hR="981" stAng="16200000" swAng="-5400000"/>
                <a:lnTo>
                  <a:pt x="0" y="4198015"/>
                </a:lnTo>
                <a:arcTo wR="981" hR="981" stAng="10800000" swAng="-5400000"/>
                <a:lnTo>
                  <a:pt x="20619" y="4198996"/>
                </a:lnTo>
                <a:arcTo wR="981" hR="981" stAng="5400000" swAng="-5400000"/>
                <a:lnTo>
                  <a:pt x="21600" y="981"/>
                </a:lnTo>
                <a:arcTo wR="981" hR="981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445520" y="678168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445520" y="665172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7445520" y="6508800"/>
            <a:ext cx="54432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7445520" y="6380280"/>
            <a:ext cx="54432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7445520" y="6237360"/>
            <a:ext cx="54432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7445520" y="6107040"/>
            <a:ext cx="54432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8107200" y="678168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8107200" y="665172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107200" y="6508800"/>
            <a:ext cx="544680" cy="7632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8107200" y="6380280"/>
            <a:ext cx="544680" cy="7128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8107200" y="6237360"/>
            <a:ext cx="544680" cy="759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8107200" y="6107040"/>
            <a:ext cx="544680" cy="71640"/>
          </a:xfrm>
          <a:prstGeom prst="roundRect">
            <a:avLst>
              <a:gd name="adj" fmla="val 2269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8CF479-B6DD-49F5-8CB1-9A87D2D79E8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571680" y="360360"/>
            <a:ext cx="8069040" cy="6497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565200" y="549360"/>
            <a:ext cx="791856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ческие задачи как средство гуманизации обучения учащихся на уроках химии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ставитель: Савченко А.Н.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читель химии и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Березняковской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7380360" y="4754520"/>
            <a:ext cx="1724040" cy="19051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"/>
          <p:cNvSpPr/>
          <p:nvPr/>
        </p:nvSpPr>
        <p:spPr>
          <a:xfrm>
            <a:off x="684360" y="81000"/>
            <a:ext cx="4572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Ю.К.Бабанский отмечал: «Наличие интереса положительно влияет на весь характер психической деятельности личности, поднимает ее на более высокую, качественно новую ступень. Когда активизируются мыслительные процессы: память, внимание, воображение – открываются благоприятные возможности для более глубокого овладения знаниями. Чтобы познавательная задача не только требовала размышления учащихся, но и глубоко заинтересовала их, учителя используют некоторые, так называемые универсальные эффекты возбуждения интереса к теме, в том числе занимательности, удивлени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6659640" y="5040360"/>
          <a:ext cx="216036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5040360"/>
                    <a:ext cx="21603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на система занятий по теме «Водород», «Кисород», «Периодический закон и периодическая система Д.И.Менделеева», изучаемые в 8 клас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о-методический комплект: Н.Н.Гара. Химия. Рабочие программы. Предметная линия учебников Г.Е.Рудзитис, Ф.Г.Фельдман 8-9 классы. Москва: «Просвещение». 2011г. Г.Е.Рудзитис,Ф.Г.Фельдман Неорганическая химия. Учебник для 8класса общеобразовательных учреждений. Москва: «Просвещение», 2010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9280" y="1440000"/>
            <a:ext cx="9360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делены элементы знани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азана последователь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6937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ования различных видов задач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11280" y="2700360"/>
            <a:ext cx="81374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чителя очень важно вызвать яркий эмоциональный отклик в душе ученика. Так как это побуждает учиться с интересом, вовлекает в активную работу, включает в процесс позн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962000" y="344520"/>
            <a:ext cx="5239080" cy="23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60360" y="1979640"/>
            <a:ext cx="75596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использую занимательные факты из жизни ученых-химиков, легенды и предания об открытиях некоторых веществ и элементов, загадки о химических веществах, их свойствах и явлениях, о химических терминах и формулах. Я много лет собираю занимательные факты из разных источников, некоторые из них рифмую, облекая в стихотворную форму, так как практика показывает, что это позволяет активизировать внимание учащихся на уро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90476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ание каждого учителя – привить интерес и любовь к предмету. Как бы не проводился урок химии, поток информации очень велик, термины, определения, формулы – все это создает перегрузку, а значит, ухудшается усвоение материала. Снять усталость, эмоционально настроить учащихся на дальнейшую работу помогает художественное, литературное оформление урока х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3060720" y="4319640"/>
            <a:ext cx="25192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25440" y="177336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часто использую стихотворения, предлагаемые в методических пособиях, но и большое их количество пишу сама. В данном проекте так же представлены мои стих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879640" y="4149720"/>
            <a:ext cx="306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-189000" y="-146160"/>
            <a:ext cx="8650440" cy="57610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2286000" y="1494000"/>
            <a:ext cx="4572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 flipV="1">
            <a:off x="971640" y="4940640"/>
            <a:ext cx="6913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ор ботаники, врач Резерфорд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удьба с ним сыграла интересную штук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л газ «удушливый» в возду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 тех пор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ым-химиком вошел в мировую нау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вал азотом этот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 Лавуаз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зжизненным» - признал он элемен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уступает кислороду, углероду, водороду, лишь, - в бел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основой каждого фермента. (8 класс, тема «Получение азот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250920" y="0"/>
            <a:ext cx="8785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мбургский купец – Бранд Хенн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дежде избежать в финансах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орен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л счастие пытать в алхим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б сохранить свои вла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ил найти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философский камень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в золото – металлы обращ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этого – «мочу – в огонь и пламень!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ом с углем, песком, осадок тот меш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воздуха, в запаянной ретор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ойчиво и долго нагрев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, бог и дьявол, меж собой не спорь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оно чудо! Светится, сия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белый фосфор был открыт случай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ес успех тот опыт и вознагражде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ил купец-алхимик свято эту тай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роже золота он продавал изобретенье.(8-9 класс. «Азот и фосфор»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61800" y="1808280"/>
            <a:ext cx="791856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образования на современном этапе развития России определяется задачами ее перехода к демократическому и правовому государству, к рыночной экономике, необходимостью преодоления опасности отставания страны от мировых тенденций экономического и общественного развития. Основные принципы образовательной политики России определены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ой доктрине образования в Российской Федерации до 2025 го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получили своё закрепление в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е Российской Федерации «Об образовании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ом законе «О высшем и послевузовском профессиональном образован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-225360" y="1208160"/>
            <a:ext cx="8820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499080" y="3141720"/>
            <a:ext cx="2394000" cy="32637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1"/>
          <p:cNvSpPr/>
          <p:nvPr/>
        </p:nvSpPr>
        <p:spPr>
          <a:xfrm>
            <a:off x="611280" y="84240"/>
            <a:ext cx="6102360" cy="62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з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оза отшумела, дышится легк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зрачен воздух, напоенный свежест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сле страшной бури – удивительно светл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но, радостно, и наполняет нежно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чувство это – результат реакции химическо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слород----------молнии разряд-------озон – процесс эндотерми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жизни двуликий оз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бийца живого – необходим для жизни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8 класс, «Аллотропные видоизменения кислорода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67464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634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281400" y="4680000"/>
            <a:ext cx="2477880" cy="21096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684360" y="404640"/>
            <a:ext cx="617364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с загадками, на мой взгляд, помогает развивать у школьников наблюдательность, сообразительность и находчивость. Для того, чтобы отгадать загадку ученик должен хорошо знать материал учебника, программы, читать дополнительную литературу.  Предлагаю в проекте материал, который можно использовать на уроках и во внеклассной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282600" y="1619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имеют кислый вк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их пробовать на вку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если это вдруг случится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же лимонной можно отрави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бесцветное кристаллическое ве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но в нашу жизнь в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пчик надо посолит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у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трия хлори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6480000" y="4859280"/>
            <a:ext cx="2160720" cy="21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олоч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ис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ю я и знаешь 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яженка, кефир, смет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 лучшая рекл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шка не вел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даваться не прив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щает врагов в бег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го испытанное средств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(муравьиная кислота - это органическая кисло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240000" y="424332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ты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яют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ногих окрашенны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 этом знаем я и 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добавляем в чай лим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 растет на нашей гряд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одержит кисло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 люблю пирог с ним сладки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оть и щиплет он во р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341520" y="4800600"/>
            <a:ext cx="2238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611280" y="220680"/>
            <a:ext cx="813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1"/>
          <p:cNvSpPr/>
          <p:nvPr/>
        </p:nvSpPr>
        <p:spPr>
          <a:xfrm>
            <a:off x="2286000" y="119160"/>
            <a:ext cx="4572000" cy="65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талла связь с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идроксогрупп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ждает новое соеди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ы это вещество с водой не пута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действуй, для срав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лочь, кислота и соль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ытать среду изв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уй, но не на язык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на кухне ты привы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дикат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бер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краске посмот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 нейтрализации всегд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ль, вода, нейтральная сре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03280" y="143028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адки помогут «оживить»  такие части ур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опрос и закрепление изуч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быть использованы в играх и групповой работ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так же как проблемные зад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ующие прочного знания фактическ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360360" y="1440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енно изменяется характер психи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и личности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ируются мыслительные процессы учащихс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ь, внимание, вообра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растает мотивация к познанию и творче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цессе изучения предмет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ют формирование учебно-познав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тентности учащихся в условиях актив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я и эмоционального подъе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89000" y="189000"/>
            <a:ext cx="86407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градой служит т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й трудный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бимым предметом уче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5580000" y="431964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571680" y="360360"/>
            <a:ext cx="8069040" cy="6119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000080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47760" y="1268280"/>
            <a:ext cx="7918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востепенной задачей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достижени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ового, современного качества образования…Э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ориентация не только на усвоение обучающимися определенной суммы знаний, но и на развитие его личности, формирование универсальных ЗУН, опыта самостоятельной деятельности…, то есть современных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лючевых  компетентностей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Концепция модернизации Российского образования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60360" y="900000"/>
            <a:ext cx="86407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2286000" y="806400"/>
            <a:ext cx="4572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условиях реализации национальной образовательной инициативы «Наша новая школа» к современному образованию сегодня предъявляются новые требования, связанные с умением выпускников средней школы ориентироваться в потоке информации, творчески решать возникающие проблемы, применять на практике полученные знания, умения и навы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33400" y="870120"/>
            <a:ext cx="82375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ＭＳ Ｐ明朝"/>
              </a:rPr>
              <a:t>ТРЕБОВАНИЯ К СИСТЕМЕ РОССИЙСКОГО ОБРАЗ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Школа должна стать важнейшим фактором </a:t>
            </a:r>
            <a:r>
              <a:rPr b="0" lang="ru-RU" sz="2900" spc="-1" strike="noStrike" u="sng">
                <a:solidFill>
                  <a:srgbClr val="280099"/>
                </a:solidFill>
                <a:uFillTx/>
                <a:latin typeface="Times New Roman"/>
              </a:rPr>
              <a:t>гуманизации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общественно-экономических отношений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-3222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Развивающемуся обществу нужны люди: предприимчивые, способные к самостоятельному принятию решения, способные к сотрудничеству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659640" y="5224320"/>
            <a:ext cx="221940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68360" y="360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7020000" y="468000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835280" y="654120"/>
            <a:ext cx="502272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дача учителя − научить творчески мыслить школьников, то есть вооружить таким важным умением, как умение учить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60360" y="1979640"/>
            <a:ext cx="864072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847960" y="4159080"/>
            <a:ext cx="3740040" cy="26402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"/>
          <p:cNvSpPr/>
          <p:nvPr/>
        </p:nvSpPr>
        <p:spPr>
          <a:xfrm>
            <a:off x="755640" y="260280"/>
            <a:ext cx="610236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ую науку достаточно часто рассматривают как источник зла, причиняемого природе, как виновницу экологических катастроф. Злободневность и серьезность экологических проблем не вызывает сомнений. В то же время представляется полезным показать в школьном курсе химии роль науки в становлении и развитии материальной куль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539640" y="333360"/>
            <a:ext cx="8002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ь именно благодаря накоплению и совершенствованию знаний о свойствах веществ и приемах их обработки человеку еще в древности удалось создать керамику, стекло, сплавы и другие материалы, из которых делали не только  бытовые предметы и орудия труда, но и другие великолепные вещи, украшавшие жизнь челове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35287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50920" y="260280"/>
            <a:ext cx="8675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940360" y="4157640"/>
            <a:ext cx="2519280" cy="27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720720" y="4680000"/>
          <a:ext cx="1946160" cy="16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0720" y="4680000"/>
                    <a:ext cx="19461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Прямоугольник 1"/>
          <p:cNvSpPr/>
          <p:nvPr/>
        </p:nvSpPr>
        <p:spPr>
          <a:xfrm>
            <a:off x="2286000" y="463680"/>
            <a:ext cx="45720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анном проекте я обращаюсь лишь к одному возможному направлению гуманизации содержания обучения химии: использованию в учебно-воспитательном процессе преподавания знаний о материалах и веществах, процессах и явлениях в стихотворной форме, как элементе занимательности, приема, повышающего интерес к изучаемому предмету и обеспечивающему активное восприятие учебного матер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закова</dc:creator>
  <dc:description/>
  <dc:language>en-US</dc:language>
  <cp:lastModifiedBy>учитель</cp:lastModifiedBy>
  <dcterms:modified xsi:type="dcterms:W3CDTF">2011-11-27T03:44:07Z</dcterms:modified>
  <cp:revision>85</cp:revision>
  <dc:subject/>
  <dc:title>Анализ проекта [Проект]</dc:title>
</cp:coreProperties>
</file>