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8FB8-89C4-40D4-9121-F435FD454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5EBB-9734-44AE-9060-32376BCB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0D40-44B2-4C98-8FD1-A0F40D17B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D276-A5E7-4B22-B73E-BEDAC2261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6687-182D-415B-BDE2-93593A335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0EA9-979F-464D-809F-8C5FAFBD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B7A3-9655-4353-A622-F3407268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FB9F-8E6C-42BA-A237-CB9CC576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664C-88E4-4D14-8D3A-D566F65A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533A-AA73-4656-9F99-A720184F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621C-E26E-4F48-80D6-9EE1FB71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E9BE-D8DB-423F-A657-EC4BB98F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43E4-07F1-4DAF-809E-2EF45A59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68CF-0C2F-477E-8046-C68C2031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8429-697F-4F5E-BCD5-A8AE0DF4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FE72-063C-48B8-8698-8B91DA885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1244-D8D4-4282-94D2-E54D6D345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29B3-0A6B-447A-98ED-CBCE7DA8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04F8-6F77-4B09-8E0E-FF3CB4A8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9BB2-450E-41C6-A4E1-FD072A4A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D336-4C87-4DD5-A34C-C22B013A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868E-F763-4F31-BECA-A8D1CB1A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431E-5E4C-43B1-B362-C222E06E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B031-E685-44A8-97F1-06E5A866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F186-F2A6-41A4-9775-7333CA4E94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F232-259D-4C83-B465-D70590104BDB}" type="slidenum"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fiu.edu/~mizrachs/UFOrigin.html" TargetMode="External"/><Relationship Id="rId2" Type="http://schemas.openxmlformats.org/officeDocument/2006/relationships/hyperlink" Target="http://ru.wikipedia.org/wiki/&#1062;&#1080;&#1074;&#1080;&#1083;&#1080;&#1079;&#1072;&#1094;&#1080;&#1103;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2;&#1088;&#1090;" TargetMode="External"/><Relationship Id="rId2" Type="http://schemas.openxmlformats.org/officeDocument/2006/relationships/hyperlink" Target="http://ru.wikipedia.org/wiki/Amazing_Stories" TargetMode="External"/><Relationship Id="rId3" Type="http://schemas.openxmlformats.org/officeDocument/2006/relationships/hyperlink" Target="http://ru.wikipedia.org/wiki/&#1056;&#1077;&#1076;&#1072;&#1082;&#1090;&#1086;&#1088;" TargetMode="External"/><Relationship Id="rId4" Type="http://schemas.openxmlformats.org/officeDocument/2006/relationships/hyperlink" Target="http://ru.wikipedia.org/wiki/&#1057;&#1074;&#1072;&#1088;&#1097;&#1080;&#1082;" TargetMode="External"/><Relationship Id="rId5" Type="http://schemas.openxmlformats.org/officeDocument/2006/relationships/hyperlink" Target="http://ru.wikipedia.org/wiki/&#1057;&#1074;&#1072;&#1088;&#1086;&#1095;&#1085;&#1099;&#1081;_&#1072;&#1087;&#1087;&#1072;&#1088;&#1072;&#1090;" TargetMode="External"/><Relationship Id="rId6" Type="http://schemas.openxmlformats.org/officeDocument/2006/relationships/hyperlink" Target="http://ru.wikipedia.org/wiki/&#1057;&#1077;&#1074;&#1077;&#1088;&#1085;&#1099;&#1081;_&#1087;&#1086;&#1083;&#1102;&#1089;" TargetMode="External"/><Relationship Id="rId7" Type="http://schemas.openxmlformats.org/officeDocument/2006/relationships/hyperlink" Target="http://ru.wikipedia.org/wiki/&#1070;&#1078;&#1085;&#1099;&#1081;_&#1087;&#1086;&#1083;&#1102;&#1089;" TargetMode="Externa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8;&#1072;&#1092;&#1080;&#1085;&#1103;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72;&#1091;&#1082;&#1072;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9;&#1084;&#1080;&#1095;&#1077;&#1089;&#1082;&#1080;&#1081;_&#1082;&#1086;&#1088;&#1072;&#1073;&#1083;&#1100;" TargetMode="External"/><Relationship Id="rId2" Type="http://schemas.openxmlformats.org/officeDocument/2006/relationships/hyperlink" Target="http://ru.wikipedia.org/wiki/&#1048;&#1085;&#1086;&#1087;&#1083;&#1072;&#1085;&#1077;&#1090;&#1103;&#1085;&#1080;&#1085;" TargetMode="External"/><Relationship Id="rId3" Type="http://schemas.openxmlformats.org/officeDocument/2006/relationships/hyperlink" Target="http://ru.wikipedia.org/wiki/&#1059;&#1092;&#1086;&#1083;&#1086;&#1075;&#1080;&#1103;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5;&#1080;&#1075;&#1072;" TargetMode="External"/><Relationship Id="rId2" Type="http://schemas.openxmlformats.org/officeDocument/2006/relationships/hyperlink" Target="http://ru.wikipedia.org/wiki/1940-&#1077;" TargetMode="External"/><Relationship Id="rId3" Type="http://schemas.openxmlformats.org/officeDocument/2006/relationships/hyperlink" Target="http://ru.wikipedia.org/wiki/&#1057;&#1057;&#1057;&#1056;" TargetMode="External"/><Relationship Id="rId4" Type="http://schemas.openxmlformats.org/officeDocument/2006/relationships/hyperlink" Target="http://ru.wikipedia.org/wiki/&#1055;&#1086;&#1089;&#1090;&#1091;&#1083;&#1072;&#1090;" TargetMode="External"/><Relationship Id="rId5" Type="http://schemas.openxmlformats.org/officeDocument/2006/relationships/hyperlink" Target="http://ru.wikipedia.org/wiki/&#1051;&#1077;&#1090;&#1072;&#1090;&#1077;&#1083;&#1100;&#1085;&#1099;&#1081;_&#1072;&#1087;&#1087;&#1072;&#1088;&#1072;&#1090;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7;&#1077;&#1084;&#1083;&#1103;" TargetMode="External"/><Relationship Id="rId2" Type="http://schemas.openxmlformats.org/officeDocument/2006/relationships/hyperlink" Target="http://ru.wikipedia.org/wiki/&#1058;&#1077;&#1093;&#1085;&#1086;&#1083;&#1086;&#1075;&#1080;&#1103;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4;&#1074;&#1077;&#1081;&#1094;&#1072;&#1088;&#1080;&#1103;" TargetMode="External"/><Relationship Id="rId2" Type="http://schemas.openxmlformats.org/officeDocument/2006/relationships/hyperlink" Target="http://ru.wikipedia.org/wiki/1975" TargetMode="External"/><Relationship Id="rId3" Type="http://schemas.openxmlformats.org/officeDocument/2006/relationships/hyperlink" Target="http://ru.wikipedia.org/wiki/&#1043;&#1091;&#1084;&#1072;&#1085;&#1086;&#1080;&#1076;" TargetMode="External"/><Relationship Id="rId4" Type="http://schemas.openxmlformats.org/officeDocument/2006/relationships/hyperlink" Target="http://ru.wikipedia.org/wiki/&#1055;&#1083;&#1077;&#1103;&#1076;&#1099;_(&#1079;&#1074;&#1105;&#1079;&#1076;&#1085;&#1086;&#1077;_&#1089;&#1082;&#1086;&#1087;&#1083;&#1077;&#1085;&#1080;&#1077;)" TargetMode="External"/><Relationship Id="rId5" Type="http://schemas.openxmlformats.org/officeDocument/2006/relationships/hyperlink" Target="http://ru.wikipedia.org/wiki/&#1060;&#1077;&#1088;&#1084;&#1072;_(&#1089;&#1077;&#1083;&#1100;&#1089;&#1082;&#1086;&#1077;_&#1093;&#1086;&#1079;&#1103;&#1081;&#1089;&#1090;&#1074;&#1086;)" TargetMode="External"/><Relationship Id="rId6" Type="http://schemas.openxmlformats.org/officeDocument/2006/relationships/hyperlink" Target="http://ru.wikipedia.org/wiki/&#1055;&#1086;&#1083;&#1077;_(&#1089;&#1077;&#1083;&#1100;&#1089;&#1082;&#1086;&#1077;_&#1093;&#1086;&#1079;&#1103;&#1081;&#1089;&#1090;&#1074;&#1086;)" TargetMode="External"/><Relationship Id="rId7" Type="http://schemas.openxmlformats.org/officeDocument/2006/relationships/hyperlink" Target="http://ru.wikipedia.org/wiki/&#1043;&#1086;&#1088;&#1086;&#1076;" TargetMode="External"/><Relationship Id="rId8" Type="http://schemas.openxmlformats.org/officeDocument/2006/relationships/hyperlink" Target="http://ru.wikipedia.org/wiki/&#1053;&#1100;&#1102;-&#1049;&#1086;&#1088;&#1082;_(&#1096;&#1090;&#1072;&#1090;)" TargetMode="External"/><Relationship Id="rId9" Type="http://schemas.openxmlformats.org/officeDocument/2006/relationships/hyperlink" Target="http://ru.wikipedia.org/wiki/&#1054;&#1087;&#1091;&#1096;&#1082;&#1072;" TargetMode="External"/><Relationship Id="rId10" Type="http://schemas.openxmlformats.org/officeDocument/2006/relationships/hyperlink" Target="http://ru.wikipedia.org/wiki/&#1061;&#1086;&#1083;&#1086;&#1076;&#1080;&#1083;&#1100;&#1085;&#1080;&#1082;" TargetMode="External"/><Relationship Id="rId11" Type="http://schemas.openxmlformats.org/officeDocument/2006/relationships/hyperlink" Target="http://ru.wikipedia.org/wiki/&#1057;&#1072;&#1084;&#1086;&#1083;&#1105;&#1090;" TargetMode="External"/><Relationship Id="rId12" Type="http://schemas.openxmlformats.org/officeDocument/2006/relationships/hyperlink" Target="http://ru.wikipedia.org/wiki/&#1052;&#1077;&#1090;&#1072;&#1083;&#1083;" TargetMode="External"/><Relationship Id="rId13" Type="http://schemas.openxmlformats.org/officeDocument/2006/relationships/hyperlink" Target="http://ru.wikipedia.org/wiki/5_(&#1095;&#1080;&#1089;&#1083;&#1086;)" TargetMode="External"/><Relationship Id="rId14" Type="http://schemas.openxmlformats.org/officeDocument/2006/relationships/hyperlink" Target="http://ru.wikipedia.org/wiki/6_(&#1095;&#1080;&#1089;&#1083;&#1086;)" TargetMode="External"/><Relationship Id="rId15" Type="http://schemas.openxmlformats.org/officeDocument/2006/relationships/hyperlink" Target="http://ru.wikipedia.org/wiki/&#1052;&#1077;&#1090;&#1088;" TargetMode="External"/><Relationship Id="rId16" Type="http://schemas.openxmlformats.org/officeDocument/2006/relationships/image" Target="../media/image5.jpe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4;&#1072;&#1088;&#1086;&#1074;&#1072;&#1103;_&#1084;&#1086;&#1083;&#1085;&#1080;&#1103;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7;&#1088;&#1089;&#1080;&#1103;" TargetMode="External"/><Relationship Id="rId2" Type="http://schemas.openxmlformats.org/officeDocument/2006/relationships/hyperlink" Target="http://ru.wikipedia.org/wiki/&#1052;&#1080;&#1089;&#1090;&#1080;&#1092;&#1080;&#1082;&#1072;&#1094;&#1080;&#1103;" TargetMode="External"/><Relationship Id="rId3" Type="http://schemas.openxmlformats.org/officeDocument/2006/relationships/hyperlink" Target="http://ru.wikipedia.org/wiki/&#1052;&#1077;&#1090;&#1077;&#1086;&#1088;" TargetMode="External"/><Relationship Id="rId4" Type="http://schemas.openxmlformats.org/officeDocument/2006/relationships/hyperlink" Target="http://ru.wikipedia.org/wiki/&#1055;&#1090;&#1080;&#1094;&#1072;" TargetMode="External"/><Relationship Id="rId5" Type="http://schemas.openxmlformats.org/officeDocument/2006/relationships/hyperlink" Target="http://ru.wikipedia.org/wiki/&#1043;&#1086;&#1088;&#1077;&#1085;&#1080;&#1077;" TargetMode="External"/><Relationship Id="rId6" Type="http://schemas.openxmlformats.org/officeDocument/2006/relationships/hyperlink" Target="http://ru.wikipedia.org/wiki/&#1041;&#1086;&#1083;&#1086;&#1090;&#1085;&#1099;&#1081;_&#1075;&#1072;&#1079;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70;&#1085;&#1075;,_&#1050;&#1072;&#1088;&#1083;_&#1043;&#1091;&#1089;&#1090;&#1072;&#1074;" TargetMode="External"/><Relationship Id="rId2" Type="http://schemas.openxmlformats.org/officeDocument/2006/relationships/hyperlink" Target="http://ru.wikipedia.org/wiki/&#1052;&#1080;&#1092;" TargetMode="External"/><Relationship Id="rId3" Type="http://schemas.openxmlformats.org/officeDocument/2006/relationships/hyperlink" Target="http://ru.wikipedia.org/wiki/&#1044;&#1080;&#1089;&#1082;" TargetMode="External"/><Relationship Id="rId4" Type="http://schemas.openxmlformats.org/officeDocument/2006/relationships/hyperlink" Target="http://ru.wikipedia.org/wiki/&#1048;&#1085;&#1076;&#1091;&#1080;&#1079;&#1084;" TargetMode="External"/><Relationship Id="rId5" Type="http://schemas.openxmlformats.org/officeDocument/2006/relationships/hyperlink" Target="http://ru.wikipedia.org/wiki/&#1041;&#1091;&#1076;&#1076;&#1080;&#1079;&#1084;" TargetMode="External"/><Relationship Id="rId6" Type="http://schemas.openxmlformats.org/officeDocument/2006/relationships/hyperlink" Target="http://ru.wikipedia.org/wiki/XX_&#1074;&#1077;&#1082;" TargetMode="External"/><Relationship Id="rId7" Type="http://schemas.openxmlformats.org/officeDocument/2006/relationships/hyperlink" Target="http://ru.wikipedia.org/wiki/&#1043;&#1072;&#1088;&#1084;&#1086;&#1085;&#1080;&#1103;" TargetMode="External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ЛО(неопознанный летающий объект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 информатик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еницы 9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имназии №9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идоровой Евген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Ультраземные гипотезы происхождения НЛО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564000" y="1905120"/>
            <a:ext cx="55800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ак называемые  </a:t>
            </a:r>
            <a:r>
              <a:rPr b="0" lang="ru-RU" sz="26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Ultraterrestrial hypothesis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 предлагают земное происхождение НЛО, некоторые развивают идеи, что «летающие тарелки» запускаются </a:t>
            </a:r>
            <a:r>
              <a:rPr b="0" lang="ru-RU" sz="26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цивилизациям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обитающими на Земле параллельно человеческой, или же что НЛО являются… неизвестными существами, живущими на Земле ж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1324789274_ufo46"/>
          <p:cNvPicPr/>
          <p:nvPr/>
        </p:nvPicPr>
        <p:blipFill>
          <a:blip r:embed="rId3"/>
          <a:stretch/>
        </p:blipFill>
        <p:spPr>
          <a:xfrm>
            <a:off x="324000" y="2492280"/>
            <a:ext cx="3419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Подземные цивилизации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марте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1945 г. в журнале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Amazing Stories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редактором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которого был Реймонд Палмер появились сообщения о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сварщике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Ричарде Шевере ,который утверждал, что, работая со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сварочным аппаратом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начал слышать голоса. По мнению Шевера, под землёй локализована цивилизация так называемых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«дерос»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— карликовых существ.Впоследствии под влиянием сообщений о наблюдении НЛО ,Палмер высказывался, что неопознанные летающие объекты появляются над землёй, проникая через отверстия в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6"/>
              </a:rPr>
              <a:t>северном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или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7"/>
              </a:rPr>
              <a:t>Южном полюсе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72"/>
          <p:cNvPicPr/>
          <p:nvPr/>
        </p:nvPicPr>
        <p:blipFill>
          <a:blip r:embed="rId8"/>
          <a:stretch/>
        </p:blipFill>
        <p:spPr>
          <a:xfrm>
            <a:off x="5435640" y="4365720"/>
            <a:ext cx="345600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Живые НЛО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067280" y="1341000"/>
            <a:ext cx="5076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1955 г. некая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графин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Зоя Василько-Серецки предложила рассмотрение гипотез об атмосферных существах и населила верхние слои атмосферы похожими на пузыри светящимися животными, которые становятся сигарообразными при полёте, а энергию они получают из атмосферы. НЛО представляют собой обитающие исключительно в атмосфере одноклеточные размерами от нескольких сантиметров до километра. Эти существа якобы испускают инфракрасные лучи, благодаря чему остаются невидимы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200px-Alienigena"/>
          <p:cNvPicPr/>
          <p:nvPr/>
        </p:nvPicPr>
        <p:blipFill>
          <a:blip r:embed="rId2"/>
          <a:stretch/>
        </p:blipFill>
        <p:spPr>
          <a:xfrm>
            <a:off x="971640" y="2060640"/>
            <a:ext cx="19047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Благодарим за внимание</a:t>
            </a:r>
            <a:r>
              <a:rPr b="0" lang="ru-RU" sz="4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f0f4e7f2b718ac459943c18e9247cda8"/>
          <p:cNvPicPr/>
          <p:nvPr/>
        </p:nvPicPr>
        <p:blipFill>
          <a:blip r:embed="rId1"/>
          <a:stretch/>
        </p:blipFill>
        <p:spPr>
          <a:xfrm>
            <a:off x="1547640" y="1557360"/>
            <a:ext cx="698508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Гипотезы происхождения НЛО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46083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ермин «НЛО» —это понятие, обозначающее передвижение в воздушном пространстве не идентифицированных летательных аппаратов, не поддающихся классификации. В уфологии — обобщает все случаи наблюдения не идентифицированных летательных аппаратов, которым на данный момент нет другого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научного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объяснения. 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majestic-flying-saucer"/>
          <p:cNvPicPr/>
          <p:nvPr/>
        </p:nvPicPr>
        <p:blipFill>
          <a:blip r:embed="rId2"/>
          <a:stretch/>
        </p:blipFill>
        <p:spPr>
          <a:xfrm rot="20241000">
            <a:off x="5292360" y="2636640"/>
            <a:ext cx="352908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Версия внеземного происхождения НЛО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-360" y="1916280"/>
            <a:ext cx="442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неземная гипотеза происхождения </a:t>
            </a:r>
            <a:r>
              <a:rPr b="1" i="1" lang="ru-RU" sz="2800" spc="-1" strike="noStrike">
                <a:solidFill>
                  <a:srgbClr val="980202"/>
                </a:solidFill>
                <a:latin typeface="Baskerville Old Face"/>
              </a:rPr>
              <a:t>НЛ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— наиболее распространённая гипотеза, объявляющая НЛО </a:t>
            </a:r>
            <a:r>
              <a:rPr b="0" lang="ru-RU" sz="26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космическими кораблям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6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инопланетян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Большинство </a:t>
            </a:r>
            <a:r>
              <a:rPr b="0" lang="ru-RU" sz="26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уфолого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рассматривает только эту гипотез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ufo"/>
          <p:cNvPicPr/>
          <p:nvPr/>
        </p:nvPicPr>
        <p:blipFill>
          <a:blip r:embed="rId4"/>
          <a:stretch/>
        </p:blipFill>
        <p:spPr>
          <a:xfrm>
            <a:off x="5219640" y="2276640"/>
            <a:ext cx="3133800" cy="39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История гипотезы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08000" y="1341360"/>
            <a:ext cx="701064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женни Рэнделс и Питер Хоу в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книге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«Тайны НЛО»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высказывали предположение, что внеземная гипотеза возникла из-за того, что военные, которые занимались в конце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1940-х гг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изучением «летающих тарелок», опасаясь возможной их причастности к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Советскому Союзу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заранее исходили из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постулат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что НЛО являются чьими-нибудь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летательными аппаратам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Ufo_museum,_diyarbakir2"/>
          <p:cNvPicPr/>
          <p:nvPr/>
        </p:nvPicPr>
        <p:blipFill>
          <a:blip r:embed="rId6"/>
          <a:stretch/>
        </p:blipFill>
        <p:spPr>
          <a:xfrm>
            <a:off x="324000" y="3716280"/>
            <a:ext cx="2160360" cy="28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История гипотезы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844640"/>
            <a:ext cx="6000840" cy="2819520"/>
          </a:xfrm>
          <a:prstGeom prst="rect">
            <a:avLst/>
          </a:prstGeom>
          <a:solidFill>
            <a:srgbClr val="ffffff">
              <a:alpha val="27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неземная версия высказывалась ещё и в книге Джессапа Морриса ,где автор утверждал, что возле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Земл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находится инопланетная база, а НЛО прилетают на Землю откуда-то из Солнечной системы. Моррис писал, что инопланетные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технологи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во многом превосходят земны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morris1"/>
          <p:cNvPicPr/>
          <p:nvPr/>
        </p:nvPicPr>
        <p:blipFill>
          <a:blip r:embed="rId3"/>
          <a:stretch/>
        </p:blipFill>
        <p:spPr>
          <a:xfrm>
            <a:off x="6012000" y="2060640"/>
            <a:ext cx="2935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Доказательства гипотезы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57610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Эдуард Мейер из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Швейцари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утверждал, что в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1975 г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идел опустившийся на землю НЛО и общался с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человекоподобными существам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будто бы назвавшимися пришельцами с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Плеяд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ак сообщают,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фермер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Гарри Уилкокс удобрял своё 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6"/>
              </a:rPr>
              <a:t>поле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возле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7"/>
              </a:rPr>
              <a:t>город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Тайога,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8"/>
              </a:rPr>
              <a:t>штат Нью-Йорк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На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9"/>
              </a:rPr>
              <a:t>опушке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он заметил некий серебристый предмет, который был им принят за выброшенный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10"/>
              </a:rPr>
              <a:t>холодильник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затем —за часть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11"/>
              </a:rPr>
              <a:t>самолёт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Оказалось, что на земле стоял яйцевидный объект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12"/>
              </a:rPr>
              <a:t>металлического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цвета примерно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13"/>
              </a:rPr>
              <a:t>5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на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14"/>
              </a:rPr>
              <a:t>6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15"/>
              </a:rPr>
              <a:t>м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ufojpg_9649144_3483370"/>
          <p:cNvPicPr/>
          <p:nvPr/>
        </p:nvPicPr>
        <p:blipFill>
          <a:blip r:embed="rId16"/>
          <a:stretch/>
        </p:blipFill>
        <p:spPr>
          <a:xfrm>
            <a:off x="5796000" y="2349360"/>
            <a:ext cx="3348000" cy="27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 u="sng">
                <a:solidFill>
                  <a:srgbClr val="000000"/>
                </a:solidFill>
                <a:uFillTx/>
                <a:latin typeface="Arial"/>
              </a:rPr>
              <a:t>Версия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 естественного происхождения НЛО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47640" y="1844280"/>
            <a:ext cx="70106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акже есть предположение некоторых учёных что многие НЛО — это </a:t>
            </a: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шаровая молн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34203-fb0f9-18698405-"/>
          <p:cNvPicPr/>
          <p:nvPr/>
        </p:nvPicPr>
        <p:blipFill>
          <a:blip r:embed="rId2"/>
          <a:stretch/>
        </p:blipFill>
        <p:spPr>
          <a:xfrm>
            <a:off x="2411280" y="3429000"/>
            <a:ext cx="436428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Версия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 естественного происхождения НЛО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4211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Гипотезы о естественном происхождении НЛО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основаны на вере в то, что все необъяснённые случаи, сообщения о НЛО, если не являются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мистификациям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то возникают вследствие наблюдения за явлениями, уже известными, описанными и изученными современной наукой: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метеорам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летящими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птицам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горящим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6"/>
              </a:rPr>
              <a:t>болотным газом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1320328912_nlo-fr-003"/>
          <p:cNvPicPr/>
          <p:nvPr/>
        </p:nvPicPr>
        <p:blipFill>
          <a:blip r:embed="rId7"/>
          <a:stretch/>
        </p:blipFill>
        <p:spPr>
          <a:xfrm rot="1510200">
            <a:off x="4571640" y="2565000"/>
            <a:ext cx="38098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сихосоциальные гипотезы происхождения НЛО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5796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звестно, что ещё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К. Г. Юнг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рассматривал сообщения о НЛО как современный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миф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он отмечал возможную связь между 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дискообразной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формой «летающей тарелки» и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«мандалой»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— оккультным символом в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индуизме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буддизме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олицетворяющем целостность, завершённость. Большую заинтересованность НЛО во второй половине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6"/>
              </a:rPr>
              <a:t>XX век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Юнг объяснял стремлением человека к 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7"/>
              </a:rPr>
              <a:t>гармони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в неспокойное врем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3858-al01"/>
          <p:cNvPicPr/>
          <p:nvPr/>
        </p:nvPicPr>
        <p:blipFill>
          <a:blip r:embed="rId8"/>
          <a:stretch/>
        </p:blipFill>
        <p:spPr>
          <a:xfrm>
            <a:off x="5867280" y="2349360"/>
            <a:ext cx="293400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6:48:22Z</dcterms:created>
  <dc:creator>Евгения</dc:creator>
  <dc:description/>
  <dc:language>en-US</dc:language>
  <cp:lastModifiedBy>Максим</cp:lastModifiedBy>
  <dcterms:modified xsi:type="dcterms:W3CDTF">2012-03-25T20:33:22Z</dcterms:modified>
  <cp:revision>2</cp:revision>
  <dc:subject/>
  <dc:title>НЛО(неопознанный летающий объект)</dc:title>
</cp:coreProperties>
</file>