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FFD-E575-43DA-B380-F9C0C9FD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B7C-0C78-4214-88C5-13A73E4F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3B6-5B08-4750-8853-2CDFCFDB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2B1-0D10-4871-9825-3D52E819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0106-DF94-47AD-B6C2-37053879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7FAB-1422-4132-B67B-DBE27C46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DB93-C716-43F6-BB93-0F40CFA1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7476-ABCF-4E52-9D57-66B06F17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5E35-5F0D-4F05-8EF8-BB19FA93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AC62-916A-4322-9289-0BADCC22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16B0-19CB-4D7D-98D4-4A698A1C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929-B185-4E85-B84F-80A0D6A6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88AE-F5E3-44AB-9827-1AD733B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CD9D-DC95-49C2-BE14-07767DE6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4476-EDDB-4D96-9B08-1C9DED1E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EE7D-AE27-495D-BD80-671456D9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72FD-7DC3-46D9-B3E0-89FF16F0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93D-8135-4D46-B963-5D1C76D3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8FE-34C6-497F-A7F9-EA98B298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E0B-83C1-45B2-9221-2C5700B8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D59-09D8-4C02-ABAB-02EA940B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C58-E639-44A0-9F41-22DE58C8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32D-9840-4949-A696-3E4101C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A2E-75E7-4694-8BC9-30359A45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8181-F83F-4D53-8429-8A3A52C2DE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1347-CDB2-4F2F-8374-4221459612D8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iu.edu/~mizrachs/UFOrigin.html" TargetMode="External"/><Relationship Id="rId2" Type="http://schemas.openxmlformats.org/officeDocument/2006/relationships/hyperlink" Target="http://ru.wikipedia.org/wiki/&#1062;&#1080;&#1074;&#1080;&#1083;&#1080;&#1079;&#1072;&#1094;&#1080;&#1103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8;&#1090;" TargetMode="External"/><Relationship Id="rId2" Type="http://schemas.openxmlformats.org/officeDocument/2006/relationships/hyperlink" Target="http://ru.wikipedia.org/wiki/Amazing_Stories" TargetMode="External"/><Relationship Id="rId3" Type="http://schemas.openxmlformats.org/officeDocument/2006/relationships/hyperlink" Target="http://ru.wikipedia.org/wiki/&#1056;&#1077;&#1076;&#1072;&#1082;&#1090;&#1086;&#1088;" TargetMode="External"/><Relationship Id="rId4" Type="http://schemas.openxmlformats.org/officeDocument/2006/relationships/hyperlink" Target="http://ru.wikipedia.org/wiki/&#1057;&#1074;&#1072;&#1088;&#1097;&#1080;&#1082;" TargetMode="External"/><Relationship Id="rId5" Type="http://schemas.openxmlformats.org/officeDocument/2006/relationships/hyperlink" Target="http://ru.wikipedia.org/wiki/&#1057;&#1074;&#1072;&#1088;&#1086;&#1095;&#1085;&#1099;&#1081;_&#1072;&#1087;&#1087;&#1072;&#1088;&#1072;&#1090;" TargetMode="External"/><Relationship Id="rId6" Type="http://schemas.openxmlformats.org/officeDocument/2006/relationships/hyperlink" Target="http://ru.wikipedia.org/wiki/&#1057;&#1077;&#1074;&#1077;&#1088;&#1085;&#1099;&#1081;_&#1087;&#1086;&#1083;&#1102;&#1089;" TargetMode="External"/><Relationship Id="rId7" Type="http://schemas.openxmlformats.org/officeDocument/2006/relationships/hyperlink" Target="http://ru.wikipedia.org/wiki/&#1070;&#1078;&#1085;&#1099;&#1081;_&#1087;&#1086;&#1083;&#1102;&#1089;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2;&#1092;&#1080;&#1085;&#1103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1;&#1082;&#1072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0;&#1095;&#1077;&#1089;&#1082;&#1080;&#1081;_&#1082;&#1086;&#1088;&#1072;&#1073;&#1083;&#1100;" TargetMode="External"/><Relationship Id="rId2" Type="http://schemas.openxmlformats.org/officeDocument/2006/relationships/hyperlink" Target="http://ru.wikipedia.org/wiki/&#1048;&#1085;&#1086;&#1087;&#1083;&#1072;&#1085;&#1077;&#1090;&#1103;&#1085;&#1080;&#1085;" TargetMode="External"/><Relationship Id="rId3" Type="http://schemas.openxmlformats.org/officeDocument/2006/relationships/hyperlink" Target="http://ru.wikipedia.org/wiki/&#1059;&#1092;&#1086;&#1083;&#1086;&#1075;&#1080;&#1103;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5;&#1080;&#1075;&#1072;" TargetMode="External"/><Relationship Id="rId2" Type="http://schemas.openxmlformats.org/officeDocument/2006/relationships/hyperlink" Target="http://ru.wikipedia.org/wiki/1940-&#1077;" TargetMode="External"/><Relationship Id="rId3" Type="http://schemas.openxmlformats.org/officeDocument/2006/relationships/hyperlink" Target="http://ru.wikipedia.org/wiki/&#1057;&#1057;&#1057;&#1056;" TargetMode="External"/><Relationship Id="rId4" Type="http://schemas.openxmlformats.org/officeDocument/2006/relationships/hyperlink" Target="http://ru.wikipedia.org/wiki/&#1055;&#1086;&#1089;&#1090;&#1091;&#1083;&#1072;&#1090;" TargetMode="External"/><Relationship Id="rId5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7;&#1084;&#1083;&#1103;" TargetMode="External"/><Relationship Id="rId2" Type="http://schemas.openxmlformats.org/officeDocument/2006/relationships/hyperlink" Target="http://ru.wikipedia.org/wiki/&#1058;&#1077;&#1093;&#1085;&#1086;&#1083;&#1086;&#1075;&#1080;&#1103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4;&#1074;&#1077;&#1081;&#1094;&#1072;&#1088;&#1080;&#1103;" TargetMode="External"/><Relationship Id="rId2" Type="http://schemas.openxmlformats.org/officeDocument/2006/relationships/hyperlink" Target="http://ru.wikipedia.org/wiki/1975" TargetMode="External"/><Relationship Id="rId3" Type="http://schemas.openxmlformats.org/officeDocument/2006/relationships/hyperlink" Target="http://ru.wikipedia.org/wiki/&#1043;&#1091;&#1084;&#1072;&#1085;&#1086;&#1080;&#1076;" TargetMode="External"/><Relationship Id="rId4" Type="http://schemas.openxmlformats.org/officeDocument/2006/relationships/hyperlink" Target="http://ru.wikipedia.org/wiki/&#1055;&#1083;&#1077;&#1103;&#1076;&#1099;_(&#1079;&#1074;&#1105;&#1079;&#1076;&#1085;&#1086;&#1077;_&#1089;&#1082;&#1086;&#1087;&#1083;&#1077;&#1085;&#1080;&#1077;)" TargetMode="External"/><Relationship Id="rId5" Type="http://schemas.openxmlformats.org/officeDocument/2006/relationships/hyperlink" Target="http://ru.wikipedia.org/wiki/&#1060;&#1077;&#1088;&#1084;&#1072;_(&#1089;&#1077;&#1083;&#1100;&#1089;&#1082;&#1086;&#1077;_&#1093;&#1086;&#1079;&#1103;&#1081;&#1089;&#1090;&#1074;&#1086;)" TargetMode="External"/><Relationship Id="rId6" Type="http://schemas.openxmlformats.org/officeDocument/2006/relationships/hyperlink" Target="http://ru.wikipedia.org/wiki/&#1055;&#1086;&#1083;&#1077;_(&#1089;&#1077;&#1083;&#1100;&#1089;&#1082;&#1086;&#1077;_&#1093;&#1086;&#1079;&#1103;&#1081;&#1089;&#1090;&#1074;&#1086;)" TargetMode="External"/><Relationship Id="rId7" Type="http://schemas.openxmlformats.org/officeDocument/2006/relationships/hyperlink" Target="http://ru.wikipedia.org/wiki/&#1043;&#1086;&#1088;&#1086;&#1076;" TargetMode="External"/><Relationship Id="rId8" Type="http://schemas.openxmlformats.org/officeDocument/2006/relationships/hyperlink" Target="http://ru.wikipedia.org/wiki/&#1053;&#1100;&#1102;-&#1049;&#1086;&#1088;&#1082;_(&#1096;&#1090;&#1072;&#1090;)" TargetMode="External"/><Relationship Id="rId9" Type="http://schemas.openxmlformats.org/officeDocument/2006/relationships/hyperlink" Target="http://ru.wikipedia.org/wiki/&#1054;&#1087;&#1091;&#1096;&#1082;&#1072;" TargetMode="External"/><Relationship Id="rId10" Type="http://schemas.openxmlformats.org/officeDocument/2006/relationships/hyperlink" Target="http://ru.wikipedia.org/wiki/&#1061;&#1086;&#1083;&#1086;&#1076;&#1080;&#1083;&#1100;&#1085;&#1080;&#1082;" TargetMode="External"/><Relationship Id="rId11" Type="http://schemas.openxmlformats.org/officeDocument/2006/relationships/hyperlink" Target="http://ru.wikipedia.org/wiki/&#1057;&#1072;&#1084;&#1086;&#1083;&#1105;&#1090;" TargetMode="External"/><Relationship Id="rId12" Type="http://schemas.openxmlformats.org/officeDocument/2006/relationships/hyperlink" Target="http://ru.wikipedia.org/wiki/&#1052;&#1077;&#1090;&#1072;&#1083;&#1083;" TargetMode="External"/><Relationship Id="rId13" Type="http://schemas.openxmlformats.org/officeDocument/2006/relationships/hyperlink" Target="http://ru.wikipedia.org/wiki/5_(&#1095;&#1080;&#1089;&#1083;&#1086;)" TargetMode="External"/><Relationship Id="rId14" Type="http://schemas.openxmlformats.org/officeDocument/2006/relationships/hyperlink" Target="http://ru.wikipedia.org/wiki/6_(&#1095;&#1080;&#1089;&#1083;&#1086;)" TargetMode="External"/><Relationship Id="rId15" Type="http://schemas.openxmlformats.org/officeDocument/2006/relationships/hyperlink" Target="http://ru.wikipedia.org/wiki/&#1052;&#1077;&#1090;&#1088;" TargetMode="Externa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4;&#1072;&#1088;&#1086;&#1074;&#1072;&#1103;_&#1084;&#1086;&#1083;&#1085;&#1080;&#1103;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8;&#1089;&#1080;&#1103;" TargetMode="External"/><Relationship Id="rId2" Type="http://schemas.openxmlformats.org/officeDocument/2006/relationships/hyperlink" Target="http://ru.wikipedia.org/wiki/&#1052;&#1080;&#1089;&#1090;&#1080;&#1092;&#1080;&#1082;&#1072;&#1094;&#1080;&#1103;" TargetMode="External"/><Relationship Id="rId3" Type="http://schemas.openxmlformats.org/officeDocument/2006/relationships/hyperlink" Target="http://ru.wikipedia.org/wiki/&#1052;&#1077;&#1090;&#1077;&#1086;&#1088;" TargetMode="External"/><Relationship Id="rId4" Type="http://schemas.openxmlformats.org/officeDocument/2006/relationships/hyperlink" Target="http://ru.wikipedia.org/wiki/&#1055;&#1090;&#1080;&#1094;&#1072;" TargetMode="External"/><Relationship Id="rId5" Type="http://schemas.openxmlformats.org/officeDocument/2006/relationships/hyperlink" Target="http://ru.wikipedia.org/wiki/&#1043;&#1086;&#1088;&#1077;&#1085;&#1080;&#1077;" TargetMode="External"/><Relationship Id="rId6" Type="http://schemas.openxmlformats.org/officeDocument/2006/relationships/hyperlink" Target="http://ru.wikipedia.org/wiki/&#1041;&#1086;&#1083;&#1086;&#1090;&#1085;&#1099;&#1081;_&#1075;&#1072;&#1079;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0;&#1085;&#1075;,_&#1050;&#1072;&#1088;&#1083;_&#1043;&#1091;&#1089;&#1090;&#1072;&#1074;" TargetMode="External"/><Relationship Id="rId2" Type="http://schemas.openxmlformats.org/officeDocument/2006/relationships/hyperlink" Target="http://ru.wikipedia.org/wiki/&#1052;&#1080;&#1092;" TargetMode="External"/><Relationship Id="rId3" Type="http://schemas.openxmlformats.org/officeDocument/2006/relationships/hyperlink" Target="http://ru.wikipedia.org/wiki/&#1044;&#1080;&#1089;&#1082;" TargetMode="External"/><Relationship Id="rId4" Type="http://schemas.openxmlformats.org/officeDocument/2006/relationships/hyperlink" Target="http://ru.wikipedia.org/wiki/&#1048;&#1085;&#1076;&#1091;&#1080;&#1079;&#1084;" TargetMode="External"/><Relationship Id="rId5" Type="http://schemas.openxmlformats.org/officeDocument/2006/relationships/hyperlink" Target="http://ru.wikipedia.org/wiki/&#1041;&#1091;&#1076;&#1076;&#1080;&#1079;&#1084;" TargetMode="External"/><Relationship Id="rId6" Type="http://schemas.openxmlformats.org/officeDocument/2006/relationships/hyperlink" Target="http://ru.wikipedia.org/wiki/XX_&#1074;&#1077;&#1082;" TargetMode="External"/><Relationship Id="rId7" Type="http://schemas.openxmlformats.org/officeDocument/2006/relationships/hyperlink" Target="http://ru.wikipedia.org/wiki/&#1043;&#1072;&#1088;&#1084;&#1086;&#1085;&#1080;&#1103;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ЛО(неопознанный летающий объект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информати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ницы 9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мназии №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доровой Евге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Ультраземные гипотезы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4000" y="1905120"/>
            <a:ext cx="5580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 называемые  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Ultraterrestrial hypothesi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 предлагают земное происхождение НЛО, некоторые развивают идеи, что «летающие тарелки» запускаются 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цивилизация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обитающими на Земле параллельно человеческой, или же что НЛО являются… неизвестными существами, живущими на Земле ж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1324789274_ufo46"/>
          <p:cNvPicPr/>
          <p:nvPr/>
        </p:nvPicPr>
        <p:blipFill>
          <a:blip r:embed="rId3"/>
          <a:stretch/>
        </p:blipFill>
        <p:spPr>
          <a:xfrm>
            <a:off x="324000" y="2492280"/>
            <a:ext cx="3419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одземные цивилизации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март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1945 г. в журнале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Amazing Stories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редактор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которого был Реймонд Палмер появились сообщения о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сварщик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Ричарде Шевере ,который утверждал, что, работая со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сварочным аппарат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начал слышать голоса. По мнению Шевера, под землёй локализована цивилизация так называемых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дерос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— карликовых существ.Впоследствии под влиянием сообщений о наблюдении НЛО ,Палмер высказывался, что неопознанные летающие объекты появляются над землёй, проникая через отверстия в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северн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или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Южном полюс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72"/>
          <p:cNvPicPr/>
          <p:nvPr/>
        </p:nvPicPr>
        <p:blipFill>
          <a:blip r:embed="rId8"/>
          <a:stretch/>
        </p:blipFill>
        <p:spPr>
          <a:xfrm>
            <a:off x="5435640" y="4365720"/>
            <a:ext cx="34560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Живые НЛО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67280" y="1341000"/>
            <a:ext cx="507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1955 г. некая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графин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Зоя Василько-Серецки предложила рассмотрение гипотез об атмосферных существах и населила верхние слои атмосферы похожими на пузыри светящимися животными, которые становятся сигарообразными при полёте, а энергию они получают из атмосферы. НЛО представляют собой обитающие исключительно в атмосфере одноклеточные размерами от нескольких сантиметров до километра. Эти существа якобы испускают инфракрасные лучи, благодаря чему остаются невидимы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200px-Alienigena"/>
          <p:cNvPicPr/>
          <p:nvPr/>
        </p:nvPicPr>
        <p:blipFill>
          <a:blip r:embed="rId2"/>
          <a:stretch/>
        </p:blipFill>
        <p:spPr>
          <a:xfrm>
            <a:off x="971640" y="2060640"/>
            <a:ext cx="1904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Благодарим за внимание</a:t>
            </a:r>
            <a:r>
              <a:rPr b="0" lang="ru-RU" sz="4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f0f4e7f2b718ac459943c18e9247cda8"/>
          <p:cNvPicPr/>
          <p:nvPr/>
        </p:nvPicPr>
        <p:blipFill>
          <a:blip r:embed="rId1"/>
          <a:stretch/>
        </p:blipFill>
        <p:spPr>
          <a:xfrm>
            <a:off x="1547640" y="1557360"/>
            <a:ext cx="6985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ипотезы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08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рмин «НЛО» —это понятие, обозначающее передвижение в воздушном пространстве не идентифицированных летательных аппаратов, не поддающихся классификации. В уфологии — обобщает все случаи наблюдения не идентифицированных летательных аппаратов, которым на данный момент нет другого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аучн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объяснения. 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ajestic-flying-saucer"/>
          <p:cNvPicPr/>
          <p:nvPr/>
        </p:nvPicPr>
        <p:blipFill>
          <a:blip r:embed="rId2"/>
          <a:stretch/>
        </p:blipFill>
        <p:spPr>
          <a:xfrm rot="20241000">
            <a:off x="5292360" y="2636640"/>
            <a:ext cx="35290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ерсия внеземного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442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неземная гипотеза происхождения </a:t>
            </a:r>
            <a:r>
              <a:rPr b="1" i="1" lang="ru-RU" sz="2800" spc="-1" strike="noStrike">
                <a:solidFill>
                  <a:srgbClr val="980202"/>
                </a:solidFill>
                <a:latin typeface="Baskerville Old Face"/>
              </a:rPr>
              <a:t>НЛ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— наиболее распространённая гипотеза, объявляющая НЛО 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космическими корабля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инопланетя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Большинство 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уфолог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рассматривает только эту гипотез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ufo"/>
          <p:cNvPicPr/>
          <p:nvPr/>
        </p:nvPicPr>
        <p:blipFill>
          <a:blip r:embed="rId4"/>
          <a:stretch/>
        </p:blipFill>
        <p:spPr>
          <a:xfrm>
            <a:off x="5219640" y="2276640"/>
            <a:ext cx="31338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История гипотезы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010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женни Рэнделс и Питер Хоу в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книг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Тайны НЛО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ысказывали предположение, что внеземная гипотеза возникла из-за того, что военные, которые занимались в конце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1940-х г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изучением «летающих тарелок», опасаясь возможной их причастности к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Советскому Союз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заранее исходили из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постула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что НЛО являются чьими-нибудь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летательными аппарат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Ufo_museum,_diyarbakir2"/>
          <p:cNvPicPr/>
          <p:nvPr/>
        </p:nvPicPr>
        <p:blipFill>
          <a:blip r:embed="rId6"/>
          <a:stretch/>
        </p:blipFill>
        <p:spPr>
          <a:xfrm>
            <a:off x="324000" y="3716280"/>
            <a:ext cx="216036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История гипотезы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6000840" cy="281952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еземная версия высказывалась ещё и в книге Джессапа Морриса ,где автор утверждал, что возле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Земл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находится инопланетная база, а НЛО прилетают на Землю откуда-то из Солнечной системы. Моррис писал, что инопланетные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технолог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о многом превосходят земны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morris1"/>
          <p:cNvPicPr/>
          <p:nvPr/>
        </p:nvPicPr>
        <p:blipFill>
          <a:blip r:embed="rId3"/>
          <a:stretch/>
        </p:blipFill>
        <p:spPr>
          <a:xfrm>
            <a:off x="6012000" y="2060640"/>
            <a:ext cx="2935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Доказательства гипотезы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5761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дуард Мейер из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Швейцар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утверждал, что в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1975 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ел опустившийся на землю НЛО и общался с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человекоподобными существ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будто бы назвавшимися пришельцами с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Плеяд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 сообщают,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ферме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Гарри Уилкокс удобрял своё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пол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озле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гор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Тайога,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штат Нью-Йорк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На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опушк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он заметил некий серебристый предмет, который был им принят за выброшенный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холодильник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затем —за часть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самолё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казалось, что на земле стоял яйцевидный объект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металлическ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цвета примерно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3"/>
              </a:rPr>
              <a:t>5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а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4"/>
              </a:rPr>
              <a:t>6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5"/>
              </a:rPr>
              <a:t>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ufojpg_9649144_3483370"/>
          <p:cNvPicPr/>
          <p:nvPr/>
        </p:nvPicPr>
        <p:blipFill>
          <a:blip r:embed="rId16"/>
          <a:stretch/>
        </p:blipFill>
        <p:spPr>
          <a:xfrm>
            <a:off x="5796000" y="2349360"/>
            <a:ext cx="334800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Верс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 естественного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47640" y="1844280"/>
            <a:ext cx="7010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же есть предположение некоторых учёных что многие НЛО — это 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шаровая мол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34203-fb0f9-18698405-"/>
          <p:cNvPicPr/>
          <p:nvPr/>
        </p:nvPicPr>
        <p:blipFill>
          <a:blip r:embed="rId2"/>
          <a:stretch/>
        </p:blipFill>
        <p:spPr>
          <a:xfrm>
            <a:off x="2411280" y="3429000"/>
            <a:ext cx="4364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Верс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 естественного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211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Гипотезы о естественном происхождении НЛ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основаны на вере в то, что все необъяснённые случаи, сообщения о НЛО, если не являются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мистификация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то возникают вследствие наблюдения за явлениями, уже известными, описанными и изученными современной наукой: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метеор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летящими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птиц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горящи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болотным газ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320328912_nlo-fr-003"/>
          <p:cNvPicPr/>
          <p:nvPr/>
        </p:nvPicPr>
        <p:blipFill>
          <a:blip r:embed="rId7"/>
          <a:stretch/>
        </p:blipFill>
        <p:spPr>
          <a:xfrm rot="1510200">
            <a:off x="4571640" y="256500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сихосоциальные гипотезы происхождения НЛО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7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вестно, что ещё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К. Г. Юнг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рассматривал сообщения о НЛО как современный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миф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он отмечал возможную связь между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дискообразно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формой «летающей тарелки» и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мандалой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— оккультным символом в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индуизм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буддизм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олицетворяющем целостность, завершённость. Большую заинтересованность НЛО во второй половине 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XX век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Юнг объяснял стремлением человека к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гармон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 неспокойное врем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3858-al01"/>
          <p:cNvPicPr/>
          <p:nvPr/>
        </p:nvPicPr>
        <p:blipFill>
          <a:blip r:embed="rId8"/>
          <a:stretch/>
        </p:blipFill>
        <p:spPr>
          <a:xfrm>
            <a:off x="5867280" y="2349360"/>
            <a:ext cx="29340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6:48:22Z</dcterms:created>
  <dc:creator>Евгения</dc:creator>
  <dc:description/>
  <dc:language>en-US</dc:language>
  <cp:lastModifiedBy>Максим</cp:lastModifiedBy>
  <dcterms:modified xsi:type="dcterms:W3CDTF">2012-03-25T20:33:22Z</dcterms:modified>
  <cp:revision>2</cp:revision>
  <dc:subject/>
  <dc:title>НЛО(неопознанный летающий объект)</dc:title>
</cp:coreProperties>
</file>