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195-1320-477B-901C-9F84564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7F5-B333-4548-A829-6591A566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CBC-3EFC-43CD-A491-B827E2E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4F8-E261-47D8-AD77-8D982FED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4CAE8-1357-46BE-9AA2-9720E9CE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DE251-1884-433A-B7B6-B684860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F7693-96D1-432C-A193-4FC39571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88768-27EE-47C8-A227-36EB3C34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36791-5DEA-41EF-8893-9F062C0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AE1B2-DB40-4341-AA16-BF67A24B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D29D9-E9B8-4DA6-9C07-1A770FA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F8D-E45B-4D21-8553-5E45540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0ACC9-ACD5-4B02-AB22-EEA1F91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B5B9F-F634-4C9E-A37D-568EE2CD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C299-05BE-458D-8C48-643169D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77E8E-EAA3-43FC-A9E5-5681CC16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80275-8407-4BDA-B6C9-5CAFBE3C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E9EC-E303-4BE5-8FE7-5A18E5DE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076D-E6F2-4638-9316-36AB03E9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791D-155B-4A19-88B4-6C4FF19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7325-6EA6-4FDB-9112-5FA5782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9100-CF2B-4DE2-B1B8-9364476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D3B-EEAC-4DFE-95A5-620CDA4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488A-4629-4719-A9D7-AD0AA0C6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655B-3FCE-484C-9469-548D5E9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3D12-190E-4957-AD4B-03C5536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11B0-2B4A-46EB-8E15-7D17CD1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68A0-14D5-46AA-ABA6-E8F0E84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83B4-C30D-4086-9620-C69092E6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C1482-AE40-4680-954B-47A1FC50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C4BF1-7717-4DBB-B294-D65622F4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4297D-81A5-4FE0-8737-9750ECEE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61BFB-CA4D-43A3-B1C2-77B7AEC8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629-20E8-479B-A35A-71BCF3D8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D4993-38D7-487B-83CE-B35D2EFB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32085-A339-449C-8142-1C8C5F47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95587-4FD8-4026-BAAA-52F81BD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887640-8D1C-4622-AA5C-71F3EEB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46FAC-C9D7-47CA-BC9B-A248D6D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0D14E-3291-4D0D-8555-DBDF09C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362FE-E60D-4E51-8828-0EC188C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917AE-761E-46D0-8182-F5715286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D8149-93D0-42CE-B0B4-98E5DEA4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A41-3F02-4535-8CEB-4E9E50D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151-A1E6-4ABF-9D20-50D77ED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97A-3167-419B-A4A9-1828611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941-0BB6-4541-B85E-E6ED55D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687-0E99-4804-AC6E-C9920945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B6AE-BD84-4BBA-B922-C5C3297EB79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239-AD59-4C6A-B8F7-AB163B8FD3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92F-DFAB-47B1-9035-7F550C0E431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E99E-74C7-4F21-94C0-9EDBCC67A43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308800" cy="242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Root\Рабочий стол\к уроку МХК\16-kiji.jpg"/>
          <p:cNvPicPr/>
          <p:nvPr/>
        </p:nvPicPr>
        <p:blipFill>
          <a:blip r:embed="rId2"/>
          <a:stretch/>
        </p:blipFill>
        <p:spPr>
          <a:xfrm>
            <a:off x="1928880" y="1928880"/>
            <a:ext cx="5659200" cy="4244760"/>
          </a:xfrm>
          <a:prstGeom prst="rect">
            <a:avLst/>
          </a:prstGeom>
          <a:ln w="9360">
            <a:solidFill>
              <a:srgbClr val="333a1d">
                <a:alpha val="35000"/>
              </a:srgbClr>
            </a:solidFill>
            <a:miter/>
          </a:ln>
          <a:effectLst>
            <a:outerShdw dist="50760" dir="5400000" blurRad="0" rotWithShape="0">
              <a:srgbClr val="2d2901">
                <a:alpha val="3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рковь увенчана 22 главами, размещёнными ярусами на кровлях прирубов и восьмериков, имеющих криволинейную форму типа «бочки». Форма и размеры глав меняются по ярусам, что придаёт своеобразный ритмический рисунок облику церкв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5" descr=""/>
          <p:cNvPicPr/>
          <p:nvPr/>
        </p:nvPicPr>
        <p:blipFill>
          <a:blip r:embed="rId1"/>
          <a:stretch/>
        </p:blipFill>
        <p:spPr>
          <a:xfrm>
            <a:off x="365040" y="152280"/>
            <a:ext cx="8321760" cy="30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Деревянный Коломенский дворец"/>
          <p:cNvPicPr/>
          <p:nvPr/>
        </p:nvPicPr>
        <p:blipFill>
          <a:blip r:embed="rId2"/>
          <a:stretch/>
        </p:blipFill>
        <p:spPr>
          <a:xfrm>
            <a:off x="1071720" y="3143160"/>
            <a:ext cx="710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339 году был построен деревянный Московский кремль. Он был построен при Иване Кали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рхеологи раскопали остатки его стен, сложенных их огромных дубовых  бревен толщиной в 70 с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ая длина стен составляла 1700 м. с двух сторон крепость прикрывали  реки – Москва и Неглинн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 стороны Красной площади был прорыт р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Древнерусская культура была преимущественно деревянной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Из дерева возводили дома, дворцы, храмы, крепости, мосты и многие другие сооружения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звестно, что Россия — «деревянная страна». Ни в одной другой стране мира нет такого количества памятников деревянного зодчеств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древле на Руси из дерева строили стены и башни крепостей, избы и дворцы, храмы и мос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ая земля богата лесами  . В  давние времена человеку стоило выйти с топором за околицу своего селения, чтобы начать рубить ле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5561"/>
          <p:cNvPicPr/>
          <p:nvPr/>
        </p:nvPicPr>
        <p:blipFill>
          <a:blip r:embed="rId1"/>
          <a:stretch/>
        </p:blipFill>
        <p:spPr>
          <a:xfrm>
            <a:off x="857160" y="1143000"/>
            <a:ext cx="3357720" cy="4457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4357800" y="928800"/>
            <a:ext cx="414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Лучший материал для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хвойные породы деревьев: лиственница, сосна, ель. Они, как правило,  имеют прямые стволы, что очень ценится в строительстве. Все хвойные деревья смолисты, а значит, мало подвержены гниению. В них почти не бывает…..и они легко расщепляются на до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рево, не в пример камню , легко поддается обработке, а значит, строительство идет быстр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лой дом или храм артель плотников могла сложить за один ден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C:\Documents and Settings\Root\Рабочий стол\к уроку МХК\YeniseiRiverShipping-1248.jpg"/>
          <p:cNvPicPr/>
          <p:nvPr/>
        </p:nvPicPr>
        <p:blipFill>
          <a:blip r:embed="rId1"/>
          <a:stretch/>
        </p:blipFill>
        <p:spPr>
          <a:xfrm>
            <a:off x="2571840" y="3571920"/>
            <a:ext cx="3881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Один французский путешественник, побывав в России в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XVI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веке, писал: «Постройка из бревен превосходна. Нет ни гвоздей, ни крючив, но все так хорошо отделано, что нечего похулить, хотя у строителей все орудия состоят в одних топорах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Деревянные сооружения легко разбираются и перевозятся на новое место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равда есть у дерева враги: огонь, влага, жучки - древоточцы. Вот почему старинных деревянных </a:t>
            </a:r>
            <a:r>
              <a:rPr b="0" lang="ru-RU" sz="32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остроек сохранилось немног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5000760" y="13773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Древнейшая из них – церковь Воскрешения святого Лазаря – находится в музее деревянного зодчества в Кижах в Карелии. Некоторые ученые считают, что она была построена ещё в конце </a:t>
            </a:r>
            <a:r>
              <a:rPr b="0" lang="en-US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XVI</a:t>
            </a: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 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Церковь Воскрешения Лазаря"/>
          <p:cNvPicPr/>
          <p:nvPr/>
        </p:nvPicPr>
        <p:blipFill>
          <a:blip r:embed="rId1"/>
          <a:stretch/>
        </p:blipFill>
        <p:spPr>
          <a:xfrm>
            <a:off x="571680" y="1000080"/>
            <a:ext cx="4019400" cy="293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 rot="21391200">
            <a:off x="882720" y="40874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ковь Воскрешения святого  Лаз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kiji3"/>
          <p:cNvPicPr/>
          <p:nvPr/>
        </p:nvPicPr>
        <p:blipFill>
          <a:blip r:embed="rId1"/>
          <a:stretch/>
        </p:blipFill>
        <p:spPr>
          <a:xfrm>
            <a:off x="3571920" y="2857680"/>
            <a:ext cx="5251320" cy="3500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"/>
          <p:cNvSpPr/>
          <p:nvPr/>
        </p:nvSpPr>
        <p:spPr>
          <a:xfrm>
            <a:off x="642960" y="64296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никальный Кижский ансамбль является объектом Всемирного культурного насле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реображенская церк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G:\школьные проекты\для проекта Зодчество и костюм\Спасопереображеская  церковь.jpg"/>
          <p:cNvPicPr/>
          <p:nvPr/>
        </p:nvPicPr>
        <p:blipFill>
          <a:blip r:embed="rId2"/>
          <a:stretch/>
        </p:blipFill>
        <p:spPr>
          <a:xfrm>
            <a:off x="500040" y="1928880"/>
            <a:ext cx="2595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2:54:39Z</dcterms:modified>
  <cp:revision>3</cp:revision>
  <dc:subject/>
  <dc:title>Деревянные постройки Руси. </dc:title>
</cp:coreProperties>
</file>