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B5C-7EAA-4412-8644-5FEDD8D0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B98-397A-4126-8B0E-0CFA635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4FD-BE58-4A77-9121-902122EF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BFA-1E5D-4F38-8B81-AD481131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4CDF5-FC16-455E-A49C-AA0F5688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22F7-EB1C-4F76-8935-F85218D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3F0C-3FFE-4F5A-B788-9C9DE81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F0E4-645C-4EFB-8424-89AB3407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1B536-AF1B-4349-AE22-B574A042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C765-0C9A-4DA9-9228-03B0390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DC49-6F7D-4480-A26C-730B96A8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2D4-30E3-487B-9137-881DCF1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9AEC1-E879-4C58-8395-BAB11C3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304DD-082F-4E74-A044-845F059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F74F1-6145-4D56-A969-2866A83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C998F-140A-4E90-A07B-C9947BD2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E5971-B338-4755-B8E6-972B07B9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D3BA-2A4E-4FA9-AB18-C667852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E437-A4DC-4408-A65E-E2DE200A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8A83-763E-463D-86DB-6022EEEF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0E71-70BE-4334-9EB1-2DA05EF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3C77-48EF-4665-8596-BC83699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148-0EAA-404F-AC74-0EE18DC4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F66EC-5451-486F-8787-975FD4F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70BC-F2E7-49EA-9EEF-173C33B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6850A-763B-4C93-AFE3-F441FA86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65C14-CCB6-4041-8C4E-005C83D6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A97B-543F-475B-8003-D5B151E5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F65DB-01DF-4107-AC89-12D134D3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96BB-07C5-4326-AA1A-E49ECCE5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5E98A-DF95-42E2-9FE5-815DCD13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D11956-6DD1-49B0-9861-23DF8B64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F3D03-78BC-44AC-BCE5-08F435B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C2E-FDE6-446B-8148-4AA213B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260A2-E778-465C-A2F4-9BFEFC1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637CC-D2AE-4D41-BF86-51DE5028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575AC-7918-45BD-8674-5EEF1C3A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48DD6-6FAF-4CB7-B762-6BAC6EB8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AC9E1-34B2-444B-A1D1-6D9485B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73540-C8A3-42AF-848D-8435A7C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EB5A6-3347-4815-940D-BB845330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AF0EF-6E82-4918-ABEF-AC492349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B3017-3D08-4422-9312-54108204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F6B-9A71-4F97-A1D9-2436D3A2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17E-17D9-4376-8AC8-089702B8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BB0-9191-4980-9A45-A817BE6A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625-3A68-4F35-A038-750837C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0A6-6129-496C-951E-6E53C519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AC72-090D-471F-8D99-B63F6B9EBEE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172F-9B2C-4B8A-9C46-AA94394BDAF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BD14-D764-4277-9250-06729DA8DAA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11C-C108-4599-A88B-8B096066428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308800" cy="2421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Root\Рабочий стол\к уроку МХК\16-kiji.jpg"/>
          <p:cNvPicPr/>
          <p:nvPr/>
        </p:nvPicPr>
        <p:blipFill>
          <a:blip r:embed="rId2"/>
          <a:stretch/>
        </p:blipFill>
        <p:spPr>
          <a:xfrm>
            <a:off x="1928880" y="1928880"/>
            <a:ext cx="5659200" cy="4244760"/>
          </a:xfrm>
          <a:prstGeom prst="rect">
            <a:avLst/>
          </a:prstGeom>
          <a:ln w="9360">
            <a:solidFill>
              <a:srgbClr val="333a1d">
                <a:alpha val="35000"/>
              </a:srgbClr>
            </a:solidFill>
            <a:miter/>
          </a:ln>
          <a:effectLst>
            <a:outerShdw dist="50760" dir="5400000" blurRad="0" rotWithShape="0">
              <a:srgbClr val="2d2901">
                <a:alpha val="3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рковь увенчана 22 главами, размещёнными ярусами на кровлях прирубов и восьмериков, имеющих криволинейную форму типа «бочки». Форма и размеры глав меняются по ярусам, что придаёт своеобразный ритмический рисунок облику церкв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500040"/>
            <a:ext cx="8229600" cy="55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15" descr=""/>
          <p:cNvPicPr/>
          <p:nvPr/>
        </p:nvPicPr>
        <p:blipFill>
          <a:blip r:embed="rId1"/>
          <a:stretch/>
        </p:blipFill>
        <p:spPr>
          <a:xfrm>
            <a:off x="365040" y="152280"/>
            <a:ext cx="8321760" cy="30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Деревянный Коломенский дворец"/>
          <p:cNvPicPr/>
          <p:nvPr/>
        </p:nvPicPr>
        <p:blipFill>
          <a:blip r:embed="rId2"/>
          <a:stretch/>
        </p:blipFill>
        <p:spPr>
          <a:xfrm>
            <a:off x="1071720" y="3143160"/>
            <a:ext cx="710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339 году был построен деревянный Московский кремль. Он был построен при Иване Калит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рхеологи раскопали остатки его стен, сложенных их огромных дубовых  бревен толщиной в 70 с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ая длина стен составляла 1700 м. с двух сторон крепость прикрывали  реки – Москва и Неглинна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 стороны Красной площади был прорыт р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d2901"/>
                </a:solidFill>
                <a:latin typeface="Constantia"/>
              </a:rPr>
              <a:t>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Древнерусская культура была преимущественно деревянной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2d2901"/>
                </a:solidFill>
                <a:latin typeface="Constantia"/>
              </a:rPr>
              <a:t>Из дерева возводили дома, дворцы, храмы, крепости, мосты и многие другие сооружения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звестно, что Россия — «деревянная страна». Ни в одной другой стране мира нет такого количества памятников деревянного зодчества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древле на Руси из дерева строили стены и башни крепостей, избы и дворцы, храмы и мос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ая земля богата лесами  . В  давние времена человеку стоило выйти с топором за околицу своего селения, чтобы начать рубить ле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5561"/>
          <p:cNvPicPr/>
          <p:nvPr/>
        </p:nvPicPr>
        <p:blipFill>
          <a:blip r:embed="rId1"/>
          <a:stretch/>
        </p:blipFill>
        <p:spPr>
          <a:xfrm>
            <a:off x="857160" y="1143000"/>
            <a:ext cx="3357720" cy="4457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4357800" y="928800"/>
            <a:ext cx="414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Лучший материал для строительст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– хвойные породы деревьев: лиственница, сосна, ель. Они, как правило,  имеют прямые стволы, что очень ценится в строительстве. Все хвойные деревья смолисты, а значит, мало подвержены гниению. В них почти не бывает…..и они легко расщепляются на дос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рево, не в пример камню , легко поддается обработке, а значит, строительство идет быстр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илой дом или храм артель плотников могла сложить за один ден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1" name="Picture 2" descr="C:\Documents and Settings\Root\Рабочий стол\к уроку МХК\YeniseiRiverShipping-1248.jpg"/>
          <p:cNvPicPr/>
          <p:nvPr/>
        </p:nvPicPr>
        <p:blipFill>
          <a:blip r:embed="rId1"/>
          <a:stretch/>
        </p:blipFill>
        <p:spPr>
          <a:xfrm>
            <a:off x="2571840" y="3571920"/>
            <a:ext cx="38815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Один французский путешественник, побывав в России в </a:t>
            </a:r>
            <a:r>
              <a:rPr b="1" i="1" lang="en-US" sz="3200" spc="-1" strike="noStrike">
                <a:solidFill>
                  <a:srgbClr val="ffffff"/>
                </a:solidFill>
                <a:latin typeface="Constantia"/>
              </a:rPr>
              <a:t>XVI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 веке, писал: «Постройка из бревен превосходна. Нет ни гвоздей, ни крючив, но все так хорошо отделано, что нечего похулить, хотя у строителей все орудия состоят в одних топорах»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Деревянные сооружения легко разбираются и перевозятся на новое место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равда есть у дерева враги: огонь, влага, жучки - древоточцы. Вот почему старинных деревянных </a:t>
            </a:r>
            <a:r>
              <a:rPr b="0" lang="ru-RU" sz="3200" spc="-1" strike="noStrike">
                <a:solidFill>
                  <a:srgbClr val="222613"/>
                </a:solidFill>
                <a:latin typeface="Constantia"/>
                <a:ea typeface="Times New Roman"/>
              </a:rPr>
              <a:t>построек сохранилось немного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5000760" y="1377360"/>
            <a:ext cx="3786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Древнейшая из них – церковь Воскрешения святого Лазаря – находится в музее деревянного зодчества в Кижах в Карелии. Некоторые ученые считают, что она была построена ещё в конце </a:t>
            </a:r>
            <a:r>
              <a:rPr b="0" lang="en-US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XVI</a:t>
            </a:r>
            <a:r>
              <a:rPr b="0" lang="ru-RU" sz="28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 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Церковь Воскрешения Лазаря"/>
          <p:cNvPicPr/>
          <p:nvPr/>
        </p:nvPicPr>
        <p:blipFill>
          <a:blip r:embed="rId1"/>
          <a:stretch/>
        </p:blipFill>
        <p:spPr>
          <a:xfrm>
            <a:off x="571680" y="1000080"/>
            <a:ext cx="4019400" cy="293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 rot="21391200">
            <a:off x="882720" y="40874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рковь Воскрешения святого  Лаза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kiji3"/>
          <p:cNvPicPr/>
          <p:nvPr/>
        </p:nvPicPr>
        <p:blipFill>
          <a:blip r:embed="rId1"/>
          <a:stretch/>
        </p:blipFill>
        <p:spPr>
          <a:xfrm>
            <a:off x="3571920" y="2857680"/>
            <a:ext cx="5251320" cy="35002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"/>
          <p:cNvSpPr/>
          <p:nvPr/>
        </p:nvSpPr>
        <p:spPr>
          <a:xfrm>
            <a:off x="642960" y="64296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никальный Кижский ансамбль является объектом Всемирного культурного насле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Преображенская церков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G:\школьные проекты\для проекта Зодчество и костюм\Спасопереображеская  церковь.jpg"/>
          <p:cNvPicPr/>
          <p:nvPr/>
        </p:nvPicPr>
        <p:blipFill>
          <a:blip r:embed="rId2"/>
          <a:stretch/>
        </p:blipFill>
        <p:spPr>
          <a:xfrm>
            <a:off x="500040" y="1928880"/>
            <a:ext cx="2595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2T12:54:39Z</dcterms:modified>
  <cp:revision>3</cp:revision>
  <dc:subject/>
  <dc:title>Деревянные постройки Руси. </dc:title>
</cp:coreProperties>
</file>