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287-26A6-4709-85C1-6DF56AE8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DE7-765F-4EFC-8FDC-D44FC8C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985-30C6-4AB2-9164-B0648B43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118-EE61-41B1-9D25-37762785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F90AD-E8D8-4EA1-8D0B-D6C0BFD0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DA92F-6858-4D3A-8863-B04982F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4E0F-D505-4373-BD29-F246E3D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FEAD-BE55-4875-925D-8320E1E5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7F9CF-BF58-4E61-9632-0F4E4131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108F3-F99B-4115-B243-4A5E8D5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27C2-664C-4456-BA1D-B32D2C3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AE4-8E62-4E17-B847-ECE99A8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5F403-F1B7-4A59-B9FA-3660DE3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B50B-5180-4F7D-8025-54CA3A0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8D9DF-D0E1-41D8-8067-96DFF185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C74EC-5D47-49FD-9C9B-EC5DFF50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E1714-FFCA-4EE4-B417-B5A0CAAD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0663-4E5F-4368-8DB5-1910B0DE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D1A6-BA3F-408A-8D86-C043EAC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9798-B291-4340-A0F3-8E6A887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000D-68F5-4573-AAE6-9EA18C2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3DCD-2650-4DF8-96B9-2A0912D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161-266F-4639-83EC-E41DECCD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2D3F-9ABF-43BC-B91B-53A19995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3024-7B77-464B-8924-8AE4F79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5F89-6B83-43C0-947F-11B8E28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3EEE-79A4-4D2F-977D-74F89EA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4857-2A77-498C-A3EA-AD69065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0C0C-12AD-4041-B218-8CE1D0D7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671C-9138-4768-A9DB-15403CEA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EE3B4-01EE-4870-88F3-A9A4C5F8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29FCC-1640-43CC-B68F-34FB0A8D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A41FD-3C70-4EBB-8AFD-B0D46C94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04C-28E6-414D-A1D0-1F93EDB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F963B-2E1A-4B00-82EA-B9C2C2D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6E20F-F51F-4CD5-A108-8E33B46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DABD7-CA9A-412A-86F1-7099641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DF178-9F5A-4407-A408-47096A5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150198-8A92-41E2-9CCC-9DD0D82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2E88C-CE39-4832-B0E3-D833D8D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E5BA8-C5A9-4934-A298-6117644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1A042-6B23-4DC5-AA00-E1036E05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D9D08-12A6-4689-AD0C-CFF3530D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106-EFA6-4362-A4AF-CD0FB25E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8EA-436B-40BB-BBF7-4140491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949-C395-42C3-8126-509BEC5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238-214D-45EA-83F9-138135A3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3CC-C37D-4042-973C-D39F398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601-BC71-4D33-B2C8-FB14077A55C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8C47-3398-4CA2-B343-FCEB71F861E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FC2-76FA-4DF8-8472-3ECE359A6E1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F269-85B2-4960-9DA4-A0DA8C7D2FB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308800" cy="242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Root\Рабочий стол\к уроку МХК\16-kiji.jpg"/>
          <p:cNvPicPr/>
          <p:nvPr/>
        </p:nvPicPr>
        <p:blipFill>
          <a:blip r:embed="rId2"/>
          <a:stretch/>
        </p:blipFill>
        <p:spPr>
          <a:xfrm>
            <a:off x="1928880" y="1928880"/>
            <a:ext cx="5659200" cy="4244760"/>
          </a:xfrm>
          <a:prstGeom prst="rect">
            <a:avLst/>
          </a:prstGeom>
          <a:ln w="9360">
            <a:solidFill>
              <a:srgbClr val="333a1d">
                <a:alpha val="35000"/>
              </a:srgbClr>
            </a:solidFill>
            <a:miter/>
          </a:ln>
          <a:effectLst>
            <a:outerShdw dist="50760" dir="5400000" blurRad="0" rotWithShape="0">
              <a:srgbClr val="2d2901">
                <a:alpha val="3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рковь увенчана 22 главами, размещёнными ярусами на кровлях прирубов и восьмериков, имеющих криволинейную форму типа «бочки». Форма и размеры глав меняются по ярусам, что придаёт своеобразный ритмический рисунок облику церкв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5" descr=""/>
          <p:cNvPicPr/>
          <p:nvPr/>
        </p:nvPicPr>
        <p:blipFill>
          <a:blip r:embed="rId1"/>
          <a:stretch/>
        </p:blipFill>
        <p:spPr>
          <a:xfrm>
            <a:off x="365040" y="152280"/>
            <a:ext cx="8321760" cy="30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Деревянный Коломенский дворец"/>
          <p:cNvPicPr/>
          <p:nvPr/>
        </p:nvPicPr>
        <p:blipFill>
          <a:blip r:embed="rId2"/>
          <a:stretch/>
        </p:blipFill>
        <p:spPr>
          <a:xfrm>
            <a:off x="1071720" y="3143160"/>
            <a:ext cx="710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339 году был построен деревянный Московский кремль. Он был построен при Иване Кали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рхеологи раскопали остатки его стен, сложенных их огромных дубовых  бревен толщиной в 70 с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ая длина стен составляла 1700 м. с двух сторон крепость прикрывали  реки – Москва и Неглинн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 стороны Красной площади был прорыт р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Древнерусская культура была преимущественно деревянной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Из дерева возводили дома, дворцы, храмы, крепости, мосты и многие другие сооружения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звестно, что Россия — «деревянная страна». Ни в одной другой стране мира нет такого количества памятников деревянного зодчеств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древле на Руси из дерева строили стены и башни крепостей, избы и дворцы, храмы и мос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ая земля богата лесами  . В  давние времена человеку стоило выйти с топором за околицу своего селения, чтобы начать рубить ле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5561"/>
          <p:cNvPicPr/>
          <p:nvPr/>
        </p:nvPicPr>
        <p:blipFill>
          <a:blip r:embed="rId1"/>
          <a:stretch/>
        </p:blipFill>
        <p:spPr>
          <a:xfrm>
            <a:off x="857160" y="1143000"/>
            <a:ext cx="3357720" cy="4457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4357800" y="928800"/>
            <a:ext cx="414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Лучший материал для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хвойные породы деревьев: лиственница, сосна, ель. Они, как правило,  имеют прямые стволы, что очень ценится в строительстве. Все хвойные деревья смолисты, а значит, мало подвержены гниению. В них почти не бывает…..и они легко расщепляются на до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рево, не в пример камню , легко поддается обработке, а значит, строительство идет быстр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лой дом или храм артель плотников могла сложить за один ден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C:\Documents and Settings\Root\Рабочий стол\к уроку МХК\YeniseiRiverShipping-1248.jpg"/>
          <p:cNvPicPr/>
          <p:nvPr/>
        </p:nvPicPr>
        <p:blipFill>
          <a:blip r:embed="rId1"/>
          <a:stretch/>
        </p:blipFill>
        <p:spPr>
          <a:xfrm>
            <a:off x="2571840" y="3571920"/>
            <a:ext cx="3881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Один французский путешественник, побывав в России в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XVI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веке, писал: «Постройка из бревен превосходна. Нет ни гвоздей, ни крючив, но все так хорошо отделано, что нечего похулить, хотя у строителей все орудия состоят в одних топорах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Деревянные сооружения легко разбираются и перевозятся на новое место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равда есть у дерева враги: огонь, влага, жучки - древоточцы. Вот почему старинных деревянных </a:t>
            </a:r>
            <a:r>
              <a:rPr b="0" lang="ru-RU" sz="32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остроек сохранилось немног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5000760" y="13773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Древнейшая из них – церковь Воскрешения святого Лазаря – находится в музее деревянного зодчества в Кижах в Карелии. Некоторые ученые считают, что она была построена ещё в конце </a:t>
            </a:r>
            <a:r>
              <a:rPr b="0" lang="en-US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XVI</a:t>
            </a: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 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Церковь Воскрешения Лазаря"/>
          <p:cNvPicPr/>
          <p:nvPr/>
        </p:nvPicPr>
        <p:blipFill>
          <a:blip r:embed="rId1"/>
          <a:stretch/>
        </p:blipFill>
        <p:spPr>
          <a:xfrm>
            <a:off x="571680" y="1000080"/>
            <a:ext cx="4019400" cy="293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 rot="21391200">
            <a:off x="882720" y="40874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ковь Воскрешения святого  Лаз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kiji3"/>
          <p:cNvPicPr/>
          <p:nvPr/>
        </p:nvPicPr>
        <p:blipFill>
          <a:blip r:embed="rId1"/>
          <a:stretch/>
        </p:blipFill>
        <p:spPr>
          <a:xfrm>
            <a:off x="3571920" y="2857680"/>
            <a:ext cx="5251320" cy="3500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"/>
          <p:cNvSpPr/>
          <p:nvPr/>
        </p:nvSpPr>
        <p:spPr>
          <a:xfrm>
            <a:off x="642960" y="64296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никальный Кижский ансамбль является объектом Всемирного культурного насле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реображенская церк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G:\школьные проекты\для проекта Зодчество и костюм\Спасопереображеская  церковь.jpg"/>
          <p:cNvPicPr/>
          <p:nvPr/>
        </p:nvPicPr>
        <p:blipFill>
          <a:blip r:embed="rId2"/>
          <a:stretch/>
        </p:blipFill>
        <p:spPr>
          <a:xfrm>
            <a:off x="500040" y="1928880"/>
            <a:ext cx="2595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2:54:39Z</dcterms:modified>
  <cp:revision>3</cp:revision>
  <dc:subject/>
  <dc:title>Деревянные постройки Руси. </dc:title>
</cp:coreProperties>
</file>