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A76-9A38-4431-84D2-06D06EF9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417-8E97-4C6B-BBE8-42F7772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39B-0B8A-4B99-A8AF-ED672F33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B9E-CE94-4EEF-9597-195AEA9A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B91-14FD-4162-9EC5-FBAEDC1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05C-700B-43F3-B0ED-3D2DC9F8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D02-820A-4C0D-9D3D-5A276410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877-2A0A-41FF-9C25-D1500A5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F35-C4A4-4E7C-B0E4-22ADD61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62F-D7BE-4ACB-A294-091A243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6B8-905F-470F-977E-D7D95A6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79D-BB6D-450B-B0D8-538A98A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634-9C8F-4C3F-BEA9-C346EAAF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elenplaneta.ru/uploads/posts/2010-02/1265226099_53e84fc25e9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9 из 197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523880"/>
            <a:ext cx="8305920" cy="21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   РАСТ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879440" y="4952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Никандров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5840" y="5257800"/>
            <a:ext cx="35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Учитель биологии школа № 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Василеостр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304920"/>
            <a:ext cx="7925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еханическая  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24536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ают  прочность раст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на  группами  клеток  с утолщёнными оболочками. У некоторых клеток оболочки одревесне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419720"/>
            <a:ext cx="807732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7280" y="-3960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АЯ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334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Древесинные  и лубяные  волок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360" y="441972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НАХОДЯ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38088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роводящая  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990720" y="1523880"/>
            <a:ext cx="7162200" cy="4952880"/>
            <a:chOff x="990720" y="1523880"/>
            <a:chExt cx="7162200" cy="4952880"/>
          </a:xfrm>
        </p:grpSpPr>
        <p:pic>
          <p:nvPicPr>
            <p:cNvPr id="101" name="Picture 7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716220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4291560" y="1760040"/>
              <a:ext cx="2575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Сосу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2389320" y="1603800"/>
              <a:ext cx="2575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Ситовидные труб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23920" y="1523520"/>
            <a:ext cx="396252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 ним передвигаются растворённые в воде  питательн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8620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разованы живыми или мёртвыми клетками, которые имеют вид трубок или со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19720"/>
            <a:ext cx="807732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4440" y="3636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РОВОДЯЩАЯ 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2800" y="4419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Нах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080" y="53341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Сосуды  и  ситовидные  тру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Ткань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– это группа клеток, сходных по происхождению строению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и  выполняющих одинаковую  функц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Что такое ткани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Ткани растений и их многообраз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Строение 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Функции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естонахождение ткане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ст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228600"/>
            <a:ext cx="7619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  узна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086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растительны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ка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81080"/>
            <a:ext cx="1981080" cy="60984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кр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590920"/>
            <a:ext cx="2666880" cy="60948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057400"/>
            <a:ext cx="2438280" cy="60948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сн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2438640" cy="83844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343400"/>
            <a:ext cx="2514600" cy="76212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оводя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3000" y="16765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765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09320" y="1905120"/>
            <a:ext cx="7621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228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ровная тка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6095880"/>
            <a:ext cx="31240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 – 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щи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38480" cy="266724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Живые или мёртвые клетки. Оболочки утолщённые, плотно сомк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191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аход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7760" y="4876920"/>
            <a:ext cx="5572800" cy="58140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жица и пробка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3520" y="203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920" y="152280"/>
            <a:ext cx="8305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ательная тка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2743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летки молодые, маленькие по размеру, с тонкими оболочками и крупными ядрами, плотно прилегают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0600" y="1066680"/>
            <a:ext cx="4038480" cy="2743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ление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ост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зование новы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380880"/>
            <a:ext cx="2819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38088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3962520"/>
            <a:ext cx="5943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ходи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724280"/>
            <a:ext cx="7772400" cy="1447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0600" y="4876920"/>
            <a:ext cx="671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ерхушка корня,  стебля (кон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рас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Образовательная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2120" y="304920"/>
            <a:ext cx="74674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разова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пасание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еспечивает клетки 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деление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нимает место между покровными, механическими и проводящими тка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419720"/>
            <a:ext cx="807696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522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Основная 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6480" y="4468680"/>
            <a:ext cx="34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АХ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1680" y="4981680"/>
            <a:ext cx="858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 всех органах растения: листья, стебли трав,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верхн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нутри различны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20:31:54Z</dcterms:created>
  <dc:creator>user1</dc:creator>
  <dc:description/>
  <dc:language>en-US</dc:language>
  <cp:lastModifiedBy>user1</cp:lastModifiedBy>
  <dcterms:modified xsi:type="dcterms:W3CDTF">2011-10-05T05:27:5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