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14E-6B74-4206-AD30-959761C8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FEE-3532-462A-9E42-898FD547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E09-4E50-4389-8EC9-4E4990C3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C39-075B-4D55-8681-93306160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0EB-600A-46C1-8548-74AED61A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F93-8954-4F23-A06C-640BA64F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6B5-972A-496F-AA4E-42965325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446-8B9B-41BF-8C2C-0E11ED4D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525-0A83-40A9-8C23-F4165B22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587-6E90-426B-AEBF-CFA2AFDD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0B3-7CBE-4D30-B16D-86C550D3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DE6C-ED39-43F3-AC7D-F1278027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BD06-10EF-486C-B645-CB035D728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zelenplaneta.ru/uploads/posts/2010-02/1265226099_53e84fc25e94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19 из 197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1523880"/>
            <a:ext cx="8305920" cy="21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КАНИ   РАСТ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4879440" y="495288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Никандрова Наталья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5840" y="5257800"/>
            <a:ext cx="35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Учитель биологии школа № 5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Василеостр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09480" y="304920"/>
            <a:ext cx="7925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еханическая  тка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24536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дают  прочность раст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95280" y="53352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80988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ована  группами  клеток  с утолщёнными оболочками. У некоторых клеток оболочки одревесне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38680" y="609480"/>
            <a:ext cx="178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419720"/>
            <a:ext cx="8077320" cy="2133360"/>
          </a:xfrm>
          <a:prstGeom prst="rect">
            <a:avLst/>
          </a:prstGeom>
          <a:solidFill>
            <a:srgbClr val="fc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07280" y="-3960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ЧЕСКАЯ 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53341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Древесинные  и лубяные  волок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360" y="441972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НАХОДЯ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380880"/>
            <a:ext cx="7467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роводящая  тка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990720" y="1523880"/>
            <a:ext cx="7162200" cy="4952880"/>
            <a:chOff x="990720" y="1523880"/>
            <a:chExt cx="7162200" cy="4952880"/>
          </a:xfrm>
        </p:grpSpPr>
        <p:pic>
          <p:nvPicPr>
            <p:cNvPr id="101" name="Picture 7" descr=""/>
            <p:cNvPicPr/>
            <p:nvPr/>
          </p:nvPicPr>
          <p:blipFill>
            <a:blip r:embed="rId1"/>
            <a:stretch/>
          </p:blipFill>
          <p:spPr>
            <a:xfrm>
              <a:off x="990720" y="1523880"/>
              <a:ext cx="7162200" cy="49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8"/>
            <p:cNvSpPr/>
            <p:nvPr/>
          </p:nvSpPr>
          <p:spPr>
            <a:xfrm>
              <a:off x="4291560" y="1760040"/>
              <a:ext cx="257580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Сосуд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2389320" y="1603800"/>
              <a:ext cx="257580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Ситовидные труб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723920" y="1523520"/>
            <a:ext cx="396252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о  ним передвигаются растворённые в воде  питательны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95280" y="53352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88620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бразованы живыми или мёртвыми клетками, которые имеют вид трубок или со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38680" y="609480"/>
            <a:ext cx="178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19720"/>
            <a:ext cx="8077320" cy="2133360"/>
          </a:xfrm>
          <a:prstGeom prst="rect">
            <a:avLst/>
          </a:prstGeom>
          <a:solidFill>
            <a:srgbClr val="fc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34440" y="3636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ПРОВОДЯЩАЯ  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52800" y="441972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Наход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080" y="533412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Сосуды  и  ситовидные  тру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4983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Ткань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– это группа клеток, сходных по происхождению строению</a:t>
            </a:r>
            <a:r>
              <a:rPr b="1" lang="ru-RU" sz="48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и  выполняющих одинаковую  функци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Что такое ткани орган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Ткани растений и их многообраз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Строение  тк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Функции тк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Местонахождение тканей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раст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2120" y="228600"/>
            <a:ext cx="7619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ы  узна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0866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растительных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кане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981080"/>
            <a:ext cx="1981080" cy="609840"/>
          </a:xfrm>
          <a:prstGeom prst="rect">
            <a:avLst/>
          </a:prstGeom>
          <a:solidFill>
            <a:srgbClr val="d0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окр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590920"/>
            <a:ext cx="2666880" cy="609480"/>
          </a:xfrm>
          <a:prstGeom prst="rect">
            <a:avLst/>
          </a:prstGeom>
          <a:solidFill>
            <a:srgbClr val="d0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бразов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057400"/>
            <a:ext cx="2438280" cy="609480"/>
          </a:xfrm>
          <a:prstGeom prst="rect">
            <a:avLst/>
          </a:prstGeom>
          <a:solidFill>
            <a:srgbClr val="d0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сн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267080"/>
            <a:ext cx="2438640" cy="838440"/>
          </a:xfrm>
          <a:prstGeom prst="rect">
            <a:avLst/>
          </a:prstGeom>
          <a:solidFill>
            <a:srgbClr val="d0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ехан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343400"/>
            <a:ext cx="2514600" cy="762120"/>
          </a:xfrm>
          <a:prstGeom prst="rect">
            <a:avLst/>
          </a:prstGeom>
          <a:solidFill>
            <a:srgbClr val="d0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роводя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143000" y="16765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676520"/>
            <a:ext cx="1600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209320" y="1905120"/>
            <a:ext cx="7621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905120"/>
            <a:ext cx="9907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2286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кровная ткан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762012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19520" y="6095880"/>
            <a:ext cx="312408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 – покровн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2667240"/>
          </a:xfrm>
          <a:prstGeom prst="rect">
            <a:avLst/>
          </a:prstGeom>
          <a:noFill/>
          <a:ln w="76320">
            <a:solidFill>
              <a:srgbClr val="e4f50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ащит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95280" y="53352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38480" cy="2667240"/>
          </a:xfrm>
          <a:prstGeom prst="rect">
            <a:avLst/>
          </a:prstGeom>
          <a:noFill/>
          <a:ln w="76320">
            <a:solidFill>
              <a:srgbClr val="e4f50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Живые или мёртвые клетки. Оболочки утолщённые, плотно сомк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38680" y="609480"/>
            <a:ext cx="178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4191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аход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7760" y="4876920"/>
            <a:ext cx="5572800" cy="581400"/>
          </a:xfrm>
          <a:prstGeom prst="rect">
            <a:avLst/>
          </a:prstGeom>
          <a:noFill/>
          <a:ln w="76320">
            <a:solidFill>
              <a:srgbClr val="e4f5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ожица и пробка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3520" y="20304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Покровн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04920" y="152280"/>
            <a:ext cx="8305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овательная ткан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924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274320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летки молодые, маленькие по размеру, с тонкими оболочками и крупными ядрами, плотно прилегают друг к др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00600" y="1066680"/>
            <a:ext cx="4038480" cy="274320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ление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ост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разование новых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380880"/>
            <a:ext cx="2819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867280" y="380880"/>
            <a:ext cx="228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828800" y="3962520"/>
            <a:ext cx="5943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ходитс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724280"/>
            <a:ext cx="7772400" cy="1447920"/>
          </a:xfrm>
          <a:prstGeom prst="rect">
            <a:avLst/>
          </a:prstGeom>
          <a:solidFill>
            <a:srgbClr val="ffff66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90600" y="4876920"/>
            <a:ext cx="671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ерхушка корня,  стебля (кону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раст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3640" y="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Образовательная 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62120" y="304920"/>
            <a:ext cx="74674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а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бразование органическ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Запасание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беспечивает клетки кисл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ыделение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95280" y="53352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80988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нимает место между покровными, механическими и проводящими ткан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638680" y="609480"/>
            <a:ext cx="178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419720"/>
            <a:ext cx="8076960" cy="2133360"/>
          </a:xfrm>
          <a:prstGeom prst="rect">
            <a:avLst/>
          </a:prstGeom>
          <a:solidFill>
            <a:srgbClr val="fc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228600"/>
            <a:ext cx="39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1522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Основная  тк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76480" y="4468680"/>
            <a:ext cx="340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АХОД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1680" y="4981680"/>
            <a:ext cx="858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о всех органах растения: листья, стебли трав,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верхност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нутри различных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20:31:54Z</dcterms:created>
  <dc:creator>user1</dc:creator>
  <dc:description/>
  <dc:language>en-US</dc:language>
  <cp:lastModifiedBy>user1</cp:lastModifiedBy>
  <dcterms:modified xsi:type="dcterms:W3CDTF">2011-10-05T05:27:54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