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71FB-4E1C-4DB8-B392-7CB9B93C1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CB4-981E-48DC-9A84-6537CC0F51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90B-3AD1-4578-8558-C7BED705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7EF-7516-4CE9-8787-37A94D17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6AA-BEAF-418C-9CC7-1F86FBB1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1FA-A50D-4E48-8E41-6DE4C4F4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98D3-D279-48B4-AF6C-A45BEEE2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6303-781D-4027-ADFB-8AB79B4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C69-07A5-4AB4-8AFE-06493721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94F2-1441-4803-B947-FDFD1A58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543-DFEC-4CBA-B6F2-454FCB1C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463-A911-4DB7-B97B-70342094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81E-064E-4B74-A42F-3324A19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99D-6E53-473B-AC34-9A096931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142-4994-4343-B820-0BB155B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C3D5-9EF3-4A87-A122-0E92A10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2581-F3F8-4796-AAA8-A2A368F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FF92-2DF9-4569-AEAE-ADC83361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DF72-36C0-4F01-80E5-CE023049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6A1B-A5EF-40FD-933C-952FB90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409-8925-4D73-B819-A4FEC76B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390-D500-4649-9A71-6BAA1BE8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0DB-F0CE-4776-8996-ACAC523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717-F582-40C0-A7EA-5220C0B1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9B4-E05E-47DC-96A2-25AFEA91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40F9-10D8-4D5F-BB88-BB91E7C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A8C2-F777-426B-9339-57737A4041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5FA-332B-4223-A624-B064A13ACF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История Тадж-Махала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435640" y="4005000"/>
            <a:ext cx="32335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МОУСОШ школы № 2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 3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Г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Классный руководитель                      Домбровская Анна Михайловн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Доркиной, Шубиной ,Алымовой, Благиной, Мамедовой, Лемеш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.о.Балаших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ид на Тадж-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загруженное (2)"/>
          <p:cNvPicPr/>
          <p:nvPr/>
        </p:nvPicPr>
        <p:blipFill>
          <a:blip r:embed="rId1"/>
          <a:stretch/>
        </p:blipFill>
        <p:spPr>
          <a:xfrm>
            <a:off x="468360" y="1700280"/>
            <a:ext cx="4103640" cy="4281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загруженное"/>
          <p:cNvPicPr/>
          <p:nvPr/>
        </p:nvPicPr>
        <p:blipFill>
          <a:blip r:embed="rId2"/>
          <a:stretch/>
        </p:blipFill>
        <p:spPr>
          <a:xfrm>
            <a:off x="4716360" y="1700280"/>
            <a:ext cx="4010040" cy="4378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1700280"/>
            <a:ext cx="4000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просы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153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Где находится Тадж-Мах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то был жемчужиной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Кто был императором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Сколько у них было де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то арестовал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Сколько метров достигает купол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Сколько метров в высоту длинна Тадж-Мах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Где была похоронена супруга императо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Мавзо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В Ин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Мумтаз Мах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Шах-Джах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Аурангз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14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59 ме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74 ме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В Тадж-Маха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C:\Users\Katerina\Desktop\057c568a77e3.jpg"/>
          <p:cNvPicPr/>
          <p:nvPr/>
        </p:nvPicPr>
        <p:blipFill>
          <a:blip r:embed="rId1"/>
          <a:stretch/>
        </p:blipFill>
        <p:spPr>
          <a:xfrm>
            <a:off x="4643280" y="2133720"/>
            <a:ext cx="4086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images (1)"/>
          <p:cNvPicPr/>
          <p:nvPr/>
        </p:nvPicPr>
        <p:blipFill>
          <a:blip r:embed="rId1"/>
          <a:stretch/>
        </p:blipFill>
        <p:spPr>
          <a:xfrm>
            <a:off x="324000" y="44928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i (1)"/>
          <p:cNvPicPr/>
          <p:nvPr/>
        </p:nvPicPr>
        <p:blipFill>
          <a:blip r:embed="rId2"/>
          <a:stretch/>
        </p:blipFill>
        <p:spPr>
          <a:xfrm>
            <a:off x="3564000" y="46044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i (2)"/>
          <p:cNvPicPr/>
          <p:nvPr/>
        </p:nvPicPr>
        <p:blipFill>
          <a:blip r:embed="rId3"/>
          <a:stretch/>
        </p:blipFill>
        <p:spPr>
          <a:xfrm>
            <a:off x="6337440" y="5493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i (3)"/>
          <p:cNvPicPr/>
          <p:nvPr/>
        </p:nvPicPr>
        <p:blipFill>
          <a:blip r:embed="rId4"/>
          <a:stretch/>
        </p:blipFill>
        <p:spPr>
          <a:xfrm>
            <a:off x="3065400" y="26020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i (4)"/>
          <p:cNvPicPr/>
          <p:nvPr/>
        </p:nvPicPr>
        <p:blipFill>
          <a:blip r:embed="rId5"/>
          <a:stretch/>
        </p:blipFill>
        <p:spPr>
          <a:xfrm>
            <a:off x="324000" y="2602080"/>
            <a:ext cx="256536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i (5)"/>
          <p:cNvPicPr/>
          <p:nvPr/>
        </p:nvPicPr>
        <p:blipFill>
          <a:blip r:embed="rId6"/>
          <a:stretch/>
        </p:blipFill>
        <p:spPr>
          <a:xfrm>
            <a:off x="5030640" y="262584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i (6)"/>
          <p:cNvPicPr/>
          <p:nvPr/>
        </p:nvPicPr>
        <p:blipFill>
          <a:blip r:embed="rId7"/>
          <a:stretch/>
        </p:blipFill>
        <p:spPr>
          <a:xfrm>
            <a:off x="7184880" y="2670120"/>
            <a:ext cx="165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i (8)"/>
          <p:cNvPicPr/>
          <p:nvPr/>
        </p:nvPicPr>
        <p:blipFill>
          <a:blip r:embed="rId8"/>
          <a:stretch/>
        </p:blipFill>
        <p:spPr>
          <a:xfrm>
            <a:off x="561960" y="45640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i (10)"/>
          <p:cNvPicPr/>
          <p:nvPr/>
        </p:nvPicPr>
        <p:blipFill>
          <a:blip r:embed="rId9"/>
          <a:stretch/>
        </p:blipFill>
        <p:spPr>
          <a:xfrm>
            <a:off x="6765840" y="4622760"/>
            <a:ext cx="17337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i"/>
          <p:cNvPicPr/>
          <p:nvPr/>
        </p:nvPicPr>
        <p:blipFill>
          <a:blip r:embed="rId10"/>
          <a:stretch/>
        </p:blipFill>
        <p:spPr>
          <a:xfrm>
            <a:off x="3564000" y="46227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нига: Сокровища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человечества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айт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.wikipedia.or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78168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цель!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знать что такое Тадж-Маха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 algn="ctr">
              <a:spcBef>
                <a:spcPts val="751"/>
              </a:spcBef>
              <a:buClr>
                <a:srgbClr val="99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казать об эт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i"/>
          <p:cNvPicPr/>
          <p:nvPr/>
        </p:nvPicPr>
        <p:blipFill>
          <a:blip r:embed="rId1"/>
          <a:stretch/>
        </p:blipFill>
        <p:spPr>
          <a:xfrm>
            <a:off x="3132000" y="206064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78168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Наша задача.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делать презентацию о тадж-махал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ша задача узнать об Тадж-Махал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i (2)"/>
          <p:cNvPicPr/>
          <p:nvPr/>
        </p:nvPicPr>
        <p:blipFill>
          <a:blip r:embed="rId1"/>
          <a:stretch/>
        </p:blipFill>
        <p:spPr>
          <a:xfrm>
            <a:off x="3419640" y="206064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такое Тадж-Маха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авзолей                       Мечеть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716360" y="1773360"/>
            <a:ext cx="1008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>
            <a:off x="3348000" y="1773360"/>
            <a:ext cx="122400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загруженное (3)"/>
          <p:cNvPicPr/>
          <p:nvPr/>
        </p:nvPicPr>
        <p:blipFill>
          <a:blip r:embed="rId1"/>
          <a:stretch/>
        </p:blipFill>
        <p:spPr>
          <a:xfrm>
            <a:off x="1971720" y="4049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mages"/>
          <p:cNvPicPr/>
          <p:nvPr/>
        </p:nvPicPr>
        <p:blipFill>
          <a:blip r:embed="rId2"/>
          <a:stretch/>
        </p:blipFill>
        <p:spPr>
          <a:xfrm>
            <a:off x="4788000" y="4130640"/>
            <a:ext cx="2736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умтаз 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а Шаха Джах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6360" y="1773000"/>
            <a:ext cx="3959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третив на базаре прекрасную бедную девушку с деревянными бусами в руках, принц Кхуррам влюбился в нее с первого взгляда и твердо решил взять красавицу в жены. Мумтаз Махал стала человеком, которому он полностью доверял и даже советовался. Она единственная из его гарема сопровождала в военных походах. За 17 лет супружества у них родилось 13 детей. Но Мумтаз Махал не пережила тяжелых родов 14-го ребёнка. Дворец Тадж-Махал — история любви, печальная и одновременно прекрасная. Три столетия назад жил в Индии правитель по имени Шах Яхан. Любимой женой его была красивая и умная Мумтази- Махал, которую Шах Яхан любил больше жизни. Сокращенное имя ее — Тадж-­Махал, что означает «Гордость дворца». В 1630 году она умерла. Правитель был так потрясен смертью любимой, что решил оставить свой трон. В знак безутешной любви к своей жене он решил построить усыпальницу невиданной красот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7" descr="images (2)"/>
          <p:cNvPicPr/>
          <p:nvPr/>
        </p:nvPicPr>
        <p:blipFill>
          <a:blip r:embed="rId1"/>
          <a:stretch/>
        </p:blipFill>
        <p:spPr>
          <a:xfrm>
            <a:off x="826920" y="2133720"/>
            <a:ext cx="38894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мператор Шах-Джаха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другом берегу Ямуны, напротив Тадж Махала, Шах Джахан намеревался возвести еще одну гробницу - для себя. По замыслу, его мавзолей должен был воспроизвести формы Тадж Махала, но был бы сделан не из белого, а из черного мрамора. Оба мавзолея должны были соединяться мост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о, увы, грандиозным планам и замыслам Шаха Джахана не суждено было осуществиться... Как часто случается в истории, волею судьбы король в одночасье потерял свою власть. И, некогда великий Шах Джахан, властитель Индии, был заточен в тяжелые цепи и брошен в тюрьму... Тяжело больной, поседевший, одинокий и измученный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images (3)"/>
          <p:cNvPicPr/>
          <p:nvPr/>
        </p:nvPicPr>
        <p:blipFill>
          <a:blip r:embed="rId1"/>
          <a:stretch/>
        </p:blipFill>
        <p:spPr>
          <a:xfrm>
            <a:off x="731880" y="1844640"/>
            <a:ext cx="372420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адж-Маха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еличественный, божественный, сияющий, и, несмотря на свою 74-метровую высоту, такой легкий и воздушный, что подобен сказочному сновидению, поднимается в долине реки Ямуны мавзолей Тадж Махал - самое прекрасное архитектурное творение Индии, а, быть может, и всей земл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Высоко в небо устремляются белые мраморные купола - один большой и четыре маленьких, в целомудренных очертаниях которых можно угадать женские формы. Отражаясь в неподвижной глади искусственного канала, Тадж Махал словно парит перед нами, являя собой образец внеземной красоты и совершенной гармонии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Но не только архитектурное совершенство привлекает к Тадж Махалу миллионы путешествующих со всего света. Не меньшее впечатление на сердца людей производит и история его возникновения... История, больше похожая на восточную сказку или легенду, которой позавидовал бы любой поэт... Этот памятник-мавзолей повествует о нежной любви мусульманского короля Великих Моголов (не путать с монголами) Шаха Джахана к своей жене - сказочной красавице Мумтаз Махал. Шах Джахан был еще принцем, когда в начале XVII века он женился на девятнадцатилетней девушке. Молодые супруги нежно любили друг друга. Несмотря на то, что у Шаха Джахана, как и у любого восточного правителя, был большой гарем, он был настолько влюблен в свою молодую жену, что не обращал никакого внимания на других женщин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загруженное (1)"/>
          <p:cNvPicPr/>
          <p:nvPr/>
        </p:nvPicPr>
        <p:blipFill>
          <a:blip r:embed="rId1"/>
          <a:stretch/>
        </p:blipFill>
        <p:spPr>
          <a:xfrm>
            <a:off x="539640" y="1844640"/>
            <a:ext cx="3961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оре Шаха-Джахан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мая жена родила своему повелителю восемь сыновей и шесть дочерей. Но... Вскоре после рождения четырнадцатого ребенка красавицы Мумтаз не стало... Земное сердце не выдержало внеземной люб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е Шаха Джахана было настолько велико, что он хотел покончить с собой. Жизнь без своей возлюбленной казалась ему лишенной смысла и радости. У смертного ложа супруги король от горя поседел... И вскоре объявил в стране двухлетний траур, во время которого были запрещены праздники, танцы и му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же, в Агре, бывшей в то время столицей Могольской империи, над могилой Мумтаз вознесся мавзолей, который, по замыслу Шаха Джахана, должен стать символом сказочной красоты его усопшей супруги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нец волшебной сказки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жахан скончался 22 января 1666 года, проведя семь лет своей жизни в заточении, с утра до вечера наблюдая за своим чудом Тадж Махал. По повелению Аурангзаба его тело похоронено рядом с Мумтази Махал. Теперь они стали навечно вмест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1:42:24Z</dcterms:created>
  <dc:creator>Admin</dc:creator>
  <dc:description/>
  <dc:language>en-US</dc:language>
  <cp:lastModifiedBy>Sanya</cp:lastModifiedBy>
  <dcterms:modified xsi:type="dcterms:W3CDTF">2012-11-08T04:40:58Z</dcterms:modified>
  <cp:revision>19</cp:revision>
  <dc:subject/>
  <dc:title>История Тадж-Махала</dc:title>
</cp:coreProperties>
</file>