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FCBE-C61B-486C-BC5A-B3A0FF7176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E811-1FA9-4972-9744-3DAE5A6259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D56-0B67-4EEF-9E60-6FE0ECCB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954-B1C8-4423-9A0E-71514018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C63-EAE4-4386-8B57-73CD31DF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7D5-0AF0-442B-88BB-2C7DC2D0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C290-7EDE-4DBC-A163-46725CAB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2D1A-3C9E-4A0D-9609-D545BFD0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0CA6-A6C8-40E4-85A0-FFEA3982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49C2-27C3-410E-95B2-FB6070D2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A98D-6A9C-461B-A4F0-5A74CA3E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0113-5116-4AE9-B4E9-3E97C534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853F-7E1A-4D99-AC3B-38964B11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108-BD82-47AA-9CA3-67E49A0B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BE13-6FFC-4E76-BB91-7D3BEE2C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2459-18BD-46D8-9879-13FF8244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323D-31A3-40C4-B1B7-56952E1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B81C-7983-4535-AF61-97ED3363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0A56-837E-4C0B-BA49-23A26CDD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6B5-6617-493D-9240-6D015821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BC0-A0C8-41F2-9BC9-1EF1E3A1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A75-D339-4FDA-92E7-4F98B9CB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1DE-A776-4756-8D2A-DF13E8B0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931-14B5-42FE-84B1-D3C8313C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031-1E42-4E0D-828B-53CA39B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51D-7E2E-4416-BF91-D2DB79A2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A4E7-546D-48D9-AB55-488A7FE083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47E9-7C4C-4D96-9797-5AEB7ED3F6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История Тадж-Махала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435640" y="4005000"/>
            <a:ext cx="32335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МОУСОШ школы № 2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Класс 3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Г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Классный руководитель                      Домбровская Анна Михайлов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Доркиной, Шубиной ,Алымовой, Благиной, Мамедовой, Лемеш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.о.Балаших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ид на Тадж- Мах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загруженное (2)"/>
          <p:cNvPicPr/>
          <p:nvPr/>
        </p:nvPicPr>
        <p:blipFill>
          <a:blip r:embed="rId1"/>
          <a:stretch/>
        </p:blipFill>
        <p:spPr>
          <a:xfrm>
            <a:off x="468360" y="1700280"/>
            <a:ext cx="4103640" cy="428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загруженное"/>
          <p:cNvPicPr/>
          <p:nvPr/>
        </p:nvPicPr>
        <p:blipFill>
          <a:blip r:embed="rId2"/>
          <a:stretch/>
        </p:blipFill>
        <p:spPr>
          <a:xfrm>
            <a:off x="4716360" y="1700280"/>
            <a:ext cx="4010040" cy="4378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2920" y="1700280"/>
            <a:ext cx="4000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просы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153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Что такое Тадж-Мах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Где находится Тадж-Мах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Кто был жемчужиной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Кто был императором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Сколько у них было де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Кто арестовал императо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Сколько метров достигает купол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Сколько метров в высоту длинна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Где была похоронена супруга императо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Мавзо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В Ин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Мумтаз Мах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Шах-Джах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Аурангз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14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59 м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74 ме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В Тадж-Маха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C:\Users\Katerina\Desktop\057c568a77e3.jpg"/>
          <p:cNvPicPr/>
          <p:nvPr/>
        </p:nvPicPr>
        <p:blipFill>
          <a:blip r:embed="rId1"/>
          <a:stretch/>
        </p:blipFill>
        <p:spPr>
          <a:xfrm>
            <a:off x="4643280" y="2133720"/>
            <a:ext cx="4086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images (1)"/>
          <p:cNvPicPr/>
          <p:nvPr/>
        </p:nvPicPr>
        <p:blipFill>
          <a:blip r:embed="rId1"/>
          <a:stretch/>
        </p:blipFill>
        <p:spPr>
          <a:xfrm>
            <a:off x="324000" y="44928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 (1)"/>
          <p:cNvPicPr/>
          <p:nvPr/>
        </p:nvPicPr>
        <p:blipFill>
          <a:blip r:embed="rId2"/>
          <a:stretch/>
        </p:blipFill>
        <p:spPr>
          <a:xfrm>
            <a:off x="3564000" y="4604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 (2)"/>
          <p:cNvPicPr/>
          <p:nvPr/>
        </p:nvPicPr>
        <p:blipFill>
          <a:blip r:embed="rId3"/>
          <a:stretch/>
        </p:blipFill>
        <p:spPr>
          <a:xfrm>
            <a:off x="6337440" y="54936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i (3)"/>
          <p:cNvPicPr/>
          <p:nvPr/>
        </p:nvPicPr>
        <p:blipFill>
          <a:blip r:embed="rId4"/>
          <a:stretch/>
        </p:blipFill>
        <p:spPr>
          <a:xfrm>
            <a:off x="3065400" y="260208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i (4)"/>
          <p:cNvPicPr/>
          <p:nvPr/>
        </p:nvPicPr>
        <p:blipFill>
          <a:blip r:embed="rId5"/>
          <a:stretch/>
        </p:blipFill>
        <p:spPr>
          <a:xfrm>
            <a:off x="324000" y="2602080"/>
            <a:ext cx="2565360" cy="1428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 (5)"/>
          <p:cNvPicPr/>
          <p:nvPr/>
        </p:nvPicPr>
        <p:blipFill>
          <a:blip r:embed="rId6"/>
          <a:stretch/>
        </p:blipFill>
        <p:spPr>
          <a:xfrm>
            <a:off x="5030640" y="2625840"/>
            <a:ext cx="2133720" cy="1428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 (6)"/>
          <p:cNvPicPr/>
          <p:nvPr/>
        </p:nvPicPr>
        <p:blipFill>
          <a:blip r:embed="rId7"/>
          <a:stretch/>
        </p:blipFill>
        <p:spPr>
          <a:xfrm>
            <a:off x="7184880" y="2670120"/>
            <a:ext cx="165600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i (8)"/>
          <p:cNvPicPr/>
          <p:nvPr/>
        </p:nvPicPr>
        <p:blipFill>
          <a:blip r:embed="rId8"/>
          <a:stretch/>
        </p:blipFill>
        <p:spPr>
          <a:xfrm>
            <a:off x="561960" y="45640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i (10)"/>
          <p:cNvPicPr/>
          <p:nvPr/>
        </p:nvPicPr>
        <p:blipFill>
          <a:blip r:embed="rId9"/>
          <a:stretch/>
        </p:blipFill>
        <p:spPr>
          <a:xfrm>
            <a:off x="6765840" y="4622760"/>
            <a:ext cx="173376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i"/>
          <p:cNvPicPr/>
          <p:nvPr/>
        </p:nvPicPr>
        <p:blipFill>
          <a:blip r:embed="rId10"/>
          <a:stretch/>
        </p:blipFill>
        <p:spPr>
          <a:xfrm>
            <a:off x="3564000" y="462276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Ресурсы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нига: Сокровища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человечества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айт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.wikipedia.or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678168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Наша цель!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90400" indent="-590400" algn="ctr">
              <a:spcBef>
                <a:spcPts val="75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знать что такое Тадж-Маха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spcBef>
                <a:spcPts val="75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казать об эт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i"/>
          <p:cNvPicPr/>
          <p:nvPr/>
        </p:nvPicPr>
        <p:blipFill>
          <a:blip r:embed="rId1"/>
          <a:stretch/>
        </p:blipFill>
        <p:spPr>
          <a:xfrm>
            <a:off x="3132000" y="206064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678168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Наша задача.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делать презентацию о тадж-махал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ша задача узнать об Тадж-Махал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i (2)"/>
          <p:cNvPicPr/>
          <p:nvPr/>
        </p:nvPicPr>
        <p:blipFill>
          <a:blip r:embed="rId1"/>
          <a:stretch/>
        </p:blipFill>
        <p:spPr>
          <a:xfrm>
            <a:off x="3419640" y="206064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такое Тадж-Маха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Мавзолей                       Мечеть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4716360" y="1773360"/>
            <a:ext cx="1008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3348000" y="1773360"/>
            <a:ext cx="122400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загруженное (3)"/>
          <p:cNvPicPr/>
          <p:nvPr/>
        </p:nvPicPr>
        <p:blipFill>
          <a:blip r:embed="rId1"/>
          <a:stretch/>
        </p:blipFill>
        <p:spPr>
          <a:xfrm>
            <a:off x="1971720" y="4049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images"/>
          <p:cNvPicPr/>
          <p:nvPr/>
        </p:nvPicPr>
        <p:blipFill>
          <a:blip r:embed="rId2"/>
          <a:stretch/>
        </p:blipFill>
        <p:spPr>
          <a:xfrm>
            <a:off x="4788000" y="4130640"/>
            <a:ext cx="2736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умтаз Мах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а Шаха Джах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6360" y="1773000"/>
            <a:ext cx="3959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третив на базаре прекрасную бедную девушку с деревянными бусами в руках, принц Кхуррам влюбился в нее с первого взгляда и твердо решил взять красавицу в жены. Мумтаз Махал стала человеком, которому он полностью доверял и даже советовался. Она единственная из его гарема сопровождала в военных походах. За 17 лет супружества у них родилось 13 детей. Но Мумтаз Махал не пережила тяжелых родов 14-го ребёнка. Дворец Тадж-Махал — история любви, печальная и одновременно прекрасная. Три столетия назад жил в Индии правитель по имени Шах Яхан. Любимой женой его была красивая и умная Мумтази- Махал, которую Шах Яхан любил больше жизни. Сокращенное имя ее — Тадж-­Махал, что означает «Гордость дворца». В 1630 году она умерла. Правитель был так потрясен смертью любимой, что решил оставить свой трон. В знак безутешной любви к своей жене он решил построить усыпальницу невиданной красот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images (2)"/>
          <p:cNvPicPr/>
          <p:nvPr/>
        </p:nvPicPr>
        <p:blipFill>
          <a:blip r:embed="rId1"/>
          <a:stretch/>
        </p:blipFill>
        <p:spPr>
          <a:xfrm>
            <a:off x="826920" y="2133720"/>
            <a:ext cx="38894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мператор Шах-Джах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другом берегу Ямуны, напротив Тадж Махала, Шах Джахан намеревался возвести еще одну гробницу - для себя. По замыслу, его мавзолей должен был воспроизвести формы Тадж Махала, но был бы сделан не из белого, а из черного мрамора. Оба мавзолея должны были соединяться мосто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, увы, грандиозным планам и замыслам Шаха Джахана не суждено было осуществиться... Как часто случается в истории, волею судьбы король в одночасье потерял свою власть. И, некогда великий Шах Джахан, властитель Индии, был заточен в тяжелые цепи и брошен в тюрьму... Тяжело больной, поседевший, одинокий и измученный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images (3)"/>
          <p:cNvPicPr/>
          <p:nvPr/>
        </p:nvPicPr>
        <p:blipFill>
          <a:blip r:embed="rId1"/>
          <a:stretch/>
        </p:blipFill>
        <p:spPr>
          <a:xfrm>
            <a:off x="731880" y="1844640"/>
            <a:ext cx="372420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адж-Мах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еличественный, божественный, сияющий, и, несмотря на свою 74-метровую высоту, такой легкий и воздушный, что подобен сказочному сновидению, поднимается в долине реки Ямуны мавзолей Тадж Махал - самое прекрасное архитектурное творение Индии, а, быть может, и всей земли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ысоко в небо устремляются белые мраморные купола - один большой и четыре маленьких, в целомудренных очертаниях которых можно угадать женские формы. Отражаясь в неподвижной глади искусственного канала, Тадж Махал словно парит перед нами, являя собой образец внеземной красоты и совершенной гармонии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о не только архитектурное совершенство привлекает к Тадж Махалу миллионы путешествующих со всего света. Не меньшее впечатление на сердца людей производит и история его возникновения... История, больше похожая на восточную сказку или легенду, которой позавидовал бы любой поэт... Этот памятник-мавзолей повествует о нежной любви мусульманского короля Великих Моголов (не путать с монголами) Шаха Джахана к своей жене - сказочной красавице Мумтаз Махал. Шах Джахан был еще принцем, когда в начале XVII века он женился на девятнадцатилетней девушке. Молодые супруги нежно любили друг друга. Несмотря на то, что у Шаха Джахана, как и у любого восточного правителя, был большой гарем, он был настолько влюблен в свою молодую жену, что не обращал никакого внимания на других женщи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загруженное (1)"/>
          <p:cNvPicPr/>
          <p:nvPr/>
        </p:nvPicPr>
        <p:blipFill>
          <a:blip r:embed="rId1"/>
          <a:stretch/>
        </p:blipFill>
        <p:spPr>
          <a:xfrm>
            <a:off x="539640" y="184464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оре Шаха-Джах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бимая жена родила своему повелителю восемь сыновей и шесть дочерей. Но... Вскоре после рождения четырнадцатого ребенка красавицы Мумтаз не стало... Земное сердце не выдержало внеземной люб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е Шаха Джахана было настолько велико, что он хотел покончить с собой. Жизнь без своей возлюбленной казалась ему лишенной смысла и радости. У смертного ложа супруги король от горя поседел... И вскоре объявил в стране двухлетний траур, во время которого были запрещены праздники, танцы и му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же, в Агре, бывшей в то время столицей Могольской империи, над могилой Мумтаз вознесся мавзолей, который, по замыслу Шаха Джахана, должен стать символом сказочной красоты его усопшей супруги..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е Шаха Джахана было настолько велико, что он хотел покончить с собой. Жизнь без своей возлюбленной казалась ему лишенной смысла и радости. У смертного ложа супруги король от горя поседел... И вскоре объявил в стране двухлетний траур, во время которого были запрещены праздники, танцы и му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же, в Агре, бывшей в то время столицей Могольской империи, над могилой Мумтаз вознесся мавзолей, который, по замыслу Шаха Джахана, должен стать символом сказочной красоты его усопшей супруги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ец волшебной сказк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жахан скончался 22 января 1666 года, проведя семь лет своей жизни в заточении, с утра до вечера наблюдая за своим чудом Тадж Махал. По повелению Аурангзаба его тело похоронено рядом с Мумтази Махал. Теперь они стали навечно вместе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1:42:24Z</dcterms:created>
  <dc:creator>Admin</dc:creator>
  <dc:description/>
  <dc:language>en-US</dc:language>
  <cp:lastModifiedBy>Sanya</cp:lastModifiedBy>
  <dcterms:modified xsi:type="dcterms:W3CDTF">2012-11-08T04:40:58Z</dcterms:modified>
  <cp:revision>19</cp:revision>
  <dc:subject/>
  <dc:title>История Тадж-Махала</dc:title>
</cp:coreProperties>
</file>