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070-CB72-49AA-AB84-8F0F096B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CFA-4649-4446-B0AA-9CBD0B4F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D13-C64E-462D-A568-3B5C3CF2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303-3633-46FE-B59C-38FF2BF1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9781-0A5D-4F44-81BA-B0A89C7D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D479-D6D3-4EC6-8BE0-2544674C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F816-22FC-458F-9E4A-828A7870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0E19-A326-411C-A7C9-FBA05ED7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DD4C-B012-455D-8C76-9DE8657A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40EB-9B78-49E2-992B-1BFFA435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D15C-832F-4AF6-B9D2-764FE99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CC3-A880-42AA-A64A-B7C0A743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A386-A183-41CE-8898-2ED5609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F3A1-D602-41C9-A968-0E315E59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7AFD-68AD-4F71-B24C-2319167A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5266-EB13-46BE-BDF5-9F85B859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0217-F0AB-47AE-A967-CBADCEA2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C8F9-0494-4F22-A8A1-F0436367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31CBA-D8F5-4EBB-AA42-642642FE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D2FD-D5C6-409B-AC8E-3EF93272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D90B-6CBB-43F5-9F4A-689D3FCE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9715-0652-4076-B676-E7B4AC36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4CE-F575-441B-A204-940791F5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F7DB-B49A-437D-A6E2-E6A5410A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683C-D2DE-4E86-AB25-466FF84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4A4BA-7F9E-49F3-9388-9BC7378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EE2F-7D5F-41D9-91E7-02C8D1EE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C5BA-8C2E-4905-A51F-555B7566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FEB81-F437-4087-86BF-819F5192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4BD4-FEAD-41CA-9A3B-D5EB9E6F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77BA-AED1-4B2B-9932-2D9D89EF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C4800-97E9-46E8-9719-92896B9B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D885-644B-4509-ABAF-10E323F3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3B3-2E4D-4766-B174-3C7BFFA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D7DAF-1870-4E96-8ACD-2D9E339B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1EB8-1BE5-48F7-836E-F65EF1C7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9976-DB2C-4FCB-A32A-C249F9B3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B9F4-74A3-43A7-AA56-5AACDB45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C60E-753E-49FF-8C9E-D8AB1025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88DEB-2D05-4F79-8A7A-C6A6254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8B0CF-1DEF-4403-91C6-E0E6039E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F6C1-D705-4F43-9886-5056364C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95FAA-1BD2-4ADB-81C2-D8608492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B05-8F2E-401C-A81A-D15F86D7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539-CAC5-4861-AEBF-BD35D5BA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F83-816F-4914-8EB7-08663CA4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D7A-4872-4D17-9557-A4BCE811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A32-CB7C-47D6-8960-46D817D5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EB81-E0CA-495A-9883-7C6B359097F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-360" y="6369120"/>
            <a:ext cx="468360" cy="488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92CC-936D-4BED-871B-28F05F4F451E}" type="slidenum"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grpSp>
        <p:nvGrpSpPr>
          <p:cNvPr id="9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9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pic>
        <p:nvPicPr>
          <p:cNvPr id="98" name="Picture 14" descr="Логотип НБ РБ 2"/>
          <p:cNvPicPr/>
          <p:nvPr/>
        </p:nvPicPr>
        <p:blipFill>
          <a:blip r:embed="rId2"/>
          <a:stretch/>
        </p:blipFill>
        <p:spPr>
          <a:xfrm>
            <a:off x="1692360" y="0"/>
            <a:ext cx="4535280" cy="1001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5960" y="6248160"/>
            <a:ext cx="679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DC4C-7868-44FD-89ED-3650FFF169D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pic>
        <p:nvPicPr>
          <p:cNvPr id="146" name="Picture 12" descr="ЛогоНБ РБ БР2"/>
          <p:cNvPicPr/>
          <p:nvPr/>
        </p:nvPicPr>
        <p:blipFill>
          <a:blip r:embed="rId2"/>
          <a:stretch/>
        </p:blipFill>
        <p:spPr>
          <a:xfrm>
            <a:off x="1692360" y="0"/>
            <a:ext cx="5759280" cy="1052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FF0C-A0BA-477D-832D-F695049F9A4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alut@ufa.cbr.ru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98160" y="1253520"/>
            <a:ext cx="8455680" cy="14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33cc"/>
                </a:solidFill>
                <a:latin typeface="Arial"/>
              </a:rPr>
              <a:t>проекте концепции стандарта качества банковского продукта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716000" y="3155760"/>
            <a:ext cx="4427640" cy="15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М.Д.Кашапов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заместитель Председателя Национального банка Республики Башкортостан Банка Росс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0"/>
          <p:cNvSpPr/>
          <p:nvPr/>
        </p:nvSpPr>
        <p:spPr>
          <a:xfrm>
            <a:off x="324000" y="54910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седание Координационного комитета Ассоциации российских банков по стандартам качества банковской деятельности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3 октября 2008 г.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684360" y="692280"/>
            <a:ext cx="8604000" cy="1079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Цели создания стандартов качества банковских продуктов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187280" y="228456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Улучшение качества банковских продуктов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 счет определения оптимальных клиентских свойств банковских продуктов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овышение качества управления банковскими рисками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за счет стандартизации отдельных свойств банковских продуктов, которые ограничивают возможные материальные потери банка и его клиента в процессе использования продукта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азвитие вторичного рынка продуктов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являющихся активами, за счет появления стандартных банковских продуктов (в частности, кредитов), по которым могут быть однозначно оценены риски и по которым понятны принципы ценообразования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684360" y="620640"/>
            <a:ext cx="8604000" cy="10796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Стандартизируемые свойства банковских продуктов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826920" y="1844640"/>
            <a:ext cx="81378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. Основные свойства</a:t>
            </a:r>
            <a:endParaRPr b="0" lang="en-US" sz="2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ключают полные условия его предоставления, которые, как правило, определяются в договоре между банком и клиентом по конкретному продукту. К ним относятся, в частности, все существенные условия договора, определяемые в качестве таковых в соответствии с действующим законодательством или обычаем делового оборота (банковской практикой).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2. Дополнительные свойства</a:t>
            </a:r>
            <a:endParaRPr b="0" lang="en-US" sz="2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войства, характеризующие качество обслуживания клиента при предоставлении продукта и дальнейшее сервисное обслуживание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войства, характеризующие операционные риски банка и безопасность использования продукта для клиента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684360" y="549360"/>
            <a:ext cx="8604000" cy="1079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Категории качества </a:t>
            </a:r>
            <a:br>
              <a:rPr sz="36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банковского продукта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26920" y="1844640"/>
            <a:ext cx="813780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1. Высшая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 удовлетворяет основную массу потребителей и банков как по основным, так и по дополнительным свойствам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ы высшей категории, являющиеся активами, имеют нулевой дисконт к балансовой стоимости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2. Первая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 удовлетворяет основную массу потребителей и банков частично по основным либо по дополнительным свойствам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ы первой категории, являющиеся активами, имеют дисконт к балансовой стоимости не более 10%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2. Вторая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 имеет свойства, признаваемые в качестве приемлемых небольшой долей потребителей и банков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ы второй категории, являющиеся активами, имеют дисконт к балансовой стоимости не более 20%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684360" y="549360"/>
            <a:ext cx="8604000" cy="1079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Форма стандарта качества </a:t>
            </a:r>
            <a:br>
              <a:rPr sz="36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банковского продукта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863640" y="1785960"/>
          <a:ext cx="828036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785960"/>
                    <a:ext cx="82803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547640" y="1700280"/>
            <a:ext cx="66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Благодарю за внимание</a:t>
            </a:r>
            <a:endParaRPr b="0" lang="en-US" sz="40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4859280" y="5373720"/>
            <a:ext cx="37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телефон: (347) 279-65-32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alut@ufa.cbr.ru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325908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Кашапов Марат Данилович,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заместитель Председателя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Национального банка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Республики Башкортостан Банка России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53:25Z</dcterms:created>
  <dc:creator>Нафиков</dc:creator>
  <dc:description/>
  <dc:language>en-US</dc:language>
  <cp:lastModifiedBy>ZooM</cp:lastModifiedBy>
  <cp:lastPrinted>2005-09-07T05:32:07Z</cp:lastPrinted>
  <dcterms:modified xsi:type="dcterms:W3CDTF">2013-12-15T00:22:21Z</dcterms:modified>
  <cp:revision>543</cp:revision>
  <dc:subject/>
  <dc:title>ИСПОЛЬЗОВАНИЕ ДЕРЕВА СВОЙСТВ ПРОДУКТА ПРИ ОПРЕДЕЛЕНИИ КРИТИЧЕСКИХ КОНТРОЛЬНЫХ ТОЧЕК ПРОЦЕССА </dc:title>
</cp:coreProperties>
</file>