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7D4-3E7D-4F5A-887F-2A02A2FB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51BB-6EC0-497D-AF5E-2041C0C5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659E-0794-4405-A08F-FD24053D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C03F-40EE-487C-82E1-394756A9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B174-8EAE-4EB2-98E6-D5F197ED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BEE3-8341-40FB-89DF-AD50FA2D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22C3-6404-4098-A261-48C9F544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8B97-060D-4888-AED5-87BE8387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4FF5-0E56-4579-921C-249F3B28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A1A9-A5E8-4300-97EA-23D26F36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E060-835C-40AB-A434-9F42D028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0300-4FBE-4F10-9562-02DE13BE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4D66-23E1-4580-87A3-64A41FA4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C009-D4D5-449C-BFCB-9EC907C9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52E9-AB5C-4C5F-96A2-57098894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5506-4A8F-459A-96DF-AF46EAB6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3ABA-718D-4C8A-BFB3-8F4E7223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B09BA-58C1-405F-975A-C831828D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7D070-9355-4B97-845C-A7DB101B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6D899-65A8-42EF-B398-45CFF393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88DB3-6F99-456C-B764-18978472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2B967-8595-4321-8425-7B1003B0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2653-3D41-4367-AE23-86A7F788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ED3A8-FD93-4B99-B610-48500006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919DA-5DF2-49B4-8EB8-814E6FE4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39D8F-CDD4-4FB4-9EBB-E95935E0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DE143-12DA-4D77-8FF2-D7F8661F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2040C-5FC9-43FE-A879-37A2CD8D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8972F-C2DB-4C85-9FB0-6A24633A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FA83C-59A8-44B4-87E5-2E2C7394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43D5A-48CC-4CEC-972D-975A8397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AD4C9-D6CD-4264-A58A-69B431C2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34D25-4880-48CA-AE05-7FF42169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8575-7F01-4FBA-AB96-BF8209E9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6CB09-4ECD-4AAF-8E93-2BD5316F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CAA8C-9B03-497F-B395-CBFEABCB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54FCF-13E1-4C27-A8D8-FFC67D2B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9ECB1-B31C-4DD6-9BD3-2772E1A3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38A4C-BB84-404D-8E82-0A567BB5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BC93A-747F-4EF1-B3C7-7C1F23CF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680E7-DC67-4281-9A71-A67CB0A2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B0AB8-2652-4A19-BDCB-9B345184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7831A-726E-4D8C-8687-C2181A1B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7595-9312-48A6-BD61-25896C94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B468-80DA-4818-B040-98E522EB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15B2-9655-4CDB-ACD8-561F2AF5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7FF-199C-4D27-B565-0B4368BB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F6AD-B467-441F-8EDD-D6946B8D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3366"/>
                  </a:solidFill>
                  <a:uFillTx/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3366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3366"/>
                  </a:solidFill>
                  <a:uFillTx/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3366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75F9-3C21-4566-9FC1-9FFB70915B0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-360" y="6369120"/>
            <a:ext cx="468360" cy="488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 anchorCtr="1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E01A-E1E4-444A-A453-4952BE7EF649}" type="slidenum"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  <p:sp>
          <p:nvSpPr>
            <p:cNvPr id="9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</p:grpSp>
      <p:grpSp>
        <p:nvGrpSpPr>
          <p:cNvPr id="9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  <p:sp>
          <p:nvSpPr>
            <p:cNvPr id="9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</p:grpSp>
      <p:pic>
        <p:nvPicPr>
          <p:cNvPr id="98" name="Picture 14" descr="Логотип НБ РБ 2"/>
          <p:cNvPicPr/>
          <p:nvPr/>
        </p:nvPicPr>
        <p:blipFill>
          <a:blip r:embed="rId2"/>
          <a:stretch/>
        </p:blipFill>
        <p:spPr>
          <a:xfrm>
            <a:off x="1692360" y="0"/>
            <a:ext cx="4535280" cy="1001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5960" y="6248160"/>
            <a:ext cx="679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80CC-8278-4C77-9B8F-81FDFFBFED0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</p:grpSp>
      <p:pic>
        <p:nvPicPr>
          <p:cNvPr id="146" name="Picture 12" descr="ЛогоНБ РБ БР2"/>
          <p:cNvPicPr/>
          <p:nvPr/>
        </p:nvPicPr>
        <p:blipFill>
          <a:blip r:embed="rId2"/>
          <a:stretch/>
        </p:blipFill>
        <p:spPr>
          <a:xfrm>
            <a:off x="1692360" y="0"/>
            <a:ext cx="5759280" cy="10526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B23F-BE6F-417D-84A9-EA3EAA227E6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salut@ufa.cbr.ru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98160" y="1253520"/>
            <a:ext cx="8455680" cy="14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cc"/>
                </a:solidFill>
                <a:latin typeface="Arial"/>
              </a:rPr>
              <a:t>О</a:t>
            </a:r>
            <a:r>
              <a:rPr b="0" i="1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33cc"/>
                </a:solidFill>
                <a:latin typeface="Arial"/>
              </a:rPr>
              <a:t>проекте концепции стандарта качества банковского продукта</a:t>
            </a: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716000" y="3155760"/>
            <a:ext cx="4427640" cy="155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Arial"/>
              </a:rPr>
              <a:t>М.Д.Кашапов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Arial"/>
              </a:rPr>
              <a:t>заместитель Председателя Национального банка Республики Башкортостан Банка Росс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Text Box 0"/>
          <p:cNvSpPr/>
          <p:nvPr/>
        </p:nvSpPr>
        <p:spPr>
          <a:xfrm>
            <a:off x="324000" y="549108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Заседание Координационного комитета Ассоциации российских банков по стандартам качества банковской деятельности</a:t>
            </a:r>
            <a:endParaRPr b="0" lang="en-US" sz="20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13 октября 2008 г.</a:t>
            </a:r>
            <a:endParaRPr b="0" lang="en-US" sz="20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3"/>
          <p:cNvSpPr/>
          <p:nvPr/>
        </p:nvSpPr>
        <p:spPr>
          <a:xfrm>
            <a:off x="684360" y="692280"/>
            <a:ext cx="8604000" cy="1079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ru-RU" sz="3600" spc="-1" strike="noStrike">
                <a:solidFill>
                  <a:srgbClr val="ff6600"/>
                </a:solidFill>
                <a:latin typeface="Arial"/>
              </a:rPr>
              <a:t>Цели создания стандартов качества банковских продуктов</a:t>
            </a:r>
            <a:endParaRPr b="0" lang="en-US" sz="36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187280" y="2284560"/>
            <a:ext cx="720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Улучшение качества банковских продуктов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за счет определения оптимальных клиентских свойств банковских продуктов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овышение качества управления банковскими рисками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за счет стандартизации отдельных свойств банковских продуктов, которые ограничивают возможные материальные потери банка и его клиента в процессе использования продукта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Развитие вторичного рынка продуктов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, являющихся активами, за счет появления стандартных банковских продуктов (в частности, кредитов), по которым могут быть однозначно оценены риски и по которым понятны принципы ценообразования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2"/>
          <p:cNvSpPr/>
          <p:nvPr/>
        </p:nvSpPr>
        <p:spPr>
          <a:xfrm>
            <a:off x="684360" y="620640"/>
            <a:ext cx="8604000" cy="10796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ru-RU" sz="3600" spc="-1" strike="noStrike">
                <a:solidFill>
                  <a:srgbClr val="ff6600"/>
                </a:solidFill>
                <a:latin typeface="Arial"/>
              </a:rPr>
              <a:t>Стандартизируемые свойства банковских продуктов</a:t>
            </a:r>
            <a:endParaRPr b="0" lang="en-US" sz="36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826920" y="1844640"/>
            <a:ext cx="81378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1. Основные свойства</a:t>
            </a:r>
            <a:endParaRPr b="0" lang="en-US" sz="2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ключают полные условия его предоставления, которые, как правило, определяются в договоре между банком и клиентом по конкретному продукту. К ним относятся, в частности, все существенные условия договора, определяемые в качестве таковых в соответствии с действующим законодательством или обычаем делового оборота (банковской практикой).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2. Дополнительные свойства</a:t>
            </a:r>
            <a:endParaRPr b="0" lang="en-US" sz="2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войства, характеризующие качество обслуживания клиента при предоставлении продукта и дальнейшее сервисное обслуживание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войства, характеризующие операционные риски банка и безопасность использования продукта для клиента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"/>
          <p:cNvSpPr/>
          <p:nvPr/>
        </p:nvSpPr>
        <p:spPr>
          <a:xfrm>
            <a:off x="684360" y="549360"/>
            <a:ext cx="8604000" cy="1079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ru-RU" sz="3600" spc="-1" strike="noStrike">
                <a:solidFill>
                  <a:srgbClr val="ff6600"/>
                </a:solidFill>
                <a:latin typeface="Arial"/>
              </a:rPr>
              <a:t>Категории качества </a:t>
            </a:r>
            <a:br>
              <a:rPr sz="3600"/>
            </a:br>
            <a:r>
              <a:rPr b="0" i="1" lang="ru-RU" sz="3600" spc="-1" strike="noStrike">
                <a:solidFill>
                  <a:srgbClr val="ff6600"/>
                </a:solidFill>
                <a:latin typeface="Arial"/>
              </a:rPr>
              <a:t>банковского продукта</a:t>
            </a:r>
            <a:endParaRPr b="0" lang="en-US" sz="36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826920" y="1844640"/>
            <a:ext cx="813780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1. Высшая</a:t>
            </a:r>
            <a:endParaRPr b="0" lang="en-US" sz="20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одукт удовлетворяет основную массу потребителей и банков как по основным, так и по дополнительным свойствам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одукты высшей категории, являющиеся активами, имеют нулевой дисконт к балансовой стоимости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  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2. Первая</a:t>
            </a:r>
            <a:endParaRPr b="0" lang="en-US" sz="20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одукт удовлетворяет основную массу потребителей и банков частично по основным либо по дополнительным свойствам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одукты первой категории, являющиеся активами, имеют дисконт к балансовой стоимости не более 10%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 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2. Вторая</a:t>
            </a:r>
            <a:endParaRPr b="0" lang="en-US" sz="20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одукт имеет свойства, признаваемые в качестве приемлемых небольшой долей потребителей и банков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одукты второй категории, являющиеся активами, имеют дисконт к балансовой стоимости не более 20%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 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684360" y="549360"/>
            <a:ext cx="8604000" cy="1079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ru-RU" sz="3600" spc="-1" strike="noStrike">
                <a:solidFill>
                  <a:srgbClr val="ff6600"/>
                </a:solidFill>
                <a:latin typeface="Arial"/>
              </a:rPr>
              <a:t>Форма стандарта качества </a:t>
            </a:r>
            <a:br>
              <a:rPr sz="3600"/>
            </a:br>
            <a:r>
              <a:rPr b="0" i="1" lang="ru-RU" sz="3600" spc="-1" strike="noStrike">
                <a:solidFill>
                  <a:srgbClr val="ff6600"/>
                </a:solidFill>
                <a:latin typeface="Arial"/>
              </a:rPr>
              <a:t>банковского продукта</a:t>
            </a:r>
            <a:endParaRPr b="0" lang="en-US" sz="36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863640" y="1785960"/>
          <a:ext cx="8280360" cy="52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785960"/>
                    <a:ext cx="828036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547640" y="1700280"/>
            <a:ext cx="6697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Благодарю за внимание</a:t>
            </a:r>
            <a:endParaRPr b="0" lang="en-US" sz="40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4859280" y="5373720"/>
            <a:ext cx="375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телефон: (347) 279-65-32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e-mail: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alut@ufa.cbr.ru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16360" y="3259080"/>
            <a:ext cx="41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66"/>
                </a:solidFill>
                <a:latin typeface="Arial"/>
              </a:rPr>
              <a:t>Кашапов Марат Данилович,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66"/>
                </a:solidFill>
                <a:latin typeface="Arial"/>
              </a:rPr>
              <a:t>заместитель Председателя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66"/>
                </a:solidFill>
                <a:latin typeface="Arial"/>
              </a:rPr>
              <a:t>Национального банка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66"/>
                </a:solidFill>
                <a:latin typeface="Arial"/>
              </a:rPr>
              <a:t>Республики Башкортостан Банка России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53:25Z</dcterms:created>
  <dc:creator>Нафиков</dc:creator>
  <dc:description/>
  <dc:language>en-US</dc:language>
  <cp:lastModifiedBy>ZooM</cp:lastModifiedBy>
  <cp:lastPrinted>2005-09-07T05:32:07Z</cp:lastPrinted>
  <dcterms:modified xsi:type="dcterms:W3CDTF">2013-12-15T00:22:21Z</dcterms:modified>
  <cp:revision>543</cp:revision>
  <dc:subject/>
  <dc:title>ИСПОЛЬЗОВАНИЕ ДЕРЕВА СВОЙСТВ ПРОДУКТА ПРИ ОПРЕДЕЛЕНИИ КРИТИЧЕСКИХ КОНТРОЛЬНЫХ ТОЧЕК ПРОЦЕССА </dc:title>
</cp:coreProperties>
</file>