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D83-6CB0-42F2-96BA-CFE57A5E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7CD-9E2A-4DB5-AB5D-A15ED4B8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4CD-90CB-4576-AF69-C1449F21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D1F-336A-499D-8971-E1A12880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C410-F1EA-400C-B602-861B78F0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73C1-4271-4787-A750-53350553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72F0-6171-4902-8967-E969E2C9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7432-BC69-477A-8667-BEB287FF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A686-747C-44C1-BCFB-185CAB21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73C3-9F4A-42D8-B5AE-01E76EE3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E523-4E17-4937-9B8C-D4649E1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E5F-751B-4C2B-BE43-33AC4F53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484-577F-4297-AD36-5400999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1507-34FC-4932-9167-7D151EF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0626-9542-4B8A-A31F-33514EE8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DC4A-E918-4E44-8364-F4BA7231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6AEA-0E75-4FE2-BB9F-FCC5FBD2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588D-5126-4219-9B48-BA4EC62E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422E-0675-4A1D-8FFF-9405A22B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2185-B8DF-43D1-8CA8-F37EDF0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0DE6-3D7E-4988-9439-38ECCD5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2493-CF72-4DDC-9AB9-F44679F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407-560A-4F1F-A829-FC905540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41FF-4D52-4FF9-ABF2-6864A254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5C3A-9074-4BF6-894C-E589466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E6B3-AE6B-4F73-990A-E0EA1FF8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C8FB-CE6E-433E-B15A-AA183D2F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7681-10C8-41DB-B752-FEC844EF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79F4-F930-4B3C-B5D5-91C2F11E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B5D2-8404-4AD9-AD19-C580C590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55C7-6B81-499A-9A85-A78E6388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CCCB9-756C-4240-8E55-17A25A0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02F25-1F84-449C-8659-BC405B9A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CDE-773A-4AA0-A54D-CA7A53B1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AB0EA-FBE4-43FC-ACA4-CBC6BE26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10DD0-CB31-4AF4-831D-A5E5CBE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22C8-94D3-402E-8B20-D445516E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B974F-6D20-468E-B190-C5838CB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3EF2-3688-4CE5-A7AB-5744ED1A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2003-BA03-44E7-902D-E9090D0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55F7A-BFA7-430B-9E7C-F39B7650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BE7C-4C41-46B0-BE2C-05D694D4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19A94-74DE-4023-BC47-63F4C5D0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311-39C6-4B67-BBBE-BAA9AE74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72A-184B-4A02-BDB7-57E28C7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CB1-DE33-44A4-BE74-FB7F417A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393-54CD-4305-89B0-0A445497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8EB-BB2B-4CCC-A63C-73C739B6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3366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2989-0762-47F7-A790-01F503F1B4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-360" y="6369120"/>
            <a:ext cx="468360" cy="488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9892-490A-4CD4-A3F7-86312D3C3032}" type="slidenum"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grpSp>
        <p:nvGrpSpPr>
          <p:cNvPr id="9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9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pic>
        <p:nvPicPr>
          <p:cNvPr id="98" name="Picture 14" descr="Логотип НБ РБ 2"/>
          <p:cNvPicPr/>
          <p:nvPr/>
        </p:nvPicPr>
        <p:blipFill>
          <a:blip r:embed="rId2"/>
          <a:stretch/>
        </p:blipFill>
        <p:spPr>
          <a:xfrm>
            <a:off x="1692360" y="0"/>
            <a:ext cx="4535280" cy="1001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160"/>
            <a:ext cx="679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2D07-D2CD-475A-9736-669338552AA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3366"/>
                </a:solidFill>
                <a:uFillTx/>
                <a:latin typeface="Arial"/>
              </a:endParaRPr>
            </a:p>
          </p:txBody>
        </p:sp>
      </p:grpSp>
      <p:pic>
        <p:nvPicPr>
          <p:cNvPr id="146" name="Picture 12" descr="ЛогоНБ РБ БР2"/>
          <p:cNvPicPr/>
          <p:nvPr/>
        </p:nvPicPr>
        <p:blipFill>
          <a:blip r:embed="rId2"/>
          <a:stretch/>
        </p:blipFill>
        <p:spPr>
          <a:xfrm>
            <a:off x="1692360" y="0"/>
            <a:ext cx="5759280" cy="1052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517C-711C-430D-8D2E-1804ECC0197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alut@ufa.cbr.ru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98160" y="1253520"/>
            <a:ext cx="8455680" cy="14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0" i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проекте концепции стандарта качества банковского продукта</a:t>
            </a:r>
            <a:endParaRPr b="0" i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716000" y="3155760"/>
            <a:ext cx="4427640" cy="155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М.Д.Кашапов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00"/>
                </a:solidFill>
                <a:latin typeface="Arial"/>
              </a:rPr>
              <a:t>заместитель Председателя Национального банка Республики Башкортостан Банка Росс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Text Box 0"/>
          <p:cNvSpPr/>
          <p:nvPr/>
        </p:nvSpPr>
        <p:spPr>
          <a:xfrm>
            <a:off x="324000" y="549108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седание Координационного комитета Ассоциации российских банков по стандартам качества банковской деятельности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13 октября 2008 г.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684360" y="69228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Цели создания стандартов качества банковских продуктов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187280" y="228456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Улучшение качества банковских продуктов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 счет определения оптимальных клиентских свойств банковских продуктов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овышение качества управления банковскими рисками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за счет стандартизации отдельных свойств банковских продуктов, которые ограничивают возможные материальные потери банка и его клиента в процессе использования продукта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азвитие вторичного рынка продуктов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 являющихся активами, за счет появления стандартных банковских продуктов (в частности, кредитов), по которым могут быть однозначно оценены риски и по которым понятны принципы ценообразования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684360" y="620640"/>
            <a:ext cx="8604000" cy="10796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Стандартизируемые свойства банковских продуктов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826920" y="1844640"/>
            <a:ext cx="81378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1. Основные свойства</a:t>
            </a: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ключают полные условия его предоставления, которые, как правило, определяются в договоре между банком и клиентом по конкретному продукту. К ним относятся, в частности, все существенные условия договора, определяемые в качестве таковых в соответствии с действующим законодательством или обычаем делового оборота (банковской практикой).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2. Дополнительные свойства</a:t>
            </a: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войства, характеризующие качество обслуживания клиента при предоставлении продукта и дальнейшее сервисное обслуживание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войства, характеризующие операционные риски банка и безопасность использования продукта для клиента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684360" y="54936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Категории качества </a:t>
            </a:r>
            <a:br>
              <a:rPr sz="36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банковского продукта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26920" y="1844640"/>
            <a:ext cx="81378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1. Высш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удовлетворяет основную массу потребителей и банков как по основным, так и по дополнительным свойствам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высшей категории, являющиеся активами, имеют нулевой дисконт к балансовой стоимости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. Перв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удовлетворяет основную массу потребителей и банков частично по основным либо по дополнительным свойствам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первой категории, являющиеся активами, имеют дисконт к балансовой стоимости не более 10%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. Вторая</a:t>
            </a:r>
            <a:endParaRPr b="0" lang="en-US" sz="20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 имеет свойства, признаваемые в качестве приемлемых небольшой долей потребителей и банков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дукты второй категории, являющиеся активами, имеют дисконт к балансовой стоимости не более 20%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 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684360" y="549360"/>
            <a:ext cx="8604000" cy="1079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Форма стандарта качества </a:t>
            </a:r>
            <a:br>
              <a:rPr sz="3600"/>
            </a:b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банковского продукта</a:t>
            </a:r>
            <a:endParaRPr b="0" lang="en-US" sz="36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863640" y="1785960"/>
          <a:ext cx="828036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785960"/>
                    <a:ext cx="828036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547640" y="1700280"/>
            <a:ext cx="669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40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4859280" y="5373720"/>
            <a:ext cx="37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телефон: (347) 279-65-32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alut@ufa.cbr.ru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325908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Кашапов Марат Данилович,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заместитель Председателя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Национального банка 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66"/>
                </a:solidFill>
                <a:latin typeface="Arial"/>
              </a:rPr>
              <a:t>Республики Башкортостан Банка России</a:t>
            </a:r>
            <a:endParaRPr b="0" lang="en-US" sz="1800" spc="-1" strike="noStrike" u="sng">
              <a:solidFill>
                <a:srgbClr val="003366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53:25Z</dcterms:created>
  <dc:creator>Нафиков</dc:creator>
  <dc:description/>
  <dc:language>en-US</dc:language>
  <cp:lastModifiedBy>ZooM</cp:lastModifiedBy>
  <cp:lastPrinted>2005-09-07T05:32:07Z</cp:lastPrinted>
  <dcterms:modified xsi:type="dcterms:W3CDTF">2013-12-15T00:22:21Z</dcterms:modified>
  <cp:revision>543</cp:revision>
  <dc:subject/>
  <dc:title>ИСПОЛЬЗОВАНИЕ ДЕРЕВА СВОЙСТВ ПРОДУКТА ПРИ ОПРЕДЕЛЕНИИ КРИТИЧЕСКИХ КОНТРОЛЬНЫХ ТОЧЕК ПРОЦЕССА </dc:title>
</cp:coreProperties>
</file>