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5.png" ContentType="image/png"/>
  <Override PartName="/ppt/media/image13.png" ContentType="image/png"/>
  <Override PartName="/ppt/media/image6.jpeg" ContentType="image/jpeg"/>
  <Override PartName="/ppt/media/image17.jpeg" ContentType="image/jpeg"/>
  <Override PartName="/ppt/media/image3.png" ContentType="image/png"/>
  <Override PartName="/ppt/media/chimes.wav" ContentType="audio/x-wav"/>
  <Override PartName="/ppt/media/image16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5DB-674D-4538-835F-3696412F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235-C18E-44E1-A39C-9767448A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D81-776E-4A8C-B939-43AA9C46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6DA-C2E6-45DA-8E49-C69285A9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D10C-658F-49F8-896F-365F8AA7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8DFE-56AE-4E04-B3F3-DDA16DF4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AFF4-7307-46EA-9AE2-C9835D9C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904F-E985-437B-996E-D5D5D11B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3288-C95C-44FD-9E08-FF85B24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07B6-24EE-4592-AD5B-2AB1D2F0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F18C-F987-4ADB-84F9-C6ED920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836-DE5D-4230-A182-5A092524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E651-83CE-4D29-ACE4-4C8933E3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461F-D79A-4736-BE6C-B34C7990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5C18-E040-4894-8920-EF1C72CC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22DF-8935-4478-95E1-F082998D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F4FD-8111-4DB3-84C0-4E53F019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C51C9-BB11-4076-908A-B3E0A057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92EA-B2A8-4A1B-B06A-FCD9DB7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E296-5D5B-4DDE-9583-866B9BE5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5C2E-E1DF-4D82-9C27-D35DB23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8E79-8C81-4B7C-89A1-3BBA909A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E7B-5E1C-429B-83D3-67F1D883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791B-A398-4D68-8BB3-07D3973F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3AEB-789C-42D8-A451-3BE4F07B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08DBB-41F6-4B53-B1B9-65984563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EBC1-6A13-41B8-9C40-A6CE5B95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2080-C2C9-4A0E-8AD2-7BC78C4E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8354-CFEB-4E3C-AE00-4809242E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AEC74-D143-4BBE-835C-4CEC1AA8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50C-C0B2-471A-BA71-304B68D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BC2-7117-41ED-A9B2-F0581C39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338-AD13-4897-AA2A-9EEF718D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B93-0C80-46E2-9691-7861E31E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61F-6FDA-4182-A796-82378FE9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9DE-30D1-4624-B91D-AD5D557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CB39-F175-4BE2-9B50-0A7E8CDACF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317A-56F3-481A-8FDB-4D1C0ED1EE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FDFD-ECE6-409E-9B30-81764839C8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cc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-612720" y="1268280"/>
            <a:ext cx="8137440" cy="30974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00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Море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Стою очарован над бездной тво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5148360" y="765000"/>
            <a:ext cx="340020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мастерская.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WordArt 6"/>
          <p:cNvSpPr txBox="1"/>
          <p:nvPr/>
        </p:nvSpPr>
        <p:spPr>
          <a:xfrm>
            <a:off x="395280" y="4653000"/>
            <a:ext cx="734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_ ______________ ____________ _________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50000">
                    <a:srgbClr val="ffffff"/>
                  </a:gs>
                  <a:gs pos="100000">
                    <a:srgbClr val="003399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50000">
                      <a:srgbClr val="ffffff"/>
                    </a:gs>
                    <a:gs pos="100000">
                      <a:srgbClr val="003399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__ ______  _________   ___ 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50000">
                    <a:srgbClr val="ffffff"/>
                  </a:gs>
                  <a:gs pos="100000">
                    <a:srgbClr val="003399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5" name="13-Mi i more (instrumental).mp3" descr=""/>
          <p:cNvPicPr/>
          <p:nvPr/>
        </p:nvPicPr>
        <p:blipFill>
          <a:blip r:embed="rId3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Freeform 13"/>
          <p:cNvSpPr/>
          <p:nvPr/>
        </p:nvSpPr>
        <p:spPr>
          <a:xfrm>
            <a:off x="179280" y="3573360"/>
            <a:ext cx="8713800" cy="263520"/>
          </a:xfrm>
          <a:custGeom>
            <a:avLst/>
            <a:gdLst>
              <a:gd name="textAreaLeft" fmla="*/ 0 w 8713800"/>
              <a:gd name="textAreaRight" fmla="*/ 8714160 w 87138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9" h="317">
                <a:moveTo>
                  <a:pt x="0" y="196"/>
                </a:moveTo>
                <a:cubicBezTo>
                  <a:pt x="238" y="105"/>
                  <a:pt x="476" y="15"/>
                  <a:pt x="771" y="15"/>
                </a:cubicBezTo>
                <a:cubicBezTo>
                  <a:pt x="1066" y="15"/>
                  <a:pt x="1474" y="196"/>
                  <a:pt x="1769" y="196"/>
                </a:cubicBezTo>
                <a:cubicBezTo>
                  <a:pt x="2064" y="196"/>
                  <a:pt x="2192" y="15"/>
                  <a:pt x="2540" y="15"/>
                </a:cubicBezTo>
                <a:cubicBezTo>
                  <a:pt x="2888" y="15"/>
                  <a:pt x="3561" y="196"/>
                  <a:pt x="3856" y="196"/>
                </a:cubicBezTo>
                <a:cubicBezTo>
                  <a:pt x="4151" y="196"/>
                  <a:pt x="4082" y="0"/>
                  <a:pt x="4309" y="15"/>
                </a:cubicBezTo>
                <a:cubicBezTo>
                  <a:pt x="4536" y="30"/>
                  <a:pt x="5019" y="257"/>
                  <a:pt x="5216" y="287"/>
                </a:cubicBezTo>
                <a:cubicBezTo>
                  <a:pt x="5413" y="317"/>
                  <a:pt x="5451" y="256"/>
                  <a:pt x="5489" y="19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4"/>
          <p:cNvSpPr/>
          <p:nvPr/>
        </p:nvSpPr>
        <p:spPr>
          <a:xfrm>
            <a:off x="1476360" y="1905120"/>
            <a:ext cx="7343640" cy="323640"/>
          </a:xfrm>
          <a:custGeom>
            <a:avLst/>
            <a:gdLst>
              <a:gd name="textAreaLeft" fmla="*/ 0 w 7343640"/>
              <a:gd name="textAreaRight" fmla="*/ 7344000 w 73436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626" h="204">
                <a:moveTo>
                  <a:pt x="0" y="189"/>
                </a:moveTo>
                <a:cubicBezTo>
                  <a:pt x="124" y="121"/>
                  <a:pt x="249" y="53"/>
                  <a:pt x="408" y="53"/>
                </a:cubicBezTo>
                <a:cubicBezTo>
                  <a:pt x="567" y="53"/>
                  <a:pt x="740" y="189"/>
                  <a:pt x="952" y="189"/>
                </a:cubicBezTo>
                <a:cubicBezTo>
                  <a:pt x="1164" y="189"/>
                  <a:pt x="1444" y="60"/>
                  <a:pt x="1678" y="53"/>
                </a:cubicBezTo>
                <a:cubicBezTo>
                  <a:pt x="1912" y="46"/>
                  <a:pt x="2094" y="152"/>
                  <a:pt x="2358" y="144"/>
                </a:cubicBezTo>
                <a:cubicBezTo>
                  <a:pt x="2622" y="136"/>
                  <a:pt x="2970" y="0"/>
                  <a:pt x="3265" y="7"/>
                </a:cubicBezTo>
                <a:cubicBezTo>
                  <a:pt x="3560" y="14"/>
                  <a:pt x="3900" y="174"/>
                  <a:pt x="4127" y="189"/>
                </a:cubicBezTo>
                <a:cubicBezTo>
                  <a:pt x="4354" y="204"/>
                  <a:pt x="4490" y="151"/>
                  <a:pt x="4626" y="9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250920" y="2840040"/>
            <a:ext cx="8137440" cy="301680"/>
          </a:xfrm>
          <a:custGeom>
            <a:avLst/>
            <a:gdLst>
              <a:gd name="textAreaLeft" fmla="*/ 0 w 8137440"/>
              <a:gd name="textAreaRight" fmla="*/ 8137800 w 81374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5126" h="190">
                <a:moveTo>
                  <a:pt x="0" y="190"/>
                </a:moveTo>
                <a:cubicBezTo>
                  <a:pt x="147" y="103"/>
                  <a:pt x="295" y="16"/>
                  <a:pt x="499" y="8"/>
                </a:cubicBezTo>
                <a:cubicBezTo>
                  <a:pt x="703" y="0"/>
                  <a:pt x="991" y="144"/>
                  <a:pt x="1225" y="144"/>
                </a:cubicBezTo>
                <a:cubicBezTo>
                  <a:pt x="1459" y="144"/>
                  <a:pt x="1657" y="8"/>
                  <a:pt x="1906" y="8"/>
                </a:cubicBezTo>
                <a:cubicBezTo>
                  <a:pt x="2155" y="8"/>
                  <a:pt x="2480" y="144"/>
                  <a:pt x="2722" y="144"/>
                </a:cubicBezTo>
                <a:cubicBezTo>
                  <a:pt x="2964" y="144"/>
                  <a:pt x="3108" y="15"/>
                  <a:pt x="3357" y="8"/>
                </a:cubicBezTo>
                <a:cubicBezTo>
                  <a:pt x="3606" y="1"/>
                  <a:pt x="3924" y="92"/>
                  <a:pt x="4219" y="99"/>
                </a:cubicBezTo>
                <a:cubicBezTo>
                  <a:pt x="4514" y="106"/>
                  <a:pt x="4975" y="61"/>
                  <a:pt x="5126" y="53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13-Mi i more (instrumental).mp3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Жуковский одухотворяет море.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Море у него «дышит», в нем скрыта душа, оно способно «люби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змолвное море, лазурное м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ю очарован над бездной тв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ы живо; ты дышишь; смятенной любов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вожною думой наполнено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Paradise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301" name="Line 8"/>
          <p:cNvSpPr/>
          <p:nvPr/>
        </p:nvSpPr>
        <p:spPr>
          <a:xfrm>
            <a:off x="4643280" y="1557360"/>
            <a:ext cx="410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464328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8748720" y="1557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4643280" y="6165720"/>
            <a:ext cx="410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эт чувствует тревогу. Море лежит между небом и землей. Оно не может вырваться из земной тверди, но его манит небо, и море стремится к нему, никогда его не достиг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ь тянет тебя из земныя не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лекое светлое небо к себ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инственной, сладостной полное жизни, ты чисто в присутствии чистом ег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0223_0006"/>
          <p:cNvPicPr/>
          <p:nvPr/>
        </p:nvPicPr>
        <p:blipFill>
          <a:blip r:embed="rId2"/>
          <a:stretch/>
        </p:blipFill>
        <p:spPr>
          <a:xfrm>
            <a:off x="4572000" y="1773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308" name="Line 6"/>
          <p:cNvSpPr/>
          <p:nvPr/>
        </p:nvSpPr>
        <p:spPr>
          <a:xfrm>
            <a:off x="4572000" y="177336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457200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8"/>
          <p:cNvSpPr/>
          <p:nvPr/>
        </p:nvSpPr>
        <p:spPr>
          <a:xfrm>
            <a:off x="8675640" y="177336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4572000" y="638172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0" descr="BD21326_"/>
          <p:cNvPicPr/>
          <p:nvPr/>
        </p:nvPicPr>
        <p:blipFill>
          <a:blip r:embed="rId3"/>
          <a:stretch/>
        </p:blipFill>
        <p:spPr>
          <a:xfrm>
            <a:off x="324000" y="6308640"/>
            <a:ext cx="3960720" cy="69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BD21504_"/>
          <p:cNvPicPr/>
          <p:nvPr/>
        </p:nvPicPr>
        <p:blipFill>
          <a:blip r:embed="rId4"/>
          <a:stretch/>
        </p:blipFill>
        <p:spPr>
          <a:xfrm>
            <a:off x="2268360" y="5877000"/>
            <a:ext cx="114480" cy="11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himes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о едва темные тучи закроют ясное небо, море охватывает тревога. Победив тьму, оно еще долго не успока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же сбираются темные ту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 ясное небо отнять у теб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бьешься, ты воешь, ты волны подъемл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ы рвешь и терзаешь враждебную мгл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волны"/>
          <p:cNvPicPr/>
          <p:nvPr/>
        </p:nvPicPr>
        <p:blipFill>
          <a:blip r:embed="rId2"/>
          <a:stretch/>
        </p:blipFill>
        <p:spPr>
          <a:xfrm>
            <a:off x="4643280" y="1773360"/>
            <a:ext cx="4038840" cy="396072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43280" y="1773360"/>
            <a:ext cx="403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8675640" y="1773360"/>
            <a:ext cx="0" cy="396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4643280" y="1773360"/>
            <a:ext cx="0" cy="396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643280" y="5734080"/>
            <a:ext cx="403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BD21504_"/>
          <p:cNvPicPr/>
          <p:nvPr/>
        </p:nvPicPr>
        <p:blipFill>
          <a:blip r:embed="rId3"/>
          <a:stretch/>
        </p:blipFill>
        <p:spPr>
          <a:xfrm>
            <a:off x="2195640" y="55166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BD21326_"/>
          <p:cNvPicPr/>
          <p:nvPr/>
        </p:nvPicPr>
        <p:blipFill>
          <a:blip r:embed="rId4"/>
          <a:stretch/>
        </p:blipFill>
        <p:spPr>
          <a:xfrm>
            <a:off x="611280" y="6165720"/>
            <a:ext cx="8064360" cy="142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5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и человек,погруженный в земную суету, рвется в небесную безбрежность, жаждет иде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amuri"/>
          <p:cNvPicPr/>
          <p:nvPr/>
        </p:nvPicPr>
        <p:blipFill>
          <a:blip r:embed="rId2"/>
          <a:stretch/>
        </p:blipFill>
        <p:spPr>
          <a:xfrm>
            <a:off x="1547640" y="2060640"/>
            <a:ext cx="6048720" cy="4514760"/>
          </a:xfrm>
          <a:prstGeom prst="rect">
            <a:avLst/>
          </a:prstGeom>
          <a:ln w="0">
            <a:noFill/>
          </a:ln>
        </p:spPr>
      </p:pic>
      <p:sp>
        <p:nvSpPr>
          <p:cNvPr id="325" name="Line 9"/>
          <p:cNvSpPr/>
          <p:nvPr/>
        </p:nvSpPr>
        <p:spPr>
          <a:xfrm>
            <a:off x="1547640" y="2060640"/>
            <a:ext cx="6048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7596360" y="2060640"/>
            <a:ext cx="0" cy="4537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"/>
          <p:cNvSpPr/>
          <p:nvPr/>
        </p:nvSpPr>
        <p:spPr>
          <a:xfrm>
            <a:off x="1547640" y="2060640"/>
            <a:ext cx="0" cy="4537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1547640" y="6597720"/>
            <a:ext cx="6048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легии Жуковского имеется в виду не только море, не только природа, но и человек и человечество. Они не могут существовать, жить, дышать без иде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ZakaT"/>
          <p:cNvPicPr/>
          <p:nvPr/>
        </p:nvPicPr>
        <p:blipFill>
          <a:blip r:embed="rId2"/>
          <a:stretch/>
        </p:blipFill>
        <p:spPr>
          <a:xfrm>
            <a:off x="1403280" y="2205000"/>
            <a:ext cx="6335640" cy="4248360"/>
          </a:xfrm>
          <a:prstGeom prst="rect">
            <a:avLst/>
          </a:prstGeom>
          <a:ln w="0">
            <a:noFill/>
          </a:ln>
        </p:spPr>
      </p:pic>
      <p:sp>
        <p:nvSpPr>
          <p:cNvPr id="331" name="Line 6"/>
          <p:cNvSpPr/>
          <p:nvPr/>
        </p:nvSpPr>
        <p:spPr>
          <a:xfrm>
            <a:off x="1403280" y="2205000"/>
            <a:ext cx="633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1403280" y="2205000"/>
            <a:ext cx="0" cy="424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7740720" y="2205000"/>
            <a:ext cx="0" cy="4248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1403280" y="6453360"/>
            <a:ext cx="63374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68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8080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читайте еще раз элегию</a:t>
            </a:r>
            <a:br>
              <a:rPr sz="28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уковског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«Мор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йдите и выпишите слова, которые ассоциируются у вас в равной степени с морем и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вы себе представляете взаимосвязь «человек-природа»? Напишите или изобразите схемат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такое, по – вашему, гармо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воспринимает гармонический мир человека и природы Жуковский? А как воспринимаете вы? Напи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Используя накопленные ощущения, переживания, ассоциации, образы, напишите эссе на тему: «Море… Стою очарован над бездной тво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155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1155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115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115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2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80808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. 9 кл. учебник для общеобразовательных учреждений; под ред. В.Я.Коровиной.- М.: Просвещение, 2007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гач В.Е. Русская поэзия на уроках литературы. 9-11 кл. СПб.: «Паритет», 2003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Зинатуллина И.Б. Калининград 2008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orm"/>
          <p:cNvSpPr/>
          <p:nvPr/>
        </p:nvSpPr>
        <p:spPr>
          <a:xfrm>
            <a:off x="7020000" y="4653000"/>
            <a:ext cx="1409760" cy="1830240"/>
          </a:xfrm>
          <a:custGeom>
            <a:avLst/>
            <a:gdLst>
              <a:gd name="textAreaLeft" fmla="*/ 309240 w 1409760"/>
              <a:gd name="textAreaRight" fmla="*/ 1266840 w 1409760"/>
              <a:gd name="textAreaTop" fmla="*/ 110880 h 1830240"/>
              <a:gd name="textAreaBottom" fmla="*/ 1383840 h 18302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1" name="chimes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2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2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0223_00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2176560"/>
            <a:ext cx="8229600" cy="4681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пишите слово «море»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дберите ассоциации к этому слову. Что видится или слышится вам, когда вы его произносите?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пишите или нарисуй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3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ассмотрите фотографии, изображающие морскую стихию в разных состояниях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PINN34"/>
          <p:cNvPicPr/>
          <p:nvPr/>
        </p:nvPicPr>
        <p:blipFill>
          <a:blip r:embed="rId2"/>
          <a:stretch/>
        </p:blipFill>
        <p:spPr>
          <a:xfrm>
            <a:off x="1476360" y="1916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64" name="Line 5"/>
          <p:cNvSpPr/>
          <p:nvPr/>
        </p:nvSpPr>
        <p:spPr>
          <a:xfrm>
            <a:off x="1258920" y="1844640"/>
            <a:ext cx="0" cy="475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1258920" y="1844640"/>
            <a:ext cx="6553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7812000" y="1844640"/>
            <a:ext cx="0" cy="475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258920" y="6597720"/>
            <a:ext cx="6553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Line 4"/>
          <p:cNvSpPr/>
          <p:nvPr/>
        </p:nvSpPr>
        <p:spPr>
          <a:xfrm>
            <a:off x="684360" y="476280"/>
            <a:ext cx="777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684360" y="476280"/>
            <a:ext cx="0" cy="5832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8459640" y="476280"/>
            <a:ext cx="0" cy="5832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684360" y="6308640"/>
            <a:ext cx="7775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3d_233"/>
          <p:cNvPicPr/>
          <p:nvPr/>
        </p:nvPicPr>
        <p:blipFill>
          <a:blip r:embed="rId2"/>
          <a:stretch/>
        </p:blipFill>
        <p:spPr>
          <a:xfrm>
            <a:off x="684360" y="476280"/>
            <a:ext cx="7775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144013"/>
          <p:cNvPicPr/>
          <p:nvPr/>
        </p:nvPicPr>
        <p:blipFill>
          <a:blip r:embed="rId2"/>
          <a:stretch/>
        </p:blipFill>
        <p:spPr>
          <a:xfrm>
            <a:off x="900000" y="692280"/>
            <a:ext cx="7344000" cy="5508360"/>
          </a:xfrm>
          <a:prstGeom prst="rect">
            <a:avLst/>
          </a:prstGeom>
          <a:ln w="0">
            <a:noFill/>
          </a:ln>
        </p:spPr>
      </p:pic>
      <p:sp>
        <p:nvSpPr>
          <p:cNvPr id="274" name="Line 3"/>
          <p:cNvSpPr/>
          <p:nvPr/>
        </p:nvSpPr>
        <p:spPr>
          <a:xfrm>
            <a:off x="900000" y="692280"/>
            <a:ext cx="0" cy="547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900000" y="692280"/>
            <a:ext cx="7344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8244000" y="692280"/>
            <a:ext cx="0" cy="5545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900000" y="6165720"/>
            <a:ext cx="73440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12-1024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6156360"/>
          </a:xfrm>
          <a:prstGeom prst="rect">
            <a:avLst/>
          </a:prstGeom>
          <a:ln w="0">
            <a:noFill/>
          </a:ln>
        </p:spPr>
      </p:pic>
      <p:sp>
        <p:nvSpPr>
          <p:cNvPr id="279" name="Line 3"/>
          <p:cNvSpPr/>
          <p:nvPr/>
        </p:nvSpPr>
        <p:spPr>
          <a:xfrm>
            <a:off x="468360" y="333360"/>
            <a:ext cx="8207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8675640" y="333360"/>
            <a:ext cx="0" cy="619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468360" y="333360"/>
            <a:ext cx="0" cy="619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468360" y="6524640"/>
            <a:ext cx="82072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3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ample1"/>
          <p:cNvPicPr/>
          <p:nvPr/>
        </p:nvPicPr>
        <p:blipFill>
          <a:blip r:embed="rId2"/>
          <a:stretch/>
        </p:blipFill>
        <p:spPr>
          <a:xfrm>
            <a:off x="468360" y="260280"/>
            <a:ext cx="8136000" cy="6308640"/>
          </a:xfrm>
          <a:prstGeom prst="rect">
            <a:avLst/>
          </a:prstGeom>
          <a:ln w="0">
            <a:noFill/>
          </a:ln>
        </p:spPr>
      </p:pic>
      <p:sp>
        <p:nvSpPr>
          <p:cNvPr id="284" name="Line 4"/>
          <p:cNvSpPr/>
          <p:nvPr/>
        </p:nvSpPr>
        <p:spPr>
          <a:xfrm>
            <a:off x="468360" y="260280"/>
            <a:ext cx="0" cy="6337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8604360" y="260280"/>
            <a:ext cx="0" cy="6337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1547640" y="6597720"/>
            <a:ext cx="59770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BD21294_"/>
          <p:cNvPicPr/>
          <p:nvPr/>
        </p:nvPicPr>
        <p:blipFill>
          <a:blip r:embed="rId3"/>
          <a:stretch/>
        </p:blipFill>
        <p:spPr>
          <a:xfrm>
            <a:off x="826920" y="623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BD21294_"/>
          <p:cNvPicPr/>
          <p:nvPr/>
        </p:nvPicPr>
        <p:blipFill>
          <a:blip r:embed="rId4"/>
          <a:stretch/>
        </p:blipFill>
        <p:spPr>
          <a:xfrm>
            <a:off x="7956720" y="6237360"/>
            <a:ext cx="358560" cy="358560"/>
          </a:xfrm>
          <a:prstGeom prst="rect">
            <a:avLst/>
          </a:prstGeom>
          <a:ln w="0">
            <a:noFill/>
          </a:ln>
        </p:spPr>
      </p:pic>
      <p:sp>
        <p:nvSpPr>
          <p:cNvPr id="289" name="Line 9"/>
          <p:cNvSpPr/>
          <p:nvPr/>
        </p:nvSpPr>
        <p:spPr>
          <a:xfrm>
            <a:off x="468360" y="260280"/>
            <a:ext cx="813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5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ec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  <a:effectLst>
            <a:outerShdw dist="99192" dir="18581945" blurRad="0" rotWithShape="0">
              <a:srgbClr val="b2b2b2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опробуйте подобрать новые слова-ассоциации к этому образу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авнодушный, мертвый или живой образ у вас получился?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Соотносится ли ваше состояние с состоянием стихии, той, какой вы ее увидели? Как именно?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Напишите или нарисуй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BD21325_"/>
          <p:cNvPicPr/>
          <p:nvPr/>
        </p:nvPicPr>
        <p:blipFill>
          <a:blip r:embed="rId1"/>
          <a:stretch/>
        </p:blipFill>
        <p:spPr>
          <a:xfrm>
            <a:off x="611280" y="6021360"/>
            <a:ext cx="7993080" cy="21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BD21325_"/>
          <p:cNvPicPr/>
          <p:nvPr/>
        </p:nvPicPr>
        <p:blipFill>
          <a:blip r:embed="rId2"/>
          <a:stretch/>
        </p:blipFill>
        <p:spPr>
          <a:xfrm>
            <a:off x="250920" y="3429000"/>
            <a:ext cx="1443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3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ec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ги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А.Жуковског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«Мор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тельное свойство поэзии Жуковского-одухотворять и оживлять все сущее-блестяще проявилось в знаменитой элегии. В ней изображен морской пейзаж в разных состояниях, но мысль поэта занята другим-он думает о человеке, о его жизни, о стихиях, бушующих в его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ubL"/>
          <p:cNvSpPr/>
          <p:nvPr/>
        </p:nvSpPr>
        <p:spPr>
          <a:xfrm rot="16200000">
            <a:off x="4119480" y="1937880"/>
            <a:ext cx="1366920" cy="7805880"/>
          </a:xfrm>
          <a:custGeom>
            <a:avLst/>
            <a:gdLst>
              <a:gd name="textAreaLeft" fmla="*/ 0 w 1366920"/>
              <a:gd name="textAreaRight" fmla="*/ 1367280 w 1366920"/>
              <a:gd name="textAreaTop" fmla="*/ 6672240 h 7805880"/>
              <a:gd name="textAreaBottom" fmla="*/ 7806240 h 780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8463"/>
                </a:lnTo>
                <a:lnTo>
                  <a:pt x="10787" y="18463"/>
                </a:lnTo>
                <a:lnTo>
                  <a:pt x="1078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116000" y="6308640"/>
            <a:ext cx="7201080" cy="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4:25:40Z</dcterms:created>
  <dc:creator>Артем</dc:creator>
  <dc:description/>
  <dc:language>en-US</dc:language>
  <cp:lastModifiedBy>Коля</cp:lastModifiedBy>
  <dcterms:modified xsi:type="dcterms:W3CDTF">2013-04-28T04:53:18Z</dcterms:modified>
  <cp:revision>50</cp:revision>
  <dc:subject/>
  <dc:title>Урок-мастерская.</dc:title>
</cp:coreProperties>
</file>