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5.png" ContentType="image/png"/>
  <Override PartName="/ppt/media/image13.png" ContentType="image/png"/>
  <Override PartName="/ppt/media/image6.jpeg" ContentType="image/jpeg"/>
  <Override PartName="/ppt/media/image17.jpeg" ContentType="image/jpeg"/>
  <Override PartName="/ppt/media/image3.png" ContentType="image/png"/>
  <Override PartName="/ppt/media/chimes.wav" ContentType="audio/x-wav"/>
  <Override PartName="/ppt/media/image16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69BE-4E1E-4E80-9583-37CCF993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2396-1DDF-43D3-969E-A362CA6D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81B6-E76D-49CF-ADB1-BB8F2430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7FE-9A30-47A9-A269-CC07BB4C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8A36-E24A-4695-B395-84DE23FB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18FC-174A-4622-AB0C-300D954F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8AA6-FBC1-4EF9-BA18-380157CA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464A-1572-4722-AAE1-E4BF4C92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E71C-046B-4FAB-A0A9-E91772F1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5E6B-4398-45C4-BDCC-5E5AF2CF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E103-2B47-4C10-A95E-AF8FA0B7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570-68B5-4A28-962E-2C9A1EFD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5074-2419-473D-8AE5-04399CB7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B9B6-E149-4CBA-9F91-A52AF1B1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7AA3-665F-4EFA-A34F-1B2A221C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8B73-64DF-4008-9769-A01741DF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589B-7E8E-4AEA-952B-CC76B531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A20BB-5E46-403A-ABF3-1530A8BA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CC19A-3AA5-4416-A5C0-B3F47955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D81C3-1548-4D39-B29B-4AC0E5D0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3C171-3687-4991-A595-B58EB7C2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2BF0F-3DD8-448E-92F4-47449720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FF0-CE14-4083-88B2-683C1B52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B9072-C7B6-4E62-B7C5-98BB3ECE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0CA25-9C60-4D90-B29A-389BE026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26554-82FC-4AB4-963B-264C806F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1C620-6A88-4595-BFC8-A0E5B403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63F53-8514-4348-A726-51DFA8A1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5052F-5FF5-4F13-A117-BF9245CD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57200-24FB-495D-8630-037E1F6A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3D2-1876-40D6-A45E-543A04D4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79DC-6975-431A-B28D-3648DF64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379-DFA7-4577-9F7B-91174F3E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E26-DBFF-4D45-A046-055742CF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79CE-9993-4E3D-B473-BDFE4790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ABB9-3BEB-4EFC-A943-85E96E2C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CC36-56BC-428F-9CA0-B9A95EB695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AF38-05E6-438E-B1F4-237C9FF87C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2D43-7CFD-4AA3-A0FC-5844D23169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ccffff"/>
            </a:gs>
            <a:gs pos="100000">
              <a:srgbClr val="33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-612720" y="1268280"/>
            <a:ext cx="8137440" cy="30974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00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Море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Стою очарован над бездной твое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WordArt 4"/>
          <p:cNvSpPr txBox="1"/>
          <p:nvPr/>
        </p:nvSpPr>
        <p:spPr>
          <a:xfrm>
            <a:off x="5148360" y="765000"/>
            <a:ext cx="3400200" cy="6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-мастерская.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4" name="WordArt 6"/>
          <p:cNvSpPr txBox="1"/>
          <p:nvPr/>
        </p:nvSpPr>
        <p:spPr>
          <a:xfrm>
            <a:off x="395280" y="4653000"/>
            <a:ext cx="734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50000">
                      <a:srgbClr val="ffffff"/>
                    </a:gs>
                    <a:gs pos="100000">
                      <a:srgbClr val="003399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50000">
                      <a:srgbClr val="ffffff"/>
                    </a:gs>
                    <a:gs pos="100000">
                      <a:srgbClr val="003399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_ ______________ ____________ _________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50000">
                    <a:srgbClr val="ffffff"/>
                  </a:gs>
                  <a:gs pos="100000">
                    <a:srgbClr val="003399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50000">
                      <a:srgbClr val="ffffff"/>
                    </a:gs>
                    <a:gs pos="100000">
                      <a:srgbClr val="003399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50000">
                      <a:srgbClr val="ffffff"/>
                    </a:gs>
                    <a:gs pos="100000">
                      <a:srgbClr val="003399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__ ______  _________   ___ 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50000">
                    <a:srgbClr val="ffffff"/>
                  </a:gs>
                  <a:gs pos="100000">
                    <a:srgbClr val="003399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5" name="13-Mi i more (instrumental).mp3" descr=""/>
          <p:cNvPicPr/>
          <p:nvPr/>
        </p:nvPicPr>
        <p:blipFill>
          <a:blip r:embed="rId3"/>
          <a:stretch/>
        </p:blipFill>
        <p:spPr>
          <a:xfrm>
            <a:off x="0" y="115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6" name="Freeform 13"/>
          <p:cNvSpPr/>
          <p:nvPr/>
        </p:nvSpPr>
        <p:spPr>
          <a:xfrm>
            <a:off x="179280" y="3573360"/>
            <a:ext cx="8713800" cy="263520"/>
          </a:xfrm>
          <a:custGeom>
            <a:avLst/>
            <a:gdLst>
              <a:gd name="textAreaLeft" fmla="*/ 0 w 8713800"/>
              <a:gd name="textAreaRight" fmla="*/ 8714160 w 87138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489" h="317">
                <a:moveTo>
                  <a:pt x="0" y="196"/>
                </a:moveTo>
                <a:cubicBezTo>
                  <a:pt x="238" y="105"/>
                  <a:pt x="476" y="15"/>
                  <a:pt x="771" y="15"/>
                </a:cubicBezTo>
                <a:cubicBezTo>
                  <a:pt x="1066" y="15"/>
                  <a:pt x="1474" y="196"/>
                  <a:pt x="1769" y="196"/>
                </a:cubicBezTo>
                <a:cubicBezTo>
                  <a:pt x="2064" y="196"/>
                  <a:pt x="2192" y="15"/>
                  <a:pt x="2540" y="15"/>
                </a:cubicBezTo>
                <a:cubicBezTo>
                  <a:pt x="2888" y="15"/>
                  <a:pt x="3561" y="196"/>
                  <a:pt x="3856" y="196"/>
                </a:cubicBezTo>
                <a:cubicBezTo>
                  <a:pt x="4151" y="196"/>
                  <a:pt x="4082" y="0"/>
                  <a:pt x="4309" y="15"/>
                </a:cubicBezTo>
                <a:cubicBezTo>
                  <a:pt x="4536" y="30"/>
                  <a:pt x="5019" y="257"/>
                  <a:pt x="5216" y="287"/>
                </a:cubicBezTo>
                <a:cubicBezTo>
                  <a:pt x="5413" y="317"/>
                  <a:pt x="5451" y="256"/>
                  <a:pt x="5489" y="19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4"/>
          <p:cNvSpPr/>
          <p:nvPr/>
        </p:nvSpPr>
        <p:spPr>
          <a:xfrm>
            <a:off x="1476360" y="1905120"/>
            <a:ext cx="7343640" cy="323640"/>
          </a:xfrm>
          <a:custGeom>
            <a:avLst/>
            <a:gdLst>
              <a:gd name="textAreaLeft" fmla="*/ 0 w 7343640"/>
              <a:gd name="textAreaRight" fmla="*/ 7344000 w 73436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626" h="204">
                <a:moveTo>
                  <a:pt x="0" y="189"/>
                </a:moveTo>
                <a:cubicBezTo>
                  <a:pt x="124" y="121"/>
                  <a:pt x="249" y="53"/>
                  <a:pt x="408" y="53"/>
                </a:cubicBezTo>
                <a:cubicBezTo>
                  <a:pt x="567" y="53"/>
                  <a:pt x="740" y="189"/>
                  <a:pt x="952" y="189"/>
                </a:cubicBezTo>
                <a:cubicBezTo>
                  <a:pt x="1164" y="189"/>
                  <a:pt x="1444" y="60"/>
                  <a:pt x="1678" y="53"/>
                </a:cubicBezTo>
                <a:cubicBezTo>
                  <a:pt x="1912" y="46"/>
                  <a:pt x="2094" y="152"/>
                  <a:pt x="2358" y="144"/>
                </a:cubicBezTo>
                <a:cubicBezTo>
                  <a:pt x="2622" y="136"/>
                  <a:pt x="2970" y="0"/>
                  <a:pt x="3265" y="7"/>
                </a:cubicBezTo>
                <a:cubicBezTo>
                  <a:pt x="3560" y="14"/>
                  <a:pt x="3900" y="174"/>
                  <a:pt x="4127" y="189"/>
                </a:cubicBezTo>
                <a:cubicBezTo>
                  <a:pt x="4354" y="204"/>
                  <a:pt x="4490" y="151"/>
                  <a:pt x="4626" y="9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5"/>
          <p:cNvSpPr/>
          <p:nvPr/>
        </p:nvSpPr>
        <p:spPr>
          <a:xfrm>
            <a:off x="250920" y="2840040"/>
            <a:ext cx="8137440" cy="301680"/>
          </a:xfrm>
          <a:custGeom>
            <a:avLst/>
            <a:gdLst>
              <a:gd name="textAreaLeft" fmla="*/ 0 w 8137440"/>
              <a:gd name="textAreaRight" fmla="*/ 8137800 w 81374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5126" h="190">
                <a:moveTo>
                  <a:pt x="0" y="190"/>
                </a:moveTo>
                <a:cubicBezTo>
                  <a:pt x="147" y="103"/>
                  <a:pt x="295" y="16"/>
                  <a:pt x="499" y="8"/>
                </a:cubicBezTo>
                <a:cubicBezTo>
                  <a:pt x="703" y="0"/>
                  <a:pt x="991" y="144"/>
                  <a:pt x="1225" y="144"/>
                </a:cubicBezTo>
                <a:cubicBezTo>
                  <a:pt x="1459" y="144"/>
                  <a:pt x="1657" y="8"/>
                  <a:pt x="1906" y="8"/>
                </a:cubicBezTo>
                <a:cubicBezTo>
                  <a:pt x="2155" y="8"/>
                  <a:pt x="2480" y="144"/>
                  <a:pt x="2722" y="144"/>
                </a:cubicBezTo>
                <a:cubicBezTo>
                  <a:pt x="2964" y="144"/>
                  <a:pt x="3108" y="15"/>
                  <a:pt x="3357" y="8"/>
                </a:cubicBezTo>
                <a:cubicBezTo>
                  <a:pt x="3606" y="1"/>
                  <a:pt x="3924" y="92"/>
                  <a:pt x="4219" y="99"/>
                </a:cubicBezTo>
                <a:cubicBezTo>
                  <a:pt x="4514" y="106"/>
                  <a:pt x="4975" y="61"/>
                  <a:pt x="5126" y="53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13-Mi i more (instrumental).mp3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3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Жуковский одухотворяет море.</a:t>
            </a: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Море у него «дышит», в нем скрыта душа, оно способно «люби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змолвное море, лазурное мо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ою очарован над бездной тво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ы живо; ты дышишь; смятенной любовь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вожною думой наполнено 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Paradise"/>
          <p:cNvPicPr/>
          <p:nvPr/>
        </p:nvPicPr>
        <p:blipFill>
          <a:blip r:embed="rId2"/>
          <a:stretch/>
        </p:blipFill>
        <p:spPr>
          <a:xfrm>
            <a:off x="4643280" y="1557360"/>
            <a:ext cx="4105440" cy="4608360"/>
          </a:xfrm>
          <a:prstGeom prst="rect">
            <a:avLst/>
          </a:prstGeom>
          <a:ln w="0">
            <a:noFill/>
          </a:ln>
        </p:spPr>
      </p:pic>
      <p:sp>
        <p:nvSpPr>
          <p:cNvPr id="301" name="Line 8"/>
          <p:cNvSpPr/>
          <p:nvPr/>
        </p:nvSpPr>
        <p:spPr>
          <a:xfrm>
            <a:off x="4643280" y="1557360"/>
            <a:ext cx="410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>
            <a:off x="4643280" y="1557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0"/>
          <p:cNvSpPr/>
          <p:nvPr/>
        </p:nvSpPr>
        <p:spPr>
          <a:xfrm>
            <a:off x="8748720" y="1557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4643280" y="6165720"/>
            <a:ext cx="410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3" name="chimes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2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2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оэт чувствует тревогу. Море лежит между небом и землей. Оно не может вырваться из земной тверди, но его манит небо, и море стремится к нему, никогда его не достиг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ь тянет тебя из земныя нев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лекое светлое небо к себ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инственной, сладостной полное жизни, ты чисто в присутствии чистом ег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0223_0006"/>
          <p:cNvPicPr/>
          <p:nvPr/>
        </p:nvPicPr>
        <p:blipFill>
          <a:blip r:embed="rId2"/>
          <a:stretch/>
        </p:blipFill>
        <p:spPr>
          <a:xfrm>
            <a:off x="4572000" y="1773360"/>
            <a:ext cx="4105440" cy="4608360"/>
          </a:xfrm>
          <a:prstGeom prst="rect">
            <a:avLst/>
          </a:prstGeom>
          <a:ln w="0">
            <a:noFill/>
          </a:ln>
        </p:spPr>
      </p:pic>
      <p:sp>
        <p:nvSpPr>
          <p:cNvPr id="308" name="Line 6"/>
          <p:cNvSpPr/>
          <p:nvPr/>
        </p:nvSpPr>
        <p:spPr>
          <a:xfrm>
            <a:off x="4572000" y="1773360"/>
            <a:ext cx="4103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4572000" y="1773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8"/>
          <p:cNvSpPr/>
          <p:nvPr/>
        </p:nvSpPr>
        <p:spPr>
          <a:xfrm>
            <a:off x="8675640" y="1773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9"/>
          <p:cNvSpPr/>
          <p:nvPr/>
        </p:nvSpPr>
        <p:spPr>
          <a:xfrm>
            <a:off x="4572000" y="6381720"/>
            <a:ext cx="4103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0" descr="BD21326_"/>
          <p:cNvPicPr/>
          <p:nvPr/>
        </p:nvPicPr>
        <p:blipFill>
          <a:blip r:embed="rId3"/>
          <a:stretch/>
        </p:blipFill>
        <p:spPr>
          <a:xfrm>
            <a:off x="324000" y="6308640"/>
            <a:ext cx="3960720" cy="69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BD21504_"/>
          <p:cNvPicPr/>
          <p:nvPr/>
        </p:nvPicPr>
        <p:blipFill>
          <a:blip r:embed="rId4"/>
          <a:stretch/>
        </p:blipFill>
        <p:spPr>
          <a:xfrm>
            <a:off x="2268360" y="5877000"/>
            <a:ext cx="114480" cy="114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5" name="chimes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80808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о едва темные тучи закроют ясное небо, море охватывает тревога. Победив тьму, оно еще долго не успокаи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80808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же сбираются темные ту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б ясное небо отнять у теб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ы бьешься, ты воешь, ты волны подъемле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ы рвешь и терзаешь враждебную мгл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волны"/>
          <p:cNvPicPr/>
          <p:nvPr/>
        </p:nvPicPr>
        <p:blipFill>
          <a:blip r:embed="rId2"/>
          <a:stretch/>
        </p:blipFill>
        <p:spPr>
          <a:xfrm>
            <a:off x="4643280" y="1773360"/>
            <a:ext cx="4038840" cy="396072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>
            <a:off x="4643280" y="1773360"/>
            <a:ext cx="4032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7"/>
          <p:cNvSpPr/>
          <p:nvPr/>
        </p:nvSpPr>
        <p:spPr>
          <a:xfrm>
            <a:off x="8675640" y="1773360"/>
            <a:ext cx="0" cy="3960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4643280" y="1773360"/>
            <a:ext cx="0" cy="3960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643280" y="5734080"/>
            <a:ext cx="4032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BD21504_"/>
          <p:cNvPicPr/>
          <p:nvPr/>
        </p:nvPicPr>
        <p:blipFill>
          <a:blip r:embed="rId3"/>
          <a:stretch/>
        </p:blipFill>
        <p:spPr>
          <a:xfrm>
            <a:off x="2195640" y="55166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BD21326_"/>
          <p:cNvPicPr/>
          <p:nvPr/>
        </p:nvPicPr>
        <p:blipFill>
          <a:blip r:embed="rId4"/>
          <a:stretch/>
        </p:blipFill>
        <p:spPr>
          <a:xfrm>
            <a:off x="611280" y="6165720"/>
            <a:ext cx="8064360" cy="142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5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1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и человек,погруженный в земную суету, рвется в небесную безбрежность, жаждет иде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amuri"/>
          <p:cNvPicPr/>
          <p:nvPr/>
        </p:nvPicPr>
        <p:blipFill>
          <a:blip r:embed="rId2"/>
          <a:stretch/>
        </p:blipFill>
        <p:spPr>
          <a:xfrm>
            <a:off x="1547640" y="2060640"/>
            <a:ext cx="6048720" cy="4514760"/>
          </a:xfrm>
          <a:prstGeom prst="rect">
            <a:avLst/>
          </a:prstGeom>
          <a:ln w="0">
            <a:noFill/>
          </a:ln>
        </p:spPr>
      </p:pic>
      <p:sp>
        <p:nvSpPr>
          <p:cNvPr id="325" name="Line 9"/>
          <p:cNvSpPr/>
          <p:nvPr/>
        </p:nvSpPr>
        <p:spPr>
          <a:xfrm>
            <a:off x="1547640" y="2060640"/>
            <a:ext cx="6048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0"/>
          <p:cNvSpPr/>
          <p:nvPr/>
        </p:nvSpPr>
        <p:spPr>
          <a:xfrm>
            <a:off x="7596360" y="2060640"/>
            <a:ext cx="0" cy="4537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1"/>
          <p:cNvSpPr/>
          <p:nvPr/>
        </p:nvSpPr>
        <p:spPr>
          <a:xfrm>
            <a:off x="1547640" y="2060640"/>
            <a:ext cx="0" cy="4537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2"/>
          <p:cNvSpPr/>
          <p:nvPr/>
        </p:nvSpPr>
        <p:spPr>
          <a:xfrm>
            <a:off x="1547640" y="6597720"/>
            <a:ext cx="6048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3" name="chimes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287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легии Жуковского имеется в виду не только море, не только природа, но и человек и человечество. Они не могут существовать, жить, дышать без идеа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ZakaT"/>
          <p:cNvPicPr/>
          <p:nvPr/>
        </p:nvPicPr>
        <p:blipFill>
          <a:blip r:embed="rId2"/>
          <a:stretch/>
        </p:blipFill>
        <p:spPr>
          <a:xfrm>
            <a:off x="1403280" y="2205000"/>
            <a:ext cx="6335640" cy="4248360"/>
          </a:xfrm>
          <a:prstGeom prst="rect">
            <a:avLst/>
          </a:prstGeom>
          <a:ln w="0">
            <a:noFill/>
          </a:ln>
        </p:spPr>
      </p:pic>
      <p:sp>
        <p:nvSpPr>
          <p:cNvPr id="331" name="Line 6"/>
          <p:cNvSpPr/>
          <p:nvPr/>
        </p:nvSpPr>
        <p:spPr>
          <a:xfrm>
            <a:off x="1403280" y="2205000"/>
            <a:ext cx="63374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1403280" y="2205000"/>
            <a:ext cx="0" cy="4248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8"/>
          <p:cNvSpPr/>
          <p:nvPr/>
        </p:nvSpPr>
        <p:spPr>
          <a:xfrm>
            <a:off x="7740720" y="2205000"/>
            <a:ext cx="0" cy="4248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1403280" y="6453360"/>
            <a:ext cx="63374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3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6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687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80808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читайте еще раз элегию</a:t>
            </a:r>
            <a:br>
              <a:rPr sz="28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уковског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«Море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80808"/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йдите и выпишите слова, которые ассоциируются у вас в равной степени с морем и челове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вы себе представляете взаимосвязь «человек-природа»? Напишите или изобразите схематиче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такое, по – вашему, гармо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воспринимает гармонический мир человека и природы Жуковский? А как воспринимаете вы? Напиш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Используя накопленные ощущения, переживания, ассоциации, образы, напишите эссе на тему: «Море… Стою очарован над бездной тво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2" name="chimes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155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1155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1155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1155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2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20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Использованная литература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80808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а. 9 кл. учебник для общеобразовательных учреждений; под ред. В.Я.Коровиной.- М.: Просвещение, 2007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гач В.Е. Русская поэзия на уроках литературы. 9-11 кл. СПб.: «Паритет», 2003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 Зинатуллина И.Б. Калининград 2008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Form"/>
          <p:cNvSpPr/>
          <p:nvPr/>
        </p:nvSpPr>
        <p:spPr>
          <a:xfrm>
            <a:off x="7020000" y="4653000"/>
            <a:ext cx="1409760" cy="1830240"/>
          </a:xfrm>
          <a:custGeom>
            <a:avLst/>
            <a:gdLst>
              <a:gd name="textAreaLeft" fmla="*/ 309240 w 1409760"/>
              <a:gd name="textAreaRight" fmla="*/ 1266840 w 1409760"/>
              <a:gd name="textAreaTop" fmla="*/ 110880 h 1830240"/>
              <a:gd name="textAreaBottom" fmla="*/ 1383840 h 18302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  <p:sndAc>
      <p:stSnd>
        <p:snd r:embed="rId1" name="chimes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2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2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2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0223_00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2176560"/>
            <a:ext cx="8229600" cy="4681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пишите слово «море»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дберите ассоциации к этому слову. Что видится или слышится вам, когда вы его произносите?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пишите или нарисуй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3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43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ассмотрите фотографии, изображающие морскую стихию в разных состояниях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PINN34"/>
          <p:cNvPicPr/>
          <p:nvPr/>
        </p:nvPicPr>
        <p:blipFill>
          <a:blip r:embed="rId2"/>
          <a:stretch/>
        </p:blipFill>
        <p:spPr>
          <a:xfrm>
            <a:off x="1476360" y="19162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64" name="Line 5"/>
          <p:cNvSpPr/>
          <p:nvPr/>
        </p:nvSpPr>
        <p:spPr>
          <a:xfrm>
            <a:off x="1258920" y="1844640"/>
            <a:ext cx="0" cy="47530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1258920" y="1844640"/>
            <a:ext cx="65530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7812000" y="1844640"/>
            <a:ext cx="0" cy="47530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258920" y="6597720"/>
            <a:ext cx="65530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3" name="chimes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Line 4"/>
          <p:cNvSpPr/>
          <p:nvPr/>
        </p:nvSpPr>
        <p:spPr>
          <a:xfrm>
            <a:off x="684360" y="476280"/>
            <a:ext cx="777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684360" y="476280"/>
            <a:ext cx="0" cy="5832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8459640" y="476280"/>
            <a:ext cx="0" cy="5832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7"/>
          <p:cNvSpPr/>
          <p:nvPr/>
        </p:nvSpPr>
        <p:spPr>
          <a:xfrm>
            <a:off x="684360" y="6308640"/>
            <a:ext cx="77752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8" descr="3d_233"/>
          <p:cNvPicPr/>
          <p:nvPr/>
        </p:nvPicPr>
        <p:blipFill>
          <a:blip r:embed="rId2"/>
          <a:stretch/>
        </p:blipFill>
        <p:spPr>
          <a:xfrm>
            <a:off x="684360" y="476280"/>
            <a:ext cx="777528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144013"/>
          <p:cNvPicPr/>
          <p:nvPr/>
        </p:nvPicPr>
        <p:blipFill>
          <a:blip r:embed="rId2"/>
          <a:stretch/>
        </p:blipFill>
        <p:spPr>
          <a:xfrm>
            <a:off x="900000" y="692280"/>
            <a:ext cx="7344000" cy="5508360"/>
          </a:xfrm>
          <a:prstGeom prst="rect">
            <a:avLst/>
          </a:prstGeom>
          <a:ln w="0">
            <a:noFill/>
          </a:ln>
        </p:spPr>
      </p:pic>
      <p:sp>
        <p:nvSpPr>
          <p:cNvPr id="274" name="Line 3"/>
          <p:cNvSpPr/>
          <p:nvPr/>
        </p:nvSpPr>
        <p:spPr>
          <a:xfrm>
            <a:off x="900000" y="692280"/>
            <a:ext cx="0" cy="547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900000" y="692280"/>
            <a:ext cx="73440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8244000" y="692280"/>
            <a:ext cx="0" cy="554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900000" y="6165720"/>
            <a:ext cx="73440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3" name="chimes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12-1024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6156360"/>
          </a:xfrm>
          <a:prstGeom prst="rect">
            <a:avLst/>
          </a:prstGeom>
          <a:ln w="0">
            <a:noFill/>
          </a:ln>
        </p:spPr>
      </p:pic>
      <p:sp>
        <p:nvSpPr>
          <p:cNvPr id="279" name="Line 3"/>
          <p:cNvSpPr/>
          <p:nvPr/>
        </p:nvSpPr>
        <p:spPr>
          <a:xfrm>
            <a:off x="468360" y="333360"/>
            <a:ext cx="8207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8675640" y="333360"/>
            <a:ext cx="0" cy="619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"/>
          <p:cNvSpPr/>
          <p:nvPr/>
        </p:nvSpPr>
        <p:spPr>
          <a:xfrm>
            <a:off x="468360" y="333360"/>
            <a:ext cx="0" cy="619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6"/>
          <p:cNvSpPr/>
          <p:nvPr/>
        </p:nvSpPr>
        <p:spPr>
          <a:xfrm>
            <a:off x="468360" y="6524640"/>
            <a:ext cx="8207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3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Sample1"/>
          <p:cNvPicPr/>
          <p:nvPr/>
        </p:nvPicPr>
        <p:blipFill>
          <a:blip r:embed="rId2"/>
          <a:stretch/>
        </p:blipFill>
        <p:spPr>
          <a:xfrm>
            <a:off x="468360" y="260280"/>
            <a:ext cx="8136000" cy="6308640"/>
          </a:xfrm>
          <a:prstGeom prst="rect">
            <a:avLst/>
          </a:prstGeom>
          <a:ln w="0">
            <a:noFill/>
          </a:ln>
        </p:spPr>
      </p:pic>
      <p:sp>
        <p:nvSpPr>
          <p:cNvPr id="284" name="Line 4"/>
          <p:cNvSpPr/>
          <p:nvPr/>
        </p:nvSpPr>
        <p:spPr>
          <a:xfrm>
            <a:off x="468360" y="260280"/>
            <a:ext cx="0" cy="6337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8604360" y="260280"/>
            <a:ext cx="0" cy="6337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6"/>
          <p:cNvSpPr/>
          <p:nvPr/>
        </p:nvSpPr>
        <p:spPr>
          <a:xfrm>
            <a:off x="1547640" y="6597720"/>
            <a:ext cx="59770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7" descr="BD21294_"/>
          <p:cNvPicPr/>
          <p:nvPr/>
        </p:nvPicPr>
        <p:blipFill>
          <a:blip r:embed="rId3"/>
          <a:stretch/>
        </p:blipFill>
        <p:spPr>
          <a:xfrm>
            <a:off x="826920" y="623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BD21294_"/>
          <p:cNvPicPr/>
          <p:nvPr/>
        </p:nvPicPr>
        <p:blipFill>
          <a:blip r:embed="rId4"/>
          <a:stretch/>
        </p:blipFill>
        <p:spPr>
          <a:xfrm>
            <a:off x="7956720" y="6237360"/>
            <a:ext cx="358560" cy="358560"/>
          </a:xfrm>
          <a:prstGeom prst="rect">
            <a:avLst/>
          </a:prstGeom>
          <a:ln w="0">
            <a:noFill/>
          </a:ln>
        </p:spPr>
      </p:pic>
      <p:sp>
        <p:nvSpPr>
          <p:cNvPr id="289" name="Line 9"/>
          <p:cNvSpPr/>
          <p:nvPr/>
        </p:nvSpPr>
        <p:spPr>
          <a:xfrm>
            <a:off x="468360" y="260280"/>
            <a:ext cx="813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5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ec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327640"/>
          </a:xfrm>
          <a:prstGeom prst="rect">
            <a:avLst/>
          </a:prstGeom>
          <a:noFill/>
          <a:ln w="0">
            <a:noFill/>
          </a:ln>
          <a:effectLst>
            <a:outerShdw dist="99192" dir="18581945" blurRad="0" rotWithShape="0">
              <a:srgbClr val="b2b2b2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опробуйте подобрать новые слова-ассоциации к этому образу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авнодушный, мертвый или живой образ у вас получился?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Соотносится ли ваше состояние с состоянием стихии, той, какой вы ее увидели? Как именно?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Напишите или нарисуй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BD21325_"/>
          <p:cNvPicPr/>
          <p:nvPr/>
        </p:nvPicPr>
        <p:blipFill>
          <a:blip r:embed="rId1"/>
          <a:stretch/>
        </p:blipFill>
        <p:spPr>
          <a:xfrm>
            <a:off x="611280" y="6021360"/>
            <a:ext cx="7993080" cy="216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BD21325_"/>
          <p:cNvPicPr/>
          <p:nvPr/>
        </p:nvPicPr>
        <p:blipFill>
          <a:blip r:embed="rId2"/>
          <a:stretch/>
        </p:blipFill>
        <p:spPr>
          <a:xfrm>
            <a:off x="250920" y="3429000"/>
            <a:ext cx="14436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chimes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ecff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гия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А.Жуковског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«Море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чательное свойство поэзии Жуковского-одухотворять и оживлять все сущее-блестяще проявилось в знаменитой элегии. В ней изображен морской пейзаж в разных состояниях, но мысль поэта занята другим-он думает о человеке, о его жизни, о стихиях, бушующих в его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ubL"/>
          <p:cNvSpPr/>
          <p:nvPr/>
        </p:nvSpPr>
        <p:spPr>
          <a:xfrm rot="16200000">
            <a:off x="4119480" y="1937880"/>
            <a:ext cx="1366920" cy="7805880"/>
          </a:xfrm>
          <a:custGeom>
            <a:avLst/>
            <a:gdLst>
              <a:gd name="textAreaLeft" fmla="*/ 0 w 1366920"/>
              <a:gd name="textAreaRight" fmla="*/ 1367280 w 1366920"/>
              <a:gd name="textAreaTop" fmla="*/ 6672240 h 7805880"/>
              <a:gd name="textAreaBottom" fmla="*/ 7806240 h 780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8463"/>
                </a:lnTo>
                <a:lnTo>
                  <a:pt x="10787" y="18463"/>
                </a:lnTo>
                <a:lnTo>
                  <a:pt x="1078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1116000" y="6308640"/>
            <a:ext cx="7201080" cy="0"/>
          </a:xfrm>
          <a:prstGeom prst="line">
            <a:avLst/>
          </a:prstGeom>
          <a:ln cap="rnd" w="76320">
            <a:solidFill>
              <a:srgbClr val="00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4:25:40Z</dcterms:created>
  <dc:creator>Артем</dc:creator>
  <dc:description/>
  <dc:language>en-US</dc:language>
  <cp:lastModifiedBy>Коля</cp:lastModifiedBy>
  <dcterms:modified xsi:type="dcterms:W3CDTF">2013-04-28T04:53:18Z</dcterms:modified>
  <cp:revision>50</cp:revision>
  <dc:subject/>
  <dc:title>Урок-мастерская.</dc:title>
</cp:coreProperties>
</file>