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E07-8269-42F2-BBEE-749DE2B2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4B2-74FF-417A-9F0D-ED4A33E7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3E3-4EA6-4F67-92D8-116BE3BA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804-3184-41E9-B26E-A5711F28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6BB-9393-4959-BE7F-EF7FEF10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2DC-C3C4-4B51-8752-16CFFA99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A03-597E-4EC5-9399-AF810E90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E13-B91E-497B-B58B-AEC38D78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C1C-D5EE-4BF0-97FB-38E033F8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EC0-C64C-41D7-85BB-D52BBDC1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A07-C797-44AE-A5D3-37ECD73B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AC6-E6EC-4547-BC27-0F38E989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BFD0-5C36-4CA4-A9DC-D43C5135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6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1628640"/>
            <a:ext cx="748800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Т А Н Г Р А 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5280" y="231480"/>
            <a:ext cx="47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Comic Sans MS"/>
              </a:rPr>
              <a:t>2. Танграм состоит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8640" y="1556280"/>
            <a:ext cx="728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3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7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5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в зависимости от обстоятель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360" y="472428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3. Площадь фигуры измеря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в ли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в треуголь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в квадрат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в граду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501336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вадрат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Comic Sans MS"/>
              </a:rPr>
              <a:t>4.Каждый кусочек танграма н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тан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2000" y="450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5.Фигуры, имеющие равные площади назыв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сиамскими близне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равновелик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близкими родствен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равнобедрен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5229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велик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ИЗГОТОВИМ из бумаг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http://festival.1september.ru/articles/417145/zagotovka.jpg"/>
          <p:cNvPicPr/>
          <p:nvPr/>
        </p:nvPicPr>
        <p:blipFill>
          <a:blip r:embed="rId2"/>
          <a:stretch/>
        </p:blipFill>
        <p:spPr>
          <a:xfrm>
            <a:off x="5661000" y="1628640"/>
            <a:ext cx="2867040" cy="417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5640" y="1484280"/>
            <a:ext cx="4211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116000" y="1484280"/>
            <a:ext cx="7345440" cy="34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композици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16000" y="476280"/>
            <a:ext cx="698508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ВЫПОЛНИ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приведен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ниж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компози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3514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1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3408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итае название “Танграм” неизвестно, а игра имеет название Чи-Чао-Ту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ь хитроумных фиг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В Оксфордском словаре английского языка — название “Танграм” появляется с ссылкой на авторитетного Генри Э. Дьюдени, его версию принял составитель словаря Д. Мюррей. Он обнаружил, что слово “Танграм” впервые встречается в словаре Вебстера издания 1864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884760"/>
            <a:ext cx="7843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ниге “Китайский философский и математический транграм” (1817 г.) слово “Танграм” — трактуется, как старинное английское слово — обознач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ушка - головолом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692280"/>
            <a:ext cx="56214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2090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050920" y="692280"/>
            <a:ext cx="52070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0" y="476280"/>
            <a:ext cx="909324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00720" y="620640"/>
            <a:ext cx="2592360" cy="2579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40000" y="476280"/>
            <a:ext cx="3744720" cy="28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940360" y="4108320"/>
            <a:ext cx="2914560" cy="244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98756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01480" y="3573360"/>
            <a:ext cx="2297160" cy="2984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276720" y="3429000"/>
            <a:ext cx="21175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63640" y="3716280"/>
            <a:ext cx="6193080" cy="258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4896000" cy="290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651640" y="404640"/>
            <a:ext cx="292392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1197000"/>
            <a:ext cx="78483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НИМ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32760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ф со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целый ряд версий и гипотез возникновения игры “Танграм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аиболее распространенной и известной является та, что игра “Танграм” насчитывает около 4000 лет. Такую дату можно прочитать у Кордемского Б.А. или Котова А.Я., а так же у различных иностранных авторов. Мнение о танграме, как о самой древней головоломке является весьма распространенным. Однако, это всеобщее заблуждение. Миф об этом создал С.Лойд. В 1903 году он выпустил книгу “Восьмая книга Тана”, в которой впервые опубликовал свою красивую версию о древнем происхождение игры. Это и по настоящее время один из величайших розыгрышей в мире головолом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легенде Лойда, Тан был легендарным китайским мудрецом, которому его соотечественники поклонялись как божеству. Фигуры в своих семи книгах он расположил в соответствии с семью стадиями в эволюции Земли. Его танграмы начинаются с символических изображений хаоса и принципа “инь и ян”. Затем следуют простейшие формы жизни, по мере продвижения по древу эволюции появляются фигуры рыб, птиц, животных и человека. По пути в различных местах попадаются изображения того, что создано человеком: орудию труда, мебель, одежда и архитектурные соору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619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360" y="1052640"/>
            <a:ext cx="76676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ТАНГРАМ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в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литератур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произведени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5157720"/>
            <a:ext cx="181908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4300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449440" cy="1468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20000" y="4581360"/>
            <a:ext cx="1957320" cy="2276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829800"/>
            <a:ext cx="770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се мы хорошо знаем книгу “Алиса в стране чудес” Л.Кэрролла (Чарльз Лютвидж Доджсон). Однако это его не единственное произведение. В книге “Модная китайская головоломка” он пишет, что танграм был любимой игрой Наполеона, который, лишившись трона, в изгнании проводил долгие часы за этой забавой, “упражняя свое терпение и находчивость”. Упоминание о любимой игре Наполеона, скорее всего не соответствует действительности, однако, и нет обратных доказательств, что, в свою очередь, позволяет существовать и такой красивой 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4960" y="404640"/>
            <a:ext cx="45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1. Льюис Кэррол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1118160"/>
            <a:ext cx="801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поклонников игры был Эдгар А. По. Принадлежавший ему танграм сделан из слоновой кости и в настоящее время хранится в Нью-Йоркской публичной библиоте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писатель и дипломат Роберт ван Гулик в романе “Убивающие ногтями” построил весь сюжет книги вокруг тангра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0000" y="5493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Эдгар А. 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826920" y="981000"/>
            <a:ext cx="756144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ШУТОЧ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ТЕС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1. Площадью фигуры н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Место, которое фигура занимает на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Место под сол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Место в кинотеа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Место в автоб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355360"/>
            <a:ext cx="727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сто, которое фигура занимает на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8:58:53Z</dcterms:created>
  <dc:creator>Дом</dc:creator>
  <dc:description/>
  <dc:language>en-US</dc:language>
  <cp:lastModifiedBy>Дом</cp:lastModifiedBy>
  <dcterms:modified xsi:type="dcterms:W3CDTF">2013-01-27T10:36:29Z</dcterms:modified>
  <cp:revision>3</cp:revision>
  <dc:subject/>
  <dc:title>Слайд 1</dc:title>
</cp:coreProperties>
</file>