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2E67-52E9-443B-B28E-7D19E3445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3378-6922-48B4-AE89-FECBAC9EF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FD30-370F-4C5B-B468-93911358D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A80D-07B3-4B1F-B282-43E8F7230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6B93-331A-401D-8F04-D7FF34270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4D8F-F21A-431D-ABC3-5FB17B022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EE45-5FF8-4FF2-943F-75FE2ECFB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E85F-5F18-4070-9132-6B0C83F6E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8ED9-4587-4528-8BFD-E873FA4CF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19FB-A33C-4941-A7B4-DCD64871D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ACAA-7DDB-49A4-BC2F-705708EA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F749-61D6-4AF3-BE07-F9BE993A4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5A275-6A5A-416D-B0DE-D71758BC8D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4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820000" cy="6624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971640" y="1628640"/>
            <a:ext cx="7488000" cy="249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Times New Roman"/>
              </a:rPr>
              <a:t>Т А Н Г Р А М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-54000"/>
            <a:ext cx="9144000" cy="68677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835280" y="231480"/>
            <a:ext cx="478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ff"/>
                </a:solidFill>
                <a:latin typeface="Comic Sans MS"/>
              </a:rPr>
              <a:t>2. Танграм состоит и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18640" y="1556280"/>
            <a:ext cx="7284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) 3 та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) 7 та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) 5 та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) в зависимости от обстоятель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116360" y="4724280"/>
            <a:ext cx="18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  та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-54000"/>
            <a:ext cx="9144000" cy="68677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ff"/>
                </a:solidFill>
                <a:latin typeface="Comic Sans MS"/>
              </a:rPr>
              <a:t>3. Площадь фигуры измеряет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) в литр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) в треугольных единиц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) в квадратных единиц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) в градус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84360" y="5013360"/>
            <a:ext cx="50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квадратных единиц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-54000"/>
            <a:ext cx="9144000" cy="686772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ff"/>
                </a:solidFill>
                <a:latin typeface="Comic Sans MS"/>
              </a:rPr>
              <a:t>4.Каждый кусочек танграма называет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) 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) т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) 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) тан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2000" y="4508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-54000"/>
            <a:ext cx="9144000" cy="68677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ff"/>
                </a:solidFill>
                <a:latin typeface="Comic Sans MS"/>
              </a:rPr>
              <a:t>5.Фигуры, имеющие равные площади называют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) сиамскими близнец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) равновелики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) близкими родственни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) равнобедренны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64000" y="522936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вновелики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-54000"/>
            <a:ext cx="9144000" cy="68677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Comic Sans MS"/>
              </a:rPr>
              <a:t>ИЗГОТОВИМ из бумаг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http://festival.1september.ru/articles/417145/zagotovka.jpg"/>
          <p:cNvPicPr/>
          <p:nvPr/>
        </p:nvPicPr>
        <p:blipFill>
          <a:blip r:embed="rId2"/>
          <a:stretch/>
        </p:blipFill>
        <p:spPr>
          <a:xfrm>
            <a:off x="5661000" y="1628640"/>
            <a:ext cx="2867040" cy="4176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755640" y="1484280"/>
            <a:ext cx="4211640" cy="42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1116000" y="1484280"/>
            <a:ext cx="7345440" cy="344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ПРИМЕ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композиций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424720" cy="63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116000" y="476280"/>
            <a:ext cx="6985080" cy="532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Times New Roman"/>
              </a:rPr>
              <a:t>ВЫПОЛНИТ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Times New Roman"/>
              </a:rPr>
              <a:t>приведенны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Times New Roman"/>
              </a:rPr>
              <a:t>ниж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Times New Roman"/>
              </a:rPr>
              <a:t>компози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-54000"/>
            <a:ext cx="9144000" cy="68677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332000" y="836640"/>
            <a:ext cx="635148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12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95280" y="334080"/>
            <a:ext cx="8424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Китае название “Танграм” неизвестно, а игра имеет название Чи-Чао-Ту 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мь хитроумных фигу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. В Оксфордском словаре английского языка — название “Танграм” появляется с ссылкой на авторитетного Генри Э. Дьюдени, его версию принял составитель словаря Д. Мюррей. Он обнаружил, что слово “Танграм” впервые встречается в словаре Вебстера издания 1864 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3884760"/>
            <a:ext cx="7843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книге “Китайский философский и математический транграм” (1817 г.) слово “Танграм” — трактуется, как старинное английское слово — обозначающие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грушка - головолом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-54000"/>
            <a:ext cx="9144000" cy="686772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47640" y="692280"/>
            <a:ext cx="5621400" cy="47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-54000"/>
            <a:ext cx="9144000" cy="68677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68360" y="1125360"/>
            <a:ext cx="8209080" cy="35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-54000"/>
            <a:ext cx="9144000" cy="68677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050920" y="692280"/>
            <a:ext cx="520704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-54000"/>
            <a:ext cx="9144000" cy="6867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0760" y="476280"/>
            <a:ext cx="909324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-54000"/>
            <a:ext cx="9144000" cy="6867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300720" y="620640"/>
            <a:ext cx="2592360" cy="25797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2340000" y="476280"/>
            <a:ext cx="3744720" cy="28814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5940360" y="4108320"/>
            <a:ext cx="2914560" cy="24498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324000" y="333360"/>
            <a:ext cx="1987560" cy="3240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501480" y="3573360"/>
            <a:ext cx="2297160" cy="2984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7"/>
          <a:stretch/>
        </p:blipFill>
        <p:spPr>
          <a:xfrm>
            <a:off x="3276720" y="3429000"/>
            <a:ext cx="2117520" cy="28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-54000"/>
            <a:ext cx="9144000" cy="68677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763640" y="3716280"/>
            <a:ext cx="6193080" cy="25876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539640" y="404640"/>
            <a:ext cx="4896000" cy="29019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5651640" y="404640"/>
            <a:ext cx="2923920" cy="29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36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11280" y="1197000"/>
            <a:ext cx="784836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СПАСИБО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З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ВНИМАНИ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-54000"/>
            <a:ext cx="9144000" cy="6867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55640" y="327600"/>
            <a:ext cx="7920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иф созд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ествует целый ряд версий и гипотез возникновения игры “Танграм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Наиболее распространенной и известной является та, что игра “Танграм” насчитывает около 4000 лет. Такую дату можно прочитать у Кордемского Б.А. или Котова А.Я., а так же у различных иностранных авторов. Мнение о танграме, как о самой древней головоломке является весьма распространенным. Однако, это всеобщее заблуждение. Миф об этом создал С.Лойд. В 1903 году он выпустил книгу “Восьмая книга Тана”, в которой впервые опубликовал свою красивую версию о древнем происхождение игры. Это и по настоящее время один из величайших розыгрышей в мире головолом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-54000"/>
            <a:ext cx="9144000" cy="68677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гласно легенде Лойда, Тан был легендарным китайским мудрецом, которому его соотечественники поклонялись как божеству. Фигуры в своих семи книгах он расположил в соответствии с семью стадиями в эволюции Земли. Его танграмы начинаются с символических изображений хаоса и принципа “инь и ян”. Затем следуют простейшие формы жизни, по мере продвижения по древу эволюции появляются фигуры рыб, птиц, животных и человека. По пути в различных местах попадаются изображения того, что создано человеком: орудию труда, мебель, одежда и архитектурные сооруж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8737560" cy="6619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4360" y="1052640"/>
            <a:ext cx="7667640" cy="431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>
                    <a:alpha val="77000"/>
                  </a:srgbClr>
                </a:solidFill>
                <a:latin typeface="Times New Roman"/>
              </a:rPr>
              <a:t>ТАНГРАМ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>
                  <a:alpha val="77000"/>
                </a:srgbClr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>
                    <a:alpha val="77000"/>
                  </a:srgbClr>
                </a:solidFill>
                <a:latin typeface="Times New Roman"/>
              </a:rPr>
              <a:t>в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>
                  <a:alpha val="77000"/>
                </a:srgbClr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>
                    <a:alpha val="77000"/>
                  </a:srgbClr>
                </a:solidFill>
                <a:latin typeface="Times New Roman"/>
              </a:rPr>
              <a:t>литературны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>
                  <a:alpha val="77000"/>
                </a:srgbClr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>
                    <a:alpha val="77000"/>
                  </a:srgbClr>
                </a:solidFill>
                <a:latin typeface="Times New Roman"/>
              </a:rPr>
              <a:t>произведения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>
                  <a:alpha val="77000"/>
                </a:srgbClr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24000" y="5157720"/>
            <a:ext cx="1819080" cy="1428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877080" y="260280"/>
            <a:ext cx="2043000" cy="14288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250920" y="260280"/>
            <a:ext cx="2449440" cy="1468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7020000" y="4581360"/>
            <a:ext cx="1957320" cy="22766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84360" y="829800"/>
            <a:ext cx="77025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Все мы хорошо знаем книгу “Алиса в стране чудес” Л.Кэрролла (Чарльз Лютвидж Доджсон). Однако это его не единственное произведение. В книге “Модная китайская головоломка” он пишет, что танграм был любимой игрой Наполеона, который, лишившись трона, в изгнании проводил долгие часы за этой забавой, “упражняя свое терпение и находчивость”. Упоминание о любимой игре Наполеона, скорее всего не соответствует действительности, однако, и нет обратных доказательств, что, в свою очередь, позволяет существовать и такой красивой верс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154960" y="404640"/>
            <a:ext cx="455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ff"/>
                </a:solidFill>
                <a:latin typeface="Comic Sans MS"/>
              </a:rPr>
              <a:t>1. Льюис Кэррол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-54000"/>
            <a:ext cx="9144000" cy="68677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68360" y="1118160"/>
            <a:ext cx="8013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ним из поклонников игры был Эдгар А. По. Принадлежавший ему танграм сделан из слоновой кости и в настоящее время хранится в Нью-Йоркской публичной библиотеке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вестный писатель и дипломат Роберт ван Гулик в романе “Убивающие ногтями” построил весь сюжет книги вокруг танграм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0000" y="54936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Эдгар А. 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-54000"/>
            <a:ext cx="9144000" cy="6867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826920" y="981000"/>
            <a:ext cx="7561440" cy="475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ШУТОЧН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ТЕСТ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-54000"/>
            <a:ext cx="9144000" cy="68677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ff"/>
                </a:solidFill>
                <a:latin typeface="Comic Sans MS"/>
              </a:rPr>
              <a:t>1. Площадью фигуры называет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) Место, которое фигура занимает на плоск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) Место под солнц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) Место в кинотеат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) Место в автобу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00000" y="5355360"/>
            <a:ext cx="7277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есто, которое фигура занимает на плоск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7T08:58:53Z</dcterms:created>
  <dc:creator>Дом</dc:creator>
  <dc:description/>
  <dc:language>en-US</dc:language>
  <cp:lastModifiedBy>Дом</cp:lastModifiedBy>
  <dcterms:modified xsi:type="dcterms:W3CDTF">2013-01-27T10:36:29Z</dcterms:modified>
  <cp:revision>3</cp:revision>
  <dc:subject/>
  <dc:title>Слайд 1</dc:title>
</cp:coreProperties>
</file>