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925-9EDC-4606-A78B-EF0B0F61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1D5-AE1F-4F53-8D86-475B1783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CF9-AC3C-4AEB-AB06-668B4AB3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AC6-6842-4455-8981-C37852C8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8C4-B6F1-4669-9CCC-744F5F5D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2E-1ED7-4CF5-B17A-C36AF89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D34-F424-4AC9-962E-0D369A1C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5EB-68AB-4D11-A171-66F93A7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313-DE03-47A7-B713-0C93CD7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BB5-679A-42EB-9F27-25B0137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39B-8748-4731-B489-07C73755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EC7-0A3A-4768-9B09-6D641A5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B50-492D-4FD4-B3F7-95485A06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628640"/>
            <a:ext cx="7488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Т А Н Г Р А 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231480"/>
            <a:ext cx="47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2. Танграм состоит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8640" y="1556280"/>
            <a:ext cx="728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3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7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5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зависимости от обстоя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360" y="472428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3. Площадь фигуры измер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в ли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в треуголь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граду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5013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Comic Sans MS"/>
              </a:rPr>
              <a:t>4.Каждый кусочек танграма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тан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450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5.Фигуры, имеющие равные площади назыв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сиамскими близне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близкими родствен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равнобедр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22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ИЗГОТОВИМ из бумаг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festival.1september.ru/articles/417145/zagotovka.jpg"/>
          <p:cNvPicPr/>
          <p:nvPr/>
        </p:nvPicPr>
        <p:blipFill>
          <a:blip r:embed="rId2"/>
          <a:stretch/>
        </p:blipFill>
        <p:spPr>
          <a:xfrm>
            <a:off x="5661000" y="1628640"/>
            <a:ext cx="28670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16000" y="1484280"/>
            <a:ext cx="7345440" cy="34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омпозиц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16000" y="476280"/>
            <a:ext cx="698508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ВЫПОЛН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приведен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ни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композ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351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1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340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итае название “Танграм” неизвестно, а игра имеет название Чи-Чао-Ту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 хитроумных фиг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ксфордском словаре английского языка — название “Танграм” появляется с ссылкой на авторитетного Генри Э. Дьюдени, его версию принял составитель словаря Д. Мюррей. Он обнаружил, что слово “Танграм” впервые встречается в словаре Вебстера издания 1864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884760"/>
            <a:ext cx="7843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“Китайский философский и математический транграм” (1817 г.) слово “Танграм” — трактуется, как старинное английское слово — обознач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ушка - головолом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56214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090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2070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0" y="476280"/>
            <a:ext cx="90932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40000" y="476280"/>
            <a:ext cx="374472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4108320"/>
            <a:ext cx="2914560" cy="244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98756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01480" y="3573360"/>
            <a:ext cx="2297160" cy="298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276720" y="3429000"/>
            <a:ext cx="2117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6193080" cy="258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489600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651640" y="404640"/>
            <a:ext cx="292392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1197000"/>
            <a:ext cx="7848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32760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ф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целый ряд версий и гипотез возникновения игры “Танграм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иболее распространенной и известной является та, что игра “Танграм” насчитывает около 4000 лет. Такую дату можно прочитать у Кордемского Б.А. или Котова А.Я., а так же у различных иностранных авторов. Мнение о танграме, как о самой древней головоломке является весьма распространенным. Однако, это всеобщее заблуждение. Миф об этом создал С.Лойд. В 1903 году он выпустил книгу “Восьмая книга Тана”, в которой впервые опубликовал свою красивую версию о древнем происхождение игры. Это и по настоящее время один из величайших розыгрышей в мире головолом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легенде Лойда, Тан был легендарным китайским мудрецом, которому его соотечественники поклонялись как божеству. Фигуры в своих семи книгах он расположил в соответствии с семью стадиями в эволюции Земли. Его танграмы начинаются с символических изображений хаоса и принципа “инь и ян”. Затем следуют простейшие формы жизни, по мере продвижения по древу эволюции появляются фигуры рыб, птиц, животных и человека. По пути в различных местах попадаются изображения того, что создано человеком: орудию труда, мебель, одежда и архитектурные соо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619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052640"/>
            <a:ext cx="7667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ТАНГРА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в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литератур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произведени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57720"/>
            <a:ext cx="18190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4300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449440" cy="146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4581360"/>
            <a:ext cx="1957320" cy="22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829800"/>
            <a:ext cx="770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се мы хорошо знаем книгу “Алиса в стране чудес” Л.Кэрролла (Чарльз Лютвидж Доджсон). Однако это его не единственное произведение. В книге “Модная китайская головоломка” он пишет, что танграм был любимой игрой Наполеона, который, лишившись трона, в изгнании проводил долгие часы за этой забавой, “упражняя свое терпение и находчивость”. Упоминание о любимой игре Наполеона, скорее всего не соответствует действительности, однако, и нет обратных доказательств, что, в свою очередь, позволяет существовать и такой красивой 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4960" y="404640"/>
            <a:ext cx="45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Льюис Кэрро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18160"/>
            <a:ext cx="801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поклонников игры был Эдгар А. По. Принадлежавший ему танграм сделан из слоновой кости и в настоящее время хранится в Нью-Йоркской публичной библиоте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писатель и дипломат Роберт ван Гулик в романе “Убивающие ногтями” построил весь сюжет книги вокруг тангр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0000" y="549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Эдгар А. 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26920" y="981000"/>
            <a:ext cx="756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УТОЧ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ЕС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Площадью фигуры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Место под сол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Место в кинотеа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Место в автоб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355360"/>
            <a:ext cx="727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58:53Z</dcterms:created>
  <dc:creator>Дом</dc:creator>
  <dc:description/>
  <dc:language>en-US</dc:language>
  <cp:lastModifiedBy>Дом</cp:lastModifiedBy>
  <dcterms:modified xsi:type="dcterms:W3CDTF">2013-01-27T10:36:29Z</dcterms:modified>
  <cp:revision>3</cp:revision>
  <dc:subject/>
  <dc:title>Слайд 1</dc:title>
</cp:coreProperties>
</file>