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540-ACC7-449A-BB71-D335ABCD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F35-54DD-4F38-9B83-C108F0B2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766-658E-4AC1-A1C6-FD1AFD71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C06-3E9E-4E1B-B710-F92D6788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34F6-2FE9-4E08-AC4B-CD10EF70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6253-BF0E-490C-B16F-F7F5722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BF6D-0D53-4262-ACDB-AA34473A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9040-F94C-4AB7-A8DF-949BF14A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F10A-1131-4DFB-B515-B73F2065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31B3-2858-4DC4-A062-C7E19638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6408-121F-4A9E-8F29-A2D979A3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0FC-97EF-400C-AF5A-54EE16A8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6ECC-16F0-4E02-8477-2923EF2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92A3-9966-4549-868F-2DFD66E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8974-6A10-4FCD-AAFC-6A64D113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14A3-5BFD-4628-8B66-31858C04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2DD4-16ED-4892-B062-AAB8CA1C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C888-8F40-4117-B936-5BA632C9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949E-52B9-4FF2-BC2B-0AC5DB81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E5EA-A022-42F1-8A20-A846C466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4647-4C43-4D26-B080-BB837043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78AE-6280-4730-86ED-20D7A6F2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C77-352B-47FB-8A9F-627AA80A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1541-FAC2-4150-9B8B-CE60F34F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DAF1-F069-4B8C-9D9F-8B2FD4F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CC31-5C4D-4415-90C5-6560C0A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E819-B47F-4FF5-A2FE-BB485549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5C8C-E86E-4B7D-B2B9-9B7DEF49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E878-61C1-4193-AB81-18476485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FF5D-EA21-4C8E-BC15-514356FE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A4F7-EB26-4FA3-977E-E0AB64E1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C342-0588-4530-8F58-30D85ED3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7CC5-9C51-4603-944F-D7F7C073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806-1604-4BFC-A962-8030348D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45BA-5D9E-4A5C-A6C4-1BCF1A15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7410-AB07-4BC1-A03D-E518BBF7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79FF-3F0C-4EE2-A096-266D75F9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C7820-7602-4D0D-956A-0D86704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0459-453F-41E4-A22B-95048C4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6B3E-0EDF-4FA4-925F-EE371162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3893-B6D8-417B-82C2-82A1E0E6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708C-5D9A-4AA0-B11C-1301109A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9CCA-98FF-4580-BB3F-E0A7AE15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90FCC-0DCA-45E8-B795-469CB222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BDD-4DDC-4517-94C9-DE88F450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009B-EA8E-4E47-8FB8-FCA5C23C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00ED0-A7A6-449F-9E0F-6AE7C8A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3810-727F-412C-8521-D5D42689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3742E-8193-4763-91C2-475EE1CC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EC92-A7A3-464F-8B55-F6CAD7AC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F0BB-CD9D-46DD-821E-285A66A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35DD-4942-4E4E-BC83-A25E4A2E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CD3E6-4DC4-4CA6-A419-3C71B2C5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7B45C-2694-410C-9D1F-E02781EE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4B55-B7FA-4042-8959-ED90B904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133-2981-4A58-933E-913D8575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6F2BE-E01B-4EB1-AB0B-8EE62748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8F6-91FE-433A-A150-DD1463F7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950-C5D1-4F70-9D4C-BA8743EC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436-1FF9-41C3-8207-8A8D416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D551-33B8-44B8-A5F6-2C39B9B33C1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100B-5243-40C5-A6E9-EDE2DAF7BDD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879C-032B-4E31-A97C-CBBC7A937DE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50AB-1C2F-44C9-B1B5-33AAB17151C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9E7F-4678-4BCF-8561-0553B0D0E1A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Условный оператор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724280"/>
            <a:ext cx="53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яева Ольга Мухадинновна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 1 категории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СОШ  2, г. Нягань, ХМАО-Югр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2"/>
          <p:cNvSpPr/>
          <p:nvPr/>
        </p:nvSpPr>
        <p:spPr>
          <a:xfrm>
            <a:off x="285840" y="357120"/>
            <a:ext cx="8501040" cy="6143760"/>
          </a:xfrm>
          <a:prstGeom prst="roundRect">
            <a:avLst>
              <a:gd name="adj" fmla="val 16667"/>
            </a:avLst>
          </a:prstGeom>
          <a:solidFill>
            <a:srgbClr val="1606e4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785880" y="500040"/>
            <a:ext cx="77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ример программы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Program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uslov;</a:t>
            </a: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Var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a, b: integer;</a:t>
            </a: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Writeln(‘wwedite 2 chisla’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Readln(a,b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If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a mod 2=0 </a:t>
            </a: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then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a –chetnoe’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else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a –nechetnoe’);</a:t>
            </a: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If 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b mod 2=0 </a:t>
            </a: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then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b –chetnoe’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else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b –nechetnoe’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Readl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End</a:t>
            </a:r>
            <a:r>
              <a:rPr b="1" lang="ru-RU" sz="2800" spc="-1" strike="noStrike">
                <a:solidFill>
                  <a:srgbClr val="f2f2f2"/>
                </a:solidFill>
                <a:latin typeface="Cambri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714240" y="21564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Рассмотрим простой пример задачи из курса алгебры. Требуется построить алгоритм вычисления значения функции у=|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|. Она задается соотношением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AutoShape 1"/>
          <p:cNvSpPr/>
          <p:nvPr/>
        </p:nvSpPr>
        <p:spPr>
          <a:xfrm>
            <a:off x="2286000" y="357192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800 h 1571760"/>
              <a:gd name="textAreaBottom" fmla="*/ 15159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143000" y="3365640"/>
            <a:ext cx="628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, при Х &gt;=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=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Х &lt;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714240" y="433080"/>
            <a:ext cx="7429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При решении этой задачи требуется выполнить следующие условия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проверить больше или равен нулю х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если х больше или равен 0, то присвоить у значение х, если меньше 0, то присвоить у значение –х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2286000" y="357192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800 h 1571760"/>
              <a:gd name="textAreaBottom" fmla="*/ 15159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143000" y="3365640"/>
            <a:ext cx="628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, при Х &gt;=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=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Х &lt;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714240" y="43056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Коротко алгоритм задачи может быть записан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ЕСЛИ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&gt;=0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ТО 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:=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            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ИНАЧЕ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:=-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AutoShape 1"/>
          <p:cNvSpPr/>
          <p:nvPr/>
        </p:nvSpPr>
        <p:spPr>
          <a:xfrm>
            <a:off x="2286000" y="357192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800 h 1571760"/>
              <a:gd name="textAreaBottom" fmla="*/ 15159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143000" y="3365640"/>
            <a:ext cx="628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, при Х &gt;=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=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Х &lt;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714680" y="212760"/>
            <a:ext cx="4071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ЕСЛИ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&gt;=0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ТО 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:=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            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ИНАЧЕ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:=-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642960" y="2571840"/>
            <a:ext cx="77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Команды, с помощью которых записываются алгоритмы подобного типа, называются командами ветвления. Командам ветвления в Паскале соответствует условные оператор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2"/>
          <p:cNvSpPr/>
          <p:nvPr/>
        </p:nvSpPr>
        <p:spPr>
          <a:xfrm>
            <a:off x="714240" y="150012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e3611"/>
                </a:solidFill>
                <a:latin typeface="Cambria"/>
              </a:rPr>
              <a:t>Условный оператор может иметь две формы , полную и неполную.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ая соединительная линия 37"/>
          <p:cNvSpPr/>
          <p:nvPr/>
        </p:nvSpPr>
        <p:spPr>
          <a:xfrm flipH="1">
            <a:off x="6286680" y="435780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Прямая соединительная линия 35"/>
          <p:cNvSpPr/>
          <p:nvPr/>
        </p:nvSpPr>
        <p:spPr>
          <a:xfrm flipH="1">
            <a:off x="2571840" y="435780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Блок-схема: решение 3"/>
          <p:cNvSpPr/>
          <p:nvPr/>
        </p:nvSpPr>
        <p:spPr>
          <a:xfrm>
            <a:off x="3500280" y="2214720"/>
            <a:ext cx="1857600" cy="100008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Прямая соединительная линия 15"/>
          <p:cNvSpPr/>
          <p:nvPr/>
        </p:nvSpPr>
        <p:spPr>
          <a:xfrm>
            <a:off x="2571840" y="2714760"/>
            <a:ext cx="9284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>
            <a:off x="5357880" y="2714760"/>
            <a:ext cx="92880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47" name="Прямая со стрелкой 18"/>
          <p:cNvCxnSpPr/>
          <p:nvPr/>
        </p:nvCxnSpPr>
        <p:spPr>
          <a:xfrm flipH="1">
            <a:off x="4428360" y="1500120"/>
            <a:ext cx="1080" cy="71352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sp>
        <p:nvSpPr>
          <p:cNvPr id="248" name="Прямая соединительная линия 22"/>
          <p:cNvSpPr/>
          <p:nvPr/>
        </p:nvSpPr>
        <p:spPr>
          <a:xfrm flipH="1">
            <a:off x="2571840" y="271476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Прямоугольник 23"/>
          <p:cNvSpPr/>
          <p:nvPr/>
        </p:nvSpPr>
        <p:spPr>
          <a:xfrm>
            <a:off x="5357880" y="3857760"/>
            <a:ext cx="1785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ПЕРАТОР 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Прямоугольник 24"/>
          <p:cNvSpPr/>
          <p:nvPr/>
        </p:nvSpPr>
        <p:spPr>
          <a:xfrm>
            <a:off x="1643040" y="3857760"/>
            <a:ext cx="1785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ПЕРАТОР 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Прямая соединительная линия 29"/>
          <p:cNvSpPr/>
          <p:nvPr/>
        </p:nvSpPr>
        <p:spPr>
          <a:xfrm flipH="1">
            <a:off x="6286680" y="271476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Прямая соединительная линия 31"/>
          <p:cNvSpPr/>
          <p:nvPr/>
        </p:nvSpPr>
        <p:spPr>
          <a:xfrm>
            <a:off x="2571840" y="5500800"/>
            <a:ext cx="37148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53" name="Прямая со стрелкой 40"/>
          <p:cNvCxnSpPr/>
          <p:nvPr/>
        </p:nvCxnSpPr>
        <p:spPr>
          <a:xfrm flipH="1">
            <a:off x="4428360" y="5500800"/>
            <a:ext cx="1080" cy="71496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pic>
        <p:nvPicPr>
          <p:cNvPr id="254" name="Прямоугольник 43" descr=""/>
          <p:cNvPicPr/>
          <p:nvPr/>
        </p:nvPicPr>
        <p:blipFill>
          <a:blip r:embed="rId2"/>
          <a:stretch/>
        </p:blipFill>
        <p:spPr>
          <a:xfrm>
            <a:off x="2066760" y="152280"/>
            <a:ext cx="4864320" cy="865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4"/>
          <p:cNvSpPr/>
          <p:nvPr/>
        </p:nvSpPr>
        <p:spPr>
          <a:xfrm>
            <a:off x="271476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550080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ая соединительная линия 37"/>
          <p:cNvSpPr/>
          <p:nvPr/>
        </p:nvSpPr>
        <p:spPr>
          <a:xfrm flipH="1">
            <a:off x="6286680" y="2714760"/>
            <a:ext cx="1440" cy="278748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Прямая соединительная линия 35"/>
          <p:cNvSpPr/>
          <p:nvPr/>
        </p:nvSpPr>
        <p:spPr>
          <a:xfrm flipH="1">
            <a:off x="2571840" y="435780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Блок-схема: решение 3"/>
          <p:cNvSpPr/>
          <p:nvPr/>
        </p:nvSpPr>
        <p:spPr>
          <a:xfrm>
            <a:off x="3500280" y="2214720"/>
            <a:ext cx="1857600" cy="100008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Прямая соединительная линия 15"/>
          <p:cNvSpPr/>
          <p:nvPr/>
        </p:nvSpPr>
        <p:spPr>
          <a:xfrm>
            <a:off x="2571840" y="2714760"/>
            <a:ext cx="9284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5357880" y="2714760"/>
            <a:ext cx="92880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62" name="Прямая со стрелкой 18"/>
          <p:cNvCxnSpPr/>
          <p:nvPr/>
        </p:nvCxnSpPr>
        <p:spPr>
          <a:xfrm flipH="1">
            <a:off x="4428360" y="1500120"/>
            <a:ext cx="1080" cy="71352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sp>
        <p:nvSpPr>
          <p:cNvPr id="263" name="Прямая соединительная линия 22"/>
          <p:cNvSpPr/>
          <p:nvPr/>
        </p:nvSpPr>
        <p:spPr>
          <a:xfrm flipH="1">
            <a:off x="2571840" y="271476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Прямоугольник 24"/>
          <p:cNvSpPr/>
          <p:nvPr/>
        </p:nvSpPr>
        <p:spPr>
          <a:xfrm>
            <a:off x="1643040" y="3857760"/>
            <a:ext cx="1785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ПЕРАТОР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Прямая соединительная линия 31"/>
          <p:cNvSpPr/>
          <p:nvPr/>
        </p:nvSpPr>
        <p:spPr>
          <a:xfrm>
            <a:off x="2571840" y="5500800"/>
            <a:ext cx="37148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66" name="Прямая со стрелкой 40"/>
          <p:cNvCxnSpPr/>
          <p:nvPr/>
        </p:nvCxnSpPr>
        <p:spPr>
          <a:xfrm flipH="1">
            <a:off x="4428360" y="5500800"/>
            <a:ext cx="1080" cy="71496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pic>
        <p:nvPicPr>
          <p:cNvPr id="267" name="Прямоугольник 43" descr=""/>
          <p:cNvPicPr/>
          <p:nvPr/>
        </p:nvPicPr>
        <p:blipFill>
          <a:blip r:embed="rId2"/>
          <a:stretch/>
        </p:blipFill>
        <p:spPr>
          <a:xfrm>
            <a:off x="1706400" y="152280"/>
            <a:ext cx="5731200" cy="8654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2"/>
          <p:cNvSpPr/>
          <p:nvPr/>
        </p:nvSpPr>
        <p:spPr>
          <a:xfrm>
            <a:off x="271476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550080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214200" y="92880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e3611"/>
                </a:solidFill>
                <a:latin typeface="Cambria"/>
              </a:rPr>
              <a:t>В Паскал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34817"/>
                </a:solidFill>
                <a:latin typeface="Cambria"/>
              </a:rPr>
              <a:t>неполный</a:t>
            </a:r>
            <a:r>
              <a:rPr b="1" i="1" lang="ru-RU" sz="3200" spc="-1" strike="noStrike">
                <a:solidFill>
                  <a:srgbClr val="9e3611"/>
                </a:solidFill>
                <a:latin typeface="Cambria"/>
              </a:rPr>
              <a:t> условный оператор имеет вид: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IF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условие) </a:t>
            </a: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THEN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оператор 1)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34817"/>
                </a:solidFill>
                <a:latin typeface="Cambria"/>
              </a:rPr>
              <a:t>полный</a:t>
            </a:r>
            <a:r>
              <a:rPr b="1" i="1" lang="ru-RU" sz="3200" spc="-1" strike="noStrike">
                <a:solidFill>
                  <a:srgbClr val="9e3611"/>
                </a:solidFill>
                <a:latin typeface="Cambria"/>
              </a:rPr>
              <a:t> оператор имеет вид: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IF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условие) </a:t>
            </a: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THEN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оператор 1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ELSE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оператор 2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3:13:46Z</dcterms:created>
  <dc:creator>kabinet26</dc:creator>
  <dc:description/>
  <dc:language>en-US</dc:language>
  <cp:lastModifiedBy>компьютер</cp:lastModifiedBy>
  <dcterms:modified xsi:type="dcterms:W3CDTF">2009-09-18T05:33:40Z</dcterms:modified>
  <cp:revision>13</cp:revision>
  <dc:subject/>
  <dc:title>Условный оператор</dc:title>
</cp:coreProperties>
</file>