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928-79E4-4087-A1BB-F326ACED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13DB-B7A6-44AF-947B-4EA24C3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3FB-4A80-49DD-885F-B33262E9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A2E-88D3-433C-AABC-2ACD5B6D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9994-B82C-4D4C-A22B-E30EE320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197-8AF4-46B6-B24B-31E6C764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5CBC-A539-48A4-A746-47928359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917B-749D-439B-B344-C83544E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12CE-6665-4355-B88A-8C8467C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2379-DB9F-450C-9D8A-CE435B5A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E1AB-DD6A-4552-9462-04F09F6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62E-4FA8-4FC4-8D1C-332C0644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2562-1CF7-4385-82EE-A5DD44B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824C-EDC3-42D0-856C-71F523B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67F0-9A20-47EF-B6F1-B620A54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32E2-D9D9-4434-909B-20825720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0050-3DBF-41A1-87B4-AB722230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B6E2-3A34-4BC6-B36F-ECFBFCDC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7638-75F2-44A6-9406-6CAC76AD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4CCA-98EB-40B7-AEF1-5D65432B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7B22-A8F2-4363-9CD7-B3FF1269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2731-DD99-4D5C-8922-2E573508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188-69D2-4161-A0D6-2F5265D6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5874-921C-428A-A047-09DA043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A5C3-FC53-4542-9167-5D60C31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AD09-366C-4363-973A-6EB6F74A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1F11-C3B6-4A8C-97A0-C8C2A420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675E-D10B-4827-9B97-E7DB35DB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3F1F-B5FD-4A56-9080-07B2F256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7B44-930A-4636-8935-2BDBC316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7FAF-8C1F-4480-9CBE-3F4E9E7B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9B94-14CC-4EF2-9624-37E21D94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E51C-BAAC-4628-9455-B0BA8FFC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CA1-64E4-4FF0-9CD2-737C5DA5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9283-E48F-4E8B-B2A6-13B5BCED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6DC5A-92F5-4993-A753-2AB6054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9A17-92DD-4A2F-87E1-F4726D58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77D63-4DCA-4358-93EF-CE451CFA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E83E8-5CC8-41A2-8B3B-768E510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FC82-17ED-4E14-88D4-30669FA7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C3D4-7968-4C3A-A759-FBF5D093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C5EC3-ACD2-4F6C-B805-A0160129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EE3AD-5864-4746-8899-1EF2E7CE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2FD37-3299-48DA-A982-23DCC9BD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EA1-F3D7-4B16-AF75-1D5E8C30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23A7-9A98-47D8-A31A-08EA7B9C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34DE-E55D-4EAA-9904-E303640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52FE3-5853-4637-ACB4-94C9FA89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A831E-4350-4F51-A551-94211D6E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5CA9-2CBA-4810-BEAE-3FEADFE2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3CB68-4D92-41F2-A2AC-9643277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762C-5E81-4A52-ABE9-95B61BA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FA20-8B04-4885-8D2D-FA7466F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EEE4-0ABC-4E56-BFBE-0DB2374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56D1-3632-4BC9-84C5-835AFC3E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462-F796-4EE8-BF51-ADAB55A1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A211-F03E-473F-9150-26D90A15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2F1-0AD6-4A56-A6C2-3046ABD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3F9-57D4-4415-A1F9-6E7105D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6E2-2EE0-4F9B-9BE0-52B97AC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5A87-870B-4D64-8CDD-0F632AE06B1A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0CF-7DFF-4810-9FD5-E81B9DC37E6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DD01-1682-4255-A509-F019D232CDE1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DFE-8A88-4FC2-9B49-96D34BBF150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FB8D-95CE-41AA-B272-8A584A37347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Условный оператор</a:t>
            </a:r>
            <a:endParaRPr b="0" lang="en-US" sz="6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724280"/>
            <a:ext cx="53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яева Ольга Мухадинновна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итель информатики 1 категории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  2, г. Нягань, ХМАО-Югр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2"/>
          <p:cNvSpPr/>
          <p:nvPr/>
        </p:nvSpPr>
        <p:spPr>
          <a:xfrm>
            <a:off x="285840" y="357120"/>
            <a:ext cx="8501040" cy="6143760"/>
          </a:xfrm>
          <a:prstGeom prst="roundRect">
            <a:avLst>
              <a:gd name="adj" fmla="val 16667"/>
            </a:avLst>
          </a:prstGeom>
          <a:solidFill>
            <a:srgbClr val="1606e4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785880" y="500040"/>
            <a:ext cx="77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ример программы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rogram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uslov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Var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a, b: integer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Writeln(‘wwedite 2 chisla’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(a,b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If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a mod 2=0 </a:t>
            </a: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then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a –chetnoe’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lse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a –nechetnoe’);</a:t>
            </a:r>
            <a:br>
              <a:rPr sz="2800"/>
            </a:b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If 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b mod 2=0 </a:t>
            </a: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then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b –chetnoe’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lse</a:t>
            </a: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 writeln(‘b –nechetnoe’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Perpetua"/>
              </a:rPr>
              <a:t>Readl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Perpetua"/>
              </a:rPr>
              <a:t>End</a:t>
            </a:r>
            <a:r>
              <a:rPr b="1" lang="ru-RU" sz="2800" spc="-1" strike="noStrike">
                <a:solidFill>
                  <a:srgbClr val="f2f2f2"/>
                </a:solidFill>
                <a:latin typeface="Cambri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714240" y="21564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Рассмотрим простой пример задачи из курса алгебры. Требуется построить алгоритм вычисления значения функции у=|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|. Она задается соотношением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714240" y="433080"/>
            <a:ext cx="7429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При решении этой задачи требуется выполнить следующие условия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проверить больше или равен нулю 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если х больше или равен 0, то присвоить у значение х, если меньше 0, то присвоить у значение –х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714240" y="430560"/>
            <a:ext cx="742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Коротко алгоритм задачи может быть записан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ЕСЛИ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&gt;=0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ТО 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:=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            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ИНАЧЕ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:=-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AutoShape 1"/>
          <p:cNvSpPr/>
          <p:nvPr/>
        </p:nvSpPr>
        <p:spPr>
          <a:xfrm>
            <a:off x="2286000" y="3571920"/>
            <a:ext cx="357120" cy="1571760"/>
          </a:xfrm>
          <a:custGeom>
            <a:avLst/>
            <a:gdLst>
              <a:gd name="textAreaLeft" fmla="*/ 228240 w 357120"/>
              <a:gd name="textAreaRight" fmla="*/ 357480 w 357120"/>
              <a:gd name="textAreaTop" fmla="*/ 55800 h 1571760"/>
              <a:gd name="textAreaBottom" fmla="*/ 151596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8"/>
                  <a:pt x="10800" y="2455"/>
                </a:cubicBezTo>
                <a:lnTo>
                  <a:pt x="10800" y="8345"/>
                </a:lnTo>
                <a:cubicBezTo>
                  <a:pt x="10800" y="9573"/>
                  <a:pt x="5400" y="10800"/>
                  <a:pt x="0" y="10800"/>
                </a:cubicBezTo>
                <a:cubicBezTo>
                  <a:pt x="5400" y="10800"/>
                  <a:pt x="10800" y="12028"/>
                  <a:pt x="10800" y="13255"/>
                </a:cubicBezTo>
                <a:lnTo>
                  <a:pt x="10800" y="19145"/>
                </a:lnTo>
                <a:cubicBezTo>
                  <a:pt x="10800" y="20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143000" y="3365640"/>
            <a:ext cx="6286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, при Х &gt;=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=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Х &lt; 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714680" y="212760"/>
            <a:ext cx="4071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ЕСЛИ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&gt;=0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ТО 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:=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                     </a:t>
            </a:r>
            <a:r>
              <a:rPr b="1" i="1" lang="ru-RU" sz="2800" spc="-1" strike="noStrike">
                <a:solidFill>
                  <a:srgbClr val="d34817"/>
                </a:solidFill>
                <a:latin typeface="Cambria"/>
              </a:rPr>
              <a:t>ИНАЧЕ</a:t>
            </a:r>
            <a:r>
              <a:rPr b="1" i="1" lang="ru-RU" sz="2800" spc="-1" strike="noStrike">
                <a:solidFill>
                  <a:srgbClr val="9e3611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9e3611"/>
                </a:solidFill>
                <a:latin typeface="Perpetua"/>
              </a:rPr>
              <a:t>y:=-x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642960" y="2571840"/>
            <a:ext cx="77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e3611"/>
                </a:solidFill>
                <a:latin typeface="Cambria"/>
              </a:rPr>
              <a:t>Команды, с помощью которых записываются алгоритмы подобного типа, называются командами ветвления. Командам ветвления в Паскале соответствует условные оператор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2"/>
          <p:cNvSpPr/>
          <p:nvPr/>
        </p:nvSpPr>
        <p:spPr>
          <a:xfrm>
            <a:off x="714240" y="1500120"/>
            <a:ext cx="714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e3611"/>
                </a:solidFill>
                <a:latin typeface="Cambria"/>
              </a:rPr>
              <a:t>Условный оператор может иметь две формы , полную и неполную.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ая соединительная линия 37"/>
          <p:cNvSpPr/>
          <p:nvPr/>
        </p:nvSpPr>
        <p:spPr>
          <a:xfrm flipH="1">
            <a:off x="628668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Прямая соединительная линия 35"/>
          <p:cNvSpPr/>
          <p:nvPr/>
        </p:nvSpPr>
        <p:spPr>
          <a:xfrm flipH="1">
            <a:off x="257184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Блок-схема: решение 3"/>
          <p:cNvSpPr/>
          <p:nvPr/>
        </p:nvSpPr>
        <p:spPr>
          <a:xfrm>
            <a:off x="3500280" y="2214720"/>
            <a:ext cx="1857600" cy="100008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Прямая соединительная линия 15"/>
          <p:cNvSpPr/>
          <p:nvPr/>
        </p:nvSpPr>
        <p:spPr>
          <a:xfrm>
            <a:off x="2571840" y="2714760"/>
            <a:ext cx="9284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>
            <a:off x="5357880" y="2714760"/>
            <a:ext cx="92880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47" name="Прямая со стрелкой 18"/>
          <p:cNvCxnSpPr/>
          <p:nvPr/>
        </p:nvCxnSpPr>
        <p:spPr>
          <a:xfrm flipH="1">
            <a:off x="4428360" y="1500120"/>
            <a:ext cx="1080" cy="71352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sp>
        <p:nvSpPr>
          <p:cNvPr id="248" name="Прямая соединительная линия 22"/>
          <p:cNvSpPr/>
          <p:nvPr/>
        </p:nvSpPr>
        <p:spPr>
          <a:xfrm flipH="1">
            <a:off x="257184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Прямоугольник 23"/>
          <p:cNvSpPr/>
          <p:nvPr/>
        </p:nvSpPr>
        <p:spPr>
          <a:xfrm>
            <a:off x="535788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Прямоугольник 24"/>
          <p:cNvSpPr/>
          <p:nvPr/>
        </p:nvSpPr>
        <p:spPr>
          <a:xfrm>
            <a:off x="164304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Прямая соединительная линия 29"/>
          <p:cNvSpPr/>
          <p:nvPr/>
        </p:nvSpPr>
        <p:spPr>
          <a:xfrm flipH="1">
            <a:off x="628668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Прямая соединительная линия 31"/>
          <p:cNvSpPr/>
          <p:nvPr/>
        </p:nvSpPr>
        <p:spPr>
          <a:xfrm>
            <a:off x="2571840" y="5500800"/>
            <a:ext cx="37148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53" name="Прямая со стрелкой 40"/>
          <p:cNvCxnSpPr/>
          <p:nvPr/>
        </p:nvCxnSpPr>
        <p:spPr>
          <a:xfrm flipH="1">
            <a:off x="4428360" y="5500800"/>
            <a:ext cx="1080" cy="71496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pic>
        <p:nvPicPr>
          <p:cNvPr id="254" name="Прямоугольник 43" descr=""/>
          <p:cNvPicPr/>
          <p:nvPr/>
        </p:nvPicPr>
        <p:blipFill>
          <a:blip r:embed="rId2"/>
          <a:stretch/>
        </p:blipFill>
        <p:spPr>
          <a:xfrm>
            <a:off x="2066760" y="152280"/>
            <a:ext cx="4864320" cy="865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4"/>
          <p:cNvSpPr/>
          <p:nvPr/>
        </p:nvSpPr>
        <p:spPr>
          <a:xfrm>
            <a:off x="271476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550080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ая соединительная линия 37"/>
          <p:cNvSpPr/>
          <p:nvPr/>
        </p:nvSpPr>
        <p:spPr>
          <a:xfrm flipH="1">
            <a:off x="6286680" y="2714760"/>
            <a:ext cx="1440" cy="278748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Прямая соединительная линия 35"/>
          <p:cNvSpPr/>
          <p:nvPr/>
        </p:nvSpPr>
        <p:spPr>
          <a:xfrm flipH="1">
            <a:off x="2571840" y="435780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Блок-схема: решение 3"/>
          <p:cNvSpPr/>
          <p:nvPr/>
        </p:nvSpPr>
        <p:spPr>
          <a:xfrm>
            <a:off x="3500280" y="2214720"/>
            <a:ext cx="1857600" cy="100008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Прямая соединительная линия 15"/>
          <p:cNvSpPr/>
          <p:nvPr/>
        </p:nvSpPr>
        <p:spPr>
          <a:xfrm>
            <a:off x="2571840" y="2714760"/>
            <a:ext cx="9284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5357880" y="2714760"/>
            <a:ext cx="92880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62" name="Прямая со стрелкой 18"/>
          <p:cNvCxnSpPr/>
          <p:nvPr/>
        </p:nvCxnSpPr>
        <p:spPr>
          <a:xfrm flipH="1">
            <a:off x="4428360" y="1500120"/>
            <a:ext cx="1080" cy="71352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sp>
        <p:nvSpPr>
          <p:cNvPr id="263" name="Прямая соединительная линия 22"/>
          <p:cNvSpPr/>
          <p:nvPr/>
        </p:nvSpPr>
        <p:spPr>
          <a:xfrm flipH="1">
            <a:off x="2571840" y="2714760"/>
            <a:ext cx="1440" cy="1143000"/>
          </a:xfrm>
          <a:prstGeom prst="line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Прямоугольник 24"/>
          <p:cNvSpPr/>
          <p:nvPr/>
        </p:nvSpPr>
        <p:spPr>
          <a:xfrm>
            <a:off x="1643040" y="3857760"/>
            <a:ext cx="178596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2d1f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ОПЕРАТОР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Прямая соединительная линия 31"/>
          <p:cNvSpPr/>
          <p:nvPr/>
        </p:nvSpPr>
        <p:spPr>
          <a:xfrm>
            <a:off x="2571840" y="5500800"/>
            <a:ext cx="3714840" cy="1440"/>
          </a:xfrm>
          <a:prstGeom prst="line">
            <a:avLst/>
          </a:prstGeom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66" name="Прямая со стрелкой 40"/>
          <p:cNvCxnSpPr/>
          <p:nvPr/>
        </p:nvCxnSpPr>
        <p:spPr>
          <a:xfrm flipH="1">
            <a:off x="4428360" y="5500800"/>
            <a:ext cx="1080" cy="714960"/>
          </a:xfrm>
          <a:prstGeom prst="straightConnector1">
            <a:avLst/>
          </a:prstGeom>
          <a:ln w="25560">
            <a:solidFill>
              <a:srgbClr val="d34817"/>
            </a:solidFill>
            <a:miter/>
            <a:tailEnd len="med" type="triangle" w="med"/>
          </a:ln>
        </p:spPr>
      </p:cxnSp>
      <p:pic>
        <p:nvPicPr>
          <p:cNvPr id="267" name="Прямоугольник 43" descr=""/>
          <p:cNvPicPr/>
          <p:nvPr/>
        </p:nvPicPr>
        <p:blipFill>
          <a:blip r:embed="rId2"/>
          <a:stretch/>
        </p:blipFill>
        <p:spPr>
          <a:xfrm>
            <a:off x="1706400" y="152280"/>
            <a:ext cx="5731200" cy="865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2"/>
          <p:cNvSpPr/>
          <p:nvPr/>
        </p:nvSpPr>
        <p:spPr>
          <a:xfrm>
            <a:off x="271476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5500800" y="22147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214200" y="92880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В Паскал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34817"/>
                </a:solidFill>
                <a:latin typeface="Cambria"/>
              </a:rPr>
              <a:t>неполный</a:t>
            </a: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 условный оператор имеет вид: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IF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условие) </a:t>
            </a: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THEN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1)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34817"/>
                </a:solidFill>
                <a:latin typeface="Cambria"/>
              </a:rPr>
              <a:t>полный</a:t>
            </a:r>
            <a:r>
              <a:rPr b="1" i="1" lang="ru-RU" sz="3200" spc="-1" strike="noStrike">
                <a:solidFill>
                  <a:srgbClr val="9e3611"/>
                </a:solidFill>
                <a:latin typeface="Cambria"/>
              </a:rPr>
              <a:t> оператор имеет вид: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IF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условие) </a:t>
            </a: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THEN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1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erpetua"/>
              </a:rPr>
              <a:t>ELSE</a:t>
            </a:r>
            <a:r>
              <a:rPr b="1" i="1" lang="ru-RU" sz="3200" spc="-1" strike="noStrike">
                <a:solidFill>
                  <a:srgbClr val="0d0d0d"/>
                </a:solidFill>
                <a:latin typeface="Cambria"/>
              </a:rPr>
              <a:t> (оператор 2)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3:13:46Z</dcterms:created>
  <dc:creator>kabinet26</dc:creator>
  <dc:description/>
  <dc:language>en-US</dc:language>
  <cp:lastModifiedBy>компьютер</cp:lastModifiedBy>
  <dcterms:modified xsi:type="dcterms:W3CDTF">2009-09-18T05:33:40Z</dcterms:modified>
  <cp:revision>13</cp:revision>
  <dc:subject/>
  <dc:title>Условный оператор</dc:title>
</cp:coreProperties>
</file>