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3DE-E9E2-4418-A3F6-1DEF9541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2400-9876-4743-B8C6-22EA38C5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FCB-5BD8-49E2-AA94-FA1CD0E6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6EA-7695-4C92-9BC0-3439C767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C00A-D2E4-459D-9D1C-48FE7309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944C-C323-4BC1-8A2F-3B5597D4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52EA-0F66-4A2A-AA99-9C175B36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17E8-F877-4BED-95BB-0417F601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231-059D-49A4-BD8B-66BFFF0C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F2A9-B9F4-4ACD-9EAA-5CA8B6F6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0F06-B637-44DA-AA66-3169A202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307-BE2A-4385-9B25-B8A55671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DEC5-B079-49B6-AD1E-589D0F12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B938-7644-4938-8A24-8E3B531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DE95-DA61-4439-AA21-0B07F573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3DC4-CB01-4674-8A42-7384D784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0E64-DB02-44F3-A7C0-FD2966F8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B68-3591-4660-915E-5512A4F5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F40-2821-4286-BC59-9C5DC832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C58-8FBC-47B8-AD9E-F1C73C69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C54-8A8D-4CC1-95BA-25369FEC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A13-9936-404A-8DC7-67C2E72C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7AA-1EB1-40C2-85AD-BC4122B6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AE3-5F86-4499-8AF5-ECFD7191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EA29-62AE-41B3-A4DC-A78787570D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4C67-13C2-473A-B358-B70B0F1D8A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ЗДОРОВЬЕ И БЕЗОПАСНОСТ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Как мы устроен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"/>
              </a:rPr>
              <a:t>СТРОЕНИЕ ТЕЛА ЧЕЛОВЕ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НЕШ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ЧАСТИ ТЕ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ТУЛОВИЩЕ (ГРУДЬ, ЖИВОТ, СП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652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НУТРЕН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(ОРГА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ОЛОВНОЙ МОЗГ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ЗГ – ГЛАВНЫЙ КОМАНДНЫЙ ПУНКТ ОРГАНИЗМА. Что бы человек не делал, всем управляет головной моз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{8E91F8BD-4F8C-4F46-8BC9-D8D8CD941278}"/>
          <p:cNvPicPr/>
          <p:nvPr/>
        </p:nvPicPr>
        <p:blipFill>
          <a:blip r:embed="rId1"/>
          <a:stretch/>
        </p:blipFill>
        <p:spPr>
          <a:xfrm>
            <a:off x="4749840" y="1600200"/>
            <a:ext cx="368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ы дых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хание человека происходит при помощ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гких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 два легких – правое и левое. Находятся они в груди. Похожи на две розовые губки. Состоят легкие из крохотных пузырьк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ьве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{3EE21EE5-E5C2-44D6-B06E-236DED350DBC}"/>
          <p:cNvPicPr/>
          <p:nvPr/>
        </p:nvPicPr>
        <p:blipFill>
          <a:blip r:embed="rId1"/>
          <a:stretch/>
        </p:blipFill>
        <p:spPr>
          <a:xfrm>
            <a:off x="5716440" y="1600200"/>
            <a:ext cx="1764000" cy="211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{1DF82101-8B96-4013-871A-D4063137EE98}"/>
          <p:cNvPicPr/>
          <p:nvPr/>
        </p:nvPicPr>
        <p:blipFill>
          <a:blip r:embed="rId2"/>
          <a:stretch/>
        </p:blipFill>
        <p:spPr>
          <a:xfrm>
            <a:off x="5076720" y="3716280"/>
            <a:ext cx="25401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амый важный орга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руди у нас находи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рдц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сли сердце остановится, то человек погибнет. Размером оно с кулак. Это неутомимый мотор, который непрерывно гонит кровь в сос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{8018B2DD-122F-4D0B-8C82-362F791BD201}"/>
          <p:cNvPicPr/>
          <p:nvPr/>
        </p:nvPicPr>
        <p:blipFill>
          <a:blip r:embed="rId1"/>
          <a:stretch/>
        </p:blipFill>
        <p:spPr>
          <a:xfrm>
            <a:off x="5129280" y="2048040"/>
            <a:ext cx="29242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внутренняя кухня человека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елудо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оминает полый мешок, в который больше 2 – 3 литров не поместится. Здесь перерабатывается пища наполов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шечни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8 метровый лабиринт. Где продолжает перерабатываться пища. Остатки пищи выводятся из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че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ё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а от желудка и вырабатывает желчь. Желчь помогает переваривать пищ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721692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8"/>
          <p:cNvGraphicFramePr/>
          <p:nvPr/>
        </p:nvGraphicFramePr>
        <p:xfrm>
          <a:off x="4427640" y="1628640"/>
          <a:ext cx="4248000" cy="37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628640"/>
                    <a:ext cx="4248000" cy="37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часть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м человека состоит из органов, которые работают согласова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свой организм нужно для того, чт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хранять и укрепля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МНИ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8" descr="j0182611"/>
          <p:cNvPicPr/>
          <p:nvPr/>
        </p:nvPicPr>
        <p:blipFill>
          <a:blip r:embed="rId1"/>
          <a:stretch/>
        </p:blipFill>
        <p:spPr>
          <a:xfrm>
            <a:off x="4572000" y="2276640"/>
            <a:ext cx="4057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Работу выполнила учитель высшей категории МОУ СОШ № 1 р.п. Лысые Горы Саратовской области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Назарова Анна Николаев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7:51:48Z</dcterms:created>
  <dc:creator>1</dc:creator>
  <dc:description/>
  <dc:language>en-US</dc:language>
  <cp:lastModifiedBy>Zver</cp:lastModifiedBy>
  <dcterms:modified xsi:type="dcterms:W3CDTF">2008-12-15T18:58:42Z</dcterms:modified>
  <cp:revision>25</cp:revision>
  <dc:subject/>
  <dc:title>СТРОЕНИЕ ТЕЛА ЧЕЛОВЕКА</dc:title>
</cp:coreProperties>
</file>