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95E-19F6-4ABC-801A-068A4040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40D-C0A6-4D1F-AA3B-ADB73FEC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8F2-C070-4BFE-AD10-A2CA70CE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0DB-1B83-481F-9984-85A02E25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E7D-160C-4B16-8119-6E4F510C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3CDE-3247-4A1B-AB82-CAACE81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146C-DAB7-46C8-9B30-4CB1C9C0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391-316F-4A5C-924C-0DBE15D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35F5-15A7-48D0-AD54-06063EDB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F53F-CB0B-4030-9084-B44FDD6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2D9-9DD8-44BB-A518-DBEF8E2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85B-D4F9-4674-B101-72B3DFB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ABD-D2E4-412F-B5D6-6FD054C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CDA8-3577-4AFE-95D9-1DC3175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20D6-A6D7-4F13-8AC7-A40F7C7E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824E-09AF-49F9-85A5-ADA9D054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FC1-8DAF-4663-98EB-84F77E9F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DB4-17DB-42A2-AE86-E47FC04B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BC1-AABA-46CF-AA65-E5AF12D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7FC-699F-4E4D-B3BE-3249F682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817-14EC-4995-B2A0-500D5C0D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89-5AA7-4942-9C61-84AD565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F00-472D-47CD-892D-0A4EDAB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B13-954E-44CD-990F-5E04D8A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CED2-288D-4313-8DA3-777EBCB372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FDF9-C42E-4B72-B4D0-6A6D02F6A9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ЗДОРОВЬЕ И БЕЗОПАСНОСТ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ак мы устроен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СТРОЕНИЕ ТЕЛА ЧЕЛОВЕ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НЕ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ЧАСТИ Т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ТУЛОВИЩЕ (ГРУДЬ, ЖИВОТ, СП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НУТРЕН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ОРГА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ОЛОВНОЙ МОЗ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ЗГ – ГЛАВНЫЙ КОМАНДНЫЙ ПУНКТ ОРГАНИЗМА. Что бы человек не делал, всем управляет головной моз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{8E91F8BD-4F8C-4F46-8BC9-D8D8CD941278}"/>
          <p:cNvPicPr/>
          <p:nvPr/>
        </p:nvPicPr>
        <p:blipFill>
          <a:blip r:embed="rId1"/>
          <a:stretch/>
        </p:blipFill>
        <p:spPr>
          <a:xfrm>
            <a:off x="4749840" y="1600200"/>
            <a:ext cx="368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ы дых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ние человека происходит при помощ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гких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два легких – правое и левое. Находятся они в груди. Похожи на две розовые губки. Состоят легкие из крохотных пузырьк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ьве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{3EE21EE5-E5C2-44D6-B06E-236DED350DBC}"/>
          <p:cNvPicPr/>
          <p:nvPr/>
        </p:nvPicPr>
        <p:blipFill>
          <a:blip r:embed="rId1"/>
          <a:stretch/>
        </p:blipFill>
        <p:spPr>
          <a:xfrm>
            <a:off x="5716440" y="1600200"/>
            <a:ext cx="1764000" cy="211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{1DF82101-8B96-4013-871A-D4063137EE98}"/>
          <p:cNvPicPr/>
          <p:nvPr/>
        </p:nvPicPr>
        <p:blipFill>
          <a:blip r:embed="rId2"/>
          <a:stretch/>
        </p:blipFill>
        <p:spPr>
          <a:xfrm>
            <a:off x="5076720" y="3716280"/>
            <a:ext cx="2540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ый важный орг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ди у нас находи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д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сердце остановится, то человек погибнет. Размером оно с кулак. Это неутомимый мотор, который непрерывно гонит кровь в сос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{8018B2DD-122F-4D0B-8C82-362F791BD201}"/>
          <p:cNvPicPr/>
          <p:nvPr/>
        </p:nvPicPr>
        <p:blipFill>
          <a:blip r:embed="rId1"/>
          <a:stretch/>
        </p:blipFill>
        <p:spPr>
          <a:xfrm>
            <a:off x="5129280" y="2048040"/>
            <a:ext cx="29242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внутренняя кухня человек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удо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оминает полый мешок, в который больше 2 – 3 литров не поместится. Здесь перерабатывается пища наполов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шеч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8 метровый лабиринт. Где продолжает перерабатываться пища. Остатки пищи выводятся из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ё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а от желудка и вырабатывает желчь. Желчь помогает переваривать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721692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8"/>
          <p:cNvGraphicFramePr/>
          <p:nvPr/>
        </p:nvGraphicFramePr>
        <p:xfrm>
          <a:off x="4427640" y="1628640"/>
          <a:ext cx="4248000" cy="37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628640"/>
                    <a:ext cx="424800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часть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человека состоит из органов, которые работают согласов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свой организм нужно для того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хранять и укрепля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МНИ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8" descr="j0182611"/>
          <p:cNvPicPr/>
          <p:nvPr/>
        </p:nvPicPr>
        <p:blipFill>
          <a:blip r:embed="rId1"/>
          <a:stretch/>
        </p:blipFill>
        <p:spPr>
          <a:xfrm>
            <a:off x="4572000" y="2276640"/>
            <a:ext cx="4057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Работу выполнила учитель высшей категории МОУ СОШ № 1 р.п. Лысые Горы Саратовской области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Назарова Анна Николаев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7:51:48Z</dcterms:created>
  <dc:creator>1</dc:creator>
  <dc:description/>
  <dc:language>en-US</dc:language>
  <cp:lastModifiedBy>Zver</cp:lastModifiedBy>
  <dcterms:modified xsi:type="dcterms:W3CDTF">2008-12-15T18:58:42Z</dcterms:modified>
  <cp:revision>25</cp:revision>
  <dc:subject/>
  <dc:title>СТРОЕНИЕ ТЕЛА ЧЕЛОВЕКА</dc:title>
</cp:coreProperties>
</file>