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6F3-F196-4992-93AA-8516123E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E82-DBBB-437E-B317-1C5F665C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A2C-4029-47DE-95E2-ADDE6873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6A1-345F-40A1-AE26-E483531C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C590-7E77-470A-98D4-17C55030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F1B7-E31B-4EB5-9825-1B253363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C9EC-04E0-4D37-9DCE-9A0E28A2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CD9B-B943-4D01-874C-D1280F31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9B89-B1BF-4068-B4F6-A66D3316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57F8-2FC8-448F-89F1-1F9E3395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3720-1D47-4F6A-89D3-3A048920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0A7-8427-4D38-899E-73F8B934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8D79-DF73-48B9-9BD3-1D92C017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7A4E-64EF-4BDD-AF8F-661329EA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3545-494F-4564-8247-8FF8388F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D074-1968-485B-B0E9-F0E0601C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4F6C-68D7-4422-BFCE-0369CEF1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121-BF5B-42BC-9E14-A708BC05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A2E-02BA-4242-B494-6308CBB2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383-968F-4A5A-B22F-3DA6EEEF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5E2-559C-43D8-A0BA-45F8E1FA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5C3-42E7-463A-BC7C-E305227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78C-D5F7-40BD-A15F-2B3CB730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C24-8BBA-49B9-97CC-12021FB3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2C52-7536-40A6-B8E2-5D2F316C68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750B-B0E3-494E-9FB9-973B2C0AF8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ЗДОРОВЬЕ И БЕЗОПАСНОСТЬ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Как мы устроен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"/>
              </a:rPr>
              <a:t>СТРОЕНИЕ ТЕЛА ЧЕЛОВЕ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НЕШ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ЧАСТИ ТЕ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ТУЛОВИЩЕ (ГРУДЬ, ЖИВОТ, СП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6520" y="1599840"/>
            <a:ext cx="388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НУТРЕН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ОРГА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ЛЕ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ОЛОВНОЙ МОЗГ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ЗГ – ГЛАВНЫЙ КОМАНДНЫЙ ПУНКТ ОРГАНИЗМА. Что бы человек не делал, всем управляет головной моз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{8E91F8BD-4F8C-4F46-8BC9-D8D8CD941278}"/>
          <p:cNvPicPr/>
          <p:nvPr/>
        </p:nvPicPr>
        <p:blipFill>
          <a:blip r:embed="rId1"/>
          <a:stretch/>
        </p:blipFill>
        <p:spPr>
          <a:xfrm>
            <a:off x="4749840" y="1600200"/>
            <a:ext cx="3682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ы дых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хание человека происходит при помощ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гких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с два легких – правое и левое. Находятся они в груди. Похожи на две розовые губки. Состоят легкие из крохотных пузырьков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ьве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{3EE21EE5-E5C2-44D6-B06E-236DED350DBC}"/>
          <p:cNvPicPr/>
          <p:nvPr/>
        </p:nvPicPr>
        <p:blipFill>
          <a:blip r:embed="rId1"/>
          <a:stretch/>
        </p:blipFill>
        <p:spPr>
          <a:xfrm>
            <a:off x="5716440" y="1600200"/>
            <a:ext cx="1764000" cy="211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{1DF82101-8B96-4013-871A-D4063137EE98}"/>
          <p:cNvPicPr/>
          <p:nvPr/>
        </p:nvPicPr>
        <p:blipFill>
          <a:blip r:embed="rId2"/>
          <a:stretch/>
        </p:blipFill>
        <p:spPr>
          <a:xfrm>
            <a:off x="5076720" y="3716280"/>
            <a:ext cx="25401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мый важный орга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уди у нас находи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рдц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сли сердце остановится, то человек погибнет. Размером оно с кулак. Это неутомимый мотор, который непрерывно гонит кровь в сос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{8018B2DD-122F-4D0B-8C82-362F791BD201}"/>
          <p:cNvPicPr/>
          <p:nvPr/>
        </p:nvPicPr>
        <p:blipFill>
          <a:blip r:embed="rId1"/>
          <a:stretch/>
        </p:blipFill>
        <p:spPr>
          <a:xfrm>
            <a:off x="5129280" y="2048040"/>
            <a:ext cx="29242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внутренняя кухня человека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елудо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оминает полый мешок, в который больше 2 – 3 литров не поместится. Здесь перерабатывается пища наполов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ишечни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8 метровый лабиринт. Где продолжает перерабатываться пища. Остатки пищи выводятся из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чен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ё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ва от желудка и вырабатывает желчь. Желчь помогает переваривать пищ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721692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28"/>
          <p:cNvGraphicFramePr/>
          <p:nvPr/>
        </p:nvGraphicFramePr>
        <p:xfrm>
          <a:off x="4427640" y="1628640"/>
          <a:ext cx="4248000" cy="37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628640"/>
                    <a:ext cx="4248000" cy="37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часть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м человека состоит из органов, которые работают согласова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свой организм нужно для того, чт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хранять и укрепля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МНИ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8" descr="j0182611"/>
          <p:cNvPicPr/>
          <p:nvPr/>
        </p:nvPicPr>
        <p:blipFill>
          <a:blip r:embed="rId1"/>
          <a:stretch/>
        </p:blipFill>
        <p:spPr>
          <a:xfrm>
            <a:off x="4572000" y="2276640"/>
            <a:ext cx="40575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Работу выполнила учитель высшей категории МОУ СОШ № 1 р.п. Лысые Горы Саратовской области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Назарова Анна Николаев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7:51:48Z</dcterms:created>
  <dc:creator>1</dc:creator>
  <dc:description/>
  <dc:language>en-US</dc:language>
  <cp:lastModifiedBy>Zver</cp:lastModifiedBy>
  <dcterms:modified xsi:type="dcterms:W3CDTF">2008-12-15T18:58:42Z</dcterms:modified>
  <cp:revision>25</cp:revision>
  <dc:subject/>
  <dc:title>СТРОЕНИЕ ТЕЛА ЧЕЛОВЕКА</dc:title>
</cp:coreProperties>
</file>